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294F-1E49-4F4E-B658-5AB24844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155C-DDAC-44F2-BAF9-D24C95A4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693D7-2D0D-4861-9395-6A79160A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2E340-EBC8-48F3-8CD6-95F9D973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4F2C7-5F30-4156-8E52-68C67282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46B0E-9161-49E6-9EEA-5E2186CA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ED87E-42DF-4E6C-BCBB-7B83F7D5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1225E-C20A-42A6-A997-7DE91E52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A927B-DB12-4830-B7D8-66CBC1DC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475E5-1682-4209-BBC7-1F59EEA7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E9357-6484-46FD-B299-6D91A348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533C7-6E2A-4816-B14E-896B0747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9043-0DA4-4101-854B-964AB325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1B37D-02CB-4206-B1AB-37F00519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98F03-A669-4120-8C9D-3B49F6DF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8CCA9-8E86-44CF-831B-F49EB47E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E3C41-0A74-4FE3-9663-408B26A7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2AD4D-9D3F-4F0C-BEDE-3F7D74AB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6EE73-1951-4D56-86BE-F3EAFC7B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94723-EBD2-4E94-8C4A-5DFF566E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959BC-574A-46F9-B2D1-E0E3B253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5CE2F-2264-4C3D-A1D1-D2D4277F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6A67B-8B5C-4C19-AF06-DEDE62E1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FEF-08E9-4142-89F8-6A6FA2D6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71D5C-7BBF-45BB-8FC8-B14B43AB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9CEF-E013-4FBD-86B7-ACB887D6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975B-A278-4591-AFB0-5B4D19E9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11BC-23CF-47E1-B0C2-AC5FA4D8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C2C2-4B79-4288-91DE-41F4D153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EED4-9A60-4ADC-85CF-F9C5F908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DEF9-10A8-4D90-8EA0-ACCE1071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F478-0012-44EE-9656-B08F0324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F32-5601-4D21-9F58-91E29F41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1704-8E96-4C22-98DA-7BF4249F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59B8-5F29-4BD6-94DA-9BDC8BEA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B34C-A0A6-4DDB-BCD2-39F2BA7F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0174-DF77-4612-8EBB-155EDE65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FB37-D75C-4849-A1EB-E57EAF81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68912-433B-45B1-B8BE-1C54874B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B3A34-56D1-4AFE-BA26-348063D3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C53D9-A450-4A56-BA04-F8F4C8D7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30A9D-C9F0-433F-AD5D-54533AF5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3C37A-4CC0-484D-8340-9475B70A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A8C4-4BEF-475D-AC6E-19D3AB9B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B657C-F4DC-4DCF-838B-97B76742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2ADB6-CF68-4368-9A2F-0C403A8B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F6D7A-3F3A-4C38-B097-7DC97FC2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E86D2-E82A-472A-A85A-A595813B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458CB-3EE8-4DB1-A1B2-F05BBB76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441DA-5FD4-48A4-A443-5B0B442E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D5375-207A-445D-942F-BD3B8059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E9C41-0468-4EED-BF97-64ADCF07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1CB44-E244-4016-9425-13FB01CE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FEB34-0078-499A-B649-474DB056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A46-0AB4-4985-8EBE-D706E895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EE0CF-2AE1-4154-B452-FFF1F855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A55F7-4732-4E93-8D4A-F1A2308D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B346D-D3FB-4A09-9BDA-1DD70DC4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D6462-F7BE-4F2C-ABD2-77D5A484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A4263-2B86-44E3-822D-09706047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E6F2D-85B9-4714-95D6-5D06FF00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91260-940A-4E46-BE4A-8F855084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0CFD7-D71F-45CA-86E4-A08AA6A9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F518F-945B-4C3A-BB78-4CEA73BF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E3917-3CC3-4B7B-AF44-6D01EDF8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710B-EFB8-400A-85E4-EBF7D418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47E8D-F2B2-4B42-897A-B2351907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4A687-48FC-47FE-9A20-F3B3A3B7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502F3-925E-482E-8B19-4DA63686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A1D24-CADA-4446-99D2-CBB63A4F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F5272-8F75-4674-A70B-085777A7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D8620-1E35-4066-BDFE-DDB1C885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AC394-DA58-46CB-BF19-BD030E5F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8C75D-CE0D-4DC4-A359-7236D34A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72FFD-7E40-45CA-94D7-D51D26C8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2E654-AA46-4280-AEC0-7DD896A9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C88-A229-4EF9-A4F6-FD6BDCA8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C5CC3-BD47-4009-9E99-19C17557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041FE9-7254-4D45-ADDD-0CE95B69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48C342-C748-407F-AA98-EC2BCB94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1227C2-C91D-4A92-ACDB-4BFB49AC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185953-4066-46C3-81C1-F75029F2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B0ABD1-33D1-466C-B2B4-F7BA0087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A017F9-A553-4438-BB7E-947EB376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74F9DC-BBA5-4C5B-9025-D2F4EBEA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904C50-E805-49F7-AFDD-14FC1E27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5AAA15-C4E7-4F14-A02C-774448BE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12A-24C2-45E0-94E3-2405C8A7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111A37-D64A-4F1D-B801-D501AAC5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30C866-5DE6-4040-A459-FB63B8F3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FFB885-7EE1-41CF-9F87-CCA31C61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26205-A841-4ABE-8C79-2BA927A1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04B8C-D933-492F-AB96-02DEDC3B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84A59-0BAB-4903-BEAF-497CBD1A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F4320-9E01-43E5-82A4-B69EDDF1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4D51F-E4AD-484B-B58E-5A4E8A6E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9AD78-DBA2-4159-85FF-FFB6C936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9FD5B-AB6E-480E-91AD-589321D6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6ADE-BF82-4175-8824-E0598F82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868D3-162E-42A1-99F1-50FC3EDC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486E6-FA44-4D21-9B51-66A07B9C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E4276-5EC0-4168-B3DC-4E995544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9C54D-16A3-4AFA-B5D0-99F83C55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CA216-FE31-45F4-AB69-91E3269F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E3E69-221A-49AF-B4E9-32E8D712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75C56-B013-49FE-9674-E849A1B2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673D0-68EF-46DB-A752-9CC3A09F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ACDE5-50CA-4B7A-8B79-97057470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5317F-8259-4740-98F5-80A5393F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B2A-17C2-4E84-A641-6B06630F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3442F-10BA-4253-8F9C-A23DC04B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2A82B-88E3-4CBC-94B8-2C78E38F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F0F06-095A-4717-A24A-31417598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21E83-35D4-408B-A2A9-C939DCF7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A1CCC-6163-441A-9DA6-0C08D494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BBF63-E9D2-4DFF-A024-7C526F38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2987E-FA30-41AA-96B0-4BFE95D9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C13E9-D2F3-4BD5-A47B-1120AFA6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DA4A1-EA09-43DE-AD96-91F5FD66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1F9DE-E8AC-411E-8C27-F77D2845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5CB3-D6BB-41FA-BC5B-D625EDB541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971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4DCD-DBC8-42EE-97D8-84728AC5670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8A7A-B6E2-4B6A-9BA5-7B4FB906E90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87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88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89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91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5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6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97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8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99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5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36" name="Oval 52"/>
                          <p:cNvSpPr/>
                          <p:nvPr/>
                        </p:nvSpPr>
                        <p:spPr>
                          <a:xfrm rot="18780000">
                            <a:off x="246060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Oval 53"/>
                          <p:cNvSpPr/>
                          <p:nvPr/>
                        </p:nvSpPr>
                        <p:spPr>
                          <a:xfrm rot="18780000">
                            <a:off x="2374200" y="430020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Oval 54"/>
                          <p:cNvSpPr/>
                          <p:nvPr/>
                        </p:nvSpPr>
                        <p:spPr>
                          <a:xfrm rot="18780000">
                            <a:off x="2255040" y="400320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5"/>
                          <p:cNvSpPr/>
                          <p:nvPr/>
                        </p:nvSpPr>
                        <p:spPr>
                          <a:xfrm rot="18780000">
                            <a:off x="2162880" y="374436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56"/>
                          <p:cNvSpPr/>
                          <p:nvPr/>
                        </p:nvSpPr>
                        <p:spPr>
                          <a:xfrm rot="18780000">
                            <a:off x="2062080" y="342792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57"/>
                          <p:cNvSpPr/>
                          <p:nvPr/>
                        </p:nvSpPr>
                        <p:spPr>
                          <a:xfrm rot="18780000">
                            <a:off x="1973160" y="317376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58"/>
                          <p:cNvSpPr/>
                          <p:nvPr/>
                        </p:nvSpPr>
                        <p:spPr>
                          <a:xfrm rot="18780000">
                            <a:off x="18493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59"/>
                          <p:cNvSpPr/>
                          <p:nvPr/>
                        </p:nvSpPr>
                        <p:spPr>
                          <a:xfrm rot="18780000">
                            <a:off x="1730880" y="263052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4" name="Oval 60"/>
                          <p:cNvSpPr/>
                          <p:nvPr/>
                        </p:nvSpPr>
                        <p:spPr>
                          <a:xfrm rot="18780000">
                            <a:off x="159876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5" name="Oval 61"/>
                          <p:cNvSpPr/>
                          <p:nvPr/>
                        </p:nvSpPr>
                        <p:spPr>
                          <a:xfrm rot="18780000">
                            <a:off x="149400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6" name="Oval 62"/>
                          <p:cNvSpPr/>
                          <p:nvPr/>
                        </p:nvSpPr>
                        <p:spPr>
                          <a:xfrm rot="18734400">
                            <a:off x="1400400" y="182016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8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4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85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88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7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98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18"/>
              <p:cNvSpPr/>
              <p:nvPr/>
            </p:nvSpPr>
            <p:spPr>
              <a:xfrm rot="18182400">
                <a:off x="1608840" y="428508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205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0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2288-B00D-4078-A983-15546355F74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4209-F48E-4DC0-9CE1-75B1875645A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94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96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08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27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45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53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6237-1D15-427C-895D-E5B4AEC7EF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399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sldNum" idx="1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663D-7535-45B4-B1E7-D5529A2FA2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1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ftr" idx="1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65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1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2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2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4B49-F312-4E5E-8584-B14F574AF8B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2"/>
          <p:cNvGrpSpPr/>
          <p:nvPr/>
        </p:nvGrpSpPr>
        <p:grpSpPr>
          <a:xfrm>
            <a:off x="-307440" y="798480"/>
            <a:ext cx="7077600" cy="6855120"/>
            <a:chOff x="-307440" y="798480"/>
            <a:chExt cx="7077600" cy="6855120"/>
          </a:xfrm>
        </p:grpSpPr>
        <p:grpSp>
          <p:nvGrpSpPr>
            <p:cNvPr id="701" name="Group 3"/>
            <p:cNvGrpSpPr/>
            <p:nvPr/>
          </p:nvGrpSpPr>
          <p:grpSpPr>
            <a:xfrm>
              <a:off x="-307440" y="798480"/>
              <a:ext cx="7077600" cy="6855120"/>
              <a:chOff x="-307440" y="798480"/>
              <a:chExt cx="7077600" cy="6855120"/>
            </a:xfrm>
          </p:grpSpPr>
          <p:grpSp>
            <p:nvGrpSpPr>
              <p:cNvPr id="702" name="Group 4"/>
              <p:cNvGrpSpPr/>
              <p:nvPr/>
            </p:nvGrpSpPr>
            <p:grpSpPr>
              <a:xfrm>
                <a:off x="-307440" y="798480"/>
                <a:ext cx="7077600" cy="6855120"/>
                <a:chOff x="-307440" y="798480"/>
                <a:chExt cx="7077600" cy="6855120"/>
              </a:xfrm>
            </p:grpSpPr>
            <p:sp>
              <p:nvSpPr>
                <p:cNvPr id="703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" name="Group 6"/>
                <p:cNvGrpSpPr/>
                <p:nvPr/>
              </p:nvGrpSpPr>
              <p:grpSpPr>
                <a:xfrm>
                  <a:off x="-307440" y="798480"/>
                  <a:ext cx="7077600" cy="6855120"/>
                  <a:chOff x="-307440" y="798480"/>
                  <a:chExt cx="7077600" cy="6855120"/>
                </a:xfrm>
              </p:grpSpPr>
              <p:sp>
                <p:nvSpPr>
                  <p:cNvPr id="705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8" name="Group 10"/>
                  <p:cNvGrpSpPr/>
                  <p:nvPr/>
                </p:nvGrpSpPr>
                <p:grpSpPr>
                  <a:xfrm>
                    <a:off x="-307440" y="798480"/>
                    <a:ext cx="7077600" cy="6855120"/>
                    <a:chOff x="-307440" y="798480"/>
                    <a:chExt cx="7077600" cy="6855120"/>
                  </a:xfrm>
                </p:grpSpPr>
                <p:sp>
                  <p:nvSpPr>
                    <p:cNvPr id="709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10" name="Group 12"/>
                    <p:cNvGrpSpPr/>
                    <p:nvPr/>
                  </p:nvGrpSpPr>
                  <p:grpSpPr>
                    <a:xfrm>
                      <a:off x="-307440" y="805680"/>
                      <a:ext cx="7067880" cy="6847920"/>
                      <a:chOff x="-307440" y="805680"/>
                      <a:chExt cx="7067880" cy="6847920"/>
                    </a:xfrm>
                  </p:grpSpPr>
                  <p:sp>
                    <p:nvSpPr>
                      <p:cNvPr id="711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12" name="Group 14"/>
                      <p:cNvGrpSpPr/>
                      <p:nvPr/>
                    </p:nvGrpSpPr>
                    <p:grpSpPr>
                      <a:xfrm>
                        <a:off x="-307440" y="805680"/>
                        <a:ext cx="7067880" cy="6847920"/>
                        <a:chOff x="-307440" y="805680"/>
                        <a:chExt cx="7067880" cy="6847920"/>
                      </a:xfrm>
                    </p:grpSpPr>
                    <p:sp>
                      <p:nvSpPr>
                        <p:cNvPr id="713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4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5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6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7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8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9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0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1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2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3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4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5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6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7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8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9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0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1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2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3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4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5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6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7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8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9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0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1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2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3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4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5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6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7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8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749" name="Group 51"/>
                        <p:cNvGrpSpPr/>
                        <p:nvPr/>
                      </p:nvGrpSpPr>
                      <p:grpSpPr>
                        <a:xfrm>
                          <a:off x="-307440" y="1275840"/>
                          <a:ext cx="6462720" cy="6377760"/>
                          <a:chOff x="-307440" y="1275840"/>
                          <a:chExt cx="6462720" cy="6377760"/>
                        </a:xfrm>
                      </p:grpSpPr>
                      <p:sp>
                        <p:nvSpPr>
                          <p:cNvPr id="750" name="Oval 52"/>
                          <p:cNvSpPr/>
                          <p:nvPr/>
                        </p:nvSpPr>
                        <p:spPr>
                          <a:xfrm rot="18780000">
                            <a:off x="2451240" y="451404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1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2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3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4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5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6" name="Oval 58"/>
                          <p:cNvSpPr/>
                          <p:nvPr/>
                        </p:nvSpPr>
                        <p:spPr>
                          <a:xfrm rot="18780000">
                            <a:off x="1835280" y="292032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7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8" name="Oval 60"/>
                          <p:cNvSpPr/>
                          <p:nvPr/>
                        </p:nvSpPr>
                        <p:spPr>
                          <a:xfrm rot="18780000">
                            <a:off x="1584000" y="2397600"/>
                            <a:ext cx="2481480" cy="4279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9" name="Oval 61"/>
                          <p:cNvSpPr/>
                          <p:nvPr/>
                        </p:nvSpPr>
                        <p:spPr>
                          <a:xfrm rot="18780000">
                            <a:off x="1479600" y="211320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0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1" name="Oval 63"/>
                          <p:cNvSpPr/>
                          <p:nvPr/>
                        </p:nvSpPr>
                        <p:spPr>
                          <a:xfrm rot="18819600">
                            <a:off x="1297440" y="154980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62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3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4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5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6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7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8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9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0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1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2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3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4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5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6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7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8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9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0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1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2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3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4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5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6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7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8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9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0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1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2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3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4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5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6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7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798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799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1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802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11" name="Group 113"/>
            <p:cNvGrpSpPr/>
            <p:nvPr/>
          </p:nvGrpSpPr>
          <p:grpSpPr>
            <a:xfrm>
              <a:off x="1800" y="2127240"/>
              <a:ext cx="5243400" cy="4694040"/>
              <a:chOff x="1800" y="2127240"/>
              <a:chExt cx="5243400" cy="4694040"/>
            </a:xfrm>
          </p:grpSpPr>
          <p:sp>
            <p:nvSpPr>
              <p:cNvPr id="812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8" name="Group 120"/>
              <p:cNvGrpSpPr/>
              <p:nvPr/>
            </p:nvGrpSpPr>
            <p:grpSpPr>
              <a:xfrm>
                <a:off x="4752720" y="2127240"/>
                <a:ext cx="492480" cy="490320"/>
                <a:chOff x="4752720" y="2127240"/>
                <a:chExt cx="492480" cy="490320"/>
              </a:xfrm>
            </p:grpSpPr>
            <p:sp>
              <p:nvSpPr>
                <p:cNvPr id="819" name="Oval 121"/>
                <p:cNvSpPr/>
                <p:nvPr/>
              </p:nvSpPr>
              <p:spPr>
                <a:xfrm rot="2828400">
                  <a:off x="4768200" y="2350440"/>
                  <a:ext cx="314280" cy="18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22"/>
                <p:cNvSpPr/>
                <p:nvPr/>
              </p:nvSpPr>
              <p:spPr>
                <a:xfrm>
                  <a:off x="4864680" y="2249280"/>
                  <a:ext cx="25380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123"/>
                <p:cNvSpPr/>
                <p:nvPr/>
              </p:nvSpPr>
              <p:spPr>
                <a:xfrm>
                  <a:off x="4947120" y="2238120"/>
                  <a:ext cx="182520" cy="1731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124"/>
                <p:cNvSpPr/>
                <p:nvPr/>
              </p:nvSpPr>
              <p:spPr>
                <a:xfrm>
                  <a:off x="5010480" y="2134800"/>
                  <a:ext cx="227520" cy="2199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125"/>
                <p:cNvSpPr/>
                <p:nvPr/>
              </p:nvSpPr>
              <p:spPr>
                <a:xfrm>
                  <a:off x="5155920" y="2127240"/>
                  <a:ext cx="89280" cy="820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6A75-928B-4F34-B07E-0F0722942C9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66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6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8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9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1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2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E5D6-E8BB-4341-89A9-55548C0540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42880" y="473040"/>
            <a:ext cx="814392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999900"/>
                </a:solidFill>
                <a:latin typeface="Times New Roman"/>
              </a:rPr>
              <a:t>Луна вращается вокруг нашей планеты по постоянной орбите, имеющей форму вытянутой окружности – эллипса. </a:t>
            </a:r>
            <a:br>
              <a:rPr sz="1800"/>
            </a:br>
            <a:r>
              <a:rPr b="0" lang="ru-RU" sz="1800" spc="-1" strike="noStrike">
                <a:solidFill>
                  <a:srgbClr val="999900"/>
                </a:solidFill>
                <a:latin typeface="Times New Roman"/>
              </a:rPr>
              <a:t>Луна совершает один оборот вокруг Земли примерно за месяц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8" name="Picture 6" descr="the_moon_013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Лунное затмение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унное затмение происходит, когда тень от Земли проходит поперек Луны. Эти сложные изображения показывают, как Луна окрашивается в течение затмения. Луна кажется красной из-за солнечного света, рассеиваемого атмосферой Луны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2" name="Picture 4" descr="http://www.astrolab.ru/cgi-bin/img.cgi?i=8/00000066.jpg&amp;p=galery"/>
          <p:cNvPicPr/>
          <p:nvPr/>
        </p:nvPicPr>
        <p:blipFill>
          <a:blip r:embed="rId1"/>
          <a:stretch/>
        </p:blipFill>
        <p:spPr>
          <a:xfrm>
            <a:off x="5292720" y="1197000"/>
            <a:ext cx="36496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Picture 4" descr="вид земли с лун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84072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Поверхность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788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нимки поверхности Луны были сделаны с помощью космических аппаратов. Управляемые с Земли автоматические станции и самоходные аппараты «Луноход-1» и «Луноход-2» исследовали лунную поверхность, собрали и доставили на Землю образцы лунного гру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Picture 6" descr="12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/>
          </p:nvPr>
        </p:nvSpPr>
        <p:spPr>
          <a:xfrm>
            <a:off x="468360" y="551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00"/>
                </a:solidFill>
                <a:latin typeface="Times New Roman"/>
              </a:rPr>
              <a:t>Как образовалась луна? Одни учёные считают, что сначала она была отдельной планетой, а потом Земля захватила её силой своего притя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00"/>
                </a:solidFill>
                <a:latin typeface="Times New Roman"/>
              </a:rPr>
              <a:t>Другие полагают что Луна являлась частью Земли, а затем оторвалась от н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иболее вероятно, что Земля и Луна образовались из общего сгущения газопылевого облака как двойная план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5" descr="fulluv3"/>
          <p:cNvPicPr/>
          <p:nvPr/>
        </p:nvPicPr>
        <p:blipFill>
          <a:blip r:embed="rId1"/>
          <a:stretch/>
        </p:blipFill>
        <p:spPr>
          <a:xfrm>
            <a:off x="826920" y="907920"/>
            <a:ext cx="756144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4" descr="126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34" name="PlaceHolder 1"/>
          <p:cNvSpPr>
            <a:spLocks noGrp="1"/>
          </p:cNvSpPr>
          <p:nvPr>
            <p:ph/>
          </p:nvPr>
        </p:nvSpPr>
        <p:spPr>
          <a:xfrm>
            <a:off x="468360" y="530028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Луна в четыре раза меньше нашей планеты. На Луне нет атмосферы и воды. Нет растений и животных. Температура на её поверхности колеблется от -150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ночью до +120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дн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иливы и отлив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2737080" cy="23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лы притяжения Луны и Солнца, действующие на нашу планету, вызывают периодические колебания океанских вод – приливы и отлив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6227640" y="2420640"/>
            <a:ext cx="27432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мый высокий уровень воды во время прилива называется полной водой, самый низкий уровень при отливе – малой вод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8" name="Picture 4" descr="сами 2"/>
          <p:cNvPicPr/>
          <p:nvPr/>
        </p:nvPicPr>
        <p:blipFill>
          <a:blip r:embed="rId1"/>
          <a:stretch/>
        </p:blipFill>
        <p:spPr>
          <a:xfrm>
            <a:off x="3059280" y="2133720"/>
            <a:ext cx="3025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Почему мы иногда видим месяц, а иногда – круглую (полную) Луну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3033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уна сама не излучает свет. Мы видим её только потому, что она Луна освещается Солнцем и отражает его лучи – светит отражённым светом. В зависимости от того, в каком положении друг относительно друга находятся Солнце, Луна и Земля, мы можем наблюдать или полный диск Луны, или только её краешек – меся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1" name="Picture 4" descr="the_moon_005"/>
          <p:cNvPicPr/>
          <p:nvPr/>
        </p:nvPicPr>
        <p:blipFill>
          <a:blip r:embed="rId1"/>
          <a:stretch/>
        </p:blipFill>
        <p:spPr>
          <a:xfrm>
            <a:off x="3348000" y="1916280"/>
            <a:ext cx="55450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Фазы Лун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4968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азы Луны возникают вследствие изменения взаимного расположения Земли, Луны и Солн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4" name="Picture 4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9876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Picture 4" descr="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50846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Изучение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Ещё до наступления эры космических исследований астрономы знали, что Луна – необычное тело. Хотя это не самый большой спутник в Солнечной системе, но он один из крупнейших по отношению к своей планете –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8" name="Picture 4" descr="the_moon_016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249" name="PlaceHolder 1"/>
          <p:cNvSpPr>
            <a:spLocks noGrp="1"/>
          </p:cNvSpPr>
          <p:nvPr>
            <p:ph/>
          </p:nvPr>
        </p:nvSpPr>
        <p:spPr>
          <a:xfrm>
            <a:off x="5148000" y="1341000"/>
            <a:ext cx="3816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ы грунта с поверхности Луны позволили определить его химический состав и возраст (4,1млрд. лет у самых старых образц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6:08:30Z</dcterms:created>
  <dc:creator>Wolverine</dc:creator>
  <dc:description/>
  <dc:language>en-US</dc:language>
  <cp:lastModifiedBy>HP</cp:lastModifiedBy>
  <dcterms:modified xsi:type="dcterms:W3CDTF">2018-12-24T18:40:16Z</dcterms:modified>
  <cp:revision>9</cp:revision>
  <dc:subject/>
  <dc:title>Слайд 1</dc:title>
</cp:coreProperties>
</file>