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857-18E9-4C93-B31E-CF3ED928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285-A81D-4463-8A34-11A68BC2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89075-036C-4942-880B-5336EC4D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A2BB6-9EA8-443A-A722-9B14B38A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E33BA-AB4D-4645-92CB-22BB6DC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7E5B4-9F8E-4763-A90D-0DAEC67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EEC34-CF8C-419F-9C75-FF9504E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15138-4120-408C-A40A-6B3114B9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8EC79-0AE4-47BA-9C23-56A65C9F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D3C54-5EEA-47E2-AB91-81255138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D6E3B-78EA-421E-906A-70344BAF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2A92E-AF65-4B48-BA3D-3BE02D9E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102-4C7B-4255-A513-A7B13375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03F3A-5CE1-4D85-93E8-9A2BE72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E06C3-8D52-4B98-B57A-7D64F11D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56D13-4D24-4EB9-86E2-C854F57C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04586-8C06-4D8C-A7B5-97F22761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A6DD4-1EB6-4434-9926-B528A5AF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AE590-87B4-4094-88AC-49322CC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9DDD3-F659-4C73-8458-C9FB9F22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8460B-807D-497F-AF9E-F18A66D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5A92D-1A2C-4083-8403-F4B07A8D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C0447-BC7C-491B-8358-AF176030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264-8FA2-4072-9A7A-E87CCE90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92893-F060-4C41-A12D-190A696A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7F89-EF0A-46F2-A143-ACABFAF0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6A4A-8EB9-4E4F-8B8F-E790EE1E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06A1-52A9-4CCE-A3F3-2086BD4B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6291-8D05-4995-963B-5B1EE0F0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DC6D-888C-4498-8824-4D9115A9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5174-BC46-46B1-8182-34FADF99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9577-5A3F-4EAA-92CB-79C0FD0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84B-A50E-4247-A754-5A6DD3F3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03AE-86F9-412A-B534-12822510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6657-BEF3-4C65-8DF1-73B88B9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60C1-A470-423D-A7C4-23903200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1FC0-CF2D-4F96-8911-51EEA722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26B3-E697-42DA-874A-EC584C5D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CD46-AC9D-4D5F-9C17-240C769C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D0AF7-96C4-46EC-A3D1-23730CED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8695-A96D-4DC9-B3B7-E0744DDB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261F-65DD-4727-AA09-8493DA85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4AF4-61D9-4F4E-B98B-80AA47F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24B-151C-4271-A87E-AACACB2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069C-BD2B-499B-9A0B-193439C4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7E65-B85B-462B-8F68-370C2CF5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FD95-A97B-4837-9373-84EB3A8B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EC17-436A-430E-A595-5131D81D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9209-AB4E-47C4-9F68-805B5E68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9942-A428-481C-91A7-F9607DFD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27366-DA56-4FE3-BA12-B539F415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C0B9-636D-4B51-9F1E-F3ECC87B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99B6-B5C1-4493-9876-BFBF6F2A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C08D-ADA8-48E7-8DED-C1B3E3AA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6C8-A4BC-4EDB-B443-5C4C0A4A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DB602-0EAB-4D7B-ABD1-CAB03FC6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9E7F4-075F-4986-AFF4-6270AF25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27824-9B37-4AA3-A4D9-53318862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24CB-3AFE-43FC-8366-E4FBD49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6D9B-ED5E-4AB3-AA63-B0AA906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18FC-3EBB-4D04-A9CE-0EDD101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10C31-8263-4861-BC29-0707974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26EA-7B4C-4D1E-8FCE-CD1F365F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6E6A2-F056-4DAA-AC26-9BA2D31D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A01D4-5F7E-425E-9C5A-8B54777B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0F6-29FE-495D-812E-C94452D2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B3170-A06B-42E2-881F-6ED93225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6CF1D-D8F0-4281-BDF8-ED1D3EFB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DC3CB-554D-4DF9-A548-5D6DABDA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244BE-B75B-408E-B3A2-E7D4C462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5A9D-D21C-43E8-B8B1-A00BAEE9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A109-37FD-4CF0-8940-9813566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B692F-59D6-4CC7-B3E1-BC10BA32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E4C8-E6E7-4E7B-B791-76ACDCE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41124-A7DE-4BD5-81A0-F5A7CDE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BDBB-9F69-4A93-B1C9-E57B4B79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502-1A25-4082-89F9-D3210523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65DBF-0490-48F8-ABE4-FAA9E31D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1C6FE-EECD-456C-BB4D-2713A521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F63195-6436-47EC-8909-FB753708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D98168-88F9-416B-9B65-32A7A54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5FBF88-7263-42BC-86A4-8552A6D3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055F50-B832-474F-BA39-29FE9C1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E09EC-16BE-4294-882F-445A34EE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7EB4FF-E2EE-4A6D-A6D8-155BB4D8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BF376D-F840-4A2B-8D03-9A3AE45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DAF8BF-88FC-4FC7-BF9A-90E8BA7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743-CC8A-49B1-AED1-5C4CD6B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4C14F3-D693-417D-8D95-C03FE94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554F30-1CF9-4493-975B-75BA01D8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12DE1-A44B-4F5C-8A3D-F4B5FD9A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D558-DDD7-44BE-AA70-552C4924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B1FF6-2642-4CB0-9AA1-0CD60034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3DC55-FE39-48C2-A58C-ECF4A2F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81F9-3AF2-4032-8A95-38E63C68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70B91-5016-4B85-9844-1B006E1F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8F053-871C-44B5-868C-A2D0D288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92436-7A7E-48C6-B572-EA98D6C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3B4-91CA-417E-8495-AA6A735B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A3D9D-AA47-4829-86E9-02DDB088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49BF-B9CC-42E5-85DD-C831046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5CAD5-A2C3-47B0-B62D-D595FD8D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9E6D5-18E3-43B3-8A6B-0C835AD3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27795-E729-4350-90BA-20D7B08A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332A-F96F-433B-8A0B-9B818230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69807-4064-4DF4-8B8B-ADCA5E4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E324A-8D1C-4D85-9D25-A987FB99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DDEB0-44B3-4600-949E-87FBD885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F8838-9D01-4FE4-B1D3-D216EF6E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025-5B00-4B29-B9AF-B79D6969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1B5FC-B636-45B8-98CD-4966D5A9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8D5D3-6E18-4AA2-988D-E286E18E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C06D8-269F-4ED3-8C51-7BC3C61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072DE-74E3-4CDD-9B8D-CC7AD7C7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F9F05-4902-4EF2-987F-2616DF49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A284B-5A21-4921-9091-6A099B08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CEF93-49EE-40BB-8D54-0E6AB210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0AC9E-0B0C-4B1E-9838-43BDF34E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22D77-878B-4563-989A-240C81BB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77FC1-F1A9-434A-9BE7-F1B8AAF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6856-0432-47B1-9D03-80337B1571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971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6CE8-FE50-45AF-AF4F-EA1D1DFB9C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D554-A70B-4A12-8495-F717A16AB9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7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88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89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91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5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6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97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8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99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5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36" name="Oval 52"/>
                          <p:cNvSpPr/>
                          <p:nvPr/>
                        </p:nvSpPr>
                        <p:spPr>
                          <a:xfrm rot="18780000">
                            <a:off x="246060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3"/>
                          <p:cNvSpPr/>
                          <p:nvPr/>
                        </p:nvSpPr>
                        <p:spPr>
                          <a:xfrm rot="18780000">
                            <a:off x="2374200" y="430020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4"/>
                          <p:cNvSpPr/>
                          <p:nvPr/>
                        </p:nvSpPr>
                        <p:spPr>
                          <a:xfrm rot="18780000">
                            <a:off x="2255040" y="400320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5"/>
                          <p:cNvSpPr/>
                          <p:nvPr/>
                        </p:nvSpPr>
                        <p:spPr>
                          <a:xfrm rot="18780000">
                            <a:off x="2162880" y="374436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56"/>
                          <p:cNvSpPr/>
                          <p:nvPr/>
                        </p:nvSpPr>
                        <p:spPr>
                          <a:xfrm rot="18780000">
                            <a:off x="2062080" y="342792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57"/>
                          <p:cNvSpPr/>
                          <p:nvPr/>
                        </p:nvSpPr>
                        <p:spPr>
                          <a:xfrm rot="18780000">
                            <a:off x="1973160" y="317376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59"/>
                          <p:cNvSpPr/>
                          <p:nvPr/>
                        </p:nvSpPr>
                        <p:spPr>
                          <a:xfrm rot="18780000">
                            <a:off x="1730880" y="263052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Oval 60"/>
                          <p:cNvSpPr/>
                          <p:nvPr/>
                        </p:nvSpPr>
                        <p:spPr>
                          <a:xfrm rot="18780000">
                            <a:off x="159876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" name="Oval 61"/>
                          <p:cNvSpPr/>
                          <p:nvPr/>
                        </p:nvSpPr>
                        <p:spPr>
                          <a:xfrm rot="18780000">
                            <a:off x="149400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" name="Oval 62"/>
                          <p:cNvSpPr/>
                          <p:nvPr/>
                        </p:nvSpPr>
                        <p:spPr>
                          <a:xfrm rot="18734400">
                            <a:off x="1400400" y="182016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8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4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85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88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7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8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18"/>
              <p:cNvSpPr/>
              <p:nvPr/>
            </p:nvSpPr>
            <p:spPr>
              <a:xfrm rot="18182400">
                <a:off x="1608840" y="428508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205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0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BC73-A455-4D97-A352-EB9E87D4EA9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1EC6-125B-46C9-AA5F-5C24F5CD54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4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9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38D5-89E0-4939-B3DE-A77970D52B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399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EE2D-EA49-45A5-9AF9-739BE2B920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65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E608-1451-4392-9782-053CAF5D3E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-307440" y="798480"/>
            <a:ext cx="7077600" cy="6855120"/>
            <a:chOff x="-307440" y="798480"/>
            <a:chExt cx="7077600" cy="6855120"/>
          </a:xfrm>
        </p:grpSpPr>
        <p:grpSp>
          <p:nvGrpSpPr>
            <p:cNvPr id="701" name="Group 3"/>
            <p:cNvGrpSpPr/>
            <p:nvPr/>
          </p:nvGrpSpPr>
          <p:grpSpPr>
            <a:xfrm>
              <a:off x="-307440" y="798480"/>
              <a:ext cx="7077600" cy="6855120"/>
              <a:chOff x="-307440" y="798480"/>
              <a:chExt cx="7077600" cy="6855120"/>
            </a:xfrm>
          </p:grpSpPr>
          <p:grpSp>
            <p:nvGrpSpPr>
              <p:cNvPr id="702" name="Group 4"/>
              <p:cNvGrpSpPr/>
              <p:nvPr/>
            </p:nvGrpSpPr>
            <p:grpSpPr>
              <a:xfrm>
                <a:off x="-307440" y="798480"/>
                <a:ext cx="7077600" cy="6855120"/>
                <a:chOff x="-307440" y="798480"/>
                <a:chExt cx="7077600" cy="6855120"/>
              </a:xfrm>
            </p:grpSpPr>
            <p:sp>
              <p:nvSpPr>
                <p:cNvPr id="703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" name="Group 6"/>
                <p:cNvGrpSpPr/>
                <p:nvPr/>
              </p:nvGrpSpPr>
              <p:grpSpPr>
                <a:xfrm>
                  <a:off x="-307440" y="798480"/>
                  <a:ext cx="7077600" cy="6855120"/>
                  <a:chOff x="-307440" y="798480"/>
                  <a:chExt cx="7077600" cy="6855120"/>
                </a:xfrm>
              </p:grpSpPr>
              <p:sp>
                <p:nvSpPr>
                  <p:cNvPr id="705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8" name="Group 10"/>
                  <p:cNvGrpSpPr/>
                  <p:nvPr/>
                </p:nvGrpSpPr>
                <p:grpSpPr>
                  <a:xfrm>
                    <a:off x="-307440" y="798480"/>
                    <a:ext cx="7077600" cy="6855120"/>
                    <a:chOff x="-307440" y="798480"/>
                    <a:chExt cx="7077600" cy="6855120"/>
                  </a:xfrm>
                </p:grpSpPr>
                <p:sp>
                  <p:nvSpPr>
                    <p:cNvPr id="709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10" name="Group 12"/>
                    <p:cNvGrpSpPr/>
                    <p:nvPr/>
                  </p:nvGrpSpPr>
                  <p:grpSpPr>
                    <a:xfrm>
                      <a:off x="-307440" y="805680"/>
                      <a:ext cx="7067880" cy="6847920"/>
                      <a:chOff x="-307440" y="805680"/>
                      <a:chExt cx="7067880" cy="6847920"/>
                    </a:xfrm>
                  </p:grpSpPr>
                  <p:sp>
                    <p:nvSpPr>
                      <p:cNvPr id="711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12" name="Group 14"/>
                      <p:cNvGrpSpPr/>
                      <p:nvPr/>
                    </p:nvGrpSpPr>
                    <p:grpSpPr>
                      <a:xfrm>
                        <a:off x="-307440" y="805680"/>
                        <a:ext cx="7067880" cy="6847920"/>
                        <a:chOff x="-307440" y="805680"/>
                        <a:chExt cx="7067880" cy="6847920"/>
                      </a:xfrm>
                    </p:grpSpPr>
                    <p:sp>
                      <p:nvSpPr>
                        <p:cNvPr id="713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4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6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7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8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9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0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1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2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3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1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2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3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4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5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6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7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8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9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0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1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2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3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4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6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7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8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49" name="Group 51"/>
                        <p:cNvGrpSpPr/>
                        <p:nvPr/>
                      </p:nvGrpSpPr>
                      <p:grpSpPr>
                        <a:xfrm>
                          <a:off x="-307440" y="1275840"/>
                          <a:ext cx="6462720" cy="6377760"/>
                          <a:chOff x="-307440" y="1275840"/>
                          <a:chExt cx="6462720" cy="6377760"/>
                        </a:xfrm>
                      </p:grpSpPr>
                      <p:sp>
                        <p:nvSpPr>
                          <p:cNvPr id="750" name="Oval 52"/>
                          <p:cNvSpPr/>
                          <p:nvPr/>
                        </p:nvSpPr>
                        <p:spPr>
                          <a:xfrm rot="18780000">
                            <a:off x="2451240" y="45140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1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2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3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4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5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6" name="Oval 58"/>
                          <p:cNvSpPr/>
                          <p:nvPr/>
                        </p:nvSpPr>
                        <p:spPr>
                          <a:xfrm rot="18780000">
                            <a:off x="1835280" y="292032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7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8" name="Oval 60"/>
                          <p:cNvSpPr/>
                          <p:nvPr/>
                        </p:nvSpPr>
                        <p:spPr>
                          <a:xfrm rot="18780000">
                            <a:off x="1584000" y="239760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9" name="Oval 61"/>
                          <p:cNvSpPr/>
                          <p:nvPr/>
                        </p:nvSpPr>
                        <p:spPr>
                          <a:xfrm rot="18780000">
                            <a:off x="1479600" y="211320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0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1" name="Oval 63"/>
                          <p:cNvSpPr/>
                          <p:nvPr/>
                        </p:nvSpPr>
                        <p:spPr>
                          <a:xfrm rot="18819600">
                            <a:off x="1297440" y="154980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62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4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8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4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5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6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7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98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99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802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11" name="Group 113"/>
            <p:cNvGrpSpPr/>
            <p:nvPr/>
          </p:nvGrpSpPr>
          <p:grpSpPr>
            <a:xfrm>
              <a:off x="1800" y="2127240"/>
              <a:ext cx="5243400" cy="4694040"/>
              <a:chOff x="1800" y="2127240"/>
              <a:chExt cx="5243400" cy="4694040"/>
            </a:xfrm>
          </p:grpSpPr>
          <p:sp>
            <p:nvSpPr>
              <p:cNvPr id="812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Group 120"/>
              <p:cNvGrpSpPr/>
              <p:nvPr/>
            </p:nvGrpSpPr>
            <p:grpSpPr>
              <a:xfrm>
                <a:off x="4752720" y="2127240"/>
                <a:ext cx="492480" cy="490320"/>
                <a:chOff x="4752720" y="2127240"/>
                <a:chExt cx="492480" cy="490320"/>
              </a:xfrm>
            </p:grpSpPr>
            <p:sp>
              <p:nvSpPr>
                <p:cNvPr id="819" name="Oval 121"/>
                <p:cNvSpPr/>
                <p:nvPr/>
              </p:nvSpPr>
              <p:spPr>
                <a:xfrm rot="2828400">
                  <a:off x="4768200" y="2350440"/>
                  <a:ext cx="314280" cy="18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22"/>
                <p:cNvSpPr/>
                <p:nvPr/>
              </p:nvSpPr>
              <p:spPr>
                <a:xfrm>
                  <a:off x="4864680" y="2249280"/>
                  <a:ext cx="25380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123"/>
                <p:cNvSpPr/>
                <p:nvPr/>
              </p:nvSpPr>
              <p:spPr>
                <a:xfrm>
                  <a:off x="4947120" y="223812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24"/>
                <p:cNvSpPr/>
                <p:nvPr/>
              </p:nvSpPr>
              <p:spPr>
                <a:xfrm>
                  <a:off x="5010480" y="2134800"/>
                  <a:ext cx="22752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125"/>
                <p:cNvSpPr/>
                <p:nvPr/>
              </p:nvSpPr>
              <p:spPr>
                <a:xfrm>
                  <a:off x="5155920" y="2127240"/>
                  <a:ext cx="8928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4D4-2325-40B8-B2DC-DC33243C7B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66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8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9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1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2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3C3-9CBE-4952-8C20-2D6A00478C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42880" y="473040"/>
            <a:ext cx="814392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999900"/>
                </a:solidFill>
                <a:latin typeface="Times New Roman"/>
              </a:rPr>
              <a:t>Луна вращается вокруг нашей планеты по постоянной орбите, имеющей форму вытянутой окружности – эллипса. </a:t>
            </a:r>
            <a:br>
              <a:rPr sz="1800"/>
            </a:br>
            <a:r>
              <a:rPr b="0" lang="ru-RU" sz="1800" spc="-1" strike="noStrike">
                <a:solidFill>
                  <a:srgbClr val="999900"/>
                </a:solidFill>
                <a:latin typeface="Times New Roman"/>
              </a:rPr>
              <a:t>Луна совершает один оборот вокруг Земли примерно за меся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8" name="Picture 6" descr="the_moon_013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Лунное затмени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нное затмение происходит, когда тень от Земли проходит поперек Луны. Эти сложные изображения показывают, как Луна окрашивается в течение затмения. Луна кажется красной из-за солнечного света, рассеиваемого атмосферой Луны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2" name="Picture 4" descr="http://www.astrolab.ru/cgi-bin/img.cgi?i=8/00000066.jpg&amp;p=galery"/>
          <p:cNvPicPr/>
          <p:nvPr/>
        </p:nvPicPr>
        <p:blipFill>
          <a:blip r:embed="rId1"/>
          <a:stretch/>
        </p:blipFill>
        <p:spPr>
          <a:xfrm>
            <a:off x="5292720" y="1197000"/>
            <a:ext cx="36496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4" descr="вид земли с лу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407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788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нимки поверхности Луны были сделаны с помощью космических аппаратов. Управляемые с Земли автоматические станции и самоходные аппараты «Луноход-1» и «Луноход-2» исследовали лунную поверхность, собрали и доставили на Землю образцы лунного гру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6" descr="1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Times New Roman"/>
              </a:rPr>
              <a:t>Как образовалась луна? Одни учёные считают, что сначала она была отдельной планетой, а потом Земля захватила её силой своего притя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Times New Roman"/>
              </a:rPr>
              <a:t>Другие полагают что Луна являлась частью Земли, а затем оторвалась от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вероятно, что Земля и Луна образовались из общего сгущения газопылевого облака как двойная план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" descr="fulluv3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4" descr="126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Луна в четыре раза меньше нашей планеты. На Луне нет атмосферы и воды. Нет растений и животных. Температура на её поверхности колеблется от -15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ночью до +12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н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иливы и отлив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273708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лы притяжения Луны и Солнца, действующие на нашу планету, вызывают периодические колебания океанских вод – приливы и отл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227640" y="2420640"/>
            <a:ext cx="27432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ый высокий уровень воды во время прилива называется полной водой, самый низкий уровень при отливе – мал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8" name="Picture 4" descr="сами 2"/>
          <p:cNvPicPr/>
          <p:nvPr/>
        </p:nvPicPr>
        <p:blipFill>
          <a:blip r:embed="rId1"/>
          <a:stretch/>
        </p:blipFill>
        <p:spPr>
          <a:xfrm>
            <a:off x="3059280" y="2133720"/>
            <a:ext cx="3025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Почему мы иногда видим месяц, а иногда – круглую (полную) Луну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3033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уна сама не излучает свет. Мы видим её только потому, что она Луна освещается Солнцем и отражает его лучи – светит отражённым светом. В зависимости от того, в каком положении друг относительно друга находятся Солнце, Луна и Земля, мы можем наблюдать или полный диск Луны, или только её краешек – меся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1" name="Picture 4" descr="the_moon_005"/>
          <p:cNvPicPr/>
          <p:nvPr/>
        </p:nvPicPr>
        <p:blipFill>
          <a:blip r:embed="rId1"/>
          <a:stretch/>
        </p:blipFill>
        <p:spPr>
          <a:xfrm>
            <a:off x="3348000" y="1916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Фазы Лун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496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азы Луны возникают вследствие изменения взаимного расположения Земли, Луны и Сол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4" name="Picture 4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87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4" descr="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5084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Изуч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Ещё до наступления эры космических исследований астрономы знали, что Луна – необычное тело. Хотя это не самый большой спутник в Солнечной системе, но он один из крупнейших по отношению к своей планете –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Picture 4" descr="the_moon_016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5148000" y="1341000"/>
            <a:ext cx="381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ы грунта с поверхности Луны позволили определить его химический состав и возраст (4,1млрд. лет у самых старых образц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6:08:30Z</dcterms:created>
  <dc:creator>Wolverine</dc:creator>
  <dc:description/>
  <dc:language>en-US</dc:language>
  <cp:lastModifiedBy>HP</cp:lastModifiedBy>
  <dcterms:modified xsi:type="dcterms:W3CDTF">2018-12-24T18:40:16Z</dcterms:modified>
  <cp:revision>9</cp:revision>
  <dc:subject/>
  <dc:title>Слайд 1</dc:title>
</cp:coreProperties>
</file>