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9185-50A9-4F3E-A500-5F4FBAF4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C4A1-BC93-463A-A381-F07BCD64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33D-C10E-4C87-9D44-C6F6F30B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A14-5F6B-4F55-B778-FC1EA5A2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1377-C1C8-4305-8840-4679D5CC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12FD-0D73-410F-B50D-D14B3A4D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232-690D-49E8-9B4F-BBC2135D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8F2-E4AC-4D9A-8C89-65B7A813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7A2-3D89-43BF-9567-D6A43E74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CF2-1D06-4383-B7F7-83DE80F7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EA6C-15A7-4E6E-BFC3-2B175AB7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510F-693B-4A36-B08C-26A89786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A8DE-8082-48EA-BD6E-B810911733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42960" y="428760"/>
            <a:ext cx="7889760" cy="50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тематика в сказка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4572000" y="628668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Долгошеева Е.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fafe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611280" y="1125360"/>
            <a:ext cx="763272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116000" y="6021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 Долгошеева Е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fafe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skaz1"/>
          <p:cNvPicPr/>
          <p:nvPr/>
        </p:nvPicPr>
        <p:blipFill>
          <a:blip r:embed="rId1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4572000" y="538200"/>
            <a:ext cx="4176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арлсон решил навестить своих друзей, которые отдыхали на даче. Дача находилась в 130км от города. Сможет ли Карлсон преодолеть это расстояние за 3часа, если его скорость будет равна 50км/ч?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fafe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ff"/>
                </a:solidFill>
                <a:latin typeface="Arial"/>
              </a:rPr>
              <a:t>Да! За 3часа Карлсон может преодолеть 150км, а ему надо 130к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fafe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08"/>
          <p:cNvPicPr/>
          <p:nvPr/>
        </p:nvPicPr>
        <p:blipFill>
          <a:blip r:embed="rId1"/>
          <a:stretch/>
        </p:blipFill>
        <p:spPr>
          <a:xfrm>
            <a:off x="179280" y="0"/>
            <a:ext cx="42004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4788000" y="189000"/>
            <a:ext cx="3816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Arial"/>
              </a:rPr>
              <a:t>Незнайка отправился на Луну. Скорость его космического корабля 720км/мин. Какое расстояние он преодолеет за  4ч?Сколько км ему останется ещё лететь, если до Луны 384000км?</a:t>
            </a:r>
            <a:r>
              <a:rPr b="0" lang="ru-RU" sz="1800" spc="-1" strike="noStrike">
                <a:solidFill>
                  <a:srgbClr val="33cc3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fafe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1)60*4=240(мин)-в 4 час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2)720*240=172800(км)- пролетит за 4 ча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3)384000-172800=211200(км)-остан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Ответ: 211200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ae989729d032a52dab7a793a8e52c246"/>
          <p:cNvPicPr/>
          <p:nvPr/>
        </p:nvPicPr>
        <p:blipFill>
          <a:blip r:embed="rId1"/>
          <a:stretch/>
        </p:blipFill>
        <p:spPr>
          <a:xfrm>
            <a:off x="826920" y="425520"/>
            <a:ext cx="8066160" cy="2706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468360" y="327492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Дед Мороз вылетел из города </a:t>
            </a:r>
            <a:r>
              <a:rPr b="1" i="1" lang="ru-RU" sz="3600" spc="-1" strike="noStrike">
                <a:solidFill>
                  <a:srgbClr val="cc0099"/>
                </a:solidFill>
                <a:latin typeface="Arial"/>
              </a:rPr>
              <a:t>А </a:t>
            </a: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в город</a:t>
            </a:r>
            <a:r>
              <a:rPr b="1" i="1" lang="ru-RU" sz="3600" spc="-1" strike="noStrike">
                <a:solidFill>
                  <a:srgbClr val="cc0099"/>
                </a:solidFill>
                <a:latin typeface="Arial"/>
              </a:rPr>
              <a:t> В</a:t>
            </a: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 раздавать детям подарки. Скорость его упряжки 300км/ч. Расстояние между городами 3000км. За какое время дед Мороз долетит до города </a:t>
            </a:r>
            <a:r>
              <a:rPr b="1" i="1" lang="ru-RU" sz="3600" spc="-1" strike="noStrike">
                <a:solidFill>
                  <a:srgbClr val="cc0099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fafe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Arial"/>
              </a:rPr>
              <a:t>За 10 часо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d52e80911980c5dfbb938a13791b7e6f"/>
          <p:cNvPicPr/>
          <p:nvPr/>
        </p:nvPicPr>
        <p:blipFill>
          <a:blip r:embed="rId1"/>
          <a:stretch/>
        </p:blipFill>
        <p:spPr>
          <a:xfrm>
            <a:off x="0" y="0"/>
            <a:ext cx="3814920" cy="294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bde8109c312acf8c7b0da04dfbc10260"/>
          <p:cNvPicPr/>
          <p:nvPr/>
        </p:nvPicPr>
        <p:blipFill>
          <a:blip r:embed="rId2"/>
          <a:stretch/>
        </p:blipFill>
        <p:spPr>
          <a:xfrm>
            <a:off x="63360" y="3645000"/>
            <a:ext cx="2559240" cy="2952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3419640" y="549360"/>
            <a:ext cx="5256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ff"/>
                </a:solidFill>
                <a:latin typeface="Arial"/>
              </a:rPr>
              <a:t>Расстояние в 120км фея Дня преодолеет за 30мин, а фея Ночи за 40мин. Кто летит быстрее и на сколько?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fafe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Фея Дня летит со скоростью 4км/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Фея Ночи летит со скоростью 3км/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Фея Дня летит быстрее на 1км/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4:32:41Z</dcterms:created>
  <dc:creator>User</dc:creator>
  <dc:description/>
  <dc:language>en-US</dc:language>
  <cp:lastModifiedBy>User</cp:lastModifiedBy>
  <dcterms:modified xsi:type="dcterms:W3CDTF">2013-05-19T08:49:06Z</dcterms:modified>
  <cp:revision>4</cp:revision>
  <dc:subject/>
  <dc:title>Математика в сказках</dc:title>
</cp:coreProperties>
</file>