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3D89-CD4F-4F9E-B107-CAAC90CD2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0643-15BB-46E7-857D-92F000816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77D8-CE5C-4990-A34B-6313CB7F2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5858-CB50-4FBC-A3BB-85FF557E7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B693-007C-44FE-B7CC-74E2DCD73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42E5-C9CD-4E27-903A-73B6D7CBB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D258-BDEC-450C-8588-52A480A0B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4A05-AC95-4684-9264-9FC2C71E0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8F2F-231B-43FC-AD8D-882AEC3B1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F726-B4E4-44A1-8928-C4DE0B2E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E452-B9E8-41F9-A123-3AFB2A0A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12C7-5EEC-4507-935C-2574B733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F3F11-04A1-4D75-AD11-A4FC113EFA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642960" y="428760"/>
            <a:ext cx="7889760" cy="509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атематика в сказках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4572000" y="6286680"/>
            <a:ext cx="40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Долгошеева Е.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efafe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4"/>
          <p:cNvSpPr txBox="1"/>
          <p:nvPr/>
        </p:nvSpPr>
        <p:spPr>
          <a:xfrm>
            <a:off x="611280" y="1125360"/>
            <a:ext cx="7632720" cy="50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урок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1116000" y="602136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ила Долгошеева Е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efafe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skaz1"/>
          <p:cNvPicPr/>
          <p:nvPr/>
        </p:nvPicPr>
        <p:blipFill>
          <a:blip r:embed="rId1"/>
          <a:stretch/>
        </p:blipFill>
        <p:spPr>
          <a:xfrm>
            <a:off x="0" y="0"/>
            <a:ext cx="421164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4572000" y="538200"/>
            <a:ext cx="4176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Карлсон решил навестить своих друзей, которые отдыхали на даче. Дача находилась в 130км от города. Сможет ли Карлсон преодолеть это расстояние за 3часа, если его скорость будет равна 50км/ч?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efafe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66ff"/>
                </a:solidFill>
                <a:latin typeface="Arial"/>
              </a:rPr>
              <a:t>Да! За 3часа Карлсон может преодолеть 150км, а ему надо 130к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efafe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08"/>
          <p:cNvPicPr/>
          <p:nvPr/>
        </p:nvPicPr>
        <p:blipFill>
          <a:blip r:embed="rId1"/>
          <a:stretch/>
        </p:blipFill>
        <p:spPr>
          <a:xfrm>
            <a:off x="179280" y="0"/>
            <a:ext cx="42004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4788000" y="189000"/>
            <a:ext cx="38163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cc33"/>
                </a:solidFill>
                <a:latin typeface="Arial"/>
              </a:rPr>
              <a:t>Незнайка отправился на Луну. Скорость его космического корабля 720км/мин. Какое расстояние он преодолеет за  4ч?Сколько км ему останется ещё лететь, если до Луны 384000км?</a:t>
            </a:r>
            <a:r>
              <a:rPr b="0" lang="ru-RU" sz="1800" spc="-1" strike="noStrike">
                <a:solidFill>
                  <a:srgbClr val="33cc33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efafe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ff"/>
                </a:solidFill>
                <a:latin typeface="Arial"/>
              </a:rPr>
              <a:t>1)60*4=240(мин)-в 4 час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ff"/>
                </a:solidFill>
                <a:latin typeface="Arial"/>
              </a:rPr>
              <a:t>2)720*240=172800(км)- пролетит за 4 ча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ff"/>
                </a:solidFill>
                <a:latin typeface="Arial"/>
              </a:rPr>
              <a:t>3)384000-172800=211200(км)-остане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ff"/>
                </a:solidFill>
                <a:latin typeface="Arial"/>
              </a:rPr>
              <a:t>Ответ: 211200к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ae989729d032a52dab7a793a8e52c246"/>
          <p:cNvPicPr/>
          <p:nvPr/>
        </p:nvPicPr>
        <p:blipFill>
          <a:blip r:embed="rId1"/>
          <a:stretch/>
        </p:blipFill>
        <p:spPr>
          <a:xfrm>
            <a:off x="826920" y="425520"/>
            <a:ext cx="8066160" cy="27064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468360" y="327492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99"/>
                </a:solidFill>
                <a:latin typeface="Arial"/>
              </a:rPr>
              <a:t>Дед Мороз вылетел из города </a:t>
            </a:r>
            <a:r>
              <a:rPr b="1" i="1" lang="ru-RU" sz="3600" spc="-1" strike="noStrike">
                <a:solidFill>
                  <a:srgbClr val="cc0099"/>
                </a:solidFill>
                <a:latin typeface="Arial"/>
              </a:rPr>
              <a:t>А </a:t>
            </a:r>
            <a:r>
              <a:rPr b="1" lang="ru-RU" sz="3600" spc="-1" strike="noStrike">
                <a:solidFill>
                  <a:srgbClr val="cc0099"/>
                </a:solidFill>
                <a:latin typeface="Arial"/>
              </a:rPr>
              <a:t>в город</a:t>
            </a:r>
            <a:r>
              <a:rPr b="1" i="1" lang="ru-RU" sz="3600" spc="-1" strike="noStrike">
                <a:solidFill>
                  <a:srgbClr val="cc0099"/>
                </a:solidFill>
                <a:latin typeface="Arial"/>
              </a:rPr>
              <a:t> В</a:t>
            </a:r>
            <a:r>
              <a:rPr b="1" lang="ru-RU" sz="3600" spc="-1" strike="noStrike">
                <a:solidFill>
                  <a:srgbClr val="cc0099"/>
                </a:solidFill>
                <a:latin typeface="Arial"/>
              </a:rPr>
              <a:t> раздавать детям подарки. Скорость его упряжки 300км/ч. Расстояние между городами 3000км. За какое время дед Мороз долетит до города </a:t>
            </a:r>
            <a:r>
              <a:rPr b="1" i="1" lang="ru-RU" sz="3600" spc="-1" strike="noStrike">
                <a:solidFill>
                  <a:srgbClr val="cc0099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cc0099"/>
                </a:solidFill>
                <a:latin typeface="Arial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efafe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66"/>
                </a:solidFill>
                <a:latin typeface="Arial"/>
              </a:rPr>
              <a:t>За 10 часов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d52e80911980c5dfbb938a13791b7e6f"/>
          <p:cNvPicPr/>
          <p:nvPr/>
        </p:nvPicPr>
        <p:blipFill>
          <a:blip r:embed="rId1"/>
          <a:stretch/>
        </p:blipFill>
        <p:spPr>
          <a:xfrm>
            <a:off x="0" y="0"/>
            <a:ext cx="3814920" cy="2944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bde8109c312acf8c7b0da04dfbc10260"/>
          <p:cNvPicPr/>
          <p:nvPr/>
        </p:nvPicPr>
        <p:blipFill>
          <a:blip r:embed="rId2"/>
          <a:stretch/>
        </p:blipFill>
        <p:spPr>
          <a:xfrm>
            <a:off x="63360" y="3645000"/>
            <a:ext cx="2559240" cy="29527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3419640" y="549360"/>
            <a:ext cx="5256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ff"/>
                </a:solidFill>
                <a:latin typeface="Arial"/>
              </a:rPr>
              <a:t>Расстояние в 120км фея Дня преодолеет за 30мин, а фея Ночи за 40мин. Кто летит быстрее и на сколько?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efafe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ff"/>
                </a:solidFill>
                <a:latin typeface="Arial"/>
              </a:rPr>
              <a:t>Фея Дня летит со скоростью 4км/м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ff"/>
                </a:solidFill>
                <a:latin typeface="Arial"/>
              </a:rPr>
              <a:t>Фея Ночи летит со скоростью 3км/м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ff"/>
                </a:solidFill>
                <a:latin typeface="Arial"/>
              </a:rPr>
              <a:t>Фея Дня летит быстрее на 1км/м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4T14:32:41Z</dcterms:created>
  <dc:creator>User</dc:creator>
  <dc:description/>
  <dc:language>en-US</dc:language>
  <cp:lastModifiedBy>User</cp:lastModifiedBy>
  <dcterms:modified xsi:type="dcterms:W3CDTF">2013-05-19T08:49:06Z</dcterms:modified>
  <cp:revision>4</cp:revision>
  <dc:subject/>
  <dc:title>Математика в сказках</dc:title>
</cp:coreProperties>
</file>