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E8E-FDD3-4D79-8182-6C77A945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514-7818-42E6-8820-FA616E47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483-2E97-49C4-BC93-0AC9084B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266-E8B9-46E6-AF0B-C8ADB29D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C401-7439-4983-82D5-B8422373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5059-D5A9-4F11-A6CC-A7DF513D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106B-1169-4219-9618-89CB78E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82AD-B81D-4902-8E37-EF654A7C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05BC-235B-4716-B94F-97D4D41B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A203-6A4F-4106-B4F4-D87A5D6B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742D-1F65-412C-A372-F91E2CD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DE4-D8BC-4CDC-9CE7-B7C5D5FB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D73B-1A20-4B6C-81EC-6A3F1EA8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4D38-18FD-49D6-B108-D38D041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3FF5-24FF-49DB-9996-38F6D8CF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33EE-F427-4070-88BD-B80C3FDE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9B84-DD29-4184-8AE3-910D38C4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E8C-3033-4533-810A-1EC42EC3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1AF-291C-4178-809D-297C1E79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8DE-21B7-4897-AF12-DCF8D6AA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7B6-69EE-48E3-8BF8-2C50BA9F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055-A220-4139-8711-D655F727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296-D5F5-449C-9FB0-C8D97BE1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437-1D77-4687-ACC2-BADE15A9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02F3-3A85-41B1-A104-B99BD3E9078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4473-9D4A-4649-82FC-C0CBC887CFF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1720" y="404280"/>
            <a:ext cx="7764480" cy="53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aeaea"/>
                </a:solidFill>
                <a:uFillTx/>
                <a:latin typeface="Tahoma"/>
              </a:rPr>
              <a:t>Региональный интернет-конкурс творческих работ обучающихся, воспитанников и педагогов «Одна страна – одна Россия»</a:t>
            </a: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МОУ «Лицей» г.Балаш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 1Б класс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2018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5 декабря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400" y="1571400"/>
            <a:ext cx="871524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В этот день в большинстве стран мира празднуют Международный день доброволь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- Слово «волонтёр» произошло от французского слова, что в переводе означает «доброволец, желающи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- Волонтёр – это человек, добровольно взявший на себя какую-либо рабо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- Волонтёрство – это добровольческое движение, развитое во многих странах мира, направленное на улучшение жизни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ahoma"/>
              </a:rPr>
              <a:t>- Волонтёрские движения – это свободные союзы людей, объединённые каким-либо интерес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оминация: «Конкурс рисунков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лкова Татья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C:\Users\user\Desktop\конкурсссс\рисунок.jpg"/>
          <p:cNvPicPr/>
          <p:nvPr/>
        </p:nvPicPr>
        <p:blipFill>
          <a:blip r:embed="rId1"/>
          <a:stretch/>
        </p:blipFill>
        <p:spPr>
          <a:xfrm>
            <a:off x="3000240" y="2714760"/>
            <a:ext cx="5905800" cy="3917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оминация: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нкурс фотографий</a:t>
            </a:r>
            <a:br>
              <a:rPr sz="4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Волкова Татьяна             Исайкин Алексей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Picture 2" descr="C:\Users\user\Desktop\конкурсссс\чистота- залог здоровья.jpg"/>
          <p:cNvPicPr/>
          <p:nvPr/>
        </p:nvPicPr>
        <p:blipFill>
          <a:blip r:embed="rId1"/>
          <a:stretch/>
        </p:blipFill>
        <p:spPr>
          <a:xfrm>
            <a:off x="316080" y="2998800"/>
            <a:ext cx="4446360" cy="250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user\Desktop\конкурсссс\помощник  - копия.jpg"/>
          <p:cNvPicPr/>
          <p:nvPr/>
        </p:nvPicPr>
        <p:blipFill>
          <a:blip r:embed="rId2"/>
          <a:stretch/>
        </p:blipFill>
        <p:spPr>
          <a:xfrm>
            <a:off x="4857840" y="1981080"/>
            <a:ext cx="3521160" cy="448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7120" y="304560"/>
            <a:ext cx="8253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Конкурс слоганов, кричалок ко Дню добровольца, волонтёра в России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981080"/>
            <a:ext cx="447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! Делай добро добровольно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Волкова Татья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ою бабушку любл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й всегда я помог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Ефанова Верон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бя на помощь не зовут?  Но ты ид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бя там ждут! </a:t>
            </a: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Живодёрова Алё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лю родной я Балаш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му помочь всегда готов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Каныгин Зах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325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Конкурс слоганов, кричалок ко Дню добровольца, волонтёра в Росси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4200" y="1981080"/>
            <a:ext cx="4548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, ты, он, она- вместе целая страна! Помогать другим мы будем. Нас Россия не забудет! </a:t>
            </a: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Лиманская </a:t>
            </a:r>
            <a:r>
              <a:rPr b="1" lang="ru-RU" sz="2000" spc="-1" strike="noStrike">
                <a:solidFill>
                  <a:srgbClr val="00b0f0"/>
                </a:solidFill>
                <a:latin typeface="Tahoma"/>
              </a:rPr>
              <a:t>Елизав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с другом вышел в путь  веселей дорог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ы помог, и я помо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 уже так мног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Пятова Соф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2920" y="1981080"/>
            <a:ext cx="428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дрых взрослых уважаем.Малышей не обижае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Патлюк Ан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ветик-семицветик Из известной сказки: Радость, дружба, помощь, спорт, добро, успех и будет счастье!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Телкова Ар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304560"/>
            <a:ext cx="8110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онкурс слоганов, кричалок ко Дню добровольца, волонтёра в Росси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32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шагает друж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яд? Это классный наш отряд! Будем всем мы помогать родной город украшать!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урманова Васил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00720" y="1981080"/>
            <a:ext cx="410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лонтёры- это дружба. Это помощь, а не служб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Каретникова Викто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ь добро шагает всюду Волонтёром лучшим буду!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аретников Ник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ahoma"/>
              </a:rPr>
              <a:t>Конкурс ко Дню добровольца, волонтёра в России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320" y="198108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ши результа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манская Елизавета- диплом 2 степ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етникова Виктория- диплом 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айкин Алексей- диплом 3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ретникова У.Г. - диплом 3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06:23:20Z</dcterms:created>
  <dc:creator>user</dc:creator>
  <dc:description/>
  <dc:language>en-US</dc:language>
  <cp:lastModifiedBy>user</cp:lastModifiedBy>
  <dcterms:modified xsi:type="dcterms:W3CDTF">2018-12-24T15:08:59Z</dcterms:modified>
  <cp:revision>15</cp:revision>
  <dc:subject/>
  <dc:title>Числа вокруг нас</dc:title>
</cp:coreProperties>
</file>