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874-BAD8-4984-ABC0-AB2FDE12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35E-4728-4D3B-8290-680D063C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774-9FDA-4690-A9BB-12821633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948-1F42-4972-A464-8ECCE517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8AF6-5467-4DC6-9C41-913E31ED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D87E-E8B6-4B26-A636-1D7084EB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0C27-1CFE-4DA7-9634-2D2ED624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03DE-4820-4801-AC18-89EF0F17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82B5-38D1-44D1-8C4C-2CEA2C66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0D90-2F62-4F61-9E14-1211CA1D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57CC-C648-4E61-A771-8C69621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DC1-0F9A-4FEB-B880-6A528615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FF22-7A01-4F69-BC02-62017C9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A283-1EC8-491A-9FBB-7342F26A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B3B3-28BA-4A05-959A-A4282722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7E70-CF8D-4DCD-A901-5BD57B5F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5C70-1584-4E36-8329-707D39DA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CA4-F523-4764-8700-E08FE578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D59-08EA-4E99-862A-B921EF8E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AA2-7577-4A9D-BA91-EE801CE3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A67-C3D5-40A6-8462-4CFF3CB0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DFD-32E3-48FA-834A-660E3721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043-2A62-444C-B243-A6647788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083-9879-4CB2-AB60-EB42616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E988-1568-4D79-8CE7-311431FBB6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A491-5B97-4CC7-9365-FEABF7E8AA0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1A54-8685-4163-B247-776466591D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СТНАЯ РАБОТ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вук- эт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фразвук- эт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льтразвук- эт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арактеристики звуковой волны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,    частота,     длина вол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орость,  громкость, высота, темб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. 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C9DC-A2FA-42AA-B4FB-B94D7A33F40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ешаем устно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ЕРЕЗ КАКОЕ ВРЕМЯ МЫ УСЛЫШИМ ЭХО, ЕСЛИ  РАССТОЯНИЕ ДО ОТРАЖАЮЩЕЙ ПОВЕРХНОСТИ 680м, а скорость звука в воздухе 340 м/с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7FF-9585-45A6-B5DE-3B97A2552AA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ешаем в тетрад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льную деталь проверяют ультразвуковым дефектоскопом, работающим на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астоте 1МГц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Отражённый от дефекта сигнал возвратился на поверхность детали через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 мк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сле посылки. Определите,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какой глубин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находится дефект, есл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л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ультразвуковой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лны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тал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м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8F0E-41CA-42C0-9EA1-AF0DB325F50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95D7-1180-4646-A55E-B7DFA1F3781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тему «Отражение звука. Эх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ть и решить в тетради 2 задачи по 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мотреть фильм «За гранью тишины. Инфразвук – убий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окла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ХОЛОКАЦ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устические сигналы у насекомы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устические сигналы рыб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холокация у летучих мыш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окационные сигналы у дельфин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вуковой резонанс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Ультразвук в медицин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АМОСТОЯТЕЛЬНАЯ РАБОТА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8FB2-329F-468A-9E64-BE933905C15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200400" y="2133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-53  Зв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8EA1-7296-4A77-A7B6-B32A2F81483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еличение громк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95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C81D-8D9E-4F26-9C46-22EC896DD16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Содержимое 2"/>
          <p:cNvSpPr/>
          <p:nvPr/>
        </p:nvSpPr>
        <p:spPr>
          <a:xfrm>
            <a:off x="4648320" y="1676520"/>
            <a:ext cx="4114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 Гц – 20 000 Г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435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300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1066680" y="3200400"/>
                <a:ext cx="2189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6473-4C1A-4CF1-8DF3-4CB3A69DCF1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499-8447-4126-AE30-111BB6A3B3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ЧУНА ПЕРЕМОЛЧИТ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КУНА ПЕРЕКРИЧ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ТЬ ХВАЛИ,ХОТЬ РУГА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ОТКЛИКНУСЬ - НЕ ПЕНЯ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ТО ТАКОЕ ЭХ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5A58-8A98-40F4-80BB-141C4BDA5AA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Цель урока: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Узнать,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такое эхо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Научиться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ешать задачи  по теме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лассная работа 18.01.17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ТРАЖЕНИЕ ЗВУКА. ЭХ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C07F-B21A-49D4-AE48-2C78AF80A86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бота по учебнику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эх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каких условиях мы слышим эх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а для расчёта промежутка времени, через который слышно эх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28600" y="45720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Подумайте, где используется эх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D492-E943-4D1D-8EC2-CF1E8E1696A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на</dc:creator>
  <dc:description/>
  <dc:language>en-US</dc:language>
  <cp:lastModifiedBy>Нина</cp:lastModifiedBy>
  <dcterms:modified xsi:type="dcterms:W3CDTF">2017-01-17T20:46:54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