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04B-6768-48F0-9CC9-07D0B6F1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CD2-DD04-45B8-9C83-3E9AB37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C81-35F7-4052-BF15-E5C77AEF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008-C3EE-4305-8FB9-5F7CA29E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F067-5AFC-4EF2-B2D2-7254FE77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5CBD-EE04-494C-9783-BE5D9BD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B164-4425-4E68-ADEF-79975D75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EF07-24EC-4F86-9475-2952BCF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1369-171E-45E7-8583-950BCE0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B068-5766-4033-88AB-D9337ED7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8AB-A450-4FF3-AE23-B113260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6D2-9AF7-4D52-BB62-4235A7B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00C-2228-4D00-BC97-CDEFAC6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3930-1C9A-4FCF-870A-D2740E76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010-80C8-4921-AAB8-8279D3E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A95-EC8E-44A2-9B05-4AF92D70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3F86-CA99-476B-8AE7-757C524C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794-634A-477F-8167-3244035D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574-B316-473E-988A-34917C9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398-5756-443E-AF0C-2B221D9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AB0-ADEF-4B97-BD1E-2C68C95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497-8D9E-4683-896C-7E90770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F62-6491-4DE3-8737-DD9241B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F30-6F35-481E-8343-63DD613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367A-E2A3-492C-AA53-6976ED7AB5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BCE-32BE-419D-AC09-96B2AE444B1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A04-D6BD-4BB4-9C81-99FA34923B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ТНАЯ РАБОТ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фра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звук- эт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арактеристики звуковой волн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,    частота,     длина вол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орость,  громкость, высота, темб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.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E7D-E113-48B0-8ADF-AF2EA17EB43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аем устно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ЕРЕЗ КАКОЕ ВРЕМЯ МЫ УСЛЫШИМ ЭХО, ЕСЛИ  РАССТОЯНИЕ ДО ОТРАЖАЮЩЕЙ ПОВЕРХНОСТИ 680м, а скорость звука в воздухе 340 м/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FC0-F2D2-4D9C-A113-E62B6F763CB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аем в тетрад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льную деталь проверяют ультразвуковым дефектоскопом, работающим н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астоте 1МГц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Отражённый от дефекта сигнал возвратился на поверхность детали через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 мк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сле посылки. Определите,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какой глубин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ходится дефект, есл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л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льтразвуковой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лны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тал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м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CDD3-90F1-4A56-B77C-734EEDD7497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AB2-60B3-4CF9-A8A1-A8B92BC7EB9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тему «Отражение звука. Эх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и решить в тетради 2 задачи по 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мотреть фильм «За гранью тишины. Инфразвук – убий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окла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у насекомы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устические сигналы рыб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холокация у летучих мыш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окационные сигналы у дельфин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вуковой резонан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Ультразвук в медицин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АМОСТОЯТЕЛЬНАЯ РАБОТА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FBF-6005-476C-ABCB-83A77A901FD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200400" y="2133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-53  Зв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30E-606F-4789-A7F4-FC4D337DC9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ение гром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95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EE7B-D235-4889-A1E5-D2D48CFD79F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одержимое 2"/>
          <p:cNvSpPr/>
          <p:nvPr/>
        </p:nvSpPr>
        <p:spPr>
          <a:xfrm>
            <a:off x="4648320" y="1676520"/>
            <a:ext cx="411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 Гц – 20 000 Г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435 м/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300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066680" y="3200400"/>
                <a:ext cx="21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909-DBF3-4EBD-A10C-F1CA2FA54D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863-89FA-4FB5-B186-402ECCD218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ЧУНА ПЕРЕМОЛЧИТ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КУНА ПЕРЕКРИЧ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ТЬ ХВАЛИ,ХОТЬ РУГА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ОТКЛИКНУСЬ - НЕ ПЕНЯ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ТО ТАКОЕ ЭХ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082-05D7-452C-A95D-4FFAD42C808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знать,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эхо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Научиться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шать задачи  по теме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ассная работа 18.01.17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ТРАЖЕНИЕ ЗВУКА. ЭХ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324-EA8E-4C33-B3C7-CF6BBE1B8AD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бота по учебнику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э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каких условиях мы слышим э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а для расчёта промежутка времени, через который слышно эх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28600" y="45720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Подумайте, где используется эх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247-8E01-4CED-98E1-DAABBD63F0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на</dc:creator>
  <dc:description/>
  <dc:language>en-US</dc:language>
  <cp:lastModifiedBy>Нина</cp:lastModifiedBy>
  <dcterms:modified xsi:type="dcterms:W3CDTF">2017-01-17T20:46:5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