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6858000" cy="9144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73914-574F-4D95-98BF-F827EC71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3D5F-F742-4366-A286-A8A9AC892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FF57-C7B6-4DA7-89CF-6FFE83604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2698-DE5E-4172-AA3B-EFC52CC9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AF8E-A25C-4906-99E4-645700AD6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5F849-9E48-422D-B1F7-21FD1F78A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B911-A67A-497A-8BC9-AF7F94E70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3C81-B1AA-4D7A-B0E8-6638F9A5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33754-DF64-461F-9601-9F3D01BA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623E-21DA-4698-B09B-C43675EC9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F639-0606-4F5E-AEBE-9CBD08AF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30A9-3975-4C03-8036-304542EF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6C96C-18B1-413F-B9BC-BA2DC4AF2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61B43-22A1-4DF7-A2FB-217A3246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6B8CF-5546-49B8-A5C9-F9826F350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481F-D213-4707-B966-BFD07993D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4D3F5-2C72-4EE9-9305-6B70D7E35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689F0-E604-49FB-A0DD-05EE7606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65A7AF-043D-44FD-83F9-98D0F5173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2BA0F-F4B0-44FD-8BFA-6976A0E7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4DCC9-EB37-4FD2-B90E-3B4044F1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701A-7330-4ED4-9F05-96B19F7A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37F-4C8F-44C9-8DB1-0FB4FCF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00B55-68CC-4006-939E-DA5CD8DC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9A3FC-328B-45E7-900C-6B9A4FFF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AE5A2-F459-4A35-80A6-C4A0F072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3BA0E-8EC8-4286-907F-A2CA3FAA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7F71A-FAF5-4F08-BFF7-86A95538B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BD0B3-A1CF-4688-91FA-00A7CDE9B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70D92-44C5-4295-A457-256A1594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3FD09-C681-4667-8062-797197A11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9FC0D4-E695-48BC-9C7F-BFC6C4C7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546F-D57D-4C75-94A5-9209D4B1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363-8D1E-48B9-90A8-AAE26BE4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52BB3-7B68-4710-8351-7138B943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D282-E3A9-46B5-960C-C38D12FB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44061-DA99-4B45-888A-1FB723B1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8B1D1-076E-41E4-8637-F9603FC6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B9686-C58D-41BF-A9A0-C7D026DC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E8ED1-30D3-4272-8F24-A3DFF20D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2BE29-DEEF-4F98-9B51-C13CE7B9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C8534-3A4F-4EC9-A977-DF603375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EE13D-A46A-4FE4-8A09-B8D9BD6EA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B616D-24C0-4639-AA9B-C16A3FEB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D18-5390-4981-8FEF-74742E15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8E57-105C-4292-8B88-38DE6E90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0B080D-BAE8-4CD2-A1D3-CC571F34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8D2C74-1E44-4A4D-AC7D-84914584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C955DB-7184-4D5E-83DC-54341D00D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93361-B315-47CC-82D6-732F40A5F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F3A6F-BDB6-467A-B2F9-BE0EAE13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2AD48F-B21F-4B21-84EF-7090A1E22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C6F0F-0AB4-4204-A4D5-37068F6D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B2EB1-FDD0-4270-AC9A-E65EE0228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2C9B-FCF2-4A3B-ADEA-1E849106E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43A-3ABA-4B4E-B6D3-8E02DBECC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0C31B-22FD-4949-81AD-B8032528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145C6-D668-413C-A4F4-3E146E389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75AE8-1B0D-49B7-B76E-49622177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4AD7F-AA42-4CD1-9CFE-02B7C2AA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3CFED-5DCE-4E30-8750-7F4C0870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97ED-6606-46A2-8267-FA1D0166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612D6-930C-4F12-A724-693320DF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31604-A311-479D-8E46-FFB07EA3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EA9C9-7DE1-477C-8011-E1000B11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E78D3-49E4-4FB5-86DA-2F6D6BC7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B1EE-C328-42DD-A86B-FE70E65D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31275-6F1A-4F36-A9ED-4F711451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37BB4-81CD-4766-B93A-02B72F90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376E7-5153-495E-A1A3-06696513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B43A5-65B7-4A81-A62D-B93360DA3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22EAC-1DA2-4F85-8CDB-E3A42295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BD6B5E-10CE-49A7-ACA9-7B3C5805A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BABEF4-F98F-4265-88D8-6A97DC0F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1DFDA-EBA1-42E9-BA21-B8AE90CF2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342720" y="450360"/>
            <a:ext cx="6172200" cy="77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AB190-B44D-447B-A3C7-B76CDEF2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252897-414C-42C3-9EC1-B01FCF3D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FFB2-E124-49B8-9402-FBE14ED7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413D0-DB27-4D64-AA41-2B16193D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768D0D-3747-4360-A43D-38E15544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50FBBA-0030-49E8-83FB-0C50B1F6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3501360" y="5969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73F6C-C0F2-4486-98A3-B52CEE9F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3296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411440" y="3566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5412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253296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4411440" y="5969880"/>
            <a:ext cx="17888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83826-BAD5-4A4E-ACDD-5D118EF7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412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3566880"/>
            <a:ext cx="271116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4120" y="5969880"/>
            <a:ext cx="5556240" cy="219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F8A-9199-43D4-B4AE-704FC4AF5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171360" y="304920"/>
            <a:ext cx="6521400" cy="329220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158760" y="2239920"/>
            <a:ext cx="6541920" cy="1771560"/>
            <a:chOff x="158760" y="2239920"/>
            <a:chExt cx="6541920" cy="1771560"/>
          </a:xfrm>
        </p:grpSpPr>
        <p:sp>
          <p:nvSpPr>
            <p:cNvPr id="2" name="Freeform 14"/>
            <p:cNvSpPr/>
            <p:nvPr/>
          </p:nvSpPr>
          <p:spPr>
            <a:xfrm>
              <a:off x="4535280" y="2432880"/>
              <a:ext cx="2157120" cy="9511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1964160" y="2261880"/>
              <a:ext cx="4158000" cy="113256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121480" y="2278440"/>
              <a:ext cx="4100760" cy="10314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4206960" y="2260440"/>
              <a:ext cx="2480760" cy="867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158760" y="2239920"/>
              <a:ext cx="6541920" cy="1771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FE3D3-5204-4920-AF74-AF65DA65318D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171360" y="304920"/>
            <a:ext cx="6521400" cy="8047080"/>
          </a:xfrm>
          <a:custGeom>
            <a:avLst/>
            <a:gdLst>
              <a:gd name="textAreaLeft" fmla="*/ 24120 w 6521400"/>
              <a:gd name="textAreaRight" fmla="*/ 6497280 w 6521400"/>
              <a:gd name="textAreaTop" fmla="*/ 24120 h 8047080"/>
              <a:gd name="textAreaBottom" fmla="*/ 8022960 h 8047080"/>
            </a:gdLst>
            <a:ahLst/>
            <a:rect l="textAreaLeft" t="textAreaTop" r="textAreaRight" b="textAreaBottom"/>
            <a:pathLst>
              <a:path w="21600" h="26653">
                <a:moveTo>
                  <a:pt x="275" y="0"/>
                </a:moveTo>
                <a:arcTo wR="275" hR="275" stAng="16200000" swAng="-5400000"/>
                <a:lnTo>
                  <a:pt x="0" y="26378"/>
                </a:lnTo>
                <a:arcTo wR="275" hR="275" stAng="10800000" swAng="-5400000"/>
                <a:lnTo>
                  <a:pt x="21325" y="26653"/>
                </a:lnTo>
                <a:arcTo wR="275" hR="275" stAng="5400000" swAng="-5400000"/>
                <a:lnTo>
                  <a:pt x="21600" y="275"/>
                </a:lnTo>
                <a:arcTo wR="275" hR="275" stAng="0" swAng="-5400000"/>
                <a:close/>
              </a:path>
            </a:pathLst>
          </a:cu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158760" y="7139160"/>
            <a:ext cx="6541920" cy="1774800"/>
            <a:chOff x="158760" y="7139160"/>
            <a:chExt cx="6541920" cy="1774800"/>
          </a:xfrm>
        </p:grpSpPr>
        <p:sp>
          <p:nvSpPr>
            <p:cNvPr id="50" name="Freeform 14"/>
            <p:cNvSpPr/>
            <p:nvPr/>
          </p:nvSpPr>
          <p:spPr>
            <a:xfrm>
              <a:off x="4540680" y="73324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1966680" y="71614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123640" y="71776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4212000" y="71596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158760" y="71391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06EA9-5610-4EF0-93E4-8474B590671A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171360" y="304920"/>
            <a:ext cx="6521400" cy="631512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4535640" y="5605560"/>
            <a:ext cx="2157120" cy="95076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1963800" y="5433840"/>
            <a:ext cx="4159080" cy="113364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120760" y="5450040"/>
            <a:ext cx="4102200" cy="103176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4206960" y="5432400"/>
            <a:ext cx="2481120" cy="86832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158760" y="5411880"/>
            <a:ext cx="6541920" cy="177300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0C163-35E1-489F-AFDB-2613D1D32D4F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171360" y="304920"/>
            <a:ext cx="6521400" cy="19018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158760" y="952560"/>
            <a:ext cx="6541920" cy="1773000"/>
            <a:chOff x="158760" y="952560"/>
            <a:chExt cx="6541920" cy="1773000"/>
          </a:xfrm>
        </p:grpSpPr>
        <p:sp>
          <p:nvSpPr>
            <p:cNvPr id="145" name="Freeform 14"/>
            <p:cNvSpPr/>
            <p:nvPr/>
          </p:nvSpPr>
          <p:spPr>
            <a:xfrm>
              <a:off x="4535280" y="1145880"/>
              <a:ext cx="2157120" cy="9518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1964160" y="974520"/>
              <a:ext cx="4158000" cy="113364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121480" y="991080"/>
              <a:ext cx="4100760" cy="10321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4206960" y="973080"/>
              <a:ext cx="2480760" cy="868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158760" y="952560"/>
              <a:ext cx="6541920" cy="1773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7061-DD67-461A-9955-9D6AD3C4FC53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171360" y="304920"/>
            <a:ext cx="6521400" cy="19018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158760" y="952560"/>
            <a:ext cx="6541920" cy="1774800"/>
            <a:chOff x="158760" y="952560"/>
            <a:chExt cx="6541920" cy="1774800"/>
          </a:xfrm>
        </p:grpSpPr>
        <p:sp>
          <p:nvSpPr>
            <p:cNvPr id="193" name="Freeform 14"/>
            <p:cNvSpPr/>
            <p:nvPr/>
          </p:nvSpPr>
          <p:spPr>
            <a:xfrm>
              <a:off x="4540680" y="11458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1966680" y="9748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123640" y="9910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4212000" y="9730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158760" y="9525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38CA-4A61-40B7-988A-E7EB93A02A66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171360" y="304920"/>
            <a:ext cx="6521400" cy="8047080"/>
          </a:xfrm>
          <a:custGeom>
            <a:avLst/>
            <a:gdLst>
              <a:gd name="textAreaLeft" fmla="*/ 24120 w 6521400"/>
              <a:gd name="textAreaRight" fmla="*/ 6497280 w 6521400"/>
              <a:gd name="textAreaTop" fmla="*/ 24120 h 8047080"/>
              <a:gd name="textAreaBottom" fmla="*/ 8022960 h 8047080"/>
            </a:gdLst>
            <a:ahLst/>
            <a:rect l="textAreaLeft" t="textAreaTop" r="textAreaRight" b="textAreaBottom"/>
            <a:pathLst>
              <a:path w="21600" h="26653">
                <a:moveTo>
                  <a:pt x="275" y="0"/>
                </a:moveTo>
                <a:arcTo wR="275" hR="275" stAng="16200000" swAng="-5400000"/>
                <a:lnTo>
                  <a:pt x="0" y="26378"/>
                </a:lnTo>
                <a:arcTo wR="275" hR="275" stAng="10800000" swAng="-5400000"/>
                <a:lnTo>
                  <a:pt x="21325" y="26653"/>
                </a:lnTo>
                <a:arcTo wR="275" hR="275" stAng="5400000" swAng="-5400000"/>
                <a:lnTo>
                  <a:pt x="21600" y="275"/>
                </a:lnTo>
                <a:arcTo wR="275" hR="275" stAng="0" swAng="-5400000"/>
                <a:close/>
              </a:path>
            </a:pathLst>
          </a:cu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158760" y="7139160"/>
            <a:ext cx="6541920" cy="1774800"/>
            <a:chOff x="158760" y="7139160"/>
            <a:chExt cx="6541920" cy="1774800"/>
          </a:xfrm>
        </p:grpSpPr>
        <p:sp>
          <p:nvSpPr>
            <p:cNvPr id="241" name="Freeform 14"/>
            <p:cNvSpPr/>
            <p:nvPr/>
          </p:nvSpPr>
          <p:spPr>
            <a:xfrm>
              <a:off x="4540680" y="73324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1966680" y="71614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123640" y="71776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4212000" y="71596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158760" y="71391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8143-7E9E-4F14-94ED-5A13038FB190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171360" y="304920"/>
            <a:ext cx="6521400" cy="190188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158760" y="952560"/>
            <a:ext cx="6541920" cy="1774800"/>
            <a:chOff x="158760" y="952560"/>
            <a:chExt cx="6541920" cy="1774800"/>
          </a:xfrm>
        </p:grpSpPr>
        <p:sp>
          <p:nvSpPr>
            <p:cNvPr id="289" name="Freeform 14"/>
            <p:cNvSpPr/>
            <p:nvPr/>
          </p:nvSpPr>
          <p:spPr>
            <a:xfrm>
              <a:off x="4540680" y="1145880"/>
              <a:ext cx="2160000" cy="9529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1966680" y="974880"/>
              <a:ext cx="4163400" cy="11347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123640" y="991080"/>
              <a:ext cx="4105800" cy="103320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4212000" y="973080"/>
              <a:ext cx="2484000" cy="8694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158760" y="952560"/>
              <a:ext cx="6541920" cy="17748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54120" y="3566880"/>
            <a:ext cx="555624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387324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44000" y="8332560"/>
            <a:ext cx="284004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2994120" y="8332560"/>
            <a:ext cx="86976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9225-AF1A-442B-9535-768A029697D5}" type="slidenum">
              <a:rPr b="0" lang="ru-RU" sz="1000" spc="-1" strike="noStrike">
                <a:solidFill>
                  <a:srgbClr val="073e8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04640" y="3203640"/>
            <a:ext cx="5616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ФЕССИИ БЫВАЮТ РАЗНЫЕ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1. ПРОДАВЕЦ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Candara"/>
              </a:rPr>
              <a:t>2. ВРАЧ 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ndara"/>
              </a:rPr>
              <a:t>3. ПОВАР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Candara"/>
              </a:rPr>
              <a:t>4. СТРОИТЕЛ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ndara"/>
              </a:rPr>
              <a:t>5. ПЧЕЛОВОД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ndara"/>
              </a:rPr>
              <a:t>6. ШВЕ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33360" y="395280"/>
            <a:ext cx="618192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АЛЕХИНА ДАРЬЯ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КАКИЕ БЫВАЮТ ПРОФЕССИИ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ОЛИЦЕЙСКИЙ - ЭТОТ ЧЕЛОВЕК СЛЕДИТ ЗА ПОРЯДКОМ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5" name="Picture 2" descr="C:\Users\Пользователь\Desktop\76562.jpg"/>
          <p:cNvPicPr/>
          <p:nvPr/>
        </p:nvPicPr>
        <p:blipFill>
          <a:blip r:embed="rId1"/>
          <a:stretch/>
        </p:blipFill>
        <p:spPr>
          <a:xfrm>
            <a:off x="333360" y="3708360"/>
            <a:ext cx="6191280" cy="412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ПАРИКМАХЕР -  СТРИЖЁТ И УКЛАДЫВАЕТ ВОЛОСЫ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7" name="Picture 2" descr="C:\Users\Пользователь\Desktop\парикмахер_женщина.jpg"/>
          <p:cNvPicPr/>
          <p:nvPr/>
        </p:nvPicPr>
        <p:blipFill>
          <a:blip r:embed="rId1"/>
          <a:stretch/>
        </p:blipFill>
        <p:spPr>
          <a:xfrm>
            <a:off x="189000" y="4140360"/>
            <a:ext cx="640872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ndara"/>
              </a:rPr>
              <a:t>КАПИТАН – ЭТОТ ЧЕЛОВЕК  УПРАВЛЯЕТ КОРАБЛЁМ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9" name="Picture 2" descr="C:\Users\Пользователь\Desktop\bd88df6d7a58450d39fc2a5395dd5bd3.jpg"/>
          <p:cNvPicPr/>
          <p:nvPr/>
        </p:nvPicPr>
        <p:blipFill>
          <a:blip r:embed="rId1"/>
          <a:stretch/>
        </p:blipFill>
        <p:spPr>
          <a:xfrm>
            <a:off x="333360" y="3013200"/>
            <a:ext cx="6264360" cy="4868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ДВОРНИК - УБИРАЕТ ДВОР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1" name="Picture 2" descr="C:\Users\Пользователь\Desktop\9712.jpg"/>
          <p:cNvPicPr/>
          <p:nvPr/>
        </p:nvPicPr>
        <p:blipFill>
          <a:blip r:embed="rId1"/>
          <a:stretch/>
        </p:blipFill>
        <p:spPr>
          <a:xfrm>
            <a:off x="836640" y="3780000"/>
            <a:ext cx="5256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СПАСИБО ЗА ВНИМАНИЕ!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53760" y="3566880"/>
            <a:ext cx="5583240" cy="52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ПИШЕТ КНИГИ?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ИСАТЕЛ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УЧИТ ДЕТЕЙ В ШКОЛЕ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УЧИТЕЛ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ЛЕЧИТ ЛЮДЕЙ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ВРАЧ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ИГРАЕТ РОЛЬ В ТЕАТРЕ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АКТЁР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ИЗУЧАЕТ ПРИРОДУ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БИОЛОГ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КТО ВОДИТ САМОЛЁТ?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ПИЛО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Arial"/>
                <a:ea typeface="Arial"/>
              </a:rPr>
              <a:t>ВОПРО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wipe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3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3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33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33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3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СТРОИТЕЛЬ - СТРОИТ ДОМА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0" name="Picture 4" descr="C:\Users\Пользователь\Desktop\trud-trust.jpg"/>
          <p:cNvPicPr/>
          <p:nvPr/>
        </p:nvPicPr>
        <p:blipFill>
          <a:blip r:embed="rId1"/>
          <a:stretch/>
        </p:blipFill>
        <p:spPr>
          <a:xfrm>
            <a:off x="620640" y="4356000"/>
            <a:ext cx="5875560" cy="366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Прямоугольник 4"/>
          <p:cNvSpPr/>
          <p:nvPr/>
        </p:nvSpPr>
        <p:spPr>
          <a:xfrm>
            <a:off x="404640" y="612720"/>
            <a:ext cx="61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f7f7f"/>
                </a:solidFill>
                <a:latin typeface="Arial"/>
              </a:rPr>
              <a:t>ПЧЕЛОВОД -</a:t>
            </a:r>
            <a:br>
              <a:rPr sz="4000"/>
            </a:br>
            <a:r>
              <a:rPr b="0" lang="ru-RU" sz="4000" spc="-1" strike="noStrike">
                <a:solidFill>
                  <a:srgbClr val="7f7f7f"/>
                </a:solidFill>
                <a:latin typeface="Arial"/>
              </a:rPr>
              <a:t>ЭТОТ ЧЕЛОВЕК РАЗВОДИТ ПЧЁ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2" descr="C:\Users\Пользователь\Desktop\2935157.jpg"/>
          <p:cNvPicPr/>
          <p:nvPr/>
        </p:nvPicPr>
        <p:blipFill>
          <a:blip r:embed="rId1"/>
          <a:stretch/>
        </p:blipFill>
        <p:spPr>
          <a:xfrm>
            <a:off x="549360" y="3132000"/>
            <a:ext cx="6121440" cy="3311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1025280" y="610920"/>
            <a:ext cx="5283000" cy="165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ВРАЧ - ЛЕЧИТ ЛЮДЕЙ.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4" name="Picture 4" descr="C:\Users\Пользователь\Desktop\kisspng-physician-nursing-health-care-hospital-the-doctor-5ac54ae63ecee8.5623774515228792062573.jpg"/>
          <p:cNvPicPr/>
          <p:nvPr/>
        </p:nvPicPr>
        <p:blipFill>
          <a:blip r:embed="rId1"/>
          <a:stretch/>
        </p:blipFill>
        <p:spPr>
          <a:xfrm>
            <a:off x="836640" y="2484360"/>
            <a:ext cx="5329080" cy="6265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1440" y="42840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ПОВАР – ГОТОВИТ ЕДУ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6" name="Picture 3" descr="C:\Users\Пользователь\Desktop\chef_PNG76.png"/>
          <p:cNvPicPr/>
          <p:nvPr/>
        </p:nvPicPr>
        <p:blipFill>
          <a:blip r:embed="rId1"/>
          <a:stretch/>
        </p:blipFill>
        <p:spPr>
          <a:xfrm>
            <a:off x="260280" y="3635280"/>
            <a:ext cx="6375600" cy="4465800"/>
          </a:xfrm>
          <a:prstGeom prst="rect">
            <a:avLst/>
          </a:prstGeom>
          <a:ln w="0">
            <a:noFill/>
          </a:ln>
        </p:spPr>
      </p:pic>
      <p:sp>
        <p:nvSpPr>
          <p:cNvPr id="347" name="Прямоугольник 1"/>
          <p:cNvSpPr/>
          <p:nvPr/>
        </p:nvSpPr>
        <p:spPr>
          <a:xfrm>
            <a:off x="4924440" y="1730520"/>
            <a:ext cx="171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ПОЖАРНЫЙ - ЭТО ЧЕЛОВЕК, КОТОРЫЙ СПАСАЕТ ЛЮДЕЙ ИЗ ОГНЯ И ТУШИТ ПОЖАРЫ.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Picture 2" descr="C:\Users\Пользователь\Desktop\42702.jpg"/>
          <p:cNvPicPr/>
          <p:nvPr/>
        </p:nvPicPr>
        <p:blipFill>
          <a:blip r:embed="rId1"/>
          <a:stretch/>
        </p:blipFill>
        <p:spPr>
          <a:xfrm>
            <a:off x="115920" y="3564000"/>
            <a:ext cx="6626160" cy="496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45036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ГОНЧАР – ЭТО МАСТЕР ПО ПРОИЗВОДСТВУ ГЛИНЯНОЙ ПОСУДЫ.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1" name="Picture 3" descr="C:\Users\Пользователь\Desktop\gonchar2.jpg"/>
          <p:cNvPicPr/>
          <p:nvPr/>
        </p:nvPicPr>
        <p:blipFill>
          <a:blip r:embed="rId1"/>
          <a:stretch/>
        </p:blipFill>
        <p:spPr>
          <a:xfrm>
            <a:off x="476280" y="3924360"/>
            <a:ext cx="5923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75920" y="684000"/>
            <a:ext cx="6172200" cy="16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КОНДИТЕР – ЭТО ПОВАР, СОЗДАЮЩИЙ КОНДИТЕРСКИЕ ИЗДЕЛИЯ И ДЕСЕРТЫ.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53" name="Picture 3" descr="C:\Users\Пользователь\Desktop\Iv2vgYwBM0WCUpFMdEPQbEp3Fod3RRdb9YXaOPOaшефКандицер.jpg"/>
          <p:cNvPicPr/>
          <p:nvPr/>
        </p:nvPicPr>
        <p:blipFill>
          <a:blip r:embed="rId1"/>
          <a:stretch/>
        </p:blipFill>
        <p:spPr>
          <a:xfrm>
            <a:off x="333360" y="3795840"/>
            <a:ext cx="6335640" cy="4519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14:01:32Z</dcterms:created>
  <dc:creator>novozhilova</dc:creator>
  <dc:description/>
  <dc:language>en-US</dc:language>
  <cp:lastModifiedBy>ШК489</cp:lastModifiedBy>
  <dcterms:modified xsi:type="dcterms:W3CDTF">2018-12-24T15:33:14Z</dcterms:modified>
  <cp:revision>89</cp:revision>
  <dc:subject/>
  <dc:title>Слайд 1</dc:title>
</cp:coreProperties>
</file>