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6858000" cy="9144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124-220F-4368-AEB0-FFAB41B6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5031-0B95-4A93-83E6-55275A49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6F1F-6F41-44FF-9691-1AE1A1A7D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42C-1605-457E-8B45-90EFEAFC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3CE2-617A-4695-AA9D-4B88793AD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2CED5-6DBC-4386-B5EA-D91CF810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72F1-2377-49AF-9C41-2DA99FFE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3FE7-42A7-434D-9CCB-780606E6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00FC5-4A02-4EA1-9B44-733876D7C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A49EE-4EF9-434E-8FA9-0139562B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AFF4-C3CE-4943-B9B9-E2ABE1AA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910C-F0C7-4F8B-AAA9-E512D6C8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C39D-111B-429B-9930-86692A2F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944B6-55F0-4E7C-BF27-DA3B2543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9B0E-1391-42DA-8351-D83C9A0B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E61B-B08F-4115-9A98-5B66E30C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6DBE-F33C-4D9A-96DB-286B3BC97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11391-7582-431A-8E05-D4BD11DD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58307-B24B-41C8-8426-2BFF0CF7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1B8ED-2A4D-4180-87F2-B964DD66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72473-439C-4418-9CC5-4415E967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E5D9B-D0E4-4062-9F48-813BE225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64B3-09AC-4457-92AA-33E9A438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EECD9-733B-4280-8B84-0DF5EBBB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C28F1-EE76-4755-934F-F06CBA28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16A6-89C3-4842-9B1F-C4F1944B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798A6-E0DC-4B24-B946-A52CA735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B3AE-8865-4170-B61D-7959E4A9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83888-D9EA-4AA9-AD23-D905A29EA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8C128-E50A-4D3A-8864-CD205110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9F955-CD00-41DE-AC67-DF32C0AA9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223CE-48C8-4D87-B350-38BA561A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6CF8-D5C8-4029-9148-365DC860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810-624A-4CD9-B26F-BBA6D8CD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EDA2-2037-4097-ABD3-3F74DAEED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AF7D5-76C0-46F0-83DB-FAA671FF9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2D1B5-644F-438E-9F72-6190AA99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65598-8083-438A-943E-CC2A56E1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4182F-B9EB-416D-973D-8015A96A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3AA9A-32E5-4C3A-A2BD-E8F748CA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B660F-E07A-480D-8203-2E23EE46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44AB0-06CD-4BB6-933B-3F870B54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FABEF-9DFD-4A3E-AE00-E80041646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DAF3E-CC14-48CB-8C45-923D3DD1F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356-A41A-43A4-8C96-48BCAB3AB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5FCA9-3316-41F8-A2B0-F8E45953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EDFAA-C1CA-465A-8A20-D503EFEE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EB823-CBD3-4FB9-A883-74C6F2C9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5504E-A110-471F-99B8-D4F11707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EFB90-7796-48EE-80C6-7FA8F6D3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655B4-80CE-4D9F-A8CF-3790EA78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8AB5B-D59D-4883-94AD-966B23DC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F0A45-7197-42DD-A0D4-8C474351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CE37BE-ABB6-4A2B-9BEA-7DE0B7AC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486EE-6609-479B-8DD6-9018C946E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7793-94EB-42EA-AD05-29843B39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7B3A0-054B-4129-8152-2FDD8B248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A68F0-8388-46B1-9821-7DA4BFCBB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3EB35-3E8A-4CD7-B62F-B745E21C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06E04-949C-4A62-8613-7DA3661D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F6A73-8CFA-40D3-8D14-1336C56A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2E3CF-8AC1-44C3-98F1-EBF5BF3E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3D4E2-5FEC-42C4-A17C-9DE25E10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C36071-E319-4A3C-BDD9-70AFE882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C121F-6C13-406C-A49D-D178921C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3744B-0F03-4646-AA77-BFFF86A3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B73-C972-47F6-AE60-5CBBCEE7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6F53E-1AFC-456B-921D-8B26EF6A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ACCC8-ACAE-48BF-9AF5-D57F6F4AC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CE65-B3BC-490C-83C6-88ED32AB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AEB75-E852-4750-963F-B0E1B9D6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CD924-9ACF-4C38-AB2F-121ADC63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175BA-9DE5-4E3E-A40F-AB8A2DF7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175FE-6CB1-45DD-A14D-453F5C013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765F1-D3D8-4DA3-8E6A-6FF54F22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B3C4C-4FB1-4419-A45E-E05602C2D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212C6-93FA-4DD3-9A22-E38A3067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AF16-0203-4B09-99DF-64E0F9E4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6A38A-8C0E-4571-BB04-068180A7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52A6C-1E26-4125-A1A1-385F9C4C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8CCF8-1A81-40D6-B3E1-687B430E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767E3-03D6-40CE-8648-334C7FBF5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8BBB7-BAFE-4D20-9E72-65C8C57B7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C29-5256-4920-8A12-67BC45CD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171360" y="304920"/>
            <a:ext cx="6521400" cy="3292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158760" y="2239920"/>
            <a:ext cx="6541920" cy="1771560"/>
            <a:chOff x="158760" y="2239920"/>
            <a:chExt cx="6541920" cy="1771560"/>
          </a:xfrm>
        </p:grpSpPr>
        <p:sp>
          <p:nvSpPr>
            <p:cNvPr id="2" name="Freeform 14"/>
            <p:cNvSpPr/>
            <p:nvPr/>
          </p:nvSpPr>
          <p:spPr>
            <a:xfrm>
              <a:off x="4535280" y="2432880"/>
              <a:ext cx="2157120" cy="9511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1964160" y="2261880"/>
              <a:ext cx="4158000" cy="11325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121480" y="2278440"/>
              <a:ext cx="4100760" cy="10314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4206960" y="2260440"/>
              <a:ext cx="2480760" cy="867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158760" y="2239920"/>
              <a:ext cx="6541920" cy="1771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3E61-3051-428C-BF9E-692C19685638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171360" y="304920"/>
            <a:ext cx="6521400" cy="8047080"/>
          </a:xfrm>
          <a:custGeom>
            <a:avLst/>
            <a:gdLst>
              <a:gd name="textAreaLeft" fmla="*/ 24120 w 6521400"/>
              <a:gd name="textAreaRight" fmla="*/ 6497280 w 6521400"/>
              <a:gd name="textAreaTop" fmla="*/ 24120 h 8047080"/>
              <a:gd name="textAreaBottom" fmla="*/ 8022960 h 8047080"/>
            </a:gdLst>
            <a:ahLst/>
            <a:rect l="textAreaLeft" t="textAreaTop" r="textAreaRight" b="textAreaBottom"/>
            <a:pathLst>
              <a:path w="21600" h="26653">
                <a:moveTo>
                  <a:pt x="275" y="0"/>
                </a:moveTo>
                <a:arcTo wR="275" hR="275" stAng="16200000" swAng="-5400000"/>
                <a:lnTo>
                  <a:pt x="0" y="26378"/>
                </a:lnTo>
                <a:arcTo wR="275" hR="275" stAng="10800000" swAng="-5400000"/>
                <a:lnTo>
                  <a:pt x="21325" y="26653"/>
                </a:lnTo>
                <a:arcTo wR="275" hR="275" stAng="5400000" swAng="-5400000"/>
                <a:lnTo>
                  <a:pt x="21600" y="275"/>
                </a:lnTo>
                <a:arcTo wR="275" hR="275" stAng="0" swAng="-5400000"/>
                <a:close/>
              </a:path>
            </a:pathLst>
          </a:cu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158760" y="7139160"/>
            <a:ext cx="6541920" cy="1774800"/>
            <a:chOff x="158760" y="7139160"/>
            <a:chExt cx="6541920" cy="1774800"/>
          </a:xfrm>
        </p:grpSpPr>
        <p:sp>
          <p:nvSpPr>
            <p:cNvPr id="50" name="Freeform 14"/>
            <p:cNvSpPr/>
            <p:nvPr/>
          </p:nvSpPr>
          <p:spPr>
            <a:xfrm>
              <a:off x="4540680" y="7332480"/>
              <a:ext cx="2160000" cy="9529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1966680" y="7161480"/>
              <a:ext cx="4163400" cy="11347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123640" y="7177680"/>
              <a:ext cx="4105800" cy="10332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4212000" y="7159680"/>
              <a:ext cx="2484000" cy="8694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158760" y="7139160"/>
              <a:ext cx="6541920" cy="1774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E65C-40A9-4AB8-81B1-2204E1E95D7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171360" y="304920"/>
            <a:ext cx="6521400" cy="63151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4535640" y="5605560"/>
            <a:ext cx="2157120" cy="95076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1963800" y="5433840"/>
            <a:ext cx="4159080" cy="113364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120760" y="5450040"/>
            <a:ext cx="4102200" cy="103176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4206960" y="5432400"/>
            <a:ext cx="2481120" cy="86832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158760" y="5411880"/>
            <a:ext cx="6541920" cy="177300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4C74-D4D3-446C-B95A-2C2666664A7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171360" y="304920"/>
            <a:ext cx="6521400" cy="19018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158760" y="952560"/>
            <a:ext cx="6541920" cy="1773000"/>
            <a:chOff x="158760" y="952560"/>
            <a:chExt cx="6541920" cy="1773000"/>
          </a:xfrm>
        </p:grpSpPr>
        <p:sp>
          <p:nvSpPr>
            <p:cNvPr id="145" name="Freeform 14"/>
            <p:cNvSpPr/>
            <p:nvPr/>
          </p:nvSpPr>
          <p:spPr>
            <a:xfrm>
              <a:off x="4535280" y="1145880"/>
              <a:ext cx="2157120" cy="951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1964160" y="974520"/>
              <a:ext cx="4158000" cy="11336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121480" y="991080"/>
              <a:ext cx="4100760" cy="10321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4206960" y="973080"/>
              <a:ext cx="2480760" cy="868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158760" y="952560"/>
              <a:ext cx="6541920" cy="1773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C3A0-B986-44DF-9DAC-527C152A8EC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171360" y="304920"/>
            <a:ext cx="6521400" cy="19018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158760" y="952560"/>
            <a:ext cx="6541920" cy="1774800"/>
            <a:chOff x="158760" y="952560"/>
            <a:chExt cx="6541920" cy="1774800"/>
          </a:xfrm>
        </p:grpSpPr>
        <p:sp>
          <p:nvSpPr>
            <p:cNvPr id="193" name="Freeform 14"/>
            <p:cNvSpPr/>
            <p:nvPr/>
          </p:nvSpPr>
          <p:spPr>
            <a:xfrm>
              <a:off x="4540680" y="1145880"/>
              <a:ext cx="2160000" cy="9529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1966680" y="974880"/>
              <a:ext cx="4163400" cy="11347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123640" y="991080"/>
              <a:ext cx="4105800" cy="10332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4212000" y="973080"/>
              <a:ext cx="2484000" cy="8694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158760" y="952560"/>
              <a:ext cx="6541920" cy="1774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11C5-E9CD-4AE4-9AAC-D306ED0B8F3E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171360" y="304920"/>
            <a:ext cx="6521400" cy="8047080"/>
          </a:xfrm>
          <a:custGeom>
            <a:avLst/>
            <a:gdLst>
              <a:gd name="textAreaLeft" fmla="*/ 24120 w 6521400"/>
              <a:gd name="textAreaRight" fmla="*/ 6497280 w 6521400"/>
              <a:gd name="textAreaTop" fmla="*/ 24120 h 8047080"/>
              <a:gd name="textAreaBottom" fmla="*/ 8022960 h 8047080"/>
            </a:gdLst>
            <a:ahLst/>
            <a:rect l="textAreaLeft" t="textAreaTop" r="textAreaRight" b="textAreaBottom"/>
            <a:pathLst>
              <a:path w="21600" h="26653">
                <a:moveTo>
                  <a:pt x="275" y="0"/>
                </a:moveTo>
                <a:arcTo wR="275" hR="275" stAng="16200000" swAng="-5400000"/>
                <a:lnTo>
                  <a:pt x="0" y="26378"/>
                </a:lnTo>
                <a:arcTo wR="275" hR="275" stAng="10800000" swAng="-5400000"/>
                <a:lnTo>
                  <a:pt x="21325" y="26653"/>
                </a:lnTo>
                <a:arcTo wR="275" hR="275" stAng="5400000" swAng="-5400000"/>
                <a:lnTo>
                  <a:pt x="21600" y="275"/>
                </a:lnTo>
                <a:arcTo wR="275" hR="275" stAng="0" swAng="-5400000"/>
                <a:close/>
              </a:path>
            </a:pathLst>
          </a:cu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158760" y="7139160"/>
            <a:ext cx="6541920" cy="1774800"/>
            <a:chOff x="158760" y="7139160"/>
            <a:chExt cx="6541920" cy="1774800"/>
          </a:xfrm>
        </p:grpSpPr>
        <p:sp>
          <p:nvSpPr>
            <p:cNvPr id="241" name="Freeform 14"/>
            <p:cNvSpPr/>
            <p:nvPr/>
          </p:nvSpPr>
          <p:spPr>
            <a:xfrm>
              <a:off x="4540680" y="7332480"/>
              <a:ext cx="2160000" cy="9529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1966680" y="7161480"/>
              <a:ext cx="4163400" cy="11347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123640" y="7177680"/>
              <a:ext cx="4105800" cy="10332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4212000" y="7159680"/>
              <a:ext cx="2484000" cy="8694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158760" y="7139160"/>
              <a:ext cx="6541920" cy="1774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077C-F973-4F19-937B-F23822A27ED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171360" y="304920"/>
            <a:ext cx="6521400" cy="19018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158760" y="952560"/>
            <a:ext cx="6541920" cy="1774800"/>
            <a:chOff x="158760" y="952560"/>
            <a:chExt cx="6541920" cy="1774800"/>
          </a:xfrm>
        </p:grpSpPr>
        <p:sp>
          <p:nvSpPr>
            <p:cNvPr id="289" name="Freeform 14"/>
            <p:cNvSpPr/>
            <p:nvPr/>
          </p:nvSpPr>
          <p:spPr>
            <a:xfrm>
              <a:off x="4540680" y="1145880"/>
              <a:ext cx="2160000" cy="9529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1966680" y="974880"/>
              <a:ext cx="4163400" cy="11347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123640" y="991080"/>
              <a:ext cx="4105800" cy="10332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4212000" y="973080"/>
              <a:ext cx="2484000" cy="8694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158760" y="952560"/>
              <a:ext cx="6541920" cy="1774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4E04-A1AF-4A73-9FBF-4CA645D50D9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04640" y="3203640"/>
            <a:ext cx="56167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ФЕССИИ БЫВАЮТ РАЗНЫЕ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1. ПРОДАВЕЦ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ndara"/>
              </a:rPr>
              <a:t>2. ВРАЧ 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ndara"/>
              </a:rPr>
              <a:t>3. ПОВА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ndara"/>
              </a:rPr>
              <a:t>4. СТРОИТЕЛ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5. ПЧЕЛОВОД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6. ШВЕ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3360" y="395280"/>
            <a:ext cx="61819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АЛЕХИНА ДАРЬ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КАКИЕ БЫВАЮТ ПРОФЕСС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ОЛИЦЕЙСКИЙ - ЭТОТ ЧЕЛОВЕК СЛЕДИТ ЗА ПОРЯДКОМ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2" descr="C:\Users\Пользователь\Desktop\76562.jpg"/>
          <p:cNvPicPr/>
          <p:nvPr/>
        </p:nvPicPr>
        <p:blipFill>
          <a:blip r:embed="rId1"/>
          <a:stretch/>
        </p:blipFill>
        <p:spPr>
          <a:xfrm>
            <a:off x="333360" y="3708360"/>
            <a:ext cx="619128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АРИКМАХЕР -  СТРИЖЁТ И УКЛАДЫВАЕТ ВОЛОСЫ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2" descr="C:\Users\Пользователь\Desktop\парикмахер_женщина.jpg"/>
          <p:cNvPicPr/>
          <p:nvPr/>
        </p:nvPicPr>
        <p:blipFill>
          <a:blip r:embed="rId1"/>
          <a:stretch/>
        </p:blipFill>
        <p:spPr>
          <a:xfrm>
            <a:off x="189000" y="4140360"/>
            <a:ext cx="64087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КАПИТАН – ЭТОТ ЧЕЛОВЕК  УПРАВЛЯЕТ КОРАБЛЁМ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C:\Users\Пользователь\Desktop\bd88df6d7a58450d39fc2a5395dd5bd3.jpg"/>
          <p:cNvPicPr/>
          <p:nvPr/>
        </p:nvPicPr>
        <p:blipFill>
          <a:blip r:embed="rId1"/>
          <a:stretch/>
        </p:blipFill>
        <p:spPr>
          <a:xfrm>
            <a:off x="333360" y="3013200"/>
            <a:ext cx="6264360" cy="486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ВОРНИК - УБИРАЕТ ДВОР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2" descr="C:\Users\Пользователь\Desktop\9712.jpg"/>
          <p:cNvPicPr/>
          <p:nvPr/>
        </p:nvPicPr>
        <p:blipFill>
          <a:blip r:embed="rId1"/>
          <a:stretch/>
        </p:blipFill>
        <p:spPr>
          <a:xfrm>
            <a:off x="836640" y="3780000"/>
            <a:ext cx="525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ПАСИБО ЗА ВНИМАНИЕ!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53760" y="3566880"/>
            <a:ext cx="558324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ПИШЕТ КНИГИ?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ИСАТЕЛ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УЧИТ ДЕТЕЙ В ШКОЛЕ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УЧИТЕЛ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ЛЕЧИТ ЛЮДЕЙ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РАЧ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ИГРАЕТ РОЛЬ В ТЕАТРЕ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АКТЁР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ИЗУЧАЕТ ПРИРОДУ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ИОЛОГ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ВОДИТ САМОЛЁТ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ИЛОТ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  <a:ea typeface="Arial"/>
              </a:rPr>
              <a:t>ВОПРО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ТРОИТЕЛЬ - СТРОИТ ДОМ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Picture 4" descr="C:\Users\Пользователь\Desktop\trud-trust.jpg"/>
          <p:cNvPicPr/>
          <p:nvPr/>
        </p:nvPicPr>
        <p:blipFill>
          <a:blip r:embed="rId1"/>
          <a:stretch/>
        </p:blipFill>
        <p:spPr>
          <a:xfrm>
            <a:off x="620640" y="4356000"/>
            <a:ext cx="5875560" cy="366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4"/>
          <p:cNvSpPr/>
          <p:nvPr/>
        </p:nvSpPr>
        <p:spPr>
          <a:xfrm>
            <a:off x="404640" y="612720"/>
            <a:ext cx="61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7f7f"/>
                </a:solidFill>
                <a:latin typeface="Arial"/>
              </a:rPr>
              <a:t>ПЧЕЛОВОД -</a:t>
            </a:r>
            <a:br>
              <a:rPr sz="4000"/>
            </a:br>
            <a:r>
              <a:rPr b="0" lang="ru-RU" sz="4000" spc="-1" strike="noStrike">
                <a:solidFill>
                  <a:srgbClr val="7f7f7f"/>
                </a:solidFill>
                <a:latin typeface="Arial"/>
              </a:rPr>
              <a:t>ЭТОТ ЧЕЛОВЕК РАЗВОДИТ ПЧЁ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2" descr="C:\Users\Пользователь\Desktop\2935157.jpg"/>
          <p:cNvPicPr/>
          <p:nvPr/>
        </p:nvPicPr>
        <p:blipFill>
          <a:blip r:embed="rId1"/>
          <a:stretch/>
        </p:blipFill>
        <p:spPr>
          <a:xfrm>
            <a:off x="549360" y="3132000"/>
            <a:ext cx="612144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025280" y="610920"/>
            <a:ext cx="5283000" cy="16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РАЧ - ЛЕЧИТ ЛЮДЕЙ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4" descr="C:\Users\Пользователь\Desktop\kisspng-physician-nursing-health-care-hospital-the-doctor-5ac54ae63ecee8.5623774515228792062573.jpg"/>
          <p:cNvPicPr/>
          <p:nvPr/>
        </p:nvPicPr>
        <p:blipFill>
          <a:blip r:embed="rId1"/>
          <a:stretch/>
        </p:blipFill>
        <p:spPr>
          <a:xfrm>
            <a:off x="836640" y="2484360"/>
            <a:ext cx="5329080" cy="626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1440" y="42840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ПОВАР – ГОТОВИТ ЕДУ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3" descr="C:\Users\Пользователь\Desktop\chef_PNG76.png"/>
          <p:cNvPicPr/>
          <p:nvPr/>
        </p:nvPicPr>
        <p:blipFill>
          <a:blip r:embed="rId1"/>
          <a:stretch/>
        </p:blipFill>
        <p:spPr>
          <a:xfrm>
            <a:off x="260280" y="3635280"/>
            <a:ext cx="6375600" cy="446580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"/>
          <p:cNvSpPr/>
          <p:nvPr/>
        </p:nvSpPr>
        <p:spPr>
          <a:xfrm>
            <a:off x="4924440" y="173052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ЖАРНЫЙ - ЭТО ЧЕЛОВЕК, КОТОРЫЙ СПАСАЕТ ЛЮДЕЙ ИЗ ОГНЯ И ТУШИТ ПОЖАРЫ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2" descr="C:\Users\Пользователь\Desktop\42702.jpg"/>
          <p:cNvPicPr/>
          <p:nvPr/>
        </p:nvPicPr>
        <p:blipFill>
          <a:blip r:embed="rId1"/>
          <a:stretch/>
        </p:blipFill>
        <p:spPr>
          <a:xfrm>
            <a:off x="115920" y="3564000"/>
            <a:ext cx="662616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ГОНЧАР – ЭТО МАСТЕР ПО ПРОИЗВОДСТВУ ГЛИНЯНОЙ ПОСУДЫ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Picture 3" descr="C:\Users\Пользователь\Desktop\gonchar2.jpg"/>
          <p:cNvPicPr/>
          <p:nvPr/>
        </p:nvPicPr>
        <p:blipFill>
          <a:blip r:embed="rId1"/>
          <a:stretch/>
        </p:blipFill>
        <p:spPr>
          <a:xfrm>
            <a:off x="476280" y="3924360"/>
            <a:ext cx="592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75920" y="68400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ОНДИТЕР – ЭТО ПОВАР, СОЗДАЮЩИЙ КОНДИТЕРСКИЕ ИЗДЕЛИЯ И ДЕСЕРТЫ.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3" descr="C:\Users\Пользователь\Desktop\Iv2vgYwBM0WCUpFMdEPQbEp3Fod3RRdb9YXaOPOaшефКандицер.jpg"/>
          <p:cNvPicPr/>
          <p:nvPr/>
        </p:nvPicPr>
        <p:blipFill>
          <a:blip r:embed="rId1"/>
          <a:stretch/>
        </p:blipFill>
        <p:spPr>
          <a:xfrm>
            <a:off x="333360" y="3795840"/>
            <a:ext cx="6335640" cy="4519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01:32Z</dcterms:created>
  <dc:creator>novozhilova</dc:creator>
  <dc:description/>
  <dc:language>en-US</dc:language>
  <cp:lastModifiedBy>ШК489</cp:lastModifiedBy>
  <dcterms:modified xsi:type="dcterms:W3CDTF">2018-12-24T15:33:14Z</dcterms:modified>
  <cp:revision>89</cp:revision>
  <dc:subject/>
  <dc:title>Слайд 1</dc:title>
</cp:coreProperties>
</file>