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0.png" ContentType="image/png"/>
  <Override PartName="/ppt/media/image6.jpeg" ContentType="image/jpeg"/>
  <Override PartName="/ppt/media/image7.png" ContentType="image/png"/>
  <Override PartName="/ppt/media/image22.jpeg" ContentType="image/jpeg"/>
  <Override PartName="/ppt/media/image11.jpeg" ContentType="image/jpeg"/>
  <Override PartName="/ppt/media/image9.jpeg" ContentType="image/jpeg"/>
  <Override PartName="/ppt/media/image5.jpeg" ContentType="image/jpeg"/>
  <Override PartName="/ppt/media/image13.jpeg" ContentType="image/jpeg"/>
  <Override PartName="/ppt/media/image8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17.jpeg" ContentType="image/jpeg"/>
  <Override PartName="/ppt/media/image3.png" ContentType="image/png"/>
  <Override PartName="/ppt/media/image4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488A0-29BC-492F-A4A9-E8CFF7A5E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27FAE-9F2A-4CEF-B99D-413C9810B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87B46-FB75-4E41-B497-1AC37D21F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DADBC-2116-494F-9BDB-770190285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A744D-9129-4CE2-86FD-8A92B07BD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B8B83-72D6-48B5-A801-DCE1CAF6D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3F13E-51B1-4482-8E89-0C62F8C76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45416-B9D6-4B37-8298-4F92EBEAA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03CB2-4D77-489C-BD3F-50F86EDE7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9A145-EC2A-404C-B2C9-144E5A891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125ED-1D22-4CD7-A394-DA81C2540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06499-E275-4A86-BD2F-B024B22F7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AC4F9-2FA6-4B17-B0DB-07A7D3DC4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0A0A8-D212-44B0-911E-E7F06127B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FD270-9FC1-4B56-B093-9574C7AD4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29F32-58D0-40C9-B51C-982B1FE67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9FAEB-2722-4DFF-9F07-19E3DD924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66BC03-B931-42CD-994F-ADD688FF1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A98C1F-D59E-4F72-8C61-42A17F885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EEB067-919C-4469-8BF9-3C787D2B9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6A2706-0166-425D-BE00-E0B0D2186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D3D027-8224-4323-ADFD-C44071000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B97A6-0A1D-4C9F-A34D-92797EA6F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8990B1-A774-4CEB-8924-6ACC203DE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691D7B-6C7A-45B5-93F3-52960D713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654CCA-818A-4ED9-BDB3-98F731996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B4F114-9611-4A07-A5EC-EDBF2AA58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E772C3-1DB3-4864-AAB9-E6006B7B7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DC6956-0C30-473F-BFE8-B441EA328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64834A-8FDB-4B85-A91F-20D4D1A42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6214FC-2A4A-49EA-8D76-382195C20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C2E165-F37B-43AF-A432-9B69712AE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9B0E6B-2250-4E01-B841-C8AF3999D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BC7F3-2D5D-4271-9CDF-12CEE8483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00D505-C8C1-47D5-A49C-D7345E73A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7EBA3E-E667-4D63-A662-12EB7DBD9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3D8F3F-7ADB-4171-9D2B-25A466766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8D3685-327A-442D-AAA5-7A2D215A3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9F8FA5-330D-4153-8B78-90C4FF8B9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375D2A-6A18-4005-B22C-5C0F7712A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9AA576-B0EF-4D79-A491-6A0625991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5ADA70-2BC7-49B7-8FF4-3435E9575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BFD48C-127F-4D4F-A71F-0B04DBBAA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9C08BC-6998-47BB-9C24-25B3B2BA8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AC3E8-000B-4B44-8699-286FAFE69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FC03AC-D5C5-4C6A-961E-463FCFBAD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E2FCD0-85F9-4BB1-AF0C-12677B854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18BC5C-FD97-4F8F-B906-9A86B0ECA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4AB995-FB67-4F6A-A6B3-C880B38FA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7C0D1D-92B5-4AF1-900D-0BB188BB9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1CEAF3-5B27-4628-93F6-7735D44EF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3F04C3-27BF-4418-99BB-AC24A9ED9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859200-C427-4ADC-8C76-8BFBCC83D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BBE1C9-B209-4EE0-A20B-02B52097B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CE5FE5-6C44-4E11-8875-2A92A9853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EC4EC-3D22-472C-BF20-7DE05056C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FC6585-177D-4A22-BC6F-596C17D1E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2918E4-7020-44C8-BF0A-35CB4FCC7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8F0B66-3CD5-44A5-AE27-3DED6E2F7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A77E59-E528-4A3A-9B9C-9B934AAB7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112658-E117-4D0C-ABEE-FAC2602CD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60D6A7-E123-4B03-ABAA-234A40559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8AD232-4211-4085-9E75-BDEFABAC6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8FB2F0-CD35-437C-B699-DE7AEF5AA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00058A-00C0-493C-963B-36663B3F3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9FCB99-9FFA-4EDB-90DA-BE0AF3A41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43A44-9D2B-4FC1-9562-8C0BE4199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CEA881-2209-46F8-B04F-26420A367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FCA2B2-66C0-43F9-88EF-1A008835F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98A818-59C5-47B1-BCCE-AA435AB91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341E33-AB8B-4F46-B93A-1CD1C3775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A46738-4573-4D3C-BB55-94D1E2C5E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B5311D-BA83-4AE4-B949-C53562C1D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98B869-5D41-40EA-B6BE-CFF81B331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EDB453-2858-4CD8-A8C0-1E27974A6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C29F16-C257-4D1B-91F7-3B9FD08C3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BEED73-2DE0-4B52-98E0-326974406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FE222-0054-4B75-AA92-D326FF3F2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AB1EA9-9678-4ECE-AAA7-E4637B345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1A68FE-1012-406B-8561-C0F608DE5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FBA199-B498-4C5F-990B-4AA441B34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51FA90-F8F7-42EF-A59F-CA3E27882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4DD0D2-4231-473C-9391-F6780434B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3318E2-7C88-4A4E-AB55-AB07C6FDF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40C93B-6BE6-42A5-AC17-FD856B422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964DBF-56B8-476B-A2C6-419612FE4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A1BAEF-AA38-4A7E-9F75-76B93EA64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1241A4-FCE3-437F-B338-E725581BC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26E7F-9275-49FE-BE43-D17FF4330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FCE4C1-FD0F-44C7-986C-FE4A74A56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3347F1-9301-41E3-9897-14E7756CD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D2AB0B-CB30-45C0-82EF-2CB7348DD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3EBAE5-C4D3-4793-A8B2-1FEC77F8F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AB3A10-EE19-4DE9-90A9-68F1D39F3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B8243B-618F-4866-BC48-8DD6E9556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7F2DDA-9C17-4285-A726-1D0B05929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62EAE-3B68-4692-8C1B-F24651435F7F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16"/>
            <p:cNvSpPr/>
            <p:nvPr/>
          </p:nvSpPr>
          <p:spPr>
            <a:xfrm>
              <a:off x="1693440" y="4952880"/>
              <a:ext cx="7444440" cy="48600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5360" y="5236200"/>
              <a:ext cx="9092880" cy="78660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6600"/>
                <a:gd name="textAreaBottom" fmla="*/ 786960 h 7866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1" name="Полилиния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Полилиния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pic>
          <p:nvPicPr>
            <p:cNvPr id="54" name="Прямая соединительная линия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B6DF9-36F4-44E3-AFC3-BD531E01AD38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Нашивка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05D22-BCEB-4F29-B1AF-C6E450E1E8E1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50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CB5DE-1C9E-4D22-9E4B-A67E84FCC99A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D0B6C-9667-4274-9A32-EE7B87E69022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35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238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A3611-E591-46FF-AFD5-E1D0DCEF1E20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19B99-B25B-465A-A8B2-728FC339219E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олилиния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Полилиния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23" name="Прямоугольный треугольник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Прямоугольный треугольник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326" name="Прямая соединительная линия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Нашивка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8" name="Нашивка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E6E24-73E6-4576-A175-D87610B5FA3C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0.pn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Rectangle 2" descr=""/>
          <p:cNvPicPr/>
          <p:nvPr/>
        </p:nvPicPr>
        <p:blipFill>
          <a:blip r:embed="rId1"/>
          <a:stretch/>
        </p:blipFill>
        <p:spPr>
          <a:xfrm>
            <a:off x="682560" y="195120"/>
            <a:ext cx="7785000" cy="15480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1447920" y="1676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64646"/>
                </a:solidFill>
                <a:latin typeface="Arial"/>
                <a:ea typeface="Arial"/>
              </a:rPr>
              <a:t>Борис Иванович Тищенко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64646"/>
                </a:solidFill>
                <a:latin typeface="Arial"/>
                <a:ea typeface="Arial"/>
              </a:rPr>
              <a:t>(1939 – 2010)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2" name="Picture 5" descr="01vfewofhe_5_1"/>
          <p:cNvPicPr/>
          <p:nvPr/>
        </p:nvPicPr>
        <p:blipFill>
          <a:blip r:embed="rId2"/>
          <a:stretch/>
        </p:blipFill>
        <p:spPr>
          <a:xfrm>
            <a:off x="2057400" y="3048120"/>
            <a:ext cx="5595840" cy="3581280"/>
          </a:xfrm>
          <a:prstGeom prst="rect">
            <a:avLst/>
          </a:prstGeom>
          <a:ln w="0">
            <a:noFill/>
          </a:ln>
        </p:spPr>
      </p:pic>
    </p:spTree>
  </p:cSld>
  <p:transition>
    <p:cut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Picture 4" descr="http://fmtin.ru/uploads/thumbs/c/6/e/c6e4ab9db41ef15594beb3e62442412f.jpg"/>
          <p:cNvPicPr/>
          <p:nvPr/>
        </p:nvPicPr>
        <p:blipFill>
          <a:blip r:embed="rId1"/>
          <a:stretch/>
        </p:blipFill>
        <p:spPr>
          <a:xfrm>
            <a:off x="380880" y="1371600"/>
            <a:ext cx="5791320" cy="433872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2" descr="http://www.stihi.ru/pics/2010/10/17/5331.jpg"/>
          <p:cNvPicPr/>
          <p:nvPr/>
        </p:nvPicPr>
        <p:blipFill>
          <a:blip r:embed="rId2"/>
          <a:stretch/>
        </p:blipFill>
        <p:spPr>
          <a:xfrm>
            <a:off x="4572000" y="3657600"/>
            <a:ext cx="3962520" cy="2890800"/>
          </a:xfrm>
          <a:prstGeom prst="rect">
            <a:avLst/>
          </a:prstGeom>
          <a:ln w="0">
            <a:noFill/>
          </a:ln>
        </p:spPr>
      </p:pic>
      <p:sp>
        <p:nvSpPr>
          <p:cNvPr id="395" name="TextBox 4"/>
          <p:cNvSpPr/>
          <p:nvPr/>
        </p:nvSpPr>
        <p:spPr>
          <a:xfrm>
            <a:off x="990720" y="53352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Плач Ярославны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96" name="плач ярославна.mp3" descr=""/>
          <p:cNvPicPr/>
          <p:nvPr/>
        </p:nvPicPr>
        <p:blipFill>
          <a:blip r:embed="rId3"/>
          <a:stretch/>
        </p:blipFill>
        <p:spPr>
          <a:xfrm>
            <a:off x="6781680" y="990720"/>
            <a:ext cx="762120" cy="76176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  <p:timing>
    <p:tnLst>
      <p:par>
        <p:cTn id="31" dur="indefinite" restart="never" nodeType="tmRoot">
          <p:childTnLst>
            <p:seq>
              <p:cTn id="32" restart="whenNotActive" nodeType="interactiveSeq" fill="hold">
                <p:stCondLst>
                  <p:cond evt="onClick">
                    <p:tgtEl>
                      <p:spTgt spid="396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396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82704" fill="hold"/>
                                        <p:tgtEl>
                                          <p:spTgt spid="3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1"/>
          <p:cNvSpPr/>
          <p:nvPr/>
        </p:nvSpPr>
        <p:spPr>
          <a:xfrm>
            <a:off x="380880" y="860760"/>
            <a:ext cx="8305920" cy="4848840"/>
          </a:xfrm>
          <a:prstGeom prst="rect">
            <a:avLst/>
          </a:prstGeom>
          <a:solidFill>
            <a:srgbClr val="ffffff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 сцене сочетаются и интонации похоронных плачей, и попевки свадебных причетов, и звуковые обороты знаменного распева и русских лирических песен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Заунывность музыки «Плача» словно бесконечно длит то эмоциональное состояние, в котором пребывает главная героиня балет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 музыке «Плача Ярославны» выражено мировосприятие и мироощущение русского народа: плач поётся, и поётся не для смерти, а для жизни. В финале балета оплакивание умерших переосмысливается и смыкается со славлением. Плач как прославление вполне соответствует поэтике самого «Слова о полку Игореве»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Picture 2" descr="http://s019.radikal.ru/i611/1509/4e/e76552bdde8a.jpg"/>
          <p:cNvPicPr/>
          <p:nvPr/>
        </p:nvPicPr>
        <p:blipFill>
          <a:blip r:embed="rId1"/>
          <a:stretch/>
        </p:blipFill>
        <p:spPr>
          <a:xfrm>
            <a:off x="4572000" y="1600200"/>
            <a:ext cx="4152960" cy="4762440"/>
          </a:xfrm>
          <a:prstGeom prst="rect">
            <a:avLst/>
          </a:prstGeom>
          <a:ln w="0">
            <a:noFill/>
          </a:ln>
        </p:spPr>
      </p:pic>
      <p:sp>
        <p:nvSpPr>
          <p:cNvPr id="399" name="TextBox 2"/>
          <p:cNvSpPr/>
          <p:nvPr/>
        </p:nvSpPr>
        <p:spPr>
          <a:xfrm>
            <a:off x="990720" y="53352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Молитва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0" name="Picture 4" descr="http://img0.liveinternet.ru/images/attach/c/8/99/959/99959708_molitva.jpg"/>
          <p:cNvPicPr/>
          <p:nvPr/>
        </p:nvPicPr>
        <p:blipFill>
          <a:blip r:embed="rId2"/>
          <a:stretch/>
        </p:blipFill>
        <p:spPr>
          <a:xfrm>
            <a:off x="457200" y="2133720"/>
            <a:ext cx="3556080" cy="2971800"/>
          </a:xfrm>
          <a:prstGeom prst="rect">
            <a:avLst/>
          </a:prstGeom>
          <a:ln w="0">
            <a:noFill/>
          </a:ln>
        </p:spPr>
      </p:pic>
      <p:pic>
        <p:nvPicPr>
          <p:cNvPr id="401" name="молитва.mp3" descr=""/>
          <p:cNvPicPr/>
          <p:nvPr/>
        </p:nvPicPr>
        <p:blipFill>
          <a:blip r:embed="rId3"/>
          <a:stretch/>
        </p:blipFill>
        <p:spPr>
          <a:xfrm>
            <a:off x="1828800" y="53352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37" dur="indefinite" restart="never" nodeType="tmRoot">
          <p:childTnLst>
            <p:seq>
              <p:cTn id="38" restart="whenNotActive" nodeType="interactiveSeq" fill="hold">
                <p:stCondLst>
                  <p:cond evt="onClick">
                    <p:tgtEl>
                      <p:spTgt spid="401"/>
                    </p:tgtEl>
                  </p:cond>
                </p:stCondLst>
                <p:childTnLst>
                  <p:par>
                    <p:cTn id="39" fill="hold">
                      <p:stCondLst>
                        <p:cond evt="onClick">
                          <p:tgtEl>
                            <p:spTgt spid="401"/>
                          </p:tgtEl>
                        </p:cond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117799" fill="hold"/>
                                        <p:tgtEl>
                                          <p:spTgt spid="4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1"/>
          <p:cNvSpPr/>
          <p:nvPr/>
        </p:nvSpPr>
        <p:spPr>
          <a:xfrm>
            <a:off x="304920" y="1758960"/>
            <a:ext cx="8610480" cy="2654280"/>
          </a:xfrm>
          <a:prstGeom prst="rect">
            <a:avLst/>
          </a:prstGeom>
          <a:solidFill>
            <a:srgbClr val="ffffff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держанный мотив с повторением одних и тех же слов («Господи Боже, помилуй мя!») звучит скорбно, имеет трагическую окраску. Но, несмотря на мрачный и суровый колорит, молитвенное звучание хора подводит слушателей к пониманию основной идеи произведени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- стремление русского народа к единению, к борьбе за веру, к победе над врагам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2" descr="C:\Users\admin\Desktop\уроки\учебник\Screenshot_28.jpg"/>
          <p:cNvPicPr/>
          <p:nvPr/>
        </p:nvPicPr>
        <p:blipFill>
          <a:blip r:embed="rId1"/>
          <a:stretch/>
        </p:blipFill>
        <p:spPr>
          <a:xfrm>
            <a:off x="228600" y="152280"/>
            <a:ext cx="5694480" cy="384984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3" descr="C:\Users\admin\Desktop\уроки\учебник\Screenshot_29.jpg"/>
          <p:cNvPicPr/>
          <p:nvPr/>
        </p:nvPicPr>
        <p:blipFill>
          <a:blip r:embed="rId2"/>
          <a:stretch/>
        </p:blipFill>
        <p:spPr>
          <a:xfrm>
            <a:off x="3352680" y="3352680"/>
            <a:ext cx="5359680" cy="33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TextBox 5"/>
          <p:cNvSpPr/>
          <p:nvPr/>
        </p:nvSpPr>
        <p:spPr>
          <a:xfrm>
            <a:off x="250920" y="476280"/>
            <a:ext cx="8569080" cy="4786560"/>
          </a:xfrm>
          <a:prstGeom prst="rect">
            <a:avLst/>
          </a:prstGeom>
          <a:gradFill rotWithShape="0">
            <a:gsLst>
              <a:gs pos="0">
                <a:srgbClr val="95d4ee"/>
              </a:gs>
              <a:gs pos="100000">
                <a:srgbClr val="d6f3ff"/>
              </a:gs>
            </a:gsLst>
            <a:lin ang="16200000"/>
          </a:gradFill>
          <a:ln w="9360">
            <a:solidFill>
              <a:srgbClr val="2da2bf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работала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расова Н.Н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музыки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ОУ лицей №21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род Иваново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нная литература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бник по музыке 7 класс, Г.П.Сергеева, Е.Д.Критская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урочные разработки по музыке 7 класс, Г.П.Сергеева, Е.Д.Критская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1"/>
          <p:cNvSpPr/>
          <p:nvPr/>
        </p:nvSpPr>
        <p:spPr>
          <a:xfrm>
            <a:off x="228600" y="697320"/>
            <a:ext cx="8686800" cy="5580360"/>
          </a:xfrm>
          <a:prstGeom prst="rect">
            <a:avLst/>
          </a:prstGeom>
          <a:solidFill>
            <a:srgbClr val="ffffff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удьба Ярославны, жены Игоря, отразила нечто большее, чем судьба одной русской женщины. Ярославна - живой символ Русской земли, которая незримо присутствует с князем на чужбине, укрепляя в нём решимость любой ценой вырваться из плена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браз Ярославны, главной героини балета, выступающей в окружении женского хора, подчёркивает лирическую направленность образного строя спектакля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Композитор прочувствовал лирическую стихию литературы до монгольской Руси, «лиризм гражданственный, высокий, сочетавшийся с патриотическим пафосом, с эпическими темами, с размышлениями об исторических судьбах Русской земли»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Балет проникнут болью и гордостью за русский народ, мужественно боровшийся с врагам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Picture 2" descr="http://dancelib.ru/baletenc/item/f00/s01/e0001595/pic/000002.jpg"/>
          <p:cNvPicPr/>
          <p:nvPr/>
        </p:nvPicPr>
        <p:blipFill>
          <a:blip r:embed="rId1"/>
          <a:stretch/>
        </p:blipFill>
        <p:spPr>
          <a:xfrm>
            <a:off x="1066680" y="1676520"/>
            <a:ext cx="7069320" cy="4390920"/>
          </a:xfrm>
          <a:prstGeom prst="rect">
            <a:avLst/>
          </a:prstGeom>
          <a:ln w="0">
            <a:noFill/>
          </a:ln>
        </p:spPr>
      </p:pic>
      <p:sp>
        <p:nvSpPr>
          <p:cNvPr id="375" name="TextBox 2"/>
          <p:cNvSpPr/>
          <p:nvPr/>
        </p:nvSpPr>
        <p:spPr>
          <a:xfrm>
            <a:off x="990720" y="53352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Вступление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76" name="вступление.mp3" descr=""/>
          <p:cNvPicPr/>
          <p:nvPr/>
        </p:nvPicPr>
        <p:blipFill>
          <a:blip r:embed="rId2"/>
          <a:stretch/>
        </p:blipFill>
        <p:spPr>
          <a:xfrm>
            <a:off x="6553080" y="380880"/>
            <a:ext cx="914400" cy="9144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376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376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90390" fill="hold"/>
                                        <p:tgtEl>
                                          <p:spTgt spid="3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1"/>
          <p:cNvSpPr/>
          <p:nvPr/>
        </p:nvSpPr>
        <p:spPr>
          <a:xfrm>
            <a:off x="228600" y="198000"/>
            <a:ext cx="8686800" cy="6462000"/>
          </a:xfrm>
          <a:prstGeom prst="rect">
            <a:avLst/>
          </a:prstGeom>
          <a:solidFill>
            <a:srgbClr val="ffffff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Тема вступления создает образ страдания, скорби, народного горя. Она повторяется в балете несколько раз. Эта же музыка характеризует и его главную героиню - Ярославну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Одинокий и поначалу слабый голос, похожий на пастушью свирель, приветствующую утро, рождается из тишины. В симфоническом оркестре этот голос поручено вести флейте-пикколо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Флейта поёт тихо, очень медленно, сосредоточенно. Она словно прислушивается, не раздадутся ли иные звуки. Это придает её пению известное сходство со звучанием человеческого голоса: инструментальный напев как бы очеловечен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Интонации чрезвычайно выразительны. Есть в них и печаль, и надежда, и долгое ожидание, и терпеливый поиск пути. Они по-речевому выразительны, но при этом и изобразительны. Уже в самом начале слышится дуновение ветра или шорох колеблющегося ковыля, а затем - пение птиц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Calibri"/>
              </a:rPr>
              <a:t>Протяжное пение малой флейты содействует возникновению атмосферы глубокой старины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Calibri"/>
              </a:rPr>
              <a:t>,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TextBox 2"/>
          <p:cNvSpPr/>
          <p:nvPr/>
        </p:nvSpPr>
        <p:spPr>
          <a:xfrm>
            <a:off x="990720" y="53352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Стон русской земли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79" name="Picture 4" descr="32_18_03"/>
          <p:cNvPicPr/>
          <p:nvPr/>
        </p:nvPicPr>
        <p:blipFill>
          <a:blip r:embed="rId1"/>
          <a:stretch/>
        </p:blipFill>
        <p:spPr>
          <a:xfrm>
            <a:off x="1676520" y="1905120"/>
            <a:ext cx="6172200" cy="46288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5" descr="0227-01b"/>
          <p:cNvPicPr/>
          <p:nvPr/>
        </p:nvPicPr>
        <p:blipFill>
          <a:blip r:embed="rId2"/>
          <a:stretch/>
        </p:blipFill>
        <p:spPr>
          <a:xfrm>
            <a:off x="380880" y="1676520"/>
            <a:ext cx="2086200" cy="3132000"/>
          </a:xfrm>
          <a:prstGeom prst="rect">
            <a:avLst/>
          </a:prstGeom>
          <a:ln w="9360">
            <a:solidFill>
              <a:srgbClr val="000000"/>
            </a:solidFill>
            <a:prstDash val="sysDot"/>
            <a:miter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381" name="Picture 6" descr="0132-03b"/>
          <p:cNvPicPr/>
          <p:nvPr/>
        </p:nvPicPr>
        <p:blipFill>
          <a:blip r:embed="rId3"/>
          <a:stretch/>
        </p:blipFill>
        <p:spPr>
          <a:xfrm>
            <a:off x="6629400" y="1600200"/>
            <a:ext cx="2176560" cy="3009960"/>
          </a:xfrm>
          <a:prstGeom prst="rect">
            <a:avLst/>
          </a:prstGeom>
          <a:ln w="9360">
            <a:solidFill>
              <a:srgbClr val="000000"/>
            </a:solidFill>
            <a:prstDash val="sysDot"/>
            <a:miter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382" name="стоны русской земли.mp3" descr=""/>
          <p:cNvPicPr/>
          <p:nvPr/>
        </p:nvPicPr>
        <p:blipFill>
          <a:blip r:embed="rId4"/>
          <a:stretch/>
        </p:blipFill>
        <p:spPr>
          <a:xfrm>
            <a:off x="7238880" y="6094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382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382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342087" fill="hold"/>
                                        <p:tgtEl>
                                          <p:spTgt spid="3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1"/>
          <p:cNvSpPr/>
          <p:nvPr/>
        </p:nvSpPr>
        <p:spPr>
          <a:xfrm>
            <a:off x="152280" y="303480"/>
            <a:ext cx="8763120" cy="5946120"/>
          </a:xfrm>
          <a:prstGeom prst="rect">
            <a:avLst/>
          </a:prstGeom>
          <a:solidFill>
            <a:srgbClr val="ffffff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Это эпическое повествование, за которым встает образ древнего летописца, именно хор комментирует происходящее на сцене, именно хор подчёркивает эмоциональное состояние героев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 партитуру балета введены хоры - низкий мужской и высокий женский, которые поют подлинный текст «Слова о полку Игореве ». Хоровые эпизоды то комментируют происходящее, то служат одной из красок оркестра, а иногда звучат в кульминационные моменты как концентрированное выражение эмоций. Интонационная природа хора «Стон Русской земли» основана на речитации, в которой соединены переменность размера, свойственная русскому причету или духовному стиху, с двухголосием, в котором оба голоса поют свои мелодии в разных ладах. Оркестровая ткань также поддерживает хоральный молитвенный характер хор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Picture 8" descr=""/>
          <p:cNvPicPr/>
          <p:nvPr/>
        </p:nvPicPr>
        <p:blipFill>
          <a:blip r:embed="rId1"/>
          <a:stretch/>
        </p:blipFill>
        <p:spPr>
          <a:xfrm>
            <a:off x="152280" y="914400"/>
            <a:ext cx="4740480" cy="296712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5" descr="http://www.classicalmusicnews.ru/wp-content/uploads/2007/09/35606-22_3.jpg"/>
          <p:cNvPicPr/>
          <p:nvPr/>
        </p:nvPicPr>
        <p:blipFill>
          <a:blip r:embed="rId2"/>
          <a:stretch/>
        </p:blipFill>
        <p:spPr>
          <a:xfrm>
            <a:off x="4648320" y="1905120"/>
            <a:ext cx="4314600" cy="3049560"/>
          </a:xfrm>
          <a:prstGeom prst="rect">
            <a:avLst/>
          </a:prstGeom>
          <a:ln w="0">
            <a:noFill/>
          </a:ln>
        </p:spPr>
      </p:pic>
      <p:sp>
        <p:nvSpPr>
          <p:cNvPr id="386" name="TextBox 5"/>
          <p:cNvSpPr/>
          <p:nvPr/>
        </p:nvSpPr>
        <p:spPr>
          <a:xfrm>
            <a:off x="990720" y="15228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Первая битва с половцами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87" name="первая битва с половцами.mp3" descr=""/>
          <p:cNvPicPr/>
          <p:nvPr/>
        </p:nvPicPr>
        <p:blipFill>
          <a:blip r:embed="rId3"/>
          <a:stretch/>
        </p:blipFill>
        <p:spPr>
          <a:xfrm>
            <a:off x="8001000" y="4572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6" descr="C:\Users\admin\Desktop\уроки\учебник\Screenshot_25.jpg"/>
          <p:cNvPicPr/>
          <p:nvPr/>
        </p:nvPicPr>
        <p:blipFill>
          <a:blip r:embed="rId4"/>
          <a:stretch/>
        </p:blipFill>
        <p:spPr>
          <a:xfrm>
            <a:off x="380880" y="4267080"/>
            <a:ext cx="6137280" cy="259092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38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38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309990" fill="hold"/>
                                        <p:tgtEl>
                                          <p:spTgt spid="3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Picture 6" descr="http://ptj.spb.ru/wp-content/gallery/32/32_18_02.jpg"/>
          <p:cNvPicPr/>
          <p:nvPr/>
        </p:nvPicPr>
        <p:blipFill>
          <a:blip r:embed="rId1"/>
          <a:stretch/>
        </p:blipFill>
        <p:spPr>
          <a:xfrm>
            <a:off x="457200" y="762120"/>
            <a:ext cx="5137200" cy="5813280"/>
          </a:xfrm>
          <a:prstGeom prst="rect">
            <a:avLst/>
          </a:prstGeom>
          <a:ln w="0">
            <a:noFill/>
          </a:ln>
        </p:spPr>
      </p:pic>
      <p:pic>
        <p:nvPicPr>
          <p:cNvPr id="390" name="стрелы.mp3" descr=""/>
          <p:cNvPicPr/>
          <p:nvPr/>
        </p:nvPicPr>
        <p:blipFill>
          <a:blip r:embed="rId2"/>
          <a:stretch/>
        </p:blipFill>
        <p:spPr>
          <a:xfrm>
            <a:off x="7010280" y="350532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391" name="TextBox 6"/>
          <p:cNvSpPr/>
          <p:nvPr/>
        </p:nvSpPr>
        <p:spPr>
          <a:xfrm>
            <a:off x="5638680" y="2133720"/>
            <a:ext cx="32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Стрелы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cover dir="lu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" restart="whenNotActive" nodeType="interactiveSeq" fill="hold">
                <p:stCondLst>
                  <p:cond evt="onClick">
                    <p:tgtEl>
                      <p:spTgt spid="390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390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39479" fill="hold"/>
                                        <p:tgtEl>
                                          <p:spTgt spid="3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1"/>
          <p:cNvSpPr/>
          <p:nvPr/>
        </p:nvSpPr>
        <p:spPr>
          <a:xfrm>
            <a:off x="304920" y="479520"/>
            <a:ext cx="8686800" cy="5213160"/>
          </a:xfrm>
          <a:prstGeom prst="rect">
            <a:avLst/>
          </a:prstGeom>
          <a:solidFill>
            <a:srgbClr val="ffffff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Оркестровые эпизоды «Вежи (шатры) половецкие и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«Стрелы»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носят ярко изобразительный характер. Именно они создают характерный и выразительный колорит грозных предзнаменований и смутной опасности. Это эмоциональное состояние усиливается заунывным остинатным (многократным повторением) мотивом скрипок – бесконечным тягучим фоном, на котором возникают отдельные «всплески», отзвуки, передающие как бы ночные шорохи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6-10-08T13:05:45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