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B72-75BF-4649-B5D4-2BF2A8A7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2BE-C18A-4B68-8F8F-694FAD58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716-F818-47F5-A03A-CFAF32E5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9B4-749F-4A15-A372-1481FD6D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9BEC-A5FC-4FCE-B398-44E90D1B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4F3-B6F9-4B3C-9215-8465A616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1AE-2675-4CE2-A41F-74E60415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78E5-7C50-4261-8EEF-5DBC6230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B635-98AA-453B-8806-978744A5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3107-87AA-4035-B778-892E4CCC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3720-ECCE-469E-B2E7-9F5494D1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CCA-1450-4B59-BBD2-8F5A7D50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297-0061-44C5-AE35-FBF591C4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0692-0C76-42E5-9A1A-9F382D8C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0D2D-5272-4638-A492-4F1E9E28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8541-5D88-4EA5-BA9D-3BDDA8D0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B3AC-09C1-4CD3-8376-734611BF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EC79-A205-4D5B-BE35-9BC18B84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3A08-97EC-4658-B3F4-54BBE4D6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DE55-91A8-4AA3-9FB0-85E5EB78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36EF-182A-4C96-A5E9-8574CDF1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911E-5868-4D7C-B5B8-BFCD2DCE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595-E706-4729-A525-3CBB8715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379C-19CC-49C0-8B5D-30182102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4FE2-6EEB-4091-B30B-9F0F7AB0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3B54-2E8B-4928-91E8-81191D4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667E-3389-49BA-B1E9-D00B83F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D76B-07FB-4192-997E-33BE2320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AD61-CFC4-46D7-AF06-1C834BC0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4A84-5183-4365-9587-6C846786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DA1A-48CF-40A5-AC55-14551191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458E-B58B-4FE2-AF88-FE8496F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EE86-3F25-42DD-B63D-A0AAB64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C69-213E-45CD-AAE3-2AC2D25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F0E2-3480-45CC-94E7-22B92D97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AA35-1F4C-455D-AF36-6CCA6A47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11CD-6821-4694-A8E9-BCDFD540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1DE8-70A3-41E5-A904-5B7B9621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3082-B8F9-4564-98B7-2BD32069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E157-7D0E-4A27-80F8-838FF93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26909-4166-42B3-9B7E-828DFA08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D49C-C01E-4562-86D1-8D8A274B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9DBD-A783-4539-9462-1813150F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D18B-12A9-4344-805A-BA69547C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D3C-911E-4498-9D72-9C5A89FA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98A98-D072-48AB-88A4-AA806534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2405E-BB69-4FEB-831D-0ED9CE80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268D5-A89B-41BA-B629-1AD6B2C3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F1529-B52E-483E-B1B6-72717E0E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79FBF-4670-4928-8882-BD7A9046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2FECF-8A11-4F07-B624-2F2B4F8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048C-DC24-44C1-9330-9C6ACC5B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F0AFF-435B-42E6-9CB2-9C24BC42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EDBA9-70BD-4C30-AB13-8300A377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CF62-0179-43DA-B9FB-10479934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3B8-08E3-41E8-87E3-19217F8D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D4EF6-DF74-4C08-9898-80228949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2EBB-2FFD-45F9-BE6F-35433EA3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0DA5C-B054-4938-BA66-AD56288F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BC4D9-5B2E-4CB3-8077-3E3AAB3E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54F6A-DE2A-4FE1-A3D0-66C4602F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29D76-506D-4B9B-A700-9C8DB323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CC087-6D92-4621-9E12-76AE2F93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D0F92-CD39-4A3C-97A4-67E02E81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7206-1F8F-4D97-9AF4-2ED85CA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414D-ADB8-4E52-B577-A866259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3D7-0681-4DD4-9972-8695AB21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4308-B913-4F7E-91FE-0A0FB3C3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71775-944E-45EB-986E-4477683E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6689C-54AF-43DB-A82D-29C59BC7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B828-B288-4181-8700-B72779F6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0EB79-FA06-48A5-8271-54D494FF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A57FE-50DA-4281-9362-ED2E8C86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C554-4F43-48D8-8E54-EC83EBF6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B2554-3450-4B74-836F-41AC1596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EE801-51B9-46AE-8C8E-CED0D210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E3E35-D62D-43A4-85E1-C31F6315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836-83FC-448F-8176-016D7DF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E22A2-C24C-4327-86F4-A8AE557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2410B-BEF9-4042-B64A-83059B9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53229-2620-45E5-B0DF-F732D319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5527D-994E-4810-9AA8-31CB03A9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0570-77D3-4C34-8FBE-C503AF76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BDA19-AC75-49DB-B6BB-4F0787D5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B1E17-5499-4F10-9E5C-6B938BA8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704C9-693F-46D2-A87B-6727FEE3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F5492-37EE-42B5-A9A0-F191127E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333E-D7FE-445C-8CCE-5FA7B8F1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A5D-22EB-4385-9E96-DD3BF348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7AC9-1E17-4E7B-A708-979149F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E2EB3-7752-4ABB-AEA9-F1403E58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ED11E-29FB-4EBA-80B3-185CD3F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7094C-5AD2-4FF5-AB2A-AAD65711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CC416-A2E7-4E15-98F5-D70365F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6637B-8991-4476-9D43-5965FF65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E286E-A571-4E31-A1D1-EC29B9E1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4042-A5CC-483D-B6BD-331EB77821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B09B-E7B3-4D03-9E12-9640622814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EEA5-68C0-40D3-8D18-8316D5B3B0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981C-1586-4526-9065-F623D10C86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41F2-017B-4736-905F-CB01FF62CA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596A-52DF-4B16-959D-C8371AAB27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61D7-80F0-4DBD-8F7B-F6E442087C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BCA4-333B-4204-BBBB-3FEC975872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95120"/>
            <a:ext cx="7785000" cy="154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Arial"/>
                <a:ea typeface="Arial"/>
              </a:rPr>
              <a:t>Борис Иванович Тищенко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Arial"/>
                <a:ea typeface="Arial"/>
              </a:rPr>
              <a:t>(1939 – 2010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01vfewofhe_5_1"/>
          <p:cNvPicPr/>
          <p:nvPr/>
        </p:nvPicPr>
        <p:blipFill>
          <a:blip r:embed="rId2"/>
          <a:stretch/>
        </p:blipFill>
        <p:spPr>
          <a:xfrm>
            <a:off x="2057400" y="3048120"/>
            <a:ext cx="5595840" cy="3581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http://fmtin.ru/uploads/thumbs/c/6/e/c6e4ab9db41ef15594beb3e62442412f.jpg"/>
          <p:cNvPicPr/>
          <p:nvPr/>
        </p:nvPicPr>
        <p:blipFill>
          <a:blip r:embed="rId1"/>
          <a:stretch/>
        </p:blipFill>
        <p:spPr>
          <a:xfrm>
            <a:off x="380880" y="1371600"/>
            <a:ext cx="5791320" cy="4338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www.stihi.ru/pics/2010/10/17/5331.jpg"/>
          <p:cNvPicPr/>
          <p:nvPr/>
        </p:nvPicPr>
        <p:blipFill>
          <a:blip r:embed="rId2"/>
          <a:stretch/>
        </p:blipFill>
        <p:spPr>
          <a:xfrm>
            <a:off x="4572000" y="3657600"/>
            <a:ext cx="3962520" cy="28908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9907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ач Ярослав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плач ярославна.mp3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2704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380880" y="860760"/>
            <a:ext cx="8305920" cy="484884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цене сочетаются и интонации похоронных плачей, и попевки свадебных причетов, и звуковые обороты знаменного распева и русских лирических песе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унывность музыки «Плача» словно бесконечно длит то эмоциональное состояние, в котором пребывает главная героиня бале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музыке «Плача Ярославны» выражено мировосприятие и мироощущение русского народа: плач поётся, и поётся не для смерти, а для жизни. В финале балета оплакивание умерших переосмысливается и смыкается со славлением. Плач как прославление вполне соответствует поэтике самого «Слова о полку Игореве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http://s019.radikal.ru/i611/1509/4e/e76552bdde8a.jpg"/>
          <p:cNvPicPr/>
          <p:nvPr/>
        </p:nvPicPr>
        <p:blipFill>
          <a:blip r:embed="rId1"/>
          <a:stretch/>
        </p:blipFill>
        <p:spPr>
          <a:xfrm>
            <a:off x="4572000" y="1600200"/>
            <a:ext cx="4152960" cy="4762440"/>
          </a:xfrm>
          <a:prstGeom prst="rect">
            <a:avLst/>
          </a:prstGeom>
          <a:ln w="0">
            <a:noFill/>
          </a:ln>
        </p:spPr>
      </p:pic>
      <p:sp>
        <p:nvSpPr>
          <p:cNvPr id="399" name="TextBox 2"/>
          <p:cNvSpPr/>
          <p:nvPr/>
        </p:nvSpPr>
        <p:spPr>
          <a:xfrm>
            <a:off x="9907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олит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Picture 4" descr="http://img0.liveinternet.ru/images/attach/c/8/99/959/99959708_molitva.jpg"/>
          <p:cNvPicPr/>
          <p:nvPr/>
        </p:nvPicPr>
        <p:blipFill>
          <a:blip r:embed="rId2"/>
          <a:stretch/>
        </p:blipFill>
        <p:spPr>
          <a:xfrm>
            <a:off x="457200" y="2133720"/>
            <a:ext cx="3556080" cy="2971800"/>
          </a:xfrm>
          <a:prstGeom prst="rect">
            <a:avLst/>
          </a:prstGeom>
          <a:ln w="0">
            <a:noFill/>
          </a:ln>
        </p:spPr>
      </p:pic>
      <p:pic>
        <p:nvPicPr>
          <p:cNvPr id="401" name="молитва.mp3" descr=""/>
          <p:cNvPicPr/>
          <p:nvPr/>
        </p:nvPicPr>
        <p:blipFill>
          <a:blip r:embed="rId3"/>
          <a:stretch/>
        </p:blipFill>
        <p:spPr>
          <a:xfrm>
            <a:off x="182880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7799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304920" y="1758960"/>
            <a:ext cx="8610480" cy="26542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держанный мотив с повторением одних и тех же слов («Господи Боже, помилуй мя!») звучит скорбно, имеет трагическую окраску. Но, несмотря на мрачный и суровый колорит, молитвенное звучание хора подводит слушателей к пониманию основной идеи произвед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емление русского народа к единению, к борьбе за веру, к победе над враг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admin\Desktop\уроки\учебник\Screenshot_28.jpg"/>
          <p:cNvPicPr/>
          <p:nvPr/>
        </p:nvPicPr>
        <p:blipFill>
          <a:blip r:embed="rId1"/>
          <a:stretch/>
        </p:blipFill>
        <p:spPr>
          <a:xfrm>
            <a:off x="228600" y="152280"/>
            <a:ext cx="5694480" cy="3849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Users\admin\Desktop\уроки\учебник\Screenshot_29.jpg"/>
          <p:cNvPicPr/>
          <p:nvPr/>
        </p:nvPicPr>
        <p:blipFill>
          <a:blip r:embed="rId2"/>
          <a:stretch/>
        </p:blipFill>
        <p:spPr>
          <a:xfrm>
            <a:off x="3352680" y="3352680"/>
            <a:ext cx="53596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5"/>
          <p:cNvSpPr/>
          <p:nvPr/>
        </p:nvSpPr>
        <p:spPr>
          <a:xfrm>
            <a:off x="250920" y="476280"/>
            <a:ext cx="8569080" cy="478656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асова Н.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узык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лицей №21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Ивано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по музыке 7 класс, Г.П.Сергеева, Е.Д.Критск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урочные разработки по музыке 7 класс, Г.П.Сергеева, Е.Д.Критск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228600" y="697320"/>
            <a:ext cx="8686800" cy="558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дьба Ярославны, жены Игоря, отразила нечто большее, чем судьба одной русской женщины. Ярославна - живой символ Русской земли, которая незримо присутствует с князем на чужбине, укрепляя в нём решимость любой ценой вырваться из пле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 Ярославны, главной героини балета, выступающей в окружении женского хора, подчёркивает лирическую направленность образного строя спектакл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озитор прочувствовал лирическую стихию литературы до монгольской Руси, «лиризм гражданственный, высокий, сочетавшийся с патриотическим пафосом, с эпическими темами, с размышлениями об исторических судьбах Русской земли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лет проникнут болью и гордостью за русский народ, мужественно боровшийся с враг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dancelib.ru/baletenc/item/f00/s01/e0001595/pic/000002.jpg"/>
          <p:cNvPicPr/>
          <p:nvPr/>
        </p:nvPicPr>
        <p:blipFill>
          <a:blip r:embed="rId1"/>
          <a:stretch/>
        </p:blipFill>
        <p:spPr>
          <a:xfrm>
            <a:off x="1066680" y="1676520"/>
            <a:ext cx="7069320" cy="43909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9907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ступл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вступление.mp3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390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228600" y="198000"/>
            <a:ext cx="8686800" cy="646200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вступления создает образ страдания, скорби, народного горя. Она повторяется в балете несколько раз. Эта же музыка характеризует и его главную героиню - Ярославну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окий и поначалу слабый голос, похожий на пастушью свирель, приветствующую утро, рождается из тишины. В симфоническом оркестре этот голос поручено вести флейте-пикколо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Флейта поёт тихо, очень медленно, сосредоточенно. Она словно прислушивается, не раздадутся ли иные звуки. Это придает её пению известное сходство со звучанием человеческого голоса: инструментальный напев как бы очеловечен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онации чрезвычайно выразительны. Есть в них и печаль, и надежда, и долгое ожидание, и терпеливый поиск пути. Они по-речевому выразительны, но при этом и изобразительны. Уже в самом начале слышится дуновение ветра или шорох колеблющегося ковыля, а затем - пение птиц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Протяжное пение малой флейты содействует возникновению атмосферы глубокой стари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2"/>
          <p:cNvSpPr/>
          <p:nvPr/>
        </p:nvSpPr>
        <p:spPr>
          <a:xfrm>
            <a:off x="9907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он русской земл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Picture 4" descr="32_18_03"/>
          <p:cNvPicPr/>
          <p:nvPr/>
        </p:nvPicPr>
        <p:blipFill>
          <a:blip r:embed="rId1"/>
          <a:stretch/>
        </p:blipFill>
        <p:spPr>
          <a:xfrm>
            <a:off x="1676520" y="1905120"/>
            <a:ext cx="6172200" cy="4628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0227-01b"/>
          <p:cNvPicPr/>
          <p:nvPr/>
        </p:nvPicPr>
        <p:blipFill>
          <a:blip r:embed="rId2"/>
          <a:stretch/>
        </p:blipFill>
        <p:spPr>
          <a:xfrm>
            <a:off x="380880" y="1676520"/>
            <a:ext cx="2086200" cy="313200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81" name="Picture 6" descr="0132-03b"/>
          <p:cNvPicPr/>
          <p:nvPr/>
        </p:nvPicPr>
        <p:blipFill>
          <a:blip r:embed="rId3"/>
          <a:stretch/>
        </p:blipFill>
        <p:spPr>
          <a:xfrm>
            <a:off x="6629400" y="1600200"/>
            <a:ext cx="2176560" cy="30099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82" name="стоны русской земли.mp3" descr=""/>
          <p:cNvPicPr/>
          <p:nvPr/>
        </p:nvPicPr>
        <p:blipFill>
          <a:blip r:embed="rId4"/>
          <a:stretch/>
        </p:blipFill>
        <p:spPr>
          <a:xfrm>
            <a:off x="7238880" y="609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42087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152280" y="303480"/>
            <a:ext cx="8763120" cy="594612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эпическое повествование, за которым встает образ древнего летописца, именно хор комментирует происходящее на сцене, именно хор подчёркивает эмоциональное состояние герое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артитуру балета введены хоры - низкий мужской и высокий женский, которые поют подлинный текст «Слова о полку Игореве ». Хоровые эпизоды то комментируют происходящее, то служат одной из красок оркестра, а иногда звучат в кульминационные моменты как концентрированное выражение эмоций. Интонационная природа хора «Стон Русской земли» основана на речитации, в которой соединены переменность размера, свойственная русскому причету или духовному стиху, с двухголосием, в котором оба голоса поют свои мелодии в разных ладах. Оркестровая ткань также поддерживает хоральный молитвенный характер хо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740480" cy="2967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http://www.classicalmusicnews.ru/wp-content/uploads/2007/09/35606-22_3.jpg"/>
          <p:cNvPicPr/>
          <p:nvPr/>
        </p:nvPicPr>
        <p:blipFill>
          <a:blip r:embed="rId2"/>
          <a:stretch/>
        </p:blipFill>
        <p:spPr>
          <a:xfrm>
            <a:off x="4648320" y="1905120"/>
            <a:ext cx="4314600" cy="304956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990720" y="15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вая битва с половца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первая битва с половцами.mp3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C:\Users\admin\Desktop\уроки\учебник\Screenshot_25.jpg"/>
          <p:cNvPicPr/>
          <p:nvPr/>
        </p:nvPicPr>
        <p:blipFill>
          <a:blip r:embed="rId4"/>
          <a:stretch/>
        </p:blipFill>
        <p:spPr>
          <a:xfrm>
            <a:off x="380880" y="4267080"/>
            <a:ext cx="6137280" cy="2590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9990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http://ptj.spb.ru/wp-content/gallery/32/32_18_02.jpg"/>
          <p:cNvPicPr/>
          <p:nvPr/>
        </p:nvPicPr>
        <p:blipFill>
          <a:blip r:embed="rId1"/>
          <a:stretch/>
        </p:blipFill>
        <p:spPr>
          <a:xfrm>
            <a:off x="457200" y="762120"/>
            <a:ext cx="5137200" cy="5813280"/>
          </a:xfrm>
          <a:prstGeom prst="rect">
            <a:avLst/>
          </a:prstGeom>
          <a:ln w="0">
            <a:noFill/>
          </a:ln>
        </p:spPr>
      </p:pic>
      <p:pic>
        <p:nvPicPr>
          <p:cNvPr id="390" name="стрелы.mp3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6"/>
          <p:cNvSpPr/>
          <p:nvPr/>
        </p:nvSpPr>
        <p:spPr>
          <a:xfrm>
            <a:off x="5638680" y="2133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рел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479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304920" y="479520"/>
            <a:ext cx="8686800" cy="521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ркестровые эпизоды «Вежи (шатры) половецкие 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Стрелы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сят ярко изобразительный характер. Именно они создают характерный и выразительный колорит грозных предзнаменований и смутной опасности. Это эмоциональное состояние усиливается заунывным остинатным (многократным повторением) мотивом скрипок – бесконечным тягучим фоном, на котором возникают отдельные «всплески», отзвуки, передающие как бы ночные шорох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0-08T13:05:4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