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689-4825-451D-B711-BADF3C04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660-9B4B-4111-886C-8DE4D6B6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146-1466-4155-8E02-F1E4F1A1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FE6-C5CE-49A6-A820-69559ACF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7531-9113-4695-B338-6C8B648E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7C0-B01C-4592-B76A-F2CB597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4D4-EFD4-4089-89ED-870F4DC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5F8-6CCD-4620-9BAD-778EDB91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8F3B-CB74-4BDA-B36C-B7EFDA8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1EF3-D035-47B1-B65A-472BF3A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9A40-E249-48DC-8210-34825F3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812-42F3-4107-A948-981C93C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47BD-D896-482D-8C57-3D905757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3F14-A649-48D9-B2D4-76E269D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163F-C72C-47E1-A5DF-8DD1BF3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2E57-154D-4214-8B38-3069D2CA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4A6-8A10-44A1-BD65-46991DF2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890-7D6B-447E-847A-5CF25020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3CB-4108-4848-9135-7A493C3D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8F7-7CE2-47D2-9A41-C74B005E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71C-AC64-46AE-A8B2-BB335DA5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724-A171-4D54-998C-698C003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BCE-6FA7-44BC-AF51-C199292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340-C342-4D87-89A8-E1900CC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298-F6A2-4638-9AE8-EC520312E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97FB-C8C1-4622-A425-973718F22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00360" y="40464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ек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00000" y="1557360"/>
            <a:ext cx="7769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Школьный двор-моя стра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435640" y="4653000"/>
            <a:ext cx="34671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уководитель: Андреевская Е.Г.</a:t>
            </a:r>
            <a:endParaRPr b="0" lang="en-US" sz="20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сполнитель: Ли Г.А.</a:t>
            </a:r>
            <a:endParaRPr b="0" lang="en-US" sz="20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24360" y="5950080"/>
            <a:ext cx="14666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сква 2012 г.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«Химия и окружающая среда» - газ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«В защиту природы» - плака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«Земля у нас одна» - фоторепортажи, стихи, рассказы, оче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торой ден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Умей видеть природ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курсия на природу, в музей, на выставки, на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бор материала, наблю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суждения результ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ретий день: «Природе – нашу защит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ные часы, беседы, дискуссии, с приглашением специалистов в области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суждение результатов экскурсий наблюдений, похо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ботка рекомендаций по улучшению состояния окружающей среды Талдомского рай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етвертый и пятый дн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Знать – значит уметь, а уметь – значит дела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бота на пришкольном участ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адка деревьев и оформление клум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борка скворечников и кормушек для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Шестой день: «Земля – колыбель человечест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тавка работ победителей конкур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кторина «Знаешь ли ты природ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углый стол. Обсуждение и составление плана дальнейшей работы по увеличению видового разнообразия и облагораживанию пришкольной терри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ферен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ение и  обсуждение докладов по теме «Журавлиный заказник Талдомского района и его проблем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зентация результатов исследовательской деятельности учащихся на занятиях кружков, факультативов, экологических тро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Выработка рекомендаций, направленных на улучшение состояния Журавлиного заказн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ступление агитбригад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авленное на пропаганду экологических и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начал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человечество не сталкивалось с глобальными экологическими проблемами. 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 вторжение человека в биосферу стало настолько мощным, что природа практически исчерпала свои восстановительные способности. А человек все продолжает и продолжает действовать, интуитивно надеясь, что планета сможет восполнить нанесенный ей ущерб и снова будет шелестеть листва и веять свежий ветерок. Не будет, если мы не возьмемся исправлять уже содеянное человеком и не перестанем вести себя в биосфере как слон в посудной лавке. Творческий гений человечества должен быть направлен не на наращивание масштабов использования биосферы, а на поиск новых форм её сохранения и восстано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56000" y="260280"/>
            <a:ext cx="36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лючение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дь совсем не сложно развесить скворечники и кормушки для птиц, посадить во дворе десяток деревьев, расчистить близлежащий пустырь и озеленить его. Все это вроде бы мелочи, капли в океане экологических проблем Земли. Но, как известно, вода камень точит – именно с малого начинается становление на планете новой экологической культуры, без которой невозможно сохранить биосферу. И наш проект является только началом в формировании экологической культуры у школьников. В дальнейшем мы планируем расширить «зону действия» и вынести её за пределы школьной территории, разработать новые проекты по улучшению экологической обстановки города, райо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еловечество делает только первые шаги по этому пути, но если движение будет последовательным, то уже через 40-60 лет мы можем жить в удивительно чистом, уютном и безопасном мире. И зависит это только от нас сам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храна окружающей среды, сохранение биологического и ландшафтного разнообразия является заботой многих людей - ученых, политиков, работников природоохранных ведомств, инженеров-экологов и других специалистов. Но усилий одних только профессионалов далеко не достаточно. Ведь защиты требуют не только амурский тигр, индийский носорог или андский кондор, а буквально каждое дерево, каждый ручей, каждый клочок земли. И каким будет школьный двор, город, район, планета Земля, - зависит не столько от политиков, сколько от всех нас, от усилий каждого из нас. Мы решили начать с малого,- облагородить школьный двор, увеличить видовое разнообразие пришкольной терр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экологической культуры, трудолюбия, активной жизненной поз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развитие инициативы и творчества 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преобразование и благоустройство пришкольной территор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ание у школьников эстетического отношения к окружающему ми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еличение видового разнообразия на пришкольной терри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т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и проведение конкурса на лучший проект ландшафтного дизайна пришкольной территории и цве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на пришкольном учас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экологической тро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и проведение Недели эколог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ие и презентация проекта на районной конферен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выставки лучших работ по результатам конкур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ельный (декабрь 2012 – февраль 2013г.г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ектировочный (март- апрель 2013 г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актический (май – сентябрь, 2013 г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налитико-коррекционный (июнь – август 2013 год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ключительный (октябрь 2013 го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050920" y="476280"/>
            <a:ext cx="4681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апы реализации проекта: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образование школьного участ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ализация творческих находок, способствующих личному росту каждого участника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здание атмосферы сотрудничества между всеми участниками про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явление фантазии, творчества, инициативы и трудолюбия у детей и взросл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835280" y="549360"/>
            <a:ext cx="561636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идаемые результаты:</a:t>
            </a:r>
            <a:endParaRPr b="0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формировать творческие группы учащихся и Творческий совет уч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означить «зоны действий» для этих групп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зыскать возможности материального обеспечения для выполнения проекта (привлечение средств спонсорской помощ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зработать варианты дизайна ландшафтного озеленения территории лице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сти конкурс на лучший проект оформления клум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ырастить рассаду цветов для клум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зготовить кормушки и скворечники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т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ворческому совету разработать условия конкур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оставить план проведения Недели эк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56000" y="260280"/>
            <a:ext cx="410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 работы: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1384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оставление работ участниками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8 классы – рисунки, плакаты, маке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-11 классы – компьютерное моделирование, плак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мейные проек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чительские про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се рисунки принимаются в формате А3, А4 в любой технике исполнения, с обязательным указанием имени, фамилии авторов; компьютерные проекты – в любой компьютерной програм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этап сдачи проектов и эскизов рисунков до 1 марта 201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торой этап – до 15 марта 201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боты принимает  Творческий Со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32000" y="476280"/>
            <a:ext cx="6408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ловия проведения конкурса </a:t>
            </a:r>
            <a:endParaRPr b="0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Неделя экологии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«Природа и человек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ервый день: Открытие недели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ная выставка по раздела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Я вижу мир» - конкурс рисун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к прекрасен этот мир» - искусство составления букетов и поделок из природ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2:18:03Z</dcterms:created>
  <dc:creator>ADMIN</dc:creator>
  <dc:description/>
  <dc:language>en-US</dc:language>
  <cp:lastModifiedBy>ADMIN</cp:lastModifiedBy>
  <dcterms:modified xsi:type="dcterms:W3CDTF">2013-01-15T10:51:32Z</dcterms:modified>
  <cp:revision>5</cp:revision>
  <dc:subject/>
  <dc:title>Слайд 1</dc:title>
</cp:coreProperties>
</file>