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4C0-FD88-4A75-9946-88646CCB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E0F-5691-464D-86F3-461BDA0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816-C548-47FB-BAEF-1DC9C470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00A-7C34-4214-99A6-0B55A7F7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DF6-FC2A-458E-AF2C-03A95F39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4F3-EE81-4AE6-BBFF-593ACEE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9255-F423-4040-A4C5-81FD9E1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26D5-81E5-4672-A4F5-8CEFFD66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FE1-A40C-4FBA-BD3C-282C7DB6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E2FD-1AA3-41DD-B2C2-99429B5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2AA-5AAA-42D3-851B-068FCE0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264-E577-49F9-87CB-C4BB3E5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5644-382A-4069-A7A7-EC3B2E8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B53-D410-4603-A94D-18CD3C0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ACEB-6C83-42A7-B526-CEF1F88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4774-701B-450C-AD69-6A3C8613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E32-49AD-4234-A0BC-67759155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098-38AE-462A-B9A9-FB987BE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26C-4749-47CC-867A-B924C0B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453-4F6E-4787-9776-5D751E6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F3C-312B-4419-A407-3522124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C25-AEA0-4EB5-A591-1FC9655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190-996F-4398-9D0E-71DD08F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A09-589A-488C-8B4F-A9F0BA1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29F-8379-4466-BD35-B729A1525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6B1E-0CC1-450C-ACE3-9E9AF4F12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ек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00000" y="1557360"/>
            <a:ext cx="7769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Школьный двор-моя стра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435640" y="4653000"/>
            <a:ext cx="34671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уководитель: Андреевская Е.Г.</a:t>
            </a:r>
            <a:endParaRPr b="0" lang="en-US" sz="20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сполнитель: Ли Г.А.</a:t>
            </a:r>
            <a:endParaRPr b="0" lang="en-US" sz="20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24360" y="5950080"/>
            <a:ext cx="1466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сква 2012 г.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Химия и окружающая среда» - газ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В защиту природы» - плака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Земля у нас одна» - фоторепортажи, стихи, рассказы, оче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торой ден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Умей видеть природ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курсия на природу, в музей, на выставки, на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бор материала, наблю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уждения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ретий день: «Природе – нашу защит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ные часы, беседы, дискуссии, с приглашением специалистов в области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уждение результатов экскурсий наблюдений, похо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ботка рекомендаций по улучшению состояния окружающей среды Талдомского рай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етвертый и пятый дн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Знать – значит уметь, а уметь – значит дела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бота на пришкольном участ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ка деревьев и оформление клум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борка скворечников и кормушек для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Шестой день: «Земля – колыбель человечест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тавка работ победителей конкур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кторина «Знаешь ли ты природ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глый стол. Обсуждение и составление плана дальнейшей работы по увеличению видового разнообразия и облагораживанию пришкольной терри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ерен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ение и  обсуждение докладов по теме «Журавлиный заказник Талдомского района и его проблем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зентация результатов исследовательской деятельности учащихся на занятиях кружков, факультативов, экологических тро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Выработка рекомендаций, направленных на улучшение состояния Журавлиного заказ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ступление агитбригад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авленное на пропаганду экологических и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начал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человечество не сталкивалось с глобальными экологическими проблемами.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вторжение человека в биосферу стало настолько мощным, что природа практически исчерпала свои восстановительные способности. А человек все продолжает и продолжает действовать, интуитивно надеясь, что планета сможет восполнить нанесенный ей ущерб и снова будет шелестеть листва и веять свежий ветерок. Не будет, если мы не возьмемся исправлять уже содеянное человеком и не перестанем вести себя в биосфере как слон в посудной лавке. Творческий гений человечества должен быть направлен не на наращивание масштабов использования биосферы, а на поиск новых форм её сохранения и восстано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56000" y="260280"/>
            <a:ext cx="36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дь совсем не сложно развесить скворечники и кормушки для птиц, посадить во дворе десяток деревьев, расчистить близлежащий пустырь и озеленить его. Все это вроде бы мелочи, капли в океане экологических проблем Земли. Но, как известно, вода камень точит – именно с малого начинается становление на планете новой экологической культуры, без которой невозможно сохранить биосферу. И наш проект является только началом в формировании экологической культуры у школьников. В дальнейшем мы планируем расширить «зону действия» и вынести её за пределы школьной территории, разработать новые проекты по улучшению экологической обстановки города, райо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еловечество делает только первые шаги по этому пути, но если движение будет последовательным, то уже через 40-60 лет мы можем жить в удивительно чистом, уютном и безопасном мире. И зависит это только от нас сам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храна окружающей среды, сохранение биологического и ландшафтного разнообразия является заботой многих людей - ученых, политиков, работников природоохранных ведомств, инженеров-экологов и других специалистов. Но усилий одних только профессионалов далеко не достаточно. Ведь защиты требуют не только амурский тигр, индийский носорог или андский кондор, а буквально каждое дерево, каждый ручей, каждый клочок земли. И каким будет школьный двор, город, район, планета Земля, - зависит не столько от политиков, сколько от всех нас, от усилий каждого из нас. Мы решили начать с малого,- облагородить школьный двор, увеличить видовое разнообразие пришкольной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экологической культуры, трудолюбия, активной жизненной поз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развитие инициативы и творчества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преобразование и благоустройство пришкольной терри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ние у школьников эстетического отношения к окружающему ми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еличение видового разнообразия на пришкольной терри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т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и проведение конкурса на лучший проект ландшафтного дизайна пришкольной территории и цве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на пришкольном учас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экологической тро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и проведение Недели эк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е и презентация проекта на районной конферен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выставки лучших работ по результатам конкур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ельный (декабрь 2012 – февраль 2013г.г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ектировочный (март- апрель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ктический (май – сентябрь,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налитико-коррекционный (июнь – август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лючительный (октябрь 2013 го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50920" y="476280"/>
            <a:ext cx="4681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апы реализации проекта: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образование школьного участ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ализация творческих находок, способствующих личному росту каждого участника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здание атмосферы сотрудничества между всеми участниками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явление фантазии, творчества, инициативы и трудолюбия у детей и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835280" y="549360"/>
            <a:ext cx="561636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идаемые результаты:</a:t>
            </a:r>
            <a:endParaRPr b="0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формировать творческие группы учащихся и Творческий совет уч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означить «зоны действий» для этих групп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ыскать возможности материального обеспечения для выполнения проекта (привлечение средств спонсорской помощ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зработать варианты дизайна ландшафтного озеленения территории лице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сти конкурс на лучший проект оформления клум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ырастить рассаду цветов для клум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готовить кормушки и скворечники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т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ворческому совету разработать условия конкур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оставить план проведения Недели эк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56000" y="260280"/>
            <a:ext cx="410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работы: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384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оставление работ участниками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8 классы – рисунки, плакаты, мак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-11 классы – компьютерное моделирование, плак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мейные проек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чительские про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рисунки принимаются в формате А3, А4 в любой технике исполнения, с обязательным указанием имени, фамилии авторов; компьютерные проекты – в любой компьютерной програм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этап сдачи проектов и эскизов рисунков до 1 марта 201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торой этап – до 15 марта 201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боты принимает  Творческий Со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32000" y="476280"/>
            <a:ext cx="6408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ловия проведения конкурса </a:t>
            </a:r>
            <a:endParaRPr b="0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Неделя экологии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«Природа и человек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ервый день: Открытие недели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ная выставка по раздела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Я вижу мир» - конкурс рисун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к прекрасен этот мир» - искусство составления букетов и поделок из природ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2:18:03Z</dcterms:created>
  <dc:creator>ADMIN</dc:creator>
  <dc:description/>
  <dc:language>en-US</dc:language>
  <cp:lastModifiedBy>ADMIN</cp:lastModifiedBy>
  <dcterms:modified xsi:type="dcterms:W3CDTF">2013-01-15T10:51:32Z</dcterms:modified>
  <cp:revision>5</cp:revision>
  <dc:subject/>
  <dc:title>Слайд 1</dc:title>
</cp:coreProperties>
</file>