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4CC88-80EE-48A6-91CB-1FC8F5548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10C46-3B42-4BB8-B955-C380C943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75A52-B2AF-452B-BFC3-55281B0F5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0F11F-F4E6-4A5A-8D04-1DA8074F2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58611-B8CB-4A00-9DAE-1F1A15770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7E5F-6BE9-4601-8B7D-D9463182A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7727-DC44-4032-9844-A252E58E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89247-73FF-4B5F-9703-B7EE0923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A5114-FDB9-41BB-8E20-561A93AEC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D33A3-5C88-40F9-9A99-19D7A5E4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2CEB-C63B-4946-9B13-FF4BADA5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3015-2E13-4C6A-824C-8C00EEB0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D4ED-363F-4216-ABEF-9A4BAB6B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97140-B516-4D6F-A570-3AABE0DCE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E118D-9AE9-4600-9AF7-E4B3615D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2EFEA-254A-460B-B719-EA9D9039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92365-F635-4943-AB56-374B5521B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DE5A6E-64BD-4FD8-BAAE-78AD20C1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C1695-F887-4FB9-88FD-4AD225652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AD44-6FC8-4672-9FE0-BA8DD55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F968F-2F87-4413-A771-551E8BBC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EED5E-7346-427F-8217-B1DB2D9C8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6A755-E404-4119-9A97-555622F9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A8912-4FCC-4C77-A8FA-C731F98B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44A7-5C6A-496C-814E-91AEF6F4428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A0BF-CC26-43DE-985D-60FD4DF66C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g1.liveinternet.ru/images/attach/b/2/21/83/21083383_Bezuymyannuyy12341234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stat8.blog.ru/lr/0a330620120dd3ed2af2d6e04d6504b3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Санкт-Петербург </a:t>
            </a:r>
            <a:br>
              <a:rPr sz="4600"/>
            </a:br>
            <a:r>
              <a:rPr b="1" i="1" lang="ru-RU" sz="4600" spc="-1" strike="noStrike">
                <a:solidFill>
                  <a:srgbClr val="000000"/>
                </a:solidFill>
                <a:latin typeface="Times New Roman"/>
              </a:rPr>
              <a:t>«вторая столица» России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piter_2_maxi_2"/>
          <p:cNvPicPr/>
          <p:nvPr/>
        </p:nvPicPr>
        <p:blipFill>
          <a:blip r:embed="rId1"/>
          <a:stretch/>
        </p:blipFill>
        <p:spPr>
          <a:xfrm>
            <a:off x="1979640" y="3068640"/>
            <a:ext cx="427176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2708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Достопримечательности 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73789963_img423"/>
          <p:cNvPicPr/>
          <p:nvPr/>
        </p:nvPicPr>
        <p:blipFill>
          <a:blip r:embed="rId1"/>
          <a:stretch/>
        </p:blipFill>
        <p:spPr>
          <a:xfrm>
            <a:off x="5796000" y="620640"/>
            <a:ext cx="2897280" cy="2017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67327176_fotosmall"/>
          <p:cNvPicPr/>
          <p:nvPr/>
        </p:nvPicPr>
        <p:blipFill>
          <a:blip r:embed="rId2"/>
          <a:stretch/>
        </p:blipFill>
        <p:spPr>
          <a:xfrm>
            <a:off x="324000" y="4292640"/>
            <a:ext cx="3333600" cy="2200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09175be662ad4ad9a90912986ef1582b"/>
          <p:cNvPicPr/>
          <p:nvPr/>
        </p:nvPicPr>
        <p:blipFill>
          <a:blip r:embed="rId3"/>
          <a:stretch/>
        </p:blipFill>
        <p:spPr>
          <a:xfrm>
            <a:off x="324000" y="62064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0d1ab66383e76218da504e6c8960e918"/>
          <p:cNvPicPr/>
          <p:nvPr/>
        </p:nvPicPr>
        <p:blipFill>
          <a:blip r:embed="rId4"/>
          <a:stretch/>
        </p:blipFill>
        <p:spPr>
          <a:xfrm>
            <a:off x="5651640" y="4221000"/>
            <a:ext cx="30733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280" y="456840"/>
            <a:ext cx="814716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овый Эрмита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826920" y="1413000"/>
            <a:ext cx="777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дание Нового Эрмитажа построено в 1839 – 1852 годах специально для коллекций художественного музея. К этому времени коллекции Эрмитажа сильно разрослись, и это потребовало создание нового здания, для перемещения туда экспонатов из Малого и Старого Эрмитажа. Планировка Нового Эрмитажа осуществлялась с учетом создания благоприятных условий для экспозиции картин и других произведений искус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0e2d295993ca"/>
          <p:cNvPicPr/>
          <p:nvPr/>
        </p:nvPicPr>
        <p:blipFill>
          <a:blip r:embed="rId1"/>
          <a:stretch/>
        </p:blipFill>
        <p:spPr>
          <a:xfrm>
            <a:off x="4500720" y="3795840"/>
            <a:ext cx="3936960" cy="28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рейсер Авр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640" y="4149720"/>
            <a:ext cx="8229600" cy="20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ейсер Аврора в Санкт-Петербурге – легендарный военный корабль, пришвартованный у Петроградской набережной северной столицы. На корабле постоянно несут боевую службу моряки Военно-Морского флота. Крейсер Аврора в Санкт-Петербурге является одним из символов северной столиц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2ee03ac8471d"/>
          <p:cNvPicPr/>
          <p:nvPr/>
        </p:nvPicPr>
        <p:blipFill>
          <a:blip r:embed="rId1"/>
          <a:stretch/>
        </p:blipFill>
        <p:spPr>
          <a:xfrm>
            <a:off x="2268360" y="1268280"/>
            <a:ext cx="42008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Кунсткам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3833280"/>
            <a:ext cx="7848720" cy="26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унсткамера в Санкт-Петербурге - это один из старейших музеев Северной столицы и всей России. Он был создан по указу Петра Первого с целью собирания и исследования раритетов, рожденных как природой, так и руками человека. В настоящее время собрание Музея антропологии и этнографии им. Петра Великого - Кунсткамера Российской академии наук является одним из наиболее полных и интересных музеев в мире. В нем собрано более миллиона экспонатов. Более ста лет они служили исследователям в области археологии, анатомии и медиц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i?id=201456747-02-72&amp;n=21"/>
          <p:cNvPicPr/>
          <p:nvPr/>
        </p:nvPicPr>
        <p:blipFill>
          <a:blip r:embed="rId1"/>
          <a:stretch/>
        </p:blipFill>
        <p:spPr>
          <a:xfrm>
            <a:off x="539640" y="1125360"/>
            <a:ext cx="3332160" cy="21830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i?id=17402146-14-72&amp;n=21"/>
          <p:cNvPicPr/>
          <p:nvPr/>
        </p:nvPicPr>
        <p:blipFill>
          <a:blip r:embed="rId2"/>
          <a:stretch/>
        </p:blipFill>
        <p:spPr>
          <a:xfrm>
            <a:off x="5219640" y="1197000"/>
            <a:ext cx="3527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Невский проспек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076640"/>
            <a:ext cx="8229600" cy="17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вский проспект в Санкт-Петербурге – одна из самых первых и самая известная улица в Северной столице. Ее протяженность составляет 4,5 км. Наибольшая ширина – 60 м у Гостиного Двора, наименьшая – 25 м у Мойки. Это одна из 3-х улиц-лучей, расходящихся от Адмиралте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i?id=14973502-17-72&amp;n=21"/>
          <p:cNvPicPr/>
          <p:nvPr/>
        </p:nvPicPr>
        <p:blipFill>
          <a:blip r:embed="rId1"/>
          <a:stretch/>
        </p:blipFill>
        <p:spPr>
          <a:xfrm>
            <a:off x="2484360" y="1341360"/>
            <a:ext cx="41007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етний са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03640" y="1267920"/>
            <a:ext cx="3827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етний сад в Санкт-Петербурге увековечен во многих произведениях искусства, созданных художниками и поэтами. Многие из нас представляют его, читая поэму любимого поэта А.С.Пушкина «Евгений Онегин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л его всему шутя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докучал моралью строгой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легка за шалости бранил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 Летний сад гулять вод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все, кто впервые приехал в Петербург, несомненно, захотят увидеть этот зеленый островок, чтоб лучше понять воспетый поэтом прекрасный город и его ис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1236429649_ls"/>
          <p:cNvPicPr/>
          <p:nvPr/>
        </p:nvPicPr>
        <p:blipFill>
          <a:blip r:embed="rId1"/>
          <a:stretch/>
        </p:blipFill>
        <p:spPr>
          <a:xfrm>
            <a:off x="324000" y="2157480"/>
            <a:ext cx="439236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тропавловская креп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3848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 начале 18 века после победы над шведами в Северной войне необходимо было защитить завоеванные земли и построить крепость. 27 мая 1703 года, в день Святой Троицы, по чертежу Петра Первого на небольшом острове, в устье Невы, закладывается крепость. Остров назывался Заячий (в переводе с финского) или Веселый (со шведского) и по форме представлял собой вытянутый шестиугольник. Руководил строительством князь Александр Меншиков. Первоначально сооружения были земляными и деревянными. В октябре 1903 года строительство было заверше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119471_tribune_sankt_peterburg"/>
          <p:cNvPicPr/>
          <p:nvPr/>
        </p:nvPicPr>
        <p:blipFill>
          <a:blip r:embed="rId1"/>
          <a:stretch/>
        </p:blipFill>
        <p:spPr>
          <a:xfrm>
            <a:off x="4572000" y="1413000"/>
            <a:ext cx="432108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азанский соб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занский собор в Санкт-Петербурге – провославный кафедральный храм, расположенный в самом центре города. Фасады храма выходят на Невский проспект и канал Грибоедова. Это одно из самых больших сооружений в Северной столице. Его&amp; высота достигает 71,5 метра. По его имени названы остров в дельте Невы, мост на пересечении Невского проспекта и канала Грибоедова и улица, которая отходит хр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8" descr="1-sob_03_1"/>
          <p:cNvPicPr/>
          <p:nvPr/>
        </p:nvPicPr>
        <p:blipFill>
          <a:blip r:embed="rId1"/>
          <a:stretch/>
        </p:blipFill>
        <p:spPr>
          <a:xfrm>
            <a:off x="2556000" y="1125360"/>
            <a:ext cx="4200480" cy="31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Белые ноч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учшее время для отдыха в Петербурге – это лето, а еще лучше конец июня – начало июля. Ибо именно в это время Вы сможете наблюдать «белые ночи». Среди обывателей бытует мнение, что белые ночи – это период времени, когда солнце вовсе не садится. В действительности, Белые ночи - это ночи, в течение которых естественная освещённость так и не становится слишком низкой, т.е. вся ночь состоит лишь из сумерек. В Петербурге пик белых ночей приходится на 22 июня, а официально белые ночи длятся с 11 июня по 2 июля. В действительности же, все лето продолжительность дня в Санкт-Петербурге значительно больше чем, например, 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8" descr="0b175b5dff704d295242ba31d242d551"/>
          <p:cNvPicPr/>
          <p:nvPr/>
        </p:nvPicPr>
        <p:blipFill>
          <a:blip r:embed="rId1"/>
          <a:stretch/>
        </p:blipFill>
        <p:spPr>
          <a:xfrm>
            <a:off x="611280" y="1268280"/>
            <a:ext cx="3382920" cy="25336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0" descr="c6cec9e66169"/>
          <p:cNvPicPr/>
          <p:nvPr/>
        </p:nvPicPr>
        <p:blipFill>
          <a:blip r:embed="rId2"/>
          <a:stretch/>
        </p:blipFill>
        <p:spPr>
          <a:xfrm>
            <a:off x="1258920" y="4076640"/>
            <a:ext cx="3457440" cy="25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Алые пар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Картинка 27 из 282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1700280"/>
            <a:ext cx="59976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оверь зн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rcRect l="5370" t="25226" r="12038" b="8314"/>
          <a:stretch/>
        </p:blipFill>
        <p:spPr>
          <a:xfrm>
            <a:off x="539640" y="1484280"/>
            <a:ext cx="8136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Картинка 25 из 2825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8064720" cy="60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rcRect l="6968" t="28071" r="7110" b="0"/>
          <a:stretch/>
        </p:blipFill>
        <p:spPr>
          <a:xfrm>
            <a:off x="468360" y="620640"/>
            <a:ext cx="8280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4"/>
          <p:cNvSpPr txBox="1"/>
          <p:nvPr/>
        </p:nvSpPr>
        <p:spPr>
          <a:xfrm>
            <a:off x="1692360" y="1844640"/>
            <a:ext cx="5545080" cy="32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нец</a:t>
            </a:r>
            <a:endParaRPr b="1" i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етербург по праву считается одним из красивейших городов мира. Сотни туристов съезжаются сюда со всех концов света, чтобы своими глазами увидеть знаменитые памятники скульптуры и архитектуры, пройтись по улицам Северной столицы России и прикоснуться к ее истор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стория Санкт-Петербург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3640" y="1484280"/>
            <a:ext cx="388944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ание Санкт-Петербурга пришлось на период Северной войны со Швецией (1700-1721 гг.), когда Петр I пытался установить свою власть над всей территорией по течению Не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ной 1703 года была взята крепость Ниеншанц, стоявшая на месте впадения Охты в Не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епость находилась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удобном месте, была небольшой и не могла защитить Неву от попыток шведов вновь владеть е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7" descr="1283698631_13"/>
          <p:cNvPicPr/>
          <p:nvPr/>
        </p:nvPicPr>
        <p:blipFill>
          <a:blip r:embed="rId1"/>
          <a:stretch/>
        </p:blipFill>
        <p:spPr>
          <a:xfrm>
            <a:off x="324000" y="1557360"/>
            <a:ext cx="4392360" cy="296208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8"/>
          <p:cNvSpPr/>
          <p:nvPr/>
        </p:nvSpPr>
        <p:spPr>
          <a:xfrm>
            <a:off x="0" y="4797360"/>
            <a:ext cx="4933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этому 16 мая 1703 года на Заячьем острове на Неве Петр I решил заложить новый город и назвать его Санкт-Питербурхом (по-голландски), в честь своего святого. Позже это название заменили на немецкое  –  Санкт-Петербур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393372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род Санкт-Петербург сначала был крепостью, состоящей из шести бастионов, а рядом строились дома для Петра и его приближенных. До наших дней сохранился маленький деревянный домик царя, состоящий всего их двух комнат. С начала основания Петербурга, в нем не было ни одного кирпичного здания, даже знатные вельможи жили в маленьких мазанках-времянках. Естественно, что это приводило к пожарам. Особенно сильным был пожар, случившийся летом 1710 года. В течении часа он уничтожил Ростовский рынок Петербургско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15280"/>
          <p:cNvPicPr/>
          <p:nvPr/>
        </p:nvPicPr>
        <p:blipFill>
          <a:blip r:embed="rId1"/>
          <a:stretch/>
        </p:blipFill>
        <p:spPr>
          <a:xfrm>
            <a:off x="2627280" y="476280"/>
            <a:ext cx="450864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оме пожаров городу угрожали наводнения. Петр I сам описывал в письмах, как наводнения загоняли жителей на кровли, а по городу ездили на лодках. Но все это не смущало царя. Петр был влюблен в «свой» город и называл его «парадизом» - раем, хотя место, выбранное для города, было не идеальным, да и сам город был построен на костях крепост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1022_0"/>
          <p:cNvPicPr/>
          <p:nvPr/>
        </p:nvPicPr>
        <p:blipFill>
          <a:blip r:embed="rId1"/>
          <a:stretch/>
        </p:blipFill>
        <p:spPr>
          <a:xfrm>
            <a:off x="4356000" y="3284640"/>
            <a:ext cx="422604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549360"/>
            <a:ext cx="8075520" cy="25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1726 году, уже после смерти Петра I Петербург становится главным торговым портом страны, через него проходило в 2 раз больше товаров, чем через Архангельск. Этому способствовало строительство в 1709 году Вышневолоцкого канала, который связал Петербург с бассейном Волги и Каспийском морем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80806de9d8eade55ffc64c079e71e7a4"/>
          <p:cNvPicPr/>
          <p:nvPr/>
        </p:nvPicPr>
        <p:blipFill>
          <a:blip r:embed="rId1"/>
          <a:stretch/>
        </p:blipFill>
        <p:spPr>
          <a:xfrm>
            <a:off x="1763640" y="2924280"/>
            <a:ext cx="56167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1042920" y="476280"/>
            <a:ext cx="7272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архитектуре Петербурга сплетались русские и западные художественны традиции. Так возник особый стиль, который называют русским (или петровским) барокко. Петербург -  город моряков, торговцев и военных, стал одной из красивейших столиц ми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75cf0d80012a"/>
          <p:cNvPicPr/>
          <p:nvPr/>
        </p:nvPicPr>
        <p:blipFill>
          <a:blip r:embed="rId1"/>
          <a:stretch/>
        </p:blipFill>
        <p:spPr>
          <a:xfrm>
            <a:off x="1619280" y="2349360"/>
            <a:ext cx="5761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539280" y="4149360"/>
            <a:ext cx="801396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1914 году Санкт-Петербург переименовали в Петроград. С 1918 года Санкт-Петербург лишился столичного статуса, с 1924 года город стал называться Ленинградом. Самый тяжёлый период за всё время существования города - блокада Ленинграда. С июня 1941 по 1944 год велась битва за город. Только благодаря огромным жертвам защитников города, их мужеству и отваге, Ленинград продолжил своё существование, не сдался фашистким войск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800_441935aa1fb062954df8369879b8fc18"/>
          <p:cNvPicPr/>
          <p:nvPr/>
        </p:nvPicPr>
        <p:blipFill>
          <a:blip r:embed="rId1"/>
          <a:stretch/>
        </p:blipFill>
        <p:spPr>
          <a:xfrm flipH="1" rot="33000">
            <a:off x="1547640" y="691560"/>
            <a:ext cx="6048720" cy="28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9T15:24:52Z</dcterms:created>
  <dc:creator>home</dc:creator>
  <dc:description/>
  <dc:language>en-US</dc:language>
  <cp:lastModifiedBy>k217</cp:lastModifiedBy>
  <dcterms:modified xsi:type="dcterms:W3CDTF">2018-12-17T10:38:48Z</dcterms:modified>
  <cp:revision>5</cp:revision>
  <dc:subject/>
  <dc:title>Санкт-Петербург «вторая столица» России</dc:title>
</cp:coreProperties>
</file>