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57438-796B-4FA6-A730-6C8D6EF12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B65D8-560C-4EA3-B2D8-5873A9D8B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CE1C09-1C46-4932-A04A-3CA3C2ED4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B133-7C72-47E9-96D7-DC1B61F47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6336-A690-497A-8A31-BDB467EED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0D2A-5553-440D-A2E4-40BE6813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2AE0-23D8-4714-9B4B-ABAFB241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4864-360E-4DD1-9A0C-38A79195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DEF9-9591-47C8-8F8B-6598276E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578C6-ADC8-4987-937B-E2E7AA36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FCA5-DA43-4965-8A4B-D77E9937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1139D-9BB9-4CE3-AF36-8DE0EF63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C1E9-D5AC-402D-9EDE-EED46E83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2129A-D399-4C7D-987C-F5D038FC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B27A-AB10-4673-9A41-137E401B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2A45-89DA-4A1A-9BC6-FE029E05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B994-70CB-428C-B934-42253147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E6A78-E467-4734-8E61-4A77BBB8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1E414-74F5-4EE7-AA4E-738C96B7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62CAD-6D39-4363-810A-CF750CB0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AF3D9-8E13-4ABE-B4AB-8DAD3204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5538B-D2EA-4F98-AF45-A3FF01CA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B818-0EE4-4230-B46E-BA1C61D2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3E70-9817-41EB-B887-A46028911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546B-D4A2-4CB0-94CF-C22FD4357C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93BB-2BFA-4587-AB8C-8657BFE65F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2/21/83/21083383_Bezuymyannuyy12341234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tat8.blog.ru/lr/0a330620120dd3ed2af2d6e04d6504b3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0000"/>
                </a:solidFill>
                <a:latin typeface="Times New Roman"/>
              </a:rPr>
              <a:t>Санкт-Петербург </a:t>
            </a:r>
            <a:br>
              <a:rPr sz="4600"/>
            </a:br>
            <a:r>
              <a:rPr b="1" i="1" lang="ru-RU" sz="4600" spc="-1" strike="noStrike">
                <a:solidFill>
                  <a:srgbClr val="000000"/>
                </a:solidFill>
                <a:latin typeface="Times New Roman"/>
              </a:rPr>
              <a:t>«вторая столица» Росси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piter_2_maxi_2"/>
          <p:cNvPicPr/>
          <p:nvPr/>
        </p:nvPicPr>
        <p:blipFill>
          <a:blip r:embed="rId1"/>
          <a:stretch/>
        </p:blipFill>
        <p:spPr>
          <a:xfrm>
            <a:off x="1979640" y="3068640"/>
            <a:ext cx="42717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Достопримечательност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анкт-Петербур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73789963_img423"/>
          <p:cNvPicPr/>
          <p:nvPr/>
        </p:nvPicPr>
        <p:blipFill>
          <a:blip r:embed="rId1"/>
          <a:stretch/>
        </p:blipFill>
        <p:spPr>
          <a:xfrm>
            <a:off x="5796000" y="620640"/>
            <a:ext cx="2897280" cy="201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67327176_fotosmall"/>
          <p:cNvPicPr/>
          <p:nvPr/>
        </p:nvPicPr>
        <p:blipFill>
          <a:blip r:embed="rId2"/>
          <a:stretch/>
        </p:blipFill>
        <p:spPr>
          <a:xfrm>
            <a:off x="324000" y="4292640"/>
            <a:ext cx="3333600" cy="220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09175be662ad4ad9a90912986ef1582b"/>
          <p:cNvPicPr/>
          <p:nvPr/>
        </p:nvPicPr>
        <p:blipFill>
          <a:blip r:embed="rId3"/>
          <a:stretch/>
        </p:blipFill>
        <p:spPr>
          <a:xfrm>
            <a:off x="324000" y="62064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0d1ab66383e76218da504e6c8960e918"/>
          <p:cNvPicPr/>
          <p:nvPr/>
        </p:nvPicPr>
        <p:blipFill>
          <a:blip r:embed="rId4"/>
          <a:stretch/>
        </p:blipFill>
        <p:spPr>
          <a:xfrm>
            <a:off x="5651640" y="4221000"/>
            <a:ext cx="3073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овый Эрмит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826920" y="141300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ание Нового Эрмитажа построено в 1839 – 1852 годах специально для коллекций художественного музея. К этому времени коллекции Эрмитажа сильно разрослись, и это потребовало создание нового здания, для перемещения туда экспонатов из Малого и Старого Эрмитажа. Планировка Нового Эрмитажа осуществлялась с учетом создания благоприятных условий для экспозиции картин и других произведений искус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0e2d295993ca"/>
          <p:cNvPicPr/>
          <p:nvPr/>
        </p:nvPicPr>
        <p:blipFill>
          <a:blip r:embed="rId1"/>
          <a:stretch/>
        </p:blipFill>
        <p:spPr>
          <a:xfrm>
            <a:off x="4500720" y="3795840"/>
            <a:ext cx="39369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рейсер Авр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4149720"/>
            <a:ext cx="822960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йсер Аврора в Санкт-Петербурге – легендарный военный корабль, пришвартованный у Петроградской набережной северной столицы. На корабле постоянно несут боевую службу моряки Военно-Морского флота. Крейсер Аврора в Санкт-Петербурге является одним из символов северной стол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2ee03ac8471d"/>
          <p:cNvPicPr/>
          <p:nvPr/>
        </p:nvPicPr>
        <p:blipFill>
          <a:blip r:embed="rId1"/>
          <a:stretch/>
        </p:blipFill>
        <p:spPr>
          <a:xfrm>
            <a:off x="2268360" y="1268280"/>
            <a:ext cx="42008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унсткам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3833280"/>
            <a:ext cx="7848720" cy="26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нсткамера в Санкт-Петербурге - это один из старейших музеев Северной столицы и всей России. Он был создан по указу Петра Первого с целью собирания и исследования раритетов, рожденных как природой, так и руками человека. В настоящее время собрание Музея антропологии и этнографии им. Петра Великого - Кунсткамера Российской академии наук является одним из наиболее полных и интересных музеев в мире. В нем собрано более миллиона экспонатов. Более ста лет они служили исследователям в области археологии, анатомии и медиц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i?id=201456747-02-72&amp;n=21"/>
          <p:cNvPicPr/>
          <p:nvPr/>
        </p:nvPicPr>
        <p:blipFill>
          <a:blip r:embed="rId1"/>
          <a:stretch/>
        </p:blipFill>
        <p:spPr>
          <a:xfrm>
            <a:off x="539640" y="1125360"/>
            <a:ext cx="3332160" cy="218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i?id=17402146-14-72&amp;n=21"/>
          <p:cNvPicPr/>
          <p:nvPr/>
        </p:nvPicPr>
        <p:blipFill>
          <a:blip r:embed="rId2"/>
          <a:stretch/>
        </p:blipFill>
        <p:spPr>
          <a:xfrm>
            <a:off x="5219640" y="1197000"/>
            <a:ext cx="352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евский про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07664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вский проспект в Санкт-Петербурге – одна из самых первых и самая известная улица в Северной столице. Ее протяженность составляет 4,5 км. Наибольшая ширина – 60 м у Гостиного Двора, наименьшая – 25 м у Мойки. Это одна из 3-х улиц-лучей, расходящихся от Адмиралтей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i?id=14973502-17-72&amp;n=21"/>
          <p:cNvPicPr/>
          <p:nvPr/>
        </p:nvPicPr>
        <p:blipFill>
          <a:blip r:embed="rId1"/>
          <a:stretch/>
        </p:blipFill>
        <p:spPr>
          <a:xfrm>
            <a:off x="2484360" y="1341360"/>
            <a:ext cx="41007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етний с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03640" y="1267920"/>
            <a:ext cx="382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ний сад в Санкт-Петербурге увековечен во многих произведениях искусства, созданных художниками и поэтами. Многие из нас представляют его, читая поэму любимого поэта А.С.Пушкина «Евгений Онегин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л его всему шут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окучал моралью строго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гка за шалости брани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 Летний сад гулять вод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се, кто впервые приехал в Петербург, несомненно, захотят увидеть этот зеленый островок, чтоб лучше понять воспетый поэтом прекрасный город и его исто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1236429649_ls"/>
          <p:cNvPicPr/>
          <p:nvPr/>
        </p:nvPicPr>
        <p:blipFill>
          <a:blip r:embed="rId1"/>
          <a:stretch/>
        </p:blipFill>
        <p:spPr>
          <a:xfrm>
            <a:off x="324000" y="2157480"/>
            <a:ext cx="43923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етропавловская креп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18 века после победы над шведами в Северной войне необходимо было защитить завоеванные земли и построить крепость. 27 мая 1703 года, в день Святой Троицы, по чертежу Петра Первого на небольшом острове, в устье Невы, закладывается крепость. Остров назывался Заячий (в переводе с финского) или Веселый (со шведского) и по форме представлял собой вытянутый шестиугольник. Руководил строительством князь Александр Меншиков. Первоначально сооружения были земляными и деревянными. В октябре 1903 года строительство было заверше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119471_tribune_sankt_peterburg"/>
          <p:cNvPicPr/>
          <p:nvPr/>
        </p:nvPicPr>
        <p:blipFill>
          <a:blip r:embed="rId1"/>
          <a:stretch/>
        </p:blipFill>
        <p:spPr>
          <a:xfrm>
            <a:off x="4572000" y="1413000"/>
            <a:ext cx="4321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занский со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анский собор в Санкт-Петербурге – провославный кафедральный храм, расположенный в самом центре города. Фасады храма выходят на Невский проспект и канал Грибоедова. Это одно из самых больших сооружений в Северной столице. Его&amp; высота достигает 71,5 метра. По его имени названы остров в дельте Невы, мост на пересечении Невского проспекта и канала Грибоедова и улица, которая отходит х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1-sob_03_1"/>
          <p:cNvPicPr/>
          <p:nvPr/>
        </p:nvPicPr>
        <p:blipFill>
          <a:blip r:embed="rId1"/>
          <a:stretch/>
        </p:blipFill>
        <p:spPr>
          <a:xfrm>
            <a:off x="2556000" y="1125360"/>
            <a:ext cx="42004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елые но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шее время для отдыха в Петербурге – это лето, а еще лучше конец июня – начало июля. Ибо именно в это время Вы сможете наблюдать «белые ночи». Среди обывателей бытует мнение, что белые ночи – это период времени, когда солнце вовсе не садится. В действительности, Белые ночи - это ночи, в течение которых естественная освещённость так и не становится слишком низкой, т.е. вся ночь состоит лишь из сумерек. В Петербурге пик белых ночей приходится на 22 июня, а официально белые ночи длятся с 11 июня по 2 июля. В действительности же, все лето продолжительность дня в Санкт-Петербурге значительно больше чем, например,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0b175b5dff704d295242ba31d242d551"/>
          <p:cNvPicPr/>
          <p:nvPr/>
        </p:nvPicPr>
        <p:blipFill>
          <a:blip r:embed="rId1"/>
          <a:stretch/>
        </p:blipFill>
        <p:spPr>
          <a:xfrm>
            <a:off x="611280" y="1268280"/>
            <a:ext cx="3382920" cy="2533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c6cec9e66169"/>
          <p:cNvPicPr/>
          <p:nvPr/>
        </p:nvPicPr>
        <p:blipFill>
          <a:blip r:embed="rId2"/>
          <a:stretch/>
        </p:blipFill>
        <p:spPr>
          <a:xfrm>
            <a:off x="1258920" y="4076640"/>
            <a:ext cx="34574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ые пар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Картинка 27 из 282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976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5370" t="25226" r="12038" b="8314"/>
          <a:stretch/>
        </p:blipFill>
        <p:spPr>
          <a:xfrm>
            <a:off x="539640" y="1484280"/>
            <a:ext cx="813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Картинка 25 из 282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49360"/>
            <a:ext cx="806472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rcRect l="6968" t="28071" r="7110" b="0"/>
          <a:stretch/>
        </p:blipFill>
        <p:spPr>
          <a:xfrm>
            <a:off x="468360" y="620640"/>
            <a:ext cx="828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1692360" y="1844640"/>
            <a:ext cx="5545080" cy="32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</a:t>
            </a:r>
            <a:endParaRPr b="1" i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тербург по праву считается одним из красивейших городов мира. Сотни туристов съезжаются сюда со всех концов света, чтобы своими глазами увидеть знаменитые памятники скульптуры и архитектуры, пройтись по улицам Северной столицы России и прикоснуться к ее истор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стория Санкт-Петербур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640" y="1484280"/>
            <a:ext cx="3889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ие Санкт-Петербурга пришлось на период Северной войны со Швецией (1700-1721 гг.), когда Петр I пытался установить свою власть над всей территорией по течению Не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1703 года была взята крепость Ниеншанц, стоявшая на месте впадения Охты в Не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пость находилас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обном месте, была небольшой и не могла защитить Неву от попыток шведов вновь владеть е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283698631_13"/>
          <p:cNvPicPr/>
          <p:nvPr/>
        </p:nvPicPr>
        <p:blipFill>
          <a:blip r:embed="rId1"/>
          <a:stretch/>
        </p:blipFill>
        <p:spPr>
          <a:xfrm>
            <a:off x="324000" y="1557360"/>
            <a:ext cx="4392360" cy="2962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0" y="4797360"/>
            <a:ext cx="49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16 мая 1703 года на Заячьем острове на Неве Петр I решил заложить новый город и назвать его Санкт-Питербурхом (по-голландски), в честь своего святого. Позже это название заменили на немецкое  –  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 Санкт-Петербург сначала был крепостью, состоящей из шести бастионов, а рядом строились дома для Петра и его приближенных. До наших дней сохранился маленький деревянный домик царя, состоящий всего их двух комнат. С начала основания Петербурга, в нем не было ни одного кирпичного здания, даже знатные вельможи жили в маленьких мазанках-времянках. Естественно, что это приводило к пожарам. Особенно сильным был пожар, случившийся летом 1710 года. В течении часа он уничтожил Ростовский рынок Петербургско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5280"/>
          <p:cNvPicPr/>
          <p:nvPr/>
        </p:nvPicPr>
        <p:blipFill>
          <a:blip r:embed="rId1"/>
          <a:stretch/>
        </p:blipFill>
        <p:spPr>
          <a:xfrm>
            <a:off x="2627280" y="476280"/>
            <a:ext cx="45086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ме пожаров городу угрожали наводнения. Петр I сам описывал в письмах, как наводнения загоняли жителей на кровли, а по городу ездили на лодках. Но все это не смущало царя. Петр был влюблен в «свой» город и называл его «парадизом» - раем, хотя место, выбранное для города, было не идеальным, да и сам город был построен на костях крепос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1022_0"/>
          <p:cNvPicPr/>
          <p:nvPr/>
        </p:nvPicPr>
        <p:blipFill>
          <a:blip r:embed="rId1"/>
          <a:stretch/>
        </p:blipFill>
        <p:spPr>
          <a:xfrm>
            <a:off x="4356000" y="3284640"/>
            <a:ext cx="422604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0755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1726 году, уже после смерти Петра I Петербург становится главным торговым портом страны, через него проходило в 2 раз больше товаров, чем через Архангельск. Этому способствовало строительство в 1709 году Вышневолоцкого канала, который связал Петербург с бассейном Волги и Каспийском море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80806de9d8eade55ffc64c079e71e7a4"/>
          <p:cNvPicPr/>
          <p:nvPr/>
        </p:nvPicPr>
        <p:blipFill>
          <a:blip r:embed="rId1"/>
          <a:stretch/>
        </p:blipFill>
        <p:spPr>
          <a:xfrm>
            <a:off x="1763640" y="2924280"/>
            <a:ext cx="5616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042920" y="476280"/>
            <a:ext cx="727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архитектуре Петербурга сплетались русские и западные художественны традиции. Так возник особый стиль, который называют русским (или петровским) барокко. Петербург -  город моряков, торговцев и военных, стал одной из красивейших столиц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75cf0d80012a"/>
          <p:cNvPicPr/>
          <p:nvPr/>
        </p:nvPicPr>
        <p:blipFill>
          <a:blip r:embed="rId1"/>
          <a:stretch/>
        </p:blipFill>
        <p:spPr>
          <a:xfrm>
            <a:off x="1619280" y="2349360"/>
            <a:ext cx="5761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4149360"/>
            <a:ext cx="80139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14 году Санкт-Петербург переименовали в Петроград. С 1918 года Санкт-Петербург лишился столичного статуса, с 1924 года город стал называться Ленинградом. Самый тяжёлый период за всё время существования города - блокада Ленинграда. С июня 1941 по 1944 год велась битва за город. Только благодаря огромным жертвам защитников города, их мужеству и отваге, Ленинград продолжил своё существование, не сдался фашистким войс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800_441935aa1fb062954df8369879b8fc18"/>
          <p:cNvPicPr/>
          <p:nvPr/>
        </p:nvPicPr>
        <p:blipFill>
          <a:blip r:embed="rId1"/>
          <a:stretch/>
        </p:blipFill>
        <p:spPr>
          <a:xfrm flipH="1" rot="33000">
            <a:off x="1547640" y="691560"/>
            <a:ext cx="6048720" cy="28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5:24:52Z</dcterms:created>
  <dc:creator>home</dc:creator>
  <dc:description/>
  <dc:language>en-US</dc:language>
  <cp:lastModifiedBy>k217</cp:lastModifiedBy>
  <dcterms:modified xsi:type="dcterms:W3CDTF">2018-12-17T10:38:48Z</dcterms:modified>
  <cp:revision>5</cp:revision>
  <dc:subject/>
  <dc:title>Санкт-Петербург «вторая столица» России</dc:title>
</cp:coreProperties>
</file>