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AE83-D20F-45BD-B9BE-BD8FBCD0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6BE3-1807-458E-9480-C3F1E713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4711-34C1-4621-BED5-26AAEAEA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6026-385E-4210-BF01-1DD07620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C9C6-7647-4AA4-ACA9-70D2633D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8792-33A5-4699-AEA1-374FDD65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B7AB-CA14-42D1-894D-F0104091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F3EB-26BD-4E24-B076-773361E7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05B8-C96F-4DB7-8359-077BFF8E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806-285C-47D3-AB62-50F4EE97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988F-08D3-46C3-A2EA-A9DD3748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F674-2A56-4A99-B6E1-FFB8C689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3EC4-3A89-46E6-B992-A203F39B144A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1040" y="1133640"/>
            <a:ext cx="7377120" cy="1371600"/>
          </a:xfrm>
          <a:prstGeom prst="rect">
            <a:avLst/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Gothic"/>
              </a:rPr>
              <a:t>Страны Западной Европы - Великобритания</a:t>
            </a: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70400" y="2768760"/>
            <a:ext cx="3873600" cy="660240"/>
          </a:xfrm>
          <a:prstGeom prst="rect">
            <a:avLst/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тегрированный урок географии и английского языка в 11 клас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5126040" y="5676840"/>
            <a:ext cx="3873600" cy="993960"/>
          </a:xfrm>
          <a:prstGeom prst="rect">
            <a:avLst/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Автор: Гаврилюк Ольга Владимиров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учитель географии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МАОУ СОШ 38 г. Калининград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01916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entury Gothic"/>
              </a:rPr>
              <a:t>Творческие работы учащихся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9" name="Рисунок 4" descr=""/>
          <p:cNvPicPr/>
          <p:nvPr/>
        </p:nvPicPr>
        <p:blipFill>
          <a:blip r:embed="rId1"/>
          <a:stretch/>
        </p:blipFill>
        <p:spPr>
          <a:xfrm rot="20327400">
            <a:off x="341280" y="1671120"/>
            <a:ext cx="3867120" cy="2901960"/>
          </a:xfrm>
          <a:prstGeom prst="rect">
            <a:avLst/>
          </a:prstGeom>
          <a:ln w="0">
            <a:noFill/>
          </a:ln>
        </p:spPr>
      </p:pic>
      <p:pic>
        <p:nvPicPr>
          <p:cNvPr id="70" name="Объект 11" descr=""/>
          <p:cNvPicPr/>
          <p:nvPr/>
        </p:nvPicPr>
        <p:blipFill>
          <a:blip r:embed="rId2">
            <a:alphaModFix amt="90000"/>
          </a:blip>
          <a:stretch/>
        </p:blipFill>
        <p:spPr>
          <a:xfrm rot="1965600">
            <a:off x="4817880" y="2000160"/>
            <a:ext cx="3850920" cy="28879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8" descr=""/>
          <p:cNvPicPr/>
          <p:nvPr/>
        </p:nvPicPr>
        <p:blipFill>
          <a:blip r:embed="rId3"/>
          <a:stretch/>
        </p:blipFill>
        <p:spPr>
          <a:xfrm>
            <a:off x="2682720" y="3921120"/>
            <a:ext cx="38768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01916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entury Gothic"/>
              </a:rPr>
              <a:t>3. Рефлексия                                        и подведение итогов урока.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28560" y="1383840"/>
            <a:ext cx="7886880" cy="479268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Творческое домашнее задание: «Интересные факты  о стране»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5" descr=""/>
          <p:cNvPicPr/>
          <p:nvPr/>
        </p:nvPicPr>
        <p:blipFill>
          <a:blip r:embed="rId1"/>
          <a:stretch/>
        </p:blipFill>
        <p:spPr>
          <a:xfrm>
            <a:off x="1050840" y="1895400"/>
            <a:ext cx="70423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01916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entury Gothic"/>
              </a:rPr>
              <a:t>Литература: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28560" y="1383840"/>
            <a:ext cx="7886880" cy="479268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Ануфриева О.И. «Экономическая и социальная география мира» 10 класс, 2 часть, Поурочные планы на основе учебника В.П. Максаковского, Волгоград, «Учитель», 20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Жижина Е.А., Никитина Н.А.Поурочные разработки по географии, 10 класс, Москва «ВАКО», 200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Домогацких Е.М., Алексеевский Н.И., Экономическая и социальная география мира, Москва, «Русское слово», 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01916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Цели и задачи урока: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28560" y="1384200"/>
            <a:ext cx="7886880" cy="53136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формировать общегеографическое представление о Великобритании как об основной англо-говорящей стране путем интеграции школьных предметов: английского языка и географи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обучающие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: расширить знания по Великобритании в области географии, используя английский язык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развивающие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: формировать у учащихся умения давать комплексную характеристику государства, устанавливать причинно – следственные связи между различными компонентами природы и населения, работать с различными географическими картами, анализировать картографические материалы и давать краткую характеристику отраслям специализации. Развивать навыки и умения логического построения монологических высказываний на английском языке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воспитательные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: воспитывать чувство уважения и интерес к культуре и народу страны изучаемого языка; воспитывать потребность в практическом применении языка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01916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Учебно-методическое обеспечение: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28560" y="1383840"/>
            <a:ext cx="7886880" cy="479268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: В.П. Максаковский «Экономическая и социальная география мира» Москва, «Просвещение», 201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И.Сиротин. География. Рабочая тетрадь с комплектом контурных карт – М.: Дрофа, 201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Мультимедийное оборудование, компьютерные презентации, карты атласа для 10 класса, настенная карта Великобритании, рабочие лист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628560" y="2925720"/>
            <a:ext cx="7886880" cy="101916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entury Gothic"/>
              </a:rPr>
              <a:t>Оборудование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4" descr=""/>
          <p:cNvPicPr/>
          <p:nvPr/>
        </p:nvPicPr>
        <p:blipFill>
          <a:blip r:embed="rId1"/>
          <a:stretch/>
        </p:blipFill>
        <p:spPr>
          <a:xfrm rot="21148200">
            <a:off x="3686040" y="4549680"/>
            <a:ext cx="1519200" cy="20145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"/>
          <p:cNvPicPr/>
          <p:nvPr/>
        </p:nvPicPr>
        <p:blipFill>
          <a:blip r:embed="rId2"/>
          <a:stretch/>
        </p:blipFill>
        <p:spPr>
          <a:xfrm rot="19786200">
            <a:off x="2155680" y="4763880"/>
            <a:ext cx="1764000" cy="2043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"/>
          <p:cNvPicPr/>
          <p:nvPr/>
        </p:nvPicPr>
        <p:blipFill>
          <a:blip r:embed="rId3"/>
          <a:stretch/>
        </p:blipFill>
        <p:spPr>
          <a:xfrm rot="1794000">
            <a:off x="6629400" y="4937040"/>
            <a:ext cx="1593720" cy="19908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"/>
          <p:cNvPicPr/>
          <p:nvPr/>
        </p:nvPicPr>
        <p:blipFill>
          <a:blip r:embed="rId4"/>
          <a:stretch/>
        </p:blipFill>
        <p:spPr>
          <a:xfrm rot="1177800">
            <a:off x="5721480" y="4633920"/>
            <a:ext cx="19731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154080"/>
            <a:ext cx="7886880" cy="148752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Ход рока: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1. Организационный момен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Постановка учебных целей и задач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8200" y="1641600"/>
            <a:ext cx="8218440" cy="495288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Учитель английского языка: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Good morning, dear students and guests! We are glad to see you. Today we integrated a lesson in geography and English language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Учитель географии: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Угадайте о какой стране будет идти речь. «Природа этой страны удивительна и необычна. Это государство расположено на островах. Южные берега самого большого острова круто обрываются к проливу Ла-Манш. Если смотреть на них со стороны моря, они представляют собой сплошную стену белого цвета. Это меловые отложения. Из-за этого в древности остров называли «Альбион», что означает «белый»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Учитель английского языка: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You are right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subject of our discussion is Great Britain.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Учитель географии: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Тема сегодняшнего урока: «Великобритания. Европейская страна «Большой семерки». Цель: Сформировать общегеографическое представление о Великобритании используя английский язык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4160" y="102960"/>
            <a:ext cx="7886520" cy="101916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entury Gothic"/>
              </a:rPr>
              <a:t>2. Работа в группах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160" y="1122480"/>
            <a:ext cx="7886520" cy="554328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Учитель английского языка: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You are right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You are right. The subject of our discussion is Great Britain. You have already known a lot about this country, its location, its people, customs and traditions. But some things are easily forgotten. Let's brush up our knowledg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Учитель английского языка: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you speak about any country, what topics do you discuss?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Учитель географии: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спомним план экономико-географической характеристики стран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тветы учащихся: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geographic location, climate, population, resources, industries, landmarks, customs and traditions.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25" descr=""/>
          <p:cNvPicPr/>
          <p:nvPr/>
        </p:nvPicPr>
        <p:blipFill>
          <a:blip r:embed="rId1"/>
          <a:stretch/>
        </p:blipFill>
        <p:spPr>
          <a:xfrm>
            <a:off x="2981160" y="3903840"/>
            <a:ext cx="348948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01916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entury Gothic"/>
              </a:rPr>
              <a:t>2. Работа в группах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28560" y="1383840"/>
            <a:ext cx="7886880" cy="527364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Учитель английского языка: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ur class is divided into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groups. Each group will get а task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Учитель географи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Группа №1.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Задание: Пользуясь форзацем учебника, составьте «Визитную карточку страны»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Группа №2.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Задание: Пользуясь картами атласа и другими источниками географической информации, определите основные черты географического положения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Группа №3.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Задание: Пользуясь картами атласа, дайте описание рельефа страны, определите тип климата  и причины, оказывающие влияние на него. Дайте оценку природным ресурсам и полезным ископаемым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Группа №4.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Задание: Пользуясь картами атласа и другими источниками географической информации, определите основные черты населения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1520" y="90000"/>
            <a:ext cx="7886520" cy="101916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entury Gothic"/>
              </a:rPr>
              <a:t>Работа в группах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8560" y="1109520"/>
            <a:ext cx="7886880" cy="506736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Группа №5.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Задание: Определите ведущие отрасли промышленности и основные центры размещения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Группа №6.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Дайте оценку развития сельского хозяйства. Инфраструктуры. Внешним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экономическим связям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Группа №7.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Достопримечательности Великобритании. Творческая работы учащихся на английском язык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Ребята получают рабочие листы с заданиями и работают в течение  10 минут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5" descr=""/>
          <p:cNvPicPr/>
          <p:nvPr/>
        </p:nvPicPr>
        <p:blipFill>
          <a:blip r:embed="rId1"/>
          <a:stretch/>
        </p:blipFill>
        <p:spPr>
          <a:xfrm>
            <a:off x="4767120" y="3753000"/>
            <a:ext cx="4017960" cy="30128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"/>
          <p:cNvPicPr/>
          <p:nvPr/>
        </p:nvPicPr>
        <p:blipFill>
          <a:blip r:embed="rId2"/>
          <a:stretch/>
        </p:blipFill>
        <p:spPr>
          <a:xfrm>
            <a:off x="409680" y="3753000"/>
            <a:ext cx="401796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5600" y="506160"/>
            <a:ext cx="7886520" cy="101916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entury Gothic"/>
              </a:rPr>
              <a:t>Подведение итогов работы в группах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>
            <a:alphaModFix amt="90000"/>
          </a:blip>
          <a:stretch/>
        </p:blipFill>
        <p:spPr>
          <a:xfrm>
            <a:off x="1504800" y="1681200"/>
            <a:ext cx="639144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01916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Подведение итогов работы в группах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Объект 6" descr=""/>
          <p:cNvPicPr/>
          <p:nvPr/>
        </p:nvPicPr>
        <p:blipFill>
          <a:blip r:embed="rId1">
            <a:alphaModFix amt="90000"/>
          </a:blip>
          <a:stretch/>
        </p:blipFill>
        <p:spPr>
          <a:xfrm>
            <a:off x="1300320" y="1590840"/>
            <a:ext cx="682452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9T11:37:25Z</dcterms:created>
  <dc:creator>Инна</dc:creator>
  <dc:description/>
  <dc:language>en-US</dc:language>
  <cp:lastModifiedBy>admin</cp:lastModifiedBy>
  <dcterms:modified xsi:type="dcterms:W3CDTF">2018-12-18T21:34:16Z</dcterms:modified>
  <cp:revision>25</cp:revision>
  <dc:subject/>
  <dc:title>Презентация PowerPoint</dc:title>
</cp:coreProperties>
</file>