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F47-C8FE-4730-A633-1FB6A8C2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782-81B2-472F-9486-1D82F92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EB9-893E-4EB0-954A-A0CF30C9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A34-CA2A-43F5-9097-D636597B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C27-9596-4858-AF8F-97F202AB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06D-B7A2-44F6-B549-456AF69F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5C5-A370-47EE-BF10-31C8220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915-76F8-4366-953F-2530D4A1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B94-2701-4195-B603-8734C92A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30C-815F-496E-840D-E7E284A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339-8484-4397-A489-4F4B08C7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0ED-A8F0-414C-8C1D-2587E62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4175-9082-4462-9792-968005DDD70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1040" y="1133640"/>
            <a:ext cx="7377120" cy="137160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Gothic"/>
              </a:rPr>
              <a:t>Страны Западной Европы - Великобритания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70400" y="2768760"/>
            <a:ext cx="3873600" cy="66024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тегрированный урок географии и английского языка в 11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5126040" y="5676840"/>
            <a:ext cx="3873600" cy="99396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втор: Гаврилюк Ольга Владимир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АОУ СОШ 38 г. Калинингра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Творческие работы учащихся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 rot="20327400">
            <a:off x="341280" y="1671120"/>
            <a:ext cx="3867120" cy="290196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11" descr=""/>
          <p:cNvPicPr/>
          <p:nvPr/>
        </p:nvPicPr>
        <p:blipFill>
          <a:blip r:embed="rId2">
            <a:alphaModFix amt="90000"/>
          </a:blip>
          <a:stretch/>
        </p:blipFill>
        <p:spPr>
          <a:xfrm rot="1965600">
            <a:off x="4817880" y="2000160"/>
            <a:ext cx="3850920" cy="2887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"/>
          <p:cNvPicPr/>
          <p:nvPr/>
        </p:nvPicPr>
        <p:blipFill>
          <a:blip r:embed="rId3"/>
          <a:stretch/>
        </p:blipFill>
        <p:spPr>
          <a:xfrm>
            <a:off x="2682720" y="3921120"/>
            <a:ext cx="38768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3. Рефлексия                                        и подведение итогов урока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ворческое домашнее задание: «Интересные факты  о стране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1050840" y="1895400"/>
            <a:ext cx="7042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Литература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уфриева О.И. «Экономическая и социальная география мира» 10 класс, 2 часть, Поурочные планы на основе учебника В.П. Максаковского, Волгоград, «Учитель»,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Жижина Е.А., Никитина Н.А.Поурочные разработки по географии, 10 класс, Москва «ВАКО»,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Домогацких Е.М., Алексеевский Н.И., Экономическая и социальная география мира, Москва, «Русское слово»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Цели и задачи урока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384200"/>
            <a:ext cx="7886880" cy="53136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формировать общегеографическое представление о Великобритании как об основной англо-говорящей стране путем интеграции школьных предметов: английского языка и географи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бучающ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 расширить знания по Великобритании в области географии, используя английский язык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 формировать у учащихся умения давать комплексную характеристику государства, устанавливать причинно – следственные связи между различными компонентами природы и населения, работать с различными географическими картами, анализировать картографические материалы и давать краткую характеристику отраслям специализации. Развивать навыки и умения логического построения монологических высказываний на английском язы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 воспитывать чувство уважения и интерес к культуре и народу страны изучаемого языка; воспитывать потребность в практическом применении язык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чебно-методическое обеспечение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: В.П. Максаковский «Экономическая и социальная география мира» Москва, «Просвещение», 201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Сиротин. География. Рабочая тетрадь с комплектом контурных карт – М.: Дрофа, 201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ультимедийное оборудование, компьютерные презентации, карты атласа для 10 класса, настенная карта Великобритании, рабочие лис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28560" y="292572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Оборудование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 rot="21148200">
            <a:off x="3686040" y="4549680"/>
            <a:ext cx="1519200" cy="2014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 rot="19786200">
            <a:off x="2155680" y="4763880"/>
            <a:ext cx="1764000" cy="2043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3"/>
          <a:stretch/>
        </p:blipFill>
        <p:spPr>
          <a:xfrm rot="1794000">
            <a:off x="6629400" y="4937040"/>
            <a:ext cx="1593720" cy="1990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4"/>
          <a:stretch/>
        </p:blipFill>
        <p:spPr>
          <a:xfrm rot="1177800">
            <a:off x="5721480" y="4633920"/>
            <a:ext cx="1973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154080"/>
            <a:ext cx="7886880" cy="148752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од рока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. Организационный момен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становка учебных целей и зада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200" y="1641600"/>
            <a:ext cx="8218440" cy="4952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ood morning, dear students and guests! We are glad to see you. Today we integrated a lesson in geography and English language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гадайте о какой стране будет идти речь. «Природа этой страны удивительна и необычна. Это государство расположено на островах. Южные берега самого большого острова круто обрываются к проливу Ла-Манш. Если смотреть на них со стороны моря, они представляют собой сплошную стену белого цвета. Это меловые отложения. Из-за этого в древности остров называли «Альбион», что означает «белый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You are right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subject of our discussion is Great Britain.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ема сегодняшнего урока: «Великобритания. Европейская страна «Большой семерки». Цель: Сформировать общегеографическое представление о Великобритании используя английский язык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02960"/>
            <a:ext cx="788652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2. Работа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160" y="1122480"/>
            <a:ext cx="7886520" cy="55432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are right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are right. The subject of our discussion is Great Britain. You have already known a lot about this country, its location, its people, customs and traditions. But some things are easily forgotten. Let's brush up our knowledg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speak about any country, what topics do you discuss?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спомним план экономико-географической характеристики стран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веты учащихся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eographic location, climate, population, resources, industries, landmarks, customs and traditions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5" descr=""/>
          <p:cNvPicPr/>
          <p:nvPr/>
        </p:nvPicPr>
        <p:blipFill>
          <a:blip r:embed="rId1"/>
          <a:stretch/>
        </p:blipFill>
        <p:spPr>
          <a:xfrm>
            <a:off x="2981160" y="3903840"/>
            <a:ext cx="34894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2. Работа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383840"/>
            <a:ext cx="7886880" cy="52736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r class is divided into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groups. Each group will get а tas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1.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льзуясь форзацем учебника, составьте «Визитную карточку страны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2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Пользуясь картами атласа и другими источниками географической информации, определите основные черты географического положе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3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Пользуясь картами атласа, дайте описание рельефа страны, определите тип климата  и причины, оказывающие влияние на него. Дайте оценку природным ресурсам и полезным ископаемы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4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Пользуясь картами атласа и другими источниками географической информации, определите основные черты населе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1520" y="90000"/>
            <a:ext cx="788652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Работа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1109520"/>
            <a:ext cx="7886880" cy="50673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5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Определите ведущие отрасли промышленности и основные центры размеще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6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Дайте оценку развития сельского хозяйства. Инфраструктуры. Внешним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экономическим связя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7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Достопримечательности Великобритании. Творческая работы учащихся на английском язык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Ребята получают рабочие листы с заданиями и работают в течение  10 мину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5" descr=""/>
          <p:cNvPicPr/>
          <p:nvPr/>
        </p:nvPicPr>
        <p:blipFill>
          <a:blip r:embed="rId1"/>
          <a:stretch/>
        </p:blipFill>
        <p:spPr>
          <a:xfrm>
            <a:off x="4767120" y="3753000"/>
            <a:ext cx="4017960" cy="30128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409680" y="3753000"/>
            <a:ext cx="401796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506160"/>
            <a:ext cx="788652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Подведение итогов работы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1504800" y="1681200"/>
            <a:ext cx="63914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дведение итогов работы в группах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6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1300320" y="1590840"/>
            <a:ext cx="68245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11:37:25Z</dcterms:created>
  <dc:creator>Инна</dc:creator>
  <dc:description/>
  <dc:language>en-US</dc:language>
  <cp:lastModifiedBy>admin</cp:lastModifiedBy>
  <dcterms:modified xsi:type="dcterms:W3CDTF">2018-12-18T21:34:16Z</dcterms:modified>
  <cp:revision>25</cp:revision>
  <dc:subject/>
  <dc:title>Презентация PowerPoint</dc:title>
</cp:coreProperties>
</file>