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EA06-5003-4578-9AD2-FDD1358B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9CE-1242-4716-8E33-768839CE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626-1E6B-4F61-AA6A-5B6A253E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944-9275-4713-AA08-10505DE3C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9CF4-B79E-4D77-8FDF-0CE591E6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763A-1CC5-48D7-864D-C9B31089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4DCB-8F46-4D30-81D9-845D8A53E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295F-656E-4658-AF2E-E967BC22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FA0-E228-4E8C-8C1E-73BA2C57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684E-F61E-47AF-A849-5B58E4C9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965-9D80-449E-BFCF-75C99CBE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E2B-290F-4FC6-8329-461FF386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B304-745E-4503-BA20-DF34A4315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16000" y="1125360"/>
            <a:ext cx="6840720" cy="263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рем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348000" y="4005360"/>
            <a:ext cx="2685960" cy="28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39640" y="260280"/>
            <a:ext cx="8136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ословицы и поговорки о времен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32000" y="2492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инута - час береж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328464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День и ночь- сутки пр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4005360"/>
            <a:ext cx="69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елу – время, потехе –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42920" y="521820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Шутка –минутка, а заряжает на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332000" y="1268280"/>
            <a:ext cx="69120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44220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тавила Долгошеева 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250920" y="1125360"/>
            <a:ext cx="8675640" cy="4669560"/>
            <a:chOff x="250920" y="1125360"/>
            <a:chExt cx="8675640" cy="466956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3382920" y="1125360"/>
              <a:ext cx="179388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4714920" y="2781360"/>
              <a:ext cx="1584360" cy="288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977840" y="2709720"/>
              <a:ext cx="23050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25840" y="3286080"/>
              <a:ext cx="0" cy="1366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50920" y="2843280"/>
              <a:ext cx="2448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Минутная стрелк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46560" y="4726080"/>
              <a:ext cx="2735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Часовая стрел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299280" y="2709720"/>
              <a:ext cx="2627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Секундная стрелк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685960" cy="2851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0" y="2133720"/>
            <a:ext cx="0" cy="2303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4508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Чтобы прошли одни сутки, нужно чтобы часовая стрелка прошла два полных кру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602136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4часа=1су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600120"/>
            <a:ext cx="2449800" cy="1646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219640" y="333360"/>
            <a:ext cx="1735200" cy="1774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51280" y="692280"/>
            <a:ext cx="86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24720" y="620640"/>
            <a:ext cx="79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71640" y="3778200"/>
            <a:ext cx="712944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Arial"/>
              </a:rPr>
              <a:t>1 сутки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76720" y="620640"/>
            <a:ext cx="2685960" cy="285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16360" y="1773360"/>
            <a:ext cx="503280" cy="2592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4437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гда минутная стрелка обойдет один круг, то пройдет 1час или 60мину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3640" y="573408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час=60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619360" y="333360"/>
            <a:ext cx="1530360" cy="2395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335772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Обходя один круг секундная стрелка говорит, что прошла одна минута или 60 секун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5229360"/>
            <a:ext cx="35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60сек=1м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19280" y="1268280"/>
            <a:ext cx="6265800" cy="41580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1сут=24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1ч=60ми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1мин=60се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755640" y="1349280"/>
            <a:ext cx="7488360" cy="1751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55640" y="404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Который час показывают час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4221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ча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342900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ча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067280" y="4797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9часов15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43640" y="350028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1ч45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484360" y="2349360"/>
            <a:ext cx="6372360" cy="2289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3284640"/>
            <a:ext cx="24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часа30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84720" y="12589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5часов15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2000" y="515772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9часов50м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4:40:54Z</dcterms:created>
  <dc:creator>User</dc:creator>
  <dc:description/>
  <dc:language>en-US</dc:language>
  <cp:lastModifiedBy>User</cp:lastModifiedBy>
  <dcterms:modified xsi:type="dcterms:W3CDTF">2008-11-22T14:23:54Z</dcterms:modified>
  <cp:revision>3</cp:revision>
  <dc:subject/>
  <dc:title>Слайд 1</dc:title>
</cp:coreProperties>
</file>