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3CB-D09F-4849-BE95-334F828C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9762-6300-495D-9F27-3297C9E4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F003-EF8A-4D76-96C8-19EC2FC0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DC5F-140D-4C7C-A91A-21E37FE7E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40F-EF38-4412-AB56-E30C05F8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C555-2C99-4D0D-AA66-B7E1E19F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736C-638B-4105-9DEF-27DC625B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B3F-B063-4BBF-9A0B-F00F0319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C0F4-1458-487D-867A-AC3FCCD4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7FB-9ACB-45F7-B9BF-73674159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7718-AB00-4F8C-AFB5-2BE9CB19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131-D6C5-4D19-BE56-BC4C2725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9CDA-BF1D-4BA3-AE9F-E39773692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1125360"/>
            <a:ext cx="6840720" cy="263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рем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0" y="4005360"/>
            <a:ext cx="268596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39640" y="260280"/>
            <a:ext cx="8136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словицы и поговорки о времен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32000" y="2492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инута - час бере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3284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ень и ночь- сутки про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40053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елу – время, потехе –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52182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Шутка –минутка, а заряжает на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332000" y="1268280"/>
            <a:ext cx="69120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64422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 Долгошеева 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50920" y="1125360"/>
            <a:ext cx="8675640" cy="4669560"/>
            <a:chOff x="250920" y="1125360"/>
            <a:chExt cx="8675640" cy="466956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382920" y="1125360"/>
              <a:ext cx="179388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714920" y="2781360"/>
              <a:ext cx="1584360" cy="288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977840" y="2709720"/>
              <a:ext cx="2305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25840" y="3286080"/>
              <a:ext cx="0" cy="1366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2843280"/>
              <a:ext cx="2448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Минутная стрел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46560" y="4726080"/>
              <a:ext cx="2735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Часовая стрел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99280" y="2709720"/>
              <a:ext cx="2627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Секундная стрел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2685960" cy="2851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0" y="2133720"/>
            <a:ext cx="0" cy="23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508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Чтобы прошли одни сутки, нужно чтобы часовая стрелка прошла два полных кру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602136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4часа=1су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600120"/>
            <a:ext cx="2449800" cy="164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19640" y="333360"/>
            <a:ext cx="1735200" cy="1774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51280" y="69228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24720" y="620640"/>
            <a:ext cx="7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3778200"/>
            <a:ext cx="71294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0000"/>
                </a:solidFill>
                <a:latin typeface="Arial"/>
              </a:rPr>
              <a:t>1 сутки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2685960" cy="2851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16360" y="1773360"/>
            <a:ext cx="503280" cy="25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4437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гда минутная стрелка обойдет один круг, то пройдет 1час или 60мину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3640" y="57340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час=60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19360" y="333360"/>
            <a:ext cx="1530360" cy="2395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335772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бходя один круг секундная стрелка говорит, что прошла одна минута или 60 секун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5229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60сек=1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19280" y="1268280"/>
            <a:ext cx="6265800" cy="4158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1сут=24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1ч=60ми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1мин=60се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1349280"/>
            <a:ext cx="7488360" cy="1751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5640" y="404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торый час показывают час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42210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3429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67280" y="47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часов15м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43640" y="3500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ч45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6372360" cy="2289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3284640"/>
            <a:ext cx="24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часа30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84720" y="12589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часов15м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2000" y="5157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часов50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4:40:54Z</dcterms:created>
  <dc:creator>User</dc:creator>
  <dc:description/>
  <dc:language>en-US</dc:language>
  <cp:lastModifiedBy>User</cp:lastModifiedBy>
  <dcterms:modified xsi:type="dcterms:W3CDTF">2008-11-22T14:23:54Z</dcterms:modified>
  <cp:revision>3</cp:revision>
  <dc:subject/>
  <dc:title>Слайд 1</dc:title>
</cp:coreProperties>
</file>