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0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651-8B4D-40B5-8ED8-922435ED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9AC-429B-4384-A218-3D864A9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DED-6456-4B1C-A569-3874E674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99F-178F-47C5-8759-2170F0B6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511-45C7-4A9F-975E-68636B4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A95-E7F7-4327-A78F-0E5B1F4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2CA-9181-47AD-AD80-E7533098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42C-52B2-4050-895B-8855DAD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2DC-EC50-46D6-959B-538CC08A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FDE-955B-446B-9DB1-7A6CA5C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F69-BB5E-4ECE-A757-84ABD1A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4A1-F030-4D06-9860-17EF7AE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299-8A61-4706-A737-C211EE57D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76320"/>
            <a:ext cx="4343400" cy="3809880"/>
            <a:chOff x="76320" y="76320"/>
            <a:chExt cx="4343400" cy="3809880"/>
          </a:xfrm>
        </p:grpSpPr>
        <p:sp>
          <p:nvSpPr>
            <p:cNvPr id="42" name=""/>
            <p:cNvSpPr/>
            <p:nvPr/>
          </p:nvSpPr>
          <p:spPr>
            <a:xfrm>
              <a:off x="76320" y="76320"/>
              <a:ext cx="4343400" cy="380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0461800">
              <a:off x="2781000" y="838080"/>
              <a:ext cx="685440" cy="236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727" y="1768"/>
                    <a:pt x="9854" y="5080"/>
                    <a:pt x="9854" y="10800"/>
                  </a:cubicBezTo>
                  <a:cubicBezTo>
                    <a:pt x="9854" y="16520"/>
                    <a:pt x="15727" y="198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9040" y="76320"/>
              <a:ext cx="380520" cy="53316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47840" y="228600"/>
              <a:ext cx="380520" cy="53352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33440" y="1676520"/>
              <a:ext cx="380520" cy="53316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3960" y="2743200"/>
              <a:ext cx="380520" cy="53352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05040" y="1143000"/>
              <a:ext cx="228240" cy="22860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1360" y="1143000"/>
              <a:ext cx="75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92400" y="2327400"/>
              <a:ext cx="186840" cy="1587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118" y="62"/>
                  </a:moveTo>
                  <a:cubicBezTo>
                    <a:pt x="82" y="55"/>
                    <a:pt x="51" y="46"/>
                    <a:pt x="16" y="34"/>
                  </a:cubicBezTo>
                  <a:cubicBezTo>
                    <a:pt x="13" y="25"/>
                    <a:pt x="0" y="14"/>
                    <a:pt x="7" y="7"/>
                  </a:cubicBezTo>
                  <a:cubicBezTo>
                    <a:pt x="14" y="0"/>
                    <a:pt x="29" y="8"/>
                    <a:pt x="35" y="16"/>
                  </a:cubicBezTo>
                  <a:cubicBezTo>
                    <a:pt x="46" y="32"/>
                    <a:pt x="47" y="53"/>
                    <a:pt x="53" y="72"/>
                  </a:cubicBezTo>
                  <a:cubicBezTo>
                    <a:pt x="56" y="81"/>
                    <a:pt x="54" y="100"/>
                    <a:pt x="63" y="99"/>
                  </a:cubicBezTo>
                  <a:cubicBezTo>
                    <a:pt x="85" y="96"/>
                    <a:pt x="100" y="74"/>
                    <a:pt x="118" y="6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24280" y="76320"/>
            <a:ext cx="4343400" cy="3809880"/>
            <a:chOff x="4724280" y="76320"/>
            <a:chExt cx="4343400" cy="3809880"/>
          </a:xfrm>
        </p:grpSpPr>
        <p:sp>
          <p:nvSpPr>
            <p:cNvPr id="52" name=""/>
            <p:cNvSpPr/>
            <p:nvPr/>
          </p:nvSpPr>
          <p:spPr>
            <a:xfrm>
              <a:off x="4724280" y="76320"/>
              <a:ext cx="4343400" cy="3809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53080" y="152280"/>
              <a:ext cx="2361960" cy="22100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2560" y="685800"/>
              <a:ext cx="1143000" cy="11430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99072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48360" y="99072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67480" y="106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4680" y="106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8840" y="457200"/>
              <a:ext cx="1447920" cy="838080"/>
            </a:xfrm>
            <a:prstGeom prst="cloudCallout">
              <a:avLst>
                <a:gd name="adj1" fmla="val 1097"/>
                <a:gd name="adj2" fmla="val 31250"/>
              </a:avLst>
            </a:prstGeom>
            <a:solidFill>
              <a:srgbClr val="ffffff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62560" y="2514600"/>
              <a:ext cx="1447920" cy="838080"/>
            </a:xfrm>
            <a:prstGeom prst="cloudCallout">
              <a:avLst>
                <a:gd name="adj1" fmla="val 1097"/>
                <a:gd name="adj2" fmla="val 31250"/>
              </a:avLst>
            </a:prstGeom>
            <a:solidFill>
              <a:srgbClr val="ffffff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4920" y="3962520"/>
            <a:ext cx="8534160" cy="289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4038480"/>
            <a:ext cx="2895480" cy="2743200"/>
            <a:chOff x="685800" y="4038480"/>
            <a:chExt cx="2895480" cy="2743200"/>
          </a:xfrm>
        </p:grpSpPr>
        <p:sp>
          <p:nvSpPr>
            <p:cNvPr id="63" name=""/>
            <p:cNvSpPr/>
            <p:nvPr/>
          </p:nvSpPr>
          <p:spPr>
            <a:xfrm>
              <a:off x="685800" y="4038480"/>
              <a:ext cx="2895480" cy="2743200"/>
            </a:xfrm>
            <a:prstGeom prst="rect">
              <a:avLst/>
            </a:prstGeom>
            <a:solidFill>
              <a:srgbClr val="bd0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7760" y="4038480"/>
              <a:ext cx="5335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12408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20040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27636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35268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2900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0496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162080" y="4594680"/>
              <a:ext cx="150480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казки</a:t>
              </a:r>
              <a:endPara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4343400"/>
            <a:ext cx="4343400" cy="2133720"/>
            <a:chOff x="4343400" y="4343400"/>
            <a:chExt cx="4343400" cy="2133720"/>
          </a:xfrm>
        </p:grpSpPr>
        <p:sp>
          <p:nvSpPr>
            <p:cNvPr id="73" name=""/>
            <p:cNvSpPr/>
            <p:nvPr/>
          </p:nvSpPr>
          <p:spPr>
            <a:xfrm>
              <a:off x="4343400" y="4343400"/>
              <a:ext cx="4343400" cy="2133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5334120"/>
              <a:ext cx="1219320" cy="68580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dfe2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5791320"/>
              <a:ext cx="8380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5562720"/>
              <a:ext cx="838440" cy="6094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5029200"/>
              <a:ext cx="838080" cy="609480"/>
            </a:xfrm>
            <a:prstGeom prst="ellipse">
              <a:avLst/>
            </a:prstGeom>
            <a:solidFill>
              <a:srgbClr val="fc46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4495680"/>
              <a:ext cx="838080" cy="609840"/>
            </a:xfrm>
            <a:prstGeom prst="ellipse">
              <a:avLst/>
            </a:prstGeom>
            <a:solidFill>
              <a:srgbClr val="f8a6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6600" y="4572000"/>
              <a:ext cx="838080" cy="6094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029200"/>
              <a:ext cx="824040" cy="609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5800" y="2666880"/>
            <a:ext cx="8381880" cy="3926880"/>
            <a:chOff x="685800" y="2666880"/>
            <a:chExt cx="8381880" cy="3926880"/>
          </a:xfrm>
        </p:grpSpPr>
        <p:sp>
          <p:nvSpPr>
            <p:cNvPr id="82" name=""/>
            <p:cNvSpPr txBox="1"/>
            <p:nvPr/>
          </p:nvSpPr>
          <p:spPr>
            <a:xfrm>
              <a:off x="685800" y="2666880"/>
              <a:ext cx="8381880" cy="15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Я илюстрирую сказку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385720" y="3706920"/>
              <a:ext cx="1557720" cy="2886840"/>
              <a:chOff x="2385720" y="3706920"/>
              <a:chExt cx="1557720" cy="2886840"/>
            </a:xfrm>
          </p:grpSpPr>
          <p:sp>
            <p:nvSpPr>
              <p:cNvPr id="84" name=""/>
              <p:cNvSpPr/>
              <p:nvPr/>
            </p:nvSpPr>
            <p:spPr>
              <a:xfrm rot="20196000">
                <a:off x="3008160" y="4441320"/>
                <a:ext cx="533520" cy="213372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2133720"/>
                  <a:gd name="textAreaBottom" fmla="*/ 2107800 h 2133720"/>
                </a:gdLst>
                <a:ahLst/>
                <a:rect l="textAreaLeft" t="textAreaTop" r="textAreaRight" b="textAreaBottom"/>
                <a:pathLst>
                  <a:path w="21600" h="86342">
                    <a:moveTo>
                      <a:pt x="3600" y="0"/>
                    </a:moveTo>
                    <a:arcTo wR="3600" hR="3600" stAng="16200000" swAng="-5400000"/>
                    <a:lnTo>
                      <a:pt x="0" y="82742"/>
                    </a:lnTo>
                    <a:arcTo wR="3600" hR="3600" stAng="10800000" swAng="-5400000"/>
                    <a:lnTo>
                      <a:pt x="18000" y="863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bd0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9396000">
                <a:off x="2539440" y="4233600"/>
                <a:ext cx="533520" cy="38088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0196000">
                <a:off x="2490840" y="3733560"/>
                <a:ext cx="249120" cy="552240"/>
              </a:xfrm>
              <a:custGeom>
                <a:avLst/>
                <a:gdLst/>
                <a:ahLst/>
                <a:rect l="l" t="t" r="r" b="b"/>
                <a:pathLst>
                  <a:path w="157" h="348">
                    <a:moveTo>
                      <a:pt x="2" y="348"/>
                    </a:moveTo>
                    <a:cubicBezTo>
                      <a:pt x="5" y="272"/>
                      <a:pt x="0" y="195"/>
                      <a:pt x="11" y="119"/>
                    </a:cubicBezTo>
                    <a:cubicBezTo>
                      <a:pt x="12" y="110"/>
                      <a:pt x="31" y="116"/>
                      <a:pt x="38" y="110"/>
                    </a:cubicBezTo>
                    <a:cubicBezTo>
                      <a:pt x="57" y="95"/>
                      <a:pt x="70" y="43"/>
                      <a:pt x="75" y="28"/>
                    </a:cubicBezTo>
                    <a:cubicBezTo>
                      <a:pt x="78" y="19"/>
                      <a:pt x="84" y="0"/>
                      <a:pt x="84" y="0"/>
                    </a:cubicBezTo>
                    <a:cubicBezTo>
                      <a:pt x="87" y="25"/>
                      <a:pt x="84" y="51"/>
                      <a:pt x="93" y="74"/>
                    </a:cubicBezTo>
                    <a:cubicBezTo>
                      <a:pt x="100" y="93"/>
                      <a:pt x="146" y="81"/>
                      <a:pt x="148" y="101"/>
                    </a:cubicBezTo>
                    <a:cubicBezTo>
                      <a:pt x="157" y="183"/>
                      <a:pt x="148" y="266"/>
                      <a:pt x="148" y="348"/>
                    </a:cubicBezTo>
                    <a:lnTo>
                      <a:pt x="2" y="34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0196000">
                <a:off x="2437920" y="3757320"/>
                <a:ext cx="273240" cy="320760"/>
              </a:xfrm>
              <a:custGeom>
                <a:avLst/>
                <a:gdLst/>
                <a:ahLst/>
                <a:rect l="l" t="t" r="r" b="b"/>
                <a:pathLst>
                  <a:path w="172" h="202">
                    <a:moveTo>
                      <a:pt x="19" y="202"/>
                    </a:moveTo>
                    <a:cubicBezTo>
                      <a:pt x="47" y="193"/>
                      <a:pt x="64" y="179"/>
                      <a:pt x="83" y="156"/>
                    </a:cubicBezTo>
                    <a:cubicBezTo>
                      <a:pt x="90" y="148"/>
                      <a:pt x="91" y="134"/>
                      <a:pt x="101" y="129"/>
                    </a:cubicBezTo>
                    <a:cubicBezTo>
                      <a:pt x="118" y="121"/>
                      <a:pt x="138" y="122"/>
                      <a:pt x="156" y="119"/>
                    </a:cubicBezTo>
                    <a:cubicBezTo>
                      <a:pt x="159" y="110"/>
                      <a:pt x="172" y="99"/>
                      <a:pt x="165" y="92"/>
                    </a:cubicBezTo>
                    <a:cubicBezTo>
                      <a:pt x="151" y="79"/>
                      <a:pt x="110" y="74"/>
                      <a:pt x="110" y="74"/>
                    </a:cubicBezTo>
                    <a:cubicBezTo>
                      <a:pt x="104" y="68"/>
                      <a:pt x="93" y="64"/>
                      <a:pt x="92" y="55"/>
                    </a:cubicBezTo>
                    <a:cubicBezTo>
                      <a:pt x="90" y="40"/>
                      <a:pt x="108" y="24"/>
                      <a:pt x="101" y="10"/>
                    </a:cubicBezTo>
                    <a:cubicBezTo>
                      <a:pt x="96" y="0"/>
                      <a:pt x="90" y="29"/>
                      <a:pt x="83" y="37"/>
                    </a:cubicBezTo>
                    <a:cubicBezTo>
                      <a:pt x="77" y="44"/>
                      <a:pt x="70" y="49"/>
                      <a:pt x="64" y="55"/>
                    </a:cubicBezTo>
                    <a:cubicBezTo>
                      <a:pt x="61" y="64"/>
                      <a:pt x="63" y="77"/>
                      <a:pt x="55" y="83"/>
                    </a:cubicBezTo>
                    <a:cubicBezTo>
                      <a:pt x="39" y="94"/>
                      <a:pt x="0" y="101"/>
                      <a:pt x="0" y="101"/>
                    </a:cubicBezTo>
                    <a:cubicBezTo>
                      <a:pt x="18" y="152"/>
                      <a:pt x="9" y="119"/>
                      <a:pt x="19" y="202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296280" y="3795840"/>
            <a:ext cx="3429000" cy="306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5335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 Ко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вет друзья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Курочка Ряб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годня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хотела бы ВАМ показать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ебе сказку в картинках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Ко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 Ко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2.59259E-006 L -0.43334 2.59259E-006 E">
                                      <p:cBhvr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371600" y="1066680"/>
            <a:ext cx="3688920" cy="5333760"/>
            <a:chOff x="1371600" y="1066680"/>
            <a:chExt cx="3688920" cy="5333760"/>
          </a:xfrm>
        </p:grpSpPr>
        <p:grpSp>
          <p:nvGrpSpPr>
            <p:cNvPr id="91" name=""/>
            <p:cNvGrpSpPr/>
            <p:nvPr/>
          </p:nvGrpSpPr>
          <p:grpSpPr>
            <a:xfrm>
              <a:off x="1371600" y="1066680"/>
              <a:ext cx="3105720" cy="3123720"/>
              <a:chOff x="1371600" y="1066680"/>
              <a:chExt cx="3105720" cy="31237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032920" y="1066680"/>
                <a:ext cx="1302840" cy="1515240"/>
                <a:chOff x="2032920" y="1066680"/>
                <a:chExt cx="1302840" cy="1515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126880" y="1167120"/>
                  <a:ext cx="112824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26880" y="1784520"/>
                  <a:ext cx="114912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2408400" y="14212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1960" y="14212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646720" y="206244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409120" y="14940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49440" y="15303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1960" y="14940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52280" y="15303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32920" y="1066680"/>
                  <a:ext cx="130284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371600" y="2124360"/>
                <a:ext cx="307944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95200">
                <a:off x="4088160" y="33177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407600" y="364572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027160" y="4087440"/>
              <a:ext cx="282852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0480" y="5943240"/>
              <a:ext cx="1294920" cy="457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65240" y="5790960"/>
              <a:ext cx="1295280" cy="457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27520" y="1143000"/>
            <a:ext cx="3245040" cy="5257440"/>
            <a:chOff x="3827520" y="1143000"/>
            <a:chExt cx="3245040" cy="5257440"/>
          </a:xfrm>
        </p:grpSpPr>
        <p:sp>
          <p:nvSpPr>
            <p:cNvPr id="110" name=""/>
            <p:cNvSpPr/>
            <p:nvPr/>
          </p:nvSpPr>
          <p:spPr>
            <a:xfrm>
              <a:off x="4024800" y="2360880"/>
              <a:ext cx="298512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10800" y="1655640"/>
              <a:ext cx="1385280" cy="1597680"/>
              <a:chOff x="4510800" y="1655640"/>
              <a:chExt cx="1385280" cy="1597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79640" y="1771560"/>
                <a:ext cx="1027800" cy="9482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876560" y="2006640"/>
                <a:ext cx="219600" cy="213840"/>
                <a:chOff x="4876560" y="2006640"/>
                <a:chExt cx="219600" cy="21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876560" y="20066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885200" y="20275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29840" y="20638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04600" y="2006640"/>
                <a:ext cx="219600" cy="213840"/>
                <a:chOff x="5304600" y="2006640"/>
                <a:chExt cx="219600" cy="213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04600" y="20066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3240" y="20275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357880" y="20638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5129280" y="2477160"/>
                <a:ext cx="174960" cy="16128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0800" y="1655640"/>
                <a:ext cx="1385280" cy="159768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024800" y="2681640"/>
              <a:ext cx="833040" cy="36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968800" y="1143000"/>
              <a:ext cx="1041120" cy="39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5320" y="2874240"/>
              <a:ext cx="3045960" cy="108972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3337200">
              <a:off x="3873240" y="3655080"/>
              <a:ext cx="288360" cy="26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801000">
              <a:off x="6732720" y="3686400"/>
              <a:ext cx="288360" cy="26604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7840" y="6208200"/>
              <a:ext cx="555120" cy="1922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21400" y="6208200"/>
              <a:ext cx="555480" cy="1922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6200" y="2641320"/>
              <a:ext cx="1790280" cy="37537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79760" y="4648320"/>
            <a:ext cx="2024280" cy="1814040"/>
            <a:chOff x="3479760" y="4648320"/>
            <a:chExt cx="2024280" cy="1814040"/>
          </a:xfrm>
        </p:grpSpPr>
        <p:sp>
          <p:nvSpPr>
            <p:cNvPr id="132" name=""/>
            <p:cNvSpPr/>
            <p:nvPr/>
          </p:nvSpPr>
          <p:spPr>
            <a:xfrm>
              <a:off x="3606840" y="4748040"/>
              <a:ext cx="1897200" cy="117396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759120" y="4803480"/>
              <a:ext cx="304920" cy="110160"/>
              <a:chOff x="3759120" y="4803480"/>
              <a:chExt cx="304920" cy="110160"/>
            </a:xfrm>
          </p:grpSpPr>
          <p:sp>
            <p:nvSpPr>
              <p:cNvPr id="134" name=""/>
              <p:cNvSpPr/>
              <p:nvPr/>
            </p:nvSpPr>
            <p:spPr>
              <a:xfrm>
                <a:off x="3759120" y="4803480"/>
                <a:ext cx="304920" cy="1101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9960" y="4803480"/>
                <a:ext cx="182880" cy="11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80800" y="4839840"/>
                <a:ext cx="60840" cy="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12848400">
              <a:off x="3504960" y="4915080"/>
              <a:ext cx="334800" cy="19332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49760" y="4648320"/>
              <a:ext cx="414360" cy="13464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6320" y="5743800"/>
              <a:ext cx="0" cy="552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02120" y="5688360"/>
              <a:ext cx="0" cy="552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11760" y="624132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16320" y="624132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6320" y="624132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97560" y="624132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2120" y="624132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120" y="624132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35320" y="5353200"/>
              <a:ext cx="1143000" cy="31428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248520" y="15238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838080"/>
            <a:ext cx="2057400" cy="114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990720"/>
            <a:ext cx="1676520" cy="838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1066680"/>
            <a:ext cx="380880" cy="3812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295280"/>
            <a:ext cx="381240" cy="3812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ли - были Дед да Баб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была у них КУрочка Ряб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67280" y="22096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1523880"/>
            <a:ext cx="2057400" cy="1143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676520"/>
            <a:ext cx="1676520" cy="838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828800"/>
            <a:ext cx="3812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295280"/>
            <a:ext cx="3688920" cy="5333760"/>
            <a:chOff x="0" y="1295280"/>
            <a:chExt cx="3688920" cy="5333760"/>
          </a:xfrm>
        </p:grpSpPr>
        <p:grpSp>
          <p:nvGrpSpPr>
            <p:cNvPr id="159" name=""/>
            <p:cNvGrpSpPr/>
            <p:nvPr/>
          </p:nvGrpSpPr>
          <p:grpSpPr>
            <a:xfrm>
              <a:off x="0" y="1295280"/>
              <a:ext cx="3105720" cy="3123720"/>
              <a:chOff x="0" y="1295280"/>
              <a:chExt cx="3105720" cy="312372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61320" y="1295280"/>
                <a:ext cx="1302840" cy="1515240"/>
                <a:chOff x="661320" y="1295280"/>
                <a:chExt cx="1302840" cy="1515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5280" y="1395720"/>
                  <a:ext cx="112824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5280" y="2013120"/>
                  <a:ext cx="114912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1036800" y="16498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440360" y="16498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275120" y="229104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37520" y="17226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77840" y="17589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40360" y="17226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80680" y="17589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61320" y="1295280"/>
                  <a:ext cx="130284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0" y="2352960"/>
                <a:ext cx="307944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095200">
                <a:off x="2716560" y="35463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6000" y="387432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55560" y="4316040"/>
              <a:ext cx="282852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8880" y="6171840"/>
              <a:ext cx="1294920" cy="4572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3640" y="6019560"/>
              <a:ext cx="129528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760840" y="914400"/>
            <a:ext cx="3245040" cy="5257440"/>
            <a:chOff x="2760840" y="914400"/>
            <a:chExt cx="3245040" cy="5257440"/>
          </a:xfrm>
        </p:grpSpPr>
        <p:sp>
          <p:nvSpPr>
            <p:cNvPr id="178" name=""/>
            <p:cNvSpPr/>
            <p:nvPr/>
          </p:nvSpPr>
          <p:spPr>
            <a:xfrm>
              <a:off x="2958120" y="2132280"/>
              <a:ext cx="298512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444120" y="1427040"/>
              <a:ext cx="1385280" cy="1597680"/>
              <a:chOff x="3444120" y="1427040"/>
              <a:chExt cx="1385280" cy="1597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12960" y="1542960"/>
                <a:ext cx="1027800" cy="9482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809880" y="1778040"/>
                <a:ext cx="219600" cy="213840"/>
                <a:chOff x="3809880" y="1778040"/>
                <a:chExt cx="219600" cy="2138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09880" y="17780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818520" y="17989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63160" y="18352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237920" y="1778040"/>
                <a:ext cx="219600" cy="213840"/>
                <a:chOff x="4237920" y="1778040"/>
                <a:chExt cx="219600" cy="2138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237920" y="17780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246560" y="17989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1200" y="18352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62600" y="2248560"/>
                <a:ext cx="174960" cy="16128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44120" y="1427040"/>
                <a:ext cx="1385280" cy="159768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958120" y="2453040"/>
              <a:ext cx="833040" cy="36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902120" y="914400"/>
              <a:ext cx="1041120" cy="39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8640" y="2645640"/>
              <a:ext cx="3045960" cy="108972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3337200">
              <a:off x="2806560" y="3426480"/>
              <a:ext cx="288360" cy="26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801000">
              <a:off x="5666040" y="3457800"/>
              <a:ext cx="288360" cy="26604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1160" y="5979600"/>
              <a:ext cx="555120" cy="1922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54720" y="5979600"/>
              <a:ext cx="555480" cy="1922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9520" y="2412720"/>
              <a:ext cx="1790280" cy="37537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50800" y="3200400"/>
            <a:ext cx="2616120" cy="1615320"/>
            <a:chOff x="3250800" y="3200400"/>
            <a:chExt cx="2616120" cy="1615320"/>
          </a:xfrm>
        </p:grpSpPr>
        <p:sp>
          <p:nvSpPr>
            <p:cNvPr id="200" name=""/>
            <p:cNvSpPr/>
            <p:nvPr/>
          </p:nvSpPr>
          <p:spPr>
            <a:xfrm>
              <a:off x="3377880" y="3300480"/>
              <a:ext cx="1896840" cy="117468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530520" y="3355920"/>
              <a:ext cx="304200" cy="111240"/>
              <a:chOff x="3530520" y="3355920"/>
              <a:chExt cx="304200" cy="111240"/>
            </a:xfrm>
          </p:grpSpPr>
          <p:sp>
            <p:nvSpPr>
              <p:cNvPr id="202" name=""/>
              <p:cNvSpPr/>
              <p:nvPr/>
            </p:nvSpPr>
            <p:spPr>
              <a:xfrm>
                <a:off x="3530520" y="3355920"/>
                <a:ext cx="304200" cy="11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91360" y="3355920"/>
                <a:ext cx="18252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1840" y="3392640"/>
                <a:ext cx="60840" cy="3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rot="12848400">
              <a:off x="3276360" y="3466800"/>
              <a:ext cx="334440" cy="19368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0800" y="3200400"/>
              <a:ext cx="414000" cy="13500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2880" y="4267440"/>
              <a:ext cx="5518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70040" y="4518000"/>
              <a:ext cx="5536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583800">
              <a:off x="3918960" y="3767040"/>
              <a:ext cx="1143000" cy="31392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485320" y="3962160"/>
              <a:ext cx="381600" cy="533880"/>
              <a:chOff x="5485320" y="3962160"/>
              <a:chExt cx="381600" cy="533880"/>
            </a:xfrm>
          </p:grpSpPr>
          <p:sp>
            <p:nvSpPr>
              <p:cNvPr id="211" name=""/>
              <p:cNvSpPr/>
              <p:nvPr/>
            </p:nvSpPr>
            <p:spPr>
              <a:xfrm>
                <a:off x="5486040" y="4267440"/>
                <a:ext cx="380880" cy="75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486040" y="3962160"/>
                <a:ext cx="164880" cy="3049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85320" y="4267440"/>
                <a:ext cx="152280" cy="2286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808520" y="4370400"/>
              <a:ext cx="302400" cy="445320"/>
              <a:chOff x="4808520" y="4370400"/>
              <a:chExt cx="302400" cy="445320"/>
            </a:xfrm>
          </p:grpSpPr>
          <p:sp>
            <p:nvSpPr>
              <p:cNvPr id="215" name=""/>
              <p:cNvSpPr/>
              <p:nvPr/>
            </p:nvSpPr>
            <p:spPr>
              <a:xfrm>
                <a:off x="4808880" y="4541400"/>
                <a:ext cx="282600" cy="2667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809240" y="4370400"/>
                <a:ext cx="301680" cy="17064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8520" y="4541040"/>
                <a:ext cx="7560" cy="2746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 txBox="1"/>
          <p:nvPr/>
        </p:nvSpPr>
        <p:spPr>
          <a:xfrm>
            <a:off x="0" y="5335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нажды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х радости и удивлению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было предел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рочка снесла яичко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 не простое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золотое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8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385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228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232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236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240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244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4876920"/>
            <a:ext cx="175248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029200"/>
            <a:ext cx="144756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105520"/>
            <a:ext cx="3808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513040" y="2438280"/>
            <a:ext cx="2161800" cy="4190760"/>
            <a:chOff x="5513040" y="2438280"/>
            <a:chExt cx="2161800" cy="4190760"/>
          </a:xfrm>
        </p:grpSpPr>
        <p:sp>
          <p:nvSpPr>
            <p:cNvPr id="260" name=""/>
            <p:cNvSpPr/>
            <p:nvPr/>
          </p:nvSpPr>
          <p:spPr>
            <a:xfrm>
              <a:off x="5653800" y="3409200"/>
              <a:ext cx="1965960" cy="31179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74200" y="2846880"/>
              <a:ext cx="912240" cy="1273320"/>
              <a:chOff x="5974200" y="2846880"/>
              <a:chExt cx="912240" cy="1273320"/>
            </a:xfrm>
          </p:grpSpPr>
          <p:sp>
            <p:nvSpPr>
              <p:cNvPr id="262" name=""/>
              <p:cNvSpPr/>
              <p:nvPr/>
            </p:nvSpPr>
            <p:spPr>
              <a:xfrm>
                <a:off x="6085440" y="2939040"/>
                <a:ext cx="676800" cy="7556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6215040" y="3126600"/>
                <a:ext cx="144360" cy="170280"/>
                <a:chOff x="6215040" y="3126600"/>
                <a:chExt cx="144360" cy="170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215040" y="3126600"/>
                  <a:ext cx="144360" cy="170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20800" y="3143160"/>
                  <a:ext cx="120600" cy="12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249960" y="3171960"/>
                  <a:ext cx="72000" cy="73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96920" y="3126600"/>
                <a:ext cx="144360" cy="170280"/>
                <a:chOff x="6496920" y="3126600"/>
                <a:chExt cx="144360" cy="170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96920" y="3126600"/>
                  <a:ext cx="144360" cy="170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502680" y="3143160"/>
                  <a:ext cx="120600" cy="12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531840" y="3171960"/>
                  <a:ext cx="72000" cy="73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381360" y="3501360"/>
                <a:ext cx="115200" cy="12852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4200" y="2846880"/>
                <a:ext cx="912240" cy="127332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653800" y="3664800"/>
              <a:ext cx="548640" cy="29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933600" y="2438280"/>
              <a:ext cx="685800" cy="31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8080" y="3818160"/>
              <a:ext cx="2005920" cy="86868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3337200">
              <a:off x="5535000" y="4458960"/>
              <a:ext cx="22968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801000">
              <a:off x="7417440" y="4484160"/>
              <a:ext cx="229680" cy="1753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02440" y="6476040"/>
              <a:ext cx="365400" cy="1530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05360" y="6476040"/>
              <a:ext cx="365760" cy="1530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6840" y="3632760"/>
              <a:ext cx="1179000" cy="29923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93600" y="4425120"/>
            <a:ext cx="1073520" cy="705960"/>
            <a:chOff x="4593600" y="4425120"/>
            <a:chExt cx="1073520" cy="705960"/>
          </a:xfrm>
        </p:grpSpPr>
        <p:sp>
          <p:nvSpPr>
            <p:cNvPr id="282" name=""/>
            <p:cNvSpPr/>
            <p:nvPr/>
          </p:nvSpPr>
          <p:spPr>
            <a:xfrm flipH="1" rot="19860600">
              <a:off x="4833000" y="4633920"/>
              <a:ext cx="876240" cy="52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4460600">
              <a:off x="4751280" y="4677120"/>
              <a:ext cx="212760" cy="48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4460600">
              <a:off x="4764240" y="4653360"/>
              <a:ext cx="159480" cy="486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 txBox="1"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а яйц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ла - Била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е разбил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85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385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295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299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303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307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311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4876920"/>
            <a:ext cx="175248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952880"/>
            <a:ext cx="14479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5029200"/>
            <a:ext cx="3808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1447920"/>
            <a:ext cx="3689640" cy="5333760"/>
            <a:chOff x="152280" y="1447920"/>
            <a:chExt cx="3689640" cy="5333760"/>
          </a:xfrm>
        </p:grpSpPr>
        <p:grpSp>
          <p:nvGrpSpPr>
            <p:cNvPr id="327" name=""/>
            <p:cNvGrpSpPr/>
            <p:nvPr/>
          </p:nvGrpSpPr>
          <p:grpSpPr>
            <a:xfrm>
              <a:off x="152280" y="1447920"/>
              <a:ext cx="3106080" cy="3123720"/>
              <a:chOff x="152280" y="1447920"/>
              <a:chExt cx="3106080" cy="31237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13960" y="1447920"/>
                <a:ext cx="1303200" cy="1515240"/>
                <a:chOff x="813960" y="1447920"/>
                <a:chExt cx="1303200" cy="1515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907920" y="1548360"/>
                  <a:ext cx="112860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07920" y="2165760"/>
                  <a:ext cx="114948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1189440" y="180252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593360" y="180252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27760" y="244368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90160" y="187524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230480" y="191160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93360" y="187524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33320" y="191160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13960" y="1447920"/>
                  <a:ext cx="130320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152280" y="2505600"/>
                <a:ext cx="307980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95200">
                <a:off x="2869200" y="369900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88280" y="40269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08200" y="4468680"/>
              <a:ext cx="282888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1520" y="6324480"/>
              <a:ext cx="1295280" cy="4572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46280" y="6172200"/>
              <a:ext cx="1295640" cy="45720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831400" y="3610080"/>
            <a:ext cx="1146600" cy="935280"/>
            <a:chOff x="2831400" y="3610080"/>
            <a:chExt cx="1146600" cy="935280"/>
          </a:xfrm>
        </p:grpSpPr>
        <p:sp>
          <p:nvSpPr>
            <p:cNvPr id="346" name=""/>
            <p:cNvSpPr/>
            <p:nvPr/>
          </p:nvSpPr>
          <p:spPr>
            <a:xfrm rot="5697600">
              <a:off x="3219480" y="3282840"/>
              <a:ext cx="366840" cy="1116360"/>
            </a:xfrm>
            <a:custGeom>
              <a:avLst/>
              <a:gdLst>
                <a:gd name="textAreaLeft" fmla="*/ 17640 w 366840"/>
                <a:gd name="textAreaRight" fmla="*/ 349200 w 366840"/>
                <a:gd name="textAreaTop" fmla="*/ 17640 h 1116360"/>
                <a:gd name="textAreaBottom" fmla="*/ 1098720 h 1116360"/>
              </a:gdLst>
              <a:ahLst/>
              <a:rect l="textAreaLeft" t="textAreaTop" r="textAreaRight" b="textAreaBottom"/>
              <a:pathLst>
                <a:path w="21600" h="65689">
                  <a:moveTo>
                    <a:pt x="3600" y="0"/>
                  </a:moveTo>
                  <a:arcTo wR="3600" hR="3600" stAng="16200000" swAng="-5400000"/>
                  <a:lnTo>
                    <a:pt x="0" y="62089"/>
                  </a:lnTo>
                  <a:arcTo wR="3600" hR="3600" stAng="10800000" swAng="-5400000"/>
                  <a:lnTo>
                    <a:pt x="18000" y="65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697600">
              <a:off x="3762360" y="3874680"/>
              <a:ext cx="66600" cy="302040"/>
            </a:xfrm>
            <a:prstGeom prst="rect">
              <a:avLst/>
            </a:prstGeom>
            <a:solidFill>
              <a:srgbClr val="f0312c"/>
            </a:solidFill>
            <a:ln w="9360">
              <a:solidFill>
                <a:srgbClr val="f03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040600">
              <a:off x="3503160" y="4083480"/>
              <a:ext cx="567000" cy="325440"/>
            </a:xfrm>
            <a:prstGeom prst="parallelogram">
              <a:avLst>
                <a:gd name="adj" fmla="val 4627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д яйц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л - Бил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е разбил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359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363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367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371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375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75284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4952880"/>
            <a:ext cx="14479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5295960" y="6362640"/>
            <a:ext cx="45720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982640" y="4900680"/>
            <a:ext cx="6858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55800" y="2209680"/>
            <a:ext cx="2162520" cy="3605040"/>
            <a:chOff x="-55800" y="2209680"/>
            <a:chExt cx="2162520" cy="3605040"/>
          </a:xfrm>
        </p:grpSpPr>
        <p:sp>
          <p:nvSpPr>
            <p:cNvPr id="392" name=""/>
            <p:cNvSpPr/>
            <p:nvPr/>
          </p:nvSpPr>
          <p:spPr>
            <a:xfrm flipH="1">
              <a:off x="-720" y="2595240"/>
              <a:ext cx="1965240" cy="31179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416960" y="2850840"/>
              <a:ext cx="547560" cy="29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760" y="3003480"/>
              <a:ext cx="2004840" cy="86976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8262800">
              <a:off x="1855440" y="3644280"/>
              <a:ext cx="22860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2799000">
              <a:off x="-28080" y="3670560"/>
              <a:ext cx="23004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050120" y="5660640"/>
              <a:ext cx="366840" cy="15408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49360" y="5660640"/>
              <a:ext cx="365040" cy="15408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03200" y="2819160"/>
              <a:ext cx="1179360" cy="299088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85800" y="2209680"/>
              <a:ext cx="912960" cy="1272960"/>
              <a:chOff x="685800" y="2209680"/>
              <a:chExt cx="912960" cy="127296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808920" y="2301480"/>
                <a:ext cx="677880" cy="75528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212840" y="2488680"/>
                <a:ext cx="144720" cy="171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229760" y="2506320"/>
                <a:ext cx="12060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297800" y="2534760"/>
                <a:ext cx="73080" cy="7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930240" y="2488680"/>
                <a:ext cx="144720" cy="171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947160" y="2506320"/>
                <a:ext cx="12060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993240" y="2534760"/>
                <a:ext cx="73080" cy="7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85800" y="2209680"/>
                <a:ext cx="912960" cy="127296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990000" y="2742840"/>
                <a:ext cx="228600" cy="228240"/>
              </a:xfrm>
              <a:prstGeom prst="ellipse">
                <a:avLst/>
              </a:prstGeom>
              <a:solidFill>
                <a:srgbClr val="f031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429000" y="990720"/>
            <a:ext cx="1676520" cy="3047760"/>
            <a:chOff x="3429000" y="990720"/>
            <a:chExt cx="1676520" cy="3047760"/>
          </a:xfrm>
        </p:grpSpPr>
        <p:sp>
          <p:nvSpPr>
            <p:cNvPr id="411" name=""/>
            <p:cNvSpPr/>
            <p:nvPr/>
          </p:nvSpPr>
          <p:spPr>
            <a:xfrm>
              <a:off x="3785760" y="1049760"/>
              <a:ext cx="513000" cy="61452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5760" y="1387080"/>
              <a:ext cx="522720" cy="434880"/>
            </a:xfrm>
            <a:custGeom>
              <a:avLst/>
              <a:gdLst/>
              <a:ahLst/>
              <a:rect l="l" t="t" r="r" b="b"/>
              <a:pathLst>
                <a:path w="1369" h="995">
                  <a:moveTo>
                    <a:pt x="30" y="103"/>
                  </a:moveTo>
                  <a:cubicBezTo>
                    <a:pt x="112" y="91"/>
                    <a:pt x="73" y="101"/>
                    <a:pt x="147" y="76"/>
                  </a:cubicBezTo>
                  <a:cubicBezTo>
                    <a:pt x="165" y="70"/>
                    <a:pt x="201" y="58"/>
                    <a:pt x="201" y="58"/>
                  </a:cubicBezTo>
                  <a:cubicBezTo>
                    <a:pt x="376" y="83"/>
                    <a:pt x="240" y="87"/>
                    <a:pt x="534" y="76"/>
                  </a:cubicBezTo>
                  <a:cubicBezTo>
                    <a:pt x="659" y="34"/>
                    <a:pt x="522" y="46"/>
                    <a:pt x="795" y="58"/>
                  </a:cubicBezTo>
                  <a:cubicBezTo>
                    <a:pt x="839" y="73"/>
                    <a:pt x="876" y="85"/>
                    <a:pt x="921" y="94"/>
                  </a:cubicBezTo>
                  <a:cubicBezTo>
                    <a:pt x="957" y="91"/>
                    <a:pt x="994" y="92"/>
                    <a:pt x="1029" y="85"/>
                  </a:cubicBezTo>
                  <a:cubicBezTo>
                    <a:pt x="1040" y="83"/>
                    <a:pt x="1046" y="71"/>
                    <a:pt x="1056" y="67"/>
                  </a:cubicBezTo>
                  <a:cubicBezTo>
                    <a:pt x="1079" y="59"/>
                    <a:pt x="1128" y="49"/>
                    <a:pt x="1128" y="49"/>
                  </a:cubicBezTo>
                  <a:cubicBezTo>
                    <a:pt x="1369" y="59"/>
                    <a:pt x="1313" y="0"/>
                    <a:pt x="1353" y="121"/>
                  </a:cubicBezTo>
                  <a:cubicBezTo>
                    <a:pt x="1347" y="213"/>
                    <a:pt x="1354" y="493"/>
                    <a:pt x="1236" y="571"/>
                  </a:cubicBezTo>
                  <a:cubicBezTo>
                    <a:pt x="1213" y="639"/>
                    <a:pt x="1192" y="704"/>
                    <a:pt x="1164" y="769"/>
                  </a:cubicBezTo>
                  <a:cubicBezTo>
                    <a:pt x="1145" y="813"/>
                    <a:pt x="1137" y="868"/>
                    <a:pt x="1101" y="904"/>
                  </a:cubicBezTo>
                  <a:cubicBezTo>
                    <a:pt x="1086" y="919"/>
                    <a:pt x="1065" y="928"/>
                    <a:pt x="1047" y="940"/>
                  </a:cubicBezTo>
                  <a:cubicBezTo>
                    <a:pt x="965" y="995"/>
                    <a:pt x="849" y="946"/>
                    <a:pt x="750" y="949"/>
                  </a:cubicBezTo>
                  <a:cubicBezTo>
                    <a:pt x="613" y="966"/>
                    <a:pt x="662" y="964"/>
                    <a:pt x="444" y="949"/>
                  </a:cubicBezTo>
                  <a:cubicBezTo>
                    <a:pt x="411" y="947"/>
                    <a:pt x="379" y="920"/>
                    <a:pt x="345" y="913"/>
                  </a:cubicBezTo>
                  <a:cubicBezTo>
                    <a:pt x="311" y="890"/>
                    <a:pt x="272" y="879"/>
                    <a:pt x="237" y="859"/>
                  </a:cubicBezTo>
                  <a:cubicBezTo>
                    <a:pt x="218" y="848"/>
                    <a:pt x="183" y="823"/>
                    <a:pt x="183" y="823"/>
                  </a:cubicBezTo>
                  <a:cubicBezTo>
                    <a:pt x="176" y="801"/>
                    <a:pt x="163" y="782"/>
                    <a:pt x="156" y="760"/>
                  </a:cubicBezTo>
                  <a:cubicBezTo>
                    <a:pt x="151" y="743"/>
                    <a:pt x="154" y="723"/>
                    <a:pt x="147" y="706"/>
                  </a:cubicBezTo>
                  <a:cubicBezTo>
                    <a:pt x="137" y="682"/>
                    <a:pt x="114" y="666"/>
                    <a:pt x="102" y="643"/>
                  </a:cubicBezTo>
                  <a:cubicBezTo>
                    <a:pt x="78" y="599"/>
                    <a:pt x="52" y="553"/>
                    <a:pt x="30" y="508"/>
                  </a:cubicBezTo>
                  <a:cubicBezTo>
                    <a:pt x="27" y="472"/>
                    <a:pt x="28" y="435"/>
                    <a:pt x="21" y="400"/>
                  </a:cubicBezTo>
                  <a:cubicBezTo>
                    <a:pt x="19" y="389"/>
                    <a:pt x="3" y="384"/>
                    <a:pt x="3" y="373"/>
                  </a:cubicBezTo>
                  <a:cubicBezTo>
                    <a:pt x="0" y="298"/>
                    <a:pt x="1" y="222"/>
                    <a:pt x="12" y="148"/>
                  </a:cubicBezTo>
                  <a:cubicBezTo>
                    <a:pt x="25" y="59"/>
                    <a:pt x="62" y="198"/>
                    <a:pt x="30" y="103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913920" y="1189440"/>
              <a:ext cx="109800" cy="138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97880" y="1189440"/>
              <a:ext cx="109080" cy="138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14640" y="1227960"/>
              <a:ext cx="91440" cy="99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52800" y="1248840"/>
              <a:ext cx="543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97880" y="1227960"/>
              <a:ext cx="91800" cy="99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59080" y="1248840"/>
              <a:ext cx="5544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26720" y="990720"/>
              <a:ext cx="592560" cy="470160"/>
            </a:xfrm>
            <a:custGeom>
              <a:avLst/>
              <a:gdLst/>
              <a:ahLst/>
              <a:rect l="l" t="t" r="r" b="b"/>
              <a:pathLst>
                <a:path w="1484" h="1092">
                  <a:moveTo>
                    <a:pt x="196" y="1028"/>
                  </a:moveTo>
                  <a:cubicBezTo>
                    <a:pt x="186" y="987"/>
                    <a:pt x="166" y="947"/>
                    <a:pt x="142" y="911"/>
                  </a:cubicBezTo>
                  <a:cubicBezTo>
                    <a:pt x="148" y="729"/>
                    <a:pt x="127" y="654"/>
                    <a:pt x="214" y="524"/>
                  </a:cubicBezTo>
                  <a:cubicBezTo>
                    <a:pt x="228" y="503"/>
                    <a:pt x="256" y="494"/>
                    <a:pt x="277" y="479"/>
                  </a:cubicBezTo>
                  <a:cubicBezTo>
                    <a:pt x="292" y="433"/>
                    <a:pt x="277" y="380"/>
                    <a:pt x="295" y="335"/>
                  </a:cubicBezTo>
                  <a:cubicBezTo>
                    <a:pt x="319" y="277"/>
                    <a:pt x="484" y="282"/>
                    <a:pt x="502" y="281"/>
                  </a:cubicBezTo>
                  <a:cubicBezTo>
                    <a:pt x="539" y="269"/>
                    <a:pt x="577" y="249"/>
                    <a:pt x="610" y="227"/>
                  </a:cubicBezTo>
                  <a:cubicBezTo>
                    <a:pt x="631" y="230"/>
                    <a:pt x="659" y="220"/>
                    <a:pt x="673" y="236"/>
                  </a:cubicBezTo>
                  <a:cubicBezTo>
                    <a:pt x="689" y="254"/>
                    <a:pt x="673" y="286"/>
                    <a:pt x="682" y="308"/>
                  </a:cubicBezTo>
                  <a:cubicBezTo>
                    <a:pt x="686" y="318"/>
                    <a:pt x="700" y="320"/>
                    <a:pt x="709" y="326"/>
                  </a:cubicBezTo>
                  <a:cubicBezTo>
                    <a:pt x="741" y="304"/>
                    <a:pt x="744" y="282"/>
                    <a:pt x="772" y="254"/>
                  </a:cubicBezTo>
                  <a:cubicBezTo>
                    <a:pt x="778" y="263"/>
                    <a:pt x="785" y="271"/>
                    <a:pt x="790" y="281"/>
                  </a:cubicBezTo>
                  <a:cubicBezTo>
                    <a:pt x="794" y="289"/>
                    <a:pt x="790" y="309"/>
                    <a:pt x="799" y="308"/>
                  </a:cubicBezTo>
                  <a:cubicBezTo>
                    <a:pt x="820" y="305"/>
                    <a:pt x="835" y="284"/>
                    <a:pt x="853" y="272"/>
                  </a:cubicBezTo>
                  <a:cubicBezTo>
                    <a:pt x="896" y="243"/>
                    <a:pt x="870" y="257"/>
                    <a:pt x="934" y="236"/>
                  </a:cubicBezTo>
                  <a:cubicBezTo>
                    <a:pt x="943" y="233"/>
                    <a:pt x="907" y="245"/>
                    <a:pt x="907" y="245"/>
                  </a:cubicBezTo>
                  <a:cubicBezTo>
                    <a:pt x="904" y="257"/>
                    <a:pt x="902" y="269"/>
                    <a:pt x="898" y="281"/>
                  </a:cubicBezTo>
                  <a:cubicBezTo>
                    <a:pt x="893" y="299"/>
                    <a:pt x="880" y="335"/>
                    <a:pt x="880" y="335"/>
                  </a:cubicBezTo>
                  <a:cubicBezTo>
                    <a:pt x="883" y="356"/>
                    <a:pt x="868" y="395"/>
                    <a:pt x="889" y="398"/>
                  </a:cubicBezTo>
                  <a:cubicBezTo>
                    <a:pt x="914" y="402"/>
                    <a:pt x="925" y="362"/>
                    <a:pt x="943" y="344"/>
                  </a:cubicBezTo>
                  <a:cubicBezTo>
                    <a:pt x="950" y="337"/>
                    <a:pt x="961" y="338"/>
                    <a:pt x="970" y="335"/>
                  </a:cubicBezTo>
                  <a:cubicBezTo>
                    <a:pt x="980" y="328"/>
                    <a:pt x="1026" y="290"/>
                    <a:pt x="1042" y="290"/>
                  </a:cubicBezTo>
                  <a:cubicBezTo>
                    <a:pt x="1053" y="290"/>
                    <a:pt x="1059" y="304"/>
                    <a:pt x="1069" y="308"/>
                  </a:cubicBezTo>
                  <a:cubicBezTo>
                    <a:pt x="1086" y="316"/>
                    <a:pt x="1123" y="326"/>
                    <a:pt x="1123" y="326"/>
                  </a:cubicBezTo>
                  <a:cubicBezTo>
                    <a:pt x="1150" y="353"/>
                    <a:pt x="1168" y="368"/>
                    <a:pt x="1204" y="380"/>
                  </a:cubicBezTo>
                  <a:cubicBezTo>
                    <a:pt x="1214" y="410"/>
                    <a:pt x="1221" y="440"/>
                    <a:pt x="1231" y="470"/>
                  </a:cubicBezTo>
                  <a:cubicBezTo>
                    <a:pt x="1234" y="506"/>
                    <a:pt x="1234" y="542"/>
                    <a:pt x="1240" y="578"/>
                  </a:cubicBezTo>
                  <a:cubicBezTo>
                    <a:pt x="1245" y="606"/>
                    <a:pt x="1258" y="632"/>
                    <a:pt x="1267" y="659"/>
                  </a:cubicBezTo>
                  <a:cubicBezTo>
                    <a:pt x="1286" y="715"/>
                    <a:pt x="1296" y="780"/>
                    <a:pt x="1303" y="839"/>
                  </a:cubicBezTo>
                  <a:cubicBezTo>
                    <a:pt x="1310" y="897"/>
                    <a:pt x="1299" y="941"/>
                    <a:pt x="1348" y="974"/>
                  </a:cubicBezTo>
                  <a:cubicBezTo>
                    <a:pt x="1366" y="1029"/>
                    <a:pt x="1392" y="1009"/>
                    <a:pt x="1447" y="1001"/>
                  </a:cubicBezTo>
                  <a:cubicBezTo>
                    <a:pt x="1484" y="891"/>
                    <a:pt x="1463" y="964"/>
                    <a:pt x="1447" y="704"/>
                  </a:cubicBezTo>
                  <a:cubicBezTo>
                    <a:pt x="1444" y="651"/>
                    <a:pt x="1389" y="607"/>
                    <a:pt x="1357" y="569"/>
                  </a:cubicBezTo>
                  <a:cubicBezTo>
                    <a:pt x="1335" y="542"/>
                    <a:pt x="1329" y="509"/>
                    <a:pt x="1312" y="479"/>
                  </a:cubicBezTo>
                  <a:cubicBezTo>
                    <a:pt x="1277" y="417"/>
                    <a:pt x="1245" y="353"/>
                    <a:pt x="1213" y="290"/>
                  </a:cubicBezTo>
                  <a:cubicBezTo>
                    <a:pt x="1197" y="257"/>
                    <a:pt x="1182" y="203"/>
                    <a:pt x="1150" y="182"/>
                  </a:cubicBezTo>
                  <a:cubicBezTo>
                    <a:pt x="1092" y="143"/>
                    <a:pt x="1033" y="105"/>
                    <a:pt x="970" y="74"/>
                  </a:cubicBezTo>
                  <a:cubicBezTo>
                    <a:pt x="909" y="44"/>
                    <a:pt x="842" y="32"/>
                    <a:pt x="781" y="2"/>
                  </a:cubicBezTo>
                  <a:cubicBezTo>
                    <a:pt x="721" y="5"/>
                    <a:pt x="660" y="0"/>
                    <a:pt x="601" y="11"/>
                  </a:cubicBezTo>
                  <a:cubicBezTo>
                    <a:pt x="601" y="11"/>
                    <a:pt x="534" y="56"/>
                    <a:pt x="520" y="65"/>
                  </a:cubicBezTo>
                  <a:cubicBezTo>
                    <a:pt x="511" y="71"/>
                    <a:pt x="493" y="83"/>
                    <a:pt x="493" y="83"/>
                  </a:cubicBezTo>
                  <a:cubicBezTo>
                    <a:pt x="474" y="111"/>
                    <a:pt x="448" y="134"/>
                    <a:pt x="421" y="155"/>
                  </a:cubicBezTo>
                  <a:cubicBezTo>
                    <a:pt x="404" y="168"/>
                    <a:pt x="367" y="191"/>
                    <a:pt x="367" y="191"/>
                  </a:cubicBezTo>
                  <a:cubicBezTo>
                    <a:pt x="325" y="274"/>
                    <a:pt x="293" y="375"/>
                    <a:pt x="196" y="407"/>
                  </a:cubicBezTo>
                  <a:cubicBezTo>
                    <a:pt x="190" y="416"/>
                    <a:pt x="186" y="426"/>
                    <a:pt x="178" y="434"/>
                  </a:cubicBezTo>
                  <a:cubicBezTo>
                    <a:pt x="170" y="442"/>
                    <a:pt x="158" y="444"/>
                    <a:pt x="151" y="452"/>
                  </a:cubicBezTo>
                  <a:cubicBezTo>
                    <a:pt x="145" y="459"/>
                    <a:pt x="147" y="471"/>
                    <a:pt x="142" y="479"/>
                  </a:cubicBezTo>
                  <a:cubicBezTo>
                    <a:pt x="135" y="490"/>
                    <a:pt x="122" y="495"/>
                    <a:pt x="115" y="506"/>
                  </a:cubicBezTo>
                  <a:cubicBezTo>
                    <a:pt x="101" y="529"/>
                    <a:pt x="94" y="556"/>
                    <a:pt x="79" y="578"/>
                  </a:cubicBezTo>
                  <a:cubicBezTo>
                    <a:pt x="73" y="587"/>
                    <a:pt x="67" y="596"/>
                    <a:pt x="61" y="605"/>
                  </a:cubicBezTo>
                  <a:cubicBezTo>
                    <a:pt x="33" y="716"/>
                    <a:pt x="27" y="833"/>
                    <a:pt x="16" y="947"/>
                  </a:cubicBezTo>
                  <a:cubicBezTo>
                    <a:pt x="29" y="1092"/>
                    <a:pt x="0" y="1029"/>
                    <a:pt x="106" y="1064"/>
                  </a:cubicBezTo>
                  <a:cubicBezTo>
                    <a:pt x="308" y="1047"/>
                    <a:pt x="209" y="1087"/>
                    <a:pt x="196" y="1028"/>
                  </a:cubicBezTo>
                  <a:cubicBezTo>
                    <a:pt x="192" y="1010"/>
                    <a:pt x="196" y="992"/>
                    <a:pt x="196" y="974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9000" y="1635480"/>
              <a:ext cx="1399320" cy="11271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095200">
              <a:off x="4633920" y="2275200"/>
              <a:ext cx="155880" cy="1587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480480" y="2450160"/>
              <a:ext cx="155880" cy="1587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43280" y="2730240"/>
              <a:ext cx="1285560" cy="123264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8840" y="3788640"/>
              <a:ext cx="588240" cy="24984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7280" y="3672360"/>
              <a:ext cx="588240" cy="2484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52800" y="1460880"/>
              <a:ext cx="156960" cy="174240"/>
            </a:xfrm>
            <a:prstGeom prst="ellipse">
              <a:avLst/>
            </a:prstGeom>
            <a:solidFill>
              <a:srgbClr val="f0312c"/>
            </a:solidFill>
            <a:ln w="9360">
              <a:solidFill>
                <a:srgbClr val="f03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486400" y="632448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88" y="48"/>
                </a:moveTo>
                <a:lnTo>
                  <a:pt x="0" y="0"/>
                </a:lnTo>
                <a:lnTo>
                  <a:pt x="0" y="96"/>
                </a:lnTo>
                <a:lnTo>
                  <a:pt x="48" y="144"/>
                </a:lnTo>
                <a:lnTo>
                  <a:pt x="0" y="240"/>
                </a:lnTo>
                <a:lnTo>
                  <a:pt x="48" y="336"/>
                </a:lnTo>
                <a:lnTo>
                  <a:pt x="576" y="336"/>
                </a:lnTo>
                <a:lnTo>
                  <a:pt x="240" y="0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333760" y="6324480"/>
            <a:ext cx="1143000" cy="533520"/>
            <a:chOff x="5333760" y="6324480"/>
            <a:chExt cx="1143000" cy="533520"/>
          </a:xfrm>
        </p:grpSpPr>
        <p:sp>
          <p:nvSpPr>
            <p:cNvPr id="429" name=""/>
            <p:cNvSpPr/>
            <p:nvPr/>
          </p:nvSpPr>
          <p:spPr>
            <a:xfrm flipH="1" rot="5400000">
              <a:off x="5981040" y="6362640"/>
              <a:ext cx="457200" cy="53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333760" y="6324480"/>
              <a:ext cx="91440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288" y="48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48" y="144"/>
                  </a:lnTo>
                  <a:lnTo>
                    <a:pt x="0" y="240"/>
                  </a:lnTo>
                  <a:lnTo>
                    <a:pt x="48" y="336"/>
                  </a:lnTo>
                  <a:lnTo>
                    <a:pt x="576" y="336"/>
                  </a:lnTo>
                  <a:lnTo>
                    <a:pt x="24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638680" y="6362640"/>
            <a:ext cx="538200" cy="495360"/>
          </a:xfrm>
          <a:custGeom>
            <a:avLst/>
            <a:gdLst/>
            <a:ahLst/>
            <a:rect l="l" t="t" r="r" b="b"/>
            <a:pathLst>
              <a:path w="339" h="312">
                <a:moveTo>
                  <a:pt x="125" y="47"/>
                </a:moveTo>
                <a:cubicBezTo>
                  <a:pt x="91" y="50"/>
                  <a:pt x="43" y="28"/>
                  <a:pt x="23" y="56"/>
                </a:cubicBezTo>
                <a:cubicBezTo>
                  <a:pt x="0" y="89"/>
                  <a:pt x="29" y="137"/>
                  <a:pt x="33" y="177"/>
                </a:cubicBezTo>
                <a:cubicBezTo>
                  <a:pt x="35" y="199"/>
                  <a:pt x="33" y="222"/>
                  <a:pt x="42" y="242"/>
                </a:cubicBezTo>
                <a:cubicBezTo>
                  <a:pt x="47" y="252"/>
                  <a:pt x="61" y="255"/>
                  <a:pt x="70" y="261"/>
                </a:cubicBezTo>
                <a:cubicBezTo>
                  <a:pt x="84" y="303"/>
                  <a:pt x="77" y="312"/>
                  <a:pt x="153" y="279"/>
                </a:cubicBezTo>
                <a:cubicBezTo>
                  <a:pt x="162" y="275"/>
                  <a:pt x="160" y="260"/>
                  <a:pt x="163" y="251"/>
                </a:cubicBezTo>
                <a:cubicBezTo>
                  <a:pt x="173" y="221"/>
                  <a:pt x="184" y="188"/>
                  <a:pt x="218" y="177"/>
                </a:cubicBezTo>
                <a:cubicBezTo>
                  <a:pt x="245" y="168"/>
                  <a:pt x="302" y="158"/>
                  <a:pt x="302" y="158"/>
                </a:cubicBezTo>
                <a:cubicBezTo>
                  <a:pt x="333" y="60"/>
                  <a:pt x="339" y="154"/>
                  <a:pt x="311" y="0"/>
                </a:cubicBezTo>
                <a:cubicBezTo>
                  <a:pt x="258" y="3"/>
                  <a:pt x="205" y="2"/>
                  <a:pt x="153" y="10"/>
                </a:cubicBezTo>
                <a:cubicBezTo>
                  <a:pt x="142" y="12"/>
                  <a:pt x="135" y="23"/>
                  <a:pt x="125" y="28"/>
                </a:cubicBezTo>
                <a:cubicBezTo>
                  <a:pt x="95" y="43"/>
                  <a:pt x="83" y="33"/>
                  <a:pt x="125" y="4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64008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 вдруг мышка пробежал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востиком махнул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ичко упало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разбилось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352680" y="5150160"/>
            <a:ext cx="1622520" cy="748800"/>
            <a:chOff x="3352680" y="5150160"/>
            <a:chExt cx="1622520" cy="748800"/>
          </a:xfrm>
        </p:grpSpPr>
        <p:sp>
          <p:nvSpPr>
            <p:cNvPr id="435" name=""/>
            <p:cNvSpPr/>
            <p:nvPr/>
          </p:nvSpPr>
          <p:spPr>
            <a:xfrm rot="10800000">
              <a:off x="3352680" y="5398560"/>
              <a:ext cx="914400" cy="3049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66960 h 304920"/>
                <a:gd name="textAreaBottom" fmla="*/ 237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52680" y="5703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581280" y="5150160"/>
              <a:ext cx="1393920" cy="748800"/>
              <a:chOff x="3581280" y="5150160"/>
              <a:chExt cx="1393920" cy="748800"/>
            </a:xfrm>
          </p:grpSpPr>
          <p:sp>
            <p:nvSpPr>
              <p:cNvPr id="438" name=""/>
              <p:cNvSpPr/>
              <p:nvPr/>
            </p:nvSpPr>
            <p:spPr>
              <a:xfrm>
                <a:off x="3581280" y="5475240"/>
                <a:ext cx="152280" cy="163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010000">
                <a:off x="4023720" y="533376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055" h="177">
                    <a:moveTo>
                      <a:pt x="3" y="65"/>
                    </a:moveTo>
                    <a:cubicBezTo>
                      <a:pt x="48" y="35"/>
                      <a:pt x="74" y="13"/>
                      <a:pt x="124" y="0"/>
                    </a:cubicBezTo>
                    <a:cubicBezTo>
                      <a:pt x="207" y="11"/>
                      <a:pt x="295" y="30"/>
                      <a:pt x="375" y="56"/>
                    </a:cubicBezTo>
                    <a:cubicBezTo>
                      <a:pt x="570" y="42"/>
                      <a:pt x="481" y="25"/>
                      <a:pt x="700" y="38"/>
                    </a:cubicBezTo>
                    <a:cubicBezTo>
                      <a:pt x="819" y="76"/>
                      <a:pt x="888" y="78"/>
                      <a:pt x="1025" y="84"/>
                    </a:cubicBezTo>
                    <a:cubicBezTo>
                      <a:pt x="1051" y="122"/>
                      <a:pt x="1055" y="132"/>
                      <a:pt x="1044" y="177"/>
                    </a:cubicBezTo>
                    <a:cubicBezTo>
                      <a:pt x="1025" y="174"/>
                      <a:pt x="1004" y="177"/>
                      <a:pt x="988" y="168"/>
                    </a:cubicBezTo>
                    <a:cubicBezTo>
                      <a:pt x="933" y="137"/>
                      <a:pt x="1032" y="137"/>
                      <a:pt x="951" y="130"/>
                    </a:cubicBezTo>
                    <a:cubicBezTo>
                      <a:pt x="889" y="125"/>
                      <a:pt x="827" y="124"/>
                      <a:pt x="765" y="121"/>
                    </a:cubicBezTo>
                    <a:cubicBezTo>
                      <a:pt x="741" y="113"/>
                      <a:pt x="729" y="113"/>
                      <a:pt x="710" y="93"/>
                    </a:cubicBezTo>
                    <a:cubicBezTo>
                      <a:pt x="702" y="85"/>
                      <a:pt x="700" y="72"/>
                      <a:pt x="691" y="65"/>
                    </a:cubicBezTo>
                    <a:cubicBezTo>
                      <a:pt x="675" y="52"/>
                      <a:pt x="652" y="49"/>
                      <a:pt x="635" y="38"/>
                    </a:cubicBezTo>
                    <a:cubicBezTo>
                      <a:pt x="616" y="41"/>
                      <a:pt x="594" y="36"/>
                      <a:pt x="579" y="47"/>
                    </a:cubicBezTo>
                    <a:cubicBezTo>
                      <a:pt x="558" y="63"/>
                      <a:pt x="533" y="112"/>
                      <a:pt x="533" y="112"/>
                    </a:cubicBezTo>
                    <a:cubicBezTo>
                      <a:pt x="413" y="104"/>
                      <a:pt x="321" y="90"/>
                      <a:pt x="199" y="84"/>
                    </a:cubicBezTo>
                    <a:cubicBezTo>
                      <a:pt x="0" y="74"/>
                      <a:pt x="3" y="140"/>
                      <a:pt x="3" y="6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581280" y="5562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8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385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867280" y="22096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1600200"/>
            <a:ext cx="2057400" cy="1143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4480" y="1752480"/>
            <a:ext cx="1676520" cy="838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1523880"/>
            <a:ext cx="3765600" cy="5029200"/>
            <a:chOff x="0" y="1523880"/>
            <a:chExt cx="3765600" cy="5029200"/>
          </a:xfrm>
        </p:grpSpPr>
        <p:sp>
          <p:nvSpPr>
            <p:cNvPr id="445" name=""/>
            <p:cNvSpPr/>
            <p:nvPr/>
          </p:nvSpPr>
          <p:spPr>
            <a:xfrm>
              <a:off x="852480" y="1600200"/>
              <a:ext cx="1128600" cy="112716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43000" y="1904760"/>
              <a:ext cx="241200" cy="2541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1904760"/>
              <a:ext cx="241200" cy="2541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760" y="1523880"/>
              <a:ext cx="1303560" cy="863640"/>
            </a:xfrm>
            <a:custGeom>
              <a:avLst/>
              <a:gdLst/>
              <a:ahLst/>
              <a:rect l="l" t="t" r="r" b="b"/>
              <a:pathLst>
                <a:path w="1484" h="1092">
                  <a:moveTo>
                    <a:pt x="196" y="1028"/>
                  </a:moveTo>
                  <a:cubicBezTo>
                    <a:pt x="186" y="987"/>
                    <a:pt x="166" y="947"/>
                    <a:pt x="142" y="911"/>
                  </a:cubicBezTo>
                  <a:cubicBezTo>
                    <a:pt x="148" y="729"/>
                    <a:pt x="127" y="654"/>
                    <a:pt x="214" y="524"/>
                  </a:cubicBezTo>
                  <a:cubicBezTo>
                    <a:pt x="228" y="503"/>
                    <a:pt x="256" y="494"/>
                    <a:pt x="277" y="479"/>
                  </a:cubicBezTo>
                  <a:cubicBezTo>
                    <a:pt x="292" y="433"/>
                    <a:pt x="277" y="380"/>
                    <a:pt x="295" y="335"/>
                  </a:cubicBezTo>
                  <a:cubicBezTo>
                    <a:pt x="319" y="277"/>
                    <a:pt x="484" y="282"/>
                    <a:pt x="502" y="281"/>
                  </a:cubicBezTo>
                  <a:cubicBezTo>
                    <a:pt x="539" y="269"/>
                    <a:pt x="577" y="249"/>
                    <a:pt x="610" y="227"/>
                  </a:cubicBezTo>
                  <a:cubicBezTo>
                    <a:pt x="631" y="230"/>
                    <a:pt x="659" y="220"/>
                    <a:pt x="673" y="236"/>
                  </a:cubicBezTo>
                  <a:cubicBezTo>
                    <a:pt x="689" y="254"/>
                    <a:pt x="673" y="286"/>
                    <a:pt x="682" y="308"/>
                  </a:cubicBezTo>
                  <a:cubicBezTo>
                    <a:pt x="686" y="318"/>
                    <a:pt x="700" y="320"/>
                    <a:pt x="709" y="326"/>
                  </a:cubicBezTo>
                  <a:cubicBezTo>
                    <a:pt x="741" y="304"/>
                    <a:pt x="744" y="282"/>
                    <a:pt x="772" y="254"/>
                  </a:cubicBezTo>
                  <a:cubicBezTo>
                    <a:pt x="778" y="263"/>
                    <a:pt x="785" y="271"/>
                    <a:pt x="790" y="281"/>
                  </a:cubicBezTo>
                  <a:cubicBezTo>
                    <a:pt x="794" y="289"/>
                    <a:pt x="790" y="309"/>
                    <a:pt x="799" y="308"/>
                  </a:cubicBezTo>
                  <a:cubicBezTo>
                    <a:pt x="820" y="305"/>
                    <a:pt x="835" y="284"/>
                    <a:pt x="853" y="272"/>
                  </a:cubicBezTo>
                  <a:cubicBezTo>
                    <a:pt x="896" y="243"/>
                    <a:pt x="870" y="257"/>
                    <a:pt x="934" y="236"/>
                  </a:cubicBezTo>
                  <a:cubicBezTo>
                    <a:pt x="943" y="233"/>
                    <a:pt x="907" y="245"/>
                    <a:pt x="907" y="245"/>
                  </a:cubicBezTo>
                  <a:cubicBezTo>
                    <a:pt x="904" y="257"/>
                    <a:pt x="902" y="269"/>
                    <a:pt x="898" y="281"/>
                  </a:cubicBezTo>
                  <a:cubicBezTo>
                    <a:pt x="893" y="299"/>
                    <a:pt x="880" y="335"/>
                    <a:pt x="880" y="335"/>
                  </a:cubicBezTo>
                  <a:cubicBezTo>
                    <a:pt x="883" y="356"/>
                    <a:pt x="868" y="395"/>
                    <a:pt x="889" y="398"/>
                  </a:cubicBezTo>
                  <a:cubicBezTo>
                    <a:pt x="914" y="402"/>
                    <a:pt x="925" y="362"/>
                    <a:pt x="943" y="344"/>
                  </a:cubicBezTo>
                  <a:cubicBezTo>
                    <a:pt x="950" y="337"/>
                    <a:pt x="961" y="338"/>
                    <a:pt x="970" y="335"/>
                  </a:cubicBezTo>
                  <a:cubicBezTo>
                    <a:pt x="980" y="328"/>
                    <a:pt x="1026" y="290"/>
                    <a:pt x="1042" y="290"/>
                  </a:cubicBezTo>
                  <a:cubicBezTo>
                    <a:pt x="1053" y="290"/>
                    <a:pt x="1059" y="304"/>
                    <a:pt x="1069" y="308"/>
                  </a:cubicBezTo>
                  <a:cubicBezTo>
                    <a:pt x="1086" y="316"/>
                    <a:pt x="1123" y="326"/>
                    <a:pt x="1123" y="326"/>
                  </a:cubicBezTo>
                  <a:cubicBezTo>
                    <a:pt x="1150" y="353"/>
                    <a:pt x="1168" y="368"/>
                    <a:pt x="1204" y="380"/>
                  </a:cubicBezTo>
                  <a:cubicBezTo>
                    <a:pt x="1214" y="410"/>
                    <a:pt x="1221" y="440"/>
                    <a:pt x="1231" y="470"/>
                  </a:cubicBezTo>
                  <a:cubicBezTo>
                    <a:pt x="1234" y="506"/>
                    <a:pt x="1234" y="542"/>
                    <a:pt x="1240" y="578"/>
                  </a:cubicBezTo>
                  <a:cubicBezTo>
                    <a:pt x="1245" y="606"/>
                    <a:pt x="1258" y="632"/>
                    <a:pt x="1267" y="659"/>
                  </a:cubicBezTo>
                  <a:cubicBezTo>
                    <a:pt x="1286" y="715"/>
                    <a:pt x="1296" y="780"/>
                    <a:pt x="1303" y="839"/>
                  </a:cubicBezTo>
                  <a:cubicBezTo>
                    <a:pt x="1310" y="897"/>
                    <a:pt x="1299" y="941"/>
                    <a:pt x="1348" y="974"/>
                  </a:cubicBezTo>
                  <a:cubicBezTo>
                    <a:pt x="1366" y="1029"/>
                    <a:pt x="1392" y="1009"/>
                    <a:pt x="1447" y="1001"/>
                  </a:cubicBezTo>
                  <a:cubicBezTo>
                    <a:pt x="1484" y="891"/>
                    <a:pt x="1463" y="964"/>
                    <a:pt x="1447" y="704"/>
                  </a:cubicBezTo>
                  <a:cubicBezTo>
                    <a:pt x="1444" y="651"/>
                    <a:pt x="1389" y="607"/>
                    <a:pt x="1357" y="569"/>
                  </a:cubicBezTo>
                  <a:cubicBezTo>
                    <a:pt x="1335" y="542"/>
                    <a:pt x="1329" y="509"/>
                    <a:pt x="1312" y="479"/>
                  </a:cubicBezTo>
                  <a:cubicBezTo>
                    <a:pt x="1277" y="417"/>
                    <a:pt x="1245" y="353"/>
                    <a:pt x="1213" y="290"/>
                  </a:cubicBezTo>
                  <a:cubicBezTo>
                    <a:pt x="1197" y="257"/>
                    <a:pt x="1182" y="203"/>
                    <a:pt x="1150" y="182"/>
                  </a:cubicBezTo>
                  <a:cubicBezTo>
                    <a:pt x="1092" y="143"/>
                    <a:pt x="1033" y="105"/>
                    <a:pt x="970" y="74"/>
                  </a:cubicBezTo>
                  <a:cubicBezTo>
                    <a:pt x="909" y="44"/>
                    <a:pt x="842" y="32"/>
                    <a:pt x="781" y="2"/>
                  </a:cubicBezTo>
                  <a:cubicBezTo>
                    <a:pt x="721" y="5"/>
                    <a:pt x="660" y="0"/>
                    <a:pt x="601" y="11"/>
                  </a:cubicBezTo>
                  <a:cubicBezTo>
                    <a:pt x="601" y="11"/>
                    <a:pt x="534" y="56"/>
                    <a:pt x="520" y="65"/>
                  </a:cubicBezTo>
                  <a:cubicBezTo>
                    <a:pt x="511" y="71"/>
                    <a:pt x="493" y="83"/>
                    <a:pt x="493" y="83"/>
                  </a:cubicBezTo>
                  <a:cubicBezTo>
                    <a:pt x="474" y="111"/>
                    <a:pt x="448" y="134"/>
                    <a:pt x="421" y="155"/>
                  </a:cubicBezTo>
                  <a:cubicBezTo>
                    <a:pt x="404" y="168"/>
                    <a:pt x="367" y="191"/>
                    <a:pt x="367" y="191"/>
                  </a:cubicBezTo>
                  <a:cubicBezTo>
                    <a:pt x="325" y="274"/>
                    <a:pt x="293" y="375"/>
                    <a:pt x="196" y="407"/>
                  </a:cubicBezTo>
                  <a:cubicBezTo>
                    <a:pt x="190" y="416"/>
                    <a:pt x="186" y="426"/>
                    <a:pt x="178" y="434"/>
                  </a:cubicBezTo>
                  <a:cubicBezTo>
                    <a:pt x="170" y="442"/>
                    <a:pt x="158" y="444"/>
                    <a:pt x="151" y="452"/>
                  </a:cubicBezTo>
                  <a:cubicBezTo>
                    <a:pt x="145" y="459"/>
                    <a:pt x="147" y="471"/>
                    <a:pt x="142" y="479"/>
                  </a:cubicBezTo>
                  <a:cubicBezTo>
                    <a:pt x="135" y="490"/>
                    <a:pt x="122" y="495"/>
                    <a:pt x="115" y="506"/>
                  </a:cubicBezTo>
                  <a:cubicBezTo>
                    <a:pt x="101" y="529"/>
                    <a:pt x="94" y="556"/>
                    <a:pt x="79" y="578"/>
                  </a:cubicBezTo>
                  <a:cubicBezTo>
                    <a:pt x="73" y="587"/>
                    <a:pt x="67" y="596"/>
                    <a:pt x="61" y="605"/>
                  </a:cubicBezTo>
                  <a:cubicBezTo>
                    <a:pt x="33" y="716"/>
                    <a:pt x="27" y="833"/>
                    <a:pt x="16" y="947"/>
                  </a:cubicBezTo>
                  <a:cubicBezTo>
                    <a:pt x="29" y="1092"/>
                    <a:pt x="0" y="1029"/>
                    <a:pt x="106" y="1064"/>
                  </a:cubicBezTo>
                  <a:cubicBezTo>
                    <a:pt x="308" y="1047"/>
                    <a:pt x="209" y="1087"/>
                    <a:pt x="196" y="1028"/>
                  </a:cubicBezTo>
                  <a:cubicBezTo>
                    <a:pt x="192" y="1010"/>
                    <a:pt x="196" y="992"/>
                    <a:pt x="196" y="974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2361960"/>
              <a:ext cx="3079800" cy="206712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095200">
              <a:off x="2743200" y="3504600"/>
              <a:ext cx="342720" cy="2923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5240" y="3962160"/>
              <a:ext cx="343080" cy="2905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1880" y="4240080"/>
              <a:ext cx="2828880" cy="226044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5200" y="6095880"/>
              <a:ext cx="1295280" cy="4572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69960" y="5943600"/>
              <a:ext cx="129564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080" y="2286000"/>
              <a:ext cx="1149480" cy="798480"/>
            </a:xfrm>
            <a:custGeom>
              <a:avLst/>
              <a:gdLst/>
              <a:ahLst/>
              <a:rect l="l" t="t" r="r" b="b"/>
              <a:pathLst>
                <a:path w="1369" h="995">
                  <a:moveTo>
                    <a:pt x="30" y="103"/>
                  </a:moveTo>
                  <a:cubicBezTo>
                    <a:pt x="112" y="91"/>
                    <a:pt x="73" y="101"/>
                    <a:pt x="147" y="76"/>
                  </a:cubicBezTo>
                  <a:cubicBezTo>
                    <a:pt x="165" y="70"/>
                    <a:pt x="201" y="58"/>
                    <a:pt x="201" y="58"/>
                  </a:cubicBezTo>
                  <a:cubicBezTo>
                    <a:pt x="376" y="83"/>
                    <a:pt x="240" y="87"/>
                    <a:pt x="534" y="76"/>
                  </a:cubicBezTo>
                  <a:cubicBezTo>
                    <a:pt x="659" y="34"/>
                    <a:pt x="522" y="46"/>
                    <a:pt x="795" y="58"/>
                  </a:cubicBezTo>
                  <a:cubicBezTo>
                    <a:pt x="839" y="73"/>
                    <a:pt x="876" y="85"/>
                    <a:pt x="921" y="94"/>
                  </a:cubicBezTo>
                  <a:cubicBezTo>
                    <a:pt x="957" y="91"/>
                    <a:pt x="994" y="92"/>
                    <a:pt x="1029" y="85"/>
                  </a:cubicBezTo>
                  <a:cubicBezTo>
                    <a:pt x="1040" y="83"/>
                    <a:pt x="1046" y="71"/>
                    <a:pt x="1056" y="67"/>
                  </a:cubicBezTo>
                  <a:cubicBezTo>
                    <a:pt x="1079" y="59"/>
                    <a:pt x="1128" y="49"/>
                    <a:pt x="1128" y="49"/>
                  </a:cubicBezTo>
                  <a:cubicBezTo>
                    <a:pt x="1369" y="59"/>
                    <a:pt x="1313" y="0"/>
                    <a:pt x="1353" y="121"/>
                  </a:cubicBezTo>
                  <a:cubicBezTo>
                    <a:pt x="1347" y="213"/>
                    <a:pt x="1354" y="493"/>
                    <a:pt x="1236" y="571"/>
                  </a:cubicBezTo>
                  <a:cubicBezTo>
                    <a:pt x="1213" y="639"/>
                    <a:pt x="1192" y="704"/>
                    <a:pt x="1164" y="769"/>
                  </a:cubicBezTo>
                  <a:cubicBezTo>
                    <a:pt x="1145" y="813"/>
                    <a:pt x="1137" y="868"/>
                    <a:pt x="1101" y="904"/>
                  </a:cubicBezTo>
                  <a:cubicBezTo>
                    <a:pt x="1086" y="919"/>
                    <a:pt x="1065" y="928"/>
                    <a:pt x="1047" y="940"/>
                  </a:cubicBezTo>
                  <a:cubicBezTo>
                    <a:pt x="965" y="995"/>
                    <a:pt x="849" y="946"/>
                    <a:pt x="750" y="949"/>
                  </a:cubicBezTo>
                  <a:cubicBezTo>
                    <a:pt x="613" y="966"/>
                    <a:pt x="662" y="964"/>
                    <a:pt x="444" y="949"/>
                  </a:cubicBezTo>
                  <a:cubicBezTo>
                    <a:pt x="411" y="947"/>
                    <a:pt x="379" y="920"/>
                    <a:pt x="345" y="913"/>
                  </a:cubicBezTo>
                  <a:cubicBezTo>
                    <a:pt x="311" y="890"/>
                    <a:pt x="272" y="879"/>
                    <a:pt x="237" y="859"/>
                  </a:cubicBezTo>
                  <a:cubicBezTo>
                    <a:pt x="218" y="848"/>
                    <a:pt x="183" y="823"/>
                    <a:pt x="183" y="823"/>
                  </a:cubicBezTo>
                  <a:cubicBezTo>
                    <a:pt x="176" y="801"/>
                    <a:pt x="163" y="782"/>
                    <a:pt x="156" y="760"/>
                  </a:cubicBezTo>
                  <a:cubicBezTo>
                    <a:pt x="151" y="743"/>
                    <a:pt x="154" y="723"/>
                    <a:pt x="147" y="706"/>
                  </a:cubicBezTo>
                  <a:cubicBezTo>
                    <a:pt x="137" y="682"/>
                    <a:pt x="114" y="666"/>
                    <a:pt x="102" y="643"/>
                  </a:cubicBezTo>
                  <a:cubicBezTo>
                    <a:pt x="78" y="599"/>
                    <a:pt x="52" y="553"/>
                    <a:pt x="30" y="508"/>
                  </a:cubicBezTo>
                  <a:cubicBezTo>
                    <a:pt x="27" y="472"/>
                    <a:pt x="28" y="435"/>
                    <a:pt x="21" y="400"/>
                  </a:cubicBezTo>
                  <a:cubicBezTo>
                    <a:pt x="19" y="389"/>
                    <a:pt x="3" y="384"/>
                    <a:pt x="3" y="373"/>
                  </a:cubicBezTo>
                  <a:cubicBezTo>
                    <a:pt x="0" y="298"/>
                    <a:pt x="1" y="222"/>
                    <a:pt x="12" y="148"/>
                  </a:cubicBezTo>
                  <a:cubicBezTo>
                    <a:pt x="25" y="59"/>
                    <a:pt x="62" y="198"/>
                    <a:pt x="30" y="103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18960" y="220968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52400" y="220500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7560" y="2590560"/>
              <a:ext cx="15264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465560" y="1828800"/>
            <a:ext cx="3245400" cy="4744800"/>
            <a:chOff x="1465560" y="1828800"/>
            <a:chExt cx="3245400" cy="4744800"/>
          </a:xfrm>
        </p:grpSpPr>
        <p:sp>
          <p:nvSpPr>
            <p:cNvPr id="460" name=""/>
            <p:cNvSpPr/>
            <p:nvPr/>
          </p:nvSpPr>
          <p:spPr>
            <a:xfrm>
              <a:off x="1662120" y="2533680"/>
              <a:ext cx="298584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17680" y="1944720"/>
              <a:ext cx="1028520" cy="94932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14600" y="2179440"/>
              <a:ext cx="220680" cy="21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43000" y="2179440"/>
              <a:ext cx="219240" cy="21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9200" y="1828800"/>
              <a:ext cx="1384560" cy="1598400"/>
            </a:xfrm>
            <a:custGeom>
              <a:avLst/>
              <a:gdLst/>
              <a:ahLst/>
              <a:rect l="l" t="t" r="r" b="b"/>
              <a:pathLst>
                <a:path w="958" h="1196">
                  <a:moveTo>
                    <a:pt x="465" y="168"/>
                  </a:moveTo>
                  <a:cubicBezTo>
                    <a:pt x="386" y="178"/>
                    <a:pt x="396" y="183"/>
                    <a:pt x="335" y="205"/>
                  </a:cubicBezTo>
                  <a:cubicBezTo>
                    <a:pt x="323" y="223"/>
                    <a:pt x="310" y="242"/>
                    <a:pt x="298" y="260"/>
                  </a:cubicBezTo>
                  <a:cubicBezTo>
                    <a:pt x="292" y="269"/>
                    <a:pt x="290" y="284"/>
                    <a:pt x="280" y="288"/>
                  </a:cubicBezTo>
                  <a:cubicBezTo>
                    <a:pt x="271" y="291"/>
                    <a:pt x="261" y="293"/>
                    <a:pt x="252" y="298"/>
                  </a:cubicBezTo>
                  <a:cubicBezTo>
                    <a:pt x="232" y="309"/>
                    <a:pt x="196" y="335"/>
                    <a:pt x="196" y="335"/>
                  </a:cubicBezTo>
                  <a:cubicBezTo>
                    <a:pt x="190" y="344"/>
                    <a:pt x="178" y="352"/>
                    <a:pt x="177" y="363"/>
                  </a:cubicBezTo>
                  <a:cubicBezTo>
                    <a:pt x="175" y="402"/>
                    <a:pt x="193" y="557"/>
                    <a:pt x="224" y="604"/>
                  </a:cubicBezTo>
                  <a:cubicBezTo>
                    <a:pt x="231" y="615"/>
                    <a:pt x="244" y="622"/>
                    <a:pt x="252" y="632"/>
                  </a:cubicBezTo>
                  <a:cubicBezTo>
                    <a:pt x="259" y="641"/>
                    <a:pt x="261" y="654"/>
                    <a:pt x="270" y="660"/>
                  </a:cubicBezTo>
                  <a:cubicBezTo>
                    <a:pt x="287" y="670"/>
                    <a:pt x="326" y="678"/>
                    <a:pt x="326" y="678"/>
                  </a:cubicBezTo>
                  <a:cubicBezTo>
                    <a:pt x="382" y="716"/>
                    <a:pt x="412" y="738"/>
                    <a:pt x="475" y="753"/>
                  </a:cubicBezTo>
                  <a:cubicBezTo>
                    <a:pt x="563" y="748"/>
                    <a:pt x="625" y="773"/>
                    <a:pt x="670" y="706"/>
                  </a:cubicBezTo>
                  <a:cubicBezTo>
                    <a:pt x="685" y="661"/>
                    <a:pt x="700" y="629"/>
                    <a:pt x="744" y="613"/>
                  </a:cubicBezTo>
                  <a:cubicBezTo>
                    <a:pt x="766" y="548"/>
                    <a:pt x="752" y="486"/>
                    <a:pt x="791" y="428"/>
                  </a:cubicBezTo>
                  <a:cubicBezTo>
                    <a:pt x="783" y="396"/>
                    <a:pt x="772" y="347"/>
                    <a:pt x="744" y="325"/>
                  </a:cubicBezTo>
                  <a:cubicBezTo>
                    <a:pt x="736" y="319"/>
                    <a:pt x="725" y="321"/>
                    <a:pt x="716" y="316"/>
                  </a:cubicBezTo>
                  <a:cubicBezTo>
                    <a:pt x="618" y="263"/>
                    <a:pt x="696" y="291"/>
                    <a:pt x="633" y="270"/>
                  </a:cubicBezTo>
                  <a:cubicBezTo>
                    <a:pt x="608" y="253"/>
                    <a:pt x="577" y="235"/>
                    <a:pt x="549" y="223"/>
                  </a:cubicBezTo>
                  <a:cubicBezTo>
                    <a:pt x="531" y="215"/>
                    <a:pt x="493" y="205"/>
                    <a:pt x="493" y="205"/>
                  </a:cubicBezTo>
                  <a:cubicBezTo>
                    <a:pt x="484" y="199"/>
                    <a:pt x="475" y="191"/>
                    <a:pt x="465" y="186"/>
                  </a:cubicBezTo>
                  <a:cubicBezTo>
                    <a:pt x="457" y="182"/>
                    <a:pt x="446" y="182"/>
                    <a:pt x="438" y="177"/>
                  </a:cubicBezTo>
                  <a:cubicBezTo>
                    <a:pt x="418" y="166"/>
                    <a:pt x="382" y="140"/>
                    <a:pt x="382" y="140"/>
                  </a:cubicBezTo>
                  <a:cubicBezTo>
                    <a:pt x="369" y="104"/>
                    <a:pt x="364" y="87"/>
                    <a:pt x="326" y="75"/>
                  </a:cubicBezTo>
                  <a:cubicBezTo>
                    <a:pt x="286" y="78"/>
                    <a:pt x="244" y="74"/>
                    <a:pt x="205" y="84"/>
                  </a:cubicBezTo>
                  <a:cubicBezTo>
                    <a:pt x="194" y="87"/>
                    <a:pt x="196" y="105"/>
                    <a:pt x="187" y="112"/>
                  </a:cubicBezTo>
                  <a:cubicBezTo>
                    <a:pt x="179" y="118"/>
                    <a:pt x="168" y="118"/>
                    <a:pt x="159" y="121"/>
                  </a:cubicBezTo>
                  <a:cubicBezTo>
                    <a:pt x="147" y="158"/>
                    <a:pt x="127" y="182"/>
                    <a:pt x="103" y="214"/>
                  </a:cubicBezTo>
                  <a:cubicBezTo>
                    <a:pt x="62" y="335"/>
                    <a:pt x="0" y="526"/>
                    <a:pt x="122" y="604"/>
                  </a:cubicBezTo>
                  <a:cubicBezTo>
                    <a:pt x="151" y="648"/>
                    <a:pt x="158" y="682"/>
                    <a:pt x="205" y="697"/>
                  </a:cubicBezTo>
                  <a:cubicBezTo>
                    <a:pt x="239" y="792"/>
                    <a:pt x="269" y="849"/>
                    <a:pt x="372" y="883"/>
                  </a:cubicBezTo>
                  <a:cubicBezTo>
                    <a:pt x="437" y="880"/>
                    <a:pt x="504" y="887"/>
                    <a:pt x="568" y="874"/>
                  </a:cubicBezTo>
                  <a:cubicBezTo>
                    <a:pt x="578" y="872"/>
                    <a:pt x="564" y="854"/>
                    <a:pt x="558" y="846"/>
                  </a:cubicBezTo>
                  <a:cubicBezTo>
                    <a:pt x="544" y="829"/>
                    <a:pt x="522" y="824"/>
                    <a:pt x="503" y="818"/>
                  </a:cubicBezTo>
                  <a:cubicBezTo>
                    <a:pt x="498" y="815"/>
                    <a:pt x="459" y="784"/>
                    <a:pt x="447" y="790"/>
                  </a:cubicBezTo>
                  <a:cubicBezTo>
                    <a:pt x="438" y="794"/>
                    <a:pt x="441" y="809"/>
                    <a:pt x="438" y="818"/>
                  </a:cubicBezTo>
                  <a:cubicBezTo>
                    <a:pt x="425" y="903"/>
                    <a:pt x="440" y="867"/>
                    <a:pt x="391" y="939"/>
                  </a:cubicBezTo>
                  <a:cubicBezTo>
                    <a:pt x="385" y="948"/>
                    <a:pt x="378" y="957"/>
                    <a:pt x="372" y="966"/>
                  </a:cubicBezTo>
                  <a:cubicBezTo>
                    <a:pt x="366" y="975"/>
                    <a:pt x="354" y="994"/>
                    <a:pt x="354" y="994"/>
                  </a:cubicBezTo>
                  <a:cubicBezTo>
                    <a:pt x="357" y="1053"/>
                    <a:pt x="334" y="1119"/>
                    <a:pt x="363" y="1171"/>
                  </a:cubicBezTo>
                  <a:cubicBezTo>
                    <a:pt x="377" y="1196"/>
                    <a:pt x="422" y="1175"/>
                    <a:pt x="447" y="1162"/>
                  </a:cubicBezTo>
                  <a:cubicBezTo>
                    <a:pt x="467" y="1151"/>
                    <a:pt x="484" y="1106"/>
                    <a:pt x="484" y="1106"/>
                  </a:cubicBezTo>
                  <a:cubicBezTo>
                    <a:pt x="487" y="1097"/>
                    <a:pt x="489" y="1087"/>
                    <a:pt x="493" y="1078"/>
                  </a:cubicBezTo>
                  <a:cubicBezTo>
                    <a:pt x="498" y="1068"/>
                    <a:pt x="507" y="1060"/>
                    <a:pt x="512" y="1050"/>
                  </a:cubicBezTo>
                  <a:cubicBezTo>
                    <a:pt x="556" y="950"/>
                    <a:pt x="506" y="1029"/>
                    <a:pt x="549" y="966"/>
                  </a:cubicBezTo>
                  <a:cubicBezTo>
                    <a:pt x="580" y="873"/>
                    <a:pt x="531" y="896"/>
                    <a:pt x="651" y="883"/>
                  </a:cubicBezTo>
                  <a:cubicBezTo>
                    <a:pt x="660" y="880"/>
                    <a:pt x="670" y="870"/>
                    <a:pt x="679" y="874"/>
                  </a:cubicBezTo>
                  <a:cubicBezTo>
                    <a:pt x="689" y="878"/>
                    <a:pt x="693" y="891"/>
                    <a:pt x="698" y="901"/>
                  </a:cubicBezTo>
                  <a:cubicBezTo>
                    <a:pt x="702" y="910"/>
                    <a:pt x="728" y="978"/>
                    <a:pt x="735" y="1004"/>
                  </a:cubicBezTo>
                  <a:cubicBezTo>
                    <a:pt x="738" y="1016"/>
                    <a:pt x="736" y="1031"/>
                    <a:pt x="744" y="1041"/>
                  </a:cubicBezTo>
                  <a:cubicBezTo>
                    <a:pt x="750" y="1049"/>
                    <a:pt x="763" y="1047"/>
                    <a:pt x="772" y="1050"/>
                  </a:cubicBezTo>
                  <a:cubicBezTo>
                    <a:pt x="801" y="1093"/>
                    <a:pt x="798" y="1107"/>
                    <a:pt x="883" y="1069"/>
                  </a:cubicBezTo>
                  <a:cubicBezTo>
                    <a:pt x="892" y="1065"/>
                    <a:pt x="880" y="1049"/>
                    <a:pt x="874" y="1041"/>
                  </a:cubicBezTo>
                  <a:cubicBezTo>
                    <a:pt x="859" y="1022"/>
                    <a:pt x="835" y="1011"/>
                    <a:pt x="818" y="994"/>
                  </a:cubicBezTo>
                  <a:cubicBezTo>
                    <a:pt x="807" y="958"/>
                    <a:pt x="814" y="918"/>
                    <a:pt x="800" y="883"/>
                  </a:cubicBezTo>
                  <a:cubicBezTo>
                    <a:pt x="798" y="878"/>
                    <a:pt x="744" y="842"/>
                    <a:pt x="735" y="836"/>
                  </a:cubicBezTo>
                  <a:cubicBezTo>
                    <a:pt x="709" y="798"/>
                    <a:pt x="672" y="793"/>
                    <a:pt x="633" y="771"/>
                  </a:cubicBezTo>
                  <a:cubicBezTo>
                    <a:pt x="614" y="760"/>
                    <a:pt x="577" y="734"/>
                    <a:pt x="577" y="734"/>
                  </a:cubicBezTo>
                  <a:cubicBezTo>
                    <a:pt x="524" y="748"/>
                    <a:pt x="549" y="732"/>
                    <a:pt x="521" y="781"/>
                  </a:cubicBezTo>
                  <a:cubicBezTo>
                    <a:pt x="516" y="791"/>
                    <a:pt x="492" y="809"/>
                    <a:pt x="503" y="809"/>
                  </a:cubicBezTo>
                  <a:cubicBezTo>
                    <a:pt x="516" y="809"/>
                    <a:pt x="520" y="789"/>
                    <a:pt x="530" y="781"/>
                  </a:cubicBezTo>
                  <a:cubicBezTo>
                    <a:pt x="548" y="767"/>
                    <a:pt x="565" y="751"/>
                    <a:pt x="586" y="744"/>
                  </a:cubicBezTo>
                  <a:cubicBezTo>
                    <a:pt x="605" y="738"/>
                    <a:pt x="642" y="725"/>
                    <a:pt x="642" y="725"/>
                  </a:cubicBezTo>
                  <a:cubicBezTo>
                    <a:pt x="737" y="738"/>
                    <a:pt x="847" y="763"/>
                    <a:pt x="930" y="706"/>
                  </a:cubicBezTo>
                  <a:cubicBezTo>
                    <a:pt x="933" y="694"/>
                    <a:pt x="935" y="681"/>
                    <a:pt x="939" y="669"/>
                  </a:cubicBezTo>
                  <a:cubicBezTo>
                    <a:pt x="945" y="650"/>
                    <a:pt x="958" y="613"/>
                    <a:pt x="958" y="613"/>
                  </a:cubicBezTo>
                  <a:cubicBezTo>
                    <a:pt x="953" y="585"/>
                    <a:pt x="942" y="558"/>
                    <a:pt x="939" y="530"/>
                  </a:cubicBezTo>
                  <a:cubicBezTo>
                    <a:pt x="934" y="487"/>
                    <a:pt x="940" y="442"/>
                    <a:pt x="930" y="400"/>
                  </a:cubicBezTo>
                  <a:cubicBezTo>
                    <a:pt x="925" y="378"/>
                    <a:pt x="893" y="344"/>
                    <a:pt x="893" y="344"/>
                  </a:cubicBezTo>
                  <a:cubicBezTo>
                    <a:pt x="890" y="332"/>
                    <a:pt x="888" y="319"/>
                    <a:pt x="883" y="307"/>
                  </a:cubicBezTo>
                  <a:cubicBezTo>
                    <a:pt x="879" y="297"/>
                    <a:pt x="868" y="290"/>
                    <a:pt x="865" y="279"/>
                  </a:cubicBezTo>
                  <a:cubicBezTo>
                    <a:pt x="849" y="230"/>
                    <a:pt x="837" y="130"/>
                    <a:pt x="781" y="102"/>
                  </a:cubicBezTo>
                  <a:cubicBezTo>
                    <a:pt x="758" y="91"/>
                    <a:pt x="731" y="92"/>
                    <a:pt x="707" y="84"/>
                  </a:cubicBezTo>
                  <a:cubicBezTo>
                    <a:pt x="670" y="60"/>
                    <a:pt x="635" y="37"/>
                    <a:pt x="595" y="19"/>
                  </a:cubicBezTo>
                  <a:cubicBezTo>
                    <a:pt x="577" y="11"/>
                    <a:pt x="540" y="0"/>
                    <a:pt x="540" y="0"/>
                  </a:cubicBezTo>
                  <a:cubicBezTo>
                    <a:pt x="512" y="3"/>
                    <a:pt x="484" y="5"/>
                    <a:pt x="456" y="10"/>
                  </a:cubicBezTo>
                  <a:cubicBezTo>
                    <a:pt x="416" y="17"/>
                    <a:pt x="339" y="65"/>
                    <a:pt x="298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93720" y="3047760"/>
              <a:ext cx="3046320" cy="108900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rot="3337200">
              <a:off x="1512000" y="3827880"/>
              <a:ext cx="288720" cy="2649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801000">
              <a:off x="4370400" y="3859200"/>
              <a:ext cx="288720" cy="2664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5520" y="6381720"/>
              <a:ext cx="555480" cy="191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59080" y="6381720"/>
              <a:ext cx="555480" cy="1918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44600" y="2814480"/>
              <a:ext cx="1790640" cy="375444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47760" y="238284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560" y="2458800"/>
              <a:ext cx="100080" cy="23364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160" y="2611440"/>
              <a:ext cx="15264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689440" y="4724280"/>
            <a:ext cx="2024280" cy="1814400"/>
            <a:chOff x="5689440" y="4724280"/>
            <a:chExt cx="2024280" cy="1814400"/>
          </a:xfrm>
        </p:grpSpPr>
        <p:sp>
          <p:nvSpPr>
            <p:cNvPr id="475" name=""/>
            <p:cNvSpPr/>
            <p:nvPr/>
          </p:nvSpPr>
          <p:spPr>
            <a:xfrm>
              <a:off x="5816520" y="4824360"/>
              <a:ext cx="1897200" cy="117432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5968800" y="4879440"/>
              <a:ext cx="304920" cy="110520"/>
              <a:chOff x="5968800" y="4879440"/>
              <a:chExt cx="304920" cy="110520"/>
            </a:xfrm>
          </p:grpSpPr>
          <p:sp>
            <p:nvSpPr>
              <p:cNvPr id="477" name=""/>
              <p:cNvSpPr/>
              <p:nvPr/>
            </p:nvSpPr>
            <p:spPr>
              <a:xfrm>
                <a:off x="5968800" y="4879440"/>
                <a:ext cx="304920" cy="1105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29640" y="4879440"/>
                <a:ext cx="182880" cy="11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90480" y="4916160"/>
                <a:ext cx="60840" cy="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rot="12848400">
              <a:off x="5714640" y="4991040"/>
              <a:ext cx="334800" cy="19332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59440" y="4724280"/>
              <a:ext cx="414360" cy="13464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26000" y="5819760"/>
              <a:ext cx="0" cy="552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11800" y="5764680"/>
              <a:ext cx="0" cy="552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121440" y="631764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6000" y="631764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6000" y="631764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07240" y="631764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631764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11800" y="631764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45000" y="5429160"/>
              <a:ext cx="1143000" cy="31428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 txBox="1"/>
          <p:nvPr/>
        </p:nvSpPr>
        <p:spPr>
          <a:xfrm>
            <a:off x="304920" y="990720"/>
            <a:ext cx="8839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али они плакать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д плачет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а плачет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курочка Ряба их успокаевает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плачте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снесу ещё яичко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 не золотое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простое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4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320" y="76320"/>
            <a:ext cx="4343400" cy="3809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20461800">
            <a:off x="2781000" y="838080"/>
            <a:ext cx="685800" cy="236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727" y="1768"/>
                  <a:pt x="9854" y="5080"/>
                  <a:pt x="9854" y="10800"/>
                </a:cubicBezTo>
                <a:cubicBezTo>
                  <a:pt x="9854" y="16520"/>
                  <a:pt x="15727" y="198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9040" y="76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47840" y="22860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3440" y="16765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3960" y="274320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1143000"/>
            <a:ext cx="228600" cy="228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81360" y="1143000"/>
            <a:ext cx="763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92400" y="2327400"/>
            <a:ext cx="187200" cy="15876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118" y="62"/>
                </a:moveTo>
                <a:cubicBezTo>
                  <a:pt x="82" y="55"/>
                  <a:pt x="51" y="46"/>
                  <a:pt x="16" y="34"/>
                </a:cubicBezTo>
                <a:cubicBezTo>
                  <a:pt x="13" y="25"/>
                  <a:pt x="0" y="14"/>
                  <a:pt x="7" y="7"/>
                </a:cubicBezTo>
                <a:cubicBezTo>
                  <a:pt x="14" y="0"/>
                  <a:pt x="29" y="8"/>
                  <a:pt x="35" y="16"/>
                </a:cubicBezTo>
                <a:cubicBezTo>
                  <a:pt x="46" y="32"/>
                  <a:pt x="47" y="53"/>
                  <a:pt x="53" y="72"/>
                </a:cubicBezTo>
                <a:cubicBezTo>
                  <a:pt x="56" y="81"/>
                  <a:pt x="54" y="100"/>
                  <a:pt x="63" y="99"/>
                </a:cubicBezTo>
                <a:cubicBezTo>
                  <a:pt x="85" y="96"/>
                  <a:pt x="100" y="74"/>
                  <a:pt x="118" y="62"/>
                </a:cubicBezTo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24280" y="76320"/>
            <a:ext cx="4343400" cy="3809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152280"/>
            <a:ext cx="2361960" cy="221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15200" y="68580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9907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01000" y="9907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20120" y="1066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77320" y="1066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81480" y="457200"/>
            <a:ext cx="1447920" cy="838080"/>
          </a:xfrm>
          <a:prstGeom prst="cloudCallout">
            <a:avLst>
              <a:gd name="adj1" fmla="val 1097"/>
              <a:gd name="adj2" fmla="val 31250"/>
            </a:avLst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2514600"/>
            <a:ext cx="1447920" cy="838080"/>
          </a:xfrm>
          <a:prstGeom prst="cloudCallout">
            <a:avLst>
              <a:gd name="adj1" fmla="val 1097"/>
              <a:gd name="adj2" fmla="val 31250"/>
            </a:avLst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3962520"/>
            <a:ext cx="8534160" cy="289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038480"/>
            <a:ext cx="2895480" cy="2743200"/>
          </a:xfrm>
          <a:prstGeom prst="rect">
            <a:avLst/>
          </a:prstGeom>
          <a:solidFill>
            <a:srgbClr val="bd0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4038480"/>
            <a:ext cx="5331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12408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20040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27672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35268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50532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162080" y="4594320"/>
            <a:ext cx="15048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и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4343400"/>
            <a:ext cx="4343400" cy="2133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5334120"/>
            <a:ext cx="121932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dfe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5791320"/>
            <a:ext cx="8380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5562720"/>
            <a:ext cx="838440" cy="609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48520" y="5029200"/>
            <a:ext cx="838080" cy="609480"/>
          </a:xfrm>
          <a:prstGeom prst="ellipse">
            <a:avLst/>
          </a:prstGeom>
          <a:solidFill>
            <a:srgbClr val="fc46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4495680"/>
            <a:ext cx="838080" cy="609840"/>
          </a:xfrm>
          <a:prstGeom prst="ellipse">
            <a:avLst/>
          </a:prstGeom>
          <a:solidFill>
            <a:srgbClr val="f8a6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86600" y="4572000"/>
            <a:ext cx="838080" cy="609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029200"/>
            <a:ext cx="8240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80880" y="2554200"/>
            <a:ext cx="8381880" cy="3560040"/>
            <a:chOff x="380880" y="2554200"/>
            <a:chExt cx="8381880" cy="3560040"/>
          </a:xfrm>
        </p:grpSpPr>
        <p:sp>
          <p:nvSpPr>
            <p:cNvPr id="529" name=""/>
            <p:cNvSpPr txBox="1"/>
            <p:nvPr/>
          </p:nvSpPr>
          <p:spPr>
            <a:xfrm>
              <a:off x="380880" y="2554200"/>
              <a:ext cx="8381880" cy="15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Конец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233440" y="3227760"/>
              <a:ext cx="1557000" cy="2886480"/>
              <a:chOff x="2233440" y="3227760"/>
              <a:chExt cx="1557000" cy="2886480"/>
            </a:xfrm>
          </p:grpSpPr>
          <p:sp>
            <p:nvSpPr>
              <p:cNvPr id="531" name=""/>
              <p:cNvSpPr/>
              <p:nvPr/>
            </p:nvSpPr>
            <p:spPr>
              <a:xfrm rot="20196000">
                <a:off x="2855520" y="3962160"/>
                <a:ext cx="533160" cy="2133720"/>
              </a:xfrm>
              <a:custGeom>
                <a:avLst/>
                <a:gdLst>
                  <a:gd name="textAreaLeft" fmla="*/ 25920 w 533160"/>
                  <a:gd name="textAreaRight" fmla="*/ 507240 w 533160"/>
                  <a:gd name="textAreaTop" fmla="*/ 25920 h 2133720"/>
                  <a:gd name="textAreaBottom" fmla="*/ 2107800 h 213372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3600" y="0"/>
                    </a:moveTo>
                    <a:arcTo wR="3600" hR="3600" stAng="16200000" swAng="-5400000"/>
                    <a:lnTo>
                      <a:pt x="0" y="82800"/>
                    </a:lnTo>
                    <a:arcTo wR="3600" hR="3600" stAng="10800000" swAng="-5400000"/>
                    <a:lnTo>
                      <a:pt x="18000" y="864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bd0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9396000">
                <a:off x="2386440" y="3754440"/>
                <a:ext cx="533160" cy="380880"/>
              </a:xfrm>
              <a:custGeom>
                <a:avLst/>
                <a:gdLst>
                  <a:gd name="textAreaLeft" fmla="*/ 117000 w 533160"/>
                  <a:gd name="textAreaRight" fmla="*/ 416160 w 53316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196000">
                <a:off x="2338200" y="3254040"/>
                <a:ext cx="248760" cy="552240"/>
              </a:xfrm>
              <a:custGeom>
                <a:avLst/>
                <a:gdLst/>
                <a:ahLst/>
                <a:rect l="l" t="t" r="r" b="b"/>
                <a:pathLst>
                  <a:path w="157" h="348">
                    <a:moveTo>
                      <a:pt x="2" y="348"/>
                    </a:moveTo>
                    <a:cubicBezTo>
                      <a:pt x="5" y="272"/>
                      <a:pt x="0" y="195"/>
                      <a:pt x="11" y="119"/>
                    </a:cubicBezTo>
                    <a:cubicBezTo>
                      <a:pt x="12" y="110"/>
                      <a:pt x="31" y="116"/>
                      <a:pt x="38" y="110"/>
                    </a:cubicBezTo>
                    <a:cubicBezTo>
                      <a:pt x="57" y="95"/>
                      <a:pt x="70" y="43"/>
                      <a:pt x="75" y="28"/>
                    </a:cubicBezTo>
                    <a:cubicBezTo>
                      <a:pt x="78" y="19"/>
                      <a:pt x="84" y="0"/>
                      <a:pt x="84" y="0"/>
                    </a:cubicBezTo>
                    <a:cubicBezTo>
                      <a:pt x="87" y="25"/>
                      <a:pt x="84" y="51"/>
                      <a:pt x="93" y="74"/>
                    </a:cubicBezTo>
                    <a:cubicBezTo>
                      <a:pt x="100" y="93"/>
                      <a:pt x="146" y="81"/>
                      <a:pt x="148" y="101"/>
                    </a:cubicBezTo>
                    <a:cubicBezTo>
                      <a:pt x="157" y="183"/>
                      <a:pt x="148" y="266"/>
                      <a:pt x="148" y="348"/>
                    </a:cubicBezTo>
                    <a:lnTo>
                      <a:pt x="2" y="34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196000">
                <a:off x="2285640" y="3277800"/>
                <a:ext cx="272880" cy="320760"/>
              </a:xfrm>
              <a:custGeom>
                <a:avLst/>
                <a:gdLst/>
                <a:ahLst/>
                <a:rect l="l" t="t" r="r" b="b"/>
                <a:pathLst>
                  <a:path w="172" h="202">
                    <a:moveTo>
                      <a:pt x="19" y="202"/>
                    </a:moveTo>
                    <a:cubicBezTo>
                      <a:pt x="47" y="193"/>
                      <a:pt x="64" y="179"/>
                      <a:pt x="83" y="156"/>
                    </a:cubicBezTo>
                    <a:cubicBezTo>
                      <a:pt x="90" y="148"/>
                      <a:pt x="91" y="134"/>
                      <a:pt x="101" y="129"/>
                    </a:cubicBezTo>
                    <a:cubicBezTo>
                      <a:pt x="118" y="121"/>
                      <a:pt x="138" y="122"/>
                      <a:pt x="156" y="119"/>
                    </a:cubicBezTo>
                    <a:cubicBezTo>
                      <a:pt x="159" y="110"/>
                      <a:pt x="172" y="99"/>
                      <a:pt x="165" y="92"/>
                    </a:cubicBezTo>
                    <a:cubicBezTo>
                      <a:pt x="151" y="79"/>
                      <a:pt x="110" y="74"/>
                      <a:pt x="110" y="74"/>
                    </a:cubicBezTo>
                    <a:cubicBezTo>
                      <a:pt x="104" y="68"/>
                      <a:pt x="93" y="64"/>
                      <a:pt x="92" y="55"/>
                    </a:cubicBezTo>
                    <a:cubicBezTo>
                      <a:pt x="90" y="40"/>
                      <a:pt x="108" y="24"/>
                      <a:pt x="101" y="10"/>
                    </a:cubicBezTo>
                    <a:cubicBezTo>
                      <a:pt x="96" y="0"/>
                      <a:pt x="90" y="29"/>
                      <a:pt x="83" y="37"/>
                    </a:cubicBezTo>
                    <a:cubicBezTo>
                      <a:pt x="77" y="44"/>
                      <a:pt x="70" y="49"/>
                      <a:pt x="64" y="55"/>
                    </a:cubicBezTo>
                    <a:cubicBezTo>
                      <a:pt x="61" y="64"/>
                      <a:pt x="63" y="77"/>
                      <a:pt x="55" y="83"/>
                    </a:cubicBezTo>
                    <a:cubicBezTo>
                      <a:pt x="39" y="94"/>
                      <a:pt x="0" y="101"/>
                      <a:pt x="0" y="101"/>
                    </a:cubicBezTo>
                    <a:cubicBezTo>
                      <a:pt x="18" y="152"/>
                      <a:pt x="9" y="119"/>
                      <a:pt x="19" y="202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8-12-23T16:04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