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9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1.jpeg" ContentType="image/jpeg"/>
  <Override PartName="/ppt/media/image7.png" ContentType="image/png"/>
  <Override PartName="/ppt/media/image14.jpeg" ContentType="image/jpeg"/>
  <Override PartName="/ppt/media/image5.gif" ContentType="image/gif"/>
  <Override PartName="/ppt/media/image8.png" ContentType="image/png"/>
  <Override PartName="/ppt/media/image10.jpeg" ContentType="image/jpeg"/>
  <Override PartName="/ppt/media/image6.wmf" ContentType="image/x-wmf"/>
  <Override PartName="/ppt/media/image11.png" ContentType="image/pn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7B231-45FF-4D21-87F2-4825BB624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5D759-5DA0-44E1-845D-D58DECBAF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591F8-E464-4A10-9933-8640CDEF4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B4CAD-7E98-479F-993A-64FF4DBD8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CE0D8-BEF0-4D53-B3C6-9931B1C59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5D3B9-69D1-43E0-9953-DF76F244F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7BCA0-C795-497B-984D-C112B8AD8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85FCC-91D5-4C1B-A6B6-54426E59D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549AD-D8A0-4234-B70C-A2269306B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6073B-F2FE-4E70-9615-A4CD51554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01FA7-8826-4A48-9B16-DB9EAEF06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ADF4E-B0A2-4709-B355-EAA09D4E3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E7604-892F-41C1-AFA8-14F2E6DA16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image" Target="../media/image1.jpe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9.jpeg"/><Relationship Id="rId8" Type="http://schemas.openxmlformats.org/officeDocument/2006/relationships/image" Target="../media/image10.jpe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3.jpeg"/><Relationship Id="rId7" Type="http://schemas.openxmlformats.org/officeDocument/2006/relationships/image" Target="../media/image12.jpeg"/><Relationship Id="rId8" Type="http://schemas.openxmlformats.org/officeDocument/2006/relationships/image" Target="../media/image13.jpeg"/><Relationship Id="rId9" Type="http://schemas.openxmlformats.org/officeDocument/2006/relationships/image" Target="../media/image13.jpeg"/><Relationship Id="rId10" Type="http://schemas.openxmlformats.org/officeDocument/2006/relationships/image" Target="../media/image12.jpeg"/><Relationship Id="rId11" Type="http://schemas.openxmlformats.org/officeDocument/2006/relationships/image" Target="../media/image13.jpeg"/><Relationship Id="rId12" Type="http://schemas.openxmlformats.org/officeDocument/2006/relationships/image" Target="../media/image13.jpeg"/><Relationship Id="rId13" Type="http://schemas.openxmlformats.org/officeDocument/2006/relationships/image" Target="../media/image12.jpeg"/><Relationship Id="rId14" Type="http://schemas.openxmlformats.org/officeDocument/2006/relationships/image" Target="../media/image13.jpeg"/><Relationship Id="rId15" Type="http://schemas.openxmlformats.org/officeDocument/2006/relationships/image" Target="../media/image13.jpeg"/><Relationship Id="rId16" Type="http://schemas.openxmlformats.org/officeDocument/2006/relationships/image" Target="../media/image12.jpeg"/><Relationship Id="rId17" Type="http://schemas.openxmlformats.org/officeDocument/2006/relationships/image" Target="../media/image13.jpeg"/><Relationship Id="rId18" Type="http://schemas.openxmlformats.org/officeDocument/2006/relationships/image" Target="../media/image13.jpeg"/><Relationship Id="rId19" Type="http://schemas.openxmlformats.org/officeDocument/2006/relationships/image" Target="../media/image14.jpeg"/><Relationship Id="rId20" Type="http://schemas.openxmlformats.org/officeDocument/2006/relationships/image" Target="../media/image14.jpeg"/><Relationship Id="rId21" Type="http://schemas.openxmlformats.org/officeDocument/2006/relationships/image" Target="../media/image14.jpeg"/><Relationship Id="rId22" Type="http://schemas.openxmlformats.org/officeDocument/2006/relationships/image" Target="../media/image8.png"/><Relationship Id="rId23" Type="http://schemas.openxmlformats.org/officeDocument/2006/relationships/image" Target="../media/image8.png"/><Relationship Id="rId2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3.jpeg"/><Relationship Id="rId7" Type="http://schemas.openxmlformats.org/officeDocument/2006/relationships/image" Target="../media/image12.jpeg"/><Relationship Id="rId8" Type="http://schemas.openxmlformats.org/officeDocument/2006/relationships/image" Target="../media/image13.jpeg"/><Relationship Id="rId9" Type="http://schemas.openxmlformats.org/officeDocument/2006/relationships/image" Target="../media/image13.jpeg"/><Relationship Id="rId10" Type="http://schemas.openxmlformats.org/officeDocument/2006/relationships/image" Target="../media/image12.jpeg"/><Relationship Id="rId11" Type="http://schemas.openxmlformats.org/officeDocument/2006/relationships/image" Target="../media/image13.jpeg"/><Relationship Id="rId12" Type="http://schemas.openxmlformats.org/officeDocument/2006/relationships/image" Target="../media/image13.jpeg"/><Relationship Id="rId13" Type="http://schemas.openxmlformats.org/officeDocument/2006/relationships/image" Target="../media/image12.jpeg"/><Relationship Id="rId14" Type="http://schemas.openxmlformats.org/officeDocument/2006/relationships/image" Target="../media/image13.jpeg"/><Relationship Id="rId15" Type="http://schemas.openxmlformats.org/officeDocument/2006/relationships/image" Target="../media/image13.jpeg"/><Relationship Id="rId16" Type="http://schemas.openxmlformats.org/officeDocument/2006/relationships/image" Target="../media/image12.jpeg"/><Relationship Id="rId17" Type="http://schemas.openxmlformats.org/officeDocument/2006/relationships/image" Target="../media/image13.jpeg"/><Relationship Id="rId18" Type="http://schemas.openxmlformats.org/officeDocument/2006/relationships/image" Target="../media/image13.jpeg"/><Relationship Id="rId19" Type="http://schemas.openxmlformats.org/officeDocument/2006/relationships/image" Target="../media/image14.jpeg"/><Relationship Id="rId20" Type="http://schemas.openxmlformats.org/officeDocument/2006/relationships/image" Target="../media/image14.jpeg"/><Relationship Id="rId21" Type="http://schemas.openxmlformats.org/officeDocument/2006/relationships/image" Target="../media/image14.jpeg"/><Relationship Id="rId22" Type="http://schemas.openxmlformats.org/officeDocument/2006/relationships/image" Target="../media/image7.png"/><Relationship Id="rId23" Type="http://schemas.openxmlformats.org/officeDocument/2006/relationships/image" Target="../media/image8.png"/><Relationship Id="rId24" Type="http://schemas.openxmlformats.org/officeDocument/2006/relationships/image" Target="../media/image8.png"/><Relationship Id="rId2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3.jpeg"/><Relationship Id="rId7" Type="http://schemas.openxmlformats.org/officeDocument/2006/relationships/image" Target="../media/image12.jpeg"/><Relationship Id="rId8" Type="http://schemas.openxmlformats.org/officeDocument/2006/relationships/image" Target="../media/image13.jpeg"/><Relationship Id="rId9" Type="http://schemas.openxmlformats.org/officeDocument/2006/relationships/image" Target="../media/image13.jpeg"/><Relationship Id="rId10" Type="http://schemas.openxmlformats.org/officeDocument/2006/relationships/image" Target="../media/image12.jpeg"/><Relationship Id="rId11" Type="http://schemas.openxmlformats.org/officeDocument/2006/relationships/image" Target="../media/image13.jpeg"/><Relationship Id="rId12" Type="http://schemas.openxmlformats.org/officeDocument/2006/relationships/image" Target="../media/image13.jpeg"/><Relationship Id="rId13" Type="http://schemas.openxmlformats.org/officeDocument/2006/relationships/image" Target="../media/image12.jpeg"/><Relationship Id="rId14" Type="http://schemas.openxmlformats.org/officeDocument/2006/relationships/image" Target="../media/image13.jpeg"/><Relationship Id="rId15" Type="http://schemas.openxmlformats.org/officeDocument/2006/relationships/image" Target="../media/image13.jpeg"/><Relationship Id="rId16" Type="http://schemas.openxmlformats.org/officeDocument/2006/relationships/image" Target="../media/image12.jpeg"/><Relationship Id="rId17" Type="http://schemas.openxmlformats.org/officeDocument/2006/relationships/image" Target="../media/image13.jpeg"/><Relationship Id="rId18" Type="http://schemas.openxmlformats.org/officeDocument/2006/relationships/image" Target="../media/image13.jpeg"/><Relationship Id="rId19" Type="http://schemas.openxmlformats.org/officeDocument/2006/relationships/image" Target="../media/image14.jpeg"/><Relationship Id="rId20" Type="http://schemas.openxmlformats.org/officeDocument/2006/relationships/image" Target="../media/image14.jpeg"/><Relationship Id="rId21" Type="http://schemas.openxmlformats.org/officeDocument/2006/relationships/image" Target="../media/image14.jpeg"/><Relationship Id="rId22" Type="http://schemas.openxmlformats.org/officeDocument/2006/relationships/image" Target="../media/image8.png"/><Relationship Id="rId23" Type="http://schemas.openxmlformats.org/officeDocument/2006/relationships/image" Target="../media/image8.png"/><Relationship Id="rId24" Type="http://schemas.openxmlformats.org/officeDocument/2006/relationships/image" Target="../media/image7.png"/><Relationship Id="rId25" Type="http://schemas.openxmlformats.org/officeDocument/2006/relationships/image" Target="../media/image8.png"/><Relationship Id="rId26" Type="http://schemas.openxmlformats.org/officeDocument/2006/relationships/image" Target="../media/image8.png"/><Relationship Id="rId27" Type="http://schemas.openxmlformats.org/officeDocument/2006/relationships/image" Target="../media/image10.jpeg"/><Relationship Id="rId28" Type="http://schemas.openxmlformats.org/officeDocument/2006/relationships/image" Target="../media/image10.jpeg"/><Relationship Id="rId2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image" Target="../media/image1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76320" y="76320"/>
            <a:ext cx="4343400" cy="3809880"/>
            <a:chOff x="76320" y="76320"/>
            <a:chExt cx="4343400" cy="3809880"/>
          </a:xfrm>
        </p:grpSpPr>
        <p:sp>
          <p:nvSpPr>
            <p:cNvPr id="42" name=""/>
            <p:cNvSpPr/>
            <p:nvPr/>
          </p:nvSpPr>
          <p:spPr>
            <a:xfrm>
              <a:off x="76320" y="76320"/>
              <a:ext cx="4343400" cy="38098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rot="20461800">
              <a:off x="2781000" y="838080"/>
              <a:ext cx="685440" cy="23623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5727" y="1768"/>
                    <a:pt x="9854" y="5080"/>
                    <a:pt x="9854" y="10800"/>
                  </a:cubicBezTo>
                  <a:cubicBezTo>
                    <a:pt x="9854" y="16520"/>
                    <a:pt x="15727" y="1983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419040" y="76320"/>
              <a:ext cx="380520" cy="533160"/>
            </a:xfrm>
            <a:custGeom>
              <a:avLst/>
              <a:gdLst>
                <a:gd name="textAreaLeft" fmla="*/ 156600 w 380520"/>
                <a:gd name="textAreaRight" fmla="*/ 223920 w 380520"/>
                <a:gd name="textAreaTop" fmla="*/ 219600 h 533160"/>
                <a:gd name="textAreaBottom" fmla="*/ 313560 h 533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247840" y="228600"/>
              <a:ext cx="380520" cy="533520"/>
            </a:xfrm>
            <a:custGeom>
              <a:avLst/>
              <a:gdLst>
                <a:gd name="textAreaLeft" fmla="*/ 156600 w 380520"/>
                <a:gd name="textAreaRight" fmla="*/ 223920 w 380520"/>
                <a:gd name="textAreaTop" fmla="*/ 219960 h 533520"/>
                <a:gd name="textAreaBottom" fmla="*/ 313560 h 533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333440" y="1676520"/>
              <a:ext cx="380520" cy="533160"/>
            </a:xfrm>
            <a:custGeom>
              <a:avLst/>
              <a:gdLst>
                <a:gd name="textAreaLeft" fmla="*/ 156600 w 380520"/>
                <a:gd name="textAreaRight" fmla="*/ 223920 w 380520"/>
                <a:gd name="textAreaTop" fmla="*/ 219600 h 533160"/>
                <a:gd name="textAreaBottom" fmla="*/ 313560 h 533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23960" y="2743200"/>
              <a:ext cx="380520" cy="533520"/>
            </a:xfrm>
            <a:custGeom>
              <a:avLst/>
              <a:gdLst>
                <a:gd name="textAreaLeft" fmla="*/ 156600 w 380520"/>
                <a:gd name="textAreaRight" fmla="*/ 223920 w 380520"/>
                <a:gd name="textAreaTop" fmla="*/ 219960 h 533520"/>
                <a:gd name="textAreaBottom" fmla="*/ 313560 h 533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705040" y="1143000"/>
              <a:ext cx="228240" cy="228600"/>
            </a:xfrm>
            <a:prstGeom prst="ellipse">
              <a:avLst/>
            </a:prstGeom>
            <a:solidFill>
              <a:srgbClr val="66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81360" y="1143000"/>
              <a:ext cx="75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092400" y="2327400"/>
              <a:ext cx="186840" cy="158760"/>
            </a:xfrm>
            <a:custGeom>
              <a:avLst/>
              <a:gdLst/>
              <a:ahLst/>
              <a:rect l="l" t="t" r="r" b="b"/>
              <a:pathLst>
                <a:path w="118" h="100">
                  <a:moveTo>
                    <a:pt x="118" y="62"/>
                  </a:moveTo>
                  <a:cubicBezTo>
                    <a:pt x="82" y="55"/>
                    <a:pt x="51" y="46"/>
                    <a:pt x="16" y="34"/>
                  </a:cubicBezTo>
                  <a:cubicBezTo>
                    <a:pt x="13" y="25"/>
                    <a:pt x="0" y="14"/>
                    <a:pt x="7" y="7"/>
                  </a:cubicBezTo>
                  <a:cubicBezTo>
                    <a:pt x="14" y="0"/>
                    <a:pt x="29" y="8"/>
                    <a:pt x="35" y="16"/>
                  </a:cubicBezTo>
                  <a:cubicBezTo>
                    <a:pt x="46" y="32"/>
                    <a:pt x="47" y="53"/>
                    <a:pt x="53" y="72"/>
                  </a:cubicBezTo>
                  <a:cubicBezTo>
                    <a:pt x="56" y="81"/>
                    <a:pt x="54" y="100"/>
                    <a:pt x="63" y="99"/>
                  </a:cubicBezTo>
                  <a:cubicBezTo>
                    <a:pt x="85" y="96"/>
                    <a:pt x="100" y="74"/>
                    <a:pt x="118" y="62"/>
                  </a:cubicBezTo>
                  <a:close/>
                </a:path>
              </a:pathLst>
            </a:custGeom>
            <a:solidFill>
              <a:srgbClr val="ff3399"/>
            </a:solidFill>
            <a:ln w="9360">
              <a:solidFill>
                <a:srgbClr val="ff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4724280" y="76320"/>
            <a:ext cx="4343400" cy="3809880"/>
            <a:chOff x="4724280" y="76320"/>
            <a:chExt cx="4343400" cy="3809880"/>
          </a:xfrm>
        </p:grpSpPr>
        <p:sp>
          <p:nvSpPr>
            <p:cNvPr id="52" name=""/>
            <p:cNvSpPr/>
            <p:nvPr/>
          </p:nvSpPr>
          <p:spPr>
            <a:xfrm>
              <a:off x="4724280" y="76320"/>
              <a:ext cx="4343400" cy="3809880"/>
            </a:xfrm>
            <a:prstGeom prst="rect">
              <a:avLst/>
            </a:prstGeom>
            <a:solidFill>
              <a:srgbClr val="66ffff"/>
            </a:solidFill>
            <a:ln w="9360">
              <a:solidFill>
                <a:srgbClr val="66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553080" y="152280"/>
              <a:ext cx="2361960" cy="2210040"/>
            </a:xfrm>
            <a:prstGeom prst="sun">
              <a:avLst>
                <a:gd name="adj" fmla="val 25000"/>
              </a:avLst>
            </a:prstGeom>
            <a:solidFill>
              <a:srgbClr val="ffff00"/>
            </a:solidFill>
            <a:ln w="936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162560" y="685800"/>
              <a:ext cx="1143000" cy="1143000"/>
            </a:xfrm>
            <a:prstGeom prst="smileyFace">
              <a:avLst>
                <a:gd name="adj" fmla="val 9282"/>
              </a:avLst>
            </a:prstGeom>
            <a:solidFill>
              <a:srgbClr val="ffff00"/>
            </a:solidFill>
            <a:ln w="936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391160" y="990720"/>
              <a:ext cx="228600" cy="22860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7848360" y="990720"/>
              <a:ext cx="228600" cy="22860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7467480" y="1066680"/>
              <a:ext cx="7596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7924680" y="1066680"/>
              <a:ext cx="7596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028840" y="457200"/>
              <a:ext cx="1447920" cy="838080"/>
            </a:xfrm>
            <a:prstGeom prst="cloudCallout">
              <a:avLst>
                <a:gd name="adj1" fmla="val 1097"/>
                <a:gd name="adj2" fmla="val 31250"/>
              </a:avLst>
            </a:prstGeom>
            <a:solidFill>
              <a:srgbClr val="ffffff"/>
            </a:solidFill>
            <a:ln w="936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162560" y="2514600"/>
              <a:ext cx="1447920" cy="838080"/>
            </a:xfrm>
            <a:prstGeom prst="cloudCallout">
              <a:avLst>
                <a:gd name="adj1" fmla="val 1097"/>
                <a:gd name="adj2" fmla="val 31250"/>
              </a:avLst>
            </a:prstGeom>
            <a:solidFill>
              <a:srgbClr val="ffffff"/>
            </a:solidFill>
            <a:ln w="936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304920" y="3962520"/>
            <a:ext cx="8534160" cy="2895480"/>
          </a:xfrm>
          <a:prstGeom prst="rect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685800" y="4038480"/>
            <a:ext cx="2895480" cy="2743200"/>
            <a:chOff x="685800" y="4038480"/>
            <a:chExt cx="2895480" cy="2743200"/>
          </a:xfrm>
        </p:grpSpPr>
        <p:sp>
          <p:nvSpPr>
            <p:cNvPr id="63" name=""/>
            <p:cNvSpPr/>
            <p:nvPr/>
          </p:nvSpPr>
          <p:spPr>
            <a:xfrm>
              <a:off x="685800" y="4038480"/>
              <a:ext cx="2895480" cy="2743200"/>
            </a:xfrm>
            <a:prstGeom prst="rect">
              <a:avLst/>
            </a:prstGeom>
            <a:solidFill>
              <a:srgbClr val="bd0b1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047760" y="4038480"/>
              <a:ext cx="533520" cy="2743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>
              <a:off x="3124080" y="4038480"/>
              <a:ext cx="0" cy="274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 flipV="1">
              <a:off x="3200400" y="4038480"/>
              <a:ext cx="0" cy="274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 flipV="1">
              <a:off x="3276360" y="4038480"/>
              <a:ext cx="0" cy="274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>
              <a:off x="3352680" y="4038480"/>
              <a:ext cx="0" cy="274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flipV="1">
              <a:off x="3429000" y="4038480"/>
              <a:ext cx="0" cy="274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 flipV="1">
              <a:off x="3504960" y="4038480"/>
              <a:ext cx="0" cy="274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 txBox="1"/>
            <p:nvPr/>
          </p:nvSpPr>
          <p:spPr>
            <a:xfrm>
              <a:off x="1162080" y="4594680"/>
              <a:ext cx="1504800" cy="555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0">
                    <a:noFill/>
                  </a:ln>
                  <a:blipFill rotWithShape="0">
                    <a:blip r:embed="rId2"/>
                    <a:srcRect/>
                    <a:stretch/>
                  </a:blip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Impact"/>
                </a:rPr>
                <a:t>Сказки</a:t>
              </a:r>
              <a:endParaRPr b="1" i="1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4343400" y="4343400"/>
            <a:ext cx="4343400" cy="2133720"/>
            <a:chOff x="4343400" y="4343400"/>
            <a:chExt cx="4343400" cy="2133720"/>
          </a:xfrm>
        </p:grpSpPr>
        <p:sp>
          <p:nvSpPr>
            <p:cNvPr id="73" name=""/>
            <p:cNvSpPr/>
            <p:nvPr/>
          </p:nvSpPr>
          <p:spPr>
            <a:xfrm>
              <a:off x="4343400" y="4343400"/>
              <a:ext cx="4343400" cy="213372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238880" y="5334120"/>
              <a:ext cx="1219320" cy="685800"/>
            </a:xfrm>
            <a:prstGeom prst="ellipse">
              <a:avLst/>
            </a:prstGeom>
            <a:solidFill>
              <a:srgbClr val="f8f8f8"/>
            </a:solidFill>
            <a:ln w="9360">
              <a:solidFill>
                <a:srgbClr val="dfe2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6400800" y="5791320"/>
              <a:ext cx="838080" cy="6094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410080" y="5562720"/>
              <a:ext cx="838440" cy="609480"/>
            </a:xfrm>
            <a:prstGeom prst="ellipse">
              <a:avLst/>
            </a:prstGeom>
            <a:solidFill>
              <a:srgbClr val="66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248520" y="5029200"/>
              <a:ext cx="838080" cy="609480"/>
            </a:xfrm>
            <a:prstGeom prst="ellipse">
              <a:avLst/>
            </a:prstGeom>
            <a:solidFill>
              <a:srgbClr val="fc461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486400" y="4495680"/>
              <a:ext cx="838080" cy="609840"/>
            </a:xfrm>
            <a:prstGeom prst="ellipse">
              <a:avLst/>
            </a:prstGeom>
            <a:solidFill>
              <a:srgbClr val="f8a6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7086600" y="4572000"/>
              <a:ext cx="838080" cy="60948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572000" y="5029200"/>
              <a:ext cx="824040" cy="6094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685800" y="2666880"/>
            <a:ext cx="8381880" cy="3926880"/>
            <a:chOff x="685800" y="2666880"/>
            <a:chExt cx="8381880" cy="3926880"/>
          </a:xfrm>
        </p:grpSpPr>
        <p:sp>
          <p:nvSpPr>
            <p:cNvPr id="82" name=""/>
            <p:cNvSpPr txBox="1"/>
            <p:nvPr/>
          </p:nvSpPr>
          <p:spPr>
            <a:xfrm>
              <a:off x="685800" y="2666880"/>
              <a:ext cx="8381880" cy="1560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gradFill rotWithShape="0">
                    <a:gsLst>
                      <a:gs pos="0">
                        <a:srgbClr val="9400ed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effectLst>
                    <a:outerShdw dist="153753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Arial"/>
                </a:rPr>
                <a:t>Я илюстрирую сказку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  <p:grpSp>
          <p:nvGrpSpPr>
            <p:cNvPr id="83" name=""/>
            <p:cNvGrpSpPr/>
            <p:nvPr/>
          </p:nvGrpSpPr>
          <p:grpSpPr>
            <a:xfrm>
              <a:off x="2385720" y="3706920"/>
              <a:ext cx="1557720" cy="2886840"/>
              <a:chOff x="2385720" y="3706920"/>
              <a:chExt cx="1557720" cy="2886840"/>
            </a:xfrm>
          </p:grpSpPr>
          <p:sp>
            <p:nvSpPr>
              <p:cNvPr id="84" name=""/>
              <p:cNvSpPr/>
              <p:nvPr/>
            </p:nvSpPr>
            <p:spPr>
              <a:xfrm rot="20196000">
                <a:off x="3008160" y="4441320"/>
                <a:ext cx="533520" cy="2133720"/>
              </a:xfrm>
              <a:custGeom>
                <a:avLst/>
                <a:gdLst>
                  <a:gd name="textAreaLeft" fmla="*/ 25920 w 533520"/>
                  <a:gd name="textAreaRight" fmla="*/ 507600 w 533520"/>
                  <a:gd name="textAreaTop" fmla="*/ 25920 h 2133720"/>
                  <a:gd name="textAreaBottom" fmla="*/ 2107800 h 2133720"/>
                </a:gdLst>
                <a:ahLst/>
                <a:rect l="textAreaLeft" t="textAreaTop" r="textAreaRight" b="textAreaBottom"/>
                <a:pathLst>
                  <a:path w="21600" h="86342">
                    <a:moveTo>
                      <a:pt x="3600" y="0"/>
                    </a:moveTo>
                    <a:arcTo wR="3600" hR="3600" stAng="16200000" swAng="-5400000"/>
                    <a:lnTo>
                      <a:pt x="0" y="82742"/>
                    </a:lnTo>
                    <a:arcTo wR="3600" hR="3600" stAng="10800000" swAng="-5400000"/>
                    <a:lnTo>
                      <a:pt x="18000" y="8634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9360">
                <a:solidFill>
                  <a:srgbClr val="bd0b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9396000">
                <a:off x="2539440" y="4233600"/>
                <a:ext cx="533520" cy="380880"/>
              </a:xfrm>
              <a:custGeom>
                <a:avLst/>
                <a:gdLst>
                  <a:gd name="textAreaLeft" fmla="*/ 117360 w 533520"/>
                  <a:gd name="textAreaRight" fmla="*/ 416160 w 533520"/>
                  <a:gd name="textAreaTop" fmla="*/ 83520 h 380880"/>
                  <a:gd name="textAreaBottom" fmla="*/ 297360 h 380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blipFill rotWithShape="0">
                <a:blip r:embed="rId6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20196000">
                <a:off x="2490840" y="3733560"/>
                <a:ext cx="249120" cy="552240"/>
              </a:xfrm>
              <a:custGeom>
                <a:avLst/>
                <a:gdLst/>
                <a:ahLst/>
                <a:rect l="l" t="t" r="r" b="b"/>
                <a:pathLst>
                  <a:path w="157" h="348">
                    <a:moveTo>
                      <a:pt x="2" y="348"/>
                    </a:moveTo>
                    <a:cubicBezTo>
                      <a:pt x="5" y="272"/>
                      <a:pt x="0" y="195"/>
                      <a:pt x="11" y="119"/>
                    </a:cubicBezTo>
                    <a:cubicBezTo>
                      <a:pt x="12" y="110"/>
                      <a:pt x="31" y="116"/>
                      <a:pt x="38" y="110"/>
                    </a:cubicBezTo>
                    <a:cubicBezTo>
                      <a:pt x="57" y="95"/>
                      <a:pt x="70" y="43"/>
                      <a:pt x="75" y="28"/>
                    </a:cubicBezTo>
                    <a:cubicBezTo>
                      <a:pt x="78" y="19"/>
                      <a:pt x="84" y="0"/>
                      <a:pt x="84" y="0"/>
                    </a:cubicBezTo>
                    <a:cubicBezTo>
                      <a:pt x="87" y="25"/>
                      <a:pt x="84" y="51"/>
                      <a:pt x="93" y="74"/>
                    </a:cubicBezTo>
                    <a:cubicBezTo>
                      <a:pt x="100" y="93"/>
                      <a:pt x="146" y="81"/>
                      <a:pt x="148" y="101"/>
                    </a:cubicBezTo>
                    <a:cubicBezTo>
                      <a:pt x="157" y="183"/>
                      <a:pt x="148" y="266"/>
                      <a:pt x="148" y="348"/>
                    </a:cubicBezTo>
                    <a:lnTo>
                      <a:pt x="2" y="348"/>
                    </a:lnTo>
                    <a:close/>
                  </a:path>
                </a:pathLst>
              </a:custGeom>
              <a:solidFill>
                <a:srgbClr val="ff9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20196000">
                <a:off x="2437920" y="3757320"/>
                <a:ext cx="273240" cy="320760"/>
              </a:xfrm>
              <a:custGeom>
                <a:avLst/>
                <a:gdLst/>
                <a:ahLst/>
                <a:rect l="l" t="t" r="r" b="b"/>
                <a:pathLst>
                  <a:path w="172" h="202">
                    <a:moveTo>
                      <a:pt x="19" y="202"/>
                    </a:moveTo>
                    <a:cubicBezTo>
                      <a:pt x="47" y="193"/>
                      <a:pt x="64" y="179"/>
                      <a:pt x="83" y="156"/>
                    </a:cubicBezTo>
                    <a:cubicBezTo>
                      <a:pt x="90" y="148"/>
                      <a:pt x="91" y="134"/>
                      <a:pt x="101" y="129"/>
                    </a:cubicBezTo>
                    <a:cubicBezTo>
                      <a:pt x="118" y="121"/>
                      <a:pt x="138" y="122"/>
                      <a:pt x="156" y="119"/>
                    </a:cubicBezTo>
                    <a:cubicBezTo>
                      <a:pt x="159" y="110"/>
                      <a:pt x="172" y="99"/>
                      <a:pt x="165" y="92"/>
                    </a:cubicBezTo>
                    <a:cubicBezTo>
                      <a:pt x="151" y="79"/>
                      <a:pt x="110" y="74"/>
                      <a:pt x="110" y="74"/>
                    </a:cubicBezTo>
                    <a:cubicBezTo>
                      <a:pt x="104" y="68"/>
                      <a:pt x="93" y="64"/>
                      <a:pt x="92" y="55"/>
                    </a:cubicBezTo>
                    <a:cubicBezTo>
                      <a:pt x="90" y="40"/>
                      <a:pt x="108" y="24"/>
                      <a:pt x="101" y="10"/>
                    </a:cubicBezTo>
                    <a:cubicBezTo>
                      <a:pt x="96" y="0"/>
                      <a:pt x="90" y="29"/>
                      <a:pt x="83" y="37"/>
                    </a:cubicBezTo>
                    <a:cubicBezTo>
                      <a:pt x="77" y="44"/>
                      <a:pt x="70" y="49"/>
                      <a:pt x="64" y="55"/>
                    </a:cubicBezTo>
                    <a:cubicBezTo>
                      <a:pt x="61" y="64"/>
                      <a:pt x="63" y="77"/>
                      <a:pt x="55" y="83"/>
                    </a:cubicBezTo>
                    <a:cubicBezTo>
                      <a:pt x="39" y="94"/>
                      <a:pt x="0" y="101"/>
                      <a:pt x="0" y="101"/>
                    </a:cubicBezTo>
                    <a:cubicBezTo>
                      <a:pt x="18" y="152"/>
                      <a:pt x="9" y="119"/>
                      <a:pt x="19" y="202"/>
                    </a:cubicBezTo>
                    <a:close/>
                  </a:path>
                </a:pathLst>
              </a:custGeom>
              <a:solidFill>
                <a:srgbClr val="fc4614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9296280" y="3795840"/>
            <a:ext cx="3429000" cy="306216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 txBox="1"/>
          <p:nvPr/>
        </p:nvSpPr>
        <p:spPr>
          <a:xfrm>
            <a:off x="0" y="533520"/>
            <a:ext cx="883908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Ко - Ко - Ко,</a:t>
            </a:r>
            <a:endParaRPr b="1" i="1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Привет друзья!</a:t>
            </a:r>
            <a:endParaRPr b="1" i="1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Я Курочка Ряба.</a:t>
            </a:r>
            <a:endParaRPr b="1" i="1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Сегодня,</a:t>
            </a:r>
            <a:endParaRPr b="1" i="1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1" i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я хотела бы ВАМ показать </a:t>
            </a:r>
            <a:endParaRPr b="1" i="1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о себе сказку в картинках!</a:t>
            </a:r>
            <a:endParaRPr b="1" i="1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Ко - Ко -Ко,</a:t>
            </a:r>
            <a:endParaRPr b="1" i="1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Ко - Ко - Ко!</a:t>
            </a:r>
            <a:endParaRPr b="1" i="1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66667E-006 2.59259E-006 L -0.43334 2.59259E-006 E">
                                      <p:cBhvr>
                                        <p:cTn id="13" dur="20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"/>
          <p:cNvGrpSpPr/>
          <p:nvPr/>
        </p:nvGrpSpPr>
        <p:grpSpPr>
          <a:xfrm>
            <a:off x="1371600" y="1066680"/>
            <a:ext cx="3688920" cy="5333760"/>
            <a:chOff x="1371600" y="1066680"/>
            <a:chExt cx="3688920" cy="5333760"/>
          </a:xfrm>
        </p:grpSpPr>
        <p:grpSp>
          <p:nvGrpSpPr>
            <p:cNvPr id="91" name=""/>
            <p:cNvGrpSpPr/>
            <p:nvPr/>
          </p:nvGrpSpPr>
          <p:grpSpPr>
            <a:xfrm>
              <a:off x="1371600" y="1066680"/>
              <a:ext cx="3105720" cy="3123720"/>
              <a:chOff x="1371600" y="1066680"/>
              <a:chExt cx="3105720" cy="3123720"/>
            </a:xfrm>
          </p:grpSpPr>
          <p:grpSp>
            <p:nvGrpSpPr>
              <p:cNvPr id="92" name=""/>
              <p:cNvGrpSpPr/>
              <p:nvPr/>
            </p:nvGrpSpPr>
            <p:grpSpPr>
              <a:xfrm>
                <a:off x="2032920" y="1066680"/>
                <a:ext cx="1302840" cy="1515240"/>
                <a:chOff x="2032920" y="1066680"/>
                <a:chExt cx="1302840" cy="1515240"/>
              </a:xfrm>
            </p:grpSpPr>
            <p:sp>
              <p:nvSpPr>
                <p:cNvPr id="93" name=""/>
                <p:cNvSpPr/>
                <p:nvPr/>
              </p:nvSpPr>
              <p:spPr>
                <a:xfrm>
                  <a:off x="2126880" y="1167120"/>
                  <a:ext cx="1128240" cy="1125720"/>
                </a:xfrm>
                <a:prstGeom prst="smileyFace">
                  <a:avLst>
                    <a:gd name="adj" fmla="val 9282"/>
                  </a:avLst>
                </a:prstGeom>
                <a:solidFill>
                  <a:srgbClr val="ffcccc"/>
                </a:solidFill>
                <a:ln w="9360">
                  <a:solidFill>
                    <a:srgbClr val="ffcc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2126880" y="1784520"/>
                  <a:ext cx="1149120" cy="797400"/>
                </a:xfrm>
                <a:custGeom>
                  <a:avLst/>
                  <a:gdLst/>
                  <a:ahLst/>
                  <a:rect l="l" t="t" r="r" b="b"/>
                  <a:pathLst>
                    <a:path w="1369" h="995">
                      <a:moveTo>
                        <a:pt x="30" y="103"/>
                      </a:moveTo>
                      <a:cubicBezTo>
                        <a:pt x="112" y="91"/>
                        <a:pt x="73" y="101"/>
                        <a:pt x="147" y="76"/>
                      </a:cubicBezTo>
                      <a:cubicBezTo>
                        <a:pt x="165" y="70"/>
                        <a:pt x="201" y="58"/>
                        <a:pt x="201" y="58"/>
                      </a:cubicBezTo>
                      <a:cubicBezTo>
                        <a:pt x="376" y="83"/>
                        <a:pt x="240" y="87"/>
                        <a:pt x="534" y="76"/>
                      </a:cubicBezTo>
                      <a:cubicBezTo>
                        <a:pt x="659" y="34"/>
                        <a:pt x="522" y="46"/>
                        <a:pt x="795" y="58"/>
                      </a:cubicBezTo>
                      <a:cubicBezTo>
                        <a:pt x="839" y="73"/>
                        <a:pt x="876" y="85"/>
                        <a:pt x="921" y="94"/>
                      </a:cubicBezTo>
                      <a:cubicBezTo>
                        <a:pt x="957" y="91"/>
                        <a:pt x="994" y="92"/>
                        <a:pt x="1029" y="85"/>
                      </a:cubicBezTo>
                      <a:cubicBezTo>
                        <a:pt x="1040" y="83"/>
                        <a:pt x="1046" y="71"/>
                        <a:pt x="1056" y="67"/>
                      </a:cubicBezTo>
                      <a:cubicBezTo>
                        <a:pt x="1079" y="59"/>
                        <a:pt x="1128" y="49"/>
                        <a:pt x="1128" y="49"/>
                      </a:cubicBezTo>
                      <a:cubicBezTo>
                        <a:pt x="1369" y="59"/>
                        <a:pt x="1313" y="0"/>
                        <a:pt x="1353" y="121"/>
                      </a:cubicBezTo>
                      <a:cubicBezTo>
                        <a:pt x="1347" y="213"/>
                        <a:pt x="1354" y="493"/>
                        <a:pt x="1236" y="571"/>
                      </a:cubicBezTo>
                      <a:cubicBezTo>
                        <a:pt x="1213" y="639"/>
                        <a:pt x="1192" y="704"/>
                        <a:pt x="1164" y="769"/>
                      </a:cubicBezTo>
                      <a:cubicBezTo>
                        <a:pt x="1145" y="813"/>
                        <a:pt x="1137" y="868"/>
                        <a:pt x="1101" y="904"/>
                      </a:cubicBezTo>
                      <a:cubicBezTo>
                        <a:pt x="1086" y="919"/>
                        <a:pt x="1065" y="928"/>
                        <a:pt x="1047" y="940"/>
                      </a:cubicBezTo>
                      <a:cubicBezTo>
                        <a:pt x="965" y="995"/>
                        <a:pt x="849" y="946"/>
                        <a:pt x="750" y="949"/>
                      </a:cubicBezTo>
                      <a:cubicBezTo>
                        <a:pt x="613" y="966"/>
                        <a:pt x="662" y="964"/>
                        <a:pt x="444" y="949"/>
                      </a:cubicBezTo>
                      <a:cubicBezTo>
                        <a:pt x="411" y="947"/>
                        <a:pt x="379" y="920"/>
                        <a:pt x="345" y="913"/>
                      </a:cubicBezTo>
                      <a:cubicBezTo>
                        <a:pt x="311" y="890"/>
                        <a:pt x="272" y="879"/>
                        <a:pt x="237" y="859"/>
                      </a:cubicBezTo>
                      <a:cubicBezTo>
                        <a:pt x="218" y="848"/>
                        <a:pt x="183" y="823"/>
                        <a:pt x="183" y="823"/>
                      </a:cubicBezTo>
                      <a:cubicBezTo>
                        <a:pt x="176" y="801"/>
                        <a:pt x="163" y="782"/>
                        <a:pt x="156" y="760"/>
                      </a:cubicBezTo>
                      <a:cubicBezTo>
                        <a:pt x="151" y="743"/>
                        <a:pt x="154" y="723"/>
                        <a:pt x="147" y="706"/>
                      </a:cubicBezTo>
                      <a:cubicBezTo>
                        <a:pt x="137" y="682"/>
                        <a:pt x="114" y="666"/>
                        <a:pt x="102" y="643"/>
                      </a:cubicBezTo>
                      <a:cubicBezTo>
                        <a:pt x="78" y="599"/>
                        <a:pt x="52" y="553"/>
                        <a:pt x="30" y="508"/>
                      </a:cubicBezTo>
                      <a:cubicBezTo>
                        <a:pt x="27" y="472"/>
                        <a:pt x="28" y="435"/>
                        <a:pt x="21" y="400"/>
                      </a:cubicBezTo>
                      <a:cubicBezTo>
                        <a:pt x="19" y="389"/>
                        <a:pt x="3" y="384"/>
                        <a:pt x="3" y="373"/>
                      </a:cubicBezTo>
                      <a:cubicBezTo>
                        <a:pt x="0" y="298"/>
                        <a:pt x="1" y="222"/>
                        <a:pt x="12" y="148"/>
                      </a:cubicBezTo>
                      <a:cubicBezTo>
                        <a:pt x="25" y="59"/>
                        <a:pt x="62" y="198"/>
                        <a:pt x="30" y="103"/>
                      </a:cubicBezTo>
                      <a:close/>
                    </a:path>
                  </a:pathLst>
                </a:custGeom>
                <a:solidFill>
                  <a:srgbClr val="eaeaea"/>
                </a:solidFill>
                <a:ln w="9360">
                  <a:solidFill>
                    <a:srgbClr val="eaeaea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 flipH="1">
                  <a:off x="2408400" y="1421280"/>
                  <a:ext cx="241560" cy="254160"/>
                </a:xfrm>
                <a:prstGeom prst="ellipse">
                  <a:avLst/>
                </a:prstGeom>
                <a:solidFill>
                  <a:srgbClr val="00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" name=""/>
                <p:cNvSpPr/>
                <p:nvPr/>
              </p:nvSpPr>
              <p:spPr>
                <a:xfrm>
                  <a:off x="2811960" y="1421280"/>
                  <a:ext cx="241560" cy="254160"/>
                </a:xfrm>
                <a:prstGeom prst="ellipse">
                  <a:avLst/>
                </a:prstGeom>
                <a:solidFill>
                  <a:srgbClr val="00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>
                  <a:off x="2646720" y="2062440"/>
                  <a:ext cx="117360" cy="66240"/>
                </a:xfrm>
                <a:custGeom>
                  <a:avLst/>
                  <a:gdLst/>
                  <a:ahLst/>
                  <a:rect l="l" t="t" r="r" b="b"/>
                  <a:pathLst>
                    <a:path w="140" h="88">
                      <a:moveTo>
                        <a:pt x="5" y="2"/>
                      </a:moveTo>
                      <a:cubicBezTo>
                        <a:pt x="25" y="83"/>
                        <a:pt x="0" y="66"/>
                        <a:pt x="50" y="83"/>
                      </a:cubicBezTo>
                      <a:cubicBezTo>
                        <a:pt x="74" y="80"/>
                        <a:pt x="102" y="88"/>
                        <a:pt x="122" y="74"/>
                      </a:cubicBezTo>
                      <a:cubicBezTo>
                        <a:pt x="138" y="63"/>
                        <a:pt x="140" y="20"/>
                        <a:pt x="140" y="20"/>
                      </a:cubicBezTo>
                      <a:cubicBezTo>
                        <a:pt x="79" y="0"/>
                        <a:pt x="122" y="12"/>
                        <a:pt x="5" y="2"/>
                      </a:cubicBezTo>
                      <a:close/>
                    </a:path>
                  </a:pathLst>
                </a:custGeom>
                <a:solidFill>
                  <a:srgbClr val="fc4614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440" bIns="19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>
                  <a:off x="2409120" y="1494000"/>
                  <a:ext cx="201240" cy="1814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" name=""/>
                <p:cNvSpPr/>
                <p:nvPr/>
              </p:nvSpPr>
              <p:spPr>
                <a:xfrm>
                  <a:off x="2449440" y="1530360"/>
                  <a:ext cx="120600" cy="1087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240" bIns="302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2811960" y="1494000"/>
                  <a:ext cx="201240" cy="1814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>
                  <a:off x="2852280" y="1530360"/>
                  <a:ext cx="120600" cy="1087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240" bIns="302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2032920" y="1066680"/>
                  <a:ext cx="1302840" cy="863280"/>
                </a:xfrm>
                <a:custGeom>
                  <a:avLst/>
                  <a:gdLst/>
                  <a:ahLst/>
                  <a:rect l="l" t="t" r="r" b="b"/>
                  <a:pathLst>
                    <a:path w="1484" h="1092">
                      <a:moveTo>
                        <a:pt x="196" y="1028"/>
                      </a:moveTo>
                      <a:cubicBezTo>
                        <a:pt x="186" y="987"/>
                        <a:pt x="166" y="947"/>
                        <a:pt x="142" y="911"/>
                      </a:cubicBezTo>
                      <a:cubicBezTo>
                        <a:pt x="148" y="729"/>
                        <a:pt x="127" y="654"/>
                        <a:pt x="214" y="524"/>
                      </a:cubicBezTo>
                      <a:cubicBezTo>
                        <a:pt x="228" y="503"/>
                        <a:pt x="256" y="494"/>
                        <a:pt x="277" y="479"/>
                      </a:cubicBezTo>
                      <a:cubicBezTo>
                        <a:pt x="292" y="433"/>
                        <a:pt x="277" y="380"/>
                        <a:pt x="295" y="335"/>
                      </a:cubicBezTo>
                      <a:cubicBezTo>
                        <a:pt x="319" y="277"/>
                        <a:pt x="484" y="282"/>
                        <a:pt x="502" y="281"/>
                      </a:cubicBezTo>
                      <a:cubicBezTo>
                        <a:pt x="539" y="269"/>
                        <a:pt x="577" y="249"/>
                        <a:pt x="610" y="227"/>
                      </a:cubicBezTo>
                      <a:cubicBezTo>
                        <a:pt x="631" y="230"/>
                        <a:pt x="659" y="220"/>
                        <a:pt x="673" y="236"/>
                      </a:cubicBezTo>
                      <a:cubicBezTo>
                        <a:pt x="689" y="254"/>
                        <a:pt x="673" y="286"/>
                        <a:pt x="682" y="308"/>
                      </a:cubicBezTo>
                      <a:cubicBezTo>
                        <a:pt x="686" y="318"/>
                        <a:pt x="700" y="320"/>
                        <a:pt x="709" y="326"/>
                      </a:cubicBezTo>
                      <a:cubicBezTo>
                        <a:pt x="741" y="304"/>
                        <a:pt x="744" y="282"/>
                        <a:pt x="772" y="254"/>
                      </a:cubicBezTo>
                      <a:cubicBezTo>
                        <a:pt x="778" y="263"/>
                        <a:pt x="785" y="271"/>
                        <a:pt x="790" y="281"/>
                      </a:cubicBezTo>
                      <a:cubicBezTo>
                        <a:pt x="794" y="289"/>
                        <a:pt x="790" y="309"/>
                        <a:pt x="799" y="308"/>
                      </a:cubicBezTo>
                      <a:cubicBezTo>
                        <a:pt x="820" y="305"/>
                        <a:pt x="835" y="284"/>
                        <a:pt x="853" y="272"/>
                      </a:cubicBezTo>
                      <a:cubicBezTo>
                        <a:pt x="896" y="243"/>
                        <a:pt x="870" y="257"/>
                        <a:pt x="934" y="236"/>
                      </a:cubicBezTo>
                      <a:cubicBezTo>
                        <a:pt x="943" y="233"/>
                        <a:pt x="907" y="245"/>
                        <a:pt x="907" y="245"/>
                      </a:cubicBezTo>
                      <a:cubicBezTo>
                        <a:pt x="904" y="257"/>
                        <a:pt x="902" y="269"/>
                        <a:pt x="898" y="281"/>
                      </a:cubicBezTo>
                      <a:cubicBezTo>
                        <a:pt x="893" y="299"/>
                        <a:pt x="880" y="335"/>
                        <a:pt x="880" y="335"/>
                      </a:cubicBezTo>
                      <a:cubicBezTo>
                        <a:pt x="883" y="356"/>
                        <a:pt x="868" y="395"/>
                        <a:pt x="889" y="398"/>
                      </a:cubicBezTo>
                      <a:cubicBezTo>
                        <a:pt x="914" y="402"/>
                        <a:pt x="925" y="362"/>
                        <a:pt x="943" y="344"/>
                      </a:cubicBezTo>
                      <a:cubicBezTo>
                        <a:pt x="950" y="337"/>
                        <a:pt x="961" y="338"/>
                        <a:pt x="970" y="335"/>
                      </a:cubicBezTo>
                      <a:cubicBezTo>
                        <a:pt x="980" y="328"/>
                        <a:pt x="1026" y="290"/>
                        <a:pt x="1042" y="290"/>
                      </a:cubicBezTo>
                      <a:cubicBezTo>
                        <a:pt x="1053" y="290"/>
                        <a:pt x="1059" y="304"/>
                        <a:pt x="1069" y="308"/>
                      </a:cubicBezTo>
                      <a:cubicBezTo>
                        <a:pt x="1086" y="316"/>
                        <a:pt x="1123" y="326"/>
                        <a:pt x="1123" y="326"/>
                      </a:cubicBezTo>
                      <a:cubicBezTo>
                        <a:pt x="1150" y="353"/>
                        <a:pt x="1168" y="368"/>
                        <a:pt x="1204" y="380"/>
                      </a:cubicBezTo>
                      <a:cubicBezTo>
                        <a:pt x="1214" y="410"/>
                        <a:pt x="1221" y="440"/>
                        <a:pt x="1231" y="470"/>
                      </a:cubicBezTo>
                      <a:cubicBezTo>
                        <a:pt x="1234" y="506"/>
                        <a:pt x="1234" y="542"/>
                        <a:pt x="1240" y="578"/>
                      </a:cubicBezTo>
                      <a:cubicBezTo>
                        <a:pt x="1245" y="606"/>
                        <a:pt x="1258" y="632"/>
                        <a:pt x="1267" y="659"/>
                      </a:cubicBezTo>
                      <a:cubicBezTo>
                        <a:pt x="1286" y="715"/>
                        <a:pt x="1296" y="780"/>
                        <a:pt x="1303" y="839"/>
                      </a:cubicBezTo>
                      <a:cubicBezTo>
                        <a:pt x="1310" y="897"/>
                        <a:pt x="1299" y="941"/>
                        <a:pt x="1348" y="974"/>
                      </a:cubicBezTo>
                      <a:cubicBezTo>
                        <a:pt x="1366" y="1029"/>
                        <a:pt x="1392" y="1009"/>
                        <a:pt x="1447" y="1001"/>
                      </a:cubicBezTo>
                      <a:cubicBezTo>
                        <a:pt x="1484" y="891"/>
                        <a:pt x="1463" y="964"/>
                        <a:pt x="1447" y="704"/>
                      </a:cubicBezTo>
                      <a:cubicBezTo>
                        <a:pt x="1444" y="651"/>
                        <a:pt x="1389" y="607"/>
                        <a:pt x="1357" y="569"/>
                      </a:cubicBezTo>
                      <a:cubicBezTo>
                        <a:pt x="1335" y="542"/>
                        <a:pt x="1329" y="509"/>
                        <a:pt x="1312" y="479"/>
                      </a:cubicBezTo>
                      <a:cubicBezTo>
                        <a:pt x="1277" y="417"/>
                        <a:pt x="1245" y="353"/>
                        <a:pt x="1213" y="290"/>
                      </a:cubicBezTo>
                      <a:cubicBezTo>
                        <a:pt x="1197" y="257"/>
                        <a:pt x="1182" y="203"/>
                        <a:pt x="1150" y="182"/>
                      </a:cubicBezTo>
                      <a:cubicBezTo>
                        <a:pt x="1092" y="143"/>
                        <a:pt x="1033" y="105"/>
                        <a:pt x="970" y="74"/>
                      </a:cubicBezTo>
                      <a:cubicBezTo>
                        <a:pt x="909" y="44"/>
                        <a:pt x="842" y="32"/>
                        <a:pt x="781" y="2"/>
                      </a:cubicBezTo>
                      <a:cubicBezTo>
                        <a:pt x="721" y="5"/>
                        <a:pt x="660" y="0"/>
                        <a:pt x="601" y="11"/>
                      </a:cubicBezTo>
                      <a:cubicBezTo>
                        <a:pt x="601" y="11"/>
                        <a:pt x="534" y="56"/>
                        <a:pt x="520" y="65"/>
                      </a:cubicBezTo>
                      <a:cubicBezTo>
                        <a:pt x="511" y="71"/>
                        <a:pt x="493" y="83"/>
                        <a:pt x="493" y="83"/>
                      </a:cubicBezTo>
                      <a:cubicBezTo>
                        <a:pt x="474" y="111"/>
                        <a:pt x="448" y="134"/>
                        <a:pt x="421" y="155"/>
                      </a:cubicBezTo>
                      <a:cubicBezTo>
                        <a:pt x="404" y="168"/>
                        <a:pt x="367" y="191"/>
                        <a:pt x="367" y="191"/>
                      </a:cubicBezTo>
                      <a:cubicBezTo>
                        <a:pt x="325" y="274"/>
                        <a:pt x="293" y="375"/>
                        <a:pt x="196" y="407"/>
                      </a:cubicBezTo>
                      <a:cubicBezTo>
                        <a:pt x="190" y="416"/>
                        <a:pt x="186" y="426"/>
                        <a:pt x="178" y="434"/>
                      </a:cubicBezTo>
                      <a:cubicBezTo>
                        <a:pt x="170" y="442"/>
                        <a:pt x="158" y="444"/>
                        <a:pt x="151" y="452"/>
                      </a:cubicBezTo>
                      <a:cubicBezTo>
                        <a:pt x="145" y="459"/>
                        <a:pt x="147" y="471"/>
                        <a:pt x="142" y="479"/>
                      </a:cubicBezTo>
                      <a:cubicBezTo>
                        <a:pt x="135" y="490"/>
                        <a:pt x="122" y="495"/>
                        <a:pt x="115" y="506"/>
                      </a:cubicBezTo>
                      <a:cubicBezTo>
                        <a:pt x="101" y="529"/>
                        <a:pt x="94" y="556"/>
                        <a:pt x="79" y="578"/>
                      </a:cubicBezTo>
                      <a:cubicBezTo>
                        <a:pt x="73" y="587"/>
                        <a:pt x="67" y="596"/>
                        <a:pt x="61" y="605"/>
                      </a:cubicBezTo>
                      <a:cubicBezTo>
                        <a:pt x="33" y="716"/>
                        <a:pt x="27" y="833"/>
                        <a:pt x="16" y="947"/>
                      </a:cubicBezTo>
                      <a:cubicBezTo>
                        <a:pt x="29" y="1092"/>
                        <a:pt x="0" y="1029"/>
                        <a:pt x="106" y="1064"/>
                      </a:cubicBezTo>
                      <a:cubicBezTo>
                        <a:pt x="308" y="1047"/>
                        <a:pt x="209" y="1087"/>
                        <a:pt x="196" y="1028"/>
                      </a:cubicBezTo>
                      <a:cubicBezTo>
                        <a:pt x="192" y="1010"/>
                        <a:pt x="196" y="992"/>
                        <a:pt x="196" y="974"/>
                      </a:cubicBezTo>
                    </a:path>
                  </a:pathLst>
                </a:custGeom>
                <a:solidFill>
                  <a:srgbClr val="eaeaea"/>
                </a:solidFill>
                <a:ln w="9360">
                  <a:solidFill>
                    <a:srgbClr val="eaeaea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3" name=""/>
              <p:cNvSpPr/>
              <p:nvPr/>
            </p:nvSpPr>
            <p:spPr>
              <a:xfrm>
                <a:off x="1371600" y="2124360"/>
                <a:ext cx="3079440" cy="2066040"/>
              </a:xfrm>
              <a:custGeom>
                <a:avLst/>
                <a:gdLst/>
                <a:ahLst/>
                <a:rect l="l" t="t" r="r" b="b"/>
                <a:pathLst>
                  <a:path w="3414" h="2586">
                    <a:moveTo>
                      <a:pt x="1034" y="300"/>
                    </a:moveTo>
                    <a:cubicBezTo>
                      <a:pt x="852" y="239"/>
                      <a:pt x="644" y="322"/>
                      <a:pt x="458" y="336"/>
                    </a:cubicBezTo>
                    <a:cubicBezTo>
                      <a:pt x="421" y="354"/>
                      <a:pt x="397" y="370"/>
                      <a:pt x="368" y="399"/>
                    </a:cubicBezTo>
                    <a:cubicBezTo>
                      <a:pt x="365" y="411"/>
                      <a:pt x="367" y="425"/>
                      <a:pt x="359" y="435"/>
                    </a:cubicBezTo>
                    <a:cubicBezTo>
                      <a:pt x="353" y="442"/>
                      <a:pt x="341" y="440"/>
                      <a:pt x="332" y="444"/>
                    </a:cubicBezTo>
                    <a:cubicBezTo>
                      <a:pt x="320" y="449"/>
                      <a:pt x="307" y="455"/>
                      <a:pt x="296" y="462"/>
                    </a:cubicBezTo>
                    <a:cubicBezTo>
                      <a:pt x="264" y="482"/>
                      <a:pt x="233" y="507"/>
                      <a:pt x="206" y="534"/>
                    </a:cubicBezTo>
                    <a:cubicBezTo>
                      <a:pt x="180" y="611"/>
                      <a:pt x="217" y="493"/>
                      <a:pt x="188" y="669"/>
                    </a:cubicBezTo>
                    <a:cubicBezTo>
                      <a:pt x="185" y="688"/>
                      <a:pt x="175" y="705"/>
                      <a:pt x="170" y="723"/>
                    </a:cubicBezTo>
                    <a:cubicBezTo>
                      <a:pt x="153" y="792"/>
                      <a:pt x="136" y="861"/>
                      <a:pt x="116" y="930"/>
                    </a:cubicBezTo>
                    <a:cubicBezTo>
                      <a:pt x="99" y="990"/>
                      <a:pt x="91" y="1051"/>
                      <a:pt x="71" y="1110"/>
                    </a:cubicBezTo>
                    <a:cubicBezTo>
                      <a:pt x="59" y="1197"/>
                      <a:pt x="52" y="1284"/>
                      <a:pt x="35" y="1371"/>
                    </a:cubicBezTo>
                    <a:cubicBezTo>
                      <a:pt x="29" y="1477"/>
                      <a:pt x="25" y="1581"/>
                      <a:pt x="8" y="1686"/>
                    </a:cubicBezTo>
                    <a:cubicBezTo>
                      <a:pt x="11" y="1776"/>
                      <a:pt x="0" y="1868"/>
                      <a:pt x="17" y="1956"/>
                    </a:cubicBezTo>
                    <a:cubicBezTo>
                      <a:pt x="20" y="1971"/>
                      <a:pt x="47" y="1962"/>
                      <a:pt x="62" y="1965"/>
                    </a:cubicBezTo>
                    <a:cubicBezTo>
                      <a:pt x="98" y="1973"/>
                      <a:pt x="127" y="1990"/>
                      <a:pt x="161" y="2001"/>
                    </a:cubicBezTo>
                    <a:cubicBezTo>
                      <a:pt x="239" y="1998"/>
                      <a:pt x="317" y="1997"/>
                      <a:pt x="395" y="1992"/>
                    </a:cubicBezTo>
                    <a:cubicBezTo>
                      <a:pt x="454" y="1988"/>
                      <a:pt x="516" y="1959"/>
                      <a:pt x="575" y="1947"/>
                    </a:cubicBezTo>
                    <a:cubicBezTo>
                      <a:pt x="603" y="1862"/>
                      <a:pt x="591" y="1912"/>
                      <a:pt x="602" y="1794"/>
                    </a:cubicBezTo>
                    <a:cubicBezTo>
                      <a:pt x="608" y="1553"/>
                      <a:pt x="520" y="1425"/>
                      <a:pt x="710" y="1362"/>
                    </a:cubicBezTo>
                    <a:cubicBezTo>
                      <a:pt x="734" y="1291"/>
                      <a:pt x="824" y="1275"/>
                      <a:pt x="872" y="1227"/>
                    </a:cubicBezTo>
                    <a:lnTo>
                      <a:pt x="740" y="2586"/>
                    </a:lnTo>
                    <a:lnTo>
                      <a:pt x="2612" y="2586"/>
                    </a:lnTo>
                    <a:cubicBezTo>
                      <a:pt x="2486" y="2097"/>
                      <a:pt x="1822" y="979"/>
                      <a:pt x="2312" y="1101"/>
                    </a:cubicBezTo>
                    <a:cubicBezTo>
                      <a:pt x="2381" y="1147"/>
                      <a:pt x="2389" y="1178"/>
                      <a:pt x="2447" y="1236"/>
                    </a:cubicBezTo>
                    <a:cubicBezTo>
                      <a:pt x="2473" y="1313"/>
                      <a:pt x="2447" y="1229"/>
                      <a:pt x="2465" y="1407"/>
                    </a:cubicBezTo>
                    <a:cubicBezTo>
                      <a:pt x="2469" y="1446"/>
                      <a:pt x="2495" y="1471"/>
                      <a:pt x="2510" y="1506"/>
                    </a:cubicBezTo>
                    <a:cubicBezTo>
                      <a:pt x="2549" y="1596"/>
                      <a:pt x="2568" y="1687"/>
                      <a:pt x="2672" y="1722"/>
                    </a:cubicBezTo>
                    <a:cubicBezTo>
                      <a:pt x="2744" y="1719"/>
                      <a:pt x="2816" y="1718"/>
                      <a:pt x="2888" y="1713"/>
                    </a:cubicBezTo>
                    <a:cubicBezTo>
                      <a:pt x="2921" y="1711"/>
                      <a:pt x="2917" y="1696"/>
                      <a:pt x="2942" y="1677"/>
                    </a:cubicBezTo>
                    <a:cubicBezTo>
                      <a:pt x="2991" y="1639"/>
                      <a:pt x="3055" y="1597"/>
                      <a:pt x="3113" y="1578"/>
                    </a:cubicBezTo>
                    <a:cubicBezTo>
                      <a:pt x="3122" y="1569"/>
                      <a:pt x="3129" y="1558"/>
                      <a:pt x="3140" y="1551"/>
                    </a:cubicBezTo>
                    <a:cubicBezTo>
                      <a:pt x="3148" y="1546"/>
                      <a:pt x="3160" y="1548"/>
                      <a:pt x="3167" y="1542"/>
                    </a:cubicBezTo>
                    <a:cubicBezTo>
                      <a:pt x="3175" y="1535"/>
                      <a:pt x="3176" y="1521"/>
                      <a:pt x="3185" y="1515"/>
                    </a:cubicBezTo>
                    <a:cubicBezTo>
                      <a:pt x="3201" y="1505"/>
                      <a:pt x="3221" y="1503"/>
                      <a:pt x="3239" y="1497"/>
                    </a:cubicBezTo>
                    <a:cubicBezTo>
                      <a:pt x="3281" y="1483"/>
                      <a:pt x="3328" y="1450"/>
                      <a:pt x="3365" y="1425"/>
                    </a:cubicBezTo>
                    <a:cubicBezTo>
                      <a:pt x="3359" y="1245"/>
                      <a:pt x="3414" y="1143"/>
                      <a:pt x="3248" y="1110"/>
                    </a:cubicBezTo>
                    <a:cubicBezTo>
                      <a:pt x="3209" y="1084"/>
                      <a:pt x="3178" y="1054"/>
                      <a:pt x="3140" y="1029"/>
                    </a:cubicBezTo>
                    <a:cubicBezTo>
                      <a:pt x="3105" y="976"/>
                      <a:pt x="3087" y="952"/>
                      <a:pt x="3068" y="894"/>
                    </a:cubicBezTo>
                    <a:cubicBezTo>
                      <a:pt x="3065" y="884"/>
                      <a:pt x="3049" y="884"/>
                      <a:pt x="3041" y="876"/>
                    </a:cubicBezTo>
                    <a:cubicBezTo>
                      <a:pt x="3030" y="865"/>
                      <a:pt x="3026" y="850"/>
                      <a:pt x="3014" y="840"/>
                    </a:cubicBezTo>
                    <a:cubicBezTo>
                      <a:pt x="2999" y="827"/>
                      <a:pt x="2975" y="826"/>
                      <a:pt x="2960" y="813"/>
                    </a:cubicBezTo>
                    <a:cubicBezTo>
                      <a:pt x="2928" y="786"/>
                      <a:pt x="2908" y="769"/>
                      <a:pt x="2870" y="750"/>
                    </a:cubicBezTo>
                    <a:cubicBezTo>
                      <a:pt x="2837" y="700"/>
                      <a:pt x="2783" y="674"/>
                      <a:pt x="2726" y="660"/>
                    </a:cubicBezTo>
                    <a:cubicBezTo>
                      <a:pt x="2717" y="654"/>
                      <a:pt x="2709" y="647"/>
                      <a:pt x="2699" y="642"/>
                    </a:cubicBezTo>
                    <a:cubicBezTo>
                      <a:pt x="2691" y="638"/>
                      <a:pt x="2673" y="642"/>
                      <a:pt x="2672" y="633"/>
                    </a:cubicBezTo>
                    <a:cubicBezTo>
                      <a:pt x="2663" y="559"/>
                      <a:pt x="2656" y="485"/>
                      <a:pt x="2726" y="462"/>
                    </a:cubicBezTo>
                    <a:cubicBezTo>
                      <a:pt x="2738" y="426"/>
                      <a:pt x="2757" y="402"/>
                      <a:pt x="2780" y="372"/>
                    </a:cubicBezTo>
                    <a:cubicBezTo>
                      <a:pt x="2800" y="294"/>
                      <a:pt x="2816" y="265"/>
                      <a:pt x="2780" y="174"/>
                    </a:cubicBezTo>
                    <a:cubicBezTo>
                      <a:pt x="2775" y="163"/>
                      <a:pt x="2756" y="168"/>
                      <a:pt x="2744" y="165"/>
                    </a:cubicBezTo>
                    <a:cubicBezTo>
                      <a:pt x="2705" y="154"/>
                      <a:pt x="2663" y="129"/>
                      <a:pt x="2627" y="111"/>
                    </a:cubicBezTo>
                    <a:cubicBezTo>
                      <a:pt x="2404" y="0"/>
                      <a:pt x="2521" y="48"/>
                      <a:pt x="2087" y="48"/>
                    </a:cubicBezTo>
                  </a:path>
                </a:pathLst>
              </a:custGeom>
              <a:solidFill>
                <a:srgbClr val="ff6600"/>
              </a:solidFill>
              <a:ln w="9360">
                <a:solidFill>
                  <a:srgbClr val="f8f8f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20095200">
                <a:off x="4088160" y="3317760"/>
                <a:ext cx="343440" cy="291240"/>
              </a:xfrm>
              <a:custGeom>
                <a:avLst/>
                <a:gdLst/>
                <a:ahLst/>
                <a:rect l="l" t="t" r="r" b="b"/>
                <a:pathLst>
                  <a:path w="409" h="385">
                    <a:moveTo>
                      <a:pt x="22" y="33"/>
                    </a:moveTo>
                    <a:cubicBezTo>
                      <a:pt x="25" y="108"/>
                      <a:pt x="0" y="190"/>
                      <a:pt x="31" y="258"/>
                    </a:cubicBezTo>
                    <a:cubicBezTo>
                      <a:pt x="44" y="285"/>
                      <a:pt x="101" y="271"/>
                      <a:pt x="121" y="249"/>
                    </a:cubicBezTo>
                    <a:cubicBezTo>
                      <a:pt x="146" y="222"/>
                      <a:pt x="139" y="141"/>
                      <a:pt x="139" y="141"/>
                    </a:cubicBezTo>
                    <a:cubicBezTo>
                      <a:pt x="215" y="160"/>
                      <a:pt x="183" y="210"/>
                      <a:pt x="193" y="294"/>
                    </a:cubicBezTo>
                    <a:cubicBezTo>
                      <a:pt x="197" y="330"/>
                      <a:pt x="256" y="384"/>
                      <a:pt x="256" y="384"/>
                    </a:cubicBezTo>
                    <a:cubicBezTo>
                      <a:pt x="295" y="381"/>
                      <a:pt x="335" y="385"/>
                      <a:pt x="373" y="375"/>
                    </a:cubicBezTo>
                    <a:cubicBezTo>
                      <a:pt x="383" y="372"/>
                      <a:pt x="389" y="359"/>
                      <a:pt x="391" y="348"/>
                    </a:cubicBezTo>
                    <a:cubicBezTo>
                      <a:pt x="406" y="263"/>
                      <a:pt x="409" y="154"/>
                      <a:pt x="409" y="69"/>
                    </a:cubicBezTo>
                    <a:lnTo>
                      <a:pt x="394" y="0"/>
                    </a:lnTo>
                    <a:lnTo>
                      <a:pt x="22" y="33"/>
                    </a:lnTo>
                    <a:close/>
                  </a:path>
                </a:pathLst>
              </a:custGeom>
              <a:solidFill>
                <a:srgbClr val="ffcccc"/>
              </a:solidFill>
              <a:ln w="9360">
                <a:solidFill>
                  <a:srgbClr val="ffcc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flipH="1">
                <a:off x="1407600" y="3645720"/>
                <a:ext cx="343440" cy="291240"/>
              </a:xfrm>
              <a:custGeom>
                <a:avLst/>
                <a:gdLst/>
                <a:ahLst/>
                <a:rect l="l" t="t" r="r" b="b"/>
                <a:pathLst>
                  <a:path w="409" h="385">
                    <a:moveTo>
                      <a:pt x="22" y="33"/>
                    </a:moveTo>
                    <a:cubicBezTo>
                      <a:pt x="25" y="108"/>
                      <a:pt x="0" y="190"/>
                      <a:pt x="31" y="258"/>
                    </a:cubicBezTo>
                    <a:cubicBezTo>
                      <a:pt x="44" y="285"/>
                      <a:pt x="101" y="271"/>
                      <a:pt x="121" y="249"/>
                    </a:cubicBezTo>
                    <a:cubicBezTo>
                      <a:pt x="146" y="222"/>
                      <a:pt x="139" y="141"/>
                      <a:pt x="139" y="141"/>
                    </a:cubicBezTo>
                    <a:cubicBezTo>
                      <a:pt x="215" y="160"/>
                      <a:pt x="183" y="210"/>
                      <a:pt x="193" y="294"/>
                    </a:cubicBezTo>
                    <a:cubicBezTo>
                      <a:pt x="197" y="330"/>
                      <a:pt x="256" y="384"/>
                      <a:pt x="256" y="384"/>
                    </a:cubicBezTo>
                    <a:cubicBezTo>
                      <a:pt x="295" y="381"/>
                      <a:pt x="335" y="385"/>
                      <a:pt x="373" y="375"/>
                    </a:cubicBezTo>
                    <a:cubicBezTo>
                      <a:pt x="383" y="372"/>
                      <a:pt x="389" y="359"/>
                      <a:pt x="391" y="348"/>
                    </a:cubicBezTo>
                    <a:cubicBezTo>
                      <a:pt x="406" y="263"/>
                      <a:pt x="409" y="154"/>
                      <a:pt x="409" y="69"/>
                    </a:cubicBezTo>
                    <a:lnTo>
                      <a:pt x="394" y="0"/>
                    </a:lnTo>
                    <a:lnTo>
                      <a:pt x="22" y="33"/>
                    </a:lnTo>
                    <a:close/>
                  </a:path>
                </a:pathLst>
              </a:custGeom>
              <a:solidFill>
                <a:srgbClr val="ffcccc"/>
              </a:solidFill>
              <a:ln w="9360">
                <a:solidFill>
                  <a:srgbClr val="ffcc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6" name=""/>
            <p:cNvSpPr/>
            <p:nvPr/>
          </p:nvSpPr>
          <p:spPr>
            <a:xfrm>
              <a:off x="2027160" y="4087440"/>
              <a:ext cx="2828520" cy="2260800"/>
            </a:xfrm>
            <a:custGeom>
              <a:avLst/>
              <a:gdLst/>
              <a:ahLst/>
              <a:rect l="l" t="t" r="r" b="b"/>
              <a:pathLst>
                <a:path w="1782" h="1424">
                  <a:moveTo>
                    <a:pt x="18" y="47"/>
                  </a:moveTo>
                  <a:cubicBezTo>
                    <a:pt x="21" y="485"/>
                    <a:pt x="0" y="924"/>
                    <a:pt x="27" y="1361"/>
                  </a:cubicBezTo>
                  <a:cubicBezTo>
                    <a:pt x="28" y="1385"/>
                    <a:pt x="76" y="1364"/>
                    <a:pt x="99" y="1370"/>
                  </a:cubicBezTo>
                  <a:cubicBezTo>
                    <a:pt x="109" y="1373"/>
                    <a:pt x="117" y="1382"/>
                    <a:pt x="126" y="1388"/>
                  </a:cubicBezTo>
                  <a:cubicBezTo>
                    <a:pt x="854" y="1373"/>
                    <a:pt x="395" y="1424"/>
                    <a:pt x="612" y="1352"/>
                  </a:cubicBezTo>
                  <a:cubicBezTo>
                    <a:pt x="654" y="1289"/>
                    <a:pt x="657" y="1216"/>
                    <a:pt x="675" y="1145"/>
                  </a:cubicBezTo>
                  <a:cubicBezTo>
                    <a:pt x="678" y="941"/>
                    <a:pt x="674" y="737"/>
                    <a:pt x="684" y="533"/>
                  </a:cubicBezTo>
                  <a:cubicBezTo>
                    <a:pt x="685" y="517"/>
                    <a:pt x="701" y="562"/>
                    <a:pt x="702" y="578"/>
                  </a:cubicBezTo>
                  <a:cubicBezTo>
                    <a:pt x="710" y="707"/>
                    <a:pt x="703" y="836"/>
                    <a:pt x="711" y="965"/>
                  </a:cubicBezTo>
                  <a:cubicBezTo>
                    <a:pt x="714" y="1024"/>
                    <a:pt x="746" y="1089"/>
                    <a:pt x="765" y="1145"/>
                  </a:cubicBezTo>
                  <a:cubicBezTo>
                    <a:pt x="768" y="1154"/>
                    <a:pt x="784" y="1149"/>
                    <a:pt x="792" y="1154"/>
                  </a:cubicBezTo>
                  <a:cubicBezTo>
                    <a:pt x="989" y="1264"/>
                    <a:pt x="766" y="1153"/>
                    <a:pt x="873" y="1199"/>
                  </a:cubicBezTo>
                  <a:cubicBezTo>
                    <a:pt x="967" y="1239"/>
                    <a:pt x="1078" y="1278"/>
                    <a:pt x="1179" y="1289"/>
                  </a:cubicBezTo>
                  <a:cubicBezTo>
                    <a:pt x="1247" y="1306"/>
                    <a:pt x="1311" y="1330"/>
                    <a:pt x="1377" y="1352"/>
                  </a:cubicBezTo>
                  <a:cubicBezTo>
                    <a:pt x="1404" y="1343"/>
                    <a:pt x="1434" y="1340"/>
                    <a:pt x="1458" y="1325"/>
                  </a:cubicBezTo>
                  <a:cubicBezTo>
                    <a:pt x="1499" y="1300"/>
                    <a:pt x="1541" y="1272"/>
                    <a:pt x="1584" y="1253"/>
                  </a:cubicBezTo>
                  <a:cubicBezTo>
                    <a:pt x="1595" y="1248"/>
                    <a:pt x="1609" y="1249"/>
                    <a:pt x="1620" y="1244"/>
                  </a:cubicBezTo>
                  <a:cubicBezTo>
                    <a:pt x="1645" y="1234"/>
                    <a:pt x="1671" y="1224"/>
                    <a:pt x="1692" y="1208"/>
                  </a:cubicBezTo>
                  <a:cubicBezTo>
                    <a:pt x="1704" y="1199"/>
                    <a:pt x="1715" y="1188"/>
                    <a:pt x="1728" y="1181"/>
                  </a:cubicBezTo>
                  <a:cubicBezTo>
                    <a:pt x="1745" y="1173"/>
                    <a:pt x="1782" y="1163"/>
                    <a:pt x="1782" y="1163"/>
                  </a:cubicBezTo>
                  <a:cubicBezTo>
                    <a:pt x="1733" y="1130"/>
                    <a:pt x="1684" y="1118"/>
                    <a:pt x="1629" y="1100"/>
                  </a:cubicBezTo>
                  <a:cubicBezTo>
                    <a:pt x="1613" y="1095"/>
                    <a:pt x="1555" y="1063"/>
                    <a:pt x="1539" y="1055"/>
                  </a:cubicBezTo>
                  <a:cubicBezTo>
                    <a:pt x="1487" y="978"/>
                    <a:pt x="1556" y="1069"/>
                    <a:pt x="1494" y="1019"/>
                  </a:cubicBezTo>
                  <a:cubicBezTo>
                    <a:pt x="1474" y="1003"/>
                    <a:pt x="1464" y="977"/>
                    <a:pt x="1449" y="956"/>
                  </a:cubicBezTo>
                  <a:cubicBezTo>
                    <a:pt x="1436" y="916"/>
                    <a:pt x="1411" y="882"/>
                    <a:pt x="1386" y="848"/>
                  </a:cubicBezTo>
                  <a:cubicBezTo>
                    <a:pt x="1343" y="790"/>
                    <a:pt x="1320" y="736"/>
                    <a:pt x="1251" y="713"/>
                  </a:cubicBezTo>
                  <a:cubicBezTo>
                    <a:pt x="1162" y="646"/>
                    <a:pt x="1196" y="684"/>
                    <a:pt x="1143" y="605"/>
                  </a:cubicBezTo>
                  <a:cubicBezTo>
                    <a:pt x="1117" y="566"/>
                    <a:pt x="1124" y="519"/>
                    <a:pt x="1098" y="479"/>
                  </a:cubicBezTo>
                  <a:cubicBezTo>
                    <a:pt x="1085" y="399"/>
                    <a:pt x="1097" y="441"/>
                    <a:pt x="1053" y="353"/>
                  </a:cubicBezTo>
                  <a:lnTo>
                    <a:pt x="1053" y="353"/>
                  </a:lnTo>
                  <a:cubicBezTo>
                    <a:pt x="1035" y="282"/>
                    <a:pt x="999" y="218"/>
                    <a:pt x="981" y="146"/>
                  </a:cubicBezTo>
                  <a:cubicBezTo>
                    <a:pt x="984" y="122"/>
                    <a:pt x="981" y="96"/>
                    <a:pt x="990" y="74"/>
                  </a:cubicBezTo>
                  <a:cubicBezTo>
                    <a:pt x="1019" y="0"/>
                    <a:pt x="1017" y="82"/>
                    <a:pt x="1017" y="47"/>
                  </a:cubicBezTo>
                  <a:cubicBezTo>
                    <a:pt x="707" y="37"/>
                    <a:pt x="397" y="17"/>
                    <a:pt x="87" y="17"/>
                  </a:cubicBezTo>
                  <a:cubicBezTo>
                    <a:pt x="12" y="17"/>
                    <a:pt x="88" y="140"/>
                    <a:pt x="18" y="47"/>
                  </a:cubicBez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860480" y="5943240"/>
              <a:ext cx="1294920" cy="457200"/>
            </a:xfrm>
            <a:prstGeom prst="ellipse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765240" y="5790960"/>
              <a:ext cx="1295280" cy="457200"/>
            </a:xfrm>
            <a:prstGeom prst="ellipse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3827520" y="1143000"/>
            <a:ext cx="3245040" cy="5257440"/>
            <a:chOff x="3827520" y="1143000"/>
            <a:chExt cx="3245040" cy="5257440"/>
          </a:xfrm>
        </p:grpSpPr>
        <p:sp>
          <p:nvSpPr>
            <p:cNvPr id="110" name=""/>
            <p:cNvSpPr/>
            <p:nvPr/>
          </p:nvSpPr>
          <p:spPr>
            <a:xfrm>
              <a:off x="4024800" y="2360880"/>
              <a:ext cx="2985120" cy="3911400"/>
            </a:xfrm>
            <a:custGeom>
              <a:avLst/>
              <a:gdLst/>
              <a:ahLst/>
              <a:rect l="l" t="t" r="r" b="b"/>
              <a:pathLst>
                <a:path w="3414" h="2586">
                  <a:moveTo>
                    <a:pt x="1034" y="300"/>
                  </a:moveTo>
                  <a:cubicBezTo>
                    <a:pt x="852" y="239"/>
                    <a:pt x="644" y="322"/>
                    <a:pt x="458" y="336"/>
                  </a:cubicBezTo>
                  <a:cubicBezTo>
                    <a:pt x="421" y="354"/>
                    <a:pt x="397" y="370"/>
                    <a:pt x="368" y="399"/>
                  </a:cubicBezTo>
                  <a:cubicBezTo>
                    <a:pt x="365" y="411"/>
                    <a:pt x="367" y="425"/>
                    <a:pt x="359" y="435"/>
                  </a:cubicBezTo>
                  <a:cubicBezTo>
                    <a:pt x="353" y="442"/>
                    <a:pt x="341" y="440"/>
                    <a:pt x="332" y="444"/>
                  </a:cubicBezTo>
                  <a:cubicBezTo>
                    <a:pt x="320" y="449"/>
                    <a:pt x="307" y="455"/>
                    <a:pt x="296" y="462"/>
                  </a:cubicBezTo>
                  <a:cubicBezTo>
                    <a:pt x="264" y="482"/>
                    <a:pt x="233" y="507"/>
                    <a:pt x="206" y="534"/>
                  </a:cubicBezTo>
                  <a:cubicBezTo>
                    <a:pt x="180" y="611"/>
                    <a:pt x="217" y="493"/>
                    <a:pt x="188" y="669"/>
                  </a:cubicBezTo>
                  <a:cubicBezTo>
                    <a:pt x="185" y="688"/>
                    <a:pt x="175" y="705"/>
                    <a:pt x="170" y="723"/>
                  </a:cubicBezTo>
                  <a:cubicBezTo>
                    <a:pt x="153" y="792"/>
                    <a:pt x="136" y="861"/>
                    <a:pt x="116" y="930"/>
                  </a:cubicBezTo>
                  <a:cubicBezTo>
                    <a:pt x="99" y="990"/>
                    <a:pt x="91" y="1051"/>
                    <a:pt x="71" y="1110"/>
                  </a:cubicBezTo>
                  <a:cubicBezTo>
                    <a:pt x="59" y="1197"/>
                    <a:pt x="52" y="1284"/>
                    <a:pt x="35" y="1371"/>
                  </a:cubicBezTo>
                  <a:cubicBezTo>
                    <a:pt x="29" y="1477"/>
                    <a:pt x="25" y="1581"/>
                    <a:pt x="8" y="1686"/>
                  </a:cubicBezTo>
                  <a:cubicBezTo>
                    <a:pt x="11" y="1776"/>
                    <a:pt x="0" y="1868"/>
                    <a:pt x="17" y="1956"/>
                  </a:cubicBezTo>
                  <a:cubicBezTo>
                    <a:pt x="20" y="1971"/>
                    <a:pt x="47" y="1962"/>
                    <a:pt x="62" y="1965"/>
                  </a:cubicBezTo>
                  <a:cubicBezTo>
                    <a:pt x="98" y="1973"/>
                    <a:pt x="127" y="1990"/>
                    <a:pt x="161" y="2001"/>
                  </a:cubicBezTo>
                  <a:cubicBezTo>
                    <a:pt x="239" y="1998"/>
                    <a:pt x="317" y="1997"/>
                    <a:pt x="395" y="1992"/>
                  </a:cubicBezTo>
                  <a:cubicBezTo>
                    <a:pt x="454" y="1988"/>
                    <a:pt x="516" y="1959"/>
                    <a:pt x="575" y="1947"/>
                  </a:cubicBezTo>
                  <a:cubicBezTo>
                    <a:pt x="603" y="1862"/>
                    <a:pt x="591" y="1912"/>
                    <a:pt x="602" y="1794"/>
                  </a:cubicBezTo>
                  <a:cubicBezTo>
                    <a:pt x="608" y="1553"/>
                    <a:pt x="520" y="1425"/>
                    <a:pt x="710" y="1362"/>
                  </a:cubicBezTo>
                  <a:cubicBezTo>
                    <a:pt x="734" y="1291"/>
                    <a:pt x="824" y="1275"/>
                    <a:pt x="872" y="1227"/>
                  </a:cubicBezTo>
                  <a:lnTo>
                    <a:pt x="740" y="2586"/>
                  </a:lnTo>
                  <a:lnTo>
                    <a:pt x="2612" y="2586"/>
                  </a:lnTo>
                  <a:cubicBezTo>
                    <a:pt x="2486" y="2097"/>
                    <a:pt x="1822" y="979"/>
                    <a:pt x="2312" y="1101"/>
                  </a:cubicBezTo>
                  <a:cubicBezTo>
                    <a:pt x="2381" y="1147"/>
                    <a:pt x="2389" y="1178"/>
                    <a:pt x="2447" y="1236"/>
                  </a:cubicBezTo>
                  <a:cubicBezTo>
                    <a:pt x="2473" y="1313"/>
                    <a:pt x="2447" y="1229"/>
                    <a:pt x="2465" y="1407"/>
                  </a:cubicBezTo>
                  <a:cubicBezTo>
                    <a:pt x="2469" y="1446"/>
                    <a:pt x="2495" y="1471"/>
                    <a:pt x="2510" y="1506"/>
                  </a:cubicBezTo>
                  <a:cubicBezTo>
                    <a:pt x="2549" y="1596"/>
                    <a:pt x="2568" y="1687"/>
                    <a:pt x="2672" y="1722"/>
                  </a:cubicBezTo>
                  <a:cubicBezTo>
                    <a:pt x="2744" y="1719"/>
                    <a:pt x="2816" y="1718"/>
                    <a:pt x="2888" y="1713"/>
                  </a:cubicBezTo>
                  <a:cubicBezTo>
                    <a:pt x="2921" y="1711"/>
                    <a:pt x="2917" y="1696"/>
                    <a:pt x="2942" y="1677"/>
                  </a:cubicBezTo>
                  <a:cubicBezTo>
                    <a:pt x="2991" y="1639"/>
                    <a:pt x="3055" y="1597"/>
                    <a:pt x="3113" y="1578"/>
                  </a:cubicBezTo>
                  <a:cubicBezTo>
                    <a:pt x="3122" y="1569"/>
                    <a:pt x="3129" y="1558"/>
                    <a:pt x="3140" y="1551"/>
                  </a:cubicBezTo>
                  <a:cubicBezTo>
                    <a:pt x="3148" y="1546"/>
                    <a:pt x="3160" y="1548"/>
                    <a:pt x="3167" y="1542"/>
                  </a:cubicBezTo>
                  <a:cubicBezTo>
                    <a:pt x="3175" y="1535"/>
                    <a:pt x="3176" y="1521"/>
                    <a:pt x="3185" y="1515"/>
                  </a:cubicBezTo>
                  <a:cubicBezTo>
                    <a:pt x="3201" y="1505"/>
                    <a:pt x="3221" y="1503"/>
                    <a:pt x="3239" y="1497"/>
                  </a:cubicBezTo>
                  <a:cubicBezTo>
                    <a:pt x="3281" y="1483"/>
                    <a:pt x="3328" y="1450"/>
                    <a:pt x="3365" y="1425"/>
                  </a:cubicBezTo>
                  <a:cubicBezTo>
                    <a:pt x="3359" y="1245"/>
                    <a:pt x="3414" y="1143"/>
                    <a:pt x="3248" y="1110"/>
                  </a:cubicBezTo>
                  <a:cubicBezTo>
                    <a:pt x="3209" y="1084"/>
                    <a:pt x="3178" y="1054"/>
                    <a:pt x="3140" y="1029"/>
                  </a:cubicBezTo>
                  <a:cubicBezTo>
                    <a:pt x="3105" y="976"/>
                    <a:pt x="3087" y="952"/>
                    <a:pt x="3068" y="894"/>
                  </a:cubicBezTo>
                  <a:cubicBezTo>
                    <a:pt x="3065" y="884"/>
                    <a:pt x="3049" y="884"/>
                    <a:pt x="3041" y="876"/>
                  </a:cubicBezTo>
                  <a:cubicBezTo>
                    <a:pt x="3030" y="865"/>
                    <a:pt x="3026" y="850"/>
                    <a:pt x="3014" y="840"/>
                  </a:cubicBezTo>
                  <a:cubicBezTo>
                    <a:pt x="2999" y="827"/>
                    <a:pt x="2975" y="826"/>
                    <a:pt x="2960" y="813"/>
                  </a:cubicBezTo>
                  <a:cubicBezTo>
                    <a:pt x="2928" y="786"/>
                    <a:pt x="2908" y="769"/>
                    <a:pt x="2870" y="750"/>
                  </a:cubicBezTo>
                  <a:cubicBezTo>
                    <a:pt x="2837" y="700"/>
                    <a:pt x="2783" y="674"/>
                    <a:pt x="2726" y="660"/>
                  </a:cubicBezTo>
                  <a:cubicBezTo>
                    <a:pt x="2717" y="654"/>
                    <a:pt x="2709" y="647"/>
                    <a:pt x="2699" y="642"/>
                  </a:cubicBezTo>
                  <a:cubicBezTo>
                    <a:pt x="2691" y="638"/>
                    <a:pt x="2673" y="642"/>
                    <a:pt x="2672" y="633"/>
                  </a:cubicBezTo>
                  <a:cubicBezTo>
                    <a:pt x="2663" y="559"/>
                    <a:pt x="2656" y="485"/>
                    <a:pt x="2726" y="462"/>
                  </a:cubicBezTo>
                  <a:cubicBezTo>
                    <a:pt x="2738" y="426"/>
                    <a:pt x="2757" y="402"/>
                    <a:pt x="2780" y="372"/>
                  </a:cubicBezTo>
                  <a:cubicBezTo>
                    <a:pt x="2800" y="294"/>
                    <a:pt x="2816" y="265"/>
                    <a:pt x="2780" y="174"/>
                  </a:cubicBezTo>
                  <a:cubicBezTo>
                    <a:pt x="2775" y="163"/>
                    <a:pt x="2756" y="168"/>
                    <a:pt x="2744" y="165"/>
                  </a:cubicBezTo>
                  <a:cubicBezTo>
                    <a:pt x="2705" y="154"/>
                    <a:pt x="2663" y="129"/>
                    <a:pt x="2627" y="111"/>
                  </a:cubicBezTo>
                  <a:cubicBezTo>
                    <a:pt x="2404" y="0"/>
                    <a:pt x="2521" y="48"/>
                    <a:pt x="2087" y="48"/>
                  </a:cubicBezTo>
                </a:path>
              </a:pathLst>
            </a:custGeom>
            <a:solidFill>
              <a:srgbClr val="ff9900"/>
            </a:solidFill>
            <a:ln w="9360">
              <a:solidFill>
                <a:srgbClr val="f8f8f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1" name=""/>
            <p:cNvGrpSpPr/>
            <p:nvPr/>
          </p:nvGrpSpPr>
          <p:grpSpPr>
            <a:xfrm>
              <a:off x="4510800" y="1655640"/>
              <a:ext cx="1385280" cy="1597680"/>
              <a:chOff x="4510800" y="1655640"/>
              <a:chExt cx="1385280" cy="1597680"/>
            </a:xfrm>
          </p:grpSpPr>
          <p:sp>
            <p:nvSpPr>
              <p:cNvPr id="112" name=""/>
              <p:cNvSpPr/>
              <p:nvPr/>
            </p:nvSpPr>
            <p:spPr>
              <a:xfrm>
                <a:off x="4679640" y="1771560"/>
                <a:ext cx="1027800" cy="948240"/>
              </a:xfrm>
              <a:prstGeom prst="smileyFace">
                <a:avLst>
                  <a:gd name="adj" fmla="val 9282"/>
                </a:avLst>
              </a:prstGeom>
              <a:solidFill>
                <a:srgbClr val="ffcccc"/>
              </a:solidFill>
              <a:ln w="9360">
                <a:solidFill>
                  <a:srgbClr val="ff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4876560" y="2006640"/>
                <a:ext cx="219600" cy="213840"/>
                <a:chOff x="4876560" y="2006640"/>
                <a:chExt cx="219600" cy="21384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4876560" y="2006640"/>
                  <a:ext cx="219600" cy="213840"/>
                </a:xfrm>
                <a:prstGeom prst="ellipse">
                  <a:avLst/>
                </a:prstGeom>
                <a:solidFill>
                  <a:srgbClr val="00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4885200" y="2027520"/>
                  <a:ext cx="183240" cy="1537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4929840" y="2063880"/>
                  <a:ext cx="109800" cy="925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080" bIns="190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7" name=""/>
              <p:cNvGrpSpPr/>
              <p:nvPr/>
            </p:nvGrpSpPr>
            <p:grpSpPr>
              <a:xfrm>
                <a:off x="5304600" y="2006640"/>
                <a:ext cx="219600" cy="213840"/>
                <a:chOff x="5304600" y="2006640"/>
                <a:chExt cx="219600" cy="213840"/>
              </a:xfrm>
            </p:grpSpPr>
            <p:sp>
              <p:nvSpPr>
                <p:cNvPr id="118" name=""/>
                <p:cNvSpPr/>
                <p:nvPr/>
              </p:nvSpPr>
              <p:spPr>
                <a:xfrm>
                  <a:off x="5304600" y="2006640"/>
                  <a:ext cx="219600" cy="213840"/>
                </a:xfrm>
                <a:prstGeom prst="ellipse">
                  <a:avLst/>
                </a:prstGeom>
                <a:solidFill>
                  <a:srgbClr val="00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5313240" y="2027520"/>
                  <a:ext cx="183240" cy="1537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5357880" y="2063880"/>
                  <a:ext cx="109800" cy="925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080" bIns="190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1" name=""/>
              <p:cNvSpPr/>
              <p:nvPr/>
            </p:nvSpPr>
            <p:spPr>
              <a:xfrm>
                <a:off x="5129280" y="2477160"/>
                <a:ext cx="174960" cy="161280"/>
              </a:xfrm>
              <a:custGeom>
                <a:avLst/>
                <a:gdLst/>
                <a:ahLst/>
                <a:rect l="l" t="t" r="r" b="b"/>
                <a:pathLst>
                  <a:path w="229" h="134">
                    <a:moveTo>
                      <a:pt x="30" y="58"/>
                    </a:moveTo>
                    <a:cubicBezTo>
                      <a:pt x="54" y="134"/>
                      <a:pt x="152" y="101"/>
                      <a:pt x="215" y="86"/>
                    </a:cubicBezTo>
                    <a:cubicBezTo>
                      <a:pt x="218" y="70"/>
                      <a:pt x="229" y="54"/>
                      <a:pt x="225" y="39"/>
                    </a:cubicBezTo>
                    <a:cubicBezTo>
                      <a:pt x="214" y="0"/>
                      <a:pt x="148" y="37"/>
                      <a:pt x="141" y="39"/>
                    </a:cubicBezTo>
                    <a:cubicBezTo>
                      <a:pt x="0" y="84"/>
                      <a:pt x="67" y="21"/>
                      <a:pt x="30" y="58"/>
                    </a:cubicBezTo>
                    <a:close/>
                  </a:path>
                </a:pathLst>
              </a:custGeom>
              <a:solidFill>
                <a:srgbClr val="fc4614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10800" y="1655640"/>
                <a:ext cx="1385280" cy="1597680"/>
              </a:xfrm>
              <a:custGeom>
                <a:avLst/>
                <a:gdLst/>
                <a:ahLst/>
                <a:rect l="l" t="t" r="r" b="b"/>
                <a:pathLst>
                  <a:path w="958" h="1196">
                    <a:moveTo>
                      <a:pt x="465" y="168"/>
                    </a:moveTo>
                    <a:cubicBezTo>
                      <a:pt x="386" y="178"/>
                      <a:pt x="396" y="183"/>
                      <a:pt x="335" y="205"/>
                    </a:cubicBezTo>
                    <a:cubicBezTo>
                      <a:pt x="323" y="223"/>
                      <a:pt x="310" y="242"/>
                      <a:pt x="298" y="260"/>
                    </a:cubicBezTo>
                    <a:cubicBezTo>
                      <a:pt x="292" y="269"/>
                      <a:pt x="290" y="284"/>
                      <a:pt x="280" y="288"/>
                    </a:cubicBezTo>
                    <a:cubicBezTo>
                      <a:pt x="271" y="291"/>
                      <a:pt x="261" y="293"/>
                      <a:pt x="252" y="298"/>
                    </a:cubicBezTo>
                    <a:cubicBezTo>
                      <a:pt x="232" y="309"/>
                      <a:pt x="196" y="335"/>
                      <a:pt x="196" y="335"/>
                    </a:cubicBezTo>
                    <a:cubicBezTo>
                      <a:pt x="190" y="344"/>
                      <a:pt x="178" y="352"/>
                      <a:pt x="177" y="363"/>
                    </a:cubicBezTo>
                    <a:cubicBezTo>
                      <a:pt x="175" y="402"/>
                      <a:pt x="193" y="557"/>
                      <a:pt x="224" y="604"/>
                    </a:cubicBezTo>
                    <a:cubicBezTo>
                      <a:pt x="231" y="615"/>
                      <a:pt x="244" y="622"/>
                      <a:pt x="252" y="632"/>
                    </a:cubicBezTo>
                    <a:cubicBezTo>
                      <a:pt x="259" y="641"/>
                      <a:pt x="261" y="654"/>
                      <a:pt x="270" y="660"/>
                    </a:cubicBezTo>
                    <a:cubicBezTo>
                      <a:pt x="287" y="670"/>
                      <a:pt x="326" y="678"/>
                      <a:pt x="326" y="678"/>
                    </a:cubicBezTo>
                    <a:cubicBezTo>
                      <a:pt x="382" y="716"/>
                      <a:pt x="412" y="738"/>
                      <a:pt x="475" y="753"/>
                    </a:cubicBezTo>
                    <a:cubicBezTo>
                      <a:pt x="563" y="748"/>
                      <a:pt x="625" y="773"/>
                      <a:pt x="670" y="706"/>
                    </a:cubicBezTo>
                    <a:cubicBezTo>
                      <a:pt x="685" y="661"/>
                      <a:pt x="700" y="629"/>
                      <a:pt x="744" y="613"/>
                    </a:cubicBezTo>
                    <a:cubicBezTo>
                      <a:pt x="766" y="548"/>
                      <a:pt x="752" y="486"/>
                      <a:pt x="791" y="428"/>
                    </a:cubicBezTo>
                    <a:cubicBezTo>
                      <a:pt x="783" y="396"/>
                      <a:pt x="772" y="347"/>
                      <a:pt x="744" y="325"/>
                    </a:cubicBezTo>
                    <a:cubicBezTo>
                      <a:pt x="736" y="319"/>
                      <a:pt x="725" y="321"/>
                      <a:pt x="716" y="316"/>
                    </a:cubicBezTo>
                    <a:cubicBezTo>
                      <a:pt x="618" y="263"/>
                      <a:pt x="696" y="291"/>
                      <a:pt x="633" y="270"/>
                    </a:cubicBezTo>
                    <a:cubicBezTo>
                      <a:pt x="608" y="253"/>
                      <a:pt x="577" y="235"/>
                      <a:pt x="549" y="223"/>
                    </a:cubicBezTo>
                    <a:cubicBezTo>
                      <a:pt x="531" y="215"/>
                      <a:pt x="493" y="205"/>
                      <a:pt x="493" y="205"/>
                    </a:cubicBezTo>
                    <a:cubicBezTo>
                      <a:pt x="484" y="199"/>
                      <a:pt x="475" y="191"/>
                      <a:pt x="465" y="186"/>
                    </a:cubicBezTo>
                    <a:cubicBezTo>
                      <a:pt x="457" y="182"/>
                      <a:pt x="446" y="182"/>
                      <a:pt x="438" y="177"/>
                    </a:cubicBezTo>
                    <a:cubicBezTo>
                      <a:pt x="418" y="166"/>
                      <a:pt x="382" y="140"/>
                      <a:pt x="382" y="140"/>
                    </a:cubicBezTo>
                    <a:cubicBezTo>
                      <a:pt x="369" y="104"/>
                      <a:pt x="364" y="87"/>
                      <a:pt x="326" y="75"/>
                    </a:cubicBezTo>
                    <a:cubicBezTo>
                      <a:pt x="286" y="78"/>
                      <a:pt x="244" y="74"/>
                      <a:pt x="205" y="84"/>
                    </a:cubicBezTo>
                    <a:cubicBezTo>
                      <a:pt x="194" y="87"/>
                      <a:pt x="196" y="105"/>
                      <a:pt x="187" y="112"/>
                    </a:cubicBezTo>
                    <a:cubicBezTo>
                      <a:pt x="179" y="118"/>
                      <a:pt x="168" y="118"/>
                      <a:pt x="159" y="121"/>
                    </a:cubicBezTo>
                    <a:cubicBezTo>
                      <a:pt x="147" y="158"/>
                      <a:pt x="127" y="182"/>
                      <a:pt x="103" y="214"/>
                    </a:cubicBezTo>
                    <a:cubicBezTo>
                      <a:pt x="62" y="335"/>
                      <a:pt x="0" y="526"/>
                      <a:pt x="122" y="604"/>
                    </a:cubicBezTo>
                    <a:cubicBezTo>
                      <a:pt x="151" y="648"/>
                      <a:pt x="158" y="682"/>
                      <a:pt x="205" y="697"/>
                    </a:cubicBezTo>
                    <a:cubicBezTo>
                      <a:pt x="239" y="792"/>
                      <a:pt x="269" y="849"/>
                      <a:pt x="372" y="883"/>
                    </a:cubicBezTo>
                    <a:cubicBezTo>
                      <a:pt x="437" y="880"/>
                      <a:pt x="504" y="887"/>
                      <a:pt x="568" y="874"/>
                    </a:cubicBezTo>
                    <a:cubicBezTo>
                      <a:pt x="578" y="872"/>
                      <a:pt x="564" y="854"/>
                      <a:pt x="558" y="846"/>
                    </a:cubicBezTo>
                    <a:cubicBezTo>
                      <a:pt x="544" y="829"/>
                      <a:pt x="522" y="824"/>
                      <a:pt x="503" y="818"/>
                    </a:cubicBezTo>
                    <a:cubicBezTo>
                      <a:pt x="498" y="815"/>
                      <a:pt x="459" y="784"/>
                      <a:pt x="447" y="790"/>
                    </a:cubicBezTo>
                    <a:cubicBezTo>
                      <a:pt x="438" y="794"/>
                      <a:pt x="441" y="809"/>
                      <a:pt x="438" y="818"/>
                    </a:cubicBezTo>
                    <a:cubicBezTo>
                      <a:pt x="425" y="903"/>
                      <a:pt x="440" y="867"/>
                      <a:pt x="391" y="939"/>
                    </a:cubicBezTo>
                    <a:cubicBezTo>
                      <a:pt x="385" y="948"/>
                      <a:pt x="378" y="957"/>
                      <a:pt x="372" y="966"/>
                    </a:cubicBezTo>
                    <a:cubicBezTo>
                      <a:pt x="366" y="975"/>
                      <a:pt x="354" y="994"/>
                      <a:pt x="354" y="994"/>
                    </a:cubicBezTo>
                    <a:cubicBezTo>
                      <a:pt x="357" y="1053"/>
                      <a:pt x="334" y="1119"/>
                      <a:pt x="363" y="1171"/>
                    </a:cubicBezTo>
                    <a:cubicBezTo>
                      <a:pt x="377" y="1196"/>
                      <a:pt x="422" y="1175"/>
                      <a:pt x="447" y="1162"/>
                    </a:cubicBezTo>
                    <a:cubicBezTo>
                      <a:pt x="467" y="1151"/>
                      <a:pt x="484" y="1106"/>
                      <a:pt x="484" y="1106"/>
                    </a:cubicBezTo>
                    <a:cubicBezTo>
                      <a:pt x="487" y="1097"/>
                      <a:pt x="489" y="1087"/>
                      <a:pt x="493" y="1078"/>
                    </a:cubicBezTo>
                    <a:cubicBezTo>
                      <a:pt x="498" y="1068"/>
                      <a:pt x="507" y="1060"/>
                      <a:pt x="512" y="1050"/>
                    </a:cubicBezTo>
                    <a:cubicBezTo>
                      <a:pt x="556" y="950"/>
                      <a:pt x="506" y="1029"/>
                      <a:pt x="549" y="966"/>
                    </a:cubicBezTo>
                    <a:cubicBezTo>
                      <a:pt x="580" y="873"/>
                      <a:pt x="531" y="896"/>
                      <a:pt x="651" y="883"/>
                    </a:cubicBezTo>
                    <a:cubicBezTo>
                      <a:pt x="660" y="880"/>
                      <a:pt x="670" y="870"/>
                      <a:pt x="679" y="874"/>
                    </a:cubicBezTo>
                    <a:cubicBezTo>
                      <a:pt x="689" y="878"/>
                      <a:pt x="693" y="891"/>
                      <a:pt x="698" y="901"/>
                    </a:cubicBezTo>
                    <a:cubicBezTo>
                      <a:pt x="702" y="910"/>
                      <a:pt x="728" y="978"/>
                      <a:pt x="735" y="1004"/>
                    </a:cubicBezTo>
                    <a:cubicBezTo>
                      <a:pt x="738" y="1016"/>
                      <a:pt x="736" y="1031"/>
                      <a:pt x="744" y="1041"/>
                    </a:cubicBezTo>
                    <a:cubicBezTo>
                      <a:pt x="750" y="1049"/>
                      <a:pt x="763" y="1047"/>
                      <a:pt x="772" y="1050"/>
                    </a:cubicBezTo>
                    <a:cubicBezTo>
                      <a:pt x="801" y="1093"/>
                      <a:pt x="798" y="1107"/>
                      <a:pt x="883" y="1069"/>
                    </a:cubicBezTo>
                    <a:cubicBezTo>
                      <a:pt x="892" y="1065"/>
                      <a:pt x="880" y="1049"/>
                      <a:pt x="874" y="1041"/>
                    </a:cubicBezTo>
                    <a:cubicBezTo>
                      <a:pt x="859" y="1022"/>
                      <a:pt x="835" y="1011"/>
                      <a:pt x="818" y="994"/>
                    </a:cubicBezTo>
                    <a:cubicBezTo>
                      <a:pt x="807" y="958"/>
                      <a:pt x="814" y="918"/>
                      <a:pt x="800" y="883"/>
                    </a:cubicBezTo>
                    <a:cubicBezTo>
                      <a:pt x="798" y="878"/>
                      <a:pt x="744" y="842"/>
                      <a:pt x="735" y="836"/>
                    </a:cubicBezTo>
                    <a:cubicBezTo>
                      <a:pt x="709" y="798"/>
                      <a:pt x="672" y="793"/>
                      <a:pt x="633" y="771"/>
                    </a:cubicBezTo>
                    <a:cubicBezTo>
                      <a:pt x="614" y="760"/>
                      <a:pt x="577" y="734"/>
                      <a:pt x="577" y="734"/>
                    </a:cubicBezTo>
                    <a:cubicBezTo>
                      <a:pt x="524" y="748"/>
                      <a:pt x="549" y="732"/>
                      <a:pt x="521" y="781"/>
                    </a:cubicBezTo>
                    <a:cubicBezTo>
                      <a:pt x="516" y="791"/>
                      <a:pt x="492" y="809"/>
                      <a:pt x="503" y="809"/>
                    </a:cubicBezTo>
                    <a:cubicBezTo>
                      <a:pt x="516" y="809"/>
                      <a:pt x="520" y="789"/>
                      <a:pt x="530" y="781"/>
                    </a:cubicBezTo>
                    <a:cubicBezTo>
                      <a:pt x="548" y="767"/>
                      <a:pt x="565" y="751"/>
                      <a:pt x="586" y="744"/>
                    </a:cubicBezTo>
                    <a:cubicBezTo>
                      <a:pt x="605" y="738"/>
                      <a:pt x="642" y="725"/>
                      <a:pt x="642" y="725"/>
                    </a:cubicBezTo>
                    <a:cubicBezTo>
                      <a:pt x="737" y="738"/>
                      <a:pt x="847" y="763"/>
                      <a:pt x="930" y="706"/>
                    </a:cubicBezTo>
                    <a:cubicBezTo>
                      <a:pt x="933" y="694"/>
                      <a:pt x="935" y="681"/>
                      <a:pt x="939" y="669"/>
                    </a:cubicBezTo>
                    <a:cubicBezTo>
                      <a:pt x="945" y="650"/>
                      <a:pt x="958" y="613"/>
                      <a:pt x="958" y="613"/>
                    </a:cubicBezTo>
                    <a:cubicBezTo>
                      <a:pt x="953" y="585"/>
                      <a:pt x="942" y="558"/>
                      <a:pt x="939" y="530"/>
                    </a:cubicBezTo>
                    <a:cubicBezTo>
                      <a:pt x="934" y="487"/>
                      <a:pt x="940" y="442"/>
                      <a:pt x="930" y="400"/>
                    </a:cubicBezTo>
                    <a:cubicBezTo>
                      <a:pt x="925" y="378"/>
                      <a:pt x="893" y="344"/>
                      <a:pt x="893" y="344"/>
                    </a:cubicBezTo>
                    <a:cubicBezTo>
                      <a:pt x="890" y="332"/>
                      <a:pt x="888" y="319"/>
                      <a:pt x="883" y="307"/>
                    </a:cubicBezTo>
                    <a:cubicBezTo>
                      <a:pt x="879" y="297"/>
                      <a:pt x="868" y="290"/>
                      <a:pt x="865" y="279"/>
                    </a:cubicBezTo>
                    <a:cubicBezTo>
                      <a:pt x="849" y="230"/>
                      <a:pt x="837" y="130"/>
                      <a:pt x="781" y="102"/>
                    </a:cubicBezTo>
                    <a:cubicBezTo>
                      <a:pt x="758" y="91"/>
                      <a:pt x="731" y="92"/>
                      <a:pt x="707" y="84"/>
                    </a:cubicBezTo>
                    <a:cubicBezTo>
                      <a:pt x="670" y="60"/>
                      <a:pt x="635" y="37"/>
                      <a:pt x="595" y="19"/>
                    </a:cubicBezTo>
                    <a:cubicBezTo>
                      <a:pt x="577" y="11"/>
                      <a:pt x="540" y="0"/>
                      <a:pt x="540" y="0"/>
                    </a:cubicBezTo>
                    <a:cubicBezTo>
                      <a:pt x="512" y="3"/>
                      <a:pt x="484" y="5"/>
                      <a:pt x="456" y="10"/>
                    </a:cubicBezTo>
                    <a:cubicBezTo>
                      <a:pt x="416" y="17"/>
                      <a:pt x="339" y="65"/>
                      <a:pt x="298" y="84"/>
                    </a:cubicBezTo>
                  </a:path>
                </a:pathLst>
              </a:custGeom>
              <a:solidFill>
                <a:srgbClr val="cc0099"/>
              </a:solidFill>
              <a:ln w="9360">
                <a:solidFill>
                  <a:srgbClr val="cc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3" name=""/>
            <p:cNvSpPr/>
            <p:nvPr/>
          </p:nvSpPr>
          <p:spPr>
            <a:xfrm>
              <a:off x="4024800" y="2681640"/>
              <a:ext cx="833040" cy="365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5968800" y="1143000"/>
              <a:ext cx="1041120" cy="39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955320" y="2874240"/>
              <a:ext cx="3045960" cy="1089720"/>
            </a:xfrm>
            <a:custGeom>
              <a:avLst/>
              <a:gdLst/>
              <a:ahLst/>
              <a:rect l="l" t="t" r="r" b="b"/>
              <a:pathLst>
                <a:path w="2106" h="1642">
                  <a:moveTo>
                    <a:pt x="675" y="81"/>
                  </a:moveTo>
                  <a:cubicBezTo>
                    <a:pt x="668" y="168"/>
                    <a:pt x="671" y="237"/>
                    <a:pt x="594" y="288"/>
                  </a:cubicBezTo>
                  <a:cubicBezTo>
                    <a:pt x="564" y="377"/>
                    <a:pt x="614" y="241"/>
                    <a:pt x="558" y="342"/>
                  </a:cubicBezTo>
                  <a:cubicBezTo>
                    <a:pt x="549" y="359"/>
                    <a:pt x="551" y="380"/>
                    <a:pt x="540" y="396"/>
                  </a:cubicBezTo>
                  <a:cubicBezTo>
                    <a:pt x="515" y="433"/>
                    <a:pt x="496" y="480"/>
                    <a:pt x="459" y="504"/>
                  </a:cubicBezTo>
                  <a:cubicBezTo>
                    <a:pt x="431" y="587"/>
                    <a:pt x="479" y="460"/>
                    <a:pt x="414" y="558"/>
                  </a:cubicBezTo>
                  <a:cubicBezTo>
                    <a:pt x="403" y="574"/>
                    <a:pt x="402" y="594"/>
                    <a:pt x="396" y="612"/>
                  </a:cubicBezTo>
                  <a:cubicBezTo>
                    <a:pt x="392" y="624"/>
                    <a:pt x="377" y="629"/>
                    <a:pt x="369" y="639"/>
                  </a:cubicBezTo>
                  <a:cubicBezTo>
                    <a:pt x="344" y="669"/>
                    <a:pt x="330" y="706"/>
                    <a:pt x="306" y="738"/>
                  </a:cubicBezTo>
                  <a:cubicBezTo>
                    <a:pt x="290" y="785"/>
                    <a:pt x="255" y="848"/>
                    <a:pt x="207" y="864"/>
                  </a:cubicBezTo>
                  <a:cubicBezTo>
                    <a:pt x="198" y="876"/>
                    <a:pt x="187" y="887"/>
                    <a:pt x="180" y="900"/>
                  </a:cubicBezTo>
                  <a:cubicBezTo>
                    <a:pt x="172" y="917"/>
                    <a:pt x="162" y="954"/>
                    <a:pt x="162" y="954"/>
                  </a:cubicBezTo>
                  <a:cubicBezTo>
                    <a:pt x="159" y="996"/>
                    <a:pt x="170" y="1041"/>
                    <a:pt x="153" y="1080"/>
                  </a:cubicBezTo>
                  <a:cubicBezTo>
                    <a:pt x="149" y="1090"/>
                    <a:pt x="66" y="1105"/>
                    <a:pt x="54" y="1107"/>
                  </a:cubicBezTo>
                  <a:cubicBezTo>
                    <a:pt x="27" y="1134"/>
                    <a:pt x="12" y="1152"/>
                    <a:pt x="0" y="1188"/>
                  </a:cubicBezTo>
                  <a:cubicBezTo>
                    <a:pt x="10" y="1331"/>
                    <a:pt x="1" y="1305"/>
                    <a:pt x="72" y="1404"/>
                  </a:cubicBezTo>
                  <a:cubicBezTo>
                    <a:pt x="78" y="1413"/>
                    <a:pt x="80" y="1427"/>
                    <a:pt x="90" y="1431"/>
                  </a:cubicBezTo>
                  <a:cubicBezTo>
                    <a:pt x="138" y="1450"/>
                    <a:pt x="192" y="1443"/>
                    <a:pt x="243" y="1449"/>
                  </a:cubicBezTo>
                  <a:cubicBezTo>
                    <a:pt x="565" y="1437"/>
                    <a:pt x="420" y="1481"/>
                    <a:pt x="549" y="1395"/>
                  </a:cubicBezTo>
                  <a:cubicBezTo>
                    <a:pt x="559" y="1343"/>
                    <a:pt x="564" y="1339"/>
                    <a:pt x="612" y="1323"/>
                  </a:cubicBezTo>
                  <a:cubicBezTo>
                    <a:pt x="618" y="1258"/>
                    <a:pt x="610" y="1198"/>
                    <a:pt x="666" y="1161"/>
                  </a:cubicBezTo>
                  <a:cubicBezTo>
                    <a:pt x="683" y="1109"/>
                    <a:pt x="662" y="1156"/>
                    <a:pt x="711" y="1107"/>
                  </a:cubicBezTo>
                  <a:cubicBezTo>
                    <a:pt x="752" y="1066"/>
                    <a:pt x="705" y="1093"/>
                    <a:pt x="747" y="1044"/>
                  </a:cubicBezTo>
                  <a:cubicBezTo>
                    <a:pt x="762" y="1026"/>
                    <a:pt x="805" y="989"/>
                    <a:pt x="828" y="981"/>
                  </a:cubicBezTo>
                  <a:cubicBezTo>
                    <a:pt x="844" y="934"/>
                    <a:pt x="827" y="972"/>
                    <a:pt x="864" y="927"/>
                  </a:cubicBezTo>
                  <a:cubicBezTo>
                    <a:pt x="886" y="900"/>
                    <a:pt x="881" y="895"/>
                    <a:pt x="900" y="864"/>
                  </a:cubicBezTo>
                  <a:cubicBezTo>
                    <a:pt x="923" y="825"/>
                    <a:pt x="949" y="798"/>
                    <a:pt x="963" y="756"/>
                  </a:cubicBezTo>
                  <a:cubicBezTo>
                    <a:pt x="966" y="702"/>
                    <a:pt x="960" y="647"/>
                    <a:pt x="972" y="594"/>
                  </a:cubicBezTo>
                  <a:cubicBezTo>
                    <a:pt x="974" y="585"/>
                    <a:pt x="992" y="596"/>
                    <a:pt x="999" y="603"/>
                  </a:cubicBezTo>
                  <a:cubicBezTo>
                    <a:pt x="1008" y="612"/>
                    <a:pt x="1010" y="627"/>
                    <a:pt x="1017" y="639"/>
                  </a:cubicBezTo>
                  <a:cubicBezTo>
                    <a:pt x="1025" y="654"/>
                    <a:pt x="1034" y="670"/>
                    <a:pt x="1044" y="684"/>
                  </a:cubicBezTo>
                  <a:cubicBezTo>
                    <a:pt x="1064" y="712"/>
                    <a:pt x="1107" y="765"/>
                    <a:pt x="1107" y="765"/>
                  </a:cubicBezTo>
                  <a:cubicBezTo>
                    <a:pt x="1140" y="863"/>
                    <a:pt x="1087" y="714"/>
                    <a:pt x="1134" y="819"/>
                  </a:cubicBezTo>
                  <a:cubicBezTo>
                    <a:pt x="1152" y="860"/>
                    <a:pt x="1161" y="904"/>
                    <a:pt x="1179" y="945"/>
                  </a:cubicBezTo>
                  <a:cubicBezTo>
                    <a:pt x="1193" y="978"/>
                    <a:pt x="1188" y="985"/>
                    <a:pt x="1197" y="1026"/>
                  </a:cubicBezTo>
                  <a:cubicBezTo>
                    <a:pt x="1201" y="1045"/>
                    <a:pt x="1219" y="1084"/>
                    <a:pt x="1224" y="1098"/>
                  </a:cubicBezTo>
                  <a:cubicBezTo>
                    <a:pt x="1242" y="1151"/>
                    <a:pt x="1255" y="1206"/>
                    <a:pt x="1269" y="1260"/>
                  </a:cubicBezTo>
                  <a:cubicBezTo>
                    <a:pt x="1275" y="1283"/>
                    <a:pt x="1272" y="1309"/>
                    <a:pt x="1278" y="1332"/>
                  </a:cubicBezTo>
                  <a:cubicBezTo>
                    <a:pt x="1301" y="1418"/>
                    <a:pt x="1427" y="1461"/>
                    <a:pt x="1503" y="1476"/>
                  </a:cubicBezTo>
                  <a:cubicBezTo>
                    <a:pt x="1588" y="1533"/>
                    <a:pt x="1675" y="1537"/>
                    <a:pt x="1773" y="1557"/>
                  </a:cubicBezTo>
                  <a:cubicBezTo>
                    <a:pt x="1813" y="1577"/>
                    <a:pt x="1916" y="1642"/>
                    <a:pt x="1953" y="1566"/>
                  </a:cubicBezTo>
                  <a:cubicBezTo>
                    <a:pt x="1991" y="1488"/>
                    <a:pt x="1958" y="1392"/>
                    <a:pt x="1962" y="1305"/>
                  </a:cubicBezTo>
                  <a:cubicBezTo>
                    <a:pt x="1964" y="1269"/>
                    <a:pt x="1967" y="1233"/>
                    <a:pt x="1971" y="1197"/>
                  </a:cubicBezTo>
                  <a:cubicBezTo>
                    <a:pt x="1974" y="1174"/>
                    <a:pt x="1977" y="1141"/>
                    <a:pt x="1998" y="1125"/>
                  </a:cubicBezTo>
                  <a:cubicBezTo>
                    <a:pt x="2027" y="1102"/>
                    <a:pt x="2074" y="1092"/>
                    <a:pt x="2106" y="1071"/>
                  </a:cubicBezTo>
                  <a:cubicBezTo>
                    <a:pt x="2022" y="1043"/>
                    <a:pt x="2020" y="1035"/>
                    <a:pt x="1917" y="1026"/>
                  </a:cubicBezTo>
                  <a:cubicBezTo>
                    <a:pt x="1877" y="1013"/>
                    <a:pt x="1847" y="994"/>
                    <a:pt x="1809" y="981"/>
                  </a:cubicBezTo>
                  <a:cubicBezTo>
                    <a:pt x="1790" y="952"/>
                    <a:pt x="1780" y="922"/>
                    <a:pt x="1764" y="891"/>
                  </a:cubicBezTo>
                  <a:cubicBezTo>
                    <a:pt x="1751" y="825"/>
                    <a:pt x="1732" y="732"/>
                    <a:pt x="1674" y="693"/>
                  </a:cubicBezTo>
                  <a:cubicBezTo>
                    <a:pt x="1652" y="660"/>
                    <a:pt x="1639" y="631"/>
                    <a:pt x="1611" y="603"/>
                  </a:cubicBezTo>
                  <a:cubicBezTo>
                    <a:pt x="1595" y="554"/>
                    <a:pt x="1555" y="521"/>
                    <a:pt x="1530" y="477"/>
                  </a:cubicBezTo>
                  <a:cubicBezTo>
                    <a:pt x="1514" y="449"/>
                    <a:pt x="1502" y="413"/>
                    <a:pt x="1485" y="387"/>
                  </a:cubicBezTo>
                  <a:cubicBezTo>
                    <a:pt x="1478" y="376"/>
                    <a:pt x="1466" y="370"/>
                    <a:pt x="1458" y="360"/>
                  </a:cubicBezTo>
                  <a:cubicBezTo>
                    <a:pt x="1437" y="335"/>
                    <a:pt x="1414" y="281"/>
                    <a:pt x="1404" y="261"/>
                  </a:cubicBezTo>
                  <a:cubicBezTo>
                    <a:pt x="1391" y="234"/>
                    <a:pt x="1361" y="194"/>
                    <a:pt x="1359" y="162"/>
                  </a:cubicBezTo>
                  <a:cubicBezTo>
                    <a:pt x="1356" y="108"/>
                    <a:pt x="1359" y="54"/>
                    <a:pt x="1359" y="0"/>
                  </a:cubicBezTo>
                </a:path>
              </a:pathLst>
            </a:custGeom>
            <a:solidFill>
              <a:srgbClr val="a50021"/>
            </a:solidFill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 flipH="1" rot="3337200">
              <a:off x="3873240" y="3655080"/>
              <a:ext cx="288360" cy="264600"/>
            </a:xfrm>
            <a:custGeom>
              <a:avLst/>
              <a:gdLst/>
              <a:ahLst/>
              <a:rect l="l" t="t" r="r" b="b"/>
              <a:pathLst>
                <a:path w="409" h="385">
                  <a:moveTo>
                    <a:pt x="22" y="33"/>
                  </a:moveTo>
                  <a:cubicBezTo>
                    <a:pt x="25" y="108"/>
                    <a:pt x="0" y="190"/>
                    <a:pt x="31" y="258"/>
                  </a:cubicBezTo>
                  <a:cubicBezTo>
                    <a:pt x="44" y="285"/>
                    <a:pt x="101" y="271"/>
                    <a:pt x="121" y="249"/>
                  </a:cubicBezTo>
                  <a:cubicBezTo>
                    <a:pt x="146" y="222"/>
                    <a:pt x="139" y="141"/>
                    <a:pt x="139" y="141"/>
                  </a:cubicBezTo>
                  <a:cubicBezTo>
                    <a:pt x="215" y="160"/>
                    <a:pt x="183" y="210"/>
                    <a:pt x="193" y="294"/>
                  </a:cubicBezTo>
                  <a:cubicBezTo>
                    <a:pt x="197" y="330"/>
                    <a:pt x="256" y="384"/>
                    <a:pt x="256" y="384"/>
                  </a:cubicBezTo>
                  <a:cubicBezTo>
                    <a:pt x="295" y="381"/>
                    <a:pt x="335" y="385"/>
                    <a:pt x="373" y="375"/>
                  </a:cubicBezTo>
                  <a:cubicBezTo>
                    <a:pt x="383" y="372"/>
                    <a:pt x="389" y="359"/>
                    <a:pt x="391" y="348"/>
                  </a:cubicBezTo>
                  <a:cubicBezTo>
                    <a:pt x="406" y="263"/>
                    <a:pt x="409" y="154"/>
                    <a:pt x="409" y="69"/>
                  </a:cubicBezTo>
                  <a:lnTo>
                    <a:pt x="394" y="0"/>
                  </a:lnTo>
                  <a:lnTo>
                    <a:pt x="22" y="33"/>
                  </a:lnTo>
                  <a:close/>
                </a:path>
              </a:pathLst>
            </a:custGeom>
            <a:solidFill>
              <a:srgbClr val="ffcccc"/>
            </a:solidFill>
            <a:ln w="9360">
              <a:solidFill>
                <a:srgbClr val="ffcc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18801000">
              <a:off x="6732720" y="3686400"/>
              <a:ext cx="288360" cy="266040"/>
            </a:xfrm>
            <a:custGeom>
              <a:avLst/>
              <a:gdLst/>
              <a:ahLst/>
              <a:rect l="l" t="t" r="r" b="b"/>
              <a:pathLst>
                <a:path w="409" h="385">
                  <a:moveTo>
                    <a:pt x="22" y="33"/>
                  </a:moveTo>
                  <a:cubicBezTo>
                    <a:pt x="25" y="108"/>
                    <a:pt x="0" y="190"/>
                    <a:pt x="31" y="258"/>
                  </a:cubicBezTo>
                  <a:cubicBezTo>
                    <a:pt x="44" y="285"/>
                    <a:pt x="101" y="271"/>
                    <a:pt x="121" y="249"/>
                  </a:cubicBezTo>
                  <a:cubicBezTo>
                    <a:pt x="146" y="222"/>
                    <a:pt x="139" y="141"/>
                    <a:pt x="139" y="141"/>
                  </a:cubicBezTo>
                  <a:cubicBezTo>
                    <a:pt x="215" y="160"/>
                    <a:pt x="183" y="210"/>
                    <a:pt x="193" y="294"/>
                  </a:cubicBezTo>
                  <a:cubicBezTo>
                    <a:pt x="197" y="330"/>
                    <a:pt x="256" y="384"/>
                    <a:pt x="256" y="384"/>
                  </a:cubicBezTo>
                  <a:cubicBezTo>
                    <a:pt x="295" y="381"/>
                    <a:pt x="335" y="385"/>
                    <a:pt x="373" y="375"/>
                  </a:cubicBezTo>
                  <a:cubicBezTo>
                    <a:pt x="383" y="372"/>
                    <a:pt x="389" y="359"/>
                    <a:pt x="391" y="348"/>
                  </a:cubicBezTo>
                  <a:cubicBezTo>
                    <a:pt x="406" y="263"/>
                    <a:pt x="409" y="154"/>
                    <a:pt x="409" y="69"/>
                  </a:cubicBezTo>
                  <a:lnTo>
                    <a:pt x="394" y="0"/>
                  </a:lnTo>
                  <a:lnTo>
                    <a:pt x="22" y="33"/>
                  </a:lnTo>
                  <a:close/>
                </a:path>
              </a:pathLst>
            </a:custGeom>
            <a:solidFill>
              <a:srgbClr val="ffcccc"/>
            </a:solidFill>
            <a:ln w="9360">
              <a:solidFill>
                <a:srgbClr val="ffcc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857840" y="6208200"/>
              <a:ext cx="555120" cy="192240"/>
            </a:xfrm>
            <a:prstGeom prst="ellipse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621400" y="6208200"/>
              <a:ext cx="555480" cy="192240"/>
            </a:xfrm>
            <a:prstGeom prst="ellipse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606200" y="2641320"/>
              <a:ext cx="1790280" cy="3753720"/>
            </a:xfrm>
            <a:custGeom>
              <a:avLst/>
              <a:gdLst/>
              <a:ahLst/>
              <a:rect l="l" t="t" r="r" b="b"/>
              <a:pathLst>
                <a:path w="1238" h="2810">
                  <a:moveTo>
                    <a:pt x="174" y="171"/>
                  </a:moveTo>
                  <a:cubicBezTo>
                    <a:pt x="183" y="207"/>
                    <a:pt x="190" y="230"/>
                    <a:pt x="210" y="261"/>
                  </a:cubicBezTo>
                  <a:cubicBezTo>
                    <a:pt x="219" y="566"/>
                    <a:pt x="307" y="575"/>
                    <a:pt x="93" y="594"/>
                  </a:cubicBezTo>
                  <a:cubicBezTo>
                    <a:pt x="10" y="649"/>
                    <a:pt x="0" y="645"/>
                    <a:pt x="75" y="846"/>
                  </a:cubicBezTo>
                  <a:cubicBezTo>
                    <a:pt x="84" y="871"/>
                    <a:pt x="129" y="852"/>
                    <a:pt x="156" y="855"/>
                  </a:cubicBezTo>
                  <a:cubicBezTo>
                    <a:pt x="168" y="902"/>
                    <a:pt x="195" y="936"/>
                    <a:pt x="210" y="981"/>
                  </a:cubicBezTo>
                  <a:cubicBezTo>
                    <a:pt x="219" y="1534"/>
                    <a:pt x="232" y="2073"/>
                    <a:pt x="237" y="2628"/>
                  </a:cubicBezTo>
                  <a:cubicBezTo>
                    <a:pt x="432" y="2626"/>
                    <a:pt x="1238" y="2810"/>
                    <a:pt x="966" y="2538"/>
                  </a:cubicBezTo>
                  <a:cubicBezTo>
                    <a:pt x="953" y="2498"/>
                    <a:pt x="936" y="2456"/>
                    <a:pt x="912" y="2421"/>
                  </a:cubicBezTo>
                  <a:cubicBezTo>
                    <a:pt x="901" y="2379"/>
                    <a:pt x="886" y="2337"/>
                    <a:pt x="876" y="2295"/>
                  </a:cubicBezTo>
                  <a:cubicBezTo>
                    <a:pt x="869" y="2265"/>
                    <a:pt x="875" y="2230"/>
                    <a:pt x="858" y="2205"/>
                  </a:cubicBezTo>
                  <a:cubicBezTo>
                    <a:pt x="835" y="2170"/>
                    <a:pt x="843" y="2188"/>
                    <a:pt x="831" y="2151"/>
                  </a:cubicBezTo>
                  <a:cubicBezTo>
                    <a:pt x="840" y="979"/>
                    <a:pt x="447" y="926"/>
                    <a:pt x="1083" y="900"/>
                  </a:cubicBezTo>
                  <a:cubicBezTo>
                    <a:pt x="1092" y="891"/>
                    <a:pt x="1099" y="880"/>
                    <a:pt x="1110" y="873"/>
                  </a:cubicBezTo>
                  <a:cubicBezTo>
                    <a:pt x="1151" y="846"/>
                    <a:pt x="1129" y="888"/>
                    <a:pt x="1146" y="837"/>
                  </a:cubicBezTo>
                  <a:cubicBezTo>
                    <a:pt x="1143" y="768"/>
                    <a:pt x="1142" y="699"/>
                    <a:pt x="1137" y="630"/>
                  </a:cubicBezTo>
                  <a:cubicBezTo>
                    <a:pt x="1136" y="615"/>
                    <a:pt x="1137" y="597"/>
                    <a:pt x="1128" y="585"/>
                  </a:cubicBezTo>
                  <a:cubicBezTo>
                    <a:pt x="1104" y="554"/>
                    <a:pt x="1055" y="543"/>
                    <a:pt x="1020" y="531"/>
                  </a:cubicBezTo>
                  <a:cubicBezTo>
                    <a:pt x="1011" y="528"/>
                    <a:pt x="993" y="522"/>
                    <a:pt x="993" y="522"/>
                  </a:cubicBezTo>
                  <a:cubicBezTo>
                    <a:pt x="919" y="547"/>
                    <a:pt x="958" y="543"/>
                    <a:pt x="876" y="531"/>
                  </a:cubicBezTo>
                  <a:cubicBezTo>
                    <a:pt x="873" y="398"/>
                    <a:pt x="965" y="107"/>
                    <a:pt x="804" y="0"/>
                  </a:cubicBezTo>
                  <a:cubicBezTo>
                    <a:pt x="783" y="3"/>
                    <a:pt x="762" y="5"/>
                    <a:pt x="741" y="9"/>
                  </a:cubicBezTo>
                  <a:cubicBezTo>
                    <a:pt x="732" y="11"/>
                    <a:pt x="715" y="9"/>
                    <a:pt x="714" y="18"/>
                  </a:cubicBezTo>
                  <a:cubicBezTo>
                    <a:pt x="711" y="37"/>
                    <a:pt x="732" y="72"/>
                    <a:pt x="732" y="72"/>
                  </a:cubicBezTo>
                  <a:cubicBezTo>
                    <a:pt x="729" y="153"/>
                    <a:pt x="731" y="234"/>
                    <a:pt x="723" y="315"/>
                  </a:cubicBezTo>
                  <a:cubicBezTo>
                    <a:pt x="720" y="349"/>
                    <a:pt x="651" y="387"/>
                    <a:pt x="651" y="387"/>
                  </a:cubicBezTo>
                  <a:cubicBezTo>
                    <a:pt x="408" y="376"/>
                    <a:pt x="488" y="413"/>
                    <a:pt x="381" y="306"/>
                  </a:cubicBezTo>
                  <a:cubicBezTo>
                    <a:pt x="362" y="248"/>
                    <a:pt x="343" y="195"/>
                    <a:pt x="309" y="144"/>
                  </a:cubicBezTo>
                  <a:cubicBezTo>
                    <a:pt x="298" y="101"/>
                    <a:pt x="307" y="86"/>
                    <a:pt x="264" y="72"/>
                  </a:cubicBezTo>
                  <a:cubicBezTo>
                    <a:pt x="138" y="81"/>
                    <a:pt x="112" y="56"/>
                    <a:pt x="165" y="135"/>
                  </a:cubicBezTo>
                  <a:cubicBezTo>
                    <a:pt x="165" y="135"/>
                    <a:pt x="179" y="194"/>
                    <a:pt x="183" y="198"/>
                  </a:cubicBezTo>
                  <a:cubicBezTo>
                    <a:pt x="190" y="205"/>
                    <a:pt x="213" y="216"/>
                    <a:pt x="210" y="207"/>
                  </a:cubicBezTo>
                  <a:cubicBezTo>
                    <a:pt x="205" y="191"/>
                    <a:pt x="186" y="183"/>
                    <a:pt x="174" y="171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3479760" y="4648320"/>
            <a:ext cx="2024280" cy="1814040"/>
            <a:chOff x="3479760" y="4648320"/>
            <a:chExt cx="2024280" cy="1814040"/>
          </a:xfrm>
        </p:grpSpPr>
        <p:sp>
          <p:nvSpPr>
            <p:cNvPr id="132" name=""/>
            <p:cNvSpPr/>
            <p:nvPr/>
          </p:nvSpPr>
          <p:spPr>
            <a:xfrm>
              <a:off x="3606840" y="4748040"/>
              <a:ext cx="1897200" cy="1173960"/>
            </a:xfrm>
            <a:custGeom>
              <a:avLst/>
              <a:gdLst/>
              <a:ahLst/>
              <a:rect l="l" t="t" r="r" b="b"/>
              <a:pathLst>
                <a:path w="1195" h="1019">
                  <a:moveTo>
                    <a:pt x="27" y="119"/>
                  </a:moveTo>
                  <a:cubicBezTo>
                    <a:pt x="36" y="92"/>
                    <a:pt x="45" y="65"/>
                    <a:pt x="54" y="38"/>
                  </a:cubicBezTo>
                  <a:cubicBezTo>
                    <a:pt x="63" y="10"/>
                    <a:pt x="135" y="2"/>
                    <a:pt x="135" y="2"/>
                  </a:cubicBezTo>
                  <a:cubicBezTo>
                    <a:pt x="361" y="13"/>
                    <a:pt x="265" y="0"/>
                    <a:pt x="378" y="38"/>
                  </a:cubicBezTo>
                  <a:cubicBezTo>
                    <a:pt x="391" y="77"/>
                    <a:pt x="404" y="115"/>
                    <a:pt x="414" y="155"/>
                  </a:cubicBezTo>
                  <a:cubicBezTo>
                    <a:pt x="424" y="350"/>
                    <a:pt x="385" y="338"/>
                    <a:pt x="549" y="353"/>
                  </a:cubicBezTo>
                  <a:cubicBezTo>
                    <a:pt x="564" y="356"/>
                    <a:pt x="579" y="362"/>
                    <a:pt x="594" y="362"/>
                  </a:cubicBezTo>
                  <a:cubicBezTo>
                    <a:pt x="723" y="362"/>
                    <a:pt x="852" y="361"/>
                    <a:pt x="981" y="353"/>
                  </a:cubicBezTo>
                  <a:cubicBezTo>
                    <a:pt x="1015" y="351"/>
                    <a:pt x="1080" y="236"/>
                    <a:pt x="1107" y="209"/>
                  </a:cubicBezTo>
                  <a:cubicBezTo>
                    <a:pt x="1113" y="191"/>
                    <a:pt x="1119" y="173"/>
                    <a:pt x="1125" y="155"/>
                  </a:cubicBezTo>
                  <a:cubicBezTo>
                    <a:pt x="1128" y="146"/>
                    <a:pt x="1118" y="173"/>
                    <a:pt x="1116" y="182"/>
                  </a:cubicBezTo>
                  <a:cubicBezTo>
                    <a:pt x="1113" y="194"/>
                    <a:pt x="1110" y="206"/>
                    <a:pt x="1107" y="218"/>
                  </a:cubicBezTo>
                  <a:cubicBezTo>
                    <a:pt x="1104" y="399"/>
                    <a:pt x="1195" y="657"/>
                    <a:pt x="1044" y="758"/>
                  </a:cubicBezTo>
                  <a:cubicBezTo>
                    <a:pt x="1023" y="841"/>
                    <a:pt x="1053" y="755"/>
                    <a:pt x="1008" y="812"/>
                  </a:cubicBezTo>
                  <a:cubicBezTo>
                    <a:pt x="1002" y="819"/>
                    <a:pt x="1004" y="831"/>
                    <a:pt x="999" y="839"/>
                  </a:cubicBezTo>
                  <a:cubicBezTo>
                    <a:pt x="992" y="850"/>
                    <a:pt x="980" y="856"/>
                    <a:pt x="972" y="866"/>
                  </a:cubicBezTo>
                  <a:cubicBezTo>
                    <a:pt x="959" y="883"/>
                    <a:pt x="953" y="907"/>
                    <a:pt x="936" y="920"/>
                  </a:cubicBezTo>
                  <a:cubicBezTo>
                    <a:pt x="873" y="967"/>
                    <a:pt x="821" y="994"/>
                    <a:pt x="747" y="1019"/>
                  </a:cubicBezTo>
                  <a:cubicBezTo>
                    <a:pt x="627" y="1016"/>
                    <a:pt x="507" y="1015"/>
                    <a:pt x="387" y="1010"/>
                  </a:cubicBezTo>
                  <a:cubicBezTo>
                    <a:pt x="342" y="1008"/>
                    <a:pt x="357" y="999"/>
                    <a:pt x="324" y="974"/>
                  </a:cubicBezTo>
                  <a:cubicBezTo>
                    <a:pt x="307" y="961"/>
                    <a:pt x="270" y="938"/>
                    <a:pt x="270" y="938"/>
                  </a:cubicBezTo>
                  <a:cubicBezTo>
                    <a:pt x="258" y="920"/>
                    <a:pt x="246" y="902"/>
                    <a:pt x="234" y="884"/>
                  </a:cubicBezTo>
                  <a:cubicBezTo>
                    <a:pt x="229" y="876"/>
                    <a:pt x="231" y="864"/>
                    <a:pt x="225" y="857"/>
                  </a:cubicBezTo>
                  <a:cubicBezTo>
                    <a:pt x="218" y="849"/>
                    <a:pt x="207" y="845"/>
                    <a:pt x="198" y="839"/>
                  </a:cubicBezTo>
                  <a:cubicBezTo>
                    <a:pt x="195" y="830"/>
                    <a:pt x="193" y="820"/>
                    <a:pt x="189" y="812"/>
                  </a:cubicBezTo>
                  <a:cubicBezTo>
                    <a:pt x="184" y="802"/>
                    <a:pt x="175" y="795"/>
                    <a:pt x="171" y="785"/>
                  </a:cubicBezTo>
                  <a:cubicBezTo>
                    <a:pt x="163" y="768"/>
                    <a:pt x="153" y="731"/>
                    <a:pt x="153" y="731"/>
                  </a:cubicBezTo>
                  <a:cubicBezTo>
                    <a:pt x="157" y="632"/>
                    <a:pt x="141" y="452"/>
                    <a:pt x="207" y="353"/>
                  </a:cubicBezTo>
                  <a:cubicBezTo>
                    <a:pt x="199" y="296"/>
                    <a:pt x="202" y="250"/>
                    <a:pt x="153" y="218"/>
                  </a:cubicBezTo>
                  <a:cubicBezTo>
                    <a:pt x="111" y="221"/>
                    <a:pt x="67" y="214"/>
                    <a:pt x="27" y="227"/>
                  </a:cubicBezTo>
                  <a:cubicBezTo>
                    <a:pt x="15" y="231"/>
                    <a:pt x="30" y="263"/>
                    <a:pt x="18" y="263"/>
                  </a:cubicBezTo>
                  <a:cubicBezTo>
                    <a:pt x="5" y="263"/>
                    <a:pt x="6" y="239"/>
                    <a:pt x="0" y="227"/>
                  </a:cubicBezTo>
                  <a:cubicBezTo>
                    <a:pt x="3" y="203"/>
                    <a:pt x="0" y="177"/>
                    <a:pt x="9" y="155"/>
                  </a:cubicBezTo>
                  <a:cubicBezTo>
                    <a:pt x="13" y="145"/>
                    <a:pt x="32" y="147"/>
                    <a:pt x="36" y="137"/>
                  </a:cubicBezTo>
                  <a:cubicBezTo>
                    <a:pt x="40" y="128"/>
                    <a:pt x="31" y="118"/>
                    <a:pt x="27" y="110"/>
                  </a:cubicBezTo>
                  <a:cubicBezTo>
                    <a:pt x="26" y="107"/>
                    <a:pt x="27" y="116"/>
                    <a:pt x="27" y="119"/>
                  </a:cubicBez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3" name=""/>
            <p:cNvGrpSpPr/>
            <p:nvPr/>
          </p:nvGrpSpPr>
          <p:grpSpPr>
            <a:xfrm>
              <a:off x="3759120" y="4803480"/>
              <a:ext cx="304920" cy="110160"/>
              <a:chOff x="3759120" y="4803480"/>
              <a:chExt cx="304920" cy="110160"/>
            </a:xfrm>
          </p:grpSpPr>
          <p:sp>
            <p:nvSpPr>
              <p:cNvPr id="134" name=""/>
              <p:cNvSpPr/>
              <p:nvPr/>
            </p:nvSpPr>
            <p:spPr>
              <a:xfrm>
                <a:off x="3759120" y="4803480"/>
                <a:ext cx="304920" cy="110160"/>
              </a:xfrm>
              <a:prstGeom prst="ellipse">
                <a:avLst/>
              </a:prstGeom>
              <a:solidFill>
                <a:srgbClr val="00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1680" bIns="31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3819960" y="4803480"/>
                <a:ext cx="182880" cy="1101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1680" bIns="31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880800" y="4839840"/>
                <a:ext cx="60840" cy="367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7" name=""/>
            <p:cNvSpPr/>
            <p:nvPr/>
          </p:nvSpPr>
          <p:spPr>
            <a:xfrm rot="12848400">
              <a:off x="3504960" y="4915080"/>
              <a:ext cx="334800" cy="193320"/>
            </a:xfrm>
            <a:prstGeom prst="triangle">
              <a:avLst>
                <a:gd name="adj" fmla="val 50000"/>
              </a:avLst>
            </a:prstGeom>
            <a:solidFill>
              <a:srgbClr val="f0312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749760" y="4648320"/>
              <a:ext cx="414360" cy="134640"/>
            </a:xfrm>
            <a:custGeom>
              <a:avLst/>
              <a:gdLst/>
              <a:ahLst/>
              <a:rect l="l" t="t" r="r" b="b"/>
              <a:pathLst>
                <a:path w="261" h="117">
                  <a:moveTo>
                    <a:pt x="0" y="90"/>
                  </a:moveTo>
                  <a:cubicBezTo>
                    <a:pt x="3" y="69"/>
                    <a:pt x="0" y="46"/>
                    <a:pt x="9" y="27"/>
                  </a:cubicBezTo>
                  <a:cubicBezTo>
                    <a:pt x="13" y="17"/>
                    <a:pt x="26" y="6"/>
                    <a:pt x="36" y="9"/>
                  </a:cubicBezTo>
                  <a:cubicBezTo>
                    <a:pt x="45" y="11"/>
                    <a:pt x="38" y="30"/>
                    <a:pt x="45" y="36"/>
                  </a:cubicBezTo>
                  <a:cubicBezTo>
                    <a:pt x="55" y="44"/>
                    <a:pt x="69" y="42"/>
                    <a:pt x="81" y="45"/>
                  </a:cubicBezTo>
                  <a:cubicBezTo>
                    <a:pt x="176" y="21"/>
                    <a:pt x="64" y="54"/>
                    <a:pt x="144" y="18"/>
                  </a:cubicBezTo>
                  <a:cubicBezTo>
                    <a:pt x="161" y="10"/>
                    <a:pt x="198" y="0"/>
                    <a:pt x="198" y="0"/>
                  </a:cubicBezTo>
                  <a:cubicBezTo>
                    <a:pt x="213" y="3"/>
                    <a:pt x="230" y="1"/>
                    <a:pt x="243" y="9"/>
                  </a:cubicBezTo>
                  <a:cubicBezTo>
                    <a:pt x="261" y="21"/>
                    <a:pt x="248" y="75"/>
                    <a:pt x="243" y="81"/>
                  </a:cubicBezTo>
                  <a:cubicBezTo>
                    <a:pt x="230" y="98"/>
                    <a:pt x="189" y="117"/>
                    <a:pt x="189" y="117"/>
                  </a:cubicBezTo>
                  <a:cubicBezTo>
                    <a:pt x="117" y="99"/>
                    <a:pt x="89" y="96"/>
                    <a:pt x="0" y="90"/>
                  </a:cubicBezTo>
                  <a:close/>
                </a:path>
              </a:pathLst>
            </a:custGeom>
            <a:solidFill>
              <a:srgbClr val="f0312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216320" y="5743800"/>
              <a:ext cx="0" cy="552960"/>
            </a:xfrm>
            <a:prstGeom prst="line">
              <a:avLst/>
            </a:prstGeom>
            <a:ln w="763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902120" y="5688360"/>
              <a:ext cx="0" cy="552600"/>
            </a:xfrm>
            <a:prstGeom prst="line">
              <a:avLst/>
            </a:prstGeom>
            <a:ln w="763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flipH="1">
              <a:off x="3911760" y="6241320"/>
              <a:ext cx="304560" cy="221040"/>
            </a:xfrm>
            <a:prstGeom prst="line">
              <a:avLst/>
            </a:prstGeom>
            <a:ln w="763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216320" y="6241320"/>
              <a:ext cx="304920" cy="165600"/>
            </a:xfrm>
            <a:prstGeom prst="line">
              <a:avLst/>
            </a:prstGeom>
            <a:ln w="763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216320" y="6241320"/>
              <a:ext cx="0" cy="221040"/>
            </a:xfrm>
            <a:prstGeom prst="line">
              <a:avLst/>
            </a:prstGeom>
            <a:ln w="763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>
              <a:off x="4597560" y="6241320"/>
              <a:ext cx="304560" cy="221040"/>
            </a:xfrm>
            <a:prstGeom prst="line">
              <a:avLst/>
            </a:prstGeom>
            <a:ln w="763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902120" y="6241320"/>
              <a:ext cx="304920" cy="165600"/>
            </a:xfrm>
            <a:prstGeom prst="line">
              <a:avLst/>
            </a:prstGeom>
            <a:ln w="763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902120" y="6241320"/>
              <a:ext cx="0" cy="221040"/>
            </a:xfrm>
            <a:prstGeom prst="line">
              <a:avLst/>
            </a:prstGeom>
            <a:ln w="763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135320" y="5353200"/>
              <a:ext cx="1143000" cy="314280"/>
            </a:xfrm>
            <a:custGeom>
              <a:avLst/>
              <a:gdLst/>
              <a:ahLst/>
              <a:rect l="l" t="t" r="r" b="b"/>
              <a:pathLst>
                <a:path w="720" h="273">
                  <a:moveTo>
                    <a:pt x="0" y="0"/>
                  </a:moveTo>
                  <a:cubicBezTo>
                    <a:pt x="20" y="101"/>
                    <a:pt x="64" y="106"/>
                    <a:pt x="135" y="153"/>
                  </a:cubicBezTo>
                  <a:cubicBezTo>
                    <a:pt x="141" y="171"/>
                    <a:pt x="137" y="196"/>
                    <a:pt x="153" y="207"/>
                  </a:cubicBezTo>
                  <a:cubicBezTo>
                    <a:pt x="221" y="253"/>
                    <a:pt x="298" y="258"/>
                    <a:pt x="378" y="270"/>
                  </a:cubicBezTo>
                  <a:cubicBezTo>
                    <a:pt x="489" y="267"/>
                    <a:pt x="601" y="273"/>
                    <a:pt x="711" y="261"/>
                  </a:cubicBezTo>
                  <a:cubicBezTo>
                    <a:pt x="720" y="260"/>
                    <a:pt x="707" y="242"/>
                    <a:pt x="702" y="234"/>
                  </a:cubicBezTo>
                  <a:cubicBezTo>
                    <a:pt x="691" y="215"/>
                    <a:pt x="678" y="198"/>
                    <a:pt x="666" y="180"/>
                  </a:cubicBezTo>
                  <a:cubicBezTo>
                    <a:pt x="622" y="115"/>
                    <a:pt x="549" y="90"/>
                    <a:pt x="495" y="3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248520" y="1523880"/>
            <a:ext cx="2743200" cy="457200"/>
          </a:xfrm>
          <a:prstGeom prst="rect">
            <a:avLst/>
          </a:prstGeom>
          <a:solidFill>
            <a:srgbClr val="cc0099"/>
          </a:solidFill>
          <a:ln w="9360">
            <a:solidFill>
              <a:srgbClr val="f031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705720" y="838080"/>
            <a:ext cx="2057400" cy="1143000"/>
          </a:xfrm>
          <a:prstGeom prst="ellipse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858000" y="990720"/>
            <a:ext cx="1676520" cy="838080"/>
          </a:xfrm>
          <a:prstGeom prst="ellipse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315200" y="1066680"/>
            <a:ext cx="380880" cy="381240"/>
          </a:xfrm>
          <a:prstGeom prst="ellipse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696080" y="1295280"/>
            <a:ext cx="381240" cy="381240"/>
          </a:xfrm>
          <a:prstGeom prst="ellipse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04920" y="990720"/>
            <a:ext cx="883908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Жили - были Дед да Баба,</a:t>
            </a:r>
            <a:endParaRPr b="1" i="1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И была у них КУрочка Ряба.</a:t>
            </a:r>
            <a:endParaRPr b="1" i="1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385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" dur="385" fill="hold"/>
                                        <p:tgtEl>
                                          <p:spTgt spid="15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8" dur="385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0" dur="385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867280" y="2209680"/>
            <a:ext cx="2743200" cy="457200"/>
          </a:xfrm>
          <a:prstGeom prst="rect">
            <a:avLst/>
          </a:prstGeom>
          <a:solidFill>
            <a:srgbClr val="cc0099"/>
          </a:solidFill>
          <a:ln w="9360">
            <a:solidFill>
              <a:srgbClr val="f031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019920" y="1523880"/>
            <a:ext cx="2057400" cy="114300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172200" y="1676520"/>
            <a:ext cx="1676520" cy="83808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781680" y="1828800"/>
            <a:ext cx="381240" cy="45720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ffcc"/>
              </a:gs>
            </a:gsLst>
            <a:lin ang="1350000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0" y="1295280"/>
            <a:ext cx="3688920" cy="5333760"/>
            <a:chOff x="0" y="1295280"/>
            <a:chExt cx="3688920" cy="5333760"/>
          </a:xfrm>
        </p:grpSpPr>
        <p:grpSp>
          <p:nvGrpSpPr>
            <p:cNvPr id="159" name=""/>
            <p:cNvGrpSpPr/>
            <p:nvPr/>
          </p:nvGrpSpPr>
          <p:grpSpPr>
            <a:xfrm>
              <a:off x="0" y="1295280"/>
              <a:ext cx="3105720" cy="3123720"/>
              <a:chOff x="0" y="1295280"/>
              <a:chExt cx="3105720" cy="3123720"/>
            </a:xfrm>
          </p:grpSpPr>
          <p:grpSp>
            <p:nvGrpSpPr>
              <p:cNvPr id="160" name=""/>
              <p:cNvGrpSpPr/>
              <p:nvPr/>
            </p:nvGrpSpPr>
            <p:grpSpPr>
              <a:xfrm>
                <a:off x="661320" y="1295280"/>
                <a:ext cx="1302840" cy="1515240"/>
                <a:chOff x="661320" y="1295280"/>
                <a:chExt cx="1302840" cy="1515240"/>
              </a:xfrm>
            </p:grpSpPr>
            <p:sp>
              <p:nvSpPr>
                <p:cNvPr id="161" name=""/>
                <p:cNvSpPr/>
                <p:nvPr/>
              </p:nvSpPr>
              <p:spPr>
                <a:xfrm>
                  <a:off x="755280" y="1395720"/>
                  <a:ext cx="1128240" cy="1125720"/>
                </a:xfrm>
                <a:prstGeom prst="smileyFace">
                  <a:avLst>
                    <a:gd name="adj" fmla="val 9282"/>
                  </a:avLst>
                </a:prstGeom>
                <a:solidFill>
                  <a:srgbClr val="ffcccc"/>
                </a:solidFill>
                <a:ln w="9360">
                  <a:solidFill>
                    <a:srgbClr val="ffcc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755280" y="2013120"/>
                  <a:ext cx="1149120" cy="797400"/>
                </a:xfrm>
                <a:custGeom>
                  <a:avLst/>
                  <a:gdLst/>
                  <a:ahLst/>
                  <a:rect l="l" t="t" r="r" b="b"/>
                  <a:pathLst>
                    <a:path w="1369" h="995">
                      <a:moveTo>
                        <a:pt x="30" y="103"/>
                      </a:moveTo>
                      <a:cubicBezTo>
                        <a:pt x="112" y="91"/>
                        <a:pt x="73" y="101"/>
                        <a:pt x="147" y="76"/>
                      </a:cubicBezTo>
                      <a:cubicBezTo>
                        <a:pt x="165" y="70"/>
                        <a:pt x="201" y="58"/>
                        <a:pt x="201" y="58"/>
                      </a:cubicBezTo>
                      <a:cubicBezTo>
                        <a:pt x="376" y="83"/>
                        <a:pt x="240" y="87"/>
                        <a:pt x="534" y="76"/>
                      </a:cubicBezTo>
                      <a:cubicBezTo>
                        <a:pt x="659" y="34"/>
                        <a:pt x="522" y="46"/>
                        <a:pt x="795" y="58"/>
                      </a:cubicBezTo>
                      <a:cubicBezTo>
                        <a:pt x="839" y="73"/>
                        <a:pt x="876" y="85"/>
                        <a:pt x="921" y="94"/>
                      </a:cubicBezTo>
                      <a:cubicBezTo>
                        <a:pt x="957" y="91"/>
                        <a:pt x="994" y="92"/>
                        <a:pt x="1029" y="85"/>
                      </a:cubicBezTo>
                      <a:cubicBezTo>
                        <a:pt x="1040" y="83"/>
                        <a:pt x="1046" y="71"/>
                        <a:pt x="1056" y="67"/>
                      </a:cubicBezTo>
                      <a:cubicBezTo>
                        <a:pt x="1079" y="59"/>
                        <a:pt x="1128" y="49"/>
                        <a:pt x="1128" y="49"/>
                      </a:cubicBezTo>
                      <a:cubicBezTo>
                        <a:pt x="1369" y="59"/>
                        <a:pt x="1313" y="0"/>
                        <a:pt x="1353" y="121"/>
                      </a:cubicBezTo>
                      <a:cubicBezTo>
                        <a:pt x="1347" y="213"/>
                        <a:pt x="1354" y="493"/>
                        <a:pt x="1236" y="571"/>
                      </a:cubicBezTo>
                      <a:cubicBezTo>
                        <a:pt x="1213" y="639"/>
                        <a:pt x="1192" y="704"/>
                        <a:pt x="1164" y="769"/>
                      </a:cubicBezTo>
                      <a:cubicBezTo>
                        <a:pt x="1145" y="813"/>
                        <a:pt x="1137" y="868"/>
                        <a:pt x="1101" y="904"/>
                      </a:cubicBezTo>
                      <a:cubicBezTo>
                        <a:pt x="1086" y="919"/>
                        <a:pt x="1065" y="928"/>
                        <a:pt x="1047" y="940"/>
                      </a:cubicBezTo>
                      <a:cubicBezTo>
                        <a:pt x="965" y="995"/>
                        <a:pt x="849" y="946"/>
                        <a:pt x="750" y="949"/>
                      </a:cubicBezTo>
                      <a:cubicBezTo>
                        <a:pt x="613" y="966"/>
                        <a:pt x="662" y="964"/>
                        <a:pt x="444" y="949"/>
                      </a:cubicBezTo>
                      <a:cubicBezTo>
                        <a:pt x="411" y="947"/>
                        <a:pt x="379" y="920"/>
                        <a:pt x="345" y="913"/>
                      </a:cubicBezTo>
                      <a:cubicBezTo>
                        <a:pt x="311" y="890"/>
                        <a:pt x="272" y="879"/>
                        <a:pt x="237" y="859"/>
                      </a:cubicBezTo>
                      <a:cubicBezTo>
                        <a:pt x="218" y="848"/>
                        <a:pt x="183" y="823"/>
                        <a:pt x="183" y="823"/>
                      </a:cubicBezTo>
                      <a:cubicBezTo>
                        <a:pt x="176" y="801"/>
                        <a:pt x="163" y="782"/>
                        <a:pt x="156" y="760"/>
                      </a:cubicBezTo>
                      <a:cubicBezTo>
                        <a:pt x="151" y="743"/>
                        <a:pt x="154" y="723"/>
                        <a:pt x="147" y="706"/>
                      </a:cubicBezTo>
                      <a:cubicBezTo>
                        <a:pt x="137" y="682"/>
                        <a:pt x="114" y="666"/>
                        <a:pt x="102" y="643"/>
                      </a:cubicBezTo>
                      <a:cubicBezTo>
                        <a:pt x="78" y="599"/>
                        <a:pt x="52" y="553"/>
                        <a:pt x="30" y="508"/>
                      </a:cubicBezTo>
                      <a:cubicBezTo>
                        <a:pt x="27" y="472"/>
                        <a:pt x="28" y="435"/>
                        <a:pt x="21" y="400"/>
                      </a:cubicBezTo>
                      <a:cubicBezTo>
                        <a:pt x="19" y="389"/>
                        <a:pt x="3" y="384"/>
                        <a:pt x="3" y="373"/>
                      </a:cubicBezTo>
                      <a:cubicBezTo>
                        <a:pt x="0" y="298"/>
                        <a:pt x="1" y="222"/>
                        <a:pt x="12" y="148"/>
                      </a:cubicBezTo>
                      <a:cubicBezTo>
                        <a:pt x="25" y="59"/>
                        <a:pt x="62" y="198"/>
                        <a:pt x="30" y="103"/>
                      </a:cubicBezTo>
                      <a:close/>
                    </a:path>
                  </a:pathLst>
                </a:custGeom>
                <a:solidFill>
                  <a:srgbClr val="eaeaea"/>
                </a:solidFill>
                <a:ln w="9360">
                  <a:solidFill>
                    <a:srgbClr val="eaeaea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 flipH="1">
                  <a:off x="1036800" y="1649880"/>
                  <a:ext cx="241560" cy="254160"/>
                </a:xfrm>
                <a:prstGeom prst="ellipse">
                  <a:avLst/>
                </a:prstGeom>
                <a:solidFill>
                  <a:srgbClr val="00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1440360" y="1649880"/>
                  <a:ext cx="241560" cy="254160"/>
                </a:xfrm>
                <a:prstGeom prst="ellipse">
                  <a:avLst/>
                </a:prstGeom>
                <a:solidFill>
                  <a:srgbClr val="00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1275120" y="2291040"/>
                  <a:ext cx="117360" cy="66240"/>
                </a:xfrm>
                <a:custGeom>
                  <a:avLst/>
                  <a:gdLst/>
                  <a:ahLst/>
                  <a:rect l="l" t="t" r="r" b="b"/>
                  <a:pathLst>
                    <a:path w="140" h="88">
                      <a:moveTo>
                        <a:pt x="5" y="2"/>
                      </a:moveTo>
                      <a:cubicBezTo>
                        <a:pt x="25" y="83"/>
                        <a:pt x="0" y="66"/>
                        <a:pt x="50" y="83"/>
                      </a:cubicBezTo>
                      <a:cubicBezTo>
                        <a:pt x="74" y="80"/>
                        <a:pt x="102" y="88"/>
                        <a:pt x="122" y="74"/>
                      </a:cubicBezTo>
                      <a:cubicBezTo>
                        <a:pt x="138" y="63"/>
                        <a:pt x="140" y="20"/>
                        <a:pt x="140" y="20"/>
                      </a:cubicBezTo>
                      <a:cubicBezTo>
                        <a:pt x="79" y="0"/>
                        <a:pt x="122" y="12"/>
                        <a:pt x="5" y="2"/>
                      </a:cubicBezTo>
                      <a:close/>
                    </a:path>
                  </a:pathLst>
                </a:custGeom>
                <a:solidFill>
                  <a:srgbClr val="fc4614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440" bIns="19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1037520" y="1722600"/>
                  <a:ext cx="201240" cy="1814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1077840" y="1758960"/>
                  <a:ext cx="120600" cy="1087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240" bIns="302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1440360" y="1722600"/>
                  <a:ext cx="201240" cy="1814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1480680" y="1758960"/>
                  <a:ext cx="120600" cy="1087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240" bIns="302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661320" y="1295280"/>
                  <a:ext cx="1302840" cy="863280"/>
                </a:xfrm>
                <a:custGeom>
                  <a:avLst/>
                  <a:gdLst/>
                  <a:ahLst/>
                  <a:rect l="l" t="t" r="r" b="b"/>
                  <a:pathLst>
                    <a:path w="1484" h="1092">
                      <a:moveTo>
                        <a:pt x="196" y="1028"/>
                      </a:moveTo>
                      <a:cubicBezTo>
                        <a:pt x="186" y="987"/>
                        <a:pt x="166" y="947"/>
                        <a:pt x="142" y="911"/>
                      </a:cubicBezTo>
                      <a:cubicBezTo>
                        <a:pt x="148" y="729"/>
                        <a:pt x="127" y="654"/>
                        <a:pt x="214" y="524"/>
                      </a:cubicBezTo>
                      <a:cubicBezTo>
                        <a:pt x="228" y="503"/>
                        <a:pt x="256" y="494"/>
                        <a:pt x="277" y="479"/>
                      </a:cubicBezTo>
                      <a:cubicBezTo>
                        <a:pt x="292" y="433"/>
                        <a:pt x="277" y="380"/>
                        <a:pt x="295" y="335"/>
                      </a:cubicBezTo>
                      <a:cubicBezTo>
                        <a:pt x="319" y="277"/>
                        <a:pt x="484" y="282"/>
                        <a:pt x="502" y="281"/>
                      </a:cubicBezTo>
                      <a:cubicBezTo>
                        <a:pt x="539" y="269"/>
                        <a:pt x="577" y="249"/>
                        <a:pt x="610" y="227"/>
                      </a:cubicBezTo>
                      <a:cubicBezTo>
                        <a:pt x="631" y="230"/>
                        <a:pt x="659" y="220"/>
                        <a:pt x="673" y="236"/>
                      </a:cubicBezTo>
                      <a:cubicBezTo>
                        <a:pt x="689" y="254"/>
                        <a:pt x="673" y="286"/>
                        <a:pt x="682" y="308"/>
                      </a:cubicBezTo>
                      <a:cubicBezTo>
                        <a:pt x="686" y="318"/>
                        <a:pt x="700" y="320"/>
                        <a:pt x="709" y="326"/>
                      </a:cubicBezTo>
                      <a:cubicBezTo>
                        <a:pt x="741" y="304"/>
                        <a:pt x="744" y="282"/>
                        <a:pt x="772" y="254"/>
                      </a:cubicBezTo>
                      <a:cubicBezTo>
                        <a:pt x="778" y="263"/>
                        <a:pt x="785" y="271"/>
                        <a:pt x="790" y="281"/>
                      </a:cubicBezTo>
                      <a:cubicBezTo>
                        <a:pt x="794" y="289"/>
                        <a:pt x="790" y="309"/>
                        <a:pt x="799" y="308"/>
                      </a:cubicBezTo>
                      <a:cubicBezTo>
                        <a:pt x="820" y="305"/>
                        <a:pt x="835" y="284"/>
                        <a:pt x="853" y="272"/>
                      </a:cubicBezTo>
                      <a:cubicBezTo>
                        <a:pt x="896" y="243"/>
                        <a:pt x="870" y="257"/>
                        <a:pt x="934" y="236"/>
                      </a:cubicBezTo>
                      <a:cubicBezTo>
                        <a:pt x="943" y="233"/>
                        <a:pt x="907" y="245"/>
                        <a:pt x="907" y="245"/>
                      </a:cubicBezTo>
                      <a:cubicBezTo>
                        <a:pt x="904" y="257"/>
                        <a:pt x="902" y="269"/>
                        <a:pt x="898" y="281"/>
                      </a:cubicBezTo>
                      <a:cubicBezTo>
                        <a:pt x="893" y="299"/>
                        <a:pt x="880" y="335"/>
                        <a:pt x="880" y="335"/>
                      </a:cubicBezTo>
                      <a:cubicBezTo>
                        <a:pt x="883" y="356"/>
                        <a:pt x="868" y="395"/>
                        <a:pt x="889" y="398"/>
                      </a:cubicBezTo>
                      <a:cubicBezTo>
                        <a:pt x="914" y="402"/>
                        <a:pt x="925" y="362"/>
                        <a:pt x="943" y="344"/>
                      </a:cubicBezTo>
                      <a:cubicBezTo>
                        <a:pt x="950" y="337"/>
                        <a:pt x="961" y="338"/>
                        <a:pt x="970" y="335"/>
                      </a:cubicBezTo>
                      <a:cubicBezTo>
                        <a:pt x="980" y="328"/>
                        <a:pt x="1026" y="290"/>
                        <a:pt x="1042" y="290"/>
                      </a:cubicBezTo>
                      <a:cubicBezTo>
                        <a:pt x="1053" y="290"/>
                        <a:pt x="1059" y="304"/>
                        <a:pt x="1069" y="308"/>
                      </a:cubicBezTo>
                      <a:cubicBezTo>
                        <a:pt x="1086" y="316"/>
                        <a:pt x="1123" y="326"/>
                        <a:pt x="1123" y="326"/>
                      </a:cubicBezTo>
                      <a:cubicBezTo>
                        <a:pt x="1150" y="353"/>
                        <a:pt x="1168" y="368"/>
                        <a:pt x="1204" y="380"/>
                      </a:cubicBezTo>
                      <a:cubicBezTo>
                        <a:pt x="1214" y="410"/>
                        <a:pt x="1221" y="440"/>
                        <a:pt x="1231" y="470"/>
                      </a:cubicBezTo>
                      <a:cubicBezTo>
                        <a:pt x="1234" y="506"/>
                        <a:pt x="1234" y="542"/>
                        <a:pt x="1240" y="578"/>
                      </a:cubicBezTo>
                      <a:cubicBezTo>
                        <a:pt x="1245" y="606"/>
                        <a:pt x="1258" y="632"/>
                        <a:pt x="1267" y="659"/>
                      </a:cubicBezTo>
                      <a:cubicBezTo>
                        <a:pt x="1286" y="715"/>
                        <a:pt x="1296" y="780"/>
                        <a:pt x="1303" y="839"/>
                      </a:cubicBezTo>
                      <a:cubicBezTo>
                        <a:pt x="1310" y="897"/>
                        <a:pt x="1299" y="941"/>
                        <a:pt x="1348" y="974"/>
                      </a:cubicBezTo>
                      <a:cubicBezTo>
                        <a:pt x="1366" y="1029"/>
                        <a:pt x="1392" y="1009"/>
                        <a:pt x="1447" y="1001"/>
                      </a:cubicBezTo>
                      <a:cubicBezTo>
                        <a:pt x="1484" y="891"/>
                        <a:pt x="1463" y="964"/>
                        <a:pt x="1447" y="704"/>
                      </a:cubicBezTo>
                      <a:cubicBezTo>
                        <a:pt x="1444" y="651"/>
                        <a:pt x="1389" y="607"/>
                        <a:pt x="1357" y="569"/>
                      </a:cubicBezTo>
                      <a:cubicBezTo>
                        <a:pt x="1335" y="542"/>
                        <a:pt x="1329" y="509"/>
                        <a:pt x="1312" y="479"/>
                      </a:cubicBezTo>
                      <a:cubicBezTo>
                        <a:pt x="1277" y="417"/>
                        <a:pt x="1245" y="353"/>
                        <a:pt x="1213" y="290"/>
                      </a:cubicBezTo>
                      <a:cubicBezTo>
                        <a:pt x="1197" y="257"/>
                        <a:pt x="1182" y="203"/>
                        <a:pt x="1150" y="182"/>
                      </a:cubicBezTo>
                      <a:cubicBezTo>
                        <a:pt x="1092" y="143"/>
                        <a:pt x="1033" y="105"/>
                        <a:pt x="970" y="74"/>
                      </a:cubicBezTo>
                      <a:cubicBezTo>
                        <a:pt x="909" y="44"/>
                        <a:pt x="842" y="32"/>
                        <a:pt x="781" y="2"/>
                      </a:cubicBezTo>
                      <a:cubicBezTo>
                        <a:pt x="721" y="5"/>
                        <a:pt x="660" y="0"/>
                        <a:pt x="601" y="11"/>
                      </a:cubicBezTo>
                      <a:cubicBezTo>
                        <a:pt x="601" y="11"/>
                        <a:pt x="534" y="56"/>
                        <a:pt x="520" y="65"/>
                      </a:cubicBezTo>
                      <a:cubicBezTo>
                        <a:pt x="511" y="71"/>
                        <a:pt x="493" y="83"/>
                        <a:pt x="493" y="83"/>
                      </a:cubicBezTo>
                      <a:cubicBezTo>
                        <a:pt x="474" y="111"/>
                        <a:pt x="448" y="134"/>
                        <a:pt x="421" y="155"/>
                      </a:cubicBezTo>
                      <a:cubicBezTo>
                        <a:pt x="404" y="168"/>
                        <a:pt x="367" y="191"/>
                        <a:pt x="367" y="191"/>
                      </a:cubicBezTo>
                      <a:cubicBezTo>
                        <a:pt x="325" y="274"/>
                        <a:pt x="293" y="375"/>
                        <a:pt x="196" y="407"/>
                      </a:cubicBezTo>
                      <a:cubicBezTo>
                        <a:pt x="190" y="416"/>
                        <a:pt x="186" y="426"/>
                        <a:pt x="178" y="434"/>
                      </a:cubicBezTo>
                      <a:cubicBezTo>
                        <a:pt x="170" y="442"/>
                        <a:pt x="158" y="444"/>
                        <a:pt x="151" y="452"/>
                      </a:cubicBezTo>
                      <a:cubicBezTo>
                        <a:pt x="145" y="459"/>
                        <a:pt x="147" y="471"/>
                        <a:pt x="142" y="479"/>
                      </a:cubicBezTo>
                      <a:cubicBezTo>
                        <a:pt x="135" y="490"/>
                        <a:pt x="122" y="495"/>
                        <a:pt x="115" y="506"/>
                      </a:cubicBezTo>
                      <a:cubicBezTo>
                        <a:pt x="101" y="529"/>
                        <a:pt x="94" y="556"/>
                        <a:pt x="79" y="578"/>
                      </a:cubicBezTo>
                      <a:cubicBezTo>
                        <a:pt x="73" y="587"/>
                        <a:pt x="67" y="596"/>
                        <a:pt x="61" y="605"/>
                      </a:cubicBezTo>
                      <a:cubicBezTo>
                        <a:pt x="33" y="716"/>
                        <a:pt x="27" y="833"/>
                        <a:pt x="16" y="947"/>
                      </a:cubicBezTo>
                      <a:cubicBezTo>
                        <a:pt x="29" y="1092"/>
                        <a:pt x="0" y="1029"/>
                        <a:pt x="106" y="1064"/>
                      </a:cubicBezTo>
                      <a:cubicBezTo>
                        <a:pt x="308" y="1047"/>
                        <a:pt x="209" y="1087"/>
                        <a:pt x="196" y="1028"/>
                      </a:cubicBezTo>
                      <a:cubicBezTo>
                        <a:pt x="192" y="1010"/>
                        <a:pt x="196" y="992"/>
                        <a:pt x="196" y="974"/>
                      </a:cubicBezTo>
                    </a:path>
                  </a:pathLst>
                </a:custGeom>
                <a:solidFill>
                  <a:srgbClr val="eaeaea"/>
                </a:solidFill>
                <a:ln w="9360">
                  <a:solidFill>
                    <a:srgbClr val="eaeaea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"/>
              <p:cNvSpPr/>
              <p:nvPr/>
            </p:nvSpPr>
            <p:spPr>
              <a:xfrm>
                <a:off x="0" y="2352960"/>
                <a:ext cx="3079440" cy="2066040"/>
              </a:xfrm>
              <a:custGeom>
                <a:avLst/>
                <a:gdLst/>
                <a:ahLst/>
                <a:rect l="l" t="t" r="r" b="b"/>
                <a:pathLst>
                  <a:path w="3414" h="2586">
                    <a:moveTo>
                      <a:pt x="1034" y="300"/>
                    </a:moveTo>
                    <a:cubicBezTo>
                      <a:pt x="852" y="239"/>
                      <a:pt x="644" y="322"/>
                      <a:pt x="458" y="336"/>
                    </a:cubicBezTo>
                    <a:cubicBezTo>
                      <a:pt x="421" y="354"/>
                      <a:pt x="397" y="370"/>
                      <a:pt x="368" y="399"/>
                    </a:cubicBezTo>
                    <a:cubicBezTo>
                      <a:pt x="365" y="411"/>
                      <a:pt x="367" y="425"/>
                      <a:pt x="359" y="435"/>
                    </a:cubicBezTo>
                    <a:cubicBezTo>
                      <a:pt x="353" y="442"/>
                      <a:pt x="341" y="440"/>
                      <a:pt x="332" y="444"/>
                    </a:cubicBezTo>
                    <a:cubicBezTo>
                      <a:pt x="320" y="449"/>
                      <a:pt x="307" y="455"/>
                      <a:pt x="296" y="462"/>
                    </a:cubicBezTo>
                    <a:cubicBezTo>
                      <a:pt x="264" y="482"/>
                      <a:pt x="233" y="507"/>
                      <a:pt x="206" y="534"/>
                    </a:cubicBezTo>
                    <a:cubicBezTo>
                      <a:pt x="180" y="611"/>
                      <a:pt x="217" y="493"/>
                      <a:pt x="188" y="669"/>
                    </a:cubicBezTo>
                    <a:cubicBezTo>
                      <a:pt x="185" y="688"/>
                      <a:pt x="175" y="705"/>
                      <a:pt x="170" y="723"/>
                    </a:cubicBezTo>
                    <a:cubicBezTo>
                      <a:pt x="153" y="792"/>
                      <a:pt x="136" y="861"/>
                      <a:pt x="116" y="930"/>
                    </a:cubicBezTo>
                    <a:cubicBezTo>
                      <a:pt x="99" y="990"/>
                      <a:pt x="91" y="1051"/>
                      <a:pt x="71" y="1110"/>
                    </a:cubicBezTo>
                    <a:cubicBezTo>
                      <a:pt x="59" y="1197"/>
                      <a:pt x="52" y="1284"/>
                      <a:pt x="35" y="1371"/>
                    </a:cubicBezTo>
                    <a:cubicBezTo>
                      <a:pt x="29" y="1477"/>
                      <a:pt x="25" y="1581"/>
                      <a:pt x="8" y="1686"/>
                    </a:cubicBezTo>
                    <a:cubicBezTo>
                      <a:pt x="11" y="1776"/>
                      <a:pt x="0" y="1868"/>
                      <a:pt x="17" y="1956"/>
                    </a:cubicBezTo>
                    <a:cubicBezTo>
                      <a:pt x="20" y="1971"/>
                      <a:pt x="47" y="1962"/>
                      <a:pt x="62" y="1965"/>
                    </a:cubicBezTo>
                    <a:cubicBezTo>
                      <a:pt x="98" y="1973"/>
                      <a:pt x="127" y="1990"/>
                      <a:pt x="161" y="2001"/>
                    </a:cubicBezTo>
                    <a:cubicBezTo>
                      <a:pt x="239" y="1998"/>
                      <a:pt x="317" y="1997"/>
                      <a:pt x="395" y="1992"/>
                    </a:cubicBezTo>
                    <a:cubicBezTo>
                      <a:pt x="454" y="1988"/>
                      <a:pt x="516" y="1959"/>
                      <a:pt x="575" y="1947"/>
                    </a:cubicBezTo>
                    <a:cubicBezTo>
                      <a:pt x="603" y="1862"/>
                      <a:pt x="591" y="1912"/>
                      <a:pt x="602" y="1794"/>
                    </a:cubicBezTo>
                    <a:cubicBezTo>
                      <a:pt x="608" y="1553"/>
                      <a:pt x="520" y="1425"/>
                      <a:pt x="710" y="1362"/>
                    </a:cubicBezTo>
                    <a:cubicBezTo>
                      <a:pt x="734" y="1291"/>
                      <a:pt x="824" y="1275"/>
                      <a:pt x="872" y="1227"/>
                    </a:cubicBezTo>
                    <a:lnTo>
                      <a:pt x="740" y="2586"/>
                    </a:lnTo>
                    <a:lnTo>
                      <a:pt x="2612" y="2586"/>
                    </a:lnTo>
                    <a:cubicBezTo>
                      <a:pt x="2486" y="2097"/>
                      <a:pt x="1822" y="979"/>
                      <a:pt x="2312" y="1101"/>
                    </a:cubicBezTo>
                    <a:cubicBezTo>
                      <a:pt x="2381" y="1147"/>
                      <a:pt x="2389" y="1178"/>
                      <a:pt x="2447" y="1236"/>
                    </a:cubicBezTo>
                    <a:cubicBezTo>
                      <a:pt x="2473" y="1313"/>
                      <a:pt x="2447" y="1229"/>
                      <a:pt x="2465" y="1407"/>
                    </a:cubicBezTo>
                    <a:cubicBezTo>
                      <a:pt x="2469" y="1446"/>
                      <a:pt x="2495" y="1471"/>
                      <a:pt x="2510" y="1506"/>
                    </a:cubicBezTo>
                    <a:cubicBezTo>
                      <a:pt x="2549" y="1596"/>
                      <a:pt x="2568" y="1687"/>
                      <a:pt x="2672" y="1722"/>
                    </a:cubicBezTo>
                    <a:cubicBezTo>
                      <a:pt x="2744" y="1719"/>
                      <a:pt x="2816" y="1718"/>
                      <a:pt x="2888" y="1713"/>
                    </a:cubicBezTo>
                    <a:cubicBezTo>
                      <a:pt x="2921" y="1711"/>
                      <a:pt x="2917" y="1696"/>
                      <a:pt x="2942" y="1677"/>
                    </a:cubicBezTo>
                    <a:cubicBezTo>
                      <a:pt x="2991" y="1639"/>
                      <a:pt x="3055" y="1597"/>
                      <a:pt x="3113" y="1578"/>
                    </a:cubicBezTo>
                    <a:cubicBezTo>
                      <a:pt x="3122" y="1569"/>
                      <a:pt x="3129" y="1558"/>
                      <a:pt x="3140" y="1551"/>
                    </a:cubicBezTo>
                    <a:cubicBezTo>
                      <a:pt x="3148" y="1546"/>
                      <a:pt x="3160" y="1548"/>
                      <a:pt x="3167" y="1542"/>
                    </a:cubicBezTo>
                    <a:cubicBezTo>
                      <a:pt x="3175" y="1535"/>
                      <a:pt x="3176" y="1521"/>
                      <a:pt x="3185" y="1515"/>
                    </a:cubicBezTo>
                    <a:cubicBezTo>
                      <a:pt x="3201" y="1505"/>
                      <a:pt x="3221" y="1503"/>
                      <a:pt x="3239" y="1497"/>
                    </a:cubicBezTo>
                    <a:cubicBezTo>
                      <a:pt x="3281" y="1483"/>
                      <a:pt x="3328" y="1450"/>
                      <a:pt x="3365" y="1425"/>
                    </a:cubicBezTo>
                    <a:cubicBezTo>
                      <a:pt x="3359" y="1245"/>
                      <a:pt x="3414" y="1143"/>
                      <a:pt x="3248" y="1110"/>
                    </a:cubicBezTo>
                    <a:cubicBezTo>
                      <a:pt x="3209" y="1084"/>
                      <a:pt x="3178" y="1054"/>
                      <a:pt x="3140" y="1029"/>
                    </a:cubicBezTo>
                    <a:cubicBezTo>
                      <a:pt x="3105" y="976"/>
                      <a:pt x="3087" y="952"/>
                      <a:pt x="3068" y="894"/>
                    </a:cubicBezTo>
                    <a:cubicBezTo>
                      <a:pt x="3065" y="884"/>
                      <a:pt x="3049" y="884"/>
                      <a:pt x="3041" y="876"/>
                    </a:cubicBezTo>
                    <a:cubicBezTo>
                      <a:pt x="3030" y="865"/>
                      <a:pt x="3026" y="850"/>
                      <a:pt x="3014" y="840"/>
                    </a:cubicBezTo>
                    <a:cubicBezTo>
                      <a:pt x="2999" y="827"/>
                      <a:pt x="2975" y="826"/>
                      <a:pt x="2960" y="813"/>
                    </a:cubicBezTo>
                    <a:cubicBezTo>
                      <a:pt x="2928" y="786"/>
                      <a:pt x="2908" y="769"/>
                      <a:pt x="2870" y="750"/>
                    </a:cubicBezTo>
                    <a:cubicBezTo>
                      <a:pt x="2837" y="700"/>
                      <a:pt x="2783" y="674"/>
                      <a:pt x="2726" y="660"/>
                    </a:cubicBezTo>
                    <a:cubicBezTo>
                      <a:pt x="2717" y="654"/>
                      <a:pt x="2709" y="647"/>
                      <a:pt x="2699" y="642"/>
                    </a:cubicBezTo>
                    <a:cubicBezTo>
                      <a:pt x="2691" y="638"/>
                      <a:pt x="2673" y="642"/>
                      <a:pt x="2672" y="633"/>
                    </a:cubicBezTo>
                    <a:cubicBezTo>
                      <a:pt x="2663" y="559"/>
                      <a:pt x="2656" y="485"/>
                      <a:pt x="2726" y="462"/>
                    </a:cubicBezTo>
                    <a:cubicBezTo>
                      <a:pt x="2738" y="426"/>
                      <a:pt x="2757" y="402"/>
                      <a:pt x="2780" y="372"/>
                    </a:cubicBezTo>
                    <a:cubicBezTo>
                      <a:pt x="2800" y="294"/>
                      <a:pt x="2816" y="265"/>
                      <a:pt x="2780" y="174"/>
                    </a:cubicBezTo>
                    <a:cubicBezTo>
                      <a:pt x="2775" y="163"/>
                      <a:pt x="2756" y="168"/>
                      <a:pt x="2744" y="165"/>
                    </a:cubicBezTo>
                    <a:cubicBezTo>
                      <a:pt x="2705" y="154"/>
                      <a:pt x="2663" y="129"/>
                      <a:pt x="2627" y="111"/>
                    </a:cubicBezTo>
                    <a:cubicBezTo>
                      <a:pt x="2404" y="0"/>
                      <a:pt x="2521" y="48"/>
                      <a:pt x="2087" y="48"/>
                    </a:cubicBezTo>
                  </a:path>
                </a:pathLst>
              </a:custGeom>
              <a:solidFill>
                <a:srgbClr val="ff6600"/>
              </a:solidFill>
              <a:ln w="9360">
                <a:solidFill>
                  <a:srgbClr val="f8f8f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 rot="20095200">
                <a:off x="2716560" y="3546360"/>
                <a:ext cx="343440" cy="291240"/>
              </a:xfrm>
              <a:custGeom>
                <a:avLst/>
                <a:gdLst/>
                <a:ahLst/>
                <a:rect l="l" t="t" r="r" b="b"/>
                <a:pathLst>
                  <a:path w="409" h="385">
                    <a:moveTo>
                      <a:pt x="22" y="33"/>
                    </a:moveTo>
                    <a:cubicBezTo>
                      <a:pt x="25" y="108"/>
                      <a:pt x="0" y="190"/>
                      <a:pt x="31" y="258"/>
                    </a:cubicBezTo>
                    <a:cubicBezTo>
                      <a:pt x="44" y="285"/>
                      <a:pt x="101" y="271"/>
                      <a:pt x="121" y="249"/>
                    </a:cubicBezTo>
                    <a:cubicBezTo>
                      <a:pt x="146" y="222"/>
                      <a:pt x="139" y="141"/>
                      <a:pt x="139" y="141"/>
                    </a:cubicBezTo>
                    <a:cubicBezTo>
                      <a:pt x="215" y="160"/>
                      <a:pt x="183" y="210"/>
                      <a:pt x="193" y="294"/>
                    </a:cubicBezTo>
                    <a:cubicBezTo>
                      <a:pt x="197" y="330"/>
                      <a:pt x="256" y="384"/>
                      <a:pt x="256" y="384"/>
                    </a:cubicBezTo>
                    <a:cubicBezTo>
                      <a:pt x="295" y="381"/>
                      <a:pt x="335" y="385"/>
                      <a:pt x="373" y="375"/>
                    </a:cubicBezTo>
                    <a:cubicBezTo>
                      <a:pt x="383" y="372"/>
                      <a:pt x="389" y="359"/>
                      <a:pt x="391" y="348"/>
                    </a:cubicBezTo>
                    <a:cubicBezTo>
                      <a:pt x="406" y="263"/>
                      <a:pt x="409" y="154"/>
                      <a:pt x="409" y="69"/>
                    </a:cubicBezTo>
                    <a:lnTo>
                      <a:pt x="394" y="0"/>
                    </a:lnTo>
                    <a:lnTo>
                      <a:pt x="22" y="33"/>
                    </a:lnTo>
                    <a:close/>
                  </a:path>
                </a:pathLst>
              </a:custGeom>
              <a:solidFill>
                <a:srgbClr val="ffcccc"/>
              </a:solidFill>
              <a:ln w="9360">
                <a:solidFill>
                  <a:srgbClr val="ffcc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flipH="1">
                <a:off x="36000" y="3874320"/>
                <a:ext cx="343440" cy="291240"/>
              </a:xfrm>
              <a:custGeom>
                <a:avLst/>
                <a:gdLst/>
                <a:ahLst/>
                <a:rect l="l" t="t" r="r" b="b"/>
                <a:pathLst>
                  <a:path w="409" h="385">
                    <a:moveTo>
                      <a:pt x="22" y="33"/>
                    </a:moveTo>
                    <a:cubicBezTo>
                      <a:pt x="25" y="108"/>
                      <a:pt x="0" y="190"/>
                      <a:pt x="31" y="258"/>
                    </a:cubicBezTo>
                    <a:cubicBezTo>
                      <a:pt x="44" y="285"/>
                      <a:pt x="101" y="271"/>
                      <a:pt x="121" y="249"/>
                    </a:cubicBezTo>
                    <a:cubicBezTo>
                      <a:pt x="146" y="222"/>
                      <a:pt x="139" y="141"/>
                      <a:pt x="139" y="141"/>
                    </a:cubicBezTo>
                    <a:cubicBezTo>
                      <a:pt x="215" y="160"/>
                      <a:pt x="183" y="210"/>
                      <a:pt x="193" y="294"/>
                    </a:cubicBezTo>
                    <a:cubicBezTo>
                      <a:pt x="197" y="330"/>
                      <a:pt x="256" y="384"/>
                      <a:pt x="256" y="384"/>
                    </a:cubicBezTo>
                    <a:cubicBezTo>
                      <a:pt x="295" y="381"/>
                      <a:pt x="335" y="385"/>
                      <a:pt x="373" y="375"/>
                    </a:cubicBezTo>
                    <a:cubicBezTo>
                      <a:pt x="383" y="372"/>
                      <a:pt x="389" y="359"/>
                      <a:pt x="391" y="348"/>
                    </a:cubicBezTo>
                    <a:cubicBezTo>
                      <a:pt x="406" y="263"/>
                      <a:pt x="409" y="154"/>
                      <a:pt x="409" y="69"/>
                    </a:cubicBezTo>
                    <a:lnTo>
                      <a:pt x="394" y="0"/>
                    </a:lnTo>
                    <a:lnTo>
                      <a:pt x="22" y="33"/>
                    </a:lnTo>
                    <a:close/>
                  </a:path>
                </a:pathLst>
              </a:custGeom>
              <a:solidFill>
                <a:srgbClr val="ffcccc"/>
              </a:solidFill>
              <a:ln w="9360">
                <a:solidFill>
                  <a:srgbClr val="ffcc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4" name=""/>
            <p:cNvSpPr/>
            <p:nvPr/>
          </p:nvSpPr>
          <p:spPr>
            <a:xfrm>
              <a:off x="655560" y="4316040"/>
              <a:ext cx="2828520" cy="2260800"/>
            </a:xfrm>
            <a:custGeom>
              <a:avLst/>
              <a:gdLst/>
              <a:ahLst/>
              <a:rect l="l" t="t" r="r" b="b"/>
              <a:pathLst>
                <a:path w="1782" h="1424">
                  <a:moveTo>
                    <a:pt x="18" y="47"/>
                  </a:moveTo>
                  <a:cubicBezTo>
                    <a:pt x="21" y="485"/>
                    <a:pt x="0" y="924"/>
                    <a:pt x="27" y="1361"/>
                  </a:cubicBezTo>
                  <a:cubicBezTo>
                    <a:pt x="28" y="1385"/>
                    <a:pt x="76" y="1364"/>
                    <a:pt x="99" y="1370"/>
                  </a:cubicBezTo>
                  <a:cubicBezTo>
                    <a:pt x="109" y="1373"/>
                    <a:pt x="117" y="1382"/>
                    <a:pt x="126" y="1388"/>
                  </a:cubicBezTo>
                  <a:cubicBezTo>
                    <a:pt x="854" y="1373"/>
                    <a:pt x="395" y="1424"/>
                    <a:pt x="612" y="1352"/>
                  </a:cubicBezTo>
                  <a:cubicBezTo>
                    <a:pt x="654" y="1289"/>
                    <a:pt x="657" y="1216"/>
                    <a:pt x="675" y="1145"/>
                  </a:cubicBezTo>
                  <a:cubicBezTo>
                    <a:pt x="678" y="941"/>
                    <a:pt x="674" y="737"/>
                    <a:pt x="684" y="533"/>
                  </a:cubicBezTo>
                  <a:cubicBezTo>
                    <a:pt x="685" y="517"/>
                    <a:pt x="701" y="562"/>
                    <a:pt x="702" y="578"/>
                  </a:cubicBezTo>
                  <a:cubicBezTo>
                    <a:pt x="710" y="707"/>
                    <a:pt x="703" y="836"/>
                    <a:pt x="711" y="965"/>
                  </a:cubicBezTo>
                  <a:cubicBezTo>
                    <a:pt x="714" y="1024"/>
                    <a:pt x="746" y="1089"/>
                    <a:pt x="765" y="1145"/>
                  </a:cubicBezTo>
                  <a:cubicBezTo>
                    <a:pt x="768" y="1154"/>
                    <a:pt x="784" y="1149"/>
                    <a:pt x="792" y="1154"/>
                  </a:cubicBezTo>
                  <a:cubicBezTo>
                    <a:pt x="989" y="1264"/>
                    <a:pt x="766" y="1153"/>
                    <a:pt x="873" y="1199"/>
                  </a:cubicBezTo>
                  <a:cubicBezTo>
                    <a:pt x="967" y="1239"/>
                    <a:pt x="1078" y="1278"/>
                    <a:pt x="1179" y="1289"/>
                  </a:cubicBezTo>
                  <a:cubicBezTo>
                    <a:pt x="1247" y="1306"/>
                    <a:pt x="1311" y="1330"/>
                    <a:pt x="1377" y="1352"/>
                  </a:cubicBezTo>
                  <a:cubicBezTo>
                    <a:pt x="1404" y="1343"/>
                    <a:pt x="1434" y="1340"/>
                    <a:pt x="1458" y="1325"/>
                  </a:cubicBezTo>
                  <a:cubicBezTo>
                    <a:pt x="1499" y="1300"/>
                    <a:pt x="1541" y="1272"/>
                    <a:pt x="1584" y="1253"/>
                  </a:cubicBezTo>
                  <a:cubicBezTo>
                    <a:pt x="1595" y="1248"/>
                    <a:pt x="1609" y="1249"/>
                    <a:pt x="1620" y="1244"/>
                  </a:cubicBezTo>
                  <a:cubicBezTo>
                    <a:pt x="1645" y="1234"/>
                    <a:pt x="1671" y="1224"/>
                    <a:pt x="1692" y="1208"/>
                  </a:cubicBezTo>
                  <a:cubicBezTo>
                    <a:pt x="1704" y="1199"/>
                    <a:pt x="1715" y="1188"/>
                    <a:pt x="1728" y="1181"/>
                  </a:cubicBezTo>
                  <a:cubicBezTo>
                    <a:pt x="1745" y="1173"/>
                    <a:pt x="1782" y="1163"/>
                    <a:pt x="1782" y="1163"/>
                  </a:cubicBezTo>
                  <a:cubicBezTo>
                    <a:pt x="1733" y="1130"/>
                    <a:pt x="1684" y="1118"/>
                    <a:pt x="1629" y="1100"/>
                  </a:cubicBezTo>
                  <a:cubicBezTo>
                    <a:pt x="1613" y="1095"/>
                    <a:pt x="1555" y="1063"/>
                    <a:pt x="1539" y="1055"/>
                  </a:cubicBezTo>
                  <a:cubicBezTo>
                    <a:pt x="1487" y="978"/>
                    <a:pt x="1556" y="1069"/>
                    <a:pt x="1494" y="1019"/>
                  </a:cubicBezTo>
                  <a:cubicBezTo>
                    <a:pt x="1474" y="1003"/>
                    <a:pt x="1464" y="977"/>
                    <a:pt x="1449" y="956"/>
                  </a:cubicBezTo>
                  <a:cubicBezTo>
                    <a:pt x="1436" y="916"/>
                    <a:pt x="1411" y="882"/>
                    <a:pt x="1386" y="848"/>
                  </a:cubicBezTo>
                  <a:cubicBezTo>
                    <a:pt x="1343" y="790"/>
                    <a:pt x="1320" y="736"/>
                    <a:pt x="1251" y="713"/>
                  </a:cubicBezTo>
                  <a:cubicBezTo>
                    <a:pt x="1162" y="646"/>
                    <a:pt x="1196" y="684"/>
                    <a:pt x="1143" y="605"/>
                  </a:cubicBezTo>
                  <a:cubicBezTo>
                    <a:pt x="1117" y="566"/>
                    <a:pt x="1124" y="519"/>
                    <a:pt x="1098" y="479"/>
                  </a:cubicBezTo>
                  <a:cubicBezTo>
                    <a:pt x="1085" y="399"/>
                    <a:pt x="1097" y="441"/>
                    <a:pt x="1053" y="353"/>
                  </a:cubicBezTo>
                  <a:lnTo>
                    <a:pt x="1053" y="353"/>
                  </a:lnTo>
                  <a:cubicBezTo>
                    <a:pt x="1035" y="282"/>
                    <a:pt x="999" y="218"/>
                    <a:pt x="981" y="146"/>
                  </a:cubicBezTo>
                  <a:cubicBezTo>
                    <a:pt x="984" y="122"/>
                    <a:pt x="981" y="96"/>
                    <a:pt x="990" y="74"/>
                  </a:cubicBezTo>
                  <a:cubicBezTo>
                    <a:pt x="1019" y="0"/>
                    <a:pt x="1017" y="82"/>
                    <a:pt x="1017" y="47"/>
                  </a:cubicBezTo>
                  <a:cubicBezTo>
                    <a:pt x="707" y="37"/>
                    <a:pt x="397" y="17"/>
                    <a:pt x="87" y="17"/>
                  </a:cubicBezTo>
                  <a:cubicBezTo>
                    <a:pt x="12" y="17"/>
                    <a:pt x="88" y="140"/>
                    <a:pt x="18" y="47"/>
                  </a:cubicBezTo>
                  <a:close/>
                </a:path>
              </a:pathLst>
            </a:cu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88880" y="6171840"/>
              <a:ext cx="1294920" cy="457200"/>
            </a:xfrm>
            <a:prstGeom prst="ellipse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93640" y="6019560"/>
              <a:ext cx="1295280" cy="457200"/>
            </a:xfrm>
            <a:prstGeom prst="ellipse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2760840" y="914400"/>
            <a:ext cx="3245040" cy="5257440"/>
            <a:chOff x="2760840" y="914400"/>
            <a:chExt cx="3245040" cy="5257440"/>
          </a:xfrm>
        </p:grpSpPr>
        <p:sp>
          <p:nvSpPr>
            <p:cNvPr id="178" name=""/>
            <p:cNvSpPr/>
            <p:nvPr/>
          </p:nvSpPr>
          <p:spPr>
            <a:xfrm>
              <a:off x="2958120" y="2132280"/>
              <a:ext cx="2985120" cy="3911400"/>
            </a:xfrm>
            <a:custGeom>
              <a:avLst/>
              <a:gdLst/>
              <a:ahLst/>
              <a:rect l="l" t="t" r="r" b="b"/>
              <a:pathLst>
                <a:path w="3414" h="2586">
                  <a:moveTo>
                    <a:pt x="1034" y="300"/>
                  </a:moveTo>
                  <a:cubicBezTo>
                    <a:pt x="852" y="239"/>
                    <a:pt x="644" y="322"/>
                    <a:pt x="458" y="336"/>
                  </a:cubicBezTo>
                  <a:cubicBezTo>
                    <a:pt x="421" y="354"/>
                    <a:pt x="397" y="370"/>
                    <a:pt x="368" y="399"/>
                  </a:cubicBezTo>
                  <a:cubicBezTo>
                    <a:pt x="365" y="411"/>
                    <a:pt x="367" y="425"/>
                    <a:pt x="359" y="435"/>
                  </a:cubicBezTo>
                  <a:cubicBezTo>
                    <a:pt x="353" y="442"/>
                    <a:pt x="341" y="440"/>
                    <a:pt x="332" y="444"/>
                  </a:cubicBezTo>
                  <a:cubicBezTo>
                    <a:pt x="320" y="449"/>
                    <a:pt x="307" y="455"/>
                    <a:pt x="296" y="462"/>
                  </a:cubicBezTo>
                  <a:cubicBezTo>
                    <a:pt x="264" y="482"/>
                    <a:pt x="233" y="507"/>
                    <a:pt x="206" y="534"/>
                  </a:cubicBezTo>
                  <a:cubicBezTo>
                    <a:pt x="180" y="611"/>
                    <a:pt x="217" y="493"/>
                    <a:pt x="188" y="669"/>
                  </a:cubicBezTo>
                  <a:cubicBezTo>
                    <a:pt x="185" y="688"/>
                    <a:pt x="175" y="705"/>
                    <a:pt x="170" y="723"/>
                  </a:cubicBezTo>
                  <a:cubicBezTo>
                    <a:pt x="153" y="792"/>
                    <a:pt x="136" y="861"/>
                    <a:pt x="116" y="930"/>
                  </a:cubicBezTo>
                  <a:cubicBezTo>
                    <a:pt x="99" y="990"/>
                    <a:pt x="91" y="1051"/>
                    <a:pt x="71" y="1110"/>
                  </a:cubicBezTo>
                  <a:cubicBezTo>
                    <a:pt x="59" y="1197"/>
                    <a:pt x="52" y="1284"/>
                    <a:pt x="35" y="1371"/>
                  </a:cubicBezTo>
                  <a:cubicBezTo>
                    <a:pt x="29" y="1477"/>
                    <a:pt x="25" y="1581"/>
                    <a:pt x="8" y="1686"/>
                  </a:cubicBezTo>
                  <a:cubicBezTo>
                    <a:pt x="11" y="1776"/>
                    <a:pt x="0" y="1868"/>
                    <a:pt x="17" y="1956"/>
                  </a:cubicBezTo>
                  <a:cubicBezTo>
                    <a:pt x="20" y="1971"/>
                    <a:pt x="47" y="1962"/>
                    <a:pt x="62" y="1965"/>
                  </a:cubicBezTo>
                  <a:cubicBezTo>
                    <a:pt x="98" y="1973"/>
                    <a:pt x="127" y="1990"/>
                    <a:pt x="161" y="2001"/>
                  </a:cubicBezTo>
                  <a:cubicBezTo>
                    <a:pt x="239" y="1998"/>
                    <a:pt x="317" y="1997"/>
                    <a:pt x="395" y="1992"/>
                  </a:cubicBezTo>
                  <a:cubicBezTo>
                    <a:pt x="454" y="1988"/>
                    <a:pt x="516" y="1959"/>
                    <a:pt x="575" y="1947"/>
                  </a:cubicBezTo>
                  <a:cubicBezTo>
                    <a:pt x="603" y="1862"/>
                    <a:pt x="591" y="1912"/>
                    <a:pt x="602" y="1794"/>
                  </a:cubicBezTo>
                  <a:cubicBezTo>
                    <a:pt x="608" y="1553"/>
                    <a:pt x="520" y="1425"/>
                    <a:pt x="710" y="1362"/>
                  </a:cubicBezTo>
                  <a:cubicBezTo>
                    <a:pt x="734" y="1291"/>
                    <a:pt x="824" y="1275"/>
                    <a:pt x="872" y="1227"/>
                  </a:cubicBezTo>
                  <a:lnTo>
                    <a:pt x="740" y="2586"/>
                  </a:lnTo>
                  <a:lnTo>
                    <a:pt x="2612" y="2586"/>
                  </a:lnTo>
                  <a:cubicBezTo>
                    <a:pt x="2486" y="2097"/>
                    <a:pt x="1822" y="979"/>
                    <a:pt x="2312" y="1101"/>
                  </a:cubicBezTo>
                  <a:cubicBezTo>
                    <a:pt x="2381" y="1147"/>
                    <a:pt x="2389" y="1178"/>
                    <a:pt x="2447" y="1236"/>
                  </a:cubicBezTo>
                  <a:cubicBezTo>
                    <a:pt x="2473" y="1313"/>
                    <a:pt x="2447" y="1229"/>
                    <a:pt x="2465" y="1407"/>
                  </a:cubicBezTo>
                  <a:cubicBezTo>
                    <a:pt x="2469" y="1446"/>
                    <a:pt x="2495" y="1471"/>
                    <a:pt x="2510" y="1506"/>
                  </a:cubicBezTo>
                  <a:cubicBezTo>
                    <a:pt x="2549" y="1596"/>
                    <a:pt x="2568" y="1687"/>
                    <a:pt x="2672" y="1722"/>
                  </a:cubicBezTo>
                  <a:cubicBezTo>
                    <a:pt x="2744" y="1719"/>
                    <a:pt x="2816" y="1718"/>
                    <a:pt x="2888" y="1713"/>
                  </a:cubicBezTo>
                  <a:cubicBezTo>
                    <a:pt x="2921" y="1711"/>
                    <a:pt x="2917" y="1696"/>
                    <a:pt x="2942" y="1677"/>
                  </a:cubicBezTo>
                  <a:cubicBezTo>
                    <a:pt x="2991" y="1639"/>
                    <a:pt x="3055" y="1597"/>
                    <a:pt x="3113" y="1578"/>
                  </a:cubicBezTo>
                  <a:cubicBezTo>
                    <a:pt x="3122" y="1569"/>
                    <a:pt x="3129" y="1558"/>
                    <a:pt x="3140" y="1551"/>
                  </a:cubicBezTo>
                  <a:cubicBezTo>
                    <a:pt x="3148" y="1546"/>
                    <a:pt x="3160" y="1548"/>
                    <a:pt x="3167" y="1542"/>
                  </a:cubicBezTo>
                  <a:cubicBezTo>
                    <a:pt x="3175" y="1535"/>
                    <a:pt x="3176" y="1521"/>
                    <a:pt x="3185" y="1515"/>
                  </a:cubicBezTo>
                  <a:cubicBezTo>
                    <a:pt x="3201" y="1505"/>
                    <a:pt x="3221" y="1503"/>
                    <a:pt x="3239" y="1497"/>
                  </a:cubicBezTo>
                  <a:cubicBezTo>
                    <a:pt x="3281" y="1483"/>
                    <a:pt x="3328" y="1450"/>
                    <a:pt x="3365" y="1425"/>
                  </a:cubicBezTo>
                  <a:cubicBezTo>
                    <a:pt x="3359" y="1245"/>
                    <a:pt x="3414" y="1143"/>
                    <a:pt x="3248" y="1110"/>
                  </a:cubicBezTo>
                  <a:cubicBezTo>
                    <a:pt x="3209" y="1084"/>
                    <a:pt x="3178" y="1054"/>
                    <a:pt x="3140" y="1029"/>
                  </a:cubicBezTo>
                  <a:cubicBezTo>
                    <a:pt x="3105" y="976"/>
                    <a:pt x="3087" y="952"/>
                    <a:pt x="3068" y="894"/>
                  </a:cubicBezTo>
                  <a:cubicBezTo>
                    <a:pt x="3065" y="884"/>
                    <a:pt x="3049" y="884"/>
                    <a:pt x="3041" y="876"/>
                  </a:cubicBezTo>
                  <a:cubicBezTo>
                    <a:pt x="3030" y="865"/>
                    <a:pt x="3026" y="850"/>
                    <a:pt x="3014" y="840"/>
                  </a:cubicBezTo>
                  <a:cubicBezTo>
                    <a:pt x="2999" y="827"/>
                    <a:pt x="2975" y="826"/>
                    <a:pt x="2960" y="813"/>
                  </a:cubicBezTo>
                  <a:cubicBezTo>
                    <a:pt x="2928" y="786"/>
                    <a:pt x="2908" y="769"/>
                    <a:pt x="2870" y="750"/>
                  </a:cubicBezTo>
                  <a:cubicBezTo>
                    <a:pt x="2837" y="700"/>
                    <a:pt x="2783" y="674"/>
                    <a:pt x="2726" y="660"/>
                  </a:cubicBezTo>
                  <a:cubicBezTo>
                    <a:pt x="2717" y="654"/>
                    <a:pt x="2709" y="647"/>
                    <a:pt x="2699" y="642"/>
                  </a:cubicBezTo>
                  <a:cubicBezTo>
                    <a:pt x="2691" y="638"/>
                    <a:pt x="2673" y="642"/>
                    <a:pt x="2672" y="633"/>
                  </a:cubicBezTo>
                  <a:cubicBezTo>
                    <a:pt x="2663" y="559"/>
                    <a:pt x="2656" y="485"/>
                    <a:pt x="2726" y="462"/>
                  </a:cubicBezTo>
                  <a:cubicBezTo>
                    <a:pt x="2738" y="426"/>
                    <a:pt x="2757" y="402"/>
                    <a:pt x="2780" y="372"/>
                  </a:cubicBezTo>
                  <a:cubicBezTo>
                    <a:pt x="2800" y="294"/>
                    <a:pt x="2816" y="265"/>
                    <a:pt x="2780" y="174"/>
                  </a:cubicBezTo>
                  <a:cubicBezTo>
                    <a:pt x="2775" y="163"/>
                    <a:pt x="2756" y="168"/>
                    <a:pt x="2744" y="165"/>
                  </a:cubicBezTo>
                  <a:cubicBezTo>
                    <a:pt x="2705" y="154"/>
                    <a:pt x="2663" y="129"/>
                    <a:pt x="2627" y="111"/>
                  </a:cubicBezTo>
                  <a:cubicBezTo>
                    <a:pt x="2404" y="0"/>
                    <a:pt x="2521" y="48"/>
                    <a:pt x="2087" y="48"/>
                  </a:cubicBezTo>
                </a:path>
              </a:pathLst>
            </a:custGeom>
            <a:solidFill>
              <a:srgbClr val="ff6600"/>
            </a:solidFill>
            <a:ln w="9360">
              <a:solidFill>
                <a:srgbClr val="f8f8f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9" name=""/>
            <p:cNvGrpSpPr/>
            <p:nvPr/>
          </p:nvGrpSpPr>
          <p:grpSpPr>
            <a:xfrm>
              <a:off x="3444120" y="1427040"/>
              <a:ext cx="1385280" cy="1597680"/>
              <a:chOff x="3444120" y="1427040"/>
              <a:chExt cx="1385280" cy="1597680"/>
            </a:xfrm>
          </p:grpSpPr>
          <p:sp>
            <p:nvSpPr>
              <p:cNvPr id="180" name=""/>
              <p:cNvSpPr/>
              <p:nvPr/>
            </p:nvSpPr>
            <p:spPr>
              <a:xfrm>
                <a:off x="3612960" y="1542960"/>
                <a:ext cx="1027800" cy="948240"/>
              </a:xfrm>
              <a:prstGeom prst="smileyFace">
                <a:avLst>
                  <a:gd name="adj" fmla="val 9282"/>
                </a:avLst>
              </a:prstGeom>
              <a:solidFill>
                <a:srgbClr val="ffcccc"/>
              </a:solidFill>
              <a:ln w="9360">
                <a:solidFill>
                  <a:srgbClr val="ff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1" name=""/>
              <p:cNvGrpSpPr/>
              <p:nvPr/>
            </p:nvGrpSpPr>
            <p:grpSpPr>
              <a:xfrm>
                <a:off x="3809880" y="1778040"/>
                <a:ext cx="219600" cy="213840"/>
                <a:chOff x="3809880" y="1778040"/>
                <a:chExt cx="219600" cy="213840"/>
              </a:xfrm>
            </p:grpSpPr>
            <p:sp>
              <p:nvSpPr>
                <p:cNvPr id="182" name=""/>
                <p:cNvSpPr/>
                <p:nvPr/>
              </p:nvSpPr>
              <p:spPr>
                <a:xfrm>
                  <a:off x="3809880" y="1778040"/>
                  <a:ext cx="219600" cy="213840"/>
                </a:xfrm>
                <a:prstGeom prst="ellipse">
                  <a:avLst/>
                </a:prstGeom>
                <a:solidFill>
                  <a:srgbClr val="00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3818520" y="1798920"/>
                  <a:ext cx="183240" cy="1537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3863160" y="1835280"/>
                  <a:ext cx="109800" cy="925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080" bIns="190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4237920" y="1778040"/>
                <a:ext cx="219600" cy="213840"/>
                <a:chOff x="4237920" y="1778040"/>
                <a:chExt cx="219600" cy="21384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4237920" y="1778040"/>
                  <a:ext cx="219600" cy="213840"/>
                </a:xfrm>
                <a:prstGeom prst="ellipse">
                  <a:avLst/>
                </a:prstGeom>
                <a:solidFill>
                  <a:srgbClr val="00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4246560" y="1798920"/>
                  <a:ext cx="183240" cy="1537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4291200" y="1835280"/>
                  <a:ext cx="109800" cy="925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080" bIns="190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9" name=""/>
              <p:cNvSpPr/>
              <p:nvPr/>
            </p:nvSpPr>
            <p:spPr>
              <a:xfrm>
                <a:off x="4062600" y="2248560"/>
                <a:ext cx="174960" cy="161280"/>
              </a:xfrm>
              <a:custGeom>
                <a:avLst/>
                <a:gdLst/>
                <a:ahLst/>
                <a:rect l="l" t="t" r="r" b="b"/>
                <a:pathLst>
                  <a:path w="229" h="134">
                    <a:moveTo>
                      <a:pt x="30" y="58"/>
                    </a:moveTo>
                    <a:cubicBezTo>
                      <a:pt x="54" y="134"/>
                      <a:pt x="152" y="101"/>
                      <a:pt x="215" y="86"/>
                    </a:cubicBezTo>
                    <a:cubicBezTo>
                      <a:pt x="218" y="70"/>
                      <a:pt x="229" y="54"/>
                      <a:pt x="225" y="39"/>
                    </a:cubicBezTo>
                    <a:cubicBezTo>
                      <a:pt x="214" y="0"/>
                      <a:pt x="148" y="37"/>
                      <a:pt x="141" y="39"/>
                    </a:cubicBezTo>
                    <a:cubicBezTo>
                      <a:pt x="0" y="84"/>
                      <a:pt x="67" y="21"/>
                      <a:pt x="30" y="58"/>
                    </a:cubicBezTo>
                    <a:close/>
                  </a:path>
                </a:pathLst>
              </a:custGeom>
              <a:solidFill>
                <a:srgbClr val="fc4614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3444120" y="1427040"/>
                <a:ext cx="1385280" cy="1597680"/>
              </a:xfrm>
              <a:custGeom>
                <a:avLst/>
                <a:gdLst/>
                <a:ahLst/>
                <a:rect l="l" t="t" r="r" b="b"/>
                <a:pathLst>
                  <a:path w="958" h="1196">
                    <a:moveTo>
                      <a:pt x="465" y="168"/>
                    </a:moveTo>
                    <a:cubicBezTo>
                      <a:pt x="386" y="178"/>
                      <a:pt x="396" y="183"/>
                      <a:pt x="335" y="205"/>
                    </a:cubicBezTo>
                    <a:cubicBezTo>
                      <a:pt x="323" y="223"/>
                      <a:pt x="310" y="242"/>
                      <a:pt x="298" y="260"/>
                    </a:cubicBezTo>
                    <a:cubicBezTo>
                      <a:pt x="292" y="269"/>
                      <a:pt x="290" y="284"/>
                      <a:pt x="280" y="288"/>
                    </a:cubicBezTo>
                    <a:cubicBezTo>
                      <a:pt x="271" y="291"/>
                      <a:pt x="261" y="293"/>
                      <a:pt x="252" y="298"/>
                    </a:cubicBezTo>
                    <a:cubicBezTo>
                      <a:pt x="232" y="309"/>
                      <a:pt x="196" y="335"/>
                      <a:pt x="196" y="335"/>
                    </a:cubicBezTo>
                    <a:cubicBezTo>
                      <a:pt x="190" y="344"/>
                      <a:pt x="178" y="352"/>
                      <a:pt x="177" y="363"/>
                    </a:cubicBezTo>
                    <a:cubicBezTo>
                      <a:pt x="175" y="402"/>
                      <a:pt x="193" y="557"/>
                      <a:pt x="224" y="604"/>
                    </a:cubicBezTo>
                    <a:cubicBezTo>
                      <a:pt x="231" y="615"/>
                      <a:pt x="244" y="622"/>
                      <a:pt x="252" y="632"/>
                    </a:cubicBezTo>
                    <a:cubicBezTo>
                      <a:pt x="259" y="641"/>
                      <a:pt x="261" y="654"/>
                      <a:pt x="270" y="660"/>
                    </a:cubicBezTo>
                    <a:cubicBezTo>
                      <a:pt x="287" y="670"/>
                      <a:pt x="326" y="678"/>
                      <a:pt x="326" y="678"/>
                    </a:cubicBezTo>
                    <a:cubicBezTo>
                      <a:pt x="382" y="716"/>
                      <a:pt x="412" y="738"/>
                      <a:pt x="475" y="753"/>
                    </a:cubicBezTo>
                    <a:cubicBezTo>
                      <a:pt x="563" y="748"/>
                      <a:pt x="625" y="773"/>
                      <a:pt x="670" y="706"/>
                    </a:cubicBezTo>
                    <a:cubicBezTo>
                      <a:pt x="685" y="661"/>
                      <a:pt x="700" y="629"/>
                      <a:pt x="744" y="613"/>
                    </a:cubicBezTo>
                    <a:cubicBezTo>
                      <a:pt x="766" y="548"/>
                      <a:pt x="752" y="486"/>
                      <a:pt x="791" y="428"/>
                    </a:cubicBezTo>
                    <a:cubicBezTo>
                      <a:pt x="783" y="396"/>
                      <a:pt x="772" y="347"/>
                      <a:pt x="744" y="325"/>
                    </a:cubicBezTo>
                    <a:cubicBezTo>
                      <a:pt x="736" y="319"/>
                      <a:pt x="725" y="321"/>
                      <a:pt x="716" y="316"/>
                    </a:cubicBezTo>
                    <a:cubicBezTo>
                      <a:pt x="618" y="263"/>
                      <a:pt x="696" y="291"/>
                      <a:pt x="633" y="270"/>
                    </a:cubicBezTo>
                    <a:cubicBezTo>
                      <a:pt x="608" y="253"/>
                      <a:pt x="577" y="235"/>
                      <a:pt x="549" y="223"/>
                    </a:cubicBezTo>
                    <a:cubicBezTo>
                      <a:pt x="531" y="215"/>
                      <a:pt x="493" y="205"/>
                      <a:pt x="493" y="205"/>
                    </a:cubicBezTo>
                    <a:cubicBezTo>
                      <a:pt x="484" y="199"/>
                      <a:pt x="475" y="191"/>
                      <a:pt x="465" y="186"/>
                    </a:cubicBezTo>
                    <a:cubicBezTo>
                      <a:pt x="457" y="182"/>
                      <a:pt x="446" y="182"/>
                      <a:pt x="438" y="177"/>
                    </a:cubicBezTo>
                    <a:cubicBezTo>
                      <a:pt x="418" y="166"/>
                      <a:pt x="382" y="140"/>
                      <a:pt x="382" y="140"/>
                    </a:cubicBezTo>
                    <a:cubicBezTo>
                      <a:pt x="369" y="104"/>
                      <a:pt x="364" y="87"/>
                      <a:pt x="326" y="75"/>
                    </a:cubicBezTo>
                    <a:cubicBezTo>
                      <a:pt x="286" y="78"/>
                      <a:pt x="244" y="74"/>
                      <a:pt x="205" y="84"/>
                    </a:cubicBezTo>
                    <a:cubicBezTo>
                      <a:pt x="194" y="87"/>
                      <a:pt x="196" y="105"/>
                      <a:pt x="187" y="112"/>
                    </a:cubicBezTo>
                    <a:cubicBezTo>
                      <a:pt x="179" y="118"/>
                      <a:pt x="168" y="118"/>
                      <a:pt x="159" y="121"/>
                    </a:cubicBezTo>
                    <a:cubicBezTo>
                      <a:pt x="147" y="158"/>
                      <a:pt x="127" y="182"/>
                      <a:pt x="103" y="214"/>
                    </a:cubicBezTo>
                    <a:cubicBezTo>
                      <a:pt x="62" y="335"/>
                      <a:pt x="0" y="526"/>
                      <a:pt x="122" y="604"/>
                    </a:cubicBezTo>
                    <a:cubicBezTo>
                      <a:pt x="151" y="648"/>
                      <a:pt x="158" y="682"/>
                      <a:pt x="205" y="697"/>
                    </a:cubicBezTo>
                    <a:cubicBezTo>
                      <a:pt x="239" y="792"/>
                      <a:pt x="269" y="849"/>
                      <a:pt x="372" y="883"/>
                    </a:cubicBezTo>
                    <a:cubicBezTo>
                      <a:pt x="437" y="880"/>
                      <a:pt x="504" y="887"/>
                      <a:pt x="568" y="874"/>
                    </a:cubicBezTo>
                    <a:cubicBezTo>
                      <a:pt x="578" y="872"/>
                      <a:pt x="564" y="854"/>
                      <a:pt x="558" y="846"/>
                    </a:cubicBezTo>
                    <a:cubicBezTo>
                      <a:pt x="544" y="829"/>
                      <a:pt x="522" y="824"/>
                      <a:pt x="503" y="818"/>
                    </a:cubicBezTo>
                    <a:cubicBezTo>
                      <a:pt x="498" y="815"/>
                      <a:pt x="459" y="784"/>
                      <a:pt x="447" y="790"/>
                    </a:cubicBezTo>
                    <a:cubicBezTo>
                      <a:pt x="438" y="794"/>
                      <a:pt x="441" y="809"/>
                      <a:pt x="438" y="818"/>
                    </a:cubicBezTo>
                    <a:cubicBezTo>
                      <a:pt x="425" y="903"/>
                      <a:pt x="440" y="867"/>
                      <a:pt x="391" y="939"/>
                    </a:cubicBezTo>
                    <a:cubicBezTo>
                      <a:pt x="385" y="948"/>
                      <a:pt x="378" y="957"/>
                      <a:pt x="372" y="966"/>
                    </a:cubicBezTo>
                    <a:cubicBezTo>
                      <a:pt x="366" y="975"/>
                      <a:pt x="354" y="994"/>
                      <a:pt x="354" y="994"/>
                    </a:cubicBezTo>
                    <a:cubicBezTo>
                      <a:pt x="357" y="1053"/>
                      <a:pt x="334" y="1119"/>
                      <a:pt x="363" y="1171"/>
                    </a:cubicBezTo>
                    <a:cubicBezTo>
                      <a:pt x="377" y="1196"/>
                      <a:pt x="422" y="1175"/>
                      <a:pt x="447" y="1162"/>
                    </a:cubicBezTo>
                    <a:cubicBezTo>
                      <a:pt x="467" y="1151"/>
                      <a:pt x="484" y="1106"/>
                      <a:pt x="484" y="1106"/>
                    </a:cubicBezTo>
                    <a:cubicBezTo>
                      <a:pt x="487" y="1097"/>
                      <a:pt x="489" y="1087"/>
                      <a:pt x="493" y="1078"/>
                    </a:cubicBezTo>
                    <a:cubicBezTo>
                      <a:pt x="498" y="1068"/>
                      <a:pt x="507" y="1060"/>
                      <a:pt x="512" y="1050"/>
                    </a:cubicBezTo>
                    <a:cubicBezTo>
                      <a:pt x="556" y="950"/>
                      <a:pt x="506" y="1029"/>
                      <a:pt x="549" y="966"/>
                    </a:cubicBezTo>
                    <a:cubicBezTo>
                      <a:pt x="580" y="873"/>
                      <a:pt x="531" y="896"/>
                      <a:pt x="651" y="883"/>
                    </a:cubicBezTo>
                    <a:cubicBezTo>
                      <a:pt x="660" y="880"/>
                      <a:pt x="670" y="870"/>
                      <a:pt x="679" y="874"/>
                    </a:cubicBezTo>
                    <a:cubicBezTo>
                      <a:pt x="689" y="878"/>
                      <a:pt x="693" y="891"/>
                      <a:pt x="698" y="901"/>
                    </a:cubicBezTo>
                    <a:cubicBezTo>
                      <a:pt x="702" y="910"/>
                      <a:pt x="728" y="978"/>
                      <a:pt x="735" y="1004"/>
                    </a:cubicBezTo>
                    <a:cubicBezTo>
                      <a:pt x="738" y="1016"/>
                      <a:pt x="736" y="1031"/>
                      <a:pt x="744" y="1041"/>
                    </a:cubicBezTo>
                    <a:cubicBezTo>
                      <a:pt x="750" y="1049"/>
                      <a:pt x="763" y="1047"/>
                      <a:pt x="772" y="1050"/>
                    </a:cubicBezTo>
                    <a:cubicBezTo>
                      <a:pt x="801" y="1093"/>
                      <a:pt x="798" y="1107"/>
                      <a:pt x="883" y="1069"/>
                    </a:cubicBezTo>
                    <a:cubicBezTo>
                      <a:pt x="892" y="1065"/>
                      <a:pt x="880" y="1049"/>
                      <a:pt x="874" y="1041"/>
                    </a:cubicBezTo>
                    <a:cubicBezTo>
                      <a:pt x="859" y="1022"/>
                      <a:pt x="835" y="1011"/>
                      <a:pt x="818" y="994"/>
                    </a:cubicBezTo>
                    <a:cubicBezTo>
                      <a:pt x="807" y="958"/>
                      <a:pt x="814" y="918"/>
                      <a:pt x="800" y="883"/>
                    </a:cubicBezTo>
                    <a:cubicBezTo>
                      <a:pt x="798" y="878"/>
                      <a:pt x="744" y="842"/>
                      <a:pt x="735" y="836"/>
                    </a:cubicBezTo>
                    <a:cubicBezTo>
                      <a:pt x="709" y="798"/>
                      <a:pt x="672" y="793"/>
                      <a:pt x="633" y="771"/>
                    </a:cubicBezTo>
                    <a:cubicBezTo>
                      <a:pt x="614" y="760"/>
                      <a:pt x="577" y="734"/>
                      <a:pt x="577" y="734"/>
                    </a:cubicBezTo>
                    <a:cubicBezTo>
                      <a:pt x="524" y="748"/>
                      <a:pt x="549" y="732"/>
                      <a:pt x="521" y="781"/>
                    </a:cubicBezTo>
                    <a:cubicBezTo>
                      <a:pt x="516" y="791"/>
                      <a:pt x="492" y="809"/>
                      <a:pt x="503" y="809"/>
                    </a:cubicBezTo>
                    <a:cubicBezTo>
                      <a:pt x="516" y="809"/>
                      <a:pt x="520" y="789"/>
                      <a:pt x="530" y="781"/>
                    </a:cubicBezTo>
                    <a:cubicBezTo>
                      <a:pt x="548" y="767"/>
                      <a:pt x="565" y="751"/>
                      <a:pt x="586" y="744"/>
                    </a:cubicBezTo>
                    <a:cubicBezTo>
                      <a:pt x="605" y="738"/>
                      <a:pt x="642" y="725"/>
                      <a:pt x="642" y="725"/>
                    </a:cubicBezTo>
                    <a:cubicBezTo>
                      <a:pt x="737" y="738"/>
                      <a:pt x="847" y="763"/>
                      <a:pt x="930" y="706"/>
                    </a:cubicBezTo>
                    <a:cubicBezTo>
                      <a:pt x="933" y="694"/>
                      <a:pt x="935" y="681"/>
                      <a:pt x="939" y="669"/>
                    </a:cubicBezTo>
                    <a:cubicBezTo>
                      <a:pt x="945" y="650"/>
                      <a:pt x="958" y="613"/>
                      <a:pt x="958" y="613"/>
                    </a:cubicBezTo>
                    <a:cubicBezTo>
                      <a:pt x="953" y="585"/>
                      <a:pt x="942" y="558"/>
                      <a:pt x="939" y="530"/>
                    </a:cubicBezTo>
                    <a:cubicBezTo>
                      <a:pt x="934" y="487"/>
                      <a:pt x="940" y="442"/>
                      <a:pt x="930" y="400"/>
                    </a:cubicBezTo>
                    <a:cubicBezTo>
                      <a:pt x="925" y="378"/>
                      <a:pt x="893" y="344"/>
                      <a:pt x="893" y="344"/>
                    </a:cubicBezTo>
                    <a:cubicBezTo>
                      <a:pt x="890" y="332"/>
                      <a:pt x="888" y="319"/>
                      <a:pt x="883" y="307"/>
                    </a:cubicBezTo>
                    <a:cubicBezTo>
                      <a:pt x="879" y="297"/>
                      <a:pt x="868" y="290"/>
                      <a:pt x="865" y="279"/>
                    </a:cubicBezTo>
                    <a:cubicBezTo>
                      <a:pt x="849" y="230"/>
                      <a:pt x="837" y="130"/>
                      <a:pt x="781" y="102"/>
                    </a:cubicBezTo>
                    <a:cubicBezTo>
                      <a:pt x="758" y="91"/>
                      <a:pt x="731" y="92"/>
                      <a:pt x="707" y="84"/>
                    </a:cubicBezTo>
                    <a:cubicBezTo>
                      <a:pt x="670" y="60"/>
                      <a:pt x="635" y="37"/>
                      <a:pt x="595" y="19"/>
                    </a:cubicBezTo>
                    <a:cubicBezTo>
                      <a:pt x="577" y="11"/>
                      <a:pt x="540" y="0"/>
                      <a:pt x="540" y="0"/>
                    </a:cubicBezTo>
                    <a:cubicBezTo>
                      <a:pt x="512" y="3"/>
                      <a:pt x="484" y="5"/>
                      <a:pt x="456" y="10"/>
                    </a:cubicBezTo>
                    <a:cubicBezTo>
                      <a:pt x="416" y="17"/>
                      <a:pt x="339" y="65"/>
                      <a:pt x="298" y="84"/>
                    </a:cubicBezTo>
                  </a:path>
                </a:pathLst>
              </a:custGeom>
              <a:solidFill>
                <a:srgbClr val="cc0099"/>
              </a:solidFill>
              <a:ln w="9360">
                <a:solidFill>
                  <a:srgbClr val="cc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1" name=""/>
            <p:cNvSpPr/>
            <p:nvPr/>
          </p:nvSpPr>
          <p:spPr>
            <a:xfrm>
              <a:off x="2958120" y="2453040"/>
              <a:ext cx="833040" cy="365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>
              <a:off x="4902120" y="914400"/>
              <a:ext cx="1041120" cy="39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888640" y="2645640"/>
              <a:ext cx="3045960" cy="1089720"/>
            </a:xfrm>
            <a:custGeom>
              <a:avLst/>
              <a:gdLst/>
              <a:ahLst/>
              <a:rect l="l" t="t" r="r" b="b"/>
              <a:pathLst>
                <a:path w="2106" h="1642">
                  <a:moveTo>
                    <a:pt x="675" y="81"/>
                  </a:moveTo>
                  <a:cubicBezTo>
                    <a:pt x="668" y="168"/>
                    <a:pt x="671" y="237"/>
                    <a:pt x="594" y="288"/>
                  </a:cubicBezTo>
                  <a:cubicBezTo>
                    <a:pt x="564" y="377"/>
                    <a:pt x="614" y="241"/>
                    <a:pt x="558" y="342"/>
                  </a:cubicBezTo>
                  <a:cubicBezTo>
                    <a:pt x="549" y="359"/>
                    <a:pt x="551" y="380"/>
                    <a:pt x="540" y="396"/>
                  </a:cubicBezTo>
                  <a:cubicBezTo>
                    <a:pt x="515" y="433"/>
                    <a:pt x="496" y="480"/>
                    <a:pt x="459" y="504"/>
                  </a:cubicBezTo>
                  <a:cubicBezTo>
                    <a:pt x="431" y="587"/>
                    <a:pt x="479" y="460"/>
                    <a:pt x="414" y="558"/>
                  </a:cubicBezTo>
                  <a:cubicBezTo>
                    <a:pt x="403" y="574"/>
                    <a:pt x="402" y="594"/>
                    <a:pt x="396" y="612"/>
                  </a:cubicBezTo>
                  <a:cubicBezTo>
                    <a:pt x="392" y="624"/>
                    <a:pt x="377" y="629"/>
                    <a:pt x="369" y="639"/>
                  </a:cubicBezTo>
                  <a:cubicBezTo>
                    <a:pt x="344" y="669"/>
                    <a:pt x="330" y="706"/>
                    <a:pt x="306" y="738"/>
                  </a:cubicBezTo>
                  <a:cubicBezTo>
                    <a:pt x="290" y="785"/>
                    <a:pt x="255" y="848"/>
                    <a:pt x="207" y="864"/>
                  </a:cubicBezTo>
                  <a:cubicBezTo>
                    <a:pt x="198" y="876"/>
                    <a:pt x="187" y="887"/>
                    <a:pt x="180" y="900"/>
                  </a:cubicBezTo>
                  <a:cubicBezTo>
                    <a:pt x="172" y="917"/>
                    <a:pt x="162" y="954"/>
                    <a:pt x="162" y="954"/>
                  </a:cubicBezTo>
                  <a:cubicBezTo>
                    <a:pt x="159" y="996"/>
                    <a:pt x="170" y="1041"/>
                    <a:pt x="153" y="1080"/>
                  </a:cubicBezTo>
                  <a:cubicBezTo>
                    <a:pt x="149" y="1090"/>
                    <a:pt x="66" y="1105"/>
                    <a:pt x="54" y="1107"/>
                  </a:cubicBezTo>
                  <a:cubicBezTo>
                    <a:pt x="27" y="1134"/>
                    <a:pt x="12" y="1152"/>
                    <a:pt x="0" y="1188"/>
                  </a:cubicBezTo>
                  <a:cubicBezTo>
                    <a:pt x="10" y="1331"/>
                    <a:pt x="1" y="1305"/>
                    <a:pt x="72" y="1404"/>
                  </a:cubicBezTo>
                  <a:cubicBezTo>
                    <a:pt x="78" y="1413"/>
                    <a:pt x="80" y="1427"/>
                    <a:pt x="90" y="1431"/>
                  </a:cubicBezTo>
                  <a:cubicBezTo>
                    <a:pt x="138" y="1450"/>
                    <a:pt x="192" y="1443"/>
                    <a:pt x="243" y="1449"/>
                  </a:cubicBezTo>
                  <a:cubicBezTo>
                    <a:pt x="565" y="1437"/>
                    <a:pt x="420" y="1481"/>
                    <a:pt x="549" y="1395"/>
                  </a:cubicBezTo>
                  <a:cubicBezTo>
                    <a:pt x="559" y="1343"/>
                    <a:pt x="564" y="1339"/>
                    <a:pt x="612" y="1323"/>
                  </a:cubicBezTo>
                  <a:cubicBezTo>
                    <a:pt x="618" y="1258"/>
                    <a:pt x="610" y="1198"/>
                    <a:pt x="666" y="1161"/>
                  </a:cubicBezTo>
                  <a:cubicBezTo>
                    <a:pt x="683" y="1109"/>
                    <a:pt x="662" y="1156"/>
                    <a:pt x="711" y="1107"/>
                  </a:cubicBezTo>
                  <a:cubicBezTo>
                    <a:pt x="752" y="1066"/>
                    <a:pt x="705" y="1093"/>
                    <a:pt x="747" y="1044"/>
                  </a:cubicBezTo>
                  <a:cubicBezTo>
                    <a:pt x="762" y="1026"/>
                    <a:pt x="805" y="989"/>
                    <a:pt x="828" y="981"/>
                  </a:cubicBezTo>
                  <a:cubicBezTo>
                    <a:pt x="844" y="934"/>
                    <a:pt x="827" y="972"/>
                    <a:pt x="864" y="927"/>
                  </a:cubicBezTo>
                  <a:cubicBezTo>
                    <a:pt x="886" y="900"/>
                    <a:pt x="881" y="895"/>
                    <a:pt x="900" y="864"/>
                  </a:cubicBezTo>
                  <a:cubicBezTo>
                    <a:pt x="923" y="825"/>
                    <a:pt x="949" y="798"/>
                    <a:pt x="963" y="756"/>
                  </a:cubicBezTo>
                  <a:cubicBezTo>
                    <a:pt x="966" y="702"/>
                    <a:pt x="960" y="647"/>
                    <a:pt x="972" y="594"/>
                  </a:cubicBezTo>
                  <a:cubicBezTo>
                    <a:pt x="974" y="585"/>
                    <a:pt x="992" y="596"/>
                    <a:pt x="999" y="603"/>
                  </a:cubicBezTo>
                  <a:cubicBezTo>
                    <a:pt x="1008" y="612"/>
                    <a:pt x="1010" y="627"/>
                    <a:pt x="1017" y="639"/>
                  </a:cubicBezTo>
                  <a:cubicBezTo>
                    <a:pt x="1025" y="654"/>
                    <a:pt x="1034" y="670"/>
                    <a:pt x="1044" y="684"/>
                  </a:cubicBezTo>
                  <a:cubicBezTo>
                    <a:pt x="1064" y="712"/>
                    <a:pt x="1107" y="765"/>
                    <a:pt x="1107" y="765"/>
                  </a:cubicBezTo>
                  <a:cubicBezTo>
                    <a:pt x="1140" y="863"/>
                    <a:pt x="1087" y="714"/>
                    <a:pt x="1134" y="819"/>
                  </a:cubicBezTo>
                  <a:cubicBezTo>
                    <a:pt x="1152" y="860"/>
                    <a:pt x="1161" y="904"/>
                    <a:pt x="1179" y="945"/>
                  </a:cubicBezTo>
                  <a:cubicBezTo>
                    <a:pt x="1193" y="978"/>
                    <a:pt x="1188" y="985"/>
                    <a:pt x="1197" y="1026"/>
                  </a:cubicBezTo>
                  <a:cubicBezTo>
                    <a:pt x="1201" y="1045"/>
                    <a:pt x="1219" y="1084"/>
                    <a:pt x="1224" y="1098"/>
                  </a:cubicBezTo>
                  <a:cubicBezTo>
                    <a:pt x="1242" y="1151"/>
                    <a:pt x="1255" y="1206"/>
                    <a:pt x="1269" y="1260"/>
                  </a:cubicBezTo>
                  <a:cubicBezTo>
                    <a:pt x="1275" y="1283"/>
                    <a:pt x="1272" y="1309"/>
                    <a:pt x="1278" y="1332"/>
                  </a:cubicBezTo>
                  <a:cubicBezTo>
                    <a:pt x="1301" y="1418"/>
                    <a:pt x="1427" y="1461"/>
                    <a:pt x="1503" y="1476"/>
                  </a:cubicBezTo>
                  <a:cubicBezTo>
                    <a:pt x="1588" y="1533"/>
                    <a:pt x="1675" y="1537"/>
                    <a:pt x="1773" y="1557"/>
                  </a:cubicBezTo>
                  <a:cubicBezTo>
                    <a:pt x="1813" y="1577"/>
                    <a:pt x="1916" y="1642"/>
                    <a:pt x="1953" y="1566"/>
                  </a:cubicBezTo>
                  <a:cubicBezTo>
                    <a:pt x="1991" y="1488"/>
                    <a:pt x="1958" y="1392"/>
                    <a:pt x="1962" y="1305"/>
                  </a:cubicBezTo>
                  <a:cubicBezTo>
                    <a:pt x="1964" y="1269"/>
                    <a:pt x="1967" y="1233"/>
                    <a:pt x="1971" y="1197"/>
                  </a:cubicBezTo>
                  <a:cubicBezTo>
                    <a:pt x="1974" y="1174"/>
                    <a:pt x="1977" y="1141"/>
                    <a:pt x="1998" y="1125"/>
                  </a:cubicBezTo>
                  <a:cubicBezTo>
                    <a:pt x="2027" y="1102"/>
                    <a:pt x="2074" y="1092"/>
                    <a:pt x="2106" y="1071"/>
                  </a:cubicBezTo>
                  <a:cubicBezTo>
                    <a:pt x="2022" y="1043"/>
                    <a:pt x="2020" y="1035"/>
                    <a:pt x="1917" y="1026"/>
                  </a:cubicBezTo>
                  <a:cubicBezTo>
                    <a:pt x="1877" y="1013"/>
                    <a:pt x="1847" y="994"/>
                    <a:pt x="1809" y="981"/>
                  </a:cubicBezTo>
                  <a:cubicBezTo>
                    <a:pt x="1790" y="952"/>
                    <a:pt x="1780" y="922"/>
                    <a:pt x="1764" y="891"/>
                  </a:cubicBezTo>
                  <a:cubicBezTo>
                    <a:pt x="1751" y="825"/>
                    <a:pt x="1732" y="732"/>
                    <a:pt x="1674" y="693"/>
                  </a:cubicBezTo>
                  <a:cubicBezTo>
                    <a:pt x="1652" y="660"/>
                    <a:pt x="1639" y="631"/>
                    <a:pt x="1611" y="603"/>
                  </a:cubicBezTo>
                  <a:cubicBezTo>
                    <a:pt x="1595" y="554"/>
                    <a:pt x="1555" y="521"/>
                    <a:pt x="1530" y="477"/>
                  </a:cubicBezTo>
                  <a:cubicBezTo>
                    <a:pt x="1514" y="449"/>
                    <a:pt x="1502" y="413"/>
                    <a:pt x="1485" y="387"/>
                  </a:cubicBezTo>
                  <a:cubicBezTo>
                    <a:pt x="1478" y="376"/>
                    <a:pt x="1466" y="370"/>
                    <a:pt x="1458" y="360"/>
                  </a:cubicBezTo>
                  <a:cubicBezTo>
                    <a:pt x="1437" y="335"/>
                    <a:pt x="1414" y="281"/>
                    <a:pt x="1404" y="261"/>
                  </a:cubicBezTo>
                  <a:cubicBezTo>
                    <a:pt x="1391" y="234"/>
                    <a:pt x="1361" y="194"/>
                    <a:pt x="1359" y="162"/>
                  </a:cubicBezTo>
                  <a:cubicBezTo>
                    <a:pt x="1356" y="108"/>
                    <a:pt x="1359" y="54"/>
                    <a:pt x="1359" y="0"/>
                  </a:cubicBezTo>
                </a:path>
              </a:pathLst>
            </a:custGeom>
            <a:solidFill>
              <a:srgbClr val="ff6600"/>
            </a:solidFill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3337200">
              <a:off x="2806560" y="3426480"/>
              <a:ext cx="288360" cy="264600"/>
            </a:xfrm>
            <a:custGeom>
              <a:avLst/>
              <a:gdLst/>
              <a:ahLst/>
              <a:rect l="l" t="t" r="r" b="b"/>
              <a:pathLst>
                <a:path w="409" h="385">
                  <a:moveTo>
                    <a:pt x="22" y="33"/>
                  </a:moveTo>
                  <a:cubicBezTo>
                    <a:pt x="25" y="108"/>
                    <a:pt x="0" y="190"/>
                    <a:pt x="31" y="258"/>
                  </a:cubicBezTo>
                  <a:cubicBezTo>
                    <a:pt x="44" y="285"/>
                    <a:pt x="101" y="271"/>
                    <a:pt x="121" y="249"/>
                  </a:cubicBezTo>
                  <a:cubicBezTo>
                    <a:pt x="146" y="222"/>
                    <a:pt x="139" y="141"/>
                    <a:pt x="139" y="141"/>
                  </a:cubicBezTo>
                  <a:cubicBezTo>
                    <a:pt x="215" y="160"/>
                    <a:pt x="183" y="210"/>
                    <a:pt x="193" y="294"/>
                  </a:cubicBezTo>
                  <a:cubicBezTo>
                    <a:pt x="197" y="330"/>
                    <a:pt x="256" y="384"/>
                    <a:pt x="256" y="384"/>
                  </a:cubicBezTo>
                  <a:cubicBezTo>
                    <a:pt x="295" y="381"/>
                    <a:pt x="335" y="385"/>
                    <a:pt x="373" y="375"/>
                  </a:cubicBezTo>
                  <a:cubicBezTo>
                    <a:pt x="383" y="372"/>
                    <a:pt x="389" y="359"/>
                    <a:pt x="391" y="348"/>
                  </a:cubicBezTo>
                  <a:cubicBezTo>
                    <a:pt x="406" y="263"/>
                    <a:pt x="409" y="154"/>
                    <a:pt x="409" y="69"/>
                  </a:cubicBezTo>
                  <a:lnTo>
                    <a:pt x="394" y="0"/>
                  </a:lnTo>
                  <a:lnTo>
                    <a:pt x="22" y="33"/>
                  </a:lnTo>
                  <a:close/>
                </a:path>
              </a:pathLst>
            </a:custGeom>
            <a:solidFill>
              <a:srgbClr val="ffcccc"/>
            </a:solidFill>
            <a:ln w="9360">
              <a:solidFill>
                <a:srgbClr val="ffcc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8801000">
              <a:off x="5666040" y="3457800"/>
              <a:ext cx="288360" cy="266040"/>
            </a:xfrm>
            <a:custGeom>
              <a:avLst/>
              <a:gdLst/>
              <a:ahLst/>
              <a:rect l="l" t="t" r="r" b="b"/>
              <a:pathLst>
                <a:path w="409" h="385">
                  <a:moveTo>
                    <a:pt x="22" y="33"/>
                  </a:moveTo>
                  <a:cubicBezTo>
                    <a:pt x="25" y="108"/>
                    <a:pt x="0" y="190"/>
                    <a:pt x="31" y="258"/>
                  </a:cubicBezTo>
                  <a:cubicBezTo>
                    <a:pt x="44" y="285"/>
                    <a:pt x="101" y="271"/>
                    <a:pt x="121" y="249"/>
                  </a:cubicBezTo>
                  <a:cubicBezTo>
                    <a:pt x="146" y="222"/>
                    <a:pt x="139" y="141"/>
                    <a:pt x="139" y="141"/>
                  </a:cubicBezTo>
                  <a:cubicBezTo>
                    <a:pt x="215" y="160"/>
                    <a:pt x="183" y="210"/>
                    <a:pt x="193" y="294"/>
                  </a:cubicBezTo>
                  <a:cubicBezTo>
                    <a:pt x="197" y="330"/>
                    <a:pt x="256" y="384"/>
                    <a:pt x="256" y="384"/>
                  </a:cubicBezTo>
                  <a:cubicBezTo>
                    <a:pt x="295" y="381"/>
                    <a:pt x="335" y="385"/>
                    <a:pt x="373" y="375"/>
                  </a:cubicBezTo>
                  <a:cubicBezTo>
                    <a:pt x="383" y="372"/>
                    <a:pt x="389" y="359"/>
                    <a:pt x="391" y="348"/>
                  </a:cubicBezTo>
                  <a:cubicBezTo>
                    <a:pt x="406" y="263"/>
                    <a:pt x="409" y="154"/>
                    <a:pt x="409" y="69"/>
                  </a:cubicBezTo>
                  <a:lnTo>
                    <a:pt x="394" y="0"/>
                  </a:lnTo>
                  <a:lnTo>
                    <a:pt x="22" y="33"/>
                  </a:lnTo>
                  <a:close/>
                </a:path>
              </a:pathLst>
            </a:custGeom>
            <a:solidFill>
              <a:srgbClr val="ffcccc"/>
            </a:solidFill>
            <a:ln w="9360">
              <a:solidFill>
                <a:srgbClr val="ffcc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791160" y="5979600"/>
              <a:ext cx="555120" cy="192240"/>
            </a:xfrm>
            <a:prstGeom prst="ellipse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554720" y="5979600"/>
              <a:ext cx="555480" cy="192240"/>
            </a:xfrm>
            <a:prstGeom prst="ellipse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539520" y="2412720"/>
              <a:ext cx="1790280" cy="3753720"/>
            </a:xfrm>
            <a:custGeom>
              <a:avLst/>
              <a:gdLst/>
              <a:ahLst/>
              <a:rect l="l" t="t" r="r" b="b"/>
              <a:pathLst>
                <a:path w="1238" h="2810">
                  <a:moveTo>
                    <a:pt x="174" y="171"/>
                  </a:moveTo>
                  <a:cubicBezTo>
                    <a:pt x="183" y="207"/>
                    <a:pt x="190" y="230"/>
                    <a:pt x="210" y="261"/>
                  </a:cubicBezTo>
                  <a:cubicBezTo>
                    <a:pt x="219" y="566"/>
                    <a:pt x="307" y="575"/>
                    <a:pt x="93" y="594"/>
                  </a:cubicBezTo>
                  <a:cubicBezTo>
                    <a:pt x="10" y="649"/>
                    <a:pt x="0" y="645"/>
                    <a:pt x="75" y="846"/>
                  </a:cubicBezTo>
                  <a:cubicBezTo>
                    <a:pt x="84" y="871"/>
                    <a:pt x="129" y="852"/>
                    <a:pt x="156" y="855"/>
                  </a:cubicBezTo>
                  <a:cubicBezTo>
                    <a:pt x="168" y="902"/>
                    <a:pt x="195" y="936"/>
                    <a:pt x="210" y="981"/>
                  </a:cubicBezTo>
                  <a:cubicBezTo>
                    <a:pt x="219" y="1534"/>
                    <a:pt x="232" y="2073"/>
                    <a:pt x="237" y="2628"/>
                  </a:cubicBezTo>
                  <a:cubicBezTo>
                    <a:pt x="432" y="2626"/>
                    <a:pt x="1238" y="2810"/>
                    <a:pt x="966" y="2538"/>
                  </a:cubicBezTo>
                  <a:cubicBezTo>
                    <a:pt x="953" y="2498"/>
                    <a:pt x="936" y="2456"/>
                    <a:pt x="912" y="2421"/>
                  </a:cubicBezTo>
                  <a:cubicBezTo>
                    <a:pt x="901" y="2379"/>
                    <a:pt x="886" y="2337"/>
                    <a:pt x="876" y="2295"/>
                  </a:cubicBezTo>
                  <a:cubicBezTo>
                    <a:pt x="869" y="2265"/>
                    <a:pt x="875" y="2230"/>
                    <a:pt x="858" y="2205"/>
                  </a:cubicBezTo>
                  <a:cubicBezTo>
                    <a:pt x="835" y="2170"/>
                    <a:pt x="843" y="2188"/>
                    <a:pt x="831" y="2151"/>
                  </a:cubicBezTo>
                  <a:cubicBezTo>
                    <a:pt x="840" y="979"/>
                    <a:pt x="447" y="926"/>
                    <a:pt x="1083" y="900"/>
                  </a:cubicBezTo>
                  <a:cubicBezTo>
                    <a:pt x="1092" y="891"/>
                    <a:pt x="1099" y="880"/>
                    <a:pt x="1110" y="873"/>
                  </a:cubicBezTo>
                  <a:cubicBezTo>
                    <a:pt x="1151" y="846"/>
                    <a:pt x="1129" y="888"/>
                    <a:pt x="1146" y="837"/>
                  </a:cubicBezTo>
                  <a:cubicBezTo>
                    <a:pt x="1143" y="768"/>
                    <a:pt x="1142" y="699"/>
                    <a:pt x="1137" y="630"/>
                  </a:cubicBezTo>
                  <a:cubicBezTo>
                    <a:pt x="1136" y="615"/>
                    <a:pt x="1137" y="597"/>
                    <a:pt x="1128" y="585"/>
                  </a:cubicBezTo>
                  <a:cubicBezTo>
                    <a:pt x="1104" y="554"/>
                    <a:pt x="1055" y="543"/>
                    <a:pt x="1020" y="531"/>
                  </a:cubicBezTo>
                  <a:cubicBezTo>
                    <a:pt x="1011" y="528"/>
                    <a:pt x="993" y="522"/>
                    <a:pt x="993" y="522"/>
                  </a:cubicBezTo>
                  <a:cubicBezTo>
                    <a:pt x="919" y="547"/>
                    <a:pt x="958" y="543"/>
                    <a:pt x="876" y="531"/>
                  </a:cubicBezTo>
                  <a:cubicBezTo>
                    <a:pt x="873" y="398"/>
                    <a:pt x="965" y="107"/>
                    <a:pt x="804" y="0"/>
                  </a:cubicBezTo>
                  <a:cubicBezTo>
                    <a:pt x="783" y="3"/>
                    <a:pt x="762" y="5"/>
                    <a:pt x="741" y="9"/>
                  </a:cubicBezTo>
                  <a:cubicBezTo>
                    <a:pt x="732" y="11"/>
                    <a:pt x="715" y="9"/>
                    <a:pt x="714" y="18"/>
                  </a:cubicBezTo>
                  <a:cubicBezTo>
                    <a:pt x="711" y="37"/>
                    <a:pt x="732" y="72"/>
                    <a:pt x="732" y="72"/>
                  </a:cubicBezTo>
                  <a:cubicBezTo>
                    <a:pt x="729" y="153"/>
                    <a:pt x="731" y="234"/>
                    <a:pt x="723" y="315"/>
                  </a:cubicBezTo>
                  <a:cubicBezTo>
                    <a:pt x="720" y="349"/>
                    <a:pt x="651" y="387"/>
                    <a:pt x="651" y="387"/>
                  </a:cubicBezTo>
                  <a:cubicBezTo>
                    <a:pt x="408" y="376"/>
                    <a:pt x="488" y="413"/>
                    <a:pt x="381" y="306"/>
                  </a:cubicBezTo>
                  <a:cubicBezTo>
                    <a:pt x="362" y="248"/>
                    <a:pt x="343" y="195"/>
                    <a:pt x="309" y="144"/>
                  </a:cubicBezTo>
                  <a:cubicBezTo>
                    <a:pt x="298" y="101"/>
                    <a:pt x="307" y="86"/>
                    <a:pt x="264" y="72"/>
                  </a:cubicBezTo>
                  <a:cubicBezTo>
                    <a:pt x="138" y="81"/>
                    <a:pt x="112" y="56"/>
                    <a:pt x="165" y="135"/>
                  </a:cubicBezTo>
                  <a:cubicBezTo>
                    <a:pt x="165" y="135"/>
                    <a:pt x="179" y="194"/>
                    <a:pt x="183" y="198"/>
                  </a:cubicBezTo>
                  <a:cubicBezTo>
                    <a:pt x="190" y="205"/>
                    <a:pt x="213" y="216"/>
                    <a:pt x="210" y="207"/>
                  </a:cubicBezTo>
                  <a:cubicBezTo>
                    <a:pt x="205" y="191"/>
                    <a:pt x="186" y="183"/>
                    <a:pt x="174" y="171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50800" y="3200400"/>
            <a:ext cx="2616120" cy="1615320"/>
            <a:chOff x="3250800" y="3200400"/>
            <a:chExt cx="2616120" cy="1615320"/>
          </a:xfrm>
        </p:grpSpPr>
        <p:sp>
          <p:nvSpPr>
            <p:cNvPr id="200" name=""/>
            <p:cNvSpPr/>
            <p:nvPr/>
          </p:nvSpPr>
          <p:spPr>
            <a:xfrm>
              <a:off x="3377880" y="3300480"/>
              <a:ext cx="1896840" cy="1174680"/>
            </a:xfrm>
            <a:custGeom>
              <a:avLst/>
              <a:gdLst/>
              <a:ahLst/>
              <a:rect l="l" t="t" r="r" b="b"/>
              <a:pathLst>
                <a:path w="1195" h="1019">
                  <a:moveTo>
                    <a:pt x="27" y="119"/>
                  </a:moveTo>
                  <a:cubicBezTo>
                    <a:pt x="36" y="92"/>
                    <a:pt x="45" y="65"/>
                    <a:pt x="54" y="38"/>
                  </a:cubicBezTo>
                  <a:cubicBezTo>
                    <a:pt x="63" y="10"/>
                    <a:pt x="135" y="2"/>
                    <a:pt x="135" y="2"/>
                  </a:cubicBezTo>
                  <a:cubicBezTo>
                    <a:pt x="361" y="13"/>
                    <a:pt x="265" y="0"/>
                    <a:pt x="378" y="38"/>
                  </a:cubicBezTo>
                  <a:cubicBezTo>
                    <a:pt x="391" y="77"/>
                    <a:pt x="404" y="115"/>
                    <a:pt x="414" y="155"/>
                  </a:cubicBezTo>
                  <a:cubicBezTo>
                    <a:pt x="424" y="350"/>
                    <a:pt x="385" y="338"/>
                    <a:pt x="549" y="353"/>
                  </a:cubicBezTo>
                  <a:cubicBezTo>
                    <a:pt x="564" y="356"/>
                    <a:pt x="579" y="362"/>
                    <a:pt x="594" y="362"/>
                  </a:cubicBezTo>
                  <a:cubicBezTo>
                    <a:pt x="723" y="362"/>
                    <a:pt x="852" y="361"/>
                    <a:pt x="981" y="353"/>
                  </a:cubicBezTo>
                  <a:cubicBezTo>
                    <a:pt x="1015" y="351"/>
                    <a:pt x="1080" y="236"/>
                    <a:pt x="1107" y="209"/>
                  </a:cubicBezTo>
                  <a:cubicBezTo>
                    <a:pt x="1113" y="191"/>
                    <a:pt x="1119" y="173"/>
                    <a:pt x="1125" y="155"/>
                  </a:cubicBezTo>
                  <a:cubicBezTo>
                    <a:pt x="1128" y="146"/>
                    <a:pt x="1118" y="173"/>
                    <a:pt x="1116" y="182"/>
                  </a:cubicBezTo>
                  <a:cubicBezTo>
                    <a:pt x="1113" y="194"/>
                    <a:pt x="1110" y="206"/>
                    <a:pt x="1107" y="218"/>
                  </a:cubicBezTo>
                  <a:cubicBezTo>
                    <a:pt x="1104" y="399"/>
                    <a:pt x="1195" y="657"/>
                    <a:pt x="1044" y="758"/>
                  </a:cubicBezTo>
                  <a:cubicBezTo>
                    <a:pt x="1023" y="841"/>
                    <a:pt x="1053" y="755"/>
                    <a:pt x="1008" y="812"/>
                  </a:cubicBezTo>
                  <a:cubicBezTo>
                    <a:pt x="1002" y="819"/>
                    <a:pt x="1004" y="831"/>
                    <a:pt x="999" y="839"/>
                  </a:cubicBezTo>
                  <a:cubicBezTo>
                    <a:pt x="992" y="850"/>
                    <a:pt x="980" y="856"/>
                    <a:pt x="972" y="866"/>
                  </a:cubicBezTo>
                  <a:cubicBezTo>
                    <a:pt x="959" y="883"/>
                    <a:pt x="953" y="907"/>
                    <a:pt x="936" y="920"/>
                  </a:cubicBezTo>
                  <a:cubicBezTo>
                    <a:pt x="873" y="967"/>
                    <a:pt x="821" y="994"/>
                    <a:pt x="747" y="1019"/>
                  </a:cubicBezTo>
                  <a:cubicBezTo>
                    <a:pt x="627" y="1016"/>
                    <a:pt x="507" y="1015"/>
                    <a:pt x="387" y="1010"/>
                  </a:cubicBezTo>
                  <a:cubicBezTo>
                    <a:pt x="342" y="1008"/>
                    <a:pt x="357" y="999"/>
                    <a:pt x="324" y="974"/>
                  </a:cubicBezTo>
                  <a:cubicBezTo>
                    <a:pt x="307" y="961"/>
                    <a:pt x="270" y="938"/>
                    <a:pt x="270" y="938"/>
                  </a:cubicBezTo>
                  <a:cubicBezTo>
                    <a:pt x="258" y="920"/>
                    <a:pt x="246" y="902"/>
                    <a:pt x="234" y="884"/>
                  </a:cubicBezTo>
                  <a:cubicBezTo>
                    <a:pt x="229" y="876"/>
                    <a:pt x="231" y="864"/>
                    <a:pt x="225" y="857"/>
                  </a:cubicBezTo>
                  <a:cubicBezTo>
                    <a:pt x="218" y="849"/>
                    <a:pt x="207" y="845"/>
                    <a:pt x="198" y="839"/>
                  </a:cubicBezTo>
                  <a:cubicBezTo>
                    <a:pt x="195" y="830"/>
                    <a:pt x="193" y="820"/>
                    <a:pt x="189" y="812"/>
                  </a:cubicBezTo>
                  <a:cubicBezTo>
                    <a:pt x="184" y="802"/>
                    <a:pt x="175" y="795"/>
                    <a:pt x="171" y="785"/>
                  </a:cubicBezTo>
                  <a:cubicBezTo>
                    <a:pt x="163" y="768"/>
                    <a:pt x="153" y="731"/>
                    <a:pt x="153" y="731"/>
                  </a:cubicBezTo>
                  <a:cubicBezTo>
                    <a:pt x="157" y="632"/>
                    <a:pt x="141" y="452"/>
                    <a:pt x="207" y="353"/>
                  </a:cubicBezTo>
                  <a:cubicBezTo>
                    <a:pt x="199" y="296"/>
                    <a:pt x="202" y="250"/>
                    <a:pt x="153" y="218"/>
                  </a:cubicBezTo>
                  <a:cubicBezTo>
                    <a:pt x="111" y="221"/>
                    <a:pt x="67" y="214"/>
                    <a:pt x="27" y="227"/>
                  </a:cubicBezTo>
                  <a:cubicBezTo>
                    <a:pt x="15" y="231"/>
                    <a:pt x="30" y="263"/>
                    <a:pt x="18" y="263"/>
                  </a:cubicBezTo>
                  <a:cubicBezTo>
                    <a:pt x="5" y="263"/>
                    <a:pt x="6" y="239"/>
                    <a:pt x="0" y="227"/>
                  </a:cubicBezTo>
                  <a:cubicBezTo>
                    <a:pt x="3" y="203"/>
                    <a:pt x="0" y="177"/>
                    <a:pt x="9" y="155"/>
                  </a:cubicBezTo>
                  <a:cubicBezTo>
                    <a:pt x="13" y="145"/>
                    <a:pt x="32" y="147"/>
                    <a:pt x="36" y="137"/>
                  </a:cubicBezTo>
                  <a:cubicBezTo>
                    <a:pt x="40" y="128"/>
                    <a:pt x="31" y="118"/>
                    <a:pt x="27" y="110"/>
                  </a:cubicBezTo>
                  <a:cubicBezTo>
                    <a:pt x="26" y="107"/>
                    <a:pt x="27" y="116"/>
                    <a:pt x="27" y="119"/>
                  </a:cubicBez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1" name=""/>
            <p:cNvGrpSpPr/>
            <p:nvPr/>
          </p:nvGrpSpPr>
          <p:grpSpPr>
            <a:xfrm>
              <a:off x="3530520" y="3355920"/>
              <a:ext cx="304200" cy="111240"/>
              <a:chOff x="3530520" y="3355920"/>
              <a:chExt cx="304200" cy="111240"/>
            </a:xfrm>
          </p:grpSpPr>
          <p:sp>
            <p:nvSpPr>
              <p:cNvPr id="202" name=""/>
              <p:cNvSpPr/>
              <p:nvPr/>
            </p:nvSpPr>
            <p:spPr>
              <a:xfrm>
                <a:off x="3530520" y="3355920"/>
                <a:ext cx="304200" cy="111240"/>
              </a:xfrm>
              <a:prstGeom prst="ellipse">
                <a:avLst/>
              </a:prstGeom>
              <a:solidFill>
                <a:srgbClr val="00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3591360" y="3355920"/>
                <a:ext cx="182520" cy="1112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3651840" y="3392640"/>
                <a:ext cx="60840" cy="370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5" name=""/>
            <p:cNvSpPr/>
            <p:nvPr/>
          </p:nvSpPr>
          <p:spPr>
            <a:xfrm rot="12848400">
              <a:off x="3276360" y="3466800"/>
              <a:ext cx="334440" cy="193680"/>
            </a:xfrm>
            <a:prstGeom prst="triangle">
              <a:avLst>
                <a:gd name="adj" fmla="val 50000"/>
              </a:avLst>
            </a:prstGeom>
            <a:solidFill>
              <a:srgbClr val="f0312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520800" y="3200400"/>
              <a:ext cx="414000" cy="135000"/>
            </a:xfrm>
            <a:custGeom>
              <a:avLst/>
              <a:gdLst/>
              <a:ahLst/>
              <a:rect l="l" t="t" r="r" b="b"/>
              <a:pathLst>
                <a:path w="261" h="117">
                  <a:moveTo>
                    <a:pt x="0" y="90"/>
                  </a:moveTo>
                  <a:cubicBezTo>
                    <a:pt x="3" y="69"/>
                    <a:pt x="0" y="46"/>
                    <a:pt x="9" y="27"/>
                  </a:cubicBezTo>
                  <a:cubicBezTo>
                    <a:pt x="13" y="17"/>
                    <a:pt x="26" y="6"/>
                    <a:pt x="36" y="9"/>
                  </a:cubicBezTo>
                  <a:cubicBezTo>
                    <a:pt x="45" y="11"/>
                    <a:pt x="38" y="30"/>
                    <a:pt x="45" y="36"/>
                  </a:cubicBezTo>
                  <a:cubicBezTo>
                    <a:pt x="55" y="44"/>
                    <a:pt x="69" y="42"/>
                    <a:pt x="81" y="45"/>
                  </a:cubicBezTo>
                  <a:cubicBezTo>
                    <a:pt x="176" y="21"/>
                    <a:pt x="64" y="54"/>
                    <a:pt x="144" y="18"/>
                  </a:cubicBezTo>
                  <a:cubicBezTo>
                    <a:pt x="161" y="10"/>
                    <a:pt x="198" y="0"/>
                    <a:pt x="198" y="0"/>
                  </a:cubicBezTo>
                  <a:cubicBezTo>
                    <a:pt x="213" y="3"/>
                    <a:pt x="230" y="1"/>
                    <a:pt x="243" y="9"/>
                  </a:cubicBezTo>
                  <a:cubicBezTo>
                    <a:pt x="261" y="21"/>
                    <a:pt x="248" y="75"/>
                    <a:pt x="243" y="81"/>
                  </a:cubicBezTo>
                  <a:cubicBezTo>
                    <a:pt x="230" y="98"/>
                    <a:pt x="189" y="117"/>
                    <a:pt x="189" y="117"/>
                  </a:cubicBezTo>
                  <a:cubicBezTo>
                    <a:pt x="117" y="99"/>
                    <a:pt x="89" y="96"/>
                    <a:pt x="0" y="90"/>
                  </a:cubicBezTo>
                  <a:close/>
                </a:path>
              </a:pathLst>
            </a:custGeom>
            <a:solidFill>
              <a:srgbClr val="f0312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952880" y="4267440"/>
              <a:ext cx="551880" cy="0"/>
            </a:xfrm>
            <a:prstGeom prst="line">
              <a:avLst/>
            </a:prstGeom>
            <a:ln w="763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370040" y="4518000"/>
              <a:ext cx="553680" cy="0"/>
            </a:xfrm>
            <a:prstGeom prst="line">
              <a:avLst/>
            </a:prstGeom>
            <a:ln w="763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rot="18583800">
              <a:off x="3918960" y="3767040"/>
              <a:ext cx="1143000" cy="313920"/>
            </a:xfrm>
            <a:custGeom>
              <a:avLst/>
              <a:gdLst/>
              <a:ahLst/>
              <a:rect l="l" t="t" r="r" b="b"/>
              <a:pathLst>
                <a:path w="720" h="273">
                  <a:moveTo>
                    <a:pt x="0" y="0"/>
                  </a:moveTo>
                  <a:cubicBezTo>
                    <a:pt x="20" y="101"/>
                    <a:pt x="64" y="106"/>
                    <a:pt x="135" y="153"/>
                  </a:cubicBezTo>
                  <a:cubicBezTo>
                    <a:pt x="141" y="171"/>
                    <a:pt x="137" y="196"/>
                    <a:pt x="153" y="207"/>
                  </a:cubicBezTo>
                  <a:cubicBezTo>
                    <a:pt x="221" y="253"/>
                    <a:pt x="298" y="258"/>
                    <a:pt x="378" y="270"/>
                  </a:cubicBezTo>
                  <a:cubicBezTo>
                    <a:pt x="489" y="267"/>
                    <a:pt x="601" y="273"/>
                    <a:pt x="711" y="261"/>
                  </a:cubicBezTo>
                  <a:cubicBezTo>
                    <a:pt x="720" y="260"/>
                    <a:pt x="707" y="242"/>
                    <a:pt x="702" y="234"/>
                  </a:cubicBezTo>
                  <a:cubicBezTo>
                    <a:pt x="691" y="215"/>
                    <a:pt x="678" y="198"/>
                    <a:pt x="666" y="180"/>
                  </a:cubicBezTo>
                  <a:cubicBezTo>
                    <a:pt x="622" y="115"/>
                    <a:pt x="549" y="90"/>
                    <a:pt x="495" y="36"/>
                  </a:cubicBezTo>
                </a:path>
              </a:pathLst>
            </a:custGeom>
            <a:solidFill>
              <a:srgbClr val="ff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0" name=""/>
            <p:cNvGrpSpPr/>
            <p:nvPr/>
          </p:nvGrpSpPr>
          <p:grpSpPr>
            <a:xfrm>
              <a:off x="5485320" y="3962160"/>
              <a:ext cx="381600" cy="533880"/>
              <a:chOff x="5485320" y="3962160"/>
              <a:chExt cx="381600" cy="533880"/>
            </a:xfrm>
          </p:grpSpPr>
          <p:sp>
            <p:nvSpPr>
              <p:cNvPr id="211" name=""/>
              <p:cNvSpPr/>
              <p:nvPr/>
            </p:nvSpPr>
            <p:spPr>
              <a:xfrm>
                <a:off x="5486040" y="4267440"/>
                <a:ext cx="380880" cy="75960"/>
              </a:xfrm>
              <a:prstGeom prst="line">
                <a:avLst/>
              </a:prstGeom>
              <a:ln w="7632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flipV="1">
                <a:off x="5486040" y="3962160"/>
                <a:ext cx="164880" cy="304920"/>
              </a:xfrm>
              <a:prstGeom prst="line">
                <a:avLst/>
              </a:prstGeom>
              <a:ln w="7632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5485320" y="4267440"/>
                <a:ext cx="152280" cy="228600"/>
              </a:xfrm>
              <a:prstGeom prst="line">
                <a:avLst/>
              </a:prstGeom>
              <a:ln w="7632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4" name=""/>
            <p:cNvGrpSpPr/>
            <p:nvPr/>
          </p:nvGrpSpPr>
          <p:grpSpPr>
            <a:xfrm>
              <a:off x="4808520" y="4370400"/>
              <a:ext cx="302400" cy="445320"/>
              <a:chOff x="4808520" y="4370400"/>
              <a:chExt cx="302400" cy="445320"/>
            </a:xfrm>
          </p:grpSpPr>
          <p:sp>
            <p:nvSpPr>
              <p:cNvPr id="215" name=""/>
              <p:cNvSpPr/>
              <p:nvPr/>
            </p:nvSpPr>
            <p:spPr>
              <a:xfrm>
                <a:off x="4808880" y="4541400"/>
                <a:ext cx="282600" cy="266760"/>
              </a:xfrm>
              <a:prstGeom prst="line">
                <a:avLst/>
              </a:prstGeom>
              <a:ln w="7632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V="1">
                <a:off x="4809240" y="4370400"/>
                <a:ext cx="301680" cy="170640"/>
              </a:xfrm>
              <a:prstGeom prst="line">
                <a:avLst/>
              </a:prstGeom>
              <a:ln w="7632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4808520" y="4541040"/>
                <a:ext cx="7560" cy="274680"/>
              </a:xfrm>
              <a:prstGeom prst="line">
                <a:avLst/>
              </a:prstGeom>
              <a:ln w="7632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8" name=""/>
          <p:cNvSpPr txBox="1"/>
          <p:nvPr/>
        </p:nvSpPr>
        <p:spPr>
          <a:xfrm>
            <a:off x="0" y="533520"/>
            <a:ext cx="883908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Однажды,</a:t>
            </a:r>
            <a:endParaRPr b="1" i="1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Их радости и удивлению </a:t>
            </a:r>
            <a:endParaRPr b="1" i="1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Не было предела.</a:t>
            </a:r>
            <a:endParaRPr b="1" i="1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Курочка снесла яичко, </a:t>
            </a:r>
            <a:endParaRPr b="1" i="1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Да не простое,</a:t>
            </a:r>
            <a:endParaRPr b="1" i="1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1" i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А золотое.</a:t>
            </a:r>
            <a:endParaRPr b="1" i="1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385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9" dur="385" fill="hold"/>
                                        <p:tgtEl>
                                          <p:spTgt spid="21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1" dur="385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3" dur="385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0" y="4800600"/>
            <a:ext cx="9144000" cy="205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rot="16200000">
            <a:off x="1866960" y="1562040"/>
            <a:ext cx="1828800" cy="464832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rot="10800000">
            <a:off x="456840" y="0"/>
            <a:ext cx="1523880" cy="464832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rot="9553200">
            <a:off x="1599840" y="2056680"/>
            <a:ext cx="990720" cy="1066680"/>
          </a:xfrm>
          <a:prstGeom prst="foldedCorner">
            <a:avLst>
              <a:gd name="adj" fmla="val 10518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411280" y="2571840"/>
            <a:ext cx="2786040" cy="614160"/>
          </a:xfrm>
          <a:custGeom>
            <a:avLst/>
            <a:gdLst/>
            <a:ahLst/>
            <a:rect l="l" t="t" r="r" b="b"/>
            <a:pathLst>
              <a:path w="1755" h="387">
                <a:moveTo>
                  <a:pt x="29" y="171"/>
                </a:moveTo>
                <a:cubicBezTo>
                  <a:pt x="79" y="138"/>
                  <a:pt x="133" y="122"/>
                  <a:pt x="191" y="108"/>
                </a:cubicBezTo>
                <a:cubicBezTo>
                  <a:pt x="224" y="100"/>
                  <a:pt x="256" y="81"/>
                  <a:pt x="290" y="72"/>
                </a:cubicBezTo>
                <a:cubicBezTo>
                  <a:pt x="358" y="27"/>
                  <a:pt x="463" y="10"/>
                  <a:pt x="542" y="0"/>
                </a:cubicBezTo>
                <a:cubicBezTo>
                  <a:pt x="800" y="3"/>
                  <a:pt x="1058" y="3"/>
                  <a:pt x="1316" y="9"/>
                </a:cubicBezTo>
                <a:cubicBezTo>
                  <a:pt x="1403" y="11"/>
                  <a:pt x="1487" y="63"/>
                  <a:pt x="1559" y="108"/>
                </a:cubicBezTo>
                <a:cubicBezTo>
                  <a:pt x="1632" y="154"/>
                  <a:pt x="1558" y="122"/>
                  <a:pt x="1631" y="144"/>
                </a:cubicBezTo>
                <a:cubicBezTo>
                  <a:pt x="1649" y="149"/>
                  <a:pt x="1685" y="162"/>
                  <a:pt x="1685" y="162"/>
                </a:cubicBezTo>
                <a:cubicBezTo>
                  <a:pt x="1727" y="225"/>
                  <a:pt x="1703" y="204"/>
                  <a:pt x="1748" y="234"/>
                </a:cubicBezTo>
                <a:cubicBezTo>
                  <a:pt x="1745" y="255"/>
                  <a:pt x="1755" y="284"/>
                  <a:pt x="1739" y="297"/>
                </a:cubicBezTo>
                <a:cubicBezTo>
                  <a:pt x="1715" y="316"/>
                  <a:pt x="1678" y="305"/>
                  <a:pt x="1649" y="315"/>
                </a:cubicBezTo>
                <a:cubicBezTo>
                  <a:pt x="1600" y="331"/>
                  <a:pt x="1547" y="338"/>
                  <a:pt x="1496" y="351"/>
                </a:cubicBezTo>
                <a:cubicBezTo>
                  <a:pt x="1450" y="363"/>
                  <a:pt x="1409" y="379"/>
                  <a:pt x="1361" y="387"/>
                </a:cubicBezTo>
                <a:cubicBezTo>
                  <a:pt x="1031" y="384"/>
                  <a:pt x="701" y="386"/>
                  <a:pt x="371" y="378"/>
                </a:cubicBezTo>
                <a:cubicBezTo>
                  <a:pt x="271" y="375"/>
                  <a:pt x="171" y="316"/>
                  <a:pt x="74" y="297"/>
                </a:cubicBezTo>
                <a:cubicBezTo>
                  <a:pt x="33" y="235"/>
                  <a:pt x="59" y="250"/>
                  <a:pt x="11" y="234"/>
                </a:cubicBezTo>
                <a:cubicBezTo>
                  <a:pt x="0" y="202"/>
                  <a:pt x="5" y="195"/>
                  <a:pt x="29" y="171"/>
                </a:cubicBezTo>
                <a:close/>
              </a:path>
            </a:pathLst>
          </a:cu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143000" y="3276720"/>
            <a:ext cx="1447920" cy="1218960"/>
          </a:xfrm>
          <a:prstGeom prst="octagon">
            <a:avLst>
              <a:gd name="adj" fmla="val 29287"/>
            </a:avLst>
          </a:prstGeom>
          <a:solidFill>
            <a:srgbClr val="f0312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486080" y="3613320"/>
            <a:ext cx="625320" cy="403200"/>
          </a:xfrm>
          <a:custGeom>
            <a:avLst/>
            <a:gdLst/>
            <a:ahLst/>
            <a:rect l="l" t="t" r="r" b="b"/>
            <a:pathLst>
              <a:path w="394" h="254">
                <a:moveTo>
                  <a:pt x="0" y="199"/>
                </a:moveTo>
                <a:cubicBezTo>
                  <a:pt x="15" y="154"/>
                  <a:pt x="1" y="186"/>
                  <a:pt x="36" y="136"/>
                </a:cubicBezTo>
                <a:cubicBezTo>
                  <a:pt x="81" y="71"/>
                  <a:pt x="50" y="88"/>
                  <a:pt x="108" y="73"/>
                </a:cubicBezTo>
                <a:cubicBezTo>
                  <a:pt x="170" y="32"/>
                  <a:pt x="141" y="44"/>
                  <a:pt x="189" y="28"/>
                </a:cubicBezTo>
                <a:cubicBezTo>
                  <a:pt x="225" y="31"/>
                  <a:pt x="262" y="27"/>
                  <a:pt x="297" y="37"/>
                </a:cubicBezTo>
                <a:cubicBezTo>
                  <a:pt x="307" y="40"/>
                  <a:pt x="307" y="56"/>
                  <a:pt x="315" y="64"/>
                </a:cubicBezTo>
                <a:cubicBezTo>
                  <a:pt x="394" y="143"/>
                  <a:pt x="281" y="0"/>
                  <a:pt x="369" y="118"/>
                </a:cubicBezTo>
                <a:cubicBezTo>
                  <a:pt x="379" y="159"/>
                  <a:pt x="392" y="194"/>
                  <a:pt x="378" y="235"/>
                </a:cubicBezTo>
                <a:cubicBezTo>
                  <a:pt x="348" y="232"/>
                  <a:pt x="316" y="238"/>
                  <a:pt x="288" y="226"/>
                </a:cubicBezTo>
                <a:cubicBezTo>
                  <a:pt x="279" y="222"/>
                  <a:pt x="297" y="208"/>
                  <a:pt x="297" y="199"/>
                </a:cubicBezTo>
                <a:cubicBezTo>
                  <a:pt x="297" y="178"/>
                  <a:pt x="298" y="155"/>
                  <a:pt x="288" y="136"/>
                </a:cubicBezTo>
                <a:cubicBezTo>
                  <a:pt x="283" y="127"/>
                  <a:pt x="237" y="113"/>
                  <a:pt x="225" y="109"/>
                </a:cubicBezTo>
                <a:cubicBezTo>
                  <a:pt x="201" y="115"/>
                  <a:pt x="177" y="121"/>
                  <a:pt x="153" y="127"/>
                </a:cubicBezTo>
                <a:cubicBezTo>
                  <a:pt x="144" y="129"/>
                  <a:pt x="148" y="146"/>
                  <a:pt x="144" y="154"/>
                </a:cubicBezTo>
                <a:cubicBezTo>
                  <a:pt x="139" y="164"/>
                  <a:pt x="135" y="175"/>
                  <a:pt x="126" y="181"/>
                </a:cubicBezTo>
                <a:cubicBezTo>
                  <a:pt x="116" y="188"/>
                  <a:pt x="102" y="187"/>
                  <a:pt x="90" y="190"/>
                </a:cubicBezTo>
                <a:cubicBezTo>
                  <a:pt x="69" y="254"/>
                  <a:pt x="64" y="246"/>
                  <a:pt x="0" y="235"/>
                </a:cubicBezTo>
                <a:cubicBezTo>
                  <a:pt x="10" y="204"/>
                  <a:pt x="16" y="215"/>
                  <a:pt x="0" y="199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048120" y="3581280"/>
            <a:ext cx="1981080" cy="12193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3048120" y="4419720"/>
            <a:ext cx="990360" cy="380880"/>
            <a:chOff x="3048120" y="4419720"/>
            <a:chExt cx="990360" cy="380880"/>
          </a:xfrm>
        </p:grpSpPr>
        <p:sp>
          <p:nvSpPr>
            <p:cNvPr id="228" name=""/>
            <p:cNvSpPr/>
            <p:nvPr/>
          </p:nvSpPr>
          <p:spPr>
            <a:xfrm>
              <a:off x="3048120" y="4419720"/>
              <a:ext cx="990360" cy="380880"/>
            </a:xfrm>
            <a:prstGeom prst="roundRect">
              <a:avLst>
                <a:gd name="adj" fmla="val 16667"/>
              </a:avLst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048120" y="4419720"/>
              <a:ext cx="188640" cy="380880"/>
            </a:xfrm>
            <a:custGeom>
              <a:avLst/>
              <a:gdLst>
                <a:gd name="textAreaLeft" fmla="*/ 9000 w 188640"/>
                <a:gd name="textAreaRight" fmla="*/ 179640 w 188640"/>
                <a:gd name="textAreaTop" fmla="*/ 9000 h 380880"/>
                <a:gd name="textAreaBottom" fmla="*/ 371880 h 380880"/>
              </a:gdLst>
              <a:ahLst/>
              <a:rect l="textAreaLeft" t="textAreaTop" r="textAreaRight" b="textAreaBottom"/>
              <a:pathLst>
                <a:path w="21600" h="43570">
                  <a:moveTo>
                    <a:pt x="3600" y="0"/>
                  </a:moveTo>
                  <a:arcTo wR="3600" hR="3600" stAng="16200000" swAng="-5400000"/>
                  <a:lnTo>
                    <a:pt x="0" y="39970"/>
                  </a:lnTo>
                  <a:arcTo wR="3600" hR="3600" stAng="10800000" swAng="-5400000"/>
                  <a:lnTo>
                    <a:pt x="18000" y="4357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849840" y="4419720"/>
              <a:ext cx="188640" cy="380880"/>
            </a:xfrm>
            <a:custGeom>
              <a:avLst/>
              <a:gdLst>
                <a:gd name="textAreaLeft" fmla="*/ 9000 w 188640"/>
                <a:gd name="textAreaRight" fmla="*/ 179640 w 188640"/>
                <a:gd name="textAreaTop" fmla="*/ 9000 h 380880"/>
                <a:gd name="textAreaBottom" fmla="*/ 371880 h 380880"/>
              </a:gdLst>
              <a:ahLst/>
              <a:rect l="textAreaLeft" t="textAreaTop" r="textAreaRight" b="textAreaBottom"/>
              <a:pathLst>
                <a:path w="21600" h="43570">
                  <a:moveTo>
                    <a:pt x="3600" y="0"/>
                  </a:moveTo>
                  <a:arcTo wR="3600" hR="3600" stAng="16200000" swAng="-5400000"/>
                  <a:lnTo>
                    <a:pt x="0" y="39970"/>
                  </a:lnTo>
                  <a:arcTo wR="3600" hR="3600" stAng="10800000" swAng="-5400000"/>
                  <a:lnTo>
                    <a:pt x="18000" y="4357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3733920" y="4419720"/>
            <a:ext cx="1295280" cy="380880"/>
            <a:chOff x="3733920" y="4419720"/>
            <a:chExt cx="1295280" cy="380880"/>
          </a:xfrm>
        </p:grpSpPr>
        <p:sp>
          <p:nvSpPr>
            <p:cNvPr id="232" name=""/>
            <p:cNvSpPr/>
            <p:nvPr/>
          </p:nvSpPr>
          <p:spPr>
            <a:xfrm>
              <a:off x="3733920" y="4419720"/>
              <a:ext cx="1295280" cy="380880"/>
            </a:xfrm>
            <a:prstGeom prst="roundRect">
              <a:avLst>
                <a:gd name="adj" fmla="val 16667"/>
              </a:avLst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733920" y="4419720"/>
              <a:ext cx="246600" cy="380880"/>
            </a:xfrm>
            <a:custGeom>
              <a:avLst/>
              <a:gdLst>
                <a:gd name="textAreaLeft" fmla="*/ 11880 w 246600"/>
                <a:gd name="textAreaRight" fmla="*/ 234720 w 246600"/>
                <a:gd name="textAreaTop" fmla="*/ 11880 h 380880"/>
                <a:gd name="textAreaBottom" fmla="*/ 369000 h 380880"/>
              </a:gdLst>
              <a:ahLst/>
              <a:rect l="textAreaLeft" t="textAreaTop" r="textAreaRight" b="textAreaBottom"/>
              <a:pathLst>
                <a:path w="21600" h="33345">
                  <a:moveTo>
                    <a:pt x="3600" y="0"/>
                  </a:moveTo>
                  <a:arcTo wR="3600" hR="3600" stAng="16200000" swAng="-5400000"/>
                  <a:lnTo>
                    <a:pt x="0" y="29745"/>
                  </a:lnTo>
                  <a:arcTo wR="3600" hR="3600" stAng="10800000" swAng="-5400000"/>
                  <a:lnTo>
                    <a:pt x="18000" y="3334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782240" y="4419720"/>
              <a:ext cx="246600" cy="380880"/>
            </a:xfrm>
            <a:custGeom>
              <a:avLst/>
              <a:gdLst>
                <a:gd name="textAreaLeft" fmla="*/ 11880 w 246600"/>
                <a:gd name="textAreaRight" fmla="*/ 234720 w 246600"/>
                <a:gd name="textAreaTop" fmla="*/ 11880 h 380880"/>
                <a:gd name="textAreaBottom" fmla="*/ 369000 h 380880"/>
              </a:gdLst>
              <a:ahLst/>
              <a:rect l="textAreaLeft" t="textAreaTop" r="textAreaRight" b="textAreaBottom"/>
              <a:pathLst>
                <a:path w="21600" h="33345">
                  <a:moveTo>
                    <a:pt x="3600" y="0"/>
                  </a:moveTo>
                  <a:arcTo wR="3600" hR="3600" stAng="16200000" swAng="-5400000"/>
                  <a:lnTo>
                    <a:pt x="0" y="29745"/>
                  </a:lnTo>
                  <a:arcTo wR="3600" hR="3600" stAng="10800000" swAng="-5400000"/>
                  <a:lnTo>
                    <a:pt x="18000" y="3334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" name=""/>
          <p:cNvGrpSpPr/>
          <p:nvPr/>
        </p:nvGrpSpPr>
        <p:grpSpPr>
          <a:xfrm>
            <a:off x="3962520" y="4038480"/>
            <a:ext cx="1066680" cy="381240"/>
            <a:chOff x="3962520" y="4038480"/>
            <a:chExt cx="1066680" cy="381240"/>
          </a:xfrm>
        </p:grpSpPr>
        <p:sp>
          <p:nvSpPr>
            <p:cNvPr id="236" name=""/>
            <p:cNvSpPr/>
            <p:nvPr/>
          </p:nvSpPr>
          <p:spPr>
            <a:xfrm>
              <a:off x="3962520" y="4038480"/>
              <a:ext cx="1066680" cy="381240"/>
            </a:xfrm>
            <a:prstGeom prst="roundRect">
              <a:avLst>
                <a:gd name="adj" fmla="val 16667"/>
              </a:avLst>
            </a:prstGeom>
            <a:blipFill rotWithShape="0">
              <a:blip r:embed="rId10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962520" y="4038480"/>
              <a:ext cx="203040" cy="381240"/>
            </a:xfrm>
            <a:custGeom>
              <a:avLst/>
              <a:gdLst>
                <a:gd name="textAreaLeft" fmla="*/ 9720 w 203040"/>
                <a:gd name="textAreaRight" fmla="*/ 193320 w 203040"/>
                <a:gd name="textAreaTop" fmla="*/ 9720 h 381240"/>
                <a:gd name="textAreaBottom" fmla="*/ 371520 h 381240"/>
              </a:gdLst>
              <a:ahLst/>
              <a:rect l="textAreaLeft" t="textAreaTop" r="textAreaRight" b="textAreaBottom"/>
              <a:pathLst>
                <a:path w="21600" h="40524">
                  <a:moveTo>
                    <a:pt x="3600" y="0"/>
                  </a:moveTo>
                  <a:arcTo wR="3600" hR="3600" stAng="16200000" swAng="-5400000"/>
                  <a:lnTo>
                    <a:pt x="0" y="36924"/>
                  </a:lnTo>
                  <a:arcTo wR="3600" hR="3600" stAng="10800000" swAng="-5400000"/>
                  <a:lnTo>
                    <a:pt x="18000" y="4052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blipFill rotWithShape="0">
              <a:blip r:embed="rId1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825800" y="4038480"/>
              <a:ext cx="203040" cy="381240"/>
            </a:xfrm>
            <a:custGeom>
              <a:avLst/>
              <a:gdLst>
                <a:gd name="textAreaLeft" fmla="*/ 9720 w 203040"/>
                <a:gd name="textAreaRight" fmla="*/ 193320 w 203040"/>
                <a:gd name="textAreaTop" fmla="*/ 9720 h 381240"/>
                <a:gd name="textAreaBottom" fmla="*/ 371520 h 381240"/>
              </a:gdLst>
              <a:ahLst/>
              <a:rect l="textAreaLeft" t="textAreaTop" r="textAreaRight" b="textAreaBottom"/>
              <a:pathLst>
                <a:path w="21600" h="40524">
                  <a:moveTo>
                    <a:pt x="3600" y="0"/>
                  </a:moveTo>
                  <a:arcTo wR="3600" hR="3600" stAng="16200000" swAng="-5400000"/>
                  <a:lnTo>
                    <a:pt x="0" y="36924"/>
                  </a:lnTo>
                  <a:arcTo wR="3600" hR="3600" stAng="10800000" swAng="-5400000"/>
                  <a:lnTo>
                    <a:pt x="18000" y="4052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blipFill rotWithShape="0">
              <a:blip r:embed="rId1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9" name=""/>
          <p:cNvGrpSpPr/>
          <p:nvPr/>
        </p:nvGrpSpPr>
        <p:grpSpPr>
          <a:xfrm>
            <a:off x="3048120" y="4114800"/>
            <a:ext cx="914400" cy="304920"/>
            <a:chOff x="3048120" y="4114800"/>
            <a:chExt cx="914400" cy="304920"/>
          </a:xfrm>
        </p:grpSpPr>
        <p:sp>
          <p:nvSpPr>
            <p:cNvPr id="240" name=""/>
            <p:cNvSpPr/>
            <p:nvPr/>
          </p:nvSpPr>
          <p:spPr>
            <a:xfrm>
              <a:off x="3048120" y="4114800"/>
              <a:ext cx="914400" cy="304920"/>
            </a:xfrm>
            <a:prstGeom prst="roundRect">
              <a:avLst>
                <a:gd name="adj" fmla="val 16667"/>
              </a:avLst>
            </a:prstGeom>
            <a:blipFill rotWithShape="0">
              <a:blip r:embed="rId1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048120" y="4114800"/>
              <a:ext cx="174240" cy="304920"/>
            </a:xfrm>
            <a:custGeom>
              <a:avLst/>
              <a:gdLst>
                <a:gd name="textAreaLeft" fmla="*/ 8280 w 174240"/>
                <a:gd name="textAreaRight" fmla="*/ 165960 w 174240"/>
                <a:gd name="textAreaTop" fmla="*/ 8280 h 304920"/>
                <a:gd name="textAreaBottom" fmla="*/ 296640 h 304920"/>
              </a:gdLst>
              <a:ahLst/>
              <a:rect l="textAreaLeft" t="textAreaTop" r="textAreaRight" b="textAreaBottom"/>
              <a:pathLst>
                <a:path w="21600" h="37767">
                  <a:moveTo>
                    <a:pt x="3600" y="0"/>
                  </a:moveTo>
                  <a:arcTo wR="3600" hR="3600" stAng="16200000" swAng="-5400000"/>
                  <a:lnTo>
                    <a:pt x="0" y="34167"/>
                  </a:lnTo>
                  <a:arcTo wR="3600" hR="3600" stAng="10800000" swAng="-5400000"/>
                  <a:lnTo>
                    <a:pt x="18000" y="3776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blipFill rotWithShape="0">
              <a:blip r:embed="rId1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788280" y="4114800"/>
              <a:ext cx="174240" cy="304920"/>
            </a:xfrm>
            <a:custGeom>
              <a:avLst/>
              <a:gdLst>
                <a:gd name="textAreaLeft" fmla="*/ 8280 w 174240"/>
                <a:gd name="textAreaRight" fmla="*/ 165960 w 174240"/>
                <a:gd name="textAreaTop" fmla="*/ 8280 h 304920"/>
                <a:gd name="textAreaBottom" fmla="*/ 296640 h 304920"/>
              </a:gdLst>
              <a:ahLst/>
              <a:rect l="textAreaLeft" t="textAreaTop" r="textAreaRight" b="textAreaBottom"/>
              <a:pathLst>
                <a:path w="21600" h="37767">
                  <a:moveTo>
                    <a:pt x="3600" y="0"/>
                  </a:moveTo>
                  <a:arcTo wR="3600" hR="3600" stAng="16200000" swAng="-5400000"/>
                  <a:lnTo>
                    <a:pt x="0" y="34167"/>
                  </a:lnTo>
                  <a:arcTo wR="3600" hR="3600" stAng="10800000" swAng="-5400000"/>
                  <a:lnTo>
                    <a:pt x="18000" y="3776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blipFill rotWithShape="0">
              <a:blip r:embed="rId1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" name=""/>
          <p:cNvGrpSpPr/>
          <p:nvPr/>
        </p:nvGrpSpPr>
        <p:grpSpPr>
          <a:xfrm>
            <a:off x="3048120" y="3809880"/>
            <a:ext cx="914400" cy="304920"/>
            <a:chOff x="3048120" y="3809880"/>
            <a:chExt cx="914400" cy="304920"/>
          </a:xfrm>
        </p:grpSpPr>
        <p:sp>
          <p:nvSpPr>
            <p:cNvPr id="244" name=""/>
            <p:cNvSpPr/>
            <p:nvPr/>
          </p:nvSpPr>
          <p:spPr>
            <a:xfrm>
              <a:off x="3048120" y="3809880"/>
              <a:ext cx="914400" cy="304920"/>
            </a:xfrm>
            <a:prstGeom prst="roundRect">
              <a:avLst>
                <a:gd name="adj" fmla="val 16667"/>
              </a:avLst>
            </a:prstGeom>
            <a:blipFill rotWithShape="0">
              <a:blip r:embed="rId1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048120" y="3809880"/>
              <a:ext cx="174240" cy="304920"/>
            </a:xfrm>
            <a:custGeom>
              <a:avLst/>
              <a:gdLst>
                <a:gd name="textAreaLeft" fmla="*/ 8280 w 174240"/>
                <a:gd name="textAreaRight" fmla="*/ 165960 w 174240"/>
                <a:gd name="textAreaTop" fmla="*/ 8280 h 304920"/>
                <a:gd name="textAreaBottom" fmla="*/ 296640 h 304920"/>
              </a:gdLst>
              <a:ahLst/>
              <a:rect l="textAreaLeft" t="textAreaTop" r="textAreaRight" b="textAreaBottom"/>
              <a:pathLst>
                <a:path w="21600" h="37767">
                  <a:moveTo>
                    <a:pt x="3600" y="0"/>
                  </a:moveTo>
                  <a:arcTo wR="3600" hR="3600" stAng="16200000" swAng="-5400000"/>
                  <a:lnTo>
                    <a:pt x="0" y="34167"/>
                  </a:lnTo>
                  <a:arcTo wR="3600" hR="3600" stAng="10800000" swAng="-5400000"/>
                  <a:lnTo>
                    <a:pt x="18000" y="3776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blipFill rotWithShape="0">
              <a:blip r:embed="rId1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788280" y="3809880"/>
              <a:ext cx="174240" cy="304920"/>
            </a:xfrm>
            <a:custGeom>
              <a:avLst/>
              <a:gdLst>
                <a:gd name="textAreaLeft" fmla="*/ 8280 w 174240"/>
                <a:gd name="textAreaRight" fmla="*/ 165960 w 174240"/>
                <a:gd name="textAreaTop" fmla="*/ 8280 h 304920"/>
                <a:gd name="textAreaBottom" fmla="*/ 296640 h 304920"/>
              </a:gdLst>
              <a:ahLst/>
              <a:rect l="textAreaLeft" t="textAreaTop" r="textAreaRight" b="textAreaBottom"/>
              <a:pathLst>
                <a:path w="21600" h="37767">
                  <a:moveTo>
                    <a:pt x="3600" y="0"/>
                  </a:moveTo>
                  <a:arcTo wR="3600" hR="3600" stAng="16200000" swAng="-5400000"/>
                  <a:lnTo>
                    <a:pt x="0" y="34167"/>
                  </a:lnTo>
                  <a:arcTo wR="3600" hR="3600" stAng="10800000" swAng="-5400000"/>
                  <a:lnTo>
                    <a:pt x="18000" y="3776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blipFill rotWithShape="0">
              <a:blip r:embed="rId18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"/>
          <p:cNvSpPr/>
          <p:nvPr/>
        </p:nvSpPr>
        <p:spPr>
          <a:xfrm>
            <a:off x="8381880" y="4495680"/>
            <a:ext cx="482760" cy="387360"/>
          </a:xfrm>
          <a:custGeom>
            <a:avLst/>
            <a:gdLst/>
            <a:ahLst/>
            <a:rect l="l" t="t" r="r" b="b"/>
            <a:pathLst>
              <a:path w="304" h="244">
                <a:moveTo>
                  <a:pt x="21" y="207"/>
                </a:moveTo>
                <a:cubicBezTo>
                  <a:pt x="26" y="129"/>
                  <a:pt x="0" y="61"/>
                  <a:pt x="75" y="36"/>
                </a:cubicBezTo>
                <a:cubicBezTo>
                  <a:pt x="81" y="27"/>
                  <a:pt x="82" y="11"/>
                  <a:pt x="93" y="9"/>
                </a:cubicBezTo>
                <a:cubicBezTo>
                  <a:pt x="159" y="0"/>
                  <a:pt x="228" y="18"/>
                  <a:pt x="282" y="54"/>
                </a:cubicBezTo>
                <a:cubicBezTo>
                  <a:pt x="304" y="119"/>
                  <a:pt x="298" y="151"/>
                  <a:pt x="291" y="225"/>
                </a:cubicBezTo>
                <a:cubicBezTo>
                  <a:pt x="285" y="216"/>
                  <a:pt x="273" y="198"/>
                  <a:pt x="273" y="198"/>
                </a:cubicBezTo>
                <a:cubicBezTo>
                  <a:pt x="189" y="201"/>
                  <a:pt x="104" y="194"/>
                  <a:pt x="21" y="207"/>
                </a:cubicBezTo>
                <a:cubicBezTo>
                  <a:pt x="10" y="209"/>
                  <a:pt x="28" y="234"/>
                  <a:pt x="39" y="234"/>
                </a:cubicBezTo>
                <a:cubicBezTo>
                  <a:pt x="48" y="234"/>
                  <a:pt x="33" y="216"/>
                  <a:pt x="30" y="207"/>
                </a:cubicBezTo>
                <a:cubicBezTo>
                  <a:pt x="7" y="242"/>
                  <a:pt x="9" y="244"/>
                  <a:pt x="21" y="207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638680" y="304920"/>
            <a:ext cx="2895840" cy="25905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715000" y="1752480"/>
            <a:ext cx="11430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238880" y="1752480"/>
            <a:ext cx="11430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715000" y="457200"/>
            <a:ext cx="11430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8880" y="457200"/>
            <a:ext cx="11430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514600" y="5562720"/>
            <a:ext cx="380880" cy="1143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029200" y="5562720"/>
            <a:ext cx="380880" cy="114300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286000" y="4724280"/>
            <a:ext cx="3352680" cy="144792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733920" y="4876920"/>
            <a:ext cx="1752480" cy="990360"/>
          </a:xfrm>
          <a:prstGeom prst="ellipse">
            <a:avLst/>
          </a:prstGeom>
          <a:solidFill>
            <a:srgbClr val="cc0099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962520" y="5029200"/>
            <a:ext cx="1447560" cy="76212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572000" y="5105520"/>
            <a:ext cx="380880" cy="45720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ffcc"/>
              </a:gs>
            </a:gsLst>
            <a:lin ang="1350000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5513040" y="2438280"/>
            <a:ext cx="2161800" cy="4190760"/>
            <a:chOff x="5513040" y="2438280"/>
            <a:chExt cx="2161800" cy="4190760"/>
          </a:xfrm>
        </p:grpSpPr>
        <p:sp>
          <p:nvSpPr>
            <p:cNvPr id="260" name=""/>
            <p:cNvSpPr/>
            <p:nvPr/>
          </p:nvSpPr>
          <p:spPr>
            <a:xfrm>
              <a:off x="5653800" y="3409200"/>
              <a:ext cx="1965960" cy="3117960"/>
            </a:xfrm>
            <a:custGeom>
              <a:avLst/>
              <a:gdLst/>
              <a:ahLst/>
              <a:rect l="l" t="t" r="r" b="b"/>
              <a:pathLst>
                <a:path w="3414" h="2586">
                  <a:moveTo>
                    <a:pt x="1034" y="300"/>
                  </a:moveTo>
                  <a:cubicBezTo>
                    <a:pt x="852" y="239"/>
                    <a:pt x="644" y="322"/>
                    <a:pt x="458" y="336"/>
                  </a:cubicBezTo>
                  <a:cubicBezTo>
                    <a:pt x="421" y="354"/>
                    <a:pt x="397" y="370"/>
                    <a:pt x="368" y="399"/>
                  </a:cubicBezTo>
                  <a:cubicBezTo>
                    <a:pt x="365" y="411"/>
                    <a:pt x="367" y="425"/>
                    <a:pt x="359" y="435"/>
                  </a:cubicBezTo>
                  <a:cubicBezTo>
                    <a:pt x="353" y="442"/>
                    <a:pt x="341" y="440"/>
                    <a:pt x="332" y="444"/>
                  </a:cubicBezTo>
                  <a:cubicBezTo>
                    <a:pt x="320" y="449"/>
                    <a:pt x="307" y="455"/>
                    <a:pt x="296" y="462"/>
                  </a:cubicBezTo>
                  <a:cubicBezTo>
                    <a:pt x="264" y="482"/>
                    <a:pt x="233" y="507"/>
                    <a:pt x="206" y="534"/>
                  </a:cubicBezTo>
                  <a:cubicBezTo>
                    <a:pt x="180" y="611"/>
                    <a:pt x="217" y="493"/>
                    <a:pt x="188" y="669"/>
                  </a:cubicBezTo>
                  <a:cubicBezTo>
                    <a:pt x="185" y="688"/>
                    <a:pt x="175" y="705"/>
                    <a:pt x="170" y="723"/>
                  </a:cubicBezTo>
                  <a:cubicBezTo>
                    <a:pt x="153" y="792"/>
                    <a:pt x="136" y="861"/>
                    <a:pt x="116" y="930"/>
                  </a:cubicBezTo>
                  <a:cubicBezTo>
                    <a:pt x="99" y="990"/>
                    <a:pt x="91" y="1051"/>
                    <a:pt x="71" y="1110"/>
                  </a:cubicBezTo>
                  <a:cubicBezTo>
                    <a:pt x="59" y="1197"/>
                    <a:pt x="52" y="1284"/>
                    <a:pt x="35" y="1371"/>
                  </a:cubicBezTo>
                  <a:cubicBezTo>
                    <a:pt x="29" y="1477"/>
                    <a:pt x="25" y="1581"/>
                    <a:pt x="8" y="1686"/>
                  </a:cubicBezTo>
                  <a:cubicBezTo>
                    <a:pt x="11" y="1776"/>
                    <a:pt x="0" y="1868"/>
                    <a:pt x="17" y="1956"/>
                  </a:cubicBezTo>
                  <a:cubicBezTo>
                    <a:pt x="20" y="1971"/>
                    <a:pt x="47" y="1962"/>
                    <a:pt x="62" y="1965"/>
                  </a:cubicBezTo>
                  <a:cubicBezTo>
                    <a:pt x="98" y="1973"/>
                    <a:pt x="127" y="1990"/>
                    <a:pt x="161" y="2001"/>
                  </a:cubicBezTo>
                  <a:cubicBezTo>
                    <a:pt x="239" y="1998"/>
                    <a:pt x="317" y="1997"/>
                    <a:pt x="395" y="1992"/>
                  </a:cubicBezTo>
                  <a:cubicBezTo>
                    <a:pt x="454" y="1988"/>
                    <a:pt x="516" y="1959"/>
                    <a:pt x="575" y="1947"/>
                  </a:cubicBezTo>
                  <a:cubicBezTo>
                    <a:pt x="603" y="1862"/>
                    <a:pt x="591" y="1912"/>
                    <a:pt x="602" y="1794"/>
                  </a:cubicBezTo>
                  <a:cubicBezTo>
                    <a:pt x="608" y="1553"/>
                    <a:pt x="520" y="1425"/>
                    <a:pt x="710" y="1362"/>
                  </a:cubicBezTo>
                  <a:cubicBezTo>
                    <a:pt x="734" y="1291"/>
                    <a:pt x="824" y="1275"/>
                    <a:pt x="872" y="1227"/>
                  </a:cubicBezTo>
                  <a:lnTo>
                    <a:pt x="740" y="2586"/>
                  </a:lnTo>
                  <a:lnTo>
                    <a:pt x="2612" y="2586"/>
                  </a:lnTo>
                  <a:cubicBezTo>
                    <a:pt x="2486" y="2097"/>
                    <a:pt x="1822" y="979"/>
                    <a:pt x="2312" y="1101"/>
                  </a:cubicBezTo>
                  <a:cubicBezTo>
                    <a:pt x="2381" y="1147"/>
                    <a:pt x="2389" y="1178"/>
                    <a:pt x="2447" y="1236"/>
                  </a:cubicBezTo>
                  <a:cubicBezTo>
                    <a:pt x="2473" y="1313"/>
                    <a:pt x="2447" y="1229"/>
                    <a:pt x="2465" y="1407"/>
                  </a:cubicBezTo>
                  <a:cubicBezTo>
                    <a:pt x="2469" y="1446"/>
                    <a:pt x="2495" y="1471"/>
                    <a:pt x="2510" y="1506"/>
                  </a:cubicBezTo>
                  <a:cubicBezTo>
                    <a:pt x="2549" y="1596"/>
                    <a:pt x="2568" y="1687"/>
                    <a:pt x="2672" y="1722"/>
                  </a:cubicBezTo>
                  <a:cubicBezTo>
                    <a:pt x="2744" y="1719"/>
                    <a:pt x="2816" y="1718"/>
                    <a:pt x="2888" y="1713"/>
                  </a:cubicBezTo>
                  <a:cubicBezTo>
                    <a:pt x="2921" y="1711"/>
                    <a:pt x="2917" y="1696"/>
                    <a:pt x="2942" y="1677"/>
                  </a:cubicBezTo>
                  <a:cubicBezTo>
                    <a:pt x="2991" y="1639"/>
                    <a:pt x="3055" y="1597"/>
                    <a:pt x="3113" y="1578"/>
                  </a:cubicBezTo>
                  <a:cubicBezTo>
                    <a:pt x="3122" y="1569"/>
                    <a:pt x="3129" y="1558"/>
                    <a:pt x="3140" y="1551"/>
                  </a:cubicBezTo>
                  <a:cubicBezTo>
                    <a:pt x="3148" y="1546"/>
                    <a:pt x="3160" y="1548"/>
                    <a:pt x="3167" y="1542"/>
                  </a:cubicBezTo>
                  <a:cubicBezTo>
                    <a:pt x="3175" y="1535"/>
                    <a:pt x="3176" y="1521"/>
                    <a:pt x="3185" y="1515"/>
                  </a:cubicBezTo>
                  <a:cubicBezTo>
                    <a:pt x="3201" y="1505"/>
                    <a:pt x="3221" y="1503"/>
                    <a:pt x="3239" y="1497"/>
                  </a:cubicBezTo>
                  <a:cubicBezTo>
                    <a:pt x="3281" y="1483"/>
                    <a:pt x="3328" y="1450"/>
                    <a:pt x="3365" y="1425"/>
                  </a:cubicBezTo>
                  <a:cubicBezTo>
                    <a:pt x="3359" y="1245"/>
                    <a:pt x="3414" y="1143"/>
                    <a:pt x="3248" y="1110"/>
                  </a:cubicBezTo>
                  <a:cubicBezTo>
                    <a:pt x="3209" y="1084"/>
                    <a:pt x="3178" y="1054"/>
                    <a:pt x="3140" y="1029"/>
                  </a:cubicBezTo>
                  <a:cubicBezTo>
                    <a:pt x="3105" y="976"/>
                    <a:pt x="3087" y="952"/>
                    <a:pt x="3068" y="894"/>
                  </a:cubicBezTo>
                  <a:cubicBezTo>
                    <a:pt x="3065" y="884"/>
                    <a:pt x="3049" y="884"/>
                    <a:pt x="3041" y="876"/>
                  </a:cubicBezTo>
                  <a:cubicBezTo>
                    <a:pt x="3030" y="865"/>
                    <a:pt x="3026" y="850"/>
                    <a:pt x="3014" y="840"/>
                  </a:cubicBezTo>
                  <a:cubicBezTo>
                    <a:pt x="2999" y="827"/>
                    <a:pt x="2975" y="826"/>
                    <a:pt x="2960" y="813"/>
                  </a:cubicBezTo>
                  <a:cubicBezTo>
                    <a:pt x="2928" y="786"/>
                    <a:pt x="2908" y="769"/>
                    <a:pt x="2870" y="750"/>
                  </a:cubicBezTo>
                  <a:cubicBezTo>
                    <a:pt x="2837" y="700"/>
                    <a:pt x="2783" y="674"/>
                    <a:pt x="2726" y="660"/>
                  </a:cubicBezTo>
                  <a:cubicBezTo>
                    <a:pt x="2717" y="654"/>
                    <a:pt x="2709" y="647"/>
                    <a:pt x="2699" y="642"/>
                  </a:cubicBezTo>
                  <a:cubicBezTo>
                    <a:pt x="2691" y="638"/>
                    <a:pt x="2673" y="642"/>
                    <a:pt x="2672" y="633"/>
                  </a:cubicBezTo>
                  <a:cubicBezTo>
                    <a:pt x="2663" y="559"/>
                    <a:pt x="2656" y="485"/>
                    <a:pt x="2726" y="462"/>
                  </a:cubicBezTo>
                  <a:cubicBezTo>
                    <a:pt x="2738" y="426"/>
                    <a:pt x="2757" y="402"/>
                    <a:pt x="2780" y="372"/>
                  </a:cubicBezTo>
                  <a:cubicBezTo>
                    <a:pt x="2800" y="294"/>
                    <a:pt x="2816" y="265"/>
                    <a:pt x="2780" y="174"/>
                  </a:cubicBezTo>
                  <a:cubicBezTo>
                    <a:pt x="2775" y="163"/>
                    <a:pt x="2756" y="168"/>
                    <a:pt x="2744" y="165"/>
                  </a:cubicBezTo>
                  <a:cubicBezTo>
                    <a:pt x="2705" y="154"/>
                    <a:pt x="2663" y="129"/>
                    <a:pt x="2627" y="111"/>
                  </a:cubicBezTo>
                  <a:cubicBezTo>
                    <a:pt x="2404" y="0"/>
                    <a:pt x="2521" y="48"/>
                    <a:pt x="2087" y="48"/>
                  </a:cubicBezTo>
                </a:path>
              </a:pathLst>
            </a:custGeom>
            <a:solidFill>
              <a:srgbClr val="ffff00"/>
            </a:solidFill>
            <a:ln w="9360">
              <a:solidFill>
                <a:srgbClr val="f8f8f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1" name=""/>
            <p:cNvGrpSpPr/>
            <p:nvPr/>
          </p:nvGrpSpPr>
          <p:grpSpPr>
            <a:xfrm>
              <a:off x="5974200" y="2846880"/>
              <a:ext cx="912240" cy="1273320"/>
              <a:chOff x="5974200" y="2846880"/>
              <a:chExt cx="912240" cy="1273320"/>
            </a:xfrm>
          </p:grpSpPr>
          <p:sp>
            <p:nvSpPr>
              <p:cNvPr id="262" name=""/>
              <p:cNvSpPr/>
              <p:nvPr/>
            </p:nvSpPr>
            <p:spPr>
              <a:xfrm>
                <a:off x="6085440" y="2939040"/>
                <a:ext cx="676800" cy="755640"/>
              </a:xfrm>
              <a:prstGeom prst="smileyFace">
                <a:avLst>
                  <a:gd name="adj" fmla="val 9282"/>
                </a:avLst>
              </a:prstGeom>
              <a:solidFill>
                <a:srgbClr val="ffcccc"/>
              </a:solidFill>
              <a:ln w="9360">
                <a:solidFill>
                  <a:srgbClr val="ff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3" name=""/>
              <p:cNvGrpSpPr/>
              <p:nvPr/>
            </p:nvGrpSpPr>
            <p:grpSpPr>
              <a:xfrm>
                <a:off x="6215040" y="3126600"/>
                <a:ext cx="144360" cy="170280"/>
                <a:chOff x="6215040" y="3126600"/>
                <a:chExt cx="144360" cy="170280"/>
              </a:xfrm>
            </p:grpSpPr>
            <p:sp>
              <p:nvSpPr>
                <p:cNvPr id="264" name=""/>
                <p:cNvSpPr/>
                <p:nvPr/>
              </p:nvSpPr>
              <p:spPr>
                <a:xfrm>
                  <a:off x="6215040" y="3126600"/>
                  <a:ext cx="144360" cy="170280"/>
                </a:xfrm>
                <a:prstGeom prst="ellipse">
                  <a:avLst/>
                </a:prstGeom>
                <a:solidFill>
                  <a:srgbClr val="00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6220800" y="3143160"/>
                  <a:ext cx="120600" cy="1224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0320" bIns="403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6249960" y="3171960"/>
                  <a:ext cx="72000" cy="734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040" bIns="5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7" name=""/>
              <p:cNvGrpSpPr/>
              <p:nvPr/>
            </p:nvGrpSpPr>
            <p:grpSpPr>
              <a:xfrm>
                <a:off x="6496920" y="3126600"/>
                <a:ext cx="144360" cy="170280"/>
                <a:chOff x="6496920" y="3126600"/>
                <a:chExt cx="144360" cy="17028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496920" y="3126600"/>
                  <a:ext cx="144360" cy="170280"/>
                </a:xfrm>
                <a:prstGeom prst="ellipse">
                  <a:avLst/>
                </a:prstGeom>
                <a:solidFill>
                  <a:srgbClr val="00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6502680" y="3143160"/>
                  <a:ext cx="120600" cy="1224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0320" bIns="403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531840" y="3171960"/>
                  <a:ext cx="72000" cy="734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040" bIns="5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6381360" y="3501360"/>
                <a:ext cx="115200" cy="128520"/>
              </a:xfrm>
              <a:custGeom>
                <a:avLst/>
                <a:gdLst/>
                <a:ahLst/>
                <a:rect l="l" t="t" r="r" b="b"/>
                <a:pathLst>
                  <a:path w="229" h="134">
                    <a:moveTo>
                      <a:pt x="30" y="58"/>
                    </a:moveTo>
                    <a:cubicBezTo>
                      <a:pt x="54" y="134"/>
                      <a:pt x="152" y="101"/>
                      <a:pt x="215" y="86"/>
                    </a:cubicBezTo>
                    <a:cubicBezTo>
                      <a:pt x="218" y="70"/>
                      <a:pt x="229" y="54"/>
                      <a:pt x="225" y="39"/>
                    </a:cubicBezTo>
                    <a:cubicBezTo>
                      <a:pt x="214" y="0"/>
                      <a:pt x="148" y="37"/>
                      <a:pt x="141" y="39"/>
                    </a:cubicBezTo>
                    <a:cubicBezTo>
                      <a:pt x="0" y="84"/>
                      <a:pt x="67" y="21"/>
                      <a:pt x="30" y="58"/>
                    </a:cubicBezTo>
                    <a:close/>
                  </a:path>
                </a:pathLst>
              </a:custGeom>
              <a:solidFill>
                <a:srgbClr val="fc4614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5974200" y="2846880"/>
                <a:ext cx="912240" cy="1273320"/>
              </a:xfrm>
              <a:custGeom>
                <a:avLst/>
                <a:gdLst/>
                <a:ahLst/>
                <a:rect l="l" t="t" r="r" b="b"/>
                <a:pathLst>
                  <a:path w="958" h="1196">
                    <a:moveTo>
                      <a:pt x="465" y="168"/>
                    </a:moveTo>
                    <a:cubicBezTo>
                      <a:pt x="386" y="178"/>
                      <a:pt x="396" y="183"/>
                      <a:pt x="335" y="205"/>
                    </a:cubicBezTo>
                    <a:cubicBezTo>
                      <a:pt x="323" y="223"/>
                      <a:pt x="310" y="242"/>
                      <a:pt x="298" y="260"/>
                    </a:cubicBezTo>
                    <a:cubicBezTo>
                      <a:pt x="292" y="269"/>
                      <a:pt x="290" y="284"/>
                      <a:pt x="280" y="288"/>
                    </a:cubicBezTo>
                    <a:cubicBezTo>
                      <a:pt x="271" y="291"/>
                      <a:pt x="261" y="293"/>
                      <a:pt x="252" y="298"/>
                    </a:cubicBezTo>
                    <a:cubicBezTo>
                      <a:pt x="232" y="309"/>
                      <a:pt x="196" y="335"/>
                      <a:pt x="196" y="335"/>
                    </a:cubicBezTo>
                    <a:cubicBezTo>
                      <a:pt x="190" y="344"/>
                      <a:pt x="178" y="352"/>
                      <a:pt x="177" y="363"/>
                    </a:cubicBezTo>
                    <a:cubicBezTo>
                      <a:pt x="175" y="402"/>
                      <a:pt x="193" y="557"/>
                      <a:pt x="224" y="604"/>
                    </a:cubicBezTo>
                    <a:cubicBezTo>
                      <a:pt x="231" y="615"/>
                      <a:pt x="244" y="622"/>
                      <a:pt x="252" y="632"/>
                    </a:cubicBezTo>
                    <a:cubicBezTo>
                      <a:pt x="259" y="641"/>
                      <a:pt x="261" y="654"/>
                      <a:pt x="270" y="660"/>
                    </a:cubicBezTo>
                    <a:cubicBezTo>
                      <a:pt x="287" y="670"/>
                      <a:pt x="326" y="678"/>
                      <a:pt x="326" y="678"/>
                    </a:cubicBezTo>
                    <a:cubicBezTo>
                      <a:pt x="382" y="716"/>
                      <a:pt x="412" y="738"/>
                      <a:pt x="475" y="753"/>
                    </a:cubicBezTo>
                    <a:cubicBezTo>
                      <a:pt x="563" y="748"/>
                      <a:pt x="625" y="773"/>
                      <a:pt x="670" y="706"/>
                    </a:cubicBezTo>
                    <a:cubicBezTo>
                      <a:pt x="685" y="661"/>
                      <a:pt x="700" y="629"/>
                      <a:pt x="744" y="613"/>
                    </a:cubicBezTo>
                    <a:cubicBezTo>
                      <a:pt x="766" y="548"/>
                      <a:pt x="752" y="486"/>
                      <a:pt x="791" y="428"/>
                    </a:cubicBezTo>
                    <a:cubicBezTo>
                      <a:pt x="783" y="396"/>
                      <a:pt x="772" y="347"/>
                      <a:pt x="744" y="325"/>
                    </a:cubicBezTo>
                    <a:cubicBezTo>
                      <a:pt x="736" y="319"/>
                      <a:pt x="725" y="321"/>
                      <a:pt x="716" y="316"/>
                    </a:cubicBezTo>
                    <a:cubicBezTo>
                      <a:pt x="618" y="263"/>
                      <a:pt x="696" y="291"/>
                      <a:pt x="633" y="270"/>
                    </a:cubicBezTo>
                    <a:cubicBezTo>
                      <a:pt x="608" y="253"/>
                      <a:pt x="577" y="235"/>
                      <a:pt x="549" y="223"/>
                    </a:cubicBezTo>
                    <a:cubicBezTo>
                      <a:pt x="531" y="215"/>
                      <a:pt x="493" y="205"/>
                      <a:pt x="493" y="205"/>
                    </a:cubicBezTo>
                    <a:cubicBezTo>
                      <a:pt x="484" y="199"/>
                      <a:pt x="475" y="191"/>
                      <a:pt x="465" y="186"/>
                    </a:cubicBezTo>
                    <a:cubicBezTo>
                      <a:pt x="457" y="182"/>
                      <a:pt x="446" y="182"/>
                      <a:pt x="438" y="177"/>
                    </a:cubicBezTo>
                    <a:cubicBezTo>
                      <a:pt x="418" y="166"/>
                      <a:pt x="382" y="140"/>
                      <a:pt x="382" y="140"/>
                    </a:cubicBezTo>
                    <a:cubicBezTo>
                      <a:pt x="369" y="104"/>
                      <a:pt x="364" y="87"/>
                      <a:pt x="326" y="75"/>
                    </a:cubicBezTo>
                    <a:cubicBezTo>
                      <a:pt x="286" y="78"/>
                      <a:pt x="244" y="74"/>
                      <a:pt x="205" y="84"/>
                    </a:cubicBezTo>
                    <a:cubicBezTo>
                      <a:pt x="194" y="87"/>
                      <a:pt x="196" y="105"/>
                      <a:pt x="187" y="112"/>
                    </a:cubicBezTo>
                    <a:cubicBezTo>
                      <a:pt x="179" y="118"/>
                      <a:pt x="168" y="118"/>
                      <a:pt x="159" y="121"/>
                    </a:cubicBezTo>
                    <a:cubicBezTo>
                      <a:pt x="147" y="158"/>
                      <a:pt x="127" y="182"/>
                      <a:pt x="103" y="214"/>
                    </a:cubicBezTo>
                    <a:cubicBezTo>
                      <a:pt x="62" y="335"/>
                      <a:pt x="0" y="526"/>
                      <a:pt x="122" y="604"/>
                    </a:cubicBezTo>
                    <a:cubicBezTo>
                      <a:pt x="151" y="648"/>
                      <a:pt x="158" y="682"/>
                      <a:pt x="205" y="697"/>
                    </a:cubicBezTo>
                    <a:cubicBezTo>
                      <a:pt x="239" y="792"/>
                      <a:pt x="269" y="849"/>
                      <a:pt x="372" y="883"/>
                    </a:cubicBezTo>
                    <a:cubicBezTo>
                      <a:pt x="437" y="880"/>
                      <a:pt x="504" y="887"/>
                      <a:pt x="568" y="874"/>
                    </a:cubicBezTo>
                    <a:cubicBezTo>
                      <a:pt x="578" y="872"/>
                      <a:pt x="564" y="854"/>
                      <a:pt x="558" y="846"/>
                    </a:cubicBezTo>
                    <a:cubicBezTo>
                      <a:pt x="544" y="829"/>
                      <a:pt x="522" y="824"/>
                      <a:pt x="503" y="818"/>
                    </a:cubicBezTo>
                    <a:cubicBezTo>
                      <a:pt x="498" y="815"/>
                      <a:pt x="459" y="784"/>
                      <a:pt x="447" y="790"/>
                    </a:cubicBezTo>
                    <a:cubicBezTo>
                      <a:pt x="438" y="794"/>
                      <a:pt x="441" y="809"/>
                      <a:pt x="438" y="818"/>
                    </a:cubicBezTo>
                    <a:cubicBezTo>
                      <a:pt x="425" y="903"/>
                      <a:pt x="440" y="867"/>
                      <a:pt x="391" y="939"/>
                    </a:cubicBezTo>
                    <a:cubicBezTo>
                      <a:pt x="385" y="948"/>
                      <a:pt x="378" y="957"/>
                      <a:pt x="372" y="966"/>
                    </a:cubicBezTo>
                    <a:cubicBezTo>
                      <a:pt x="366" y="975"/>
                      <a:pt x="354" y="994"/>
                      <a:pt x="354" y="994"/>
                    </a:cubicBezTo>
                    <a:cubicBezTo>
                      <a:pt x="357" y="1053"/>
                      <a:pt x="334" y="1119"/>
                      <a:pt x="363" y="1171"/>
                    </a:cubicBezTo>
                    <a:cubicBezTo>
                      <a:pt x="377" y="1196"/>
                      <a:pt x="422" y="1175"/>
                      <a:pt x="447" y="1162"/>
                    </a:cubicBezTo>
                    <a:cubicBezTo>
                      <a:pt x="467" y="1151"/>
                      <a:pt x="484" y="1106"/>
                      <a:pt x="484" y="1106"/>
                    </a:cubicBezTo>
                    <a:cubicBezTo>
                      <a:pt x="487" y="1097"/>
                      <a:pt x="489" y="1087"/>
                      <a:pt x="493" y="1078"/>
                    </a:cubicBezTo>
                    <a:cubicBezTo>
                      <a:pt x="498" y="1068"/>
                      <a:pt x="507" y="1060"/>
                      <a:pt x="512" y="1050"/>
                    </a:cubicBezTo>
                    <a:cubicBezTo>
                      <a:pt x="556" y="950"/>
                      <a:pt x="506" y="1029"/>
                      <a:pt x="549" y="966"/>
                    </a:cubicBezTo>
                    <a:cubicBezTo>
                      <a:pt x="580" y="873"/>
                      <a:pt x="531" y="896"/>
                      <a:pt x="651" y="883"/>
                    </a:cubicBezTo>
                    <a:cubicBezTo>
                      <a:pt x="660" y="880"/>
                      <a:pt x="670" y="870"/>
                      <a:pt x="679" y="874"/>
                    </a:cubicBezTo>
                    <a:cubicBezTo>
                      <a:pt x="689" y="878"/>
                      <a:pt x="693" y="891"/>
                      <a:pt x="698" y="901"/>
                    </a:cubicBezTo>
                    <a:cubicBezTo>
                      <a:pt x="702" y="910"/>
                      <a:pt x="728" y="978"/>
                      <a:pt x="735" y="1004"/>
                    </a:cubicBezTo>
                    <a:cubicBezTo>
                      <a:pt x="738" y="1016"/>
                      <a:pt x="736" y="1031"/>
                      <a:pt x="744" y="1041"/>
                    </a:cubicBezTo>
                    <a:cubicBezTo>
                      <a:pt x="750" y="1049"/>
                      <a:pt x="763" y="1047"/>
                      <a:pt x="772" y="1050"/>
                    </a:cubicBezTo>
                    <a:cubicBezTo>
                      <a:pt x="801" y="1093"/>
                      <a:pt x="798" y="1107"/>
                      <a:pt x="883" y="1069"/>
                    </a:cubicBezTo>
                    <a:cubicBezTo>
                      <a:pt x="892" y="1065"/>
                      <a:pt x="880" y="1049"/>
                      <a:pt x="874" y="1041"/>
                    </a:cubicBezTo>
                    <a:cubicBezTo>
                      <a:pt x="859" y="1022"/>
                      <a:pt x="835" y="1011"/>
                      <a:pt x="818" y="994"/>
                    </a:cubicBezTo>
                    <a:cubicBezTo>
                      <a:pt x="807" y="958"/>
                      <a:pt x="814" y="918"/>
                      <a:pt x="800" y="883"/>
                    </a:cubicBezTo>
                    <a:cubicBezTo>
                      <a:pt x="798" y="878"/>
                      <a:pt x="744" y="842"/>
                      <a:pt x="735" y="836"/>
                    </a:cubicBezTo>
                    <a:cubicBezTo>
                      <a:pt x="709" y="798"/>
                      <a:pt x="672" y="793"/>
                      <a:pt x="633" y="771"/>
                    </a:cubicBezTo>
                    <a:cubicBezTo>
                      <a:pt x="614" y="760"/>
                      <a:pt x="577" y="734"/>
                      <a:pt x="577" y="734"/>
                    </a:cubicBezTo>
                    <a:cubicBezTo>
                      <a:pt x="524" y="748"/>
                      <a:pt x="549" y="732"/>
                      <a:pt x="521" y="781"/>
                    </a:cubicBezTo>
                    <a:cubicBezTo>
                      <a:pt x="516" y="791"/>
                      <a:pt x="492" y="809"/>
                      <a:pt x="503" y="809"/>
                    </a:cubicBezTo>
                    <a:cubicBezTo>
                      <a:pt x="516" y="809"/>
                      <a:pt x="520" y="789"/>
                      <a:pt x="530" y="781"/>
                    </a:cubicBezTo>
                    <a:cubicBezTo>
                      <a:pt x="548" y="767"/>
                      <a:pt x="565" y="751"/>
                      <a:pt x="586" y="744"/>
                    </a:cubicBezTo>
                    <a:cubicBezTo>
                      <a:pt x="605" y="738"/>
                      <a:pt x="642" y="725"/>
                      <a:pt x="642" y="725"/>
                    </a:cubicBezTo>
                    <a:cubicBezTo>
                      <a:pt x="737" y="738"/>
                      <a:pt x="847" y="763"/>
                      <a:pt x="930" y="706"/>
                    </a:cubicBezTo>
                    <a:cubicBezTo>
                      <a:pt x="933" y="694"/>
                      <a:pt x="935" y="681"/>
                      <a:pt x="939" y="669"/>
                    </a:cubicBezTo>
                    <a:cubicBezTo>
                      <a:pt x="945" y="650"/>
                      <a:pt x="958" y="613"/>
                      <a:pt x="958" y="613"/>
                    </a:cubicBezTo>
                    <a:cubicBezTo>
                      <a:pt x="953" y="585"/>
                      <a:pt x="942" y="558"/>
                      <a:pt x="939" y="530"/>
                    </a:cubicBezTo>
                    <a:cubicBezTo>
                      <a:pt x="934" y="487"/>
                      <a:pt x="940" y="442"/>
                      <a:pt x="930" y="400"/>
                    </a:cubicBezTo>
                    <a:cubicBezTo>
                      <a:pt x="925" y="378"/>
                      <a:pt x="893" y="344"/>
                      <a:pt x="893" y="344"/>
                    </a:cubicBezTo>
                    <a:cubicBezTo>
                      <a:pt x="890" y="332"/>
                      <a:pt x="888" y="319"/>
                      <a:pt x="883" y="307"/>
                    </a:cubicBezTo>
                    <a:cubicBezTo>
                      <a:pt x="879" y="297"/>
                      <a:pt x="868" y="290"/>
                      <a:pt x="865" y="279"/>
                    </a:cubicBezTo>
                    <a:cubicBezTo>
                      <a:pt x="849" y="230"/>
                      <a:pt x="837" y="130"/>
                      <a:pt x="781" y="102"/>
                    </a:cubicBezTo>
                    <a:cubicBezTo>
                      <a:pt x="758" y="91"/>
                      <a:pt x="731" y="92"/>
                      <a:pt x="707" y="84"/>
                    </a:cubicBezTo>
                    <a:cubicBezTo>
                      <a:pt x="670" y="60"/>
                      <a:pt x="635" y="37"/>
                      <a:pt x="595" y="19"/>
                    </a:cubicBezTo>
                    <a:cubicBezTo>
                      <a:pt x="577" y="11"/>
                      <a:pt x="540" y="0"/>
                      <a:pt x="540" y="0"/>
                    </a:cubicBezTo>
                    <a:cubicBezTo>
                      <a:pt x="512" y="3"/>
                      <a:pt x="484" y="5"/>
                      <a:pt x="456" y="10"/>
                    </a:cubicBezTo>
                    <a:cubicBezTo>
                      <a:pt x="416" y="17"/>
                      <a:pt x="339" y="65"/>
                      <a:pt x="298" y="84"/>
                    </a:cubicBezTo>
                  </a:path>
                </a:pathLst>
              </a:custGeom>
              <a:solidFill>
                <a:srgbClr val="cc0099"/>
              </a:solidFill>
              <a:ln w="9360">
                <a:solidFill>
                  <a:srgbClr val="cc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5653800" y="3664800"/>
              <a:ext cx="548640" cy="29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>
              <a:off x="6933600" y="2438280"/>
              <a:ext cx="685800" cy="311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608080" y="3818160"/>
              <a:ext cx="2005920" cy="868680"/>
            </a:xfrm>
            <a:custGeom>
              <a:avLst/>
              <a:gdLst/>
              <a:ahLst/>
              <a:rect l="l" t="t" r="r" b="b"/>
              <a:pathLst>
                <a:path w="2106" h="1642">
                  <a:moveTo>
                    <a:pt x="675" y="81"/>
                  </a:moveTo>
                  <a:cubicBezTo>
                    <a:pt x="668" y="168"/>
                    <a:pt x="671" y="237"/>
                    <a:pt x="594" y="288"/>
                  </a:cubicBezTo>
                  <a:cubicBezTo>
                    <a:pt x="564" y="377"/>
                    <a:pt x="614" y="241"/>
                    <a:pt x="558" y="342"/>
                  </a:cubicBezTo>
                  <a:cubicBezTo>
                    <a:pt x="549" y="359"/>
                    <a:pt x="551" y="380"/>
                    <a:pt x="540" y="396"/>
                  </a:cubicBezTo>
                  <a:cubicBezTo>
                    <a:pt x="515" y="433"/>
                    <a:pt x="496" y="480"/>
                    <a:pt x="459" y="504"/>
                  </a:cubicBezTo>
                  <a:cubicBezTo>
                    <a:pt x="431" y="587"/>
                    <a:pt x="479" y="460"/>
                    <a:pt x="414" y="558"/>
                  </a:cubicBezTo>
                  <a:cubicBezTo>
                    <a:pt x="403" y="574"/>
                    <a:pt x="402" y="594"/>
                    <a:pt x="396" y="612"/>
                  </a:cubicBezTo>
                  <a:cubicBezTo>
                    <a:pt x="392" y="624"/>
                    <a:pt x="377" y="629"/>
                    <a:pt x="369" y="639"/>
                  </a:cubicBezTo>
                  <a:cubicBezTo>
                    <a:pt x="344" y="669"/>
                    <a:pt x="330" y="706"/>
                    <a:pt x="306" y="738"/>
                  </a:cubicBezTo>
                  <a:cubicBezTo>
                    <a:pt x="290" y="785"/>
                    <a:pt x="255" y="848"/>
                    <a:pt x="207" y="864"/>
                  </a:cubicBezTo>
                  <a:cubicBezTo>
                    <a:pt x="198" y="876"/>
                    <a:pt x="187" y="887"/>
                    <a:pt x="180" y="900"/>
                  </a:cubicBezTo>
                  <a:cubicBezTo>
                    <a:pt x="172" y="917"/>
                    <a:pt x="162" y="954"/>
                    <a:pt x="162" y="954"/>
                  </a:cubicBezTo>
                  <a:cubicBezTo>
                    <a:pt x="159" y="996"/>
                    <a:pt x="170" y="1041"/>
                    <a:pt x="153" y="1080"/>
                  </a:cubicBezTo>
                  <a:cubicBezTo>
                    <a:pt x="149" y="1090"/>
                    <a:pt x="66" y="1105"/>
                    <a:pt x="54" y="1107"/>
                  </a:cubicBezTo>
                  <a:cubicBezTo>
                    <a:pt x="27" y="1134"/>
                    <a:pt x="12" y="1152"/>
                    <a:pt x="0" y="1188"/>
                  </a:cubicBezTo>
                  <a:cubicBezTo>
                    <a:pt x="10" y="1331"/>
                    <a:pt x="1" y="1305"/>
                    <a:pt x="72" y="1404"/>
                  </a:cubicBezTo>
                  <a:cubicBezTo>
                    <a:pt x="78" y="1413"/>
                    <a:pt x="80" y="1427"/>
                    <a:pt x="90" y="1431"/>
                  </a:cubicBezTo>
                  <a:cubicBezTo>
                    <a:pt x="138" y="1450"/>
                    <a:pt x="192" y="1443"/>
                    <a:pt x="243" y="1449"/>
                  </a:cubicBezTo>
                  <a:cubicBezTo>
                    <a:pt x="565" y="1437"/>
                    <a:pt x="420" y="1481"/>
                    <a:pt x="549" y="1395"/>
                  </a:cubicBezTo>
                  <a:cubicBezTo>
                    <a:pt x="559" y="1343"/>
                    <a:pt x="564" y="1339"/>
                    <a:pt x="612" y="1323"/>
                  </a:cubicBezTo>
                  <a:cubicBezTo>
                    <a:pt x="618" y="1258"/>
                    <a:pt x="610" y="1198"/>
                    <a:pt x="666" y="1161"/>
                  </a:cubicBezTo>
                  <a:cubicBezTo>
                    <a:pt x="683" y="1109"/>
                    <a:pt x="662" y="1156"/>
                    <a:pt x="711" y="1107"/>
                  </a:cubicBezTo>
                  <a:cubicBezTo>
                    <a:pt x="752" y="1066"/>
                    <a:pt x="705" y="1093"/>
                    <a:pt x="747" y="1044"/>
                  </a:cubicBezTo>
                  <a:cubicBezTo>
                    <a:pt x="762" y="1026"/>
                    <a:pt x="805" y="989"/>
                    <a:pt x="828" y="981"/>
                  </a:cubicBezTo>
                  <a:cubicBezTo>
                    <a:pt x="844" y="934"/>
                    <a:pt x="827" y="972"/>
                    <a:pt x="864" y="927"/>
                  </a:cubicBezTo>
                  <a:cubicBezTo>
                    <a:pt x="886" y="900"/>
                    <a:pt x="881" y="895"/>
                    <a:pt x="900" y="864"/>
                  </a:cubicBezTo>
                  <a:cubicBezTo>
                    <a:pt x="923" y="825"/>
                    <a:pt x="949" y="798"/>
                    <a:pt x="963" y="756"/>
                  </a:cubicBezTo>
                  <a:cubicBezTo>
                    <a:pt x="966" y="702"/>
                    <a:pt x="960" y="647"/>
                    <a:pt x="972" y="594"/>
                  </a:cubicBezTo>
                  <a:cubicBezTo>
                    <a:pt x="974" y="585"/>
                    <a:pt x="992" y="596"/>
                    <a:pt x="999" y="603"/>
                  </a:cubicBezTo>
                  <a:cubicBezTo>
                    <a:pt x="1008" y="612"/>
                    <a:pt x="1010" y="627"/>
                    <a:pt x="1017" y="639"/>
                  </a:cubicBezTo>
                  <a:cubicBezTo>
                    <a:pt x="1025" y="654"/>
                    <a:pt x="1034" y="670"/>
                    <a:pt x="1044" y="684"/>
                  </a:cubicBezTo>
                  <a:cubicBezTo>
                    <a:pt x="1064" y="712"/>
                    <a:pt x="1107" y="765"/>
                    <a:pt x="1107" y="765"/>
                  </a:cubicBezTo>
                  <a:cubicBezTo>
                    <a:pt x="1140" y="863"/>
                    <a:pt x="1087" y="714"/>
                    <a:pt x="1134" y="819"/>
                  </a:cubicBezTo>
                  <a:cubicBezTo>
                    <a:pt x="1152" y="860"/>
                    <a:pt x="1161" y="904"/>
                    <a:pt x="1179" y="945"/>
                  </a:cubicBezTo>
                  <a:cubicBezTo>
                    <a:pt x="1193" y="978"/>
                    <a:pt x="1188" y="985"/>
                    <a:pt x="1197" y="1026"/>
                  </a:cubicBezTo>
                  <a:cubicBezTo>
                    <a:pt x="1201" y="1045"/>
                    <a:pt x="1219" y="1084"/>
                    <a:pt x="1224" y="1098"/>
                  </a:cubicBezTo>
                  <a:cubicBezTo>
                    <a:pt x="1242" y="1151"/>
                    <a:pt x="1255" y="1206"/>
                    <a:pt x="1269" y="1260"/>
                  </a:cubicBezTo>
                  <a:cubicBezTo>
                    <a:pt x="1275" y="1283"/>
                    <a:pt x="1272" y="1309"/>
                    <a:pt x="1278" y="1332"/>
                  </a:cubicBezTo>
                  <a:cubicBezTo>
                    <a:pt x="1301" y="1418"/>
                    <a:pt x="1427" y="1461"/>
                    <a:pt x="1503" y="1476"/>
                  </a:cubicBezTo>
                  <a:cubicBezTo>
                    <a:pt x="1588" y="1533"/>
                    <a:pt x="1675" y="1537"/>
                    <a:pt x="1773" y="1557"/>
                  </a:cubicBezTo>
                  <a:cubicBezTo>
                    <a:pt x="1813" y="1577"/>
                    <a:pt x="1916" y="1642"/>
                    <a:pt x="1953" y="1566"/>
                  </a:cubicBezTo>
                  <a:cubicBezTo>
                    <a:pt x="1991" y="1488"/>
                    <a:pt x="1958" y="1392"/>
                    <a:pt x="1962" y="1305"/>
                  </a:cubicBezTo>
                  <a:cubicBezTo>
                    <a:pt x="1964" y="1269"/>
                    <a:pt x="1967" y="1233"/>
                    <a:pt x="1971" y="1197"/>
                  </a:cubicBezTo>
                  <a:cubicBezTo>
                    <a:pt x="1974" y="1174"/>
                    <a:pt x="1977" y="1141"/>
                    <a:pt x="1998" y="1125"/>
                  </a:cubicBezTo>
                  <a:cubicBezTo>
                    <a:pt x="2027" y="1102"/>
                    <a:pt x="2074" y="1092"/>
                    <a:pt x="2106" y="1071"/>
                  </a:cubicBezTo>
                  <a:cubicBezTo>
                    <a:pt x="2022" y="1043"/>
                    <a:pt x="2020" y="1035"/>
                    <a:pt x="1917" y="1026"/>
                  </a:cubicBezTo>
                  <a:cubicBezTo>
                    <a:pt x="1877" y="1013"/>
                    <a:pt x="1847" y="994"/>
                    <a:pt x="1809" y="981"/>
                  </a:cubicBezTo>
                  <a:cubicBezTo>
                    <a:pt x="1790" y="952"/>
                    <a:pt x="1780" y="922"/>
                    <a:pt x="1764" y="891"/>
                  </a:cubicBezTo>
                  <a:cubicBezTo>
                    <a:pt x="1751" y="825"/>
                    <a:pt x="1732" y="732"/>
                    <a:pt x="1674" y="693"/>
                  </a:cubicBezTo>
                  <a:cubicBezTo>
                    <a:pt x="1652" y="660"/>
                    <a:pt x="1639" y="631"/>
                    <a:pt x="1611" y="603"/>
                  </a:cubicBezTo>
                  <a:cubicBezTo>
                    <a:pt x="1595" y="554"/>
                    <a:pt x="1555" y="521"/>
                    <a:pt x="1530" y="477"/>
                  </a:cubicBezTo>
                  <a:cubicBezTo>
                    <a:pt x="1514" y="449"/>
                    <a:pt x="1502" y="413"/>
                    <a:pt x="1485" y="387"/>
                  </a:cubicBezTo>
                  <a:cubicBezTo>
                    <a:pt x="1478" y="376"/>
                    <a:pt x="1466" y="370"/>
                    <a:pt x="1458" y="360"/>
                  </a:cubicBezTo>
                  <a:cubicBezTo>
                    <a:pt x="1437" y="335"/>
                    <a:pt x="1414" y="281"/>
                    <a:pt x="1404" y="261"/>
                  </a:cubicBezTo>
                  <a:cubicBezTo>
                    <a:pt x="1391" y="234"/>
                    <a:pt x="1361" y="194"/>
                    <a:pt x="1359" y="162"/>
                  </a:cubicBezTo>
                  <a:cubicBezTo>
                    <a:pt x="1356" y="108"/>
                    <a:pt x="1359" y="54"/>
                    <a:pt x="1359" y="0"/>
                  </a:cubicBezTo>
                </a:path>
              </a:pathLst>
            </a:custGeom>
            <a:solidFill>
              <a:srgbClr val="ff6600"/>
            </a:solidFill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rot="3337200">
              <a:off x="5535000" y="4458960"/>
              <a:ext cx="229680" cy="174600"/>
            </a:xfrm>
            <a:custGeom>
              <a:avLst/>
              <a:gdLst/>
              <a:ahLst/>
              <a:rect l="l" t="t" r="r" b="b"/>
              <a:pathLst>
                <a:path w="409" h="385">
                  <a:moveTo>
                    <a:pt x="22" y="33"/>
                  </a:moveTo>
                  <a:cubicBezTo>
                    <a:pt x="25" y="108"/>
                    <a:pt x="0" y="190"/>
                    <a:pt x="31" y="258"/>
                  </a:cubicBezTo>
                  <a:cubicBezTo>
                    <a:pt x="44" y="285"/>
                    <a:pt x="101" y="271"/>
                    <a:pt x="121" y="249"/>
                  </a:cubicBezTo>
                  <a:cubicBezTo>
                    <a:pt x="146" y="222"/>
                    <a:pt x="139" y="141"/>
                    <a:pt x="139" y="141"/>
                  </a:cubicBezTo>
                  <a:cubicBezTo>
                    <a:pt x="215" y="160"/>
                    <a:pt x="183" y="210"/>
                    <a:pt x="193" y="294"/>
                  </a:cubicBezTo>
                  <a:cubicBezTo>
                    <a:pt x="197" y="330"/>
                    <a:pt x="256" y="384"/>
                    <a:pt x="256" y="384"/>
                  </a:cubicBezTo>
                  <a:cubicBezTo>
                    <a:pt x="295" y="381"/>
                    <a:pt x="335" y="385"/>
                    <a:pt x="373" y="375"/>
                  </a:cubicBezTo>
                  <a:cubicBezTo>
                    <a:pt x="383" y="372"/>
                    <a:pt x="389" y="359"/>
                    <a:pt x="391" y="348"/>
                  </a:cubicBezTo>
                  <a:cubicBezTo>
                    <a:pt x="406" y="263"/>
                    <a:pt x="409" y="154"/>
                    <a:pt x="409" y="69"/>
                  </a:cubicBezTo>
                  <a:lnTo>
                    <a:pt x="394" y="0"/>
                  </a:lnTo>
                  <a:lnTo>
                    <a:pt x="22" y="33"/>
                  </a:lnTo>
                  <a:close/>
                </a:path>
              </a:pathLst>
            </a:custGeom>
            <a:solidFill>
              <a:srgbClr val="ffcccc"/>
            </a:solidFill>
            <a:ln w="9360">
              <a:solidFill>
                <a:srgbClr val="ffcc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8801000">
              <a:off x="7417440" y="4484160"/>
              <a:ext cx="229680" cy="175320"/>
            </a:xfrm>
            <a:custGeom>
              <a:avLst/>
              <a:gdLst/>
              <a:ahLst/>
              <a:rect l="l" t="t" r="r" b="b"/>
              <a:pathLst>
                <a:path w="409" h="385">
                  <a:moveTo>
                    <a:pt x="22" y="33"/>
                  </a:moveTo>
                  <a:cubicBezTo>
                    <a:pt x="25" y="108"/>
                    <a:pt x="0" y="190"/>
                    <a:pt x="31" y="258"/>
                  </a:cubicBezTo>
                  <a:cubicBezTo>
                    <a:pt x="44" y="285"/>
                    <a:pt x="101" y="271"/>
                    <a:pt x="121" y="249"/>
                  </a:cubicBezTo>
                  <a:cubicBezTo>
                    <a:pt x="146" y="222"/>
                    <a:pt x="139" y="141"/>
                    <a:pt x="139" y="141"/>
                  </a:cubicBezTo>
                  <a:cubicBezTo>
                    <a:pt x="215" y="160"/>
                    <a:pt x="183" y="210"/>
                    <a:pt x="193" y="294"/>
                  </a:cubicBezTo>
                  <a:cubicBezTo>
                    <a:pt x="197" y="330"/>
                    <a:pt x="256" y="384"/>
                    <a:pt x="256" y="384"/>
                  </a:cubicBezTo>
                  <a:cubicBezTo>
                    <a:pt x="295" y="381"/>
                    <a:pt x="335" y="385"/>
                    <a:pt x="373" y="375"/>
                  </a:cubicBezTo>
                  <a:cubicBezTo>
                    <a:pt x="383" y="372"/>
                    <a:pt x="389" y="359"/>
                    <a:pt x="391" y="348"/>
                  </a:cubicBezTo>
                  <a:cubicBezTo>
                    <a:pt x="406" y="263"/>
                    <a:pt x="409" y="154"/>
                    <a:pt x="409" y="69"/>
                  </a:cubicBezTo>
                  <a:lnTo>
                    <a:pt x="394" y="0"/>
                  </a:lnTo>
                  <a:lnTo>
                    <a:pt x="22" y="33"/>
                  </a:lnTo>
                  <a:close/>
                </a:path>
              </a:pathLst>
            </a:custGeom>
            <a:solidFill>
              <a:srgbClr val="ffcccc"/>
            </a:solidFill>
            <a:ln w="9360">
              <a:solidFill>
                <a:srgbClr val="ffcc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202440" y="6476040"/>
              <a:ext cx="365400" cy="153000"/>
            </a:xfrm>
            <a:prstGeom prst="ellipse">
              <a:avLst/>
            </a:prstGeom>
            <a:blipFill rotWithShape="0">
              <a:blip r:embed="rId2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705360" y="6476040"/>
              <a:ext cx="365760" cy="153000"/>
            </a:xfrm>
            <a:prstGeom prst="ellipse">
              <a:avLst/>
            </a:prstGeom>
            <a:blipFill rotWithShape="0">
              <a:blip r:embed="rId2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036840" y="3632760"/>
              <a:ext cx="1179000" cy="2992320"/>
            </a:xfrm>
            <a:custGeom>
              <a:avLst/>
              <a:gdLst/>
              <a:ahLst/>
              <a:rect l="l" t="t" r="r" b="b"/>
              <a:pathLst>
                <a:path w="1238" h="2810">
                  <a:moveTo>
                    <a:pt x="174" y="171"/>
                  </a:moveTo>
                  <a:cubicBezTo>
                    <a:pt x="183" y="207"/>
                    <a:pt x="190" y="230"/>
                    <a:pt x="210" y="261"/>
                  </a:cubicBezTo>
                  <a:cubicBezTo>
                    <a:pt x="219" y="566"/>
                    <a:pt x="307" y="575"/>
                    <a:pt x="93" y="594"/>
                  </a:cubicBezTo>
                  <a:cubicBezTo>
                    <a:pt x="10" y="649"/>
                    <a:pt x="0" y="645"/>
                    <a:pt x="75" y="846"/>
                  </a:cubicBezTo>
                  <a:cubicBezTo>
                    <a:pt x="84" y="871"/>
                    <a:pt x="129" y="852"/>
                    <a:pt x="156" y="855"/>
                  </a:cubicBezTo>
                  <a:cubicBezTo>
                    <a:pt x="168" y="902"/>
                    <a:pt x="195" y="936"/>
                    <a:pt x="210" y="981"/>
                  </a:cubicBezTo>
                  <a:cubicBezTo>
                    <a:pt x="219" y="1534"/>
                    <a:pt x="232" y="2073"/>
                    <a:pt x="237" y="2628"/>
                  </a:cubicBezTo>
                  <a:cubicBezTo>
                    <a:pt x="432" y="2626"/>
                    <a:pt x="1238" y="2810"/>
                    <a:pt x="966" y="2538"/>
                  </a:cubicBezTo>
                  <a:cubicBezTo>
                    <a:pt x="953" y="2498"/>
                    <a:pt x="936" y="2456"/>
                    <a:pt x="912" y="2421"/>
                  </a:cubicBezTo>
                  <a:cubicBezTo>
                    <a:pt x="901" y="2379"/>
                    <a:pt x="886" y="2337"/>
                    <a:pt x="876" y="2295"/>
                  </a:cubicBezTo>
                  <a:cubicBezTo>
                    <a:pt x="869" y="2265"/>
                    <a:pt x="875" y="2230"/>
                    <a:pt x="858" y="2205"/>
                  </a:cubicBezTo>
                  <a:cubicBezTo>
                    <a:pt x="835" y="2170"/>
                    <a:pt x="843" y="2188"/>
                    <a:pt x="831" y="2151"/>
                  </a:cubicBezTo>
                  <a:cubicBezTo>
                    <a:pt x="840" y="979"/>
                    <a:pt x="447" y="926"/>
                    <a:pt x="1083" y="900"/>
                  </a:cubicBezTo>
                  <a:cubicBezTo>
                    <a:pt x="1092" y="891"/>
                    <a:pt x="1099" y="880"/>
                    <a:pt x="1110" y="873"/>
                  </a:cubicBezTo>
                  <a:cubicBezTo>
                    <a:pt x="1151" y="846"/>
                    <a:pt x="1129" y="888"/>
                    <a:pt x="1146" y="837"/>
                  </a:cubicBezTo>
                  <a:cubicBezTo>
                    <a:pt x="1143" y="768"/>
                    <a:pt x="1142" y="699"/>
                    <a:pt x="1137" y="630"/>
                  </a:cubicBezTo>
                  <a:cubicBezTo>
                    <a:pt x="1136" y="615"/>
                    <a:pt x="1137" y="597"/>
                    <a:pt x="1128" y="585"/>
                  </a:cubicBezTo>
                  <a:cubicBezTo>
                    <a:pt x="1104" y="554"/>
                    <a:pt x="1055" y="543"/>
                    <a:pt x="1020" y="531"/>
                  </a:cubicBezTo>
                  <a:cubicBezTo>
                    <a:pt x="1011" y="528"/>
                    <a:pt x="993" y="522"/>
                    <a:pt x="993" y="522"/>
                  </a:cubicBezTo>
                  <a:cubicBezTo>
                    <a:pt x="919" y="547"/>
                    <a:pt x="958" y="543"/>
                    <a:pt x="876" y="531"/>
                  </a:cubicBezTo>
                  <a:cubicBezTo>
                    <a:pt x="873" y="398"/>
                    <a:pt x="965" y="107"/>
                    <a:pt x="804" y="0"/>
                  </a:cubicBezTo>
                  <a:cubicBezTo>
                    <a:pt x="783" y="3"/>
                    <a:pt x="762" y="5"/>
                    <a:pt x="741" y="9"/>
                  </a:cubicBezTo>
                  <a:cubicBezTo>
                    <a:pt x="732" y="11"/>
                    <a:pt x="715" y="9"/>
                    <a:pt x="714" y="18"/>
                  </a:cubicBezTo>
                  <a:cubicBezTo>
                    <a:pt x="711" y="37"/>
                    <a:pt x="732" y="72"/>
                    <a:pt x="732" y="72"/>
                  </a:cubicBezTo>
                  <a:cubicBezTo>
                    <a:pt x="729" y="153"/>
                    <a:pt x="731" y="234"/>
                    <a:pt x="723" y="315"/>
                  </a:cubicBezTo>
                  <a:cubicBezTo>
                    <a:pt x="720" y="349"/>
                    <a:pt x="651" y="387"/>
                    <a:pt x="651" y="387"/>
                  </a:cubicBezTo>
                  <a:cubicBezTo>
                    <a:pt x="408" y="376"/>
                    <a:pt x="488" y="413"/>
                    <a:pt x="381" y="306"/>
                  </a:cubicBezTo>
                  <a:cubicBezTo>
                    <a:pt x="362" y="248"/>
                    <a:pt x="343" y="195"/>
                    <a:pt x="309" y="144"/>
                  </a:cubicBezTo>
                  <a:cubicBezTo>
                    <a:pt x="298" y="101"/>
                    <a:pt x="307" y="86"/>
                    <a:pt x="264" y="72"/>
                  </a:cubicBezTo>
                  <a:cubicBezTo>
                    <a:pt x="138" y="81"/>
                    <a:pt x="112" y="56"/>
                    <a:pt x="165" y="135"/>
                  </a:cubicBezTo>
                  <a:cubicBezTo>
                    <a:pt x="165" y="135"/>
                    <a:pt x="179" y="194"/>
                    <a:pt x="183" y="198"/>
                  </a:cubicBezTo>
                  <a:cubicBezTo>
                    <a:pt x="190" y="205"/>
                    <a:pt x="213" y="216"/>
                    <a:pt x="210" y="207"/>
                  </a:cubicBezTo>
                  <a:cubicBezTo>
                    <a:pt x="205" y="191"/>
                    <a:pt x="186" y="183"/>
                    <a:pt x="174" y="171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1" name=""/>
          <p:cNvGrpSpPr/>
          <p:nvPr/>
        </p:nvGrpSpPr>
        <p:grpSpPr>
          <a:xfrm>
            <a:off x="4593600" y="4425120"/>
            <a:ext cx="1073520" cy="705960"/>
            <a:chOff x="4593600" y="4425120"/>
            <a:chExt cx="1073520" cy="705960"/>
          </a:xfrm>
        </p:grpSpPr>
        <p:sp>
          <p:nvSpPr>
            <p:cNvPr id="282" name=""/>
            <p:cNvSpPr/>
            <p:nvPr/>
          </p:nvSpPr>
          <p:spPr>
            <a:xfrm flipH="1" rot="19860600">
              <a:off x="4833000" y="4633920"/>
              <a:ext cx="876240" cy="5256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flipH="1" rot="14460600">
              <a:off x="4751280" y="4677120"/>
              <a:ext cx="212760" cy="486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flipH="1" rot="14460600">
              <a:off x="4764240" y="4653360"/>
              <a:ext cx="159480" cy="4860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5" name=""/>
          <p:cNvSpPr txBox="1"/>
          <p:nvPr/>
        </p:nvSpPr>
        <p:spPr>
          <a:xfrm>
            <a:off x="152280" y="1295280"/>
            <a:ext cx="8839440" cy="289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Баба яйцо</a:t>
            </a:r>
            <a:endParaRPr b="1" i="1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Била - Била!</a:t>
            </a:r>
            <a:endParaRPr b="1" i="1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И не разбила.</a:t>
            </a:r>
            <a:endParaRPr b="1" i="1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385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2" dur="385" fill="hold"/>
                                        <p:tgtEl>
                                          <p:spTgt spid="28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4" dur="385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6" dur="385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0" y="4800600"/>
            <a:ext cx="9144000" cy="205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 rot="16200000">
            <a:off x="1866960" y="1562040"/>
            <a:ext cx="1828800" cy="464832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 rot="10800000">
            <a:off x="456840" y="0"/>
            <a:ext cx="1523880" cy="464832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 rot="9553200">
            <a:off x="1599840" y="2056680"/>
            <a:ext cx="990720" cy="1066680"/>
          </a:xfrm>
          <a:prstGeom prst="foldedCorner">
            <a:avLst>
              <a:gd name="adj" fmla="val 10518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411280" y="2571840"/>
            <a:ext cx="2786040" cy="614160"/>
          </a:xfrm>
          <a:custGeom>
            <a:avLst/>
            <a:gdLst/>
            <a:ahLst/>
            <a:rect l="l" t="t" r="r" b="b"/>
            <a:pathLst>
              <a:path w="1755" h="387">
                <a:moveTo>
                  <a:pt x="29" y="171"/>
                </a:moveTo>
                <a:cubicBezTo>
                  <a:pt x="79" y="138"/>
                  <a:pt x="133" y="122"/>
                  <a:pt x="191" y="108"/>
                </a:cubicBezTo>
                <a:cubicBezTo>
                  <a:pt x="224" y="100"/>
                  <a:pt x="256" y="81"/>
                  <a:pt x="290" y="72"/>
                </a:cubicBezTo>
                <a:cubicBezTo>
                  <a:pt x="358" y="27"/>
                  <a:pt x="463" y="10"/>
                  <a:pt x="542" y="0"/>
                </a:cubicBezTo>
                <a:cubicBezTo>
                  <a:pt x="800" y="3"/>
                  <a:pt x="1058" y="3"/>
                  <a:pt x="1316" y="9"/>
                </a:cubicBezTo>
                <a:cubicBezTo>
                  <a:pt x="1403" y="11"/>
                  <a:pt x="1487" y="63"/>
                  <a:pt x="1559" y="108"/>
                </a:cubicBezTo>
                <a:cubicBezTo>
                  <a:pt x="1632" y="154"/>
                  <a:pt x="1558" y="122"/>
                  <a:pt x="1631" y="144"/>
                </a:cubicBezTo>
                <a:cubicBezTo>
                  <a:pt x="1649" y="149"/>
                  <a:pt x="1685" y="162"/>
                  <a:pt x="1685" y="162"/>
                </a:cubicBezTo>
                <a:cubicBezTo>
                  <a:pt x="1727" y="225"/>
                  <a:pt x="1703" y="204"/>
                  <a:pt x="1748" y="234"/>
                </a:cubicBezTo>
                <a:cubicBezTo>
                  <a:pt x="1745" y="255"/>
                  <a:pt x="1755" y="284"/>
                  <a:pt x="1739" y="297"/>
                </a:cubicBezTo>
                <a:cubicBezTo>
                  <a:pt x="1715" y="316"/>
                  <a:pt x="1678" y="305"/>
                  <a:pt x="1649" y="315"/>
                </a:cubicBezTo>
                <a:cubicBezTo>
                  <a:pt x="1600" y="331"/>
                  <a:pt x="1547" y="338"/>
                  <a:pt x="1496" y="351"/>
                </a:cubicBezTo>
                <a:cubicBezTo>
                  <a:pt x="1450" y="363"/>
                  <a:pt x="1409" y="379"/>
                  <a:pt x="1361" y="387"/>
                </a:cubicBezTo>
                <a:cubicBezTo>
                  <a:pt x="1031" y="384"/>
                  <a:pt x="701" y="386"/>
                  <a:pt x="371" y="378"/>
                </a:cubicBezTo>
                <a:cubicBezTo>
                  <a:pt x="271" y="375"/>
                  <a:pt x="171" y="316"/>
                  <a:pt x="74" y="297"/>
                </a:cubicBezTo>
                <a:cubicBezTo>
                  <a:pt x="33" y="235"/>
                  <a:pt x="59" y="250"/>
                  <a:pt x="11" y="234"/>
                </a:cubicBezTo>
                <a:cubicBezTo>
                  <a:pt x="0" y="202"/>
                  <a:pt x="5" y="195"/>
                  <a:pt x="29" y="171"/>
                </a:cubicBezTo>
                <a:close/>
              </a:path>
            </a:pathLst>
          </a:cu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143000" y="3276720"/>
            <a:ext cx="1447920" cy="1218960"/>
          </a:xfrm>
          <a:prstGeom prst="octagon">
            <a:avLst>
              <a:gd name="adj" fmla="val 29287"/>
            </a:avLst>
          </a:prstGeom>
          <a:solidFill>
            <a:srgbClr val="f0312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486080" y="3613320"/>
            <a:ext cx="625320" cy="403200"/>
          </a:xfrm>
          <a:custGeom>
            <a:avLst/>
            <a:gdLst/>
            <a:ahLst/>
            <a:rect l="l" t="t" r="r" b="b"/>
            <a:pathLst>
              <a:path w="394" h="254">
                <a:moveTo>
                  <a:pt x="0" y="199"/>
                </a:moveTo>
                <a:cubicBezTo>
                  <a:pt x="15" y="154"/>
                  <a:pt x="1" y="186"/>
                  <a:pt x="36" y="136"/>
                </a:cubicBezTo>
                <a:cubicBezTo>
                  <a:pt x="81" y="71"/>
                  <a:pt x="50" y="88"/>
                  <a:pt x="108" y="73"/>
                </a:cubicBezTo>
                <a:cubicBezTo>
                  <a:pt x="170" y="32"/>
                  <a:pt x="141" y="44"/>
                  <a:pt x="189" y="28"/>
                </a:cubicBezTo>
                <a:cubicBezTo>
                  <a:pt x="225" y="31"/>
                  <a:pt x="262" y="27"/>
                  <a:pt x="297" y="37"/>
                </a:cubicBezTo>
                <a:cubicBezTo>
                  <a:pt x="307" y="40"/>
                  <a:pt x="307" y="56"/>
                  <a:pt x="315" y="64"/>
                </a:cubicBezTo>
                <a:cubicBezTo>
                  <a:pt x="394" y="143"/>
                  <a:pt x="281" y="0"/>
                  <a:pt x="369" y="118"/>
                </a:cubicBezTo>
                <a:cubicBezTo>
                  <a:pt x="379" y="159"/>
                  <a:pt x="392" y="194"/>
                  <a:pt x="378" y="235"/>
                </a:cubicBezTo>
                <a:cubicBezTo>
                  <a:pt x="348" y="232"/>
                  <a:pt x="316" y="238"/>
                  <a:pt x="288" y="226"/>
                </a:cubicBezTo>
                <a:cubicBezTo>
                  <a:pt x="279" y="222"/>
                  <a:pt x="297" y="208"/>
                  <a:pt x="297" y="199"/>
                </a:cubicBezTo>
                <a:cubicBezTo>
                  <a:pt x="297" y="178"/>
                  <a:pt x="298" y="155"/>
                  <a:pt x="288" y="136"/>
                </a:cubicBezTo>
                <a:cubicBezTo>
                  <a:pt x="283" y="127"/>
                  <a:pt x="237" y="113"/>
                  <a:pt x="225" y="109"/>
                </a:cubicBezTo>
                <a:cubicBezTo>
                  <a:pt x="201" y="115"/>
                  <a:pt x="177" y="121"/>
                  <a:pt x="153" y="127"/>
                </a:cubicBezTo>
                <a:cubicBezTo>
                  <a:pt x="144" y="129"/>
                  <a:pt x="148" y="146"/>
                  <a:pt x="144" y="154"/>
                </a:cubicBezTo>
                <a:cubicBezTo>
                  <a:pt x="139" y="164"/>
                  <a:pt x="135" y="175"/>
                  <a:pt x="126" y="181"/>
                </a:cubicBezTo>
                <a:cubicBezTo>
                  <a:pt x="116" y="188"/>
                  <a:pt x="102" y="187"/>
                  <a:pt x="90" y="190"/>
                </a:cubicBezTo>
                <a:cubicBezTo>
                  <a:pt x="69" y="254"/>
                  <a:pt x="64" y="246"/>
                  <a:pt x="0" y="235"/>
                </a:cubicBezTo>
                <a:cubicBezTo>
                  <a:pt x="10" y="204"/>
                  <a:pt x="16" y="215"/>
                  <a:pt x="0" y="199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048120" y="3581280"/>
            <a:ext cx="1981080" cy="12193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3048120" y="4419720"/>
            <a:ext cx="990360" cy="380880"/>
            <a:chOff x="3048120" y="4419720"/>
            <a:chExt cx="990360" cy="380880"/>
          </a:xfrm>
        </p:grpSpPr>
        <p:sp>
          <p:nvSpPr>
            <p:cNvPr id="295" name=""/>
            <p:cNvSpPr/>
            <p:nvPr/>
          </p:nvSpPr>
          <p:spPr>
            <a:xfrm>
              <a:off x="3048120" y="4419720"/>
              <a:ext cx="990360" cy="380880"/>
            </a:xfrm>
            <a:prstGeom prst="roundRect">
              <a:avLst>
                <a:gd name="adj" fmla="val 16667"/>
              </a:avLst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048120" y="4419720"/>
              <a:ext cx="188640" cy="380880"/>
            </a:xfrm>
            <a:custGeom>
              <a:avLst/>
              <a:gdLst>
                <a:gd name="textAreaLeft" fmla="*/ 9000 w 188640"/>
                <a:gd name="textAreaRight" fmla="*/ 179640 w 188640"/>
                <a:gd name="textAreaTop" fmla="*/ 9000 h 380880"/>
                <a:gd name="textAreaBottom" fmla="*/ 371880 h 380880"/>
              </a:gdLst>
              <a:ahLst/>
              <a:rect l="textAreaLeft" t="textAreaTop" r="textAreaRight" b="textAreaBottom"/>
              <a:pathLst>
                <a:path w="21600" h="43570">
                  <a:moveTo>
                    <a:pt x="3600" y="0"/>
                  </a:moveTo>
                  <a:arcTo wR="3600" hR="3600" stAng="16200000" swAng="-5400000"/>
                  <a:lnTo>
                    <a:pt x="0" y="39970"/>
                  </a:lnTo>
                  <a:arcTo wR="3600" hR="3600" stAng="10800000" swAng="-5400000"/>
                  <a:lnTo>
                    <a:pt x="18000" y="4357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849840" y="4419720"/>
              <a:ext cx="188640" cy="380880"/>
            </a:xfrm>
            <a:custGeom>
              <a:avLst/>
              <a:gdLst>
                <a:gd name="textAreaLeft" fmla="*/ 9000 w 188640"/>
                <a:gd name="textAreaRight" fmla="*/ 179640 w 188640"/>
                <a:gd name="textAreaTop" fmla="*/ 9000 h 380880"/>
                <a:gd name="textAreaBottom" fmla="*/ 371880 h 380880"/>
              </a:gdLst>
              <a:ahLst/>
              <a:rect l="textAreaLeft" t="textAreaTop" r="textAreaRight" b="textAreaBottom"/>
              <a:pathLst>
                <a:path w="21600" h="43570">
                  <a:moveTo>
                    <a:pt x="3600" y="0"/>
                  </a:moveTo>
                  <a:arcTo wR="3600" hR="3600" stAng="16200000" swAng="-5400000"/>
                  <a:lnTo>
                    <a:pt x="0" y="39970"/>
                  </a:lnTo>
                  <a:arcTo wR="3600" hR="3600" stAng="10800000" swAng="-5400000"/>
                  <a:lnTo>
                    <a:pt x="18000" y="4357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3733920" y="4419720"/>
            <a:ext cx="1295280" cy="380880"/>
            <a:chOff x="3733920" y="4419720"/>
            <a:chExt cx="1295280" cy="380880"/>
          </a:xfrm>
        </p:grpSpPr>
        <p:sp>
          <p:nvSpPr>
            <p:cNvPr id="299" name=""/>
            <p:cNvSpPr/>
            <p:nvPr/>
          </p:nvSpPr>
          <p:spPr>
            <a:xfrm>
              <a:off x="3733920" y="4419720"/>
              <a:ext cx="1295280" cy="380880"/>
            </a:xfrm>
            <a:prstGeom prst="roundRect">
              <a:avLst>
                <a:gd name="adj" fmla="val 16667"/>
              </a:avLst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733920" y="4419720"/>
              <a:ext cx="246600" cy="380880"/>
            </a:xfrm>
            <a:custGeom>
              <a:avLst/>
              <a:gdLst>
                <a:gd name="textAreaLeft" fmla="*/ 11880 w 246600"/>
                <a:gd name="textAreaRight" fmla="*/ 234720 w 246600"/>
                <a:gd name="textAreaTop" fmla="*/ 11880 h 380880"/>
                <a:gd name="textAreaBottom" fmla="*/ 369000 h 380880"/>
              </a:gdLst>
              <a:ahLst/>
              <a:rect l="textAreaLeft" t="textAreaTop" r="textAreaRight" b="textAreaBottom"/>
              <a:pathLst>
                <a:path w="21600" h="33345">
                  <a:moveTo>
                    <a:pt x="3600" y="0"/>
                  </a:moveTo>
                  <a:arcTo wR="3600" hR="3600" stAng="16200000" swAng="-5400000"/>
                  <a:lnTo>
                    <a:pt x="0" y="29745"/>
                  </a:lnTo>
                  <a:arcTo wR="3600" hR="3600" stAng="10800000" swAng="-5400000"/>
                  <a:lnTo>
                    <a:pt x="18000" y="3334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782240" y="4419720"/>
              <a:ext cx="246600" cy="380880"/>
            </a:xfrm>
            <a:custGeom>
              <a:avLst/>
              <a:gdLst>
                <a:gd name="textAreaLeft" fmla="*/ 11880 w 246600"/>
                <a:gd name="textAreaRight" fmla="*/ 234720 w 246600"/>
                <a:gd name="textAreaTop" fmla="*/ 11880 h 380880"/>
                <a:gd name="textAreaBottom" fmla="*/ 369000 h 380880"/>
              </a:gdLst>
              <a:ahLst/>
              <a:rect l="textAreaLeft" t="textAreaTop" r="textAreaRight" b="textAreaBottom"/>
              <a:pathLst>
                <a:path w="21600" h="33345">
                  <a:moveTo>
                    <a:pt x="3600" y="0"/>
                  </a:moveTo>
                  <a:arcTo wR="3600" hR="3600" stAng="16200000" swAng="-5400000"/>
                  <a:lnTo>
                    <a:pt x="0" y="29745"/>
                  </a:lnTo>
                  <a:arcTo wR="3600" hR="3600" stAng="10800000" swAng="-5400000"/>
                  <a:lnTo>
                    <a:pt x="18000" y="3334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" name=""/>
          <p:cNvGrpSpPr/>
          <p:nvPr/>
        </p:nvGrpSpPr>
        <p:grpSpPr>
          <a:xfrm>
            <a:off x="3962520" y="4038480"/>
            <a:ext cx="1066680" cy="381240"/>
            <a:chOff x="3962520" y="4038480"/>
            <a:chExt cx="1066680" cy="381240"/>
          </a:xfrm>
        </p:grpSpPr>
        <p:sp>
          <p:nvSpPr>
            <p:cNvPr id="303" name=""/>
            <p:cNvSpPr/>
            <p:nvPr/>
          </p:nvSpPr>
          <p:spPr>
            <a:xfrm>
              <a:off x="3962520" y="4038480"/>
              <a:ext cx="1066680" cy="381240"/>
            </a:xfrm>
            <a:prstGeom prst="roundRect">
              <a:avLst>
                <a:gd name="adj" fmla="val 16667"/>
              </a:avLst>
            </a:prstGeom>
            <a:blipFill rotWithShape="0">
              <a:blip r:embed="rId10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3962520" y="4038480"/>
              <a:ext cx="203040" cy="381240"/>
            </a:xfrm>
            <a:custGeom>
              <a:avLst/>
              <a:gdLst>
                <a:gd name="textAreaLeft" fmla="*/ 9720 w 203040"/>
                <a:gd name="textAreaRight" fmla="*/ 193320 w 203040"/>
                <a:gd name="textAreaTop" fmla="*/ 9720 h 381240"/>
                <a:gd name="textAreaBottom" fmla="*/ 371520 h 381240"/>
              </a:gdLst>
              <a:ahLst/>
              <a:rect l="textAreaLeft" t="textAreaTop" r="textAreaRight" b="textAreaBottom"/>
              <a:pathLst>
                <a:path w="21600" h="40524">
                  <a:moveTo>
                    <a:pt x="3600" y="0"/>
                  </a:moveTo>
                  <a:arcTo wR="3600" hR="3600" stAng="16200000" swAng="-5400000"/>
                  <a:lnTo>
                    <a:pt x="0" y="36924"/>
                  </a:lnTo>
                  <a:arcTo wR="3600" hR="3600" stAng="10800000" swAng="-5400000"/>
                  <a:lnTo>
                    <a:pt x="18000" y="4052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blipFill rotWithShape="0">
              <a:blip r:embed="rId1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825800" y="4038480"/>
              <a:ext cx="203040" cy="381240"/>
            </a:xfrm>
            <a:custGeom>
              <a:avLst/>
              <a:gdLst>
                <a:gd name="textAreaLeft" fmla="*/ 9720 w 203040"/>
                <a:gd name="textAreaRight" fmla="*/ 193320 w 203040"/>
                <a:gd name="textAreaTop" fmla="*/ 9720 h 381240"/>
                <a:gd name="textAreaBottom" fmla="*/ 371520 h 381240"/>
              </a:gdLst>
              <a:ahLst/>
              <a:rect l="textAreaLeft" t="textAreaTop" r="textAreaRight" b="textAreaBottom"/>
              <a:pathLst>
                <a:path w="21600" h="40524">
                  <a:moveTo>
                    <a:pt x="3600" y="0"/>
                  </a:moveTo>
                  <a:arcTo wR="3600" hR="3600" stAng="16200000" swAng="-5400000"/>
                  <a:lnTo>
                    <a:pt x="0" y="36924"/>
                  </a:lnTo>
                  <a:arcTo wR="3600" hR="3600" stAng="10800000" swAng="-5400000"/>
                  <a:lnTo>
                    <a:pt x="18000" y="4052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blipFill rotWithShape="0">
              <a:blip r:embed="rId1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3048120" y="4114800"/>
            <a:ext cx="914400" cy="304920"/>
            <a:chOff x="3048120" y="4114800"/>
            <a:chExt cx="914400" cy="304920"/>
          </a:xfrm>
        </p:grpSpPr>
        <p:sp>
          <p:nvSpPr>
            <p:cNvPr id="307" name=""/>
            <p:cNvSpPr/>
            <p:nvPr/>
          </p:nvSpPr>
          <p:spPr>
            <a:xfrm>
              <a:off x="3048120" y="4114800"/>
              <a:ext cx="914400" cy="304920"/>
            </a:xfrm>
            <a:prstGeom prst="roundRect">
              <a:avLst>
                <a:gd name="adj" fmla="val 16667"/>
              </a:avLst>
            </a:prstGeom>
            <a:blipFill rotWithShape="0">
              <a:blip r:embed="rId1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3048120" y="4114800"/>
              <a:ext cx="174240" cy="304920"/>
            </a:xfrm>
            <a:custGeom>
              <a:avLst/>
              <a:gdLst>
                <a:gd name="textAreaLeft" fmla="*/ 8280 w 174240"/>
                <a:gd name="textAreaRight" fmla="*/ 165960 w 174240"/>
                <a:gd name="textAreaTop" fmla="*/ 8280 h 304920"/>
                <a:gd name="textAreaBottom" fmla="*/ 296640 h 304920"/>
              </a:gdLst>
              <a:ahLst/>
              <a:rect l="textAreaLeft" t="textAreaTop" r="textAreaRight" b="textAreaBottom"/>
              <a:pathLst>
                <a:path w="21600" h="37767">
                  <a:moveTo>
                    <a:pt x="3600" y="0"/>
                  </a:moveTo>
                  <a:arcTo wR="3600" hR="3600" stAng="16200000" swAng="-5400000"/>
                  <a:lnTo>
                    <a:pt x="0" y="34167"/>
                  </a:lnTo>
                  <a:arcTo wR="3600" hR="3600" stAng="10800000" swAng="-5400000"/>
                  <a:lnTo>
                    <a:pt x="18000" y="3776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blipFill rotWithShape="0">
              <a:blip r:embed="rId1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3788280" y="4114800"/>
              <a:ext cx="174240" cy="304920"/>
            </a:xfrm>
            <a:custGeom>
              <a:avLst/>
              <a:gdLst>
                <a:gd name="textAreaLeft" fmla="*/ 8280 w 174240"/>
                <a:gd name="textAreaRight" fmla="*/ 165960 w 174240"/>
                <a:gd name="textAreaTop" fmla="*/ 8280 h 304920"/>
                <a:gd name="textAreaBottom" fmla="*/ 296640 h 304920"/>
              </a:gdLst>
              <a:ahLst/>
              <a:rect l="textAreaLeft" t="textAreaTop" r="textAreaRight" b="textAreaBottom"/>
              <a:pathLst>
                <a:path w="21600" h="37767">
                  <a:moveTo>
                    <a:pt x="3600" y="0"/>
                  </a:moveTo>
                  <a:arcTo wR="3600" hR="3600" stAng="16200000" swAng="-5400000"/>
                  <a:lnTo>
                    <a:pt x="0" y="34167"/>
                  </a:lnTo>
                  <a:arcTo wR="3600" hR="3600" stAng="10800000" swAng="-5400000"/>
                  <a:lnTo>
                    <a:pt x="18000" y="3776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blipFill rotWithShape="0">
              <a:blip r:embed="rId1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0" name=""/>
          <p:cNvGrpSpPr/>
          <p:nvPr/>
        </p:nvGrpSpPr>
        <p:grpSpPr>
          <a:xfrm>
            <a:off x="3048120" y="3809880"/>
            <a:ext cx="914400" cy="304920"/>
            <a:chOff x="3048120" y="3809880"/>
            <a:chExt cx="914400" cy="304920"/>
          </a:xfrm>
        </p:grpSpPr>
        <p:sp>
          <p:nvSpPr>
            <p:cNvPr id="311" name=""/>
            <p:cNvSpPr/>
            <p:nvPr/>
          </p:nvSpPr>
          <p:spPr>
            <a:xfrm>
              <a:off x="3048120" y="3809880"/>
              <a:ext cx="914400" cy="304920"/>
            </a:xfrm>
            <a:prstGeom prst="roundRect">
              <a:avLst>
                <a:gd name="adj" fmla="val 16667"/>
              </a:avLst>
            </a:prstGeom>
            <a:blipFill rotWithShape="0">
              <a:blip r:embed="rId1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048120" y="3809880"/>
              <a:ext cx="174240" cy="304920"/>
            </a:xfrm>
            <a:custGeom>
              <a:avLst/>
              <a:gdLst>
                <a:gd name="textAreaLeft" fmla="*/ 8280 w 174240"/>
                <a:gd name="textAreaRight" fmla="*/ 165960 w 174240"/>
                <a:gd name="textAreaTop" fmla="*/ 8280 h 304920"/>
                <a:gd name="textAreaBottom" fmla="*/ 296640 h 304920"/>
              </a:gdLst>
              <a:ahLst/>
              <a:rect l="textAreaLeft" t="textAreaTop" r="textAreaRight" b="textAreaBottom"/>
              <a:pathLst>
                <a:path w="21600" h="37767">
                  <a:moveTo>
                    <a:pt x="3600" y="0"/>
                  </a:moveTo>
                  <a:arcTo wR="3600" hR="3600" stAng="16200000" swAng="-5400000"/>
                  <a:lnTo>
                    <a:pt x="0" y="34167"/>
                  </a:lnTo>
                  <a:arcTo wR="3600" hR="3600" stAng="10800000" swAng="-5400000"/>
                  <a:lnTo>
                    <a:pt x="18000" y="3776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blipFill rotWithShape="0">
              <a:blip r:embed="rId1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788280" y="3809880"/>
              <a:ext cx="174240" cy="304920"/>
            </a:xfrm>
            <a:custGeom>
              <a:avLst/>
              <a:gdLst>
                <a:gd name="textAreaLeft" fmla="*/ 8280 w 174240"/>
                <a:gd name="textAreaRight" fmla="*/ 165960 w 174240"/>
                <a:gd name="textAreaTop" fmla="*/ 8280 h 304920"/>
                <a:gd name="textAreaBottom" fmla="*/ 296640 h 304920"/>
              </a:gdLst>
              <a:ahLst/>
              <a:rect l="textAreaLeft" t="textAreaTop" r="textAreaRight" b="textAreaBottom"/>
              <a:pathLst>
                <a:path w="21600" h="37767">
                  <a:moveTo>
                    <a:pt x="3600" y="0"/>
                  </a:moveTo>
                  <a:arcTo wR="3600" hR="3600" stAng="16200000" swAng="-5400000"/>
                  <a:lnTo>
                    <a:pt x="0" y="34167"/>
                  </a:lnTo>
                  <a:arcTo wR="3600" hR="3600" stAng="10800000" swAng="-5400000"/>
                  <a:lnTo>
                    <a:pt x="18000" y="3776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blipFill rotWithShape="0">
              <a:blip r:embed="rId18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4" name=""/>
          <p:cNvSpPr/>
          <p:nvPr/>
        </p:nvSpPr>
        <p:spPr>
          <a:xfrm>
            <a:off x="8381880" y="4495680"/>
            <a:ext cx="482760" cy="387360"/>
          </a:xfrm>
          <a:custGeom>
            <a:avLst/>
            <a:gdLst/>
            <a:ahLst/>
            <a:rect l="l" t="t" r="r" b="b"/>
            <a:pathLst>
              <a:path w="304" h="244">
                <a:moveTo>
                  <a:pt x="21" y="207"/>
                </a:moveTo>
                <a:cubicBezTo>
                  <a:pt x="26" y="129"/>
                  <a:pt x="0" y="61"/>
                  <a:pt x="75" y="36"/>
                </a:cubicBezTo>
                <a:cubicBezTo>
                  <a:pt x="81" y="27"/>
                  <a:pt x="82" y="11"/>
                  <a:pt x="93" y="9"/>
                </a:cubicBezTo>
                <a:cubicBezTo>
                  <a:pt x="159" y="0"/>
                  <a:pt x="228" y="18"/>
                  <a:pt x="282" y="54"/>
                </a:cubicBezTo>
                <a:cubicBezTo>
                  <a:pt x="304" y="119"/>
                  <a:pt x="298" y="151"/>
                  <a:pt x="291" y="225"/>
                </a:cubicBezTo>
                <a:cubicBezTo>
                  <a:pt x="285" y="216"/>
                  <a:pt x="273" y="198"/>
                  <a:pt x="273" y="198"/>
                </a:cubicBezTo>
                <a:cubicBezTo>
                  <a:pt x="189" y="201"/>
                  <a:pt x="104" y="194"/>
                  <a:pt x="21" y="207"/>
                </a:cubicBezTo>
                <a:cubicBezTo>
                  <a:pt x="10" y="209"/>
                  <a:pt x="28" y="234"/>
                  <a:pt x="39" y="234"/>
                </a:cubicBezTo>
                <a:cubicBezTo>
                  <a:pt x="48" y="234"/>
                  <a:pt x="33" y="216"/>
                  <a:pt x="30" y="207"/>
                </a:cubicBezTo>
                <a:cubicBezTo>
                  <a:pt x="7" y="242"/>
                  <a:pt x="9" y="244"/>
                  <a:pt x="21" y="207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5638680" y="304920"/>
            <a:ext cx="2895840" cy="25905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5715000" y="1752480"/>
            <a:ext cx="11430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7238880" y="1752480"/>
            <a:ext cx="11430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5715000" y="457200"/>
            <a:ext cx="11430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7238880" y="457200"/>
            <a:ext cx="11430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2514600" y="5562720"/>
            <a:ext cx="380880" cy="1143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5029200" y="5562720"/>
            <a:ext cx="380880" cy="114300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286000" y="4724280"/>
            <a:ext cx="3352680" cy="144792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819520" y="4876920"/>
            <a:ext cx="1752480" cy="990360"/>
          </a:xfrm>
          <a:prstGeom prst="ellipse">
            <a:avLst/>
          </a:prstGeom>
          <a:solidFill>
            <a:srgbClr val="cc0099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2971800" y="4952880"/>
            <a:ext cx="1447920" cy="76212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3505320" y="5029200"/>
            <a:ext cx="380880" cy="45720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ffcc"/>
              </a:gs>
            </a:gsLst>
            <a:lin ang="1350000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152280" y="1447920"/>
            <a:ext cx="3689640" cy="5333760"/>
            <a:chOff x="152280" y="1447920"/>
            <a:chExt cx="3689640" cy="5333760"/>
          </a:xfrm>
        </p:grpSpPr>
        <p:grpSp>
          <p:nvGrpSpPr>
            <p:cNvPr id="327" name=""/>
            <p:cNvGrpSpPr/>
            <p:nvPr/>
          </p:nvGrpSpPr>
          <p:grpSpPr>
            <a:xfrm>
              <a:off x="152280" y="1447920"/>
              <a:ext cx="3106080" cy="3123720"/>
              <a:chOff x="152280" y="1447920"/>
              <a:chExt cx="3106080" cy="3123720"/>
            </a:xfrm>
          </p:grpSpPr>
          <p:grpSp>
            <p:nvGrpSpPr>
              <p:cNvPr id="328" name=""/>
              <p:cNvGrpSpPr/>
              <p:nvPr/>
            </p:nvGrpSpPr>
            <p:grpSpPr>
              <a:xfrm>
                <a:off x="813960" y="1447920"/>
                <a:ext cx="1303200" cy="1515240"/>
                <a:chOff x="813960" y="1447920"/>
                <a:chExt cx="1303200" cy="1515240"/>
              </a:xfrm>
            </p:grpSpPr>
            <p:sp>
              <p:nvSpPr>
                <p:cNvPr id="329" name=""/>
                <p:cNvSpPr/>
                <p:nvPr/>
              </p:nvSpPr>
              <p:spPr>
                <a:xfrm>
                  <a:off x="907920" y="1548360"/>
                  <a:ext cx="1128600" cy="1125720"/>
                </a:xfrm>
                <a:prstGeom prst="smileyFace">
                  <a:avLst>
                    <a:gd name="adj" fmla="val 9282"/>
                  </a:avLst>
                </a:prstGeom>
                <a:solidFill>
                  <a:srgbClr val="ffcccc"/>
                </a:solidFill>
                <a:ln w="9360">
                  <a:solidFill>
                    <a:srgbClr val="ffcc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907920" y="2165760"/>
                  <a:ext cx="1149480" cy="797400"/>
                </a:xfrm>
                <a:custGeom>
                  <a:avLst/>
                  <a:gdLst/>
                  <a:ahLst/>
                  <a:rect l="l" t="t" r="r" b="b"/>
                  <a:pathLst>
                    <a:path w="1369" h="995">
                      <a:moveTo>
                        <a:pt x="30" y="103"/>
                      </a:moveTo>
                      <a:cubicBezTo>
                        <a:pt x="112" y="91"/>
                        <a:pt x="73" y="101"/>
                        <a:pt x="147" y="76"/>
                      </a:cubicBezTo>
                      <a:cubicBezTo>
                        <a:pt x="165" y="70"/>
                        <a:pt x="201" y="58"/>
                        <a:pt x="201" y="58"/>
                      </a:cubicBezTo>
                      <a:cubicBezTo>
                        <a:pt x="376" y="83"/>
                        <a:pt x="240" y="87"/>
                        <a:pt x="534" y="76"/>
                      </a:cubicBezTo>
                      <a:cubicBezTo>
                        <a:pt x="659" y="34"/>
                        <a:pt x="522" y="46"/>
                        <a:pt x="795" y="58"/>
                      </a:cubicBezTo>
                      <a:cubicBezTo>
                        <a:pt x="839" y="73"/>
                        <a:pt x="876" y="85"/>
                        <a:pt x="921" y="94"/>
                      </a:cubicBezTo>
                      <a:cubicBezTo>
                        <a:pt x="957" y="91"/>
                        <a:pt x="994" y="92"/>
                        <a:pt x="1029" y="85"/>
                      </a:cubicBezTo>
                      <a:cubicBezTo>
                        <a:pt x="1040" y="83"/>
                        <a:pt x="1046" y="71"/>
                        <a:pt x="1056" y="67"/>
                      </a:cubicBezTo>
                      <a:cubicBezTo>
                        <a:pt x="1079" y="59"/>
                        <a:pt x="1128" y="49"/>
                        <a:pt x="1128" y="49"/>
                      </a:cubicBezTo>
                      <a:cubicBezTo>
                        <a:pt x="1369" y="59"/>
                        <a:pt x="1313" y="0"/>
                        <a:pt x="1353" y="121"/>
                      </a:cubicBezTo>
                      <a:cubicBezTo>
                        <a:pt x="1347" y="213"/>
                        <a:pt x="1354" y="493"/>
                        <a:pt x="1236" y="571"/>
                      </a:cubicBezTo>
                      <a:cubicBezTo>
                        <a:pt x="1213" y="639"/>
                        <a:pt x="1192" y="704"/>
                        <a:pt x="1164" y="769"/>
                      </a:cubicBezTo>
                      <a:cubicBezTo>
                        <a:pt x="1145" y="813"/>
                        <a:pt x="1137" y="868"/>
                        <a:pt x="1101" y="904"/>
                      </a:cubicBezTo>
                      <a:cubicBezTo>
                        <a:pt x="1086" y="919"/>
                        <a:pt x="1065" y="928"/>
                        <a:pt x="1047" y="940"/>
                      </a:cubicBezTo>
                      <a:cubicBezTo>
                        <a:pt x="965" y="995"/>
                        <a:pt x="849" y="946"/>
                        <a:pt x="750" y="949"/>
                      </a:cubicBezTo>
                      <a:cubicBezTo>
                        <a:pt x="613" y="966"/>
                        <a:pt x="662" y="964"/>
                        <a:pt x="444" y="949"/>
                      </a:cubicBezTo>
                      <a:cubicBezTo>
                        <a:pt x="411" y="947"/>
                        <a:pt x="379" y="920"/>
                        <a:pt x="345" y="913"/>
                      </a:cubicBezTo>
                      <a:cubicBezTo>
                        <a:pt x="311" y="890"/>
                        <a:pt x="272" y="879"/>
                        <a:pt x="237" y="859"/>
                      </a:cubicBezTo>
                      <a:cubicBezTo>
                        <a:pt x="218" y="848"/>
                        <a:pt x="183" y="823"/>
                        <a:pt x="183" y="823"/>
                      </a:cubicBezTo>
                      <a:cubicBezTo>
                        <a:pt x="176" y="801"/>
                        <a:pt x="163" y="782"/>
                        <a:pt x="156" y="760"/>
                      </a:cubicBezTo>
                      <a:cubicBezTo>
                        <a:pt x="151" y="743"/>
                        <a:pt x="154" y="723"/>
                        <a:pt x="147" y="706"/>
                      </a:cubicBezTo>
                      <a:cubicBezTo>
                        <a:pt x="137" y="682"/>
                        <a:pt x="114" y="666"/>
                        <a:pt x="102" y="643"/>
                      </a:cubicBezTo>
                      <a:cubicBezTo>
                        <a:pt x="78" y="599"/>
                        <a:pt x="52" y="553"/>
                        <a:pt x="30" y="508"/>
                      </a:cubicBezTo>
                      <a:cubicBezTo>
                        <a:pt x="27" y="472"/>
                        <a:pt x="28" y="435"/>
                        <a:pt x="21" y="400"/>
                      </a:cubicBezTo>
                      <a:cubicBezTo>
                        <a:pt x="19" y="389"/>
                        <a:pt x="3" y="384"/>
                        <a:pt x="3" y="373"/>
                      </a:cubicBezTo>
                      <a:cubicBezTo>
                        <a:pt x="0" y="298"/>
                        <a:pt x="1" y="222"/>
                        <a:pt x="12" y="148"/>
                      </a:cubicBezTo>
                      <a:cubicBezTo>
                        <a:pt x="25" y="59"/>
                        <a:pt x="62" y="198"/>
                        <a:pt x="30" y="103"/>
                      </a:cubicBezTo>
                      <a:close/>
                    </a:path>
                  </a:pathLst>
                </a:custGeom>
                <a:solidFill>
                  <a:srgbClr val="eaeaea"/>
                </a:solidFill>
                <a:ln w="9360">
                  <a:solidFill>
                    <a:srgbClr val="eaeaea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 flipH="1">
                  <a:off x="1189440" y="1802520"/>
                  <a:ext cx="241560" cy="254160"/>
                </a:xfrm>
                <a:prstGeom prst="ellipse">
                  <a:avLst/>
                </a:prstGeom>
                <a:solidFill>
                  <a:srgbClr val="00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>
                  <a:off x="1593360" y="1802520"/>
                  <a:ext cx="241560" cy="254160"/>
                </a:xfrm>
                <a:prstGeom prst="ellipse">
                  <a:avLst/>
                </a:prstGeom>
                <a:solidFill>
                  <a:srgbClr val="00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1427760" y="2443680"/>
                  <a:ext cx="117360" cy="66240"/>
                </a:xfrm>
                <a:custGeom>
                  <a:avLst/>
                  <a:gdLst/>
                  <a:ahLst/>
                  <a:rect l="l" t="t" r="r" b="b"/>
                  <a:pathLst>
                    <a:path w="140" h="88">
                      <a:moveTo>
                        <a:pt x="5" y="2"/>
                      </a:moveTo>
                      <a:cubicBezTo>
                        <a:pt x="25" y="83"/>
                        <a:pt x="0" y="66"/>
                        <a:pt x="50" y="83"/>
                      </a:cubicBezTo>
                      <a:cubicBezTo>
                        <a:pt x="74" y="80"/>
                        <a:pt x="102" y="88"/>
                        <a:pt x="122" y="74"/>
                      </a:cubicBezTo>
                      <a:cubicBezTo>
                        <a:pt x="138" y="63"/>
                        <a:pt x="140" y="20"/>
                        <a:pt x="140" y="20"/>
                      </a:cubicBezTo>
                      <a:cubicBezTo>
                        <a:pt x="79" y="0"/>
                        <a:pt x="122" y="12"/>
                        <a:pt x="5" y="2"/>
                      </a:cubicBezTo>
                      <a:close/>
                    </a:path>
                  </a:pathLst>
                </a:custGeom>
                <a:solidFill>
                  <a:srgbClr val="fc4614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440" bIns="19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>
                  <a:off x="1190160" y="1875240"/>
                  <a:ext cx="201240" cy="1814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>
                  <a:off x="1230480" y="1911600"/>
                  <a:ext cx="120600" cy="1087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240" bIns="302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>
                  <a:off x="1593360" y="1875240"/>
                  <a:ext cx="201240" cy="1814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>
                  <a:off x="1633320" y="1911600"/>
                  <a:ext cx="120600" cy="1087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240" bIns="302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>
                  <a:off x="813960" y="1447920"/>
                  <a:ext cx="1303200" cy="863280"/>
                </a:xfrm>
                <a:custGeom>
                  <a:avLst/>
                  <a:gdLst/>
                  <a:ahLst/>
                  <a:rect l="l" t="t" r="r" b="b"/>
                  <a:pathLst>
                    <a:path w="1484" h="1092">
                      <a:moveTo>
                        <a:pt x="196" y="1028"/>
                      </a:moveTo>
                      <a:cubicBezTo>
                        <a:pt x="186" y="987"/>
                        <a:pt x="166" y="947"/>
                        <a:pt x="142" y="911"/>
                      </a:cubicBezTo>
                      <a:cubicBezTo>
                        <a:pt x="148" y="729"/>
                        <a:pt x="127" y="654"/>
                        <a:pt x="214" y="524"/>
                      </a:cubicBezTo>
                      <a:cubicBezTo>
                        <a:pt x="228" y="503"/>
                        <a:pt x="256" y="494"/>
                        <a:pt x="277" y="479"/>
                      </a:cubicBezTo>
                      <a:cubicBezTo>
                        <a:pt x="292" y="433"/>
                        <a:pt x="277" y="380"/>
                        <a:pt x="295" y="335"/>
                      </a:cubicBezTo>
                      <a:cubicBezTo>
                        <a:pt x="319" y="277"/>
                        <a:pt x="484" y="282"/>
                        <a:pt x="502" y="281"/>
                      </a:cubicBezTo>
                      <a:cubicBezTo>
                        <a:pt x="539" y="269"/>
                        <a:pt x="577" y="249"/>
                        <a:pt x="610" y="227"/>
                      </a:cubicBezTo>
                      <a:cubicBezTo>
                        <a:pt x="631" y="230"/>
                        <a:pt x="659" y="220"/>
                        <a:pt x="673" y="236"/>
                      </a:cubicBezTo>
                      <a:cubicBezTo>
                        <a:pt x="689" y="254"/>
                        <a:pt x="673" y="286"/>
                        <a:pt x="682" y="308"/>
                      </a:cubicBezTo>
                      <a:cubicBezTo>
                        <a:pt x="686" y="318"/>
                        <a:pt x="700" y="320"/>
                        <a:pt x="709" y="326"/>
                      </a:cubicBezTo>
                      <a:cubicBezTo>
                        <a:pt x="741" y="304"/>
                        <a:pt x="744" y="282"/>
                        <a:pt x="772" y="254"/>
                      </a:cubicBezTo>
                      <a:cubicBezTo>
                        <a:pt x="778" y="263"/>
                        <a:pt x="785" y="271"/>
                        <a:pt x="790" y="281"/>
                      </a:cubicBezTo>
                      <a:cubicBezTo>
                        <a:pt x="794" y="289"/>
                        <a:pt x="790" y="309"/>
                        <a:pt x="799" y="308"/>
                      </a:cubicBezTo>
                      <a:cubicBezTo>
                        <a:pt x="820" y="305"/>
                        <a:pt x="835" y="284"/>
                        <a:pt x="853" y="272"/>
                      </a:cubicBezTo>
                      <a:cubicBezTo>
                        <a:pt x="896" y="243"/>
                        <a:pt x="870" y="257"/>
                        <a:pt x="934" y="236"/>
                      </a:cubicBezTo>
                      <a:cubicBezTo>
                        <a:pt x="943" y="233"/>
                        <a:pt x="907" y="245"/>
                        <a:pt x="907" y="245"/>
                      </a:cubicBezTo>
                      <a:cubicBezTo>
                        <a:pt x="904" y="257"/>
                        <a:pt x="902" y="269"/>
                        <a:pt x="898" y="281"/>
                      </a:cubicBezTo>
                      <a:cubicBezTo>
                        <a:pt x="893" y="299"/>
                        <a:pt x="880" y="335"/>
                        <a:pt x="880" y="335"/>
                      </a:cubicBezTo>
                      <a:cubicBezTo>
                        <a:pt x="883" y="356"/>
                        <a:pt x="868" y="395"/>
                        <a:pt x="889" y="398"/>
                      </a:cubicBezTo>
                      <a:cubicBezTo>
                        <a:pt x="914" y="402"/>
                        <a:pt x="925" y="362"/>
                        <a:pt x="943" y="344"/>
                      </a:cubicBezTo>
                      <a:cubicBezTo>
                        <a:pt x="950" y="337"/>
                        <a:pt x="961" y="338"/>
                        <a:pt x="970" y="335"/>
                      </a:cubicBezTo>
                      <a:cubicBezTo>
                        <a:pt x="980" y="328"/>
                        <a:pt x="1026" y="290"/>
                        <a:pt x="1042" y="290"/>
                      </a:cubicBezTo>
                      <a:cubicBezTo>
                        <a:pt x="1053" y="290"/>
                        <a:pt x="1059" y="304"/>
                        <a:pt x="1069" y="308"/>
                      </a:cubicBezTo>
                      <a:cubicBezTo>
                        <a:pt x="1086" y="316"/>
                        <a:pt x="1123" y="326"/>
                        <a:pt x="1123" y="326"/>
                      </a:cubicBezTo>
                      <a:cubicBezTo>
                        <a:pt x="1150" y="353"/>
                        <a:pt x="1168" y="368"/>
                        <a:pt x="1204" y="380"/>
                      </a:cubicBezTo>
                      <a:cubicBezTo>
                        <a:pt x="1214" y="410"/>
                        <a:pt x="1221" y="440"/>
                        <a:pt x="1231" y="470"/>
                      </a:cubicBezTo>
                      <a:cubicBezTo>
                        <a:pt x="1234" y="506"/>
                        <a:pt x="1234" y="542"/>
                        <a:pt x="1240" y="578"/>
                      </a:cubicBezTo>
                      <a:cubicBezTo>
                        <a:pt x="1245" y="606"/>
                        <a:pt x="1258" y="632"/>
                        <a:pt x="1267" y="659"/>
                      </a:cubicBezTo>
                      <a:cubicBezTo>
                        <a:pt x="1286" y="715"/>
                        <a:pt x="1296" y="780"/>
                        <a:pt x="1303" y="839"/>
                      </a:cubicBezTo>
                      <a:cubicBezTo>
                        <a:pt x="1310" y="897"/>
                        <a:pt x="1299" y="941"/>
                        <a:pt x="1348" y="974"/>
                      </a:cubicBezTo>
                      <a:cubicBezTo>
                        <a:pt x="1366" y="1029"/>
                        <a:pt x="1392" y="1009"/>
                        <a:pt x="1447" y="1001"/>
                      </a:cubicBezTo>
                      <a:cubicBezTo>
                        <a:pt x="1484" y="891"/>
                        <a:pt x="1463" y="964"/>
                        <a:pt x="1447" y="704"/>
                      </a:cubicBezTo>
                      <a:cubicBezTo>
                        <a:pt x="1444" y="651"/>
                        <a:pt x="1389" y="607"/>
                        <a:pt x="1357" y="569"/>
                      </a:cubicBezTo>
                      <a:cubicBezTo>
                        <a:pt x="1335" y="542"/>
                        <a:pt x="1329" y="509"/>
                        <a:pt x="1312" y="479"/>
                      </a:cubicBezTo>
                      <a:cubicBezTo>
                        <a:pt x="1277" y="417"/>
                        <a:pt x="1245" y="353"/>
                        <a:pt x="1213" y="290"/>
                      </a:cubicBezTo>
                      <a:cubicBezTo>
                        <a:pt x="1197" y="257"/>
                        <a:pt x="1182" y="203"/>
                        <a:pt x="1150" y="182"/>
                      </a:cubicBezTo>
                      <a:cubicBezTo>
                        <a:pt x="1092" y="143"/>
                        <a:pt x="1033" y="105"/>
                        <a:pt x="970" y="74"/>
                      </a:cubicBezTo>
                      <a:cubicBezTo>
                        <a:pt x="909" y="44"/>
                        <a:pt x="842" y="32"/>
                        <a:pt x="781" y="2"/>
                      </a:cubicBezTo>
                      <a:cubicBezTo>
                        <a:pt x="721" y="5"/>
                        <a:pt x="660" y="0"/>
                        <a:pt x="601" y="11"/>
                      </a:cubicBezTo>
                      <a:cubicBezTo>
                        <a:pt x="601" y="11"/>
                        <a:pt x="534" y="56"/>
                        <a:pt x="520" y="65"/>
                      </a:cubicBezTo>
                      <a:cubicBezTo>
                        <a:pt x="511" y="71"/>
                        <a:pt x="493" y="83"/>
                        <a:pt x="493" y="83"/>
                      </a:cubicBezTo>
                      <a:cubicBezTo>
                        <a:pt x="474" y="111"/>
                        <a:pt x="448" y="134"/>
                        <a:pt x="421" y="155"/>
                      </a:cubicBezTo>
                      <a:cubicBezTo>
                        <a:pt x="404" y="168"/>
                        <a:pt x="367" y="191"/>
                        <a:pt x="367" y="191"/>
                      </a:cubicBezTo>
                      <a:cubicBezTo>
                        <a:pt x="325" y="274"/>
                        <a:pt x="293" y="375"/>
                        <a:pt x="196" y="407"/>
                      </a:cubicBezTo>
                      <a:cubicBezTo>
                        <a:pt x="190" y="416"/>
                        <a:pt x="186" y="426"/>
                        <a:pt x="178" y="434"/>
                      </a:cubicBezTo>
                      <a:cubicBezTo>
                        <a:pt x="170" y="442"/>
                        <a:pt x="158" y="444"/>
                        <a:pt x="151" y="452"/>
                      </a:cubicBezTo>
                      <a:cubicBezTo>
                        <a:pt x="145" y="459"/>
                        <a:pt x="147" y="471"/>
                        <a:pt x="142" y="479"/>
                      </a:cubicBezTo>
                      <a:cubicBezTo>
                        <a:pt x="135" y="490"/>
                        <a:pt x="122" y="495"/>
                        <a:pt x="115" y="506"/>
                      </a:cubicBezTo>
                      <a:cubicBezTo>
                        <a:pt x="101" y="529"/>
                        <a:pt x="94" y="556"/>
                        <a:pt x="79" y="578"/>
                      </a:cubicBezTo>
                      <a:cubicBezTo>
                        <a:pt x="73" y="587"/>
                        <a:pt x="67" y="596"/>
                        <a:pt x="61" y="605"/>
                      </a:cubicBezTo>
                      <a:cubicBezTo>
                        <a:pt x="33" y="716"/>
                        <a:pt x="27" y="833"/>
                        <a:pt x="16" y="947"/>
                      </a:cubicBezTo>
                      <a:cubicBezTo>
                        <a:pt x="29" y="1092"/>
                        <a:pt x="0" y="1029"/>
                        <a:pt x="106" y="1064"/>
                      </a:cubicBezTo>
                      <a:cubicBezTo>
                        <a:pt x="308" y="1047"/>
                        <a:pt x="209" y="1087"/>
                        <a:pt x="196" y="1028"/>
                      </a:cubicBezTo>
                      <a:cubicBezTo>
                        <a:pt x="192" y="1010"/>
                        <a:pt x="196" y="992"/>
                        <a:pt x="196" y="974"/>
                      </a:cubicBezTo>
                    </a:path>
                  </a:pathLst>
                </a:custGeom>
                <a:solidFill>
                  <a:srgbClr val="eaeaea"/>
                </a:solidFill>
                <a:ln w="9360">
                  <a:solidFill>
                    <a:srgbClr val="eaeaea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9" name=""/>
              <p:cNvSpPr/>
              <p:nvPr/>
            </p:nvSpPr>
            <p:spPr>
              <a:xfrm>
                <a:off x="152280" y="2505600"/>
                <a:ext cx="3079800" cy="2066040"/>
              </a:xfrm>
              <a:custGeom>
                <a:avLst/>
                <a:gdLst/>
                <a:ahLst/>
                <a:rect l="l" t="t" r="r" b="b"/>
                <a:pathLst>
                  <a:path w="3414" h="2586">
                    <a:moveTo>
                      <a:pt x="1034" y="300"/>
                    </a:moveTo>
                    <a:cubicBezTo>
                      <a:pt x="852" y="239"/>
                      <a:pt x="644" y="322"/>
                      <a:pt x="458" y="336"/>
                    </a:cubicBezTo>
                    <a:cubicBezTo>
                      <a:pt x="421" y="354"/>
                      <a:pt x="397" y="370"/>
                      <a:pt x="368" y="399"/>
                    </a:cubicBezTo>
                    <a:cubicBezTo>
                      <a:pt x="365" y="411"/>
                      <a:pt x="367" y="425"/>
                      <a:pt x="359" y="435"/>
                    </a:cubicBezTo>
                    <a:cubicBezTo>
                      <a:pt x="353" y="442"/>
                      <a:pt x="341" y="440"/>
                      <a:pt x="332" y="444"/>
                    </a:cubicBezTo>
                    <a:cubicBezTo>
                      <a:pt x="320" y="449"/>
                      <a:pt x="307" y="455"/>
                      <a:pt x="296" y="462"/>
                    </a:cubicBezTo>
                    <a:cubicBezTo>
                      <a:pt x="264" y="482"/>
                      <a:pt x="233" y="507"/>
                      <a:pt x="206" y="534"/>
                    </a:cubicBezTo>
                    <a:cubicBezTo>
                      <a:pt x="180" y="611"/>
                      <a:pt x="217" y="493"/>
                      <a:pt x="188" y="669"/>
                    </a:cubicBezTo>
                    <a:cubicBezTo>
                      <a:pt x="185" y="688"/>
                      <a:pt x="175" y="705"/>
                      <a:pt x="170" y="723"/>
                    </a:cubicBezTo>
                    <a:cubicBezTo>
                      <a:pt x="153" y="792"/>
                      <a:pt x="136" y="861"/>
                      <a:pt x="116" y="930"/>
                    </a:cubicBezTo>
                    <a:cubicBezTo>
                      <a:pt x="99" y="990"/>
                      <a:pt x="91" y="1051"/>
                      <a:pt x="71" y="1110"/>
                    </a:cubicBezTo>
                    <a:cubicBezTo>
                      <a:pt x="59" y="1197"/>
                      <a:pt x="52" y="1284"/>
                      <a:pt x="35" y="1371"/>
                    </a:cubicBezTo>
                    <a:cubicBezTo>
                      <a:pt x="29" y="1477"/>
                      <a:pt x="25" y="1581"/>
                      <a:pt x="8" y="1686"/>
                    </a:cubicBezTo>
                    <a:cubicBezTo>
                      <a:pt x="11" y="1776"/>
                      <a:pt x="0" y="1868"/>
                      <a:pt x="17" y="1956"/>
                    </a:cubicBezTo>
                    <a:cubicBezTo>
                      <a:pt x="20" y="1971"/>
                      <a:pt x="47" y="1962"/>
                      <a:pt x="62" y="1965"/>
                    </a:cubicBezTo>
                    <a:cubicBezTo>
                      <a:pt x="98" y="1973"/>
                      <a:pt x="127" y="1990"/>
                      <a:pt x="161" y="2001"/>
                    </a:cubicBezTo>
                    <a:cubicBezTo>
                      <a:pt x="239" y="1998"/>
                      <a:pt x="317" y="1997"/>
                      <a:pt x="395" y="1992"/>
                    </a:cubicBezTo>
                    <a:cubicBezTo>
                      <a:pt x="454" y="1988"/>
                      <a:pt x="516" y="1959"/>
                      <a:pt x="575" y="1947"/>
                    </a:cubicBezTo>
                    <a:cubicBezTo>
                      <a:pt x="603" y="1862"/>
                      <a:pt x="591" y="1912"/>
                      <a:pt x="602" y="1794"/>
                    </a:cubicBezTo>
                    <a:cubicBezTo>
                      <a:pt x="608" y="1553"/>
                      <a:pt x="520" y="1425"/>
                      <a:pt x="710" y="1362"/>
                    </a:cubicBezTo>
                    <a:cubicBezTo>
                      <a:pt x="734" y="1291"/>
                      <a:pt x="824" y="1275"/>
                      <a:pt x="872" y="1227"/>
                    </a:cubicBezTo>
                    <a:lnTo>
                      <a:pt x="740" y="2586"/>
                    </a:lnTo>
                    <a:lnTo>
                      <a:pt x="2612" y="2586"/>
                    </a:lnTo>
                    <a:cubicBezTo>
                      <a:pt x="2486" y="2097"/>
                      <a:pt x="1822" y="979"/>
                      <a:pt x="2312" y="1101"/>
                    </a:cubicBezTo>
                    <a:cubicBezTo>
                      <a:pt x="2381" y="1147"/>
                      <a:pt x="2389" y="1178"/>
                      <a:pt x="2447" y="1236"/>
                    </a:cubicBezTo>
                    <a:cubicBezTo>
                      <a:pt x="2473" y="1313"/>
                      <a:pt x="2447" y="1229"/>
                      <a:pt x="2465" y="1407"/>
                    </a:cubicBezTo>
                    <a:cubicBezTo>
                      <a:pt x="2469" y="1446"/>
                      <a:pt x="2495" y="1471"/>
                      <a:pt x="2510" y="1506"/>
                    </a:cubicBezTo>
                    <a:cubicBezTo>
                      <a:pt x="2549" y="1596"/>
                      <a:pt x="2568" y="1687"/>
                      <a:pt x="2672" y="1722"/>
                    </a:cubicBezTo>
                    <a:cubicBezTo>
                      <a:pt x="2744" y="1719"/>
                      <a:pt x="2816" y="1718"/>
                      <a:pt x="2888" y="1713"/>
                    </a:cubicBezTo>
                    <a:cubicBezTo>
                      <a:pt x="2921" y="1711"/>
                      <a:pt x="2917" y="1696"/>
                      <a:pt x="2942" y="1677"/>
                    </a:cubicBezTo>
                    <a:cubicBezTo>
                      <a:pt x="2991" y="1639"/>
                      <a:pt x="3055" y="1597"/>
                      <a:pt x="3113" y="1578"/>
                    </a:cubicBezTo>
                    <a:cubicBezTo>
                      <a:pt x="3122" y="1569"/>
                      <a:pt x="3129" y="1558"/>
                      <a:pt x="3140" y="1551"/>
                    </a:cubicBezTo>
                    <a:cubicBezTo>
                      <a:pt x="3148" y="1546"/>
                      <a:pt x="3160" y="1548"/>
                      <a:pt x="3167" y="1542"/>
                    </a:cubicBezTo>
                    <a:cubicBezTo>
                      <a:pt x="3175" y="1535"/>
                      <a:pt x="3176" y="1521"/>
                      <a:pt x="3185" y="1515"/>
                    </a:cubicBezTo>
                    <a:cubicBezTo>
                      <a:pt x="3201" y="1505"/>
                      <a:pt x="3221" y="1503"/>
                      <a:pt x="3239" y="1497"/>
                    </a:cubicBezTo>
                    <a:cubicBezTo>
                      <a:pt x="3281" y="1483"/>
                      <a:pt x="3328" y="1450"/>
                      <a:pt x="3365" y="1425"/>
                    </a:cubicBezTo>
                    <a:cubicBezTo>
                      <a:pt x="3359" y="1245"/>
                      <a:pt x="3414" y="1143"/>
                      <a:pt x="3248" y="1110"/>
                    </a:cubicBezTo>
                    <a:cubicBezTo>
                      <a:pt x="3209" y="1084"/>
                      <a:pt x="3178" y="1054"/>
                      <a:pt x="3140" y="1029"/>
                    </a:cubicBezTo>
                    <a:cubicBezTo>
                      <a:pt x="3105" y="976"/>
                      <a:pt x="3087" y="952"/>
                      <a:pt x="3068" y="894"/>
                    </a:cubicBezTo>
                    <a:cubicBezTo>
                      <a:pt x="3065" y="884"/>
                      <a:pt x="3049" y="884"/>
                      <a:pt x="3041" y="876"/>
                    </a:cubicBezTo>
                    <a:cubicBezTo>
                      <a:pt x="3030" y="865"/>
                      <a:pt x="3026" y="850"/>
                      <a:pt x="3014" y="840"/>
                    </a:cubicBezTo>
                    <a:cubicBezTo>
                      <a:pt x="2999" y="827"/>
                      <a:pt x="2975" y="826"/>
                      <a:pt x="2960" y="813"/>
                    </a:cubicBezTo>
                    <a:cubicBezTo>
                      <a:pt x="2928" y="786"/>
                      <a:pt x="2908" y="769"/>
                      <a:pt x="2870" y="750"/>
                    </a:cubicBezTo>
                    <a:cubicBezTo>
                      <a:pt x="2837" y="700"/>
                      <a:pt x="2783" y="674"/>
                      <a:pt x="2726" y="660"/>
                    </a:cubicBezTo>
                    <a:cubicBezTo>
                      <a:pt x="2717" y="654"/>
                      <a:pt x="2709" y="647"/>
                      <a:pt x="2699" y="642"/>
                    </a:cubicBezTo>
                    <a:cubicBezTo>
                      <a:pt x="2691" y="638"/>
                      <a:pt x="2673" y="642"/>
                      <a:pt x="2672" y="633"/>
                    </a:cubicBezTo>
                    <a:cubicBezTo>
                      <a:pt x="2663" y="559"/>
                      <a:pt x="2656" y="485"/>
                      <a:pt x="2726" y="462"/>
                    </a:cubicBezTo>
                    <a:cubicBezTo>
                      <a:pt x="2738" y="426"/>
                      <a:pt x="2757" y="402"/>
                      <a:pt x="2780" y="372"/>
                    </a:cubicBezTo>
                    <a:cubicBezTo>
                      <a:pt x="2800" y="294"/>
                      <a:pt x="2816" y="265"/>
                      <a:pt x="2780" y="174"/>
                    </a:cubicBezTo>
                    <a:cubicBezTo>
                      <a:pt x="2775" y="163"/>
                      <a:pt x="2756" y="168"/>
                      <a:pt x="2744" y="165"/>
                    </a:cubicBezTo>
                    <a:cubicBezTo>
                      <a:pt x="2705" y="154"/>
                      <a:pt x="2663" y="129"/>
                      <a:pt x="2627" y="111"/>
                    </a:cubicBezTo>
                    <a:cubicBezTo>
                      <a:pt x="2404" y="0"/>
                      <a:pt x="2521" y="48"/>
                      <a:pt x="2087" y="48"/>
                    </a:cubicBezTo>
                  </a:path>
                </a:pathLst>
              </a:custGeom>
              <a:solidFill>
                <a:srgbClr val="ff6600"/>
              </a:solidFill>
              <a:ln w="9360">
                <a:solidFill>
                  <a:srgbClr val="f8f8f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20095200">
                <a:off x="2869200" y="3699000"/>
                <a:ext cx="343440" cy="291240"/>
              </a:xfrm>
              <a:custGeom>
                <a:avLst/>
                <a:gdLst/>
                <a:ahLst/>
                <a:rect l="l" t="t" r="r" b="b"/>
                <a:pathLst>
                  <a:path w="409" h="385">
                    <a:moveTo>
                      <a:pt x="22" y="33"/>
                    </a:moveTo>
                    <a:cubicBezTo>
                      <a:pt x="25" y="108"/>
                      <a:pt x="0" y="190"/>
                      <a:pt x="31" y="258"/>
                    </a:cubicBezTo>
                    <a:cubicBezTo>
                      <a:pt x="44" y="285"/>
                      <a:pt x="101" y="271"/>
                      <a:pt x="121" y="249"/>
                    </a:cubicBezTo>
                    <a:cubicBezTo>
                      <a:pt x="146" y="222"/>
                      <a:pt x="139" y="141"/>
                      <a:pt x="139" y="141"/>
                    </a:cubicBezTo>
                    <a:cubicBezTo>
                      <a:pt x="215" y="160"/>
                      <a:pt x="183" y="210"/>
                      <a:pt x="193" y="294"/>
                    </a:cubicBezTo>
                    <a:cubicBezTo>
                      <a:pt x="197" y="330"/>
                      <a:pt x="256" y="384"/>
                      <a:pt x="256" y="384"/>
                    </a:cubicBezTo>
                    <a:cubicBezTo>
                      <a:pt x="295" y="381"/>
                      <a:pt x="335" y="385"/>
                      <a:pt x="373" y="375"/>
                    </a:cubicBezTo>
                    <a:cubicBezTo>
                      <a:pt x="383" y="372"/>
                      <a:pt x="389" y="359"/>
                      <a:pt x="391" y="348"/>
                    </a:cubicBezTo>
                    <a:cubicBezTo>
                      <a:pt x="406" y="263"/>
                      <a:pt x="409" y="154"/>
                      <a:pt x="409" y="69"/>
                    </a:cubicBezTo>
                    <a:lnTo>
                      <a:pt x="394" y="0"/>
                    </a:lnTo>
                    <a:lnTo>
                      <a:pt x="22" y="33"/>
                    </a:lnTo>
                    <a:close/>
                  </a:path>
                </a:pathLst>
              </a:custGeom>
              <a:solidFill>
                <a:srgbClr val="ffcccc"/>
              </a:solidFill>
              <a:ln w="9360">
                <a:solidFill>
                  <a:srgbClr val="ffcc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 flipH="1">
                <a:off x="188280" y="4026960"/>
                <a:ext cx="343440" cy="291240"/>
              </a:xfrm>
              <a:custGeom>
                <a:avLst/>
                <a:gdLst/>
                <a:ahLst/>
                <a:rect l="l" t="t" r="r" b="b"/>
                <a:pathLst>
                  <a:path w="409" h="385">
                    <a:moveTo>
                      <a:pt x="22" y="33"/>
                    </a:moveTo>
                    <a:cubicBezTo>
                      <a:pt x="25" y="108"/>
                      <a:pt x="0" y="190"/>
                      <a:pt x="31" y="258"/>
                    </a:cubicBezTo>
                    <a:cubicBezTo>
                      <a:pt x="44" y="285"/>
                      <a:pt x="101" y="271"/>
                      <a:pt x="121" y="249"/>
                    </a:cubicBezTo>
                    <a:cubicBezTo>
                      <a:pt x="146" y="222"/>
                      <a:pt x="139" y="141"/>
                      <a:pt x="139" y="141"/>
                    </a:cubicBezTo>
                    <a:cubicBezTo>
                      <a:pt x="215" y="160"/>
                      <a:pt x="183" y="210"/>
                      <a:pt x="193" y="294"/>
                    </a:cubicBezTo>
                    <a:cubicBezTo>
                      <a:pt x="197" y="330"/>
                      <a:pt x="256" y="384"/>
                      <a:pt x="256" y="384"/>
                    </a:cubicBezTo>
                    <a:cubicBezTo>
                      <a:pt x="295" y="381"/>
                      <a:pt x="335" y="385"/>
                      <a:pt x="373" y="375"/>
                    </a:cubicBezTo>
                    <a:cubicBezTo>
                      <a:pt x="383" y="372"/>
                      <a:pt x="389" y="359"/>
                      <a:pt x="391" y="348"/>
                    </a:cubicBezTo>
                    <a:cubicBezTo>
                      <a:pt x="406" y="263"/>
                      <a:pt x="409" y="154"/>
                      <a:pt x="409" y="69"/>
                    </a:cubicBezTo>
                    <a:lnTo>
                      <a:pt x="394" y="0"/>
                    </a:lnTo>
                    <a:lnTo>
                      <a:pt x="22" y="33"/>
                    </a:lnTo>
                    <a:close/>
                  </a:path>
                </a:pathLst>
              </a:custGeom>
              <a:solidFill>
                <a:srgbClr val="ffcccc"/>
              </a:solidFill>
              <a:ln w="9360">
                <a:solidFill>
                  <a:srgbClr val="ffcc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2" name=""/>
            <p:cNvSpPr/>
            <p:nvPr/>
          </p:nvSpPr>
          <p:spPr>
            <a:xfrm>
              <a:off x="808200" y="4468680"/>
              <a:ext cx="2828880" cy="2260800"/>
            </a:xfrm>
            <a:custGeom>
              <a:avLst/>
              <a:gdLst/>
              <a:ahLst/>
              <a:rect l="l" t="t" r="r" b="b"/>
              <a:pathLst>
                <a:path w="1782" h="1424">
                  <a:moveTo>
                    <a:pt x="18" y="47"/>
                  </a:moveTo>
                  <a:cubicBezTo>
                    <a:pt x="21" y="485"/>
                    <a:pt x="0" y="924"/>
                    <a:pt x="27" y="1361"/>
                  </a:cubicBezTo>
                  <a:cubicBezTo>
                    <a:pt x="28" y="1385"/>
                    <a:pt x="76" y="1364"/>
                    <a:pt x="99" y="1370"/>
                  </a:cubicBezTo>
                  <a:cubicBezTo>
                    <a:pt x="109" y="1373"/>
                    <a:pt x="117" y="1382"/>
                    <a:pt x="126" y="1388"/>
                  </a:cubicBezTo>
                  <a:cubicBezTo>
                    <a:pt x="854" y="1373"/>
                    <a:pt x="395" y="1424"/>
                    <a:pt x="612" y="1352"/>
                  </a:cubicBezTo>
                  <a:cubicBezTo>
                    <a:pt x="654" y="1289"/>
                    <a:pt x="657" y="1216"/>
                    <a:pt x="675" y="1145"/>
                  </a:cubicBezTo>
                  <a:cubicBezTo>
                    <a:pt x="678" y="941"/>
                    <a:pt x="674" y="737"/>
                    <a:pt x="684" y="533"/>
                  </a:cubicBezTo>
                  <a:cubicBezTo>
                    <a:pt x="685" y="517"/>
                    <a:pt x="701" y="562"/>
                    <a:pt x="702" y="578"/>
                  </a:cubicBezTo>
                  <a:cubicBezTo>
                    <a:pt x="710" y="707"/>
                    <a:pt x="703" y="836"/>
                    <a:pt x="711" y="965"/>
                  </a:cubicBezTo>
                  <a:cubicBezTo>
                    <a:pt x="714" y="1024"/>
                    <a:pt x="746" y="1089"/>
                    <a:pt x="765" y="1145"/>
                  </a:cubicBezTo>
                  <a:cubicBezTo>
                    <a:pt x="768" y="1154"/>
                    <a:pt x="784" y="1149"/>
                    <a:pt x="792" y="1154"/>
                  </a:cubicBezTo>
                  <a:cubicBezTo>
                    <a:pt x="989" y="1264"/>
                    <a:pt x="766" y="1153"/>
                    <a:pt x="873" y="1199"/>
                  </a:cubicBezTo>
                  <a:cubicBezTo>
                    <a:pt x="967" y="1239"/>
                    <a:pt x="1078" y="1278"/>
                    <a:pt x="1179" y="1289"/>
                  </a:cubicBezTo>
                  <a:cubicBezTo>
                    <a:pt x="1247" y="1306"/>
                    <a:pt x="1311" y="1330"/>
                    <a:pt x="1377" y="1352"/>
                  </a:cubicBezTo>
                  <a:cubicBezTo>
                    <a:pt x="1404" y="1343"/>
                    <a:pt x="1434" y="1340"/>
                    <a:pt x="1458" y="1325"/>
                  </a:cubicBezTo>
                  <a:cubicBezTo>
                    <a:pt x="1499" y="1300"/>
                    <a:pt x="1541" y="1272"/>
                    <a:pt x="1584" y="1253"/>
                  </a:cubicBezTo>
                  <a:cubicBezTo>
                    <a:pt x="1595" y="1248"/>
                    <a:pt x="1609" y="1249"/>
                    <a:pt x="1620" y="1244"/>
                  </a:cubicBezTo>
                  <a:cubicBezTo>
                    <a:pt x="1645" y="1234"/>
                    <a:pt x="1671" y="1224"/>
                    <a:pt x="1692" y="1208"/>
                  </a:cubicBezTo>
                  <a:cubicBezTo>
                    <a:pt x="1704" y="1199"/>
                    <a:pt x="1715" y="1188"/>
                    <a:pt x="1728" y="1181"/>
                  </a:cubicBezTo>
                  <a:cubicBezTo>
                    <a:pt x="1745" y="1173"/>
                    <a:pt x="1782" y="1163"/>
                    <a:pt x="1782" y="1163"/>
                  </a:cubicBezTo>
                  <a:cubicBezTo>
                    <a:pt x="1733" y="1130"/>
                    <a:pt x="1684" y="1118"/>
                    <a:pt x="1629" y="1100"/>
                  </a:cubicBezTo>
                  <a:cubicBezTo>
                    <a:pt x="1613" y="1095"/>
                    <a:pt x="1555" y="1063"/>
                    <a:pt x="1539" y="1055"/>
                  </a:cubicBezTo>
                  <a:cubicBezTo>
                    <a:pt x="1487" y="978"/>
                    <a:pt x="1556" y="1069"/>
                    <a:pt x="1494" y="1019"/>
                  </a:cubicBezTo>
                  <a:cubicBezTo>
                    <a:pt x="1474" y="1003"/>
                    <a:pt x="1464" y="977"/>
                    <a:pt x="1449" y="956"/>
                  </a:cubicBezTo>
                  <a:cubicBezTo>
                    <a:pt x="1436" y="916"/>
                    <a:pt x="1411" y="882"/>
                    <a:pt x="1386" y="848"/>
                  </a:cubicBezTo>
                  <a:cubicBezTo>
                    <a:pt x="1343" y="790"/>
                    <a:pt x="1320" y="736"/>
                    <a:pt x="1251" y="713"/>
                  </a:cubicBezTo>
                  <a:cubicBezTo>
                    <a:pt x="1162" y="646"/>
                    <a:pt x="1196" y="684"/>
                    <a:pt x="1143" y="605"/>
                  </a:cubicBezTo>
                  <a:cubicBezTo>
                    <a:pt x="1117" y="566"/>
                    <a:pt x="1124" y="519"/>
                    <a:pt x="1098" y="479"/>
                  </a:cubicBezTo>
                  <a:cubicBezTo>
                    <a:pt x="1085" y="399"/>
                    <a:pt x="1097" y="441"/>
                    <a:pt x="1053" y="353"/>
                  </a:cubicBezTo>
                  <a:lnTo>
                    <a:pt x="1053" y="353"/>
                  </a:lnTo>
                  <a:cubicBezTo>
                    <a:pt x="1035" y="282"/>
                    <a:pt x="999" y="218"/>
                    <a:pt x="981" y="146"/>
                  </a:cubicBezTo>
                  <a:cubicBezTo>
                    <a:pt x="984" y="122"/>
                    <a:pt x="981" y="96"/>
                    <a:pt x="990" y="74"/>
                  </a:cubicBezTo>
                  <a:cubicBezTo>
                    <a:pt x="1019" y="0"/>
                    <a:pt x="1017" y="82"/>
                    <a:pt x="1017" y="47"/>
                  </a:cubicBezTo>
                  <a:cubicBezTo>
                    <a:pt x="707" y="37"/>
                    <a:pt x="397" y="17"/>
                    <a:pt x="87" y="17"/>
                  </a:cubicBezTo>
                  <a:cubicBezTo>
                    <a:pt x="12" y="17"/>
                    <a:pt x="88" y="140"/>
                    <a:pt x="18" y="47"/>
                  </a:cubicBezTo>
                  <a:close/>
                </a:path>
              </a:pathLst>
            </a:custGeom>
            <a:blipFill rotWithShape="0">
              <a:blip r:embed="rId22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41520" y="6324480"/>
              <a:ext cx="1295280" cy="457200"/>
            </a:xfrm>
            <a:prstGeom prst="ellipse">
              <a:avLst/>
            </a:prstGeom>
            <a:blipFill rotWithShape="0">
              <a:blip r:embed="rId2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2546280" y="6172200"/>
              <a:ext cx="1295640" cy="457200"/>
            </a:xfrm>
            <a:prstGeom prst="ellipse">
              <a:avLst/>
            </a:prstGeom>
            <a:blipFill rotWithShape="0">
              <a:blip r:embed="rId2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5" name=""/>
          <p:cNvGrpSpPr/>
          <p:nvPr/>
        </p:nvGrpSpPr>
        <p:grpSpPr>
          <a:xfrm>
            <a:off x="2831400" y="3610080"/>
            <a:ext cx="1146600" cy="935280"/>
            <a:chOff x="2831400" y="3610080"/>
            <a:chExt cx="1146600" cy="935280"/>
          </a:xfrm>
        </p:grpSpPr>
        <p:sp>
          <p:nvSpPr>
            <p:cNvPr id="346" name=""/>
            <p:cNvSpPr/>
            <p:nvPr/>
          </p:nvSpPr>
          <p:spPr>
            <a:xfrm rot="5697600">
              <a:off x="3219480" y="3282840"/>
              <a:ext cx="366840" cy="1116360"/>
            </a:xfrm>
            <a:custGeom>
              <a:avLst/>
              <a:gdLst>
                <a:gd name="textAreaLeft" fmla="*/ 17640 w 366840"/>
                <a:gd name="textAreaRight" fmla="*/ 349200 w 366840"/>
                <a:gd name="textAreaTop" fmla="*/ 17640 h 1116360"/>
                <a:gd name="textAreaBottom" fmla="*/ 1098720 h 1116360"/>
              </a:gdLst>
              <a:ahLst/>
              <a:rect l="textAreaLeft" t="textAreaTop" r="textAreaRight" b="textAreaBottom"/>
              <a:pathLst>
                <a:path w="21600" h="65689">
                  <a:moveTo>
                    <a:pt x="3600" y="0"/>
                  </a:moveTo>
                  <a:arcTo wR="3600" hR="3600" stAng="16200000" swAng="-5400000"/>
                  <a:lnTo>
                    <a:pt x="0" y="62089"/>
                  </a:lnTo>
                  <a:arcTo wR="3600" hR="3600" stAng="10800000" swAng="-5400000"/>
                  <a:lnTo>
                    <a:pt x="18000" y="6568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ccff"/>
            </a:solidFill>
            <a:ln w="93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 rot="5697600">
              <a:off x="3762360" y="3874680"/>
              <a:ext cx="66600" cy="302040"/>
            </a:xfrm>
            <a:prstGeom prst="rect">
              <a:avLst/>
            </a:prstGeom>
            <a:solidFill>
              <a:srgbClr val="f0312c"/>
            </a:solidFill>
            <a:ln w="9360">
              <a:solidFill>
                <a:srgbClr val="f0312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 rot="5040600">
              <a:off x="3503160" y="4083480"/>
              <a:ext cx="567000" cy="325440"/>
            </a:xfrm>
            <a:prstGeom prst="parallelogram">
              <a:avLst>
                <a:gd name="adj" fmla="val 46274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9" name=""/>
          <p:cNvSpPr txBox="1"/>
          <p:nvPr/>
        </p:nvSpPr>
        <p:spPr>
          <a:xfrm>
            <a:off x="304920" y="990720"/>
            <a:ext cx="883908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Дед яйцо</a:t>
            </a:r>
            <a:endParaRPr b="1" i="1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Бил - Бил!</a:t>
            </a:r>
            <a:endParaRPr b="1" i="1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И не разбил.</a:t>
            </a:r>
            <a:endParaRPr b="1" i="1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385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5" dur="385" fill="hold"/>
                                        <p:tgtEl>
                                          <p:spTgt spid="34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7" dur="385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9" dur="385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0" y="4800600"/>
            <a:ext cx="9144000" cy="205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 rot="16200000">
            <a:off x="1866960" y="1562040"/>
            <a:ext cx="1828800" cy="464832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 rot="10800000">
            <a:off x="456840" y="0"/>
            <a:ext cx="1523880" cy="464832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 rot="9553200">
            <a:off x="1599840" y="2056680"/>
            <a:ext cx="990720" cy="1066680"/>
          </a:xfrm>
          <a:prstGeom prst="foldedCorner">
            <a:avLst>
              <a:gd name="adj" fmla="val 10518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2411280" y="2571840"/>
            <a:ext cx="2786040" cy="614160"/>
          </a:xfrm>
          <a:custGeom>
            <a:avLst/>
            <a:gdLst/>
            <a:ahLst/>
            <a:rect l="l" t="t" r="r" b="b"/>
            <a:pathLst>
              <a:path w="1755" h="387">
                <a:moveTo>
                  <a:pt x="29" y="171"/>
                </a:moveTo>
                <a:cubicBezTo>
                  <a:pt x="79" y="138"/>
                  <a:pt x="133" y="122"/>
                  <a:pt x="191" y="108"/>
                </a:cubicBezTo>
                <a:cubicBezTo>
                  <a:pt x="224" y="100"/>
                  <a:pt x="256" y="81"/>
                  <a:pt x="290" y="72"/>
                </a:cubicBezTo>
                <a:cubicBezTo>
                  <a:pt x="358" y="27"/>
                  <a:pt x="463" y="10"/>
                  <a:pt x="542" y="0"/>
                </a:cubicBezTo>
                <a:cubicBezTo>
                  <a:pt x="800" y="3"/>
                  <a:pt x="1058" y="3"/>
                  <a:pt x="1316" y="9"/>
                </a:cubicBezTo>
                <a:cubicBezTo>
                  <a:pt x="1403" y="11"/>
                  <a:pt x="1487" y="63"/>
                  <a:pt x="1559" y="108"/>
                </a:cubicBezTo>
                <a:cubicBezTo>
                  <a:pt x="1632" y="154"/>
                  <a:pt x="1558" y="122"/>
                  <a:pt x="1631" y="144"/>
                </a:cubicBezTo>
                <a:cubicBezTo>
                  <a:pt x="1649" y="149"/>
                  <a:pt x="1685" y="162"/>
                  <a:pt x="1685" y="162"/>
                </a:cubicBezTo>
                <a:cubicBezTo>
                  <a:pt x="1727" y="225"/>
                  <a:pt x="1703" y="204"/>
                  <a:pt x="1748" y="234"/>
                </a:cubicBezTo>
                <a:cubicBezTo>
                  <a:pt x="1745" y="255"/>
                  <a:pt x="1755" y="284"/>
                  <a:pt x="1739" y="297"/>
                </a:cubicBezTo>
                <a:cubicBezTo>
                  <a:pt x="1715" y="316"/>
                  <a:pt x="1678" y="305"/>
                  <a:pt x="1649" y="315"/>
                </a:cubicBezTo>
                <a:cubicBezTo>
                  <a:pt x="1600" y="331"/>
                  <a:pt x="1547" y="338"/>
                  <a:pt x="1496" y="351"/>
                </a:cubicBezTo>
                <a:cubicBezTo>
                  <a:pt x="1450" y="363"/>
                  <a:pt x="1409" y="379"/>
                  <a:pt x="1361" y="387"/>
                </a:cubicBezTo>
                <a:cubicBezTo>
                  <a:pt x="1031" y="384"/>
                  <a:pt x="701" y="386"/>
                  <a:pt x="371" y="378"/>
                </a:cubicBezTo>
                <a:cubicBezTo>
                  <a:pt x="271" y="375"/>
                  <a:pt x="171" y="316"/>
                  <a:pt x="74" y="297"/>
                </a:cubicBezTo>
                <a:cubicBezTo>
                  <a:pt x="33" y="235"/>
                  <a:pt x="59" y="250"/>
                  <a:pt x="11" y="234"/>
                </a:cubicBezTo>
                <a:cubicBezTo>
                  <a:pt x="0" y="202"/>
                  <a:pt x="5" y="195"/>
                  <a:pt x="29" y="171"/>
                </a:cubicBezTo>
                <a:close/>
              </a:path>
            </a:pathLst>
          </a:cu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1143000" y="3276720"/>
            <a:ext cx="1447920" cy="1218960"/>
          </a:xfrm>
          <a:prstGeom prst="octagon">
            <a:avLst>
              <a:gd name="adj" fmla="val 29287"/>
            </a:avLst>
          </a:prstGeom>
          <a:solidFill>
            <a:srgbClr val="f0312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1486080" y="3613320"/>
            <a:ext cx="625320" cy="403200"/>
          </a:xfrm>
          <a:custGeom>
            <a:avLst/>
            <a:gdLst/>
            <a:ahLst/>
            <a:rect l="l" t="t" r="r" b="b"/>
            <a:pathLst>
              <a:path w="394" h="254">
                <a:moveTo>
                  <a:pt x="0" y="199"/>
                </a:moveTo>
                <a:cubicBezTo>
                  <a:pt x="15" y="154"/>
                  <a:pt x="1" y="186"/>
                  <a:pt x="36" y="136"/>
                </a:cubicBezTo>
                <a:cubicBezTo>
                  <a:pt x="81" y="71"/>
                  <a:pt x="50" y="88"/>
                  <a:pt x="108" y="73"/>
                </a:cubicBezTo>
                <a:cubicBezTo>
                  <a:pt x="170" y="32"/>
                  <a:pt x="141" y="44"/>
                  <a:pt x="189" y="28"/>
                </a:cubicBezTo>
                <a:cubicBezTo>
                  <a:pt x="225" y="31"/>
                  <a:pt x="262" y="27"/>
                  <a:pt x="297" y="37"/>
                </a:cubicBezTo>
                <a:cubicBezTo>
                  <a:pt x="307" y="40"/>
                  <a:pt x="307" y="56"/>
                  <a:pt x="315" y="64"/>
                </a:cubicBezTo>
                <a:cubicBezTo>
                  <a:pt x="394" y="143"/>
                  <a:pt x="281" y="0"/>
                  <a:pt x="369" y="118"/>
                </a:cubicBezTo>
                <a:cubicBezTo>
                  <a:pt x="379" y="159"/>
                  <a:pt x="392" y="194"/>
                  <a:pt x="378" y="235"/>
                </a:cubicBezTo>
                <a:cubicBezTo>
                  <a:pt x="348" y="232"/>
                  <a:pt x="316" y="238"/>
                  <a:pt x="288" y="226"/>
                </a:cubicBezTo>
                <a:cubicBezTo>
                  <a:pt x="279" y="222"/>
                  <a:pt x="297" y="208"/>
                  <a:pt x="297" y="199"/>
                </a:cubicBezTo>
                <a:cubicBezTo>
                  <a:pt x="297" y="178"/>
                  <a:pt x="298" y="155"/>
                  <a:pt x="288" y="136"/>
                </a:cubicBezTo>
                <a:cubicBezTo>
                  <a:pt x="283" y="127"/>
                  <a:pt x="237" y="113"/>
                  <a:pt x="225" y="109"/>
                </a:cubicBezTo>
                <a:cubicBezTo>
                  <a:pt x="201" y="115"/>
                  <a:pt x="177" y="121"/>
                  <a:pt x="153" y="127"/>
                </a:cubicBezTo>
                <a:cubicBezTo>
                  <a:pt x="144" y="129"/>
                  <a:pt x="148" y="146"/>
                  <a:pt x="144" y="154"/>
                </a:cubicBezTo>
                <a:cubicBezTo>
                  <a:pt x="139" y="164"/>
                  <a:pt x="135" y="175"/>
                  <a:pt x="126" y="181"/>
                </a:cubicBezTo>
                <a:cubicBezTo>
                  <a:pt x="116" y="188"/>
                  <a:pt x="102" y="187"/>
                  <a:pt x="90" y="190"/>
                </a:cubicBezTo>
                <a:cubicBezTo>
                  <a:pt x="69" y="254"/>
                  <a:pt x="64" y="246"/>
                  <a:pt x="0" y="235"/>
                </a:cubicBezTo>
                <a:cubicBezTo>
                  <a:pt x="10" y="204"/>
                  <a:pt x="16" y="215"/>
                  <a:pt x="0" y="199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048120" y="3581280"/>
            <a:ext cx="1981080" cy="12193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8" name=""/>
          <p:cNvGrpSpPr/>
          <p:nvPr/>
        </p:nvGrpSpPr>
        <p:grpSpPr>
          <a:xfrm>
            <a:off x="3048120" y="4419720"/>
            <a:ext cx="990360" cy="380880"/>
            <a:chOff x="3048120" y="4419720"/>
            <a:chExt cx="990360" cy="380880"/>
          </a:xfrm>
        </p:grpSpPr>
        <p:sp>
          <p:nvSpPr>
            <p:cNvPr id="359" name=""/>
            <p:cNvSpPr/>
            <p:nvPr/>
          </p:nvSpPr>
          <p:spPr>
            <a:xfrm>
              <a:off x="3048120" y="4419720"/>
              <a:ext cx="990360" cy="380880"/>
            </a:xfrm>
            <a:prstGeom prst="roundRect">
              <a:avLst>
                <a:gd name="adj" fmla="val 16667"/>
              </a:avLst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048120" y="4419720"/>
              <a:ext cx="188640" cy="380880"/>
            </a:xfrm>
            <a:custGeom>
              <a:avLst/>
              <a:gdLst>
                <a:gd name="textAreaLeft" fmla="*/ 9000 w 188640"/>
                <a:gd name="textAreaRight" fmla="*/ 179640 w 188640"/>
                <a:gd name="textAreaTop" fmla="*/ 9000 h 380880"/>
                <a:gd name="textAreaBottom" fmla="*/ 371880 h 380880"/>
              </a:gdLst>
              <a:ahLst/>
              <a:rect l="textAreaLeft" t="textAreaTop" r="textAreaRight" b="textAreaBottom"/>
              <a:pathLst>
                <a:path w="21600" h="43570">
                  <a:moveTo>
                    <a:pt x="3600" y="0"/>
                  </a:moveTo>
                  <a:arcTo wR="3600" hR="3600" stAng="16200000" swAng="-5400000"/>
                  <a:lnTo>
                    <a:pt x="0" y="39970"/>
                  </a:lnTo>
                  <a:arcTo wR="3600" hR="3600" stAng="10800000" swAng="-5400000"/>
                  <a:lnTo>
                    <a:pt x="18000" y="4357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849840" y="4419720"/>
              <a:ext cx="188640" cy="380880"/>
            </a:xfrm>
            <a:custGeom>
              <a:avLst/>
              <a:gdLst>
                <a:gd name="textAreaLeft" fmla="*/ 9000 w 188640"/>
                <a:gd name="textAreaRight" fmla="*/ 179640 w 188640"/>
                <a:gd name="textAreaTop" fmla="*/ 9000 h 380880"/>
                <a:gd name="textAreaBottom" fmla="*/ 371880 h 380880"/>
              </a:gdLst>
              <a:ahLst/>
              <a:rect l="textAreaLeft" t="textAreaTop" r="textAreaRight" b="textAreaBottom"/>
              <a:pathLst>
                <a:path w="21600" h="43570">
                  <a:moveTo>
                    <a:pt x="3600" y="0"/>
                  </a:moveTo>
                  <a:arcTo wR="3600" hR="3600" stAng="16200000" swAng="-5400000"/>
                  <a:lnTo>
                    <a:pt x="0" y="39970"/>
                  </a:lnTo>
                  <a:arcTo wR="3600" hR="3600" stAng="10800000" swAng="-5400000"/>
                  <a:lnTo>
                    <a:pt x="18000" y="4357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2" name=""/>
          <p:cNvGrpSpPr/>
          <p:nvPr/>
        </p:nvGrpSpPr>
        <p:grpSpPr>
          <a:xfrm>
            <a:off x="3733920" y="4419720"/>
            <a:ext cx="1295280" cy="380880"/>
            <a:chOff x="3733920" y="4419720"/>
            <a:chExt cx="1295280" cy="380880"/>
          </a:xfrm>
        </p:grpSpPr>
        <p:sp>
          <p:nvSpPr>
            <p:cNvPr id="363" name=""/>
            <p:cNvSpPr/>
            <p:nvPr/>
          </p:nvSpPr>
          <p:spPr>
            <a:xfrm>
              <a:off x="3733920" y="4419720"/>
              <a:ext cx="1295280" cy="380880"/>
            </a:xfrm>
            <a:prstGeom prst="roundRect">
              <a:avLst>
                <a:gd name="adj" fmla="val 16667"/>
              </a:avLst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733920" y="4419720"/>
              <a:ext cx="246600" cy="380880"/>
            </a:xfrm>
            <a:custGeom>
              <a:avLst/>
              <a:gdLst>
                <a:gd name="textAreaLeft" fmla="*/ 11880 w 246600"/>
                <a:gd name="textAreaRight" fmla="*/ 234720 w 246600"/>
                <a:gd name="textAreaTop" fmla="*/ 11880 h 380880"/>
                <a:gd name="textAreaBottom" fmla="*/ 369000 h 380880"/>
              </a:gdLst>
              <a:ahLst/>
              <a:rect l="textAreaLeft" t="textAreaTop" r="textAreaRight" b="textAreaBottom"/>
              <a:pathLst>
                <a:path w="21600" h="33345">
                  <a:moveTo>
                    <a:pt x="3600" y="0"/>
                  </a:moveTo>
                  <a:arcTo wR="3600" hR="3600" stAng="16200000" swAng="-5400000"/>
                  <a:lnTo>
                    <a:pt x="0" y="29745"/>
                  </a:lnTo>
                  <a:arcTo wR="3600" hR="3600" stAng="10800000" swAng="-5400000"/>
                  <a:lnTo>
                    <a:pt x="18000" y="3334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782240" y="4419720"/>
              <a:ext cx="246600" cy="380880"/>
            </a:xfrm>
            <a:custGeom>
              <a:avLst/>
              <a:gdLst>
                <a:gd name="textAreaLeft" fmla="*/ 11880 w 246600"/>
                <a:gd name="textAreaRight" fmla="*/ 234720 w 246600"/>
                <a:gd name="textAreaTop" fmla="*/ 11880 h 380880"/>
                <a:gd name="textAreaBottom" fmla="*/ 369000 h 380880"/>
              </a:gdLst>
              <a:ahLst/>
              <a:rect l="textAreaLeft" t="textAreaTop" r="textAreaRight" b="textAreaBottom"/>
              <a:pathLst>
                <a:path w="21600" h="33345">
                  <a:moveTo>
                    <a:pt x="3600" y="0"/>
                  </a:moveTo>
                  <a:arcTo wR="3600" hR="3600" stAng="16200000" swAng="-5400000"/>
                  <a:lnTo>
                    <a:pt x="0" y="29745"/>
                  </a:lnTo>
                  <a:arcTo wR="3600" hR="3600" stAng="10800000" swAng="-5400000"/>
                  <a:lnTo>
                    <a:pt x="18000" y="3334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"/>
          <p:cNvGrpSpPr/>
          <p:nvPr/>
        </p:nvGrpSpPr>
        <p:grpSpPr>
          <a:xfrm>
            <a:off x="3962520" y="4038480"/>
            <a:ext cx="1066680" cy="381240"/>
            <a:chOff x="3962520" y="4038480"/>
            <a:chExt cx="1066680" cy="381240"/>
          </a:xfrm>
        </p:grpSpPr>
        <p:sp>
          <p:nvSpPr>
            <p:cNvPr id="367" name=""/>
            <p:cNvSpPr/>
            <p:nvPr/>
          </p:nvSpPr>
          <p:spPr>
            <a:xfrm>
              <a:off x="3962520" y="4038480"/>
              <a:ext cx="1066680" cy="381240"/>
            </a:xfrm>
            <a:prstGeom prst="roundRect">
              <a:avLst>
                <a:gd name="adj" fmla="val 16667"/>
              </a:avLst>
            </a:prstGeom>
            <a:blipFill rotWithShape="0">
              <a:blip r:embed="rId10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962520" y="4038480"/>
              <a:ext cx="203040" cy="381240"/>
            </a:xfrm>
            <a:custGeom>
              <a:avLst/>
              <a:gdLst>
                <a:gd name="textAreaLeft" fmla="*/ 9720 w 203040"/>
                <a:gd name="textAreaRight" fmla="*/ 193320 w 203040"/>
                <a:gd name="textAreaTop" fmla="*/ 9720 h 381240"/>
                <a:gd name="textAreaBottom" fmla="*/ 371520 h 381240"/>
              </a:gdLst>
              <a:ahLst/>
              <a:rect l="textAreaLeft" t="textAreaTop" r="textAreaRight" b="textAreaBottom"/>
              <a:pathLst>
                <a:path w="21600" h="40524">
                  <a:moveTo>
                    <a:pt x="3600" y="0"/>
                  </a:moveTo>
                  <a:arcTo wR="3600" hR="3600" stAng="16200000" swAng="-5400000"/>
                  <a:lnTo>
                    <a:pt x="0" y="36924"/>
                  </a:lnTo>
                  <a:arcTo wR="3600" hR="3600" stAng="10800000" swAng="-5400000"/>
                  <a:lnTo>
                    <a:pt x="18000" y="4052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blipFill rotWithShape="0">
              <a:blip r:embed="rId1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825800" y="4038480"/>
              <a:ext cx="203040" cy="381240"/>
            </a:xfrm>
            <a:custGeom>
              <a:avLst/>
              <a:gdLst>
                <a:gd name="textAreaLeft" fmla="*/ 9720 w 203040"/>
                <a:gd name="textAreaRight" fmla="*/ 193320 w 203040"/>
                <a:gd name="textAreaTop" fmla="*/ 9720 h 381240"/>
                <a:gd name="textAreaBottom" fmla="*/ 371520 h 381240"/>
              </a:gdLst>
              <a:ahLst/>
              <a:rect l="textAreaLeft" t="textAreaTop" r="textAreaRight" b="textAreaBottom"/>
              <a:pathLst>
                <a:path w="21600" h="40524">
                  <a:moveTo>
                    <a:pt x="3600" y="0"/>
                  </a:moveTo>
                  <a:arcTo wR="3600" hR="3600" stAng="16200000" swAng="-5400000"/>
                  <a:lnTo>
                    <a:pt x="0" y="36924"/>
                  </a:lnTo>
                  <a:arcTo wR="3600" hR="3600" stAng="10800000" swAng="-5400000"/>
                  <a:lnTo>
                    <a:pt x="18000" y="4052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blipFill rotWithShape="0">
              <a:blip r:embed="rId1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3048120" y="4114800"/>
            <a:ext cx="914400" cy="304920"/>
            <a:chOff x="3048120" y="4114800"/>
            <a:chExt cx="914400" cy="304920"/>
          </a:xfrm>
        </p:grpSpPr>
        <p:sp>
          <p:nvSpPr>
            <p:cNvPr id="371" name=""/>
            <p:cNvSpPr/>
            <p:nvPr/>
          </p:nvSpPr>
          <p:spPr>
            <a:xfrm>
              <a:off x="3048120" y="4114800"/>
              <a:ext cx="914400" cy="304920"/>
            </a:xfrm>
            <a:prstGeom prst="roundRect">
              <a:avLst>
                <a:gd name="adj" fmla="val 16667"/>
              </a:avLst>
            </a:prstGeom>
            <a:blipFill rotWithShape="0">
              <a:blip r:embed="rId1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048120" y="4114800"/>
              <a:ext cx="174240" cy="304920"/>
            </a:xfrm>
            <a:custGeom>
              <a:avLst/>
              <a:gdLst>
                <a:gd name="textAreaLeft" fmla="*/ 8280 w 174240"/>
                <a:gd name="textAreaRight" fmla="*/ 165960 w 174240"/>
                <a:gd name="textAreaTop" fmla="*/ 8280 h 304920"/>
                <a:gd name="textAreaBottom" fmla="*/ 296640 h 304920"/>
              </a:gdLst>
              <a:ahLst/>
              <a:rect l="textAreaLeft" t="textAreaTop" r="textAreaRight" b="textAreaBottom"/>
              <a:pathLst>
                <a:path w="21600" h="37767">
                  <a:moveTo>
                    <a:pt x="3600" y="0"/>
                  </a:moveTo>
                  <a:arcTo wR="3600" hR="3600" stAng="16200000" swAng="-5400000"/>
                  <a:lnTo>
                    <a:pt x="0" y="34167"/>
                  </a:lnTo>
                  <a:arcTo wR="3600" hR="3600" stAng="10800000" swAng="-5400000"/>
                  <a:lnTo>
                    <a:pt x="18000" y="3776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blipFill rotWithShape="0">
              <a:blip r:embed="rId1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788280" y="4114800"/>
              <a:ext cx="174240" cy="304920"/>
            </a:xfrm>
            <a:custGeom>
              <a:avLst/>
              <a:gdLst>
                <a:gd name="textAreaLeft" fmla="*/ 8280 w 174240"/>
                <a:gd name="textAreaRight" fmla="*/ 165960 w 174240"/>
                <a:gd name="textAreaTop" fmla="*/ 8280 h 304920"/>
                <a:gd name="textAreaBottom" fmla="*/ 296640 h 304920"/>
              </a:gdLst>
              <a:ahLst/>
              <a:rect l="textAreaLeft" t="textAreaTop" r="textAreaRight" b="textAreaBottom"/>
              <a:pathLst>
                <a:path w="21600" h="37767">
                  <a:moveTo>
                    <a:pt x="3600" y="0"/>
                  </a:moveTo>
                  <a:arcTo wR="3600" hR="3600" stAng="16200000" swAng="-5400000"/>
                  <a:lnTo>
                    <a:pt x="0" y="34167"/>
                  </a:lnTo>
                  <a:arcTo wR="3600" hR="3600" stAng="10800000" swAng="-5400000"/>
                  <a:lnTo>
                    <a:pt x="18000" y="3776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blipFill rotWithShape="0">
              <a:blip r:embed="rId1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4" name=""/>
          <p:cNvGrpSpPr/>
          <p:nvPr/>
        </p:nvGrpSpPr>
        <p:grpSpPr>
          <a:xfrm>
            <a:off x="3048120" y="3809880"/>
            <a:ext cx="914400" cy="304920"/>
            <a:chOff x="3048120" y="3809880"/>
            <a:chExt cx="914400" cy="304920"/>
          </a:xfrm>
        </p:grpSpPr>
        <p:sp>
          <p:nvSpPr>
            <p:cNvPr id="375" name=""/>
            <p:cNvSpPr/>
            <p:nvPr/>
          </p:nvSpPr>
          <p:spPr>
            <a:xfrm>
              <a:off x="3048120" y="3809880"/>
              <a:ext cx="914400" cy="304920"/>
            </a:xfrm>
            <a:prstGeom prst="roundRect">
              <a:avLst>
                <a:gd name="adj" fmla="val 16667"/>
              </a:avLst>
            </a:prstGeom>
            <a:blipFill rotWithShape="0">
              <a:blip r:embed="rId1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048120" y="3809880"/>
              <a:ext cx="174240" cy="304920"/>
            </a:xfrm>
            <a:custGeom>
              <a:avLst/>
              <a:gdLst>
                <a:gd name="textAreaLeft" fmla="*/ 8280 w 174240"/>
                <a:gd name="textAreaRight" fmla="*/ 165960 w 174240"/>
                <a:gd name="textAreaTop" fmla="*/ 8280 h 304920"/>
                <a:gd name="textAreaBottom" fmla="*/ 296640 h 304920"/>
              </a:gdLst>
              <a:ahLst/>
              <a:rect l="textAreaLeft" t="textAreaTop" r="textAreaRight" b="textAreaBottom"/>
              <a:pathLst>
                <a:path w="21600" h="37767">
                  <a:moveTo>
                    <a:pt x="3600" y="0"/>
                  </a:moveTo>
                  <a:arcTo wR="3600" hR="3600" stAng="16200000" swAng="-5400000"/>
                  <a:lnTo>
                    <a:pt x="0" y="34167"/>
                  </a:lnTo>
                  <a:arcTo wR="3600" hR="3600" stAng="10800000" swAng="-5400000"/>
                  <a:lnTo>
                    <a:pt x="18000" y="3776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blipFill rotWithShape="0">
              <a:blip r:embed="rId1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3788280" y="3809880"/>
              <a:ext cx="174240" cy="304920"/>
            </a:xfrm>
            <a:custGeom>
              <a:avLst/>
              <a:gdLst>
                <a:gd name="textAreaLeft" fmla="*/ 8280 w 174240"/>
                <a:gd name="textAreaRight" fmla="*/ 165960 w 174240"/>
                <a:gd name="textAreaTop" fmla="*/ 8280 h 304920"/>
                <a:gd name="textAreaBottom" fmla="*/ 296640 h 304920"/>
              </a:gdLst>
              <a:ahLst/>
              <a:rect l="textAreaLeft" t="textAreaTop" r="textAreaRight" b="textAreaBottom"/>
              <a:pathLst>
                <a:path w="21600" h="37767">
                  <a:moveTo>
                    <a:pt x="3600" y="0"/>
                  </a:moveTo>
                  <a:arcTo wR="3600" hR="3600" stAng="16200000" swAng="-5400000"/>
                  <a:lnTo>
                    <a:pt x="0" y="34167"/>
                  </a:lnTo>
                  <a:arcTo wR="3600" hR="3600" stAng="10800000" swAng="-5400000"/>
                  <a:lnTo>
                    <a:pt x="18000" y="3776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blipFill rotWithShape="0">
              <a:blip r:embed="rId18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8381880" y="4495680"/>
            <a:ext cx="482760" cy="387360"/>
          </a:xfrm>
          <a:custGeom>
            <a:avLst/>
            <a:gdLst/>
            <a:ahLst/>
            <a:rect l="l" t="t" r="r" b="b"/>
            <a:pathLst>
              <a:path w="304" h="244">
                <a:moveTo>
                  <a:pt x="21" y="207"/>
                </a:moveTo>
                <a:cubicBezTo>
                  <a:pt x="26" y="129"/>
                  <a:pt x="0" y="61"/>
                  <a:pt x="75" y="36"/>
                </a:cubicBezTo>
                <a:cubicBezTo>
                  <a:pt x="81" y="27"/>
                  <a:pt x="82" y="11"/>
                  <a:pt x="93" y="9"/>
                </a:cubicBezTo>
                <a:cubicBezTo>
                  <a:pt x="159" y="0"/>
                  <a:pt x="228" y="18"/>
                  <a:pt x="282" y="54"/>
                </a:cubicBezTo>
                <a:cubicBezTo>
                  <a:pt x="304" y="119"/>
                  <a:pt x="298" y="151"/>
                  <a:pt x="291" y="225"/>
                </a:cubicBezTo>
                <a:cubicBezTo>
                  <a:pt x="285" y="216"/>
                  <a:pt x="273" y="198"/>
                  <a:pt x="273" y="198"/>
                </a:cubicBezTo>
                <a:cubicBezTo>
                  <a:pt x="189" y="201"/>
                  <a:pt x="104" y="194"/>
                  <a:pt x="21" y="207"/>
                </a:cubicBezTo>
                <a:cubicBezTo>
                  <a:pt x="10" y="209"/>
                  <a:pt x="28" y="234"/>
                  <a:pt x="39" y="234"/>
                </a:cubicBezTo>
                <a:cubicBezTo>
                  <a:pt x="48" y="234"/>
                  <a:pt x="33" y="216"/>
                  <a:pt x="30" y="207"/>
                </a:cubicBezTo>
                <a:cubicBezTo>
                  <a:pt x="7" y="242"/>
                  <a:pt x="9" y="244"/>
                  <a:pt x="21" y="207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5638680" y="304920"/>
            <a:ext cx="2895840" cy="25905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5715000" y="1752480"/>
            <a:ext cx="11430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7238880" y="1752480"/>
            <a:ext cx="11430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715000" y="457200"/>
            <a:ext cx="11430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7238880" y="457200"/>
            <a:ext cx="11430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514600" y="5562720"/>
            <a:ext cx="380880" cy="1143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029200" y="5562720"/>
            <a:ext cx="380880" cy="114300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286000" y="4724280"/>
            <a:ext cx="3352680" cy="144792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3581280" y="4876920"/>
            <a:ext cx="1752840" cy="990360"/>
          </a:xfrm>
          <a:prstGeom prst="ellipse">
            <a:avLst/>
          </a:prstGeom>
          <a:solidFill>
            <a:srgbClr val="cc0099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3657600" y="4952880"/>
            <a:ext cx="1447920" cy="76212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 rot="16200000">
            <a:off x="5295960" y="6362640"/>
            <a:ext cx="457200" cy="53352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ffcc"/>
              </a:gs>
            </a:gsLst>
            <a:lin ang="1890000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 flipH="1">
            <a:off x="7982640" y="4900680"/>
            <a:ext cx="685800" cy="31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-55800" y="2209680"/>
            <a:ext cx="2162520" cy="3605040"/>
            <a:chOff x="-55800" y="2209680"/>
            <a:chExt cx="2162520" cy="3605040"/>
          </a:xfrm>
        </p:grpSpPr>
        <p:sp>
          <p:nvSpPr>
            <p:cNvPr id="392" name=""/>
            <p:cNvSpPr/>
            <p:nvPr/>
          </p:nvSpPr>
          <p:spPr>
            <a:xfrm flipH="1">
              <a:off x="-720" y="2595240"/>
              <a:ext cx="1965240" cy="3117960"/>
            </a:xfrm>
            <a:custGeom>
              <a:avLst/>
              <a:gdLst/>
              <a:ahLst/>
              <a:rect l="l" t="t" r="r" b="b"/>
              <a:pathLst>
                <a:path w="3414" h="2586">
                  <a:moveTo>
                    <a:pt x="1034" y="300"/>
                  </a:moveTo>
                  <a:cubicBezTo>
                    <a:pt x="852" y="239"/>
                    <a:pt x="644" y="322"/>
                    <a:pt x="458" y="336"/>
                  </a:cubicBezTo>
                  <a:cubicBezTo>
                    <a:pt x="421" y="354"/>
                    <a:pt x="397" y="370"/>
                    <a:pt x="368" y="399"/>
                  </a:cubicBezTo>
                  <a:cubicBezTo>
                    <a:pt x="365" y="411"/>
                    <a:pt x="367" y="425"/>
                    <a:pt x="359" y="435"/>
                  </a:cubicBezTo>
                  <a:cubicBezTo>
                    <a:pt x="353" y="442"/>
                    <a:pt x="341" y="440"/>
                    <a:pt x="332" y="444"/>
                  </a:cubicBezTo>
                  <a:cubicBezTo>
                    <a:pt x="320" y="449"/>
                    <a:pt x="307" y="455"/>
                    <a:pt x="296" y="462"/>
                  </a:cubicBezTo>
                  <a:cubicBezTo>
                    <a:pt x="264" y="482"/>
                    <a:pt x="233" y="507"/>
                    <a:pt x="206" y="534"/>
                  </a:cubicBezTo>
                  <a:cubicBezTo>
                    <a:pt x="180" y="611"/>
                    <a:pt x="217" y="493"/>
                    <a:pt x="188" y="669"/>
                  </a:cubicBezTo>
                  <a:cubicBezTo>
                    <a:pt x="185" y="688"/>
                    <a:pt x="175" y="705"/>
                    <a:pt x="170" y="723"/>
                  </a:cubicBezTo>
                  <a:cubicBezTo>
                    <a:pt x="153" y="792"/>
                    <a:pt x="136" y="861"/>
                    <a:pt x="116" y="930"/>
                  </a:cubicBezTo>
                  <a:cubicBezTo>
                    <a:pt x="99" y="990"/>
                    <a:pt x="91" y="1051"/>
                    <a:pt x="71" y="1110"/>
                  </a:cubicBezTo>
                  <a:cubicBezTo>
                    <a:pt x="59" y="1197"/>
                    <a:pt x="52" y="1284"/>
                    <a:pt x="35" y="1371"/>
                  </a:cubicBezTo>
                  <a:cubicBezTo>
                    <a:pt x="29" y="1477"/>
                    <a:pt x="25" y="1581"/>
                    <a:pt x="8" y="1686"/>
                  </a:cubicBezTo>
                  <a:cubicBezTo>
                    <a:pt x="11" y="1776"/>
                    <a:pt x="0" y="1868"/>
                    <a:pt x="17" y="1956"/>
                  </a:cubicBezTo>
                  <a:cubicBezTo>
                    <a:pt x="20" y="1971"/>
                    <a:pt x="47" y="1962"/>
                    <a:pt x="62" y="1965"/>
                  </a:cubicBezTo>
                  <a:cubicBezTo>
                    <a:pt x="98" y="1973"/>
                    <a:pt x="127" y="1990"/>
                    <a:pt x="161" y="2001"/>
                  </a:cubicBezTo>
                  <a:cubicBezTo>
                    <a:pt x="239" y="1998"/>
                    <a:pt x="317" y="1997"/>
                    <a:pt x="395" y="1992"/>
                  </a:cubicBezTo>
                  <a:cubicBezTo>
                    <a:pt x="454" y="1988"/>
                    <a:pt x="516" y="1959"/>
                    <a:pt x="575" y="1947"/>
                  </a:cubicBezTo>
                  <a:cubicBezTo>
                    <a:pt x="603" y="1862"/>
                    <a:pt x="591" y="1912"/>
                    <a:pt x="602" y="1794"/>
                  </a:cubicBezTo>
                  <a:cubicBezTo>
                    <a:pt x="608" y="1553"/>
                    <a:pt x="520" y="1425"/>
                    <a:pt x="710" y="1362"/>
                  </a:cubicBezTo>
                  <a:cubicBezTo>
                    <a:pt x="734" y="1291"/>
                    <a:pt x="824" y="1275"/>
                    <a:pt x="872" y="1227"/>
                  </a:cubicBezTo>
                  <a:lnTo>
                    <a:pt x="740" y="2586"/>
                  </a:lnTo>
                  <a:lnTo>
                    <a:pt x="2612" y="2586"/>
                  </a:lnTo>
                  <a:cubicBezTo>
                    <a:pt x="2486" y="2097"/>
                    <a:pt x="1822" y="979"/>
                    <a:pt x="2312" y="1101"/>
                  </a:cubicBezTo>
                  <a:cubicBezTo>
                    <a:pt x="2381" y="1147"/>
                    <a:pt x="2389" y="1178"/>
                    <a:pt x="2447" y="1236"/>
                  </a:cubicBezTo>
                  <a:cubicBezTo>
                    <a:pt x="2473" y="1313"/>
                    <a:pt x="2447" y="1229"/>
                    <a:pt x="2465" y="1407"/>
                  </a:cubicBezTo>
                  <a:cubicBezTo>
                    <a:pt x="2469" y="1446"/>
                    <a:pt x="2495" y="1471"/>
                    <a:pt x="2510" y="1506"/>
                  </a:cubicBezTo>
                  <a:cubicBezTo>
                    <a:pt x="2549" y="1596"/>
                    <a:pt x="2568" y="1687"/>
                    <a:pt x="2672" y="1722"/>
                  </a:cubicBezTo>
                  <a:cubicBezTo>
                    <a:pt x="2744" y="1719"/>
                    <a:pt x="2816" y="1718"/>
                    <a:pt x="2888" y="1713"/>
                  </a:cubicBezTo>
                  <a:cubicBezTo>
                    <a:pt x="2921" y="1711"/>
                    <a:pt x="2917" y="1696"/>
                    <a:pt x="2942" y="1677"/>
                  </a:cubicBezTo>
                  <a:cubicBezTo>
                    <a:pt x="2991" y="1639"/>
                    <a:pt x="3055" y="1597"/>
                    <a:pt x="3113" y="1578"/>
                  </a:cubicBezTo>
                  <a:cubicBezTo>
                    <a:pt x="3122" y="1569"/>
                    <a:pt x="3129" y="1558"/>
                    <a:pt x="3140" y="1551"/>
                  </a:cubicBezTo>
                  <a:cubicBezTo>
                    <a:pt x="3148" y="1546"/>
                    <a:pt x="3160" y="1548"/>
                    <a:pt x="3167" y="1542"/>
                  </a:cubicBezTo>
                  <a:cubicBezTo>
                    <a:pt x="3175" y="1535"/>
                    <a:pt x="3176" y="1521"/>
                    <a:pt x="3185" y="1515"/>
                  </a:cubicBezTo>
                  <a:cubicBezTo>
                    <a:pt x="3201" y="1505"/>
                    <a:pt x="3221" y="1503"/>
                    <a:pt x="3239" y="1497"/>
                  </a:cubicBezTo>
                  <a:cubicBezTo>
                    <a:pt x="3281" y="1483"/>
                    <a:pt x="3328" y="1450"/>
                    <a:pt x="3365" y="1425"/>
                  </a:cubicBezTo>
                  <a:cubicBezTo>
                    <a:pt x="3359" y="1245"/>
                    <a:pt x="3414" y="1143"/>
                    <a:pt x="3248" y="1110"/>
                  </a:cubicBezTo>
                  <a:cubicBezTo>
                    <a:pt x="3209" y="1084"/>
                    <a:pt x="3178" y="1054"/>
                    <a:pt x="3140" y="1029"/>
                  </a:cubicBezTo>
                  <a:cubicBezTo>
                    <a:pt x="3105" y="976"/>
                    <a:pt x="3087" y="952"/>
                    <a:pt x="3068" y="894"/>
                  </a:cubicBezTo>
                  <a:cubicBezTo>
                    <a:pt x="3065" y="884"/>
                    <a:pt x="3049" y="884"/>
                    <a:pt x="3041" y="876"/>
                  </a:cubicBezTo>
                  <a:cubicBezTo>
                    <a:pt x="3030" y="865"/>
                    <a:pt x="3026" y="850"/>
                    <a:pt x="3014" y="840"/>
                  </a:cubicBezTo>
                  <a:cubicBezTo>
                    <a:pt x="2999" y="827"/>
                    <a:pt x="2975" y="826"/>
                    <a:pt x="2960" y="813"/>
                  </a:cubicBezTo>
                  <a:cubicBezTo>
                    <a:pt x="2928" y="786"/>
                    <a:pt x="2908" y="769"/>
                    <a:pt x="2870" y="750"/>
                  </a:cubicBezTo>
                  <a:cubicBezTo>
                    <a:pt x="2837" y="700"/>
                    <a:pt x="2783" y="674"/>
                    <a:pt x="2726" y="660"/>
                  </a:cubicBezTo>
                  <a:cubicBezTo>
                    <a:pt x="2717" y="654"/>
                    <a:pt x="2709" y="647"/>
                    <a:pt x="2699" y="642"/>
                  </a:cubicBezTo>
                  <a:cubicBezTo>
                    <a:pt x="2691" y="638"/>
                    <a:pt x="2673" y="642"/>
                    <a:pt x="2672" y="633"/>
                  </a:cubicBezTo>
                  <a:cubicBezTo>
                    <a:pt x="2663" y="559"/>
                    <a:pt x="2656" y="485"/>
                    <a:pt x="2726" y="462"/>
                  </a:cubicBezTo>
                  <a:cubicBezTo>
                    <a:pt x="2738" y="426"/>
                    <a:pt x="2757" y="402"/>
                    <a:pt x="2780" y="372"/>
                  </a:cubicBezTo>
                  <a:cubicBezTo>
                    <a:pt x="2800" y="294"/>
                    <a:pt x="2816" y="265"/>
                    <a:pt x="2780" y="174"/>
                  </a:cubicBezTo>
                  <a:cubicBezTo>
                    <a:pt x="2775" y="163"/>
                    <a:pt x="2756" y="168"/>
                    <a:pt x="2744" y="165"/>
                  </a:cubicBezTo>
                  <a:cubicBezTo>
                    <a:pt x="2705" y="154"/>
                    <a:pt x="2663" y="129"/>
                    <a:pt x="2627" y="111"/>
                  </a:cubicBezTo>
                  <a:cubicBezTo>
                    <a:pt x="2404" y="0"/>
                    <a:pt x="2521" y="48"/>
                    <a:pt x="2087" y="48"/>
                  </a:cubicBezTo>
                </a:path>
              </a:pathLst>
            </a:custGeom>
            <a:solidFill>
              <a:srgbClr val="ffff00"/>
            </a:solidFill>
            <a:ln w="9360">
              <a:solidFill>
                <a:srgbClr val="f8f8f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>
              <a:off x="1416960" y="2850840"/>
              <a:ext cx="547560" cy="291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 flipH="1">
              <a:off x="5760" y="3003480"/>
              <a:ext cx="2004840" cy="869760"/>
            </a:xfrm>
            <a:custGeom>
              <a:avLst/>
              <a:gdLst/>
              <a:ahLst/>
              <a:rect l="l" t="t" r="r" b="b"/>
              <a:pathLst>
                <a:path w="2106" h="1642">
                  <a:moveTo>
                    <a:pt x="675" y="81"/>
                  </a:moveTo>
                  <a:cubicBezTo>
                    <a:pt x="668" y="168"/>
                    <a:pt x="671" y="237"/>
                    <a:pt x="594" y="288"/>
                  </a:cubicBezTo>
                  <a:cubicBezTo>
                    <a:pt x="564" y="377"/>
                    <a:pt x="614" y="241"/>
                    <a:pt x="558" y="342"/>
                  </a:cubicBezTo>
                  <a:cubicBezTo>
                    <a:pt x="549" y="359"/>
                    <a:pt x="551" y="380"/>
                    <a:pt x="540" y="396"/>
                  </a:cubicBezTo>
                  <a:cubicBezTo>
                    <a:pt x="515" y="433"/>
                    <a:pt x="496" y="480"/>
                    <a:pt x="459" y="504"/>
                  </a:cubicBezTo>
                  <a:cubicBezTo>
                    <a:pt x="431" y="587"/>
                    <a:pt x="479" y="460"/>
                    <a:pt x="414" y="558"/>
                  </a:cubicBezTo>
                  <a:cubicBezTo>
                    <a:pt x="403" y="574"/>
                    <a:pt x="402" y="594"/>
                    <a:pt x="396" y="612"/>
                  </a:cubicBezTo>
                  <a:cubicBezTo>
                    <a:pt x="392" y="624"/>
                    <a:pt x="377" y="629"/>
                    <a:pt x="369" y="639"/>
                  </a:cubicBezTo>
                  <a:cubicBezTo>
                    <a:pt x="344" y="669"/>
                    <a:pt x="330" y="706"/>
                    <a:pt x="306" y="738"/>
                  </a:cubicBezTo>
                  <a:cubicBezTo>
                    <a:pt x="290" y="785"/>
                    <a:pt x="255" y="848"/>
                    <a:pt x="207" y="864"/>
                  </a:cubicBezTo>
                  <a:cubicBezTo>
                    <a:pt x="198" y="876"/>
                    <a:pt x="187" y="887"/>
                    <a:pt x="180" y="900"/>
                  </a:cubicBezTo>
                  <a:cubicBezTo>
                    <a:pt x="172" y="917"/>
                    <a:pt x="162" y="954"/>
                    <a:pt x="162" y="954"/>
                  </a:cubicBezTo>
                  <a:cubicBezTo>
                    <a:pt x="159" y="996"/>
                    <a:pt x="170" y="1041"/>
                    <a:pt x="153" y="1080"/>
                  </a:cubicBezTo>
                  <a:cubicBezTo>
                    <a:pt x="149" y="1090"/>
                    <a:pt x="66" y="1105"/>
                    <a:pt x="54" y="1107"/>
                  </a:cubicBezTo>
                  <a:cubicBezTo>
                    <a:pt x="27" y="1134"/>
                    <a:pt x="12" y="1152"/>
                    <a:pt x="0" y="1188"/>
                  </a:cubicBezTo>
                  <a:cubicBezTo>
                    <a:pt x="10" y="1331"/>
                    <a:pt x="1" y="1305"/>
                    <a:pt x="72" y="1404"/>
                  </a:cubicBezTo>
                  <a:cubicBezTo>
                    <a:pt x="78" y="1413"/>
                    <a:pt x="80" y="1427"/>
                    <a:pt x="90" y="1431"/>
                  </a:cubicBezTo>
                  <a:cubicBezTo>
                    <a:pt x="138" y="1450"/>
                    <a:pt x="192" y="1443"/>
                    <a:pt x="243" y="1449"/>
                  </a:cubicBezTo>
                  <a:cubicBezTo>
                    <a:pt x="565" y="1437"/>
                    <a:pt x="420" y="1481"/>
                    <a:pt x="549" y="1395"/>
                  </a:cubicBezTo>
                  <a:cubicBezTo>
                    <a:pt x="559" y="1343"/>
                    <a:pt x="564" y="1339"/>
                    <a:pt x="612" y="1323"/>
                  </a:cubicBezTo>
                  <a:cubicBezTo>
                    <a:pt x="618" y="1258"/>
                    <a:pt x="610" y="1198"/>
                    <a:pt x="666" y="1161"/>
                  </a:cubicBezTo>
                  <a:cubicBezTo>
                    <a:pt x="683" y="1109"/>
                    <a:pt x="662" y="1156"/>
                    <a:pt x="711" y="1107"/>
                  </a:cubicBezTo>
                  <a:cubicBezTo>
                    <a:pt x="752" y="1066"/>
                    <a:pt x="705" y="1093"/>
                    <a:pt x="747" y="1044"/>
                  </a:cubicBezTo>
                  <a:cubicBezTo>
                    <a:pt x="762" y="1026"/>
                    <a:pt x="805" y="989"/>
                    <a:pt x="828" y="981"/>
                  </a:cubicBezTo>
                  <a:cubicBezTo>
                    <a:pt x="844" y="934"/>
                    <a:pt x="827" y="972"/>
                    <a:pt x="864" y="927"/>
                  </a:cubicBezTo>
                  <a:cubicBezTo>
                    <a:pt x="886" y="900"/>
                    <a:pt x="881" y="895"/>
                    <a:pt x="900" y="864"/>
                  </a:cubicBezTo>
                  <a:cubicBezTo>
                    <a:pt x="923" y="825"/>
                    <a:pt x="949" y="798"/>
                    <a:pt x="963" y="756"/>
                  </a:cubicBezTo>
                  <a:cubicBezTo>
                    <a:pt x="966" y="702"/>
                    <a:pt x="960" y="647"/>
                    <a:pt x="972" y="594"/>
                  </a:cubicBezTo>
                  <a:cubicBezTo>
                    <a:pt x="974" y="585"/>
                    <a:pt x="992" y="596"/>
                    <a:pt x="999" y="603"/>
                  </a:cubicBezTo>
                  <a:cubicBezTo>
                    <a:pt x="1008" y="612"/>
                    <a:pt x="1010" y="627"/>
                    <a:pt x="1017" y="639"/>
                  </a:cubicBezTo>
                  <a:cubicBezTo>
                    <a:pt x="1025" y="654"/>
                    <a:pt x="1034" y="670"/>
                    <a:pt x="1044" y="684"/>
                  </a:cubicBezTo>
                  <a:cubicBezTo>
                    <a:pt x="1064" y="712"/>
                    <a:pt x="1107" y="765"/>
                    <a:pt x="1107" y="765"/>
                  </a:cubicBezTo>
                  <a:cubicBezTo>
                    <a:pt x="1140" y="863"/>
                    <a:pt x="1087" y="714"/>
                    <a:pt x="1134" y="819"/>
                  </a:cubicBezTo>
                  <a:cubicBezTo>
                    <a:pt x="1152" y="860"/>
                    <a:pt x="1161" y="904"/>
                    <a:pt x="1179" y="945"/>
                  </a:cubicBezTo>
                  <a:cubicBezTo>
                    <a:pt x="1193" y="978"/>
                    <a:pt x="1188" y="985"/>
                    <a:pt x="1197" y="1026"/>
                  </a:cubicBezTo>
                  <a:cubicBezTo>
                    <a:pt x="1201" y="1045"/>
                    <a:pt x="1219" y="1084"/>
                    <a:pt x="1224" y="1098"/>
                  </a:cubicBezTo>
                  <a:cubicBezTo>
                    <a:pt x="1242" y="1151"/>
                    <a:pt x="1255" y="1206"/>
                    <a:pt x="1269" y="1260"/>
                  </a:cubicBezTo>
                  <a:cubicBezTo>
                    <a:pt x="1275" y="1283"/>
                    <a:pt x="1272" y="1309"/>
                    <a:pt x="1278" y="1332"/>
                  </a:cubicBezTo>
                  <a:cubicBezTo>
                    <a:pt x="1301" y="1418"/>
                    <a:pt x="1427" y="1461"/>
                    <a:pt x="1503" y="1476"/>
                  </a:cubicBezTo>
                  <a:cubicBezTo>
                    <a:pt x="1588" y="1533"/>
                    <a:pt x="1675" y="1537"/>
                    <a:pt x="1773" y="1557"/>
                  </a:cubicBezTo>
                  <a:cubicBezTo>
                    <a:pt x="1813" y="1577"/>
                    <a:pt x="1916" y="1642"/>
                    <a:pt x="1953" y="1566"/>
                  </a:cubicBezTo>
                  <a:cubicBezTo>
                    <a:pt x="1991" y="1488"/>
                    <a:pt x="1958" y="1392"/>
                    <a:pt x="1962" y="1305"/>
                  </a:cubicBezTo>
                  <a:cubicBezTo>
                    <a:pt x="1964" y="1269"/>
                    <a:pt x="1967" y="1233"/>
                    <a:pt x="1971" y="1197"/>
                  </a:cubicBezTo>
                  <a:cubicBezTo>
                    <a:pt x="1974" y="1174"/>
                    <a:pt x="1977" y="1141"/>
                    <a:pt x="1998" y="1125"/>
                  </a:cubicBezTo>
                  <a:cubicBezTo>
                    <a:pt x="2027" y="1102"/>
                    <a:pt x="2074" y="1092"/>
                    <a:pt x="2106" y="1071"/>
                  </a:cubicBezTo>
                  <a:cubicBezTo>
                    <a:pt x="2022" y="1043"/>
                    <a:pt x="2020" y="1035"/>
                    <a:pt x="1917" y="1026"/>
                  </a:cubicBezTo>
                  <a:cubicBezTo>
                    <a:pt x="1877" y="1013"/>
                    <a:pt x="1847" y="994"/>
                    <a:pt x="1809" y="981"/>
                  </a:cubicBezTo>
                  <a:cubicBezTo>
                    <a:pt x="1790" y="952"/>
                    <a:pt x="1780" y="922"/>
                    <a:pt x="1764" y="891"/>
                  </a:cubicBezTo>
                  <a:cubicBezTo>
                    <a:pt x="1751" y="825"/>
                    <a:pt x="1732" y="732"/>
                    <a:pt x="1674" y="693"/>
                  </a:cubicBezTo>
                  <a:cubicBezTo>
                    <a:pt x="1652" y="660"/>
                    <a:pt x="1639" y="631"/>
                    <a:pt x="1611" y="603"/>
                  </a:cubicBezTo>
                  <a:cubicBezTo>
                    <a:pt x="1595" y="554"/>
                    <a:pt x="1555" y="521"/>
                    <a:pt x="1530" y="477"/>
                  </a:cubicBezTo>
                  <a:cubicBezTo>
                    <a:pt x="1514" y="449"/>
                    <a:pt x="1502" y="413"/>
                    <a:pt x="1485" y="387"/>
                  </a:cubicBezTo>
                  <a:cubicBezTo>
                    <a:pt x="1478" y="376"/>
                    <a:pt x="1466" y="370"/>
                    <a:pt x="1458" y="360"/>
                  </a:cubicBezTo>
                  <a:cubicBezTo>
                    <a:pt x="1437" y="335"/>
                    <a:pt x="1414" y="281"/>
                    <a:pt x="1404" y="261"/>
                  </a:cubicBezTo>
                  <a:cubicBezTo>
                    <a:pt x="1391" y="234"/>
                    <a:pt x="1361" y="194"/>
                    <a:pt x="1359" y="162"/>
                  </a:cubicBezTo>
                  <a:cubicBezTo>
                    <a:pt x="1356" y="108"/>
                    <a:pt x="1359" y="54"/>
                    <a:pt x="1359" y="0"/>
                  </a:cubicBezTo>
                </a:path>
              </a:pathLst>
            </a:custGeom>
            <a:solidFill>
              <a:srgbClr val="ff6600"/>
            </a:solidFill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 rot="18262800">
              <a:off x="1855440" y="3644280"/>
              <a:ext cx="228600" cy="174600"/>
            </a:xfrm>
            <a:custGeom>
              <a:avLst/>
              <a:gdLst/>
              <a:ahLst/>
              <a:rect l="l" t="t" r="r" b="b"/>
              <a:pathLst>
                <a:path w="409" h="385">
                  <a:moveTo>
                    <a:pt x="22" y="33"/>
                  </a:moveTo>
                  <a:cubicBezTo>
                    <a:pt x="25" y="108"/>
                    <a:pt x="0" y="190"/>
                    <a:pt x="31" y="258"/>
                  </a:cubicBezTo>
                  <a:cubicBezTo>
                    <a:pt x="44" y="285"/>
                    <a:pt x="101" y="271"/>
                    <a:pt x="121" y="249"/>
                  </a:cubicBezTo>
                  <a:cubicBezTo>
                    <a:pt x="146" y="222"/>
                    <a:pt x="139" y="141"/>
                    <a:pt x="139" y="141"/>
                  </a:cubicBezTo>
                  <a:cubicBezTo>
                    <a:pt x="215" y="160"/>
                    <a:pt x="183" y="210"/>
                    <a:pt x="193" y="294"/>
                  </a:cubicBezTo>
                  <a:cubicBezTo>
                    <a:pt x="197" y="330"/>
                    <a:pt x="256" y="384"/>
                    <a:pt x="256" y="384"/>
                  </a:cubicBezTo>
                  <a:cubicBezTo>
                    <a:pt x="295" y="381"/>
                    <a:pt x="335" y="385"/>
                    <a:pt x="373" y="375"/>
                  </a:cubicBezTo>
                  <a:cubicBezTo>
                    <a:pt x="383" y="372"/>
                    <a:pt x="389" y="359"/>
                    <a:pt x="391" y="348"/>
                  </a:cubicBezTo>
                  <a:cubicBezTo>
                    <a:pt x="406" y="263"/>
                    <a:pt x="409" y="154"/>
                    <a:pt x="409" y="69"/>
                  </a:cubicBezTo>
                  <a:lnTo>
                    <a:pt x="394" y="0"/>
                  </a:lnTo>
                  <a:lnTo>
                    <a:pt x="22" y="33"/>
                  </a:lnTo>
                  <a:close/>
                </a:path>
              </a:pathLst>
            </a:custGeom>
            <a:solidFill>
              <a:srgbClr val="ffcccc"/>
            </a:solidFill>
            <a:ln w="9360">
              <a:solidFill>
                <a:srgbClr val="ffcc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 flipH="1" rot="2799000">
              <a:off x="-28080" y="3670560"/>
              <a:ext cx="230040" cy="174600"/>
            </a:xfrm>
            <a:custGeom>
              <a:avLst/>
              <a:gdLst/>
              <a:ahLst/>
              <a:rect l="l" t="t" r="r" b="b"/>
              <a:pathLst>
                <a:path w="409" h="385">
                  <a:moveTo>
                    <a:pt x="22" y="33"/>
                  </a:moveTo>
                  <a:cubicBezTo>
                    <a:pt x="25" y="108"/>
                    <a:pt x="0" y="190"/>
                    <a:pt x="31" y="258"/>
                  </a:cubicBezTo>
                  <a:cubicBezTo>
                    <a:pt x="44" y="285"/>
                    <a:pt x="101" y="271"/>
                    <a:pt x="121" y="249"/>
                  </a:cubicBezTo>
                  <a:cubicBezTo>
                    <a:pt x="146" y="222"/>
                    <a:pt x="139" y="141"/>
                    <a:pt x="139" y="141"/>
                  </a:cubicBezTo>
                  <a:cubicBezTo>
                    <a:pt x="215" y="160"/>
                    <a:pt x="183" y="210"/>
                    <a:pt x="193" y="294"/>
                  </a:cubicBezTo>
                  <a:cubicBezTo>
                    <a:pt x="197" y="330"/>
                    <a:pt x="256" y="384"/>
                    <a:pt x="256" y="384"/>
                  </a:cubicBezTo>
                  <a:cubicBezTo>
                    <a:pt x="295" y="381"/>
                    <a:pt x="335" y="385"/>
                    <a:pt x="373" y="375"/>
                  </a:cubicBezTo>
                  <a:cubicBezTo>
                    <a:pt x="383" y="372"/>
                    <a:pt x="389" y="359"/>
                    <a:pt x="391" y="348"/>
                  </a:cubicBezTo>
                  <a:cubicBezTo>
                    <a:pt x="406" y="263"/>
                    <a:pt x="409" y="154"/>
                    <a:pt x="409" y="69"/>
                  </a:cubicBezTo>
                  <a:lnTo>
                    <a:pt x="394" y="0"/>
                  </a:lnTo>
                  <a:lnTo>
                    <a:pt x="22" y="33"/>
                  </a:lnTo>
                  <a:close/>
                </a:path>
              </a:pathLst>
            </a:custGeom>
            <a:solidFill>
              <a:srgbClr val="ffcccc"/>
            </a:solidFill>
            <a:ln w="9360">
              <a:solidFill>
                <a:srgbClr val="ffcc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 flipH="1">
              <a:off x="1050120" y="5660640"/>
              <a:ext cx="366840" cy="154080"/>
            </a:xfrm>
            <a:prstGeom prst="ellipse">
              <a:avLst/>
            </a:prstGeom>
            <a:blipFill rotWithShape="0">
              <a:blip r:embed="rId2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>
              <a:off x="549360" y="5660640"/>
              <a:ext cx="365040" cy="154080"/>
            </a:xfrm>
            <a:prstGeom prst="ellipse">
              <a:avLst/>
            </a:prstGeom>
            <a:blipFill rotWithShape="0">
              <a:blip r:embed="rId2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 flipH="1">
              <a:off x="403200" y="2819160"/>
              <a:ext cx="1179360" cy="2990880"/>
            </a:xfrm>
            <a:custGeom>
              <a:avLst/>
              <a:gdLst/>
              <a:ahLst/>
              <a:rect l="l" t="t" r="r" b="b"/>
              <a:pathLst>
                <a:path w="1238" h="2810">
                  <a:moveTo>
                    <a:pt x="174" y="171"/>
                  </a:moveTo>
                  <a:cubicBezTo>
                    <a:pt x="183" y="207"/>
                    <a:pt x="190" y="230"/>
                    <a:pt x="210" y="261"/>
                  </a:cubicBezTo>
                  <a:cubicBezTo>
                    <a:pt x="219" y="566"/>
                    <a:pt x="307" y="575"/>
                    <a:pt x="93" y="594"/>
                  </a:cubicBezTo>
                  <a:cubicBezTo>
                    <a:pt x="10" y="649"/>
                    <a:pt x="0" y="645"/>
                    <a:pt x="75" y="846"/>
                  </a:cubicBezTo>
                  <a:cubicBezTo>
                    <a:pt x="84" y="871"/>
                    <a:pt x="129" y="852"/>
                    <a:pt x="156" y="855"/>
                  </a:cubicBezTo>
                  <a:cubicBezTo>
                    <a:pt x="168" y="902"/>
                    <a:pt x="195" y="936"/>
                    <a:pt x="210" y="981"/>
                  </a:cubicBezTo>
                  <a:cubicBezTo>
                    <a:pt x="219" y="1534"/>
                    <a:pt x="232" y="2073"/>
                    <a:pt x="237" y="2628"/>
                  </a:cubicBezTo>
                  <a:cubicBezTo>
                    <a:pt x="432" y="2626"/>
                    <a:pt x="1238" y="2810"/>
                    <a:pt x="966" y="2538"/>
                  </a:cubicBezTo>
                  <a:cubicBezTo>
                    <a:pt x="953" y="2498"/>
                    <a:pt x="936" y="2456"/>
                    <a:pt x="912" y="2421"/>
                  </a:cubicBezTo>
                  <a:cubicBezTo>
                    <a:pt x="901" y="2379"/>
                    <a:pt x="886" y="2337"/>
                    <a:pt x="876" y="2295"/>
                  </a:cubicBezTo>
                  <a:cubicBezTo>
                    <a:pt x="869" y="2265"/>
                    <a:pt x="875" y="2230"/>
                    <a:pt x="858" y="2205"/>
                  </a:cubicBezTo>
                  <a:cubicBezTo>
                    <a:pt x="835" y="2170"/>
                    <a:pt x="843" y="2188"/>
                    <a:pt x="831" y="2151"/>
                  </a:cubicBezTo>
                  <a:cubicBezTo>
                    <a:pt x="840" y="979"/>
                    <a:pt x="447" y="926"/>
                    <a:pt x="1083" y="900"/>
                  </a:cubicBezTo>
                  <a:cubicBezTo>
                    <a:pt x="1092" y="891"/>
                    <a:pt x="1099" y="880"/>
                    <a:pt x="1110" y="873"/>
                  </a:cubicBezTo>
                  <a:cubicBezTo>
                    <a:pt x="1151" y="846"/>
                    <a:pt x="1129" y="888"/>
                    <a:pt x="1146" y="837"/>
                  </a:cubicBezTo>
                  <a:cubicBezTo>
                    <a:pt x="1143" y="768"/>
                    <a:pt x="1142" y="699"/>
                    <a:pt x="1137" y="630"/>
                  </a:cubicBezTo>
                  <a:cubicBezTo>
                    <a:pt x="1136" y="615"/>
                    <a:pt x="1137" y="597"/>
                    <a:pt x="1128" y="585"/>
                  </a:cubicBezTo>
                  <a:cubicBezTo>
                    <a:pt x="1104" y="554"/>
                    <a:pt x="1055" y="543"/>
                    <a:pt x="1020" y="531"/>
                  </a:cubicBezTo>
                  <a:cubicBezTo>
                    <a:pt x="1011" y="528"/>
                    <a:pt x="993" y="522"/>
                    <a:pt x="993" y="522"/>
                  </a:cubicBezTo>
                  <a:cubicBezTo>
                    <a:pt x="919" y="547"/>
                    <a:pt x="958" y="543"/>
                    <a:pt x="876" y="531"/>
                  </a:cubicBezTo>
                  <a:cubicBezTo>
                    <a:pt x="873" y="398"/>
                    <a:pt x="965" y="107"/>
                    <a:pt x="804" y="0"/>
                  </a:cubicBezTo>
                  <a:cubicBezTo>
                    <a:pt x="783" y="3"/>
                    <a:pt x="762" y="5"/>
                    <a:pt x="741" y="9"/>
                  </a:cubicBezTo>
                  <a:cubicBezTo>
                    <a:pt x="732" y="11"/>
                    <a:pt x="715" y="9"/>
                    <a:pt x="714" y="18"/>
                  </a:cubicBezTo>
                  <a:cubicBezTo>
                    <a:pt x="711" y="37"/>
                    <a:pt x="732" y="72"/>
                    <a:pt x="732" y="72"/>
                  </a:cubicBezTo>
                  <a:cubicBezTo>
                    <a:pt x="729" y="153"/>
                    <a:pt x="731" y="234"/>
                    <a:pt x="723" y="315"/>
                  </a:cubicBezTo>
                  <a:cubicBezTo>
                    <a:pt x="720" y="349"/>
                    <a:pt x="651" y="387"/>
                    <a:pt x="651" y="387"/>
                  </a:cubicBezTo>
                  <a:cubicBezTo>
                    <a:pt x="408" y="376"/>
                    <a:pt x="488" y="413"/>
                    <a:pt x="381" y="306"/>
                  </a:cubicBezTo>
                  <a:cubicBezTo>
                    <a:pt x="362" y="248"/>
                    <a:pt x="343" y="195"/>
                    <a:pt x="309" y="144"/>
                  </a:cubicBezTo>
                  <a:cubicBezTo>
                    <a:pt x="298" y="101"/>
                    <a:pt x="307" y="86"/>
                    <a:pt x="264" y="72"/>
                  </a:cubicBezTo>
                  <a:cubicBezTo>
                    <a:pt x="138" y="81"/>
                    <a:pt x="112" y="56"/>
                    <a:pt x="165" y="135"/>
                  </a:cubicBezTo>
                  <a:cubicBezTo>
                    <a:pt x="165" y="135"/>
                    <a:pt x="179" y="194"/>
                    <a:pt x="183" y="198"/>
                  </a:cubicBezTo>
                  <a:cubicBezTo>
                    <a:pt x="190" y="205"/>
                    <a:pt x="213" y="216"/>
                    <a:pt x="210" y="207"/>
                  </a:cubicBezTo>
                  <a:cubicBezTo>
                    <a:pt x="205" y="191"/>
                    <a:pt x="186" y="183"/>
                    <a:pt x="174" y="171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0" name=""/>
            <p:cNvGrpSpPr/>
            <p:nvPr/>
          </p:nvGrpSpPr>
          <p:grpSpPr>
            <a:xfrm>
              <a:off x="685800" y="2209680"/>
              <a:ext cx="912960" cy="1272960"/>
              <a:chOff x="685800" y="2209680"/>
              <a:chExt cx="912960" cy="1272960"/>
            </a:xfrm>
          </p:grpSpPr>
          <p:sp>
            <p:nvSpPr>
              <p:cNvPr id="401" name=""/>
              <p:cNvSpPr/>
              <p:nvPr/>
            </p:nvSpPr>
            <p:spPr>
              <a:xfrm flipH="1">
                <a:off x="808920" y="2301480"/>
                <a:ext cx="677880" cy="755280"/>
              </a:xfrm>
              <a:prstGeom prst="smileyFace">
                <a:avLst>
                  <a:gd name="adj" fmla="val 9282"/>
                </a:avLst>
              </a:prstGeom>
              <a:solidFill>
                <a:srgbClr val="ffcccc"/>
              </a:solidFill>
              <a:ln w="9360">
                <a:solidFill>
                  <a:srgbClr val="ff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 flipH="1">
                <a:off x="1212840" y="2488680"/>
                <a:ext cx="144720" cy="171000"/>
              </a:xfrm>
              <a:prstGeom prst="ellipse">
                <a:avLst/>
              </a:prstGeom>
              <a:solidFill>
                <a:srgbClr val="00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 flipH="1">
                <a:off x="1229760" y="2506320"/>
                <a:ext cx="120600" cy="1216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0" bIns="39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 flipH="1">
                <a:off x="1297800" y="2534760"/>
                <a:ext cx="73080" cy="741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760" bIns="5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 flipH="1">
                <a:off x="930240" y="2488680"/>
                <a:ext cx="144720" cy="171000"/>
              </a:xfrm>
              <a:prstGeom prst="ellipse">
                <a:avLst/>
              </a:prstGeom>
              <a:solidFill>
                <a:srgbClr val="00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 flipH="1">
                <a:off x="947160" y="2506320"/>
                <a:ext cx="120600" cy="1216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0" bIns="39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 flipH="1">
                <a:off x="993240" y="2534760"/>
                <a:ext cx="73080" cy="741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760" bIns="5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 flipH="1">
                <a:off x="685800" y="2209680"/>
                <a:ext cx="912960" cy="1272960"/>
              </a:xfrm>
              <a:custGeom>
                <a:avLst/>
                <a:gdLst/>
                <a:ahLst/>
                <a:rect l="l" t="t" r="r" b="b"/>
                <a:pathLst>
                  <a:path w="958" h="1196">
                    <a:moveTo>
                      <a:pt x="465" y="168"/>
                    </a:moveTo>
                    <a:cubicBezTo>
                      <a:pt x="386" y="178"/>
                      <a:pt x="396" y="183"/>
                      <a:pt x="335" y="205"/>
                    </a:cubicBezTo>
                    <a:cubicBezTo>
                      <a:pt x="323" y="223"/>
                      <a:pt x="310" y="242"/>
                      <a:pt x="298" y="260"/>
                    </a:cubicBezTo>
                    <a:cubicBezTo>
                      <a:pt x="292" y="269"/>
                      <a:pt x="290" y="284"/>
                      <a:pt x="280" y="288"/>
                    </a:cubicBezTo>
                    <a:cubicBezTo>
                      <a:pt x="271" y="291"/>
                      <a:pt x="261" y="293"/>
                      <a:pt x="252" y="298"/>
                    </a:cubicBezTo>
                    <a:cubicBezTo>
                      <a:pt x="232" y="309"/>
                      <a:pt x="196" y="335"/>
                      <a:pt x="196" y="335"/>
                    </a:cubicBezTo>
                    <a:cubicBezTo>
                      <a:pt x="190" y="344"/>
                      <a:pt x="178" y="352"/>
                      <a:pt x="177" y="363"/>
                    </a:cubicBezTo>
                    <a:cubicBezTo>
                      <a:pt x="175" y="402"/>
                      <a:pt x="193" y="557"/>
                      <a:pt x="224" y="604"/>
                    </a:cubicBezTo>
                    <a:cubicBezTo>
                      <a:pt x="231" y="615"/>
                      <a:pt x="244" y="622"/>
                      <a:pt x="252" y="632"/>
                    </a:cubicBezTo>
                    <a:cubicBezTo>
                      <a:pt x="259" y="641"/>
                      <a:pt x="261" y="654"/>
                      <a:pt x="270" y="660"/>
                    </a:cubicBezTo>
                    <a:cubicBezTo>
                      <a:pt x="287" y="670"/>
                      <a:pt x="326" y="678"/>
                      <a:pt x="326" y="678"/>
                    </a:cubicBezTo>
                    <a:cubicBezTo>
                      <a:pt x="382" y="716"/>
                      <a:pt x="412" y="738"/>
                      <a:pt x="475" y="753"/>
                    </a:cubicBezTo>
                    <a:cubicBezTo>
                      <a:pt x="563" y="748"/>
                      <a:pt x="625" y="773"/>
                      <a:pt x="670" y="706"/>
                    </a:cubicBezTo>
                    <a:cubicBezTo>
                      <a:pt x="685" y="661"/>
                      <a:pt x="700" y="629"/>
                      <a:pt x="744" y="613"/>
                    </a:cubicBezTo>
                    <a:cubicBezTo>
                      <a:pt x="766" y="548"/>
                      <a:pt x="752" y="486"/>
                      <a:pt x="791" y="428"/>
                    </a:cubicBezTo>
                    <a:cubicBezTo>
                      <a:pt x="783" y="396"/>
                      <a:pt x="772" y="347"/>
                      <a:pt x="744" y="325"/>
                    </a:cubicBezTo>
                    <a:cubicBezTo>
                      <a:pt x="736" y="319"/>
                      <a:pt x="725" y="321"/>
                      <a:pt x="716" y="316"/>
                    </a:cubicBezTo>
                    <a:cubicBezTo>
                      <a:pt x="618" y="263"/>
                      <a:pt x="696" y="291"/>
                      <a:pt x="633" y="270"/>
                    </a:cubicBezTo>
                    <a:cubicBezTo>
                      <a:pt x="608" y="253"/>
                      <a:pt x="577" y="235"/>
                      <a:pt x="549" y="223"/>
                    </a:cubicBezTo>
                    <a:cubicBezTo>
                      <a:pt x="531" y="215"/>
                      <a:pt x="493" y="205"/>
                      <a:pt x="493" y="205"/>
                    </a:cubicBezTo>
                    <a:cubicBezTo>
                      <a:pt x="484" y="199"/>
                      <a:pt x="475" y="191"/>
                      <a:pt x="465" y="186"/>
                    </a:cubicBezTo>
                    <a:cubicBezTo>
                      <a:pt x="457" y="182"/>
                      <a:pt x="446" y="182"/>
                      <a:pt x="438" y="177"/>
                    </a:cubicBezTo>
                    <a:cubicBezTo>
                      <a:pt x="418" y="166"/>
                      <a:pt x="382" y="140"/>
                      <a:pt x="382" y="140"/>
                    </a:cubicBezTo>
                    <a:cubicBezTo>
                      <a:pt x="369" y="104"/>
                      <a:pt x="364" y="87"/>
                      <a:pt x="326" y="75"/>
                    </a:cubicBezTo>
                    <a:cubicBezTo>
                      <a:pt x="286" y="78"/>
                      <a:pt x="244" y="74"/>
                      <a:pt x="205" y="84"/>
                    </a:cubicBezTo>
                    <a:cubicBezTo>
                      <a:pt x="194" y="87"/>
                      <a:pt x="196" y="105"/>
                      <a:pt x="187" y="112"/>
                    </a:cubicBezTo>
                    <a:cubicBezTo>
                      <a:pt x="179" y="118"/>
                      <a:pt x="168" y="118"/>
                      <a:pt x="159" y="121"/>
                    </a:cubicBezTo>
                    <a:cubicBezTo>
                      <a:pt x="147" y="158"/>
                      <a:pt x="127" y="182"/>
                      <a:pt x="103" y="214"/>
                    </a:cubicBezTo>
                    <a:cubicBezTo>
                      <a:pt x="62" y="335"/>
                      <a:pt x="0" y="526"/>
                      <a:pt x="122" y="604"/>
                    </a:cubicBezTo>
                    <a:cubicBezTo>
                      <a:pt x="151" y="648"/>
                      <a:pt x="158" y="682"/>
                      <a:pt x="205" y="697"/>
                    </a:cubicBezTo>
                    <a:cubicBezTo>
                      <a:pt x="239" y="792"/>
                      <a:pt x="269" y="849"/>
                      <a:pt x="372" y="883"/>
                    </a:cubicBezTo>
                    <a:cubicBezTo>
                      <a:pt x="437" y="880"/>
                      <a:pt x="504" y="887"/>
                      <a:pt x="568" y="874"/>
                    </a:cubicBezTo>
                    <a:cubicBezTo>
                      <a:pt x="578" y="872"/>
                      <a:pt x="564" y="854"/>
                      <a:pt x="558" y="846"/>
                    </a:cubicBezTo>
                    <a:cubicBezTo>
                      <a:pt x="544" y="829"/>
                      <a:pt x="522" y="824"/>
                      <a:pt x="503" y="818"/>
                    </a:cubicBezTo>
                    <a:cubicBezTo>
                      <a:pt x="498" y="815"/>
                      <a:pt x="459" y="784"/>
                      <a:pt x="447" y="790"/>
                    </a:cubicBezTo>
                    <a:cubicBezTo>
                      <a:pt x="438" y="794"/>
                      <a:pt x="441" y="809"/>
                      <a:pt x="438" y="818"/>
                    </a:cubicBezTo>
                    <a:cubicBezTo>
                      <a:pt x="425" y="903"/>
                      <a:pt x="440" y="867"/>
                      <a:pt x="391" y="939"/>
                    </a:cubicBezTo>
                    <a:cubicBezTo>
                      <a:pt x="385" y="948"/>
                      <a:pt x="378" y="957"/>
                      <a:pt x="372" y="966"/>
                    </a:cubicBezTo>
                    <a:cubicBezTo>
                      <a:pt x="366" y="975"/>
                      <a:pt x="354" y="994"/>
                      <a:pt x="354" y="994"/>
                    </a:cubicBezTo>
                    <a:cubicBezTo>
                      <a:pt x="357" y="1053"/>
                      <a:pt x="334" y="1119"/>
                      <a:pt x="363" y="1171"/>
                    </a:cubicBezTo>
                    <a:cubicBezTo>
                      <a:pt x="377" y="1196"/>
                      <a:pt x="422" y="1175"/>
                      <a:pt x="447" y="1162"/>
                    </a:cubicBezTo>
                    <a:cubicBezTo>
                      <a:pt x="467" y="1151"/>
                      <a:pt x="484" y="1106"/>
                      <a:pt x="484" y="1106"/>
                    </a:cubicBezTo>
                    <a:cubicBezTo>
                      <a:pt x="487" y="1097"/>
                      <a:pt x="489" y="1087"/>
                      <a:pt x="493" y="1078"/>
                    </a:cubicBezTo>
                    <a:cubicBezTo>
                      <a:pt x="498" y="1068"/>
                      <a:pt x="507" y="1060"/>
                      <a:pt x="512" y="1050"/>
                    </a:cubicBezTo>
                    <a:cubicBezTo>
                      <a:pt x="556" y="950"/>
                      <a:pt x="506" y="1029"/>
                      <a:pt x="549" y="966"/>
                    </a:cubicBezTo>
                    <a:cubicBezTo>
                      <a:pt x="580" y="873"/>
                      <a:pt x="531" y="896"/>
                      <a:pt x="651" y="883"/>
                    </a:cubicBezTo>
                    <a:cubicBezTo>
                      <a:pt x="660" y="880"/>
                      <a:pt x="670" y="870"/>
                      <a:pt x="679" y="874"/>
                    </a:cubicBezTo>
                    <a:cubicBezTo>
                      <a:pt x="689" y="878"/>
                      <a:pt x="693" y="891"/>
                      <a:pt x="698" y="901"/>
                    </a:cubicBezTo>
                    <a:cubicBezTo>
                      <a:pt x="702" y="910"/>
                      <a:pt x="728" y="978"/>
                      <a:pt x="735" y="1004"/>
                    </a:cubicBezTo>
                    <a:cubicBezTo>
                      <a:pt x="738" y="1016"/>
                      <a:pt x="736" y="1031"/>
                      <a:pt x="744" y="1041"/>
                    </a:cubicBezTo>
                    <a:cubicBezTo>
                      <a:pt x="750" y="1049"/>
                      <a:pt x="763" y="1047"/>
                      <a:pt x="772" y="1050"/>
                    </a:cubicBezTo>
                    <a:cubicBezTo>
                      <a:pt x="801" y="1093"/>
                      <a:pt x="798" y="1107"/>
                      <a:pt x="883" y="1069"/>
                    </a:cubicBezTo>
                    <a:cubicBezTo>
                      <a:pt x="892" y="1065"/>
                      <a:pt x="880" y="1049"/>
                      <a:pt x="874" y="1041"/>
                    </a:cubicBezTo>
                    <a:cubicBezTo>
                      <a:pt x="859" y="1022"/>
                      <a:pt x="835" y="1011"/>
                      <a:pt x="818" y="994"/>
                    </a:cubicBezTo>
                    <a:cubicBezTo>
                      <a:pt x="807" y="958"/>
                      <a:pt x="814" y="918"/>
                      <a:pt x="800" y="883"/>
                    </a:cubicBezTo>
                    <a:cubicBezTo>
                      <a:pt x="798" y="878"/>
                      <a:pt x="744" y="842"/>
                      <a:pt x="735" y="836"/>
                    </a:cubicBezTo>
                    <a:cubicBezTo>
                      <a:pt x="709" y="798"/>
                      <a:pt x="672" y="793"/>
                      <a:pt x="633" y="771"/>
                    </a:cubicBezTo>
                    <a:cubicBezTo>
                      <a:pt x="614" y="760"/>
                      <a:pt x="577" y="734"/>
                      <a:pt x="577" y="734"/>
                    </a:cubicBezTo>
                    <a:cubicBezTo>
                      <a:pt x="524" y="748"/>
                      <a:pt x="549" y="732"/>
                      <a:pt x="521" y="781"/>
                    </a:cubicBezTo>
                    <a:cubicBezTo>
                      <a:pt x="516" y="791"/>
                      <a:pt x="492" y="809"/>
                      <a:pt x="503" y="809"/>
                    </a:cubicBezTo>
                    <a:cubicBezTo>
                      <a:pt x="516" y="809"/>
                      <a:pt x="520" y="789"/>
                      <a:pt x="530" y="781"/>
                    </a:cubicBezTo>
                    <a:cubicBezTo>
                      <a:pt x="548" y="767"/>
                      <a:pt x="565" y="751"/>
                      <a:pt x="586" y="744"/>
                    </a:cubicBezTo>
                    <a:cubicBezTo>
                      <a:pt x="605" y="738"/>
                      <a:pt x="642" y="725"/>
                      <a:pt x="642" y="725"/>
                    </a:cubicBezTo>
                    <a:cubicBezTo>
                      <a:pt x="737" y="738"/>
                      <a:pt x="847" y="763"/>
                      <a:pt x="930" y="706"/>
                    </a:cubicBezTo>
                    <a:cubicBezTo>
                      <a:pt x="933" y="694"/>
                      <a:pt x="935" y="681"/>
                      <a:pt x="939" y="669"/>
                    </a:cubicBezTo>
                    <a:cubicBezTo>
                      <a:pt x="945" y="650"/>
                      <a:pt x="958" y="613"/>
                      <a:pt x="958" y="613"/>
                    </a:cubicBezTo>
                    <a:cubicBezTo>
                      <a:pt x="953" y="585"/>
                      <a:pt x="942" y="558"/>
                      <a:pt x="939" y="530"/>
                    </a:cubicBezTo>
                    <a:cubicBezTo>
                      <a:pt x="934" y="487"/>
                      <a:pt x="940" y="442"/>
                      <a:pt x="930" y="400"/>
                    </a:cubicBezTo>
                    <a:cubicBezTo>
                      <a:pt x="925" y="378"/>
                      <a:pt x="893" y="344"/>
                      <a:pt x="893" y="344"/>
                    </a:cubicBezTo>
                    <a:cubicBezTo>
                      <a:pt x="890" y="332"/>
                      <a:pt x="888" y="319"/>
                      <a:pt x="883" y="307"/>
                    </a:cubicBezTo>
                    <a:cubicBezTo>
                      <a:pt x="879" y="297"/>
                      <a:pt x="868" y="290"/>
                      <a:pt x="865" y="279"/>
                    </a:cubicBezTo>
                    <a:cubicBezTo>
                      <a:pt x="849" y="230"/>
                      <a:pt x="837" y="130"/>
                      <a:pt x="781" y="102"/>
                    </a:cubicBezTo>
                    <a:cubicBezTo>
                      <a:pt x="758" y="91"/>
                      <a:pt x="731" y="92"/>
                      <a:pt x="707" y="84"/>
                    </a:cubicBezTo>
                    <a:cubicBezTo>
                      <a:pt x="670" y="60"/>
                      <a:pt x="635" y="37"/>
                      <a:pt x="595" y="19"/>
                    </a:cubicBezTo>
                    <a:cubicBezTo>
                      <a:pt x="577" y="11"/>
                      <a:pt x="540" y="0"/>
                      <a:pt x="540" y="0"/>
                    </a:cubicBezTo>
                    <a:cubicBezTo>
                      <a:pt x="512" y="3"/>
                      <a:pt x="484" y="5"/>
                      <a:pt x="456" y="10"/>
                    </a:cubicBezTo>
                    <a:cubicBezTo>
                      <a:pt x="416" y="17"/>
                      <a:pt x="339" y="65"/>
                      <a:pt x="298" y="84"/>
                    </a:cubicBezTo>
                  </a:path>
                </a:pathLst>
              </a:custGeom>
              <a:solidFill>
                <a:srgbClr val="cc0099"/>
              </a:solidFill>
              <a:ln w="9360">
                <a:solidFill>
                  <a:srgbClr val="cc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 flipH="1">
                <a:off x="990000" y="2742840"/>
                <a:ext cx="228600" cy="228240"/>
              </a:xfrm>
              <a:prstGeom prst="ellipse">
                <a:avLst/>
              </a:prstGeom>
              <a:solidFill>
                <a:srgbClr val="f0312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10" name=""/>
          <p:cNvGrpSpPr/>
          <p:nvPr/>
        </p:nvGrpSpPr>
        <p:grpSpPr>
          <a:xfrm>
            <a:off x="3429000" y="990720"/>
            <a:ext cx="1676520" cy="3047760"/>
            <a:chOff x="3429000" y="990720"/>
            <a:chExt cx="1676520" cy="3047760"/>
          </a:xfrm>
        </p:grpSpPr>
        <p:sp>
          <p:nvSpPr>
            <p:cNvPr id="411" name=""/>
            <p:cNvSpPr/>
            <p:nvPr/>
          </p:nvSpPr>
          <p:spPr>
            <a:xfrm>
              <a:off x="3785760" y="1049760"/>
              <a:ext cx="513000" cy="614520"/>
            </a:xfrm>
            <a:prstGeom prst="smileyFace">
              <a:avLst>
                <a:gd name="adj" fmla="val 9282"/>
              </a:avLst>
            </a:prstGeom>
            <a:solidFill>
              <a:srgbClr val="ffcccc"/>
            </a:solidFill>
            <a:ln w="9360">
              <a:solidFill>
                <a:srgbClr val="ff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3785760" y="1387080"/>
              <a:ext cx="522720" cy="434880"/>
            </a:xfrm>
            <a:custGeom>
              <a:avLst/>
              <a:gdLst/>
              <a:ahLst/>
              <a:rect l="l" t="t" r="r" b="b"/>
              <a:pathLst>
                <a:path w="1369" h="995">
                  <a:moveTo>
                    <a:pt x="30" y="103"/>
                  </a:moveTo>
                  <a:cubicBezTo>
                    <a:pt x="112" y="91"/>
                    <a:pt x="73" y="101"/>
                    <a:pt x="147" y="76"/>
                  </a:cubicBezTo>
                  <a:cubicBezTo>
                    <a:pt x="165" y="70"/>
                    <a:pt x="201" y="58"/>
                    <a:pt x="201" y="58"/>
                  </a:cubicBezTo>
                  <a:cubicBezTo>
                    <a:pt x="376" y="83"/>
                    <a:pt x="240" y="87"/>
                    <a:pt x="534" y="76"/>
                  </a:cubicBezTo>
                  <a:cubicBezTo>
                    <a:pt x="659" y="34"/>
                    <a:pt x="522" y="46"/>
                    <a:pt x="795" y="58"/>
                  </a:cubicBezTo>
                  <a:cubicBezTo>
                    <a:pt x="839" y="73"/>
                    <a:pt x="876" y="85"/>
                    <a:pt x="921" y="94"/>
                  </a:cubicBezTo>
                  <a:cubicBezTo>
                    <a:pt x="957" y="91"/>
                    <a:pt x="994" y="92"/>
                    <a:pt x="1029" y="85"/>
                  </a:cubicBezTo>
                  <a:cubicBezTo>
                    <a:pt x="1040" y="83"/>
                    <a:pt x="1046" y="71"/>
                    <a:pt x="1056" y="67"/>
                  </a:cubicBezTo>
                  <a:cubicBezTo>
                    <a:pt x="1079" y="59"/>
                    <a:pt x="1128" y="49"/>
                    <a:pt x="1128" y="49"/>
                  </a:cubicBezTo>
                  <a:cubicBezTo>
                    <a:pt x="1369" y="59"/>
                    <a:pt x="1313" y="0"/>
                    <a:pt x="1353" y="121"/>
                  </a:cubicBezTo>
                  <a:cubicBezTo>
                    <a:pt x="1347" y="213"/>
                    <a:pt x="1354" y="493"/>
                    <a:pt x="1236" y="571"/>
                  </a:cubicBezTo>
                  <a:cubicBezTo>
                    <a:pt x="1213" y="639"/>
                    <a:pt x="1192" y="704"/>
                    <a:pt x="1164" y="769"/>
                  </a:cubicBezTo>
                  <a:cubicBezTo>
                    <a:pt x="1145" y="813"/>
                    <a:pt x="1137" y="868"/>
                    <a:pt x="1101" y="904"/>
                  </a:cubicBezTo>
                  <a:cubicBezTo>
                    <a:pt x="1086" y="919"/>
                    <a:pt x="1065" y="928"/>
                    <a:pt x="1047" y="940"/>
                  </a:cubicBezTo>
                  <a:cubicBezTo>
                    <a:pt x="965" y="995"/>
                    <a:pt x="849" y="946"/>
                    <a:pt x="750" y="949"/>
                  </a:cubicBezTo>
                  <a:cubicBezTo>
                    <a:pt x="613" y="966"/>
                    <a:pt x="662" y="964"/>
                    <a:pt x="444" y="949"/>
                  </a:cubicBezTo>
                  <a:cubicBezTo>
                    <a:pt x="411" y="947"/>
                    <a:pt x="379" y="920"/>
                    <a:pt x="345" y="913"/>
                  </a:cubicBezTo>
                  <a:cubicBezTo>
                    <a:pt x="311" y="890"/>
                    <a:pt x="272" y="879"/>
                    <a:pt x="237" y="859"/>
                  </a:cubicBezTo>
                  <a:cubicBezTo>
                    <a:pt x="218" y="848"/>
                    <a:pt x="183" y="823"/>
                    <a:pt x="183" y="823"/>
                  </a:cubicBezTo>
                  <a:cubicBezTo>
                    <a:pt x="176" y="801"/>
                    <a:pt x="163" y="782"/>
                    <a:pt x="156" y="760"/>
                  </a:cubicBezTo>
                  <a:cubicBezTo>
                    <a:pt x="151" y="743"/>
                    <a:pt x="154" y="723"/>
                    <a:pt x="147" y="706"/>
                  </a:cubicBezTo>
                  <a:cubicBezTo>
                    <a:pt x="137" y="682"/>
                    <a:pt x="114" y="666"/>
                    <a:pt x="102" y="643"/>
                  </a:cubicBezTo>
                  <a:cubicBezTo>
                    <a:pt x="78" y="599"/>
                    <a:pt x="52" y="553"/>
                    <a:pt x="30" y="508"/>
                  </a:cubicBezTo>
                  <a:cubicBezTo>
                    <a:pt x="27" y="472"/>
                    <a:pt x="28" y="435"/>
                    <a:pt x="21" y="400"/>
                  </a:cubicBezTo>
                  <a:cubicBezTo>
                    <a:pt x="19" y="389"/>
                    <a:pt x="3" y="384"/>
                    <a:pt x="3" y="373"/>
                  </a:cubicBezTo>
                  <a:cubicBezTo>
                    <a:pt x="0" y="298"/>
                    <a:pt x="1" y="222"/>
                    <a:pt x="12" y="148"/>
                  </a:cubicBezTo>
                  <a:cubicBezTo>
                    <a:pt x="25" y="59"/>
                    <a:pt x="62" y="198"/>
                    <a:pt x="30" y="103"/>
                  </a:cubicBezTo>
                  <a:close/>
                </a:path>
              </a:pathLst>
            </a:custGeom>
            <a:solidFill>
              <a:srgbClr val="eaeaea"/>
            </a:solidFill>
            <a:ln w="9360">
              <a:solidFill>
                <a:srgbClr val="eaeae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 flipH="1">
              <a:off x="3913920" y="1189440"/>
              <a:ext cx="109800" cy="1382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4097880" y="1189440"/>
              <a:ext cx="109080" cy="1382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3914640" y="1227960"/>
              <a:ext cx="91440" cy="99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760" bIns="23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952800" y="1248840"/>
              <a:ext cx="54360" cy="59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097880" y="1227960"/>
              <a:ext cx="91800" cy="99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760" bIns="23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159080" y="1248840"/>
              <a:ext cx="55440" cy="59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3726720" y="990720"/>
              <a:ext cx="592560" cy="470160"/>
            </a:xfrm>
            <a:custGeom>
              <a:avLst/>
              <a:gdLst/>
              <a:ahLst/>
              <a:rect l="l" t="t" r="r" b="b"/>
              <a:pathLst>
                <a:path w="1484" h="1092">
                  <a:moveTo>
                    <a:pt x="196" y="1028"/>
                  </a:moveTo>
                  <a:cubicBezTo>
                    <a:pt x="186" y="987"/>
                    <a:pt x="166" y="947"/>
                    <a:pt x="142" y="911"/>
                  </a:cubicBezTo>
                  <a:cubicBezTo>
                    <a:pt x="148" y="729"/>
                    <a:pt x="127" y="654"/>
                    <a:pt x="214" y="524"/>
                  </a:cubicBezTo>
                  <a:cubicBezTo>
                    <a:pt x="228" y="503"/>
                    <a:pt x="256" y="494"/>
                    <a:pt x="277" y="479"/>
                  </a:cubicBezTo>
                  <a:cubicBezTo>
                    <a:pt x="292" y="433"/>
                    <a:pt x="277" y="380"/>
                    <a:pt x="295" y="335"/>
                  </a:cubicBezTo>
                  <a:cubicBezTo>
                    <a:pt x="319" y="277"/>
                    <a:pt x="484" y="282"/>
                    <a:pt x="502" y="281"/>
                  </a:cubicBezTo>
                  <a:cubicBezTo>
                    <a:pt x="539" y="269"/>
                    <a:pt x="577" y="249"/>
                    <a:pt x="610" y="227"/>
                  </a:cubicBezTo>
                  <a:cubicBezTo>
                    <a:pt x="631" y="230"/>
                    <a:pt x="659" y="220"/>
                    <a:pt x="673" y="236"/>
                  </a:cubicBezTo>
                  <a:cubicBezTo>
                    <a:pt x="689" y="254"/>
                    <a:pt x="673" y="286"/>
                    <a:pt x="682" y="308"/>
                  </a:cubicBezTo>
                  <a:cubicBezTo>
                    <a:pt x="686" y="318"/>
                    <a:pt x="700" y="320"/>
                    <a:pt x="709" y="326"/>
                  </a:cubicBezTo>
                  <a:cubicBezTo>
                    <a:pt x="741" y="304"/>
                    <a:pt x="744" y="282"/>
                    <a:pt x="772" y="254"/>
                  </a:cubicBezTo>
                  <a:cubicBezTo>
                    <a:pt x="778" y="263"/>
                    <a:pt x="785" y="271"/>
                    <a:pt x="790" y="281"/>
                  </a:cubicBezTo>
                  <a:cubicBezTo>
                    <a:pt x="794" y="289"/>
                    <a:pt x="790" y="309"/>
                    <a:pt x="799" y="308"/>
                  </a:cubicBezTo>
                  <a:cubicBezTo>
                    <a:pt x="820" y="305"/>
                    <a:pt x="835" y="284"/>
                    <a:pt x="853" y="272"/>
                  </a:cubicBezTo>
                  <a:cubicBezTo>
                    <a:pt x="896" y="243"/>
                    <a:pt x="870" y="257"/>
                    <a:pt x="934" y="236"/>
                  </a:cubicBezTo>
                  <a:cubicBezTo>
                    <a:pt x="943" y="233"/>
                    <a:pt x="907" y="245"/>
                    <a:pt x="907" y="245"/>
                  </a:cubicBezTo>
                  <a:cubicBezTo>
                    <a:pt x="904" y="257"/>
                    <a:pt x="902" y="269"/>
                    <a:pt x="898" y="281"/>
                  </a:cubicBezTo>
                  <a:cubicBezTo>
                    <a:pt x="893" y="299"/>
                    <a:pt x="880" y="335"/>
                    <a:pt x="880" y="335"/>
                  </a:cubicBezTo>
                  <a:cubicBezTo>
                    <a:pt x="883" y="356"/>
                    <a:pt x="868" y="395"/>
                    <a:pt x="889" y="398"/>
                  </a:cubicBezTo>
                  <a:cubicBezTo>
                    <a:pt x="914" y="402"/>
                    <a:pt x="925" y="362"/>
                    <a:pt x="943" y="344"/>
                  </a:cubicBezTo>
                  <a:cubicBezTo>
                    <a:pt x="950" y="337"/>
                    <a:pt x="961" y="338"/>
                    <a:pt x="970" y="335"/>
                  </a:cubicBezTo>
                  <a:cubicBezTo>
                    <a:pt x="980" y="328"/>
                    <a:pt x="1026" y="290"/>
                    <a:pt x="1042" y="290"/>
                  </a:cubicBezTo>
                  <a:cubicBezTo>
                    <a:pt x="1053" y="290"/>
                    <a:pt x="1059" y="304"/>
                    <a:pt x="1069" y="308"/>
                  </a:cubicBezTo>
                  <a:cubicBezTo>
                    <a:pt x="1086" y="316"/>
                    <a:pt x="1123" y="326"/>
                    <a:pt x="1123" y="326"/>
                  </a:cubicBezTo>
                  <a:cubicBezTo>
                    <a:pt x="1150" y="353"/>
                    <a:pt x="1168" y="368"/>
                    <a:pt x="1204" y="380"/>
                  </a:cubicBezTo>
                  <a:cubicBezTo>
                    <a:pt x="1214" y="410"/>
                    <a:pt x="1221" y="440"/>
                    <a:pt x="1231" y="470"/>
                  </a:cubicBezTo>
                  <a:cubicBezTo>
                    <a:pt x="1234" y="506"/>
                    <a:pt x="1234" y="542"/>
                    <a:pt x="1240" y="578"/>
                  </a:cubicBezTo>
                  <a:cubicBezTo>
                    <a:pt x="1245" y="606"/>
                    <a:pt x="1258" y="632"/>
                    <a:pt x="1267" y="659"/>
                  </a:cubicBezTo>
                  <a:cubicBezTo>
                    <a:pt x="1286" y="715"/>
                    <a:pt x="1296" y="780"/>
                    <a:pt x="1303" y="839"/>
                  </a:cubicBezTo>
                  <a:cubicBezTo>
                    <a:pt x="1310" y="897"/>
                    <a:pt x="1299" y="941"/>
                    <a:pt x="1348" y="974"/>
                  </a:cubicBezTo>
                  <a:cubicBezTo>
                    <a:pt x="1366" y="1029"/>
                    <a:pt x="1392" y="1009"/>
                    <a:pt x="1447" y="1001"/>
                  </a:cubicBezTo>
                  <a:cubicBezTo>
                    <a:pt x="1484" y="891"/>
                    <a:pt x="1463" y="964"/>
                    <a:pt x="1447" y="704"/>
                  </a:cubicBezTo>
                  <a:cubicBezTo>
                    <a:pt x="1444" y="651"/>
                    <a:pt x="1389" y="607"/>
                    <a:pt x="1357" y="569"/>
                  </a:cubicBezTo>
                  <a:cubicBezTo>
                    <a:pt x="1335" y="542"/>
                    <a:pt x="1329" y="509"/>
                    <a:pt x="1312" y="479"/>
                  </a:cubicBezTo>
                  <a:cubicBezTo>
                    <a:pt x="1277" y="417"/>
                    <a:pt x="1245" y="353"/>
                    <a:pt x="1213" y="290"/>
                  </a:cubicBezTo>
                  <a:cubicBezTo>
                    <a:pt x="1197" y="257"/>
                    <a:pt x="1182" y="203"/>
                    <a:pt x="1150" y="182"/>
                  </a:cubicBezTo>
                  <a:cubicBezTo>
                    <a:pt x="1092" y="143"/>
                    <a:pt x="1033" y="105"/>
                    <a:pt x="970" y="74"/>
                  </a:cubicBezTo>
                  <a:cubicBezTo>
                    <a:pt x="909" y="44"/>
                    <a:pt x="842" y="32"/>
                    <a:pt x="781" y="2"/>
                  </a:cubicBezTo>
                  <a:cubicBezTo>
                    <a:pt x="721" y="5"/>
                    <a:pt x="660" y="0"/>
                    <a:pt x="601" y="11"/>
                  </a:cubicBezTo>
                  <a:cubicBezTo>
                    <a:pt x="601" y="11"/>
                    <a:pt x="534" y="56"/>
                    <a:pt x="520" y="65"/>
                  </a:cubicBezTo>
                  <a:cubicBezTo>
                    <a:pt x="511" y="71"/>
                    <a:pt x="493" y="83"/>
                    <a:pt x="493" y="83"/>
                  </a:cubicBezTo>
                  <a:cubicBezTo>
                    <a:pt x="474" y="111"/>
                    <a:pt x="448" y="134"/>
                    <a:pt x="421" y="155"/>
                  </a:cubicBezTo>
                  <a:cubicBezTo>
                    <a:pt x="404" y="168"/>
                    <a:pt x="367" y="191"/>
                    <a:pt x="367" y="191"/>
                  </a:cubicBezTo>
                  <a:cubicBezTo>
                    <a:pt x="325" y="274"/>
                    <a:pt x="293" y="375"/>
                    <a:pt x="196" y="407"/>
                  </a:cubicBezTo>
                  <a:cubicBezTo>
                    <a:pt x="190" y="416"/>
                    <a:pt x="186" y="426"/>
                    <a:pt x="178" y="434"/>
                  </a:cubicBezTo>
                  <a:cubicBezTo>
                    <a:pt x="170" y="442"/>
                    <a:pt x="158" y="444"/>
                    <a:pt x="151" y="452"/>
                  </a:cubicBezTo>
                  <a:cubicBezTo>
                    <a:pt x="145" y="459"/>
                    <a:pt x="147" y="471"/>
                    <a:pt x="142" y="479"/>
                  </a:cubicBezTo>
                  <a:cubicBezTo>
                    <a:pt x="135" y="490"/>
                    <a:pt x="122" y="495"/>
                    <a:pt x="115" y="506"/>
                  </a:cubicBezTo>
                  <a:cubicBezTo>
                    <a:pt x="101" y="529"/>
                    <a:pt x="94" y="556"/>
                    <a:pt x="79" y="578"/>
                  </a:cubicBezTo>
                  <a:cubicBezTo>
                    <a:pt x="73" y="587"/>
                    <a:pt x="67" y="596"/>
                    <a:pt x="61" y="605"/>
                  </a:cubicBezTo>
                  <a:cubicBezTo>
                    <a:pt x="33" y="716"/>
                    <a:pt x="27" y="833"/>
                    <a:pt x="16" y="947"/>
                  </a:cubicBezTo>
                  <a:cubicBezTo>
                    <a:pt x="29" y="1092"/>
                    <a:pt x="0" y="1029"/>
                    <a:pt x="106" y="1064"/>
                  </a:cubicBezTo>
                  <a:cubicBezTo>
                    <a:pt x="308" y="1047"/>
                    <a:pt x="209" y="1087"/>
                    <a:pt x="196" y="1028"/>
                  </a:cubicBezTo>
                  <a:cubicBezTo>
                    <a:pt x="192" y="1010"/>
                    <a:pt x="196" y="992"/>
                    <a:pt x="196" y="974"/>
                  </a:cubicBezTo>
                </a:path>
              </a:pathLst>
            </a:custGeom>
            <a:solidFill>
              <a:srgbClr val="eaeaea"/>
            </a:solidFill>
            <a:ln w="9360">
              <a:solidFill>
                <a:srgbClr val="eaeae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429000" y="1635480"/>
              <a:ext cx="1399320" cy="1127160"/>
            </a:xfrm>
            <a:custGeom>
              <a:avLst/>
              <a:gdLst/>
              <a:ahLst/>
              <a:rect l="l" t="t" r="r" b="b"/>
              <a:pathLst>
                <a:path w="3414" h="2586">
                  <a:moveTo>
                    <a:pt x="1034" y="300"/>
                  </a:moveTo>
                  <a:cubicBezTo>
                    <a:pt x="852" y="239"/>
                    <a:pt x="644" y="322"/>
                    <a:pt x="458" y="336"/>
                  </a:cubicBezTo>
                  <a:cubicBezTo>
                    <a:pt x="421" y="354"/>
                    <a:pt x="397" y="370"/>
                    <a:pt x="368" y="399"/>
                  </a:cubicBezTo>
                  <a:cubicBezTo>
                    <a:pt x="365" y="411"/>
                    <a:pt x="367" y="425"/>
                    <a:pt x="359" y="435"/>
                  </a:cubicBezTo>
                  <a:cubicBezTo>
                    <a:pt x="353" y="442"/>
                    <a:pt x="341" y="440"/>
                    <a:pt x="332" y="444"/>
                  </a:cubicBezTo>
                  <a:cubicBezTo>
                    <a:pt x="320" y="449"/>
                    <a:pt x="307" y="455"/>
                    <a:pt x="296" y="462"/>
                  </a:cubicBezTo>
                  <a:cubicBezTo>
                    <a:pt x="264" y="482"/>
                    <a:pt x="233" y="507"/>
                    <a:pt x="206" y="534"/>
                  </a:cubicBezTo>
                  <a:cubicBezTo>
                    <a:pt x="180" y="611"/>
                    <a:pt x="217" y="493"/>
                    <a:pt x="188" y="669"/>
                  </a:cubicBezTo>
                  <a:cubicBezTo>
                    <a:pt x="185" y="688"/>
                    <a:pt x="175" y="705"/>
                    <a:pt x="170" y="723"/>
                  </a:cubicBezTo>
                  <a:cubicBezTo>
                    <a:pt x="153" y="792"/>
                    <a:pt x="136" y="861"/>
                    <a:pt x="116" y="930"/>
                  </a:cubicBezTo>
                  <a:cubicBezTo>
                    <a:pt x="99" y="990"/>
                    <a:pt x="91" y="1051"/>
                    <a:pt x="71" y="1110"/>
                  </a:cubicBezTo>
                  <a:cubicBezTo>
                    <a:pt x="59" y="1197"/>
                    <a:pt x="52" y="1284"/>
                    <a:pt x="35" y="1371"/>
                  </a:cubicBezTo>
                  <a:cubicBezTo>
                    <a:pt x="29" y="1477"/>
                    <a:pt x="25" y="1581"/>
                    <a:pt x="8" y="1686"/>
                  </a:cubicBezTo>
                  <a:cubicBezTo>
                    <a:pt x="11" y="1776"/>
                    <a:pt x="0" y="1868"/>
                    <a:pt x="17" y="1956"/>
                  </a:cubicBezTo>
                  <a:cubicBezTo>
                    <a:pt x="20" y="1971"/>
                    <a:pt x="47" y="1962"/>
                    <a:pt x="62" y="1965"/>
                  </a:cubicBezTo>
                  <a:cubicBezTo>
                    <a:pt x="98" y="1973"/>
                    <a:pt x="127" y="1990"/>
                    <a:pt x="161" y="2001"/>
                  </a:cubicBezTo>
                  <a:cubicBezTo>
                    <a:pt x="239" y="1998"/>
                    <a:pt x="317" y="1997"/>
                    <a:pt x="395" y="1992"/>
                  </a:cubicBezTo>
                  <a:cubicBezTo>
                    <a:pt x="454" y="1988"/>
                    <a:pt x="516" y="1959"/>
                    <a:pt x="575" y="1947"/>
                  </a:cubicBezTo>
                  <a:cubicBezTo>
                    <a:pt x="603" y="1862"/>
                    <a:pt x="591" y="1912"/>
                    <a:pt x="602" y="1794"/>
                  </a:cubicBezTo>
                  <a:cubicBezTo>
                    <a:pt x="608" y="1553"/>
                    <a:pt x="520" y="1425"/>
                    <a:pt x="710" y="1362"/>
                  </a:cubicBezTo>
                  <a:cubicBezTo>
                    <a:pt x="734" y="1291"/>
                    <a:pt x="824" y="1275"/>
                    <a:pt x="872" y="1227"/>
                  </a:cubicBezTo>
                  <a:lnTo>
                    <a:pt x="740" y="2586"/>
                  </a:lnTo>
                  <a:lnTo>
                    <a:pt x="2612" y="2586"/>
                  </a:lnTo>
                  <a:cubicBezTo>
                    <a:pt x="2486" y="2097"/>
                    <a:pt x="1822" y="979"/>
                    <a:pt x="2312" y="1101"/>
                  </a:cubicBezTo>
                  <a:cubicBezTo>
                    <a:pt x="2381" y="1147"/>
                    <a:pt x="2389" y="1178"/>
                    <a:pt x="2447" y="1236"/>
                  </a:cubicBezTo>
                  <a:cubicBezTo>
                    <a:pt x="2473" y="1313"/>
                    <a:pt x="2447" y="1229"/>
                    <a:pt x="2465" y="1407"/>
                  </a:cubicBezTo>
                  <a:cubicBezTo>
                    <a:pt x="2469" y="1446"/>
                    <a:pt x="2495" y="1471"/>
                    <a:pt x="2510" y="1506"/>
                  </a:cubicBezTo>
                  <a:cubicBezTo>
                    <a:pt x="2549" y="1596"/>
                    <a:pt x="2568" y="1687"/>
                    <a:pt x="2672" y="1722"/>
                  </a:cubicBezTo>
                  <a:cubicBezTo>
                    <a:pt x="2744" y="1719"/>
                    <a:pt x="2816" y="1718"/>
                    <a:pt x="2888" y="1713"/>
                  </a:cubicBezTo>
                  <a:cubicBezTo>
                    <a:pt x="2921" y="1711"/>
                    <a:pt x="2917" y="1696"/>
                    <a:pt x="2942" y="1677"/>
                  </a:cubicBezTo>
                  <a:cubicBezTo>
                    <a:pt x="2991" y="1639"/>
                    <a:pt x="3055" y="1597"/>
                    <a:pt x="3113" y="1578"/>
                  </a:cubicBezTo>
                  <a:cubicBezTo>
                    <a:pt x="3122" y="1569"/>
                    <a:pt x="3129" y="1558"/>
                    <a:pt x="3140" y="1551"/>
                  </a:cubicBezTo>
                  <a:cubicBezTo>
                    <a:pt x="3148" y="1546"/>
                    <a:pt x="3160" y="1548"/>
                    <a:pt x="3167" y="1542"/>
                  </a:cubicBezTo>
                  <a:cubicBezTo>
                    <a:pt x="3175" y="1535"/>
                    <a:pt x="3176" y="1521"/>
                    <a:pt x="3185" y="1515"/>
                  </a:cubicBezTo>
                  <a:cubicBezTo>
                    <a:pt x="3201" y="1505"/>
                    <a:pt x="3221" y="1503"/>
                    <a:pt x="3239" y="1497"/>
                  </a:cubicBezTo>
                  <a:cubicBezTo>
                    <a:pt x="3281" y="1483"/>
                    <a:pt x="3328" y="1450"/>
                    <a:pt x="3365" y="1425"/>
                  </a:cubicBezTo>
                  <a:cubicBezTo>
                    <a:pt x="3359" y="1245"/>
                    <a:pt x="3414" y="1143"/>
                    <a:pt x="3248" y="1110"/>
                  </a:cubicBezTo>
                  <a:cubicBezTo>
                    <a:pt x="3209" y="1084"/>
                    <a:pt x="3178" y="1054"/>
                    <a:pt x="3140" y="1029"/>
                  </a:cubicBezTo>
                  <a:cubicBezTo>
                    <a:pt x="3105" y="976"/>
                    <a:pt x="3087" y="952"/>
                    <a:pt x="3068" y="894"/>
                  </a:cubicBezTo>
                  <a:cubicBezTo>
                    <a:pt x="3065" y="884"/>
                    <a:pt x="3049" y="884"/>
                    <a:pt x="3041" y="876"/>
                  </a:cubicBezTo>
                  <a:cubicBezTo>
                    <a:pt x="3030" y="865"/>
                    <a:pt x="3026" y="850"/>
                    <a:pt x="3014" y="840"/>
                  </a:cubicBezTo>
                  <a:cubicBezTo>
                    <a:pt x="2999" y="827"/>
                    <a:pt x="2975" y="826"/>
                    <a:pt x="2960" y="813"/>
                  </a:cubicBezTo>
                  <a:cubicBezTo>
                    <a:pt x="2928" y="786"/>
                    <a:pt x="2908" y="769"/>
                    <a:pt x="2870" y="750"/>
                  </a:cubicBezTo>
                  <a:cubicBezTo>
                    <a:pt x="2837" y="700"/>
                    <a:pt x="2783" y="674"/>
                    <a:pt x="2726" y="660"/>
                  </a:cubicBezTo>
                  <a:cubicBezTo>
                    <a:pt x="2717" y="654"/>
                    <a:pt x="2709" y="647"/>
                    <a:pt x="2699" y="642"/>
                  </a:cubicBezTo>
                  <a:cubicBezTo>
                    <a:pt x="2691" y="638"/>
                    <a:pt x="2673" y="642"/>
                    <a:pt x="2672" y="633"/>
                  </a:cubicBezTo>
                  <a:cubicBezTo>
                    <a:pt x="2663" y="559"/>
                    <a:pt x="2656" y="485"/>
                    <a:pt x="2726" y="462"/>
                  </a:cubicBezTo>
                  <a:cubicBezTo>
                    <a:pt x="2738" y="426"/>
                    <a:pt x="2757" y="402"/>
                    <a:pt x="2780" y="372"/>
                  </a:cubicBezTo>
                  <a:cubicBezTo>
                    <a:pt x="2800" y="294"/>
                    <a:pt x="2816" y="265"/>
                    <a:pt x="2780" y="174"/>
                  </a:cubicBezTo>
                  <a:cubicBezTo>
                    <a:pt x="2775" y="163"/>
                    <a:pt x="2756" y="168"/>
                    <a:pt x="2744" y="165"/>
                  </a:cubicBezTo>
                  <a:cubicBezTo>
                    <a:pt x="2705" y="154"/>
                    <a:pt x="2663" y="129"/>
                    <a:pt x="2627" y="111"/>
                  </a:cubicBezTo>
                  <a:cubicBezTo>
                    <a:pt x="2404" y="0"/>
                    <a:pt x="2521" y="48"/>
                    <a:pt x="2087" y="48"/>
                  </a:cubicBezTo>
                </a:path>
              </a:pathLst>
            </a:custGeom>
            <a:solidFill>
              <a:srgbClr val="ff6600"/>
            </a:solidFill>
            <a:ln w="9360">
              <a:solidFill>
                <a:srgbClr val="f8f8f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 rot="20095200">
              <a:off x="4633920" y="2275200"/>
              <a:ext cx="155880" cy="158760"/>
            </a:xfrm>
            <a:custGeom>
              <a:avLst/>
              <a:gdLst/>
              <a:ahLst/>
              <a:rect l="l" t="t" r="r" b="b"/>
              <a:pathLst>
                <a:path w="409" h="385">
                  <a:moveTo>
                    <a:pt x="22" y="33"/>
                  </a:moveTo>
                  <a:cubicBezTo>
                    <a:pt x="25" y="108"/>
                    <a:pt x="0" y="190"/>
                    <a:pt x="31" y="258"/>
                  </a:cubicBezTo>
                  <a:cubicBezTo>
                    <a:pt x="44" y="285"/>
                    <a:pt x="101" y="271"/>
                    <a:pt x="121" y="249"/>
                  </a:cubicBezTo>
                  <a:cubicBezTo>
                    <a:pt x="146" y="222"/>
                    <a:pt x="139" y="141"/>
                    <a:pt x="139" y="141"/>
                  </a:cubicBezTo>
                  <a:cubicBezTo>
                    <a:pt x="215" y="160"/>
                    <a:pt x="183" y="210"/>
                    <a:pt x="193" y="294"/>
                  </a:cubicBezTo>
                  <a:cubicBezTo>
                    <a:pt x="197" y="330"/>
                    <a:pt x="256" y="384"/>
                    <a:pt x="256" y="384"/>
                  </a:cubicBezTo>
                  <a:cubicBezTo>
                    <a:pt x="295" y="381"/>
                    <a:pt x="335" y="385"/>
                    <a:pt x="373" y="375"/>
                  </a:cubicBezTo>
                  <a:cubicBezTo>
                    <a:pt x="383" y="372"/>
                    <a:pt x="389" y="359"/>
                    <a:pt x="391" y="348"/>
                  </a:cubicBezTo>
                  <a:cubicBezTo>
                    <a:pt x="406" y="263"/>
                    <a:pt x="409" y="154"/>
                    <a:pt x="409" y="69"/>
                  </a:cubicBezTo>
                  <a:lnTo>
                    <a:pt x="394" y="0"/>
                  </a:lnTo>
                  <a:lnTo>
                    <a:pt x="22" y="33"/>
                  </a:lnTo>
                  <a:close/>
                </a:path>
              </a:pathLst>
            </a:custGeom>
            <a:solidFill>
              <a:srgbClr val="ffcccc"/>
            </a:solidFill>
            <a:ln w="9360">
              <a:solidFill>
                <a:srgbClr val="ffcc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3480480" y="2450160"/>
              <a:ext cx="155880" cy="158760"/>
            </a:xfrm>
            <a:custGeom>
              <a:avLst/>
              <a:gdLst/>
              <a:ahLst/>
              <a:rect l="l" t="t" r="r" b="b"/>
              <a:pathLst>
                <a:path w="409" h="385">
                  <a:moveTo>
                    <a:pt x="22" y="33"/>
                  </a:moveTo>
                  <a:cubicBezTo>
                    <a:pt x="25" y="108"/>
                    <a:pt x="0" y="190"/>
                    <a:pt x="31" y="258"/>
                  </a:cubicBezTo>
                  <a:cubicBezTo>
                    <a:pt x="44" y="285"/>
                    <a:pt x="101" y="271"/>
                    <a:pt x="121" y="249"/>
                  </a:cubicBezTo>
                  <a:cubicBezTo>
                    <a:pt x="146" y="222"/>
                    <a:pt x="139" y="141"/>
                    <a:pt x="139" y="141"/>
                  </a:cubicBezTo>
                  <a:cubicBezTo>
                    <a:pt x="215" y="160"/>
                    <a:pt x="183" y="210"/>
                    <a:pt x="193" y="294"/>
                  </a:cubicBezTo>
                  <a:cubicBezTo>
                    <a:pt x="197" y="330"/>
                    <a:pt x="256" y="384"/>
                    <a:pt x="256" y="384"/>
                  </a:cubicBezTo>
                  <a:cubicBezTo>
                    <a:pt x="295" y="381"/>
                    <a:pt x="335" y="385"/>
                    <a:pt x="373" y="375"/>
                  </a:cubicBezTo>
                  <a:cubicBezTo>
                    <a:pt x="383" y="372"/>
                    <a:pt x="389" y="359"/>
                    <a:pt x="391" y="348"/>
                  </a:cubicBezTo>
                  <a:cubicBezTo>
                    <a:pt x="406" y="263"/>
                    <a:pt x="409" y="154"/>
                    <a:pt x="409" y="69"/>
                  </a:cubicBezTo>
                  <a:lnTo>
                    <a:pt x="394" y="0"/>
                  </a:lnTo>
                  <a:lnTo>
                    <a:pt x="22" y="33"/>
                  </a:lnTo>
                  <a:close/>
                </a:path>
              </a:pathLst>
            </a:custGeom>
            <a:solidFill>
              <a:srgbClr val="ffcccc"/>
            </a:solidFill>
            <a:ln w="9360">
              <a:solidFill>
                <a:srgbClr val="ffcc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3743280" y="2730240"/>
              <a:ext cx="1285560" cy="1232640"/>
            </a:xfrm>
            <a:custGeom>
              <a:avLst/>
              <a:gdLst/>
              <a:ahLst/>
              <a:rect l="l" t="t" r="r" b="b"/>
              <a:pathLst>
                <a:path w="1782" h="1424">
                  <a:moveTo>
                    <a:pt x="18" y="47"/>
                  </a:moveTo>
                  <a:cubicBezTo>
                    <a:pt x="21" y="485"/>
                    <a:pt x="0" y="924"/>
                    <a:pt x="27" y="1361"/>
                  </a:cubicBezTo>
                  <a:cubicBezTo>
                    <a:pt x="28" y="1385"/>
                    <a:pt x="76" y="1364"/>
                    <a:pt x="99" y="1370"/>
                  </a:cubicBezTo>
                  <a:cubicBezTo>
                    <a:pt x="109" y="1373"/>
                    <a:pt x="117" y="1382"/>
                    <a:pt x="126" y="1388"/>
                  </a:cubicBezTo>
                  <a:cubicBezTo>
                    <a:pt x="854" y="1373"/>
                    <a:pt x="395" y="1424"/>
                    <a:pt x="612" y="1352"/>
                  </a:cubicBezTo>
                  <a:cubicBezTo>
                    <a:pt x="654" y="1289"/>
                    <a:pt x="657" y="1216"/>
                    <a:pt x="675" y="1145"/>
                  </a:cubicBezTo>
                  <a:cubicBezTo>
                    <a:pt x="678" y="941"/>
                    <a:pt x="674" y="737"/>
                    <a:pt x="684" y="533"/>
                  </a:cubicBezTo>
                  <a:cubicBezTo>
                    <a:pt x="685" y="517"/>
                    <a:pt x="701" y="562"/>
                    <a:pt x="702" y="578"/>
                  </a:cubicBezTo>
                  <a:cubicBezTo>
                    <a:pt x="710" y="707"/>
                    <a:pt x="703" y="836"/>
                    <a:pt x="711" y="965"/>
                  </a:cubicBezTo>
                  <a:cubicBezTo>
                    <a:pt x="714" y="1024"/>
                    <a:pt x="746" y="1089"/>
                    <a:pt x="765" y="1145"/>
                  </a:cubicBezTo>
                  <a:cubicBezTo>
                    <a:pt x="768" y="1154"/>
                    <a:pt x="784" y="1149"/>
                    <a:pt x="792" y="1154"/>
                  </a:cubicBezTo>
                  <a:cubicBezTo>
                    <a:pt x="989" y="1264"/>
                    <a:pt x="766" y="1153"/>
                    <a:pt x="873" y="1199"/>
                  </a:cubicBezTo>
                  <a:cubicBezTo>
                    <a:pt x="967" y="1239"/>
                    <a:pt x="1078" y="1278"/>
                    <a:pt x="1179" y="1289"/>
                  </a:cubicBezTo>
                  <a:cubicBezTo>
                    <a:pt x="1247" y="1306"/>
                    <a:pt x="1311" y="1330"/>
                    <a:pt x="1377" y="1352"/>
                  </a:cubicBezTo>
                  <a:cubicBezTo>
                    <a:pt x="1404" y="1343"/>
                    <a:pt x="1434" y="1340"/>
                    <a:pt x="1458" y="1325"/>
                  </a:cubicBezTo>
                  <a:cubicBezTo>
                    <a:pt x="1499" y="1300"/>
                    <a:pt x="1541" y="1272"/>
                    <a:pt x="1584" y="1253"/>
                  </a:cubicBezTo>
                  <a:cubicBezTo>
                    <a:pt x="1595" y="1248"/>
                    <a:pt x="1609" y="1249"/>
                    <a:pt x="1620" y="1244"/>
                  </a:cubicBezTo>
                  <a:cubicBezTo>
                    <a:pt x="1645" y="1234"/>
                    <a:pt x="1671" y="1224"/>
                    <a:pt x="1692" y="1208"/>
                  </a:cubicBezTo>
                  <a:cubicBezTo>
                    <a:pt x="1704" y="1199"/>
                    <a:pt x="1715" y="1188"/>
                    <a:pt x="1728" y="1181"/>
                  </a:cubicBezTo>
                  <a:cubicBezTo>
                    <a:pt x="1745" y="1173"/>
                    <a:pt x="1782" y="1163"/>
                    <a:pt x="1782" y="1163"/>
                  </a:cubicBezTo>
                  <a:cubicBezTo>
                    <a:pt x="1733" y="1130"/>
                    <a:pt x="1684" y="1118"/>
                    <a:pt x="1629" y="1100"/>
                  </a:cubicBezTo>
                  <a:cubicBezTo>
                    <a:pt x="1613" y="1095"/>
                    <a:pt x="1555" y="1063"/>
                    <a:pt x="1539" y="1055"/>
                  </a:cubicBezTo>
                  <a:cubicBezTo>
                    <a:pt x="1487" y="978"/>
                    <a:pt x="1556" y="1069"/>
                    <a:pt x="1494" y="1019"/>
                  </a:cubicBezTo>
                  <a:cubicBezTo>
                    <a:pt x="1474" y="1003"/>
                    <a:pt x="1464" y="977"/>
                    <a:pt x="1449" y="956"/>
                  </a:cubicBezTo>
                  <a:cubicBezTo>
                    <a:pt x="1436" y="916"/>
                    <a:pt x="1411" y="882"/>
                    <a:pt x="1386" y="848"/>
                  </a:cubicBezTo>
                  <a:cubicBezTo>
                    <a:pt x="1343" y="790"/>
                    <a:pt x="1320" y="736"/>
                    <a:pt x="1251" y="713"/>
                  </a:cubicBezTo>
                  <a:cubicBezTo>
                    <a:pt x="1162" y="646"/>
                    <a:pt x="1196" y="684"/>
                    <a:pt x="1143" y="605"/>
                  </a:cubicBezTo>
                  <a:cubicBezTo>
                    <a:pt x="1117" y="566"/>
                    <a:pt x="1124" y="519"/>
                    <a:pt x="1098" y="479"/>
                  </a:cubicBezTo>
                  <a:cubicBezTo>
                    <a:pt x="1085" y="399"/>
                    <a:pt x="1097" y="441"/>
                    <a:pt x="1053" y="353"/>
                  </a:cubicBezTo>
                  <a:lnTo>
                    <a:pt x="1053" y="353"/>
                  </a:lnTo>
                  <a:cubicBezTo>
                    <a:pt x="1035" y="282"/>
                    <a:pt x="999" y="218"/>
                    <a:pt x="981" y="146"/>
                  </a:cubicBezTo>
                  <a:cubicBezTo>
                    <a:pt x="984" y="122"/>
                    <a:pt x="981" y="96"/>
                    <a:pt x="990" y="74"/>
                  </a:cubicBezTo>
                  <a:cubicBezTo>
                    <a:pt x="1019" y="0"/>
                    <a:pt x="1017" y="82"/>
                    <a:pt x="1017" y="47"/>
                  </a:cubicBezTo>
                  <a:cubicBezTo>
                    <a:pt x="707" y="37"/>
                    <a:pt x="397" y="17"/>
                    <a:pt x="87" y="17"/>
                  </a:cubicBezTo>
                  <a:cubicBezTo>
                    <a:pt x="12" y="17"/>
                    <a:pt x="88" y="140"/>
                    <a:pt x="18" y="47"/>
                  </a:cubicBezTo>
                  <a:close/>
                </a:path>
              </a:pathLst>
            </a:custGeom>
            <a:blipFill rotWithShape="0">
              <a:blip r:embed="rId24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78840" y="3788640"/>
              <a:ext cx="588240" cy="249840"/>
            </a:xfrm>
            <a:prstGeom prst="ellipse">
              <a:avLst/>
            </a:prstGeom>
            <a:blipFill rotWithShape="0">
              <a:blip r:embed="rId2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517280" y="3672360"/>
              <a:ext cx="588240" cy="248400"/>
            </a:xfrm>
            <a:prstGeom prst="ellipse">
              <a:avLst/>
            </a:prstGeom>
            <a:blipFill rotWithShape="0">
              <a:blip r:embed="rId2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952800" y="1460880"/>
              <a:ext cx="156960" cy="174240"/>
            </a:xfrm>
            <a:prstGeom prst="ellipse">
              <a:avLst/>
            </a:prstGeom>
            <a:solidFill>
              <a:srgbClr val="f0312c"/>
            </a:solidFill>
            <a:ln w="9360">
              <a:solidFill>
                <a:srgbClr val="f0312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7" name=""/>
          <p:cNvSpPr/>
          <p:nvPr/>
        </p:nvSpPr>
        <p:spPr>
          <a:xfrm>
            <a:off x="5486400" y="6324480"/>
            <a:ext cx="914400" cy="533520"/>
          </a:xfrm>
          <a:custGeom>
            <a:avLst/>
            <a:gdLst/>
            <a:ahLst/>
            <a:rect l="l" t="t" r="r" b="b"/>
            <a:pathLst>
              <a:path w="576" h="336">
                <a:moveTo>
                  <a:pt x="288" y="48"/>
                </a:moveTo>
                <a:lnTo>
                  <a:pt x="0" y="0"/>
                </a:lnTo>
                <a:lnTo>
                  <a:pt x="0" y="96"/>
                </a:lnTo>
                <a:lnTo>
                  <a:pt x="48" y="144"/>
                </a:lnTo>
                <a:lnTo>
                  <a:pt x="0" y="240"/>
                </a:lnTo>
                <a:lnTo>
                  <a:pt x="48" y="336"/>
                </a:lnTo>
                <a:lnTo>
                  <a:pt x="576" y="336"/>
                </a:lnTo>
                <a:lnTo>
                  <a:pt x="240" y="0"/>
                </a:lnTo>
              </a:path>
            </a:pathLst>
          </a:custGeom>
          <a:blipFill rotWithShape="0">
            <a:blip r:embed="rId2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8" name=""/>
          <p:cNvGrpSpPr/>
          <p:nvPr/>
        </p:nvGrpSpPr>
        <p:grpSpPr>
          <a:xfrm>
            <a:off x="5333760" y="6324480"/>
            <a:ext cx="1143000" cy="533520"/>
            <a:chOff x="5333760" y="6324480"/>
            <a:chExt cx="1143000" cy="533520"/>
          </a:xfrm>
        </p:grpSpPr>
        <p:sp>
          <p:nvSpPr>
            <p:cNvPr id="429" name=""/>
            <p:cNvSpPr/>
            <p:nvPr/>
          </p:nvSpPr>
          <p:spPr>
            <a:xfrm flipH="1" rot="5400000">
              <a:off x="5981040" y="6362640"/>
              <a:ext cx="457200" cy="53316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ffcc"/>
                </a:gs>
              </a:gsLst>
              <a:lin ang="13500000"/>
            </a:gra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5333760" y="6324480"/>
              <a:ext cx="914400" cy="533520"/>
            </a:xfrm>
            <a:custGeom>
              <a:avLst/>
              <a:gdLst/>
              <a:ahLst/>
              <a:rect l="l" t="t" r="r" b="b"/>
              <a:pathLst>
                <a:path w="576" h="336">
                  <a:moveTo>
                    <a:pt x="288" y="48"/>
                  </a:moveTo>
                  <a:lnTo>
                    <a:pt x="0" y="0"/>
                  </a:lnTo>
                  <a:lnTo>
                    <a:pt x="0" y="96"/>
                  </a:lnTo>
                  <a:lnTo>
                    <a:pt x="48" y="144"/>
                  </a:lnTo>
                  <a:lnTo>
                    <a:pt x="0" y="240"/>
                  </a:lnTo>
                  <a:lnTo>
                    <a:pt x="48" y="336"/>
                  </a:lnTo>
                  <a:lnTo>
                    <a:pt x="576" y="336"/>
                  </a:lnTo>
                  <a:lnTo>
                    <a:pt x="240" y="0"/>
                  </a:lnTo>
                </a:path>
              </a:pathLst>
            </a:custGeom>
            <a:blipFill rotWithShape="0">
              <a:blip r:embed="rId2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1" name=""/>
          <p:cNvSpPr/>
          <p:nvPr/>
        </p:nvSpPr>
        <p:spPr>
          <a:xfrm>
            <a:off x="5638680" y="6362640"/>
            <a:ext cx="538200" cy="495360"/>
          </a:xfrm>
          <a:custGeom>
            <a:avLst/>
            <a:gdLst/>
            <a:ahLst/>
            <a:rect l="l" t="t" r="r" b="b"/>
            <a:pathLst>
              <a:path w="339" h="312">
                <a:moveTo>
                  <a:pt x="125" y="47"/>
                </a:moveTo>
                <a:cubicBezTo>
                  <a:pt x="91" y="50"/>
                  <a:pt x="43" y="28"/>
                  <a:pt x="23" y="56"/>
                </a:cubicBezTo>
                <a:cubicBezTo>
                  <a:pt x="0" y="89"/>
                  <a:pt x="29" y="137"/>
                  <a:pt x="33" y="177"/>
                </a:cubicBezTo>
                <a:cubicBezTo>
                  <a:pt x="35" y="199"/>
                  <a:pt x="33" y="222"/>
                  <a:pt x="42" y="242"/>
                </a:cubicBezTo>
                <a:cubicBezTo>
                  <a:pt x="47" y="252"/>
                  <a:pt x="61" y="255"/>
                  <a:pt x="70" y="261"/>
                </a:cubicBezTo>
                <a:cubicBezTo>
                  <a:pt x="84" y="303"/>
                  <a:pt x="77" y="312"/>
                  <a:pt x="153" y="279"/>
                </a:cubicBezTo>
                <a:cubicBezTo>
                  <a:pt x="162" y="275"/>
                  <a:pt x="160" y="260"/>
                  <a:pt x="163" y="251"/>
                </a:cubicBezTo>
                <a:cubicBezTo>
                  <a:pt x="173" y="221"/>
                  <a:pt x="184" y="188"/>
                  <a:pt x="218" y="177"/>
                </a:cubicBezTo>
                <a:cubicBezTo>
                  <a:pt x="245" y="168"/>
                  <a:pt x="302" y="158"/>
                  <a:pt x="302" y="158"/>
                </a:cubicBezTo>
                <a:cubicBezTo>
                  <a:pt x="333" y="60"/>
                  <a:pt x="339" y="154"/>
                  <a:pt x="311" y="0"/>
                </a:cubicBezTo>
                <a:cubicBezTo>
                  <a:pt x="258" y="3"/>
                  <a:pt x="205" y="2"/>
                  <a:pt x="153" y="10"/>
                </a:cubicBezTo>
                <a:cubicBezTo>
                  <a:pt x="142" y="12"/>
                  <a:pt x="135" y="23"/>
                  <a:pt x="125" y="28"/>
                </a:cubicBezTo>
                <a:cubicBezTo>
                  <a:pt x="95" y="43"/>
                  <a:pt x="83" y="33"/>
                  <a:pt x="125" y="47"/>
                </a:cubicBez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715000" y="6400800"/>
            <a:ext cx="228600" cy="2286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304920" y="990720"/>
            <a:ext cx="883908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Но вдруг мышка пробежала,</a:t>
            </a:r>
            <a:endParaRPr b="1" i="1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Хвостиком махнула,</a:t>
            </a:r>
            <a:endParaRPr b="1" i="1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Яичко упало...</a:t>
            </a:r>
            <a:endParaRPr b="1" i="1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И разбилось.</a:t>
            </a:r>
            <a:endParaRPr b="1" i="1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grpSp>
        <p:nvGrpSpPr>
          <p:cNvPr id="434" name=""/>
          <p:cNvGrpSpPr/>
          <p:nvPr/>
        </p:nvGrpSpPr>
        <p:grpSpPr>
          <a:xfrm>
            <a:off x="3352680" y="5150160"/>
            <a:ext cx="1622520" cy="748800"/>
            <a:chOff x="3352680" y="5150160"/>
            <a:chExt cx="1622520" cy="748800"/>
          </a:xfrm>
        </p:grpSpPr>
        <p:sp>
          <p:nvSpPr>
            <p:cNvPr id="435" name=""/>
            <p:cNvSpPr/>
            <p:nvPr/>
          </p:nvSpPr>
          <p:spPr>
            <a:xfrm rot="10800000">
              <a:off x="3352680" y="5398560"/>
              <a:ext cx="914400" cy="304920"/>
            </a:xfrm>
            <a:custGeom>
              <a:avLst/>
              <a:gdLst>
                <a:gd name="textAreaLeft" fmla="*/ 200880 w 914400"/>
                <a:gd name="textAreaRight" fmla="*/ 713520 w 914400"/>
                <a:gd name="textAreaTop" fmla="*/ 66960 h 304920"/>
                <a:gd name="textAreaBottom" fmla="*/ 237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352680" y="570384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7" name=""/>
            <p:cNvGrpSpPr/>
            <p:nvPr/>
          </p:nvGrpSpPr>
          <p:grpSpPr>
            <a:xfrm>
              <a:off x="3581280" y="5150160"/>
              <a:ext cx="1393920" cy="748800"/>
              <a:chOff x="3581280" y="5150160"/>
              <a:chExt cx="1393920" cy="748800"/>
            </a:xfrm>
          </p:grpSpPr>
          <p:sp>
            <p:nvSpPr>
              <p:cNvPr id="438" name=""/>
              <p:cNvSpPr/>
              <p:nvPr/>
            </p:nvSpPr>
            <p:spPr>
              <a:xfrm>
                <a:off x="3581280" y="5475240"/>
                <a:ext cx="152280" cy="1634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 rot="20010000">
                <a:off x="4023720" y="5333760"/>
                <a:ext cx="914400" cy="380880"/>
              </a:xfrm>
              <a:custGeom>
                <a:avLst/>
                <a:gdLst/>
                <a:ahLst/>
                <a:rect l="l" t="t" r="r" b="b"/>
                <a:pathLst>
                  <a:path w="1055" h="177">
                    <a:moveTo>
                      <a:pt x="3" y="65"/>
                    </a:moveTo>
                    <a:cubicBezTo>
                      <a:pt x="48" y="35"/>
                      <a:pt x="74" y="13"/>
                      <a:pt x="124" y="0"/>
                    </a:cubicBezTo>
                    <a:cubicBezTo>
                      <a:pt x="207" y="11"/>
                      <a:pt x="295" y="30"/>
                      <a:pt x="375" y="56"/>
                    </a:cubicBezTo>
                    <a:cubicBezTo>
                      <a:pt x="570" y="42"/>
                      <a:pt x="481" y="25"/>
                      <a:pt x="700" y="38"/>
                    </a:cubicBezTo>
                    <a:cubicBezTo>
                      <a:pt x="819" y="76"/>
                      <a:pt x="888" y="78"/>
                      <a:pt x="1025" y="84"/>
                    </a:cubicBezTo>
                    <a:cubicBezTo>
                      <a:pt x="1051" y="122"/>
                      <a:pt x="1055" y="132"/>
                      <a:pt x="1044" y="177"/>
                    </a:cubicBezTo>
                    <a:cubicBezTo>
                      <a:pt x="1025" y="174"/>
                      <a:pt x="1004" y="177"/>
                      <a:pt x="988" y="168"/>
                    </a:cubicBezTo>
                    <a:cubicBezTo>
                      <a:pt x="933" y="137"/>
                      <a:pt x="1032" y="137"/>
                      <a:pt x="951" y="130"/>
                    </a:cubicBezTo>
                    <a:cubicBezTo>
                      <a:pt x="889" y="125"/>
                      <a:pt x="827" y="124"/>
                      <a:pt x="765" y="121"/>
                    </a:cubicBezTo>
                    <a:cubicBezTo>
                      <a:pt x="741" y="113"/>
                      <a:pt x="729" y="113"/>
                      <a:pt x="710" y="93"/>
                    </a:cubicBezTo>
                    <a:cubicBezTo>
                      <a:pt x="702" y="85"/>
                      <a:pt x="700" y="72"/>
                      <a:pt x="691" y="65"/>
                    </a:cubicBezTo>
                    <a:cubicBezTo>
                      <a:pt x="675" y="52"/>
                      <a:pt x="652" y="49"/>
                      <a:pt x="635" y="38"/>
                    </a:cubicBezTo>
                    <a:cubicBezTo>
                      <a:pt x="616" y="41"/>
                      <a:pt x="594" y="36"/>
                      <a:pt x="579" y="47"/>
                    </a:cubicBezTo>
                    <a:cubicBezTo>
                      <a:pt x="558" y="63"/>
                      <a:pt x="533" y="112"/>
                      <a:pt x="533" y="112"/>
                    </a:cubicBezTo>
                    <a:cubicBezTo>
                      <a:pt x="413" y="104"/>
                      <a:pt x="321" y="90"/>
                      <a:pt x="199" y="84"/>
                    </a:cubicBezTo>
                    <a:cubicBezTo>
                      <a:pt x="0" y="74"/>
                      <a:pt x="3" y="140"/>
                      <a:pt x="3" y="65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3581280" y="5562720"/>
                <a:ext cx="7632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385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8" dur="385" fill="hold"/>
                                        <p:tgtEl>
                                          <p:spTgt spid="43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0" dur="385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2" dur="385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/>
          <p:nvPr/>
        </p:nvSpPr>
        <p:spPr>
          <a:xfrm>
            <a:off x="5867280" y="2209680"/>
            <a:ext cx="2743200" cy="457200"/>
          </a:xfrm>
          <a:prstGeom prst="rect">
            <a:avLst/>
          </a:prstGeom>
          <a:solidFill>
            <a:srgbClr val="cc0099"/>
          </a:solidFill>
          <a:ln w="9360">
            <a:solidFill>
              <a:srgbClr val="f031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6172200" y="1600200"/>
            <a:ext cx="2057400" cy="114300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6324480" y="1752480"/>
            <a:ext cx="1676520" cy="83844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4" name=""/>
          <p:cNvGrpSpPr/>
          <p:nvPr/>
        </p:nvGrpSpPr>
        <p:grpSpPr>
          <a:xfrm>
            <a:off x="0" y="1523880"/>
            <a:ext cx="3765600" cy="5029200"/>
            <a:chOff x="0" y="1523880"/>
            <a:chExt cx="3765600" cy="5029200"/>
          </a:xfrm>
        </p:grpSpPr>
        <p:sp>
          <p:nvSpPr>
            <p:cNvPr id="445" name=""/>
            <p:cNvSpPr/>
            <p:nvPr/>
          </p:nvSpPr>
          <p:spPr>
            <a:xfrm>
              <a:off x="852480" y="1600200"/>
              <a:ext cx="1128600" cy="1127160"/>
            </a:xfrm>
            <a:prstGeom prst="smileyFace">
              <a:avLst>
                <a:gd name="adj" fmla="val 9282"/>
              </a:avLst>
            </a:prstGeom>
            <a:solidFill>
              <a:srgbClr val="ffcccc"/>
            </a:solidFill>
            <a:ln w="9360">
              <a:solidFill>
                <a:srgbClr val="ff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 flipH="1">
              <a:off x="1143000" y="1904760"/>
              <a:ext cx="241200" cy="254160"/>
            </a:xfrm>
            <a:prstGeom prst="ellipse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1523880" y="1904760"/>
              <a:ext cx="241200" cy="254160"/>
            </a:xfrm>
            <a:prstGeom prst="ellipse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761760" y="1523880"/>
              <a:ext cx="1303560" cy="863640"/>
            </a:xfrm>
            <a:custGeom>
              <a:avLst/>
              <a:gdLst/>
              <a:ahLst/>
              <a:rect l="l" t="t" r="r" b="b"/>
              <a:pathLst>
                <a:path w="1484" h="1092">
                  <a:moveTo>
                    <a:pt x="196" y="1028"/>
                  </a:moveTo>
                  <a:cubicBezTo>
                    <a:pt x="186" y="987"/>
                    <a:pt x="166" y="947"/>
                    <a:pt x="142" y="911"/>
                  </a:cubicBezTo>
                  <a:cubicBezTo>
                    <a:pt x="148" y="729"/>
                    <a:pt x="127" y="654"/>
                    <a:pt x="214" y="524"/>
                  </a:cubicBezTo>
                  <a:cubicBezTo>
                    <a:pt x="228" y="503"/>
                    <a:pt x="256" y="494"/>
                    <a:pt x="277" y="479"/>
                  </a:cubicBezTo>
                  <a:cubicBezTo>
                    <a:pt x="292" y="433"/>
                    <a:pt x="277" y="380"/>
                    <a:pt x="295" y="335"/>
                  </a:cubicBezTo>
                  <a:cubicBezTo>
                    <a:pt x="319" y="277"/>
                    <a:pt x="484" y="282"/>
                    <a:pt x="502" y="281"/>
                  </a:cubicBezTo>
                  <a:cubicBezTo>
                    <a:pt x="539" y="269"/>
                    <a:pt x="577" y="249"/>
                    <a:pt x="610" y="227"/>
                  </a:cubicBezTo>
                  <a:cubicBezTo>
                    <a:pt x="631" y="230"/>
                    <a:pt x="659" y="220"/>
                    <a:pt x="673" y="236"/>
                  </a:cubicBezTo>
                  <a:cubicBezTo>
                    <a:pt x="689" y="254"/>
                    <a:pt x="673" y="286"/>
                    <a:pt x="682" y="308"/>
                  </a:cubicBezTo>
                  <a:cubicBezTo>
                    <a:pt x="686" y="318"/>
                    <a:pt x="700" y="320"/>
                    <a:pt x="709" y="326"/>
                  </a:cubicBezTo>
                  <a:cubicBezTo>
                    <a:pt x="741" y="304"/>
                    <a:pt x="744" y="282"/>
                    <a:pt x="772" y="254"/>
                  </a:cubicBezTo>
                  <a:cubicBezTo>
                    <a:pt x="778" y="263"/>
                    <a:pt x="785" y="271"/>
                    <a:pt x="790" y="281"/>
                  </a:cubicBezTo>
                  <a:cubicBezTo>
                    <a:pt x="794" y="289"/>
                    <a:pt x="790" y="309"/>
                    <a:pt x="799" y="308"/>
                  </a:cubicBezTo>
                  <a:cubicBezTo>
                    <a:pt x="820" y="305"/>
                    <a:pt x="835" y="284"/>
                    <a:pt x="853" y="272"/>
                  </a:cubicBezTo>
                  <a:cubicBezTo>
                    <a:pt x="896" y="243"/>
                    <a:pt x="870" y="257"/>
                    <a:pt x="934" y="236"/>
                  </a:cubicBezTo>
                  <a:cubicBezTo>
                    <a:pt x="943" y="233"/>
                    <a:pt x="907" y="245"/>
                    <a:pt x="907" y="245"/>
                  </a:cubicBezTo>
                  <a:cubicBezTo>
                    <a:pt x="904" y="257"/>
                    <a:pt x="902" y="269"/>
                    <a:pt x="898" y="281"/>
                  </a:cubicBezTo>
                  <a:cubicBezTo>
                    <a:pt x="893" y="299"/>
                    <a:pt x="880" y="335"/>
                    <a:pt x="880" y="335"/>
                  </a:cubicBezTo>
                  <a:cubicBezTo>
                    <a:pt x="883" y="356"/>
                    <a:pt x="868" y="395"/>
                    <a:pt x="889" y="398"/>
                  </a:cubicBezTo>
                  <a:cubicBezTo>
                    <a:pt x="914" y="402"/>
                    <a:pt x="925" y="362"/>
                    <a:pt x="943" y="344"/>
                  </a:cubicBezTo>
                  <a:cubicBezTo>
                    <a:pt x="950" y="337"/>
                    <a:pt x="961" y="338"/>
                    <a:pt x="970" y="335"/>
                  </a:cubicBezTo>
                  <a:cubicBezTo>
                    <a:pt x="980" y="328"/>
                    <a:pt x="1026" y="290"/>
                    <a:pt x="1042" y="290"/>
                  </a:cubicBezTo>
                  <a:cubicBezTo>
                    <a:pt x="1053" y="290"/>
                    <a:pt x="1059" y="304"/>
                    <a:pt x="1069" y="308"/>
                  </a:cubicBezTo>
                  <a:cubicBezTo>
                    <a:pt x="1086" y="316"/>
                    <a:pt x="1123" y="326"/>
                    <a:pt x="1123" y="326"/>
                  </a:cubicBezTo>
                  <a:cubicBezTo>
                    <a:pt x="1150" y="353"/>
                    <a:pt x="1168" y="368"/>
                    <a:pt x="1204" y="380"/>
                  </a:cubicBezTo>
                  <a:cubicBezTo>
                    <a:pt x="1214" y="410"/>
                    <a:pt x="1221" y="440"/>
                    <a:pt x="1231" y="470"/>
                  </a:cubicBezTo>
                  <a:cubicBezTo>
                    <a:pt x="1234" y="506"/>
                    <a:pt x="1234" y="542"/>
                    <a:pt x="1240" y="578"/>
                  </a:cubicBezTo>
                  <a:cubicBezTo>
                    <a:pt x="1245" y="606"/>
                    <a:pt x="1258" y="632"/>
                    <a:pt x="1267" y="659"/>
                  </a:cubicBezTo>
                  <a:cubicBezTo>
                    <a:pt x="1286" y="715"/>
                    <a:pt x="1296" y="780"/>
                    <a:pt x="1303" y="839"/>
                  </a:cubicBezTo>
                  <a:cubicBezTo>
                    <a:pt x="1310" y="897"/>
                    <a:pt x="1299" y="941"/>
                    <a:pt x="1348" y="974"/>
                  </a:cubicBezTo>
                  <a:cubicBezTo>
                    <a:pt x="1366" y="1029"/>
                    <a:pt x="1392" y="1009"/>
                    <a:pt x="1447" y="1001"/>
                  </a:cubicBezTo>
                  <a:cubicBezTo>
                    <a:pt x="1484" y="891"/>
                    <a:pt x="1463" y="964"/>
                    <a:pt x="1447" y="704"/>
                  </a:cubicBezTo>
                  <a:cubicBezTo>
                    <a:pt x="1444" y="651"/>
                    <a:pt x="1389" y="607"/>
                    <a:pt x="1357" y="569"/>
                  </a:cubicBezTo>
                  <a:cubicBezTo>
                    <a:pt x="1335" y="542"/>
                    <a:pt x="1329" y="509"/>
                    <a:pt x="1312" y="479"/>
                  </a:cubicBezTo>
                  <a:cubicBezTo>
                    <a:pt x="1277" y="417"/>
                    <a:pt x="1245" y="353"/>
                    <a:pt x="1213" y="290"/>
                  </a:cubicBezTo>
                  <a:cubicBezTo>
                    <a:pt x="1197" y="257"/>
                    <a:pt x="1182" y="203"/>
                    <a:pt x="1150" y="182"/>
                  </a:cubicBezTo>
                  <a:cubicBezTo>
                    <a:pt x="1092" y="143"/>
                    <a:pt x="1033" y="105"/>
                    <a:pt x="970" y="74"/>
                  </a:cubicBezTo>
                  <a:cubicBezTo>
                    <a:pt x="909" y="44"/>
                    <a:pt x="842" y="32"/>
                    <a:pt x="781" y="2"/>
                  </a:cubicBezTo>
                  <a:cubicBezTo>
                    <a:pt x="721" y="5"/>
                    <a:pt x="660" y="0"/>
                    <a:pt x="601" y="11"/>
                  </a:cubicBezTo>
                  <a:cubicBezTo>
                    <a:pt x="601" y="11"/>
                    <a:pt x="534" y="56"/>
                    <a:pt x="520" y="65"/>
                  </a:cubicBezTo>
                  <a:cubicBezTo>
                    <a:pt x="511" y="71"/>
                    <a:pt x="493" y="83"/>
                    <a:pt x="493" y="83"/>
                  </a:cubicBezTo>
                  <a:cubicBezTo>
                    <a:pt x="474" y="111"/>
                    <a:pt x="448" y="134"/>
                    <a:pt x="421" y="155"/>
                  </a:cubicBezTo>
                  <a:cubicBezTo>
                    <a:pt x="404" y="168"/>
                    <a:pt x="367" y="191"/>
                    <a:pt x="367" y="191"/>
                  </a:cubicBezTo>
                  <a:cubicBezTo>
                    <a:pt x="325" y="274"/>
                    <a:pt x="293" y="375"/>
                    <a:pt x="196" y="407"/>
                  </a:cubicBezTo>
                  <a:cubicBezTo>
                    <a:pt x="190" y="416"/>
                    <a:pt x="186" y="426"/>
                    <a:pt x="178" y="434"/>
                  </a:cubicBezTo>
                  <a:cubicBezTo>
                    <a:pt x="170" y="442"/>
                    <a:pt x="158" y="444"/>
                    <a:pt x="151" y="452"/>
                  </a:cubicBezTo>
                  <a:cubicBezTo>
                    <a:pt x="145" y="459"/>
                    <a:pt x="147" y="471"/>
                    <a:pt x="142" y="479"/>
                  </a:cubicBezTo>
                  <a:cubicBezTo>
                    <a:pt x="135" y="490"/>
                    <a:pt x="122" y="495"/>
                    <a:pt x="115" y="506"/>
                  </a:cubicBezTo>
                  <a:cubicBezTo>
                    <a:pt x="101" y="529"/>
                    <a:pt x="94" y="556"/>
                    <a:pt x="79" y="578"/>
                  </a:cubicBezTo>
                  <a:cubicBezTo>
                    <a:pt x="73" y="587"/>
                    <a:pt x="67" y="596"/>
                    <a:pt x="61" y="605"/>
                  </a:cubicBezTo>
                  <a:cubicBezTo>
                    <a:pt x="33" y="716"/>
                    <a:pt x="27" y="833"/>
                    <a:pt x="16" y="947"/>
                  </a:cubicBezTo>
                  <a:cubicBezTo>
                    <a:pt x="29" y="1092"/>
                    <a:pt x="0" y="1029"/>
                    <a:pt x="106" y="1064"/>
                  </a:cubicBezTo>
                  <a:cubicBezTo>
                    <a:pt x="308" y="1047"/>
                    <a:pt x="209" y="1087"/>
                    <a:pt x="196" y="1028"/>
                  </a:cubicBezTo>
                  <a:cubicBezTo>
                    <a:pt x="192" y="1010"/>
                    <a:pt x="196" y="992"/>
                    <a:pt x="196" y="974"/>
                  </a:cubicBezTo>
                </a:path>
              </a:pathLst>
            </a:custGeom>
            <a:solidFill>
              <a:srgbClr val="eaeaea"/>
            </a:solidFill>
            <a:ln w="9360">
              <a:solidFill>
                <a:srgbClr val="eaeae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0" y="2361960"/>
              <a:ext cx="3079800" cy="2067120"/>
            </a:xfrm>
            <a:custGeom>
              <a:avLst/>
              <a:gdLst/>
              <a:ahLst/>
              <a:rect l="l" t="t" r="r" b="b"/>
              <a:pathLst>
                <a:path w="3414" h="2586">
                  <a:moveTo>
                    <a:pt x="1034" y="300"/>
                  </a:moveTo>
                  <a:cubicBezTo>
                    <a:pt x="852" y="239"/>
                    <a:pt x="644" y="322"/>
                    <a:pt x="458" y="336"/>
                  </a:cubicBezTo>
                  <a:cubicBezTo>
                    <a:pt x="421" y="354"/>
                    <a:pt x="397" y="370"/>
                    <a:pt x="368" y="399"/>
                  </a:cubicBezTo>
                  <a:cubicBezTo>
                    <a:pt x="365" y="411"/>
                    <a:pt x="367" y="425"/>
                    <a:pt x="359" y="435"/>
                  </a:cubicBezTo>
                  <a:cubicBezTo>
                    <a:pt x="353" y="442"/>
                    <a:pt x="341" y="440"/>
                    <a:pt x="332" y="444"/>
                  </a:cubicBezTo>
                  <a:cubicBezTo>
                    <a:pt x="320" y="449"/>
                    <a:pt x="307" y="455"/>
                    <a:pt x="296" y="462"/>
                  </a:cubicBezTo>
                  <a:cubicBezTo>
                    <a:pt x="264" y="482"/>
                    <a:pt x="233" y="507"/>
                    <a:pt x="206" y="534"/>
                  </a:cubicBezTo>
                  <a:cubicBezTo>
                    <a:pt x="180" y="611"/>
                    <a:pt x="217" y="493"/>
                    <a:pt x="188" y="669"/>
                  </a:cubicBezTo>
                  <a:cubicBezTo>
                    <a:pt x="185" y="688"/>
                    <a:pt x="175" y="705"/>
                    <a:pt x="170" y="723"/>
                  </a:cubicBezTo>
                  <a:cubicBezTo>
                    <a:pt x="153" y="792"/>
                    <a:pt x="136" y="861"/>
                    <a:pt x="116" y="930"/>
                  </a:cubicBezTo>
                  <a:cubicBezTo>
                    <a:pt x="99" y="990"/>
                    <a:pt x="91" y="1051"/>
                    <a:pt x="71" y="1110"/>
                  </a:cubicBezTo>
                  <a:cubicBezTo>
                    <a:pt x="59" y="1197"/>
                    <a:pt x="52" y="1284"/>
                    <a:pt x="35" y="1371"/>
                  </a:cubicBezTo>
                  <a:cubicBezTo>
                    <a:pt x="29" y="1477"/>
                    <a:pt x="25" y="1581"/>
                    <a:pt x="8" y="1686"/>
                  </a:cubicBezTo>
                  <a:cubicBezTo>
                    <a:pt x="11" y="1776"/>
                    <a:pt x="0" y="1868"/>
                    <a:pt x="17" y="1956"/>
                  </a:cubicBezTo>
                  <a:cubicBezTo>
                    <a:pt x="20" y="1971"/>
                    <a:pt x="47" y="1962"/>
                    <a:pt x="62" y="1965"/>
                  </a:cubicBezTo>
                  <a:cubicBezTo>
                    <a:pt x="98" y="1973"/>
                    <a:pt x="127" y="1990"/>
                    <a:pt x="161" y="2001"/>
                  </a:cubicBezTo>
                  <a:cubicBezTo>
                    <a:pt x="239" y="1998"/>
                    <a:pt x="317" y="1997"/>
                    <a:pt x="395" y="1992"/>
                  </a:cubicBezTo>
                  <a:cubicBezTo>
                    <a:pt x="454" y="1988"/>
                    <a:pt x="516" y="1959"/>
                    <a:pt x="575" y="1947"/>
                  </a:cubicBezTo>
                  <a:cubicBezTo>
                    <a:pt x="603" y="1862"/>
                    <a:pt x="591" y="1912"/>
                    <a:pt x="602" y="1794"/>
                  </a:cubicBezTo>
                  <a:cubicBezTo>
                    <a:pt x="608" y="1553"/>
                    <a:pt x="520" y="1425"/>
                    <a:pt x="710" y="1362"/>
                  </a:cubicBezTo>
                  <a:cubicBezTo>
                    <a:pt x="734" y="1291"/>
                    <a:pt x="824" y="1275"/>
                    <a:pt x="872" y="1227"/>
                  </a:cubicBezTo>
                  <a:lnTo>
                    <a:pt x="740" y="2586"/>
                  </a:lnTo>
                  <a:lnTo>
                    <a:pt x="2612" y="2586"/>
                  </a:lnTo>
                  <a:cubicBezTo>
                    <a:pt x="2486" y="2097"/>
                    <a:pt x="1822" y="979"/>
                    <a:pt x="2312" y="1101"/>
                  </a:cubicBezTo>
                  <a:cubicBezTo>
                    <a:pt x="2381" y="1147"/>
                    <a:pt x="2389" y="1178"/>
                    <a:pt x="2447" y="1236"/>
                  </a:cubicBezTo>
                  <a:cubicBezTo>
                    <a:pt x="2473" y="1313"/>
                    <a:pt x="2447" y="1229"/>
                    <a:pt x="2465" y="1407"/>
                  </a:cubicBezTo>
                  <a:cubicBezTo>
                    <a:pt x="2469" y="1446"/>
                    <a:pt x="2495" y="1471"/>
                    <a:pt x="2510" y="1506"/>
                  </a:cubicBezTo>
                  <a:cubicBezTo>
                    <a:pt x="2549" y="1596"/>
                    <a:pt x="2568" y="1687"/>
                    <a:pt x="2672" y="1722"/>
                  </a:cubicBezTo>
                  <a:cubicBezTo>
                    <a:pt x="2744" y="1719"/>
                    <a:pt x="2816" y="1718"/>
                    <a:pt x="2888" y="1713"/>
                  </a:cubicBezTo>
                  <a:cubicBezTo>
                    <a:pt x="2921" y="1711"/>
                    <a:pt x="2917" y="1696"/>
                    <a:pt x="2942" y="1677"/>
                  </a:cubicBezTo>
                  <a:cubicBezTo>
                    <a:pt x="2991" y="1639"/>
                    <a:pt x="3055" y="1597"/>
                    <a:pt x="3113" y="1578"/>
                  </a:cubicBezTo>
                  <a:cubicBezTo>
                    <a:pt x="3122" y="1569"/>
                    <a:pt x="3129" y="1558"/>
                    <a:pt x="3140" y="1551"/>
                  </a:cubicBezTo>
                  <a:cubicBezTo>
                    <a:pt x="3148" y="1546"/>
                    <a:pt x="3160" y="1548"/>
                    <a:pt x="3167" y="1542"/>
                  </a:cubicBezTo>
                  <a:cubicBezTo>
                    <a:pt x="3175" y="1535"/>
                    <a:pt x="3176" y="1521"/>
                    <a:pt x="3185" y="1515"/>
                  </a:cubicBezTo>
                  <a:cubicBezTo>
                    <a:pt x="3201" y="1505"/>
                    <a:pt x="3221" y="1503"/>
                    <a:pt x="3239" y="1497"/>
                  </a:cubicBezTo>
                  <a:cubicBezTo>
                    <a:pt x="3281" y="1483"/>
                    <a:pt x="3328" y="1450"/>
                    <a:pt x="3365" y="1425"/>
                  </a:cubicBezTo>
                  <a:cubicBezTo>
                    <a:pt x="3359" y="1245"/>
                    <a:pt x="3414" y="1143"/>
                    <a:pt x="3248" y="1110"/>
                  </a:cubicBezTo>
                  <a:cubicBezTo>
                    <a:pt x="3209" y="1084"/>
                    <a:pt x="3178" y="1054"/>
                    <a:pt x="3140" y="1029"/>
                  </a:cubicBezTo>
                  <a:cubicBezTo>
                    <a:pt x="3105" y="976"/>
                    <a:pt x="3087" y="952"/>
                    <a:pt x="3068" y="894"/>
                  </a:cubicBezTo>
                  <a:cubicBezTo>
                    <a:pt x="3065" y="884"/>
                    <a:pt x="3049" y="884"/>
                    <a:pt x="3041" y="876"/>
                  </a:cubicBezTo>
                  <a:cubicBezTo>
                    <a:pt x="3030" y="865"/>
                    <a:pt x="3026" y="850"/>
                    <a:pt x="3014" y="840"/>
                  </a:cubicBezTo>
                  <a:cubicBezTo>
                    <a:pt x="2999" y="827"/>
                    <a:pt x="2975" y="826"/>
                    <a:pt x="2960" y="813"/>
                  </a:cubicBezTo>
                  <a:cubicBezTo>
                    <a:pt x="2928" y="786"/>
                    <a:pt x="2908" y="769"/>
                    <a:pt x="2870" y="750"/>
                  </a:cubicBezTo>
                  <a:cubicBezTo>
                    <a:pt x="2837" y="700"/>
                    <a:pt x="2783" y="674"/>
                    <a:pt x="2726" y="660"/>
                  </a:cubicBezTo>
                  <a:cubicBezTo>
                    <a:pt x="2717" y="654"/>
                    <a:pt x="2709" y="647"/>
                    <a:pt x="2699" y="642"/>
                  </a:cubicBezTo>
                  <a:cubicBezTo>
                    <a:pt x="2691" y="638"/>
                    <a:pt x="2673" y="642"/>
                    <a:pt x="2672" y="633"/>
                  </a:cubicBezTo>
                  <a:cubicBezTo>
                    <a:pt x="2663" y="559"/>
                    <a:pt x="2656" y="485"/>
                    <a:pt x="2726" y="462"/>
                  </a:cubicBezTo>
                  <a:cubicBezTo>
                    <a:pt x="2738" y="426"/>
                    <a:pt x="2757" y="402"/>
                    <a:pt x="2780" y="372"/>
                  </a:cubicBezTo>
                  <a:cubicBezTo>
                    <a:pt x="2800" y="294"/>
                    <a:pt x="2816" y="265"/>
                    <a:pt x="2780" y="174"/>
                  </a:cubicBezTo>
                  <a:cubicBezTo>
                    <a:pt x="2775" y="163"/>
                    <a:pt x="2756" y="168"/>
                    <a:pt x="2744" y="165"/>
                  </a:cubicBezTo>
                  <a:cubicBezTo>
                    <a:pt x="2705" y="154"/>
                    <a:pt x="2663" y="129"/>
                    <a:pt x="2627" y="111"/>
                  </a:cubicBezTo>
                  <a:cubicBezTo>
                    <a:pt x="2404" y="0"/>
                    <a:pt x="2521" y="48"/>
                    <a:pt x="2087" y="48"/>
                  </a:cubicBezTo>
                </a:path>
              </a:pathLst>
            </a:custGeom>
            <a:solidFill>
              <a:srgbClr val="ff6600"/>
            </a:solidFill>
            <a:ln w="9360">
              <a:solidFill>
                <a:srgbClr val="f8f8f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 rot="20095200">
              <a:off x="2743200" y="3504600"/>
              <a:ext cx="342720" cy="292320"/>
            </a:xfrm>
            <a:custGeom>
              <a:avLst/>
              <a:gdLst/>
              <a:ahLst/>
              <a:rect l="l" t="t" r="r" b="b"/>
              <a:pathLst>
                <a:path w="409" h="385">
                  <a:moveTo>
                    <a:pt x="22" y="33"/>
                  </a:moveTo>
                  <a:cubicBezTo>
                    <a:pt x="25" y="108"/>
                    <a:pt x="0" y="190"/>
                    <a:pt x="31" y="258"/>
                  </a:cubicBezTo>
                  <a:cubicBezTo>
                    <a:pt x="44" y="285"/>
                    <a:pt x="101" y="271"/>
                    <a:pt x="121" y="249"/>
                  </a:cubicBezTo>
                  <a:cubicBezTo>
                    <a:pt x="146" y="222"/>
                    <a:pt x="139" y="141"/>
                    <a:pt x="139" y="141"/>
                  </a:cubicBezTo>
                  <a:cubicBezTo>
                    <a:pt x="215" y="160"/>
                    <a:pt x="183" y="210"/>
                    <a:pt x="193" y="294"/>
                  </a:cubicBezTo>
                  <a:cubicBezTo>
                    <a:pt x="197" y="330"/>
                    <a:pt x="256" y="384"/>
                    <a:pt x="256" y="384"/>
                  </a:cubicBezTo>
                  <a:cubicBezTo>
                    <a:pt x="295" y="381"/>
                    <a:pt x="335" y="385"/>
                    <a:pt x="373" y="375"/>
                  </a:cubicBezTo>
                  <a:cubicBezTo>
                    <a:pt x="383" y="372"/>
                    <a:pt x="389" y="359"/>
                    <a:pt x="391" y="348"/>
                  </a:cubicBezTo>
                  <a:cubicBezTo>
                    <a:pt x="406" y="263"/>
                    <a:pt x="409" y="154"/>
                    <a:pt x="409" y="69"/>
                  </a:cubicBezTo>
                  <a:lnTo>
                    <a:pt x="394" y="0"/>
                  </a:lnTo>
                  <a:lnTo>
                    <a:pt x="22" y="33"/>
                  </a:lnTo>
                  <a:close/>
                </a:path>
              </a:pathLst>
            </a:custGeom>
            <a:solidFill>
              <a:srgbClr val="ffcccc"/>
            </a:solidFill>
            <a:ln w="9360">
              <a:solidFill>
                <a:srgbClr val="ffcc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75240" y="3962160"/>
              <a:ext cx="343080" cy="290520"/>
            </a:xfrm>
            <a:custGeom>
              <a:avLst/>
              <a:gdLst/>
              <a:ahLst/>
              <a:rect l="l" t="t" r="r" b="b"/>
              <a:pathLst>
                <a:path w="409" h="385">
                  <a:moveTo>
                    <a:pt x="22" y="33"/>
                  </a:moveTo>
                  <a:cubicBezTo>
                    <a:pt x="25" y="108"/>
                    <a:pt x="0" y="190"/>
                    <a:pt x="31" y="258"/>
                  </a:cubicBezTo>
                  <a:cubicBezTo>
                    <a:pt x="44" y="285"/>
                    <a:pt x="101" y="271"/>
                    <a:pt x="121" y="249"/>
                  </a:cubicBezTo>
                  <a:cubicBezTo>
                    <a:pt x="146" y="222"/>
                    <a:pt x="139" y="141"/>
                    <a:pt x="139" y="141"/>
                  </a:cubicBezTo>
                  <a:cubicBezTo>
                    <a:pt x="215" y="160"/>
                    <a:pt x="183" y="210"/>
                    <a:pt x="193" y="294"/>
                  </a:cubicBezTo>
                  <a:cubicBezTo>
                    <a:pt x="197" y="330"/>
                    <a:pt x="256" y="384"/>
                    <a:pt x="256" y="384"/>
                  </a:cubicBezTo>
                  <a:cubicBezTo>
                    <a:pt x="295" y="381"/>
                    <a:pt x="335" y="385"/>
                    <a:pt x="373" y="375"/>
                  </a:cubicBezTo>
                  <a:cubicBezTo>
                    <a:pt x="383" y="372"/>
                    <a:pt x="389" y="359"/>
                    <a:pt x="391" y="348"/>
                  </a:cubicBezTo>
                  <a:cubicBezTo>
                    <a:pt x="406" y="263"/>
                    <a:pt x="409" y="154"/>
                    <a:pt x="409" y="69"/>
                  </a:cubicBezTo>
                  <a:lnTo>
                    <a:pt x="394" y="0"/>
                  </a:lnTo>
                  <a:lnTo>
                    <a:pt x="22" y="33"/>
                  </a:lnTo>
                  <a:close/>
                </a:path>
              </a:pathLst>
            </a:custGeom>
            <a:solidFill>
              <a:srgbClr val="ffcccc"/>
            </a:solidFill>
            <a:ln w="9360">
              <a:solidFill>
                <a:srgbClr val="ffcc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31880" y="4240080"/>
              <a:ext cx="2828880" cy="2260440"/>
            </a:xfrm>
            <a:custGeom>
              <a:avLst/>
              <a:gdLst/>
              <a:ahLst/>
              <a:rect l="l" t="t" r="r" b="b"/>
              <a:pathLst>
                <a:path w="1782" h="1424">
                  <a:moveTo>
                    <a:pt x="18" y="47"/>
                  </a:moveTo>
                  <a:cubicBezTo>
                    <a:pt x="21" y="485"/>
                    <a:pt x="0" y="924"/>
                    <a:pt x="27" y="1361"/>
                  </a:cubicBezTo>
                  <a:cubicBezTo>
                    <a:pt x="28" y="1385"/>
                    <a:pt x="76" y="1364"/>
                    <a:pt x="99" y="1370"/>
                  </a:cubicBezTo>
                  <a:cubicBezTo>
                    <a:pt x="109" y="1373"/>
                    <a:pt x="117" y="1382"/>
                    <a:pt x="126" y="1388"/>
                  </a:cubicBezTo>
                  <a:cubicBezTo>
                    <a:pt x="854" y="1373"/>
                    <a:pt x="395" y="1424"/>
                    <a:pt x="612" y="1352"/>
                  </a:cubicBezTo>
                  <a:cubicBezTo>
                    <a:pt x="654" y="1289"/>
                    <a:pt x="657" y="1216"/>
                    <a:pt x="675" y="1145"/>
                  </a:cubicBezTo>
                  <a:cubicBezTo>
                    <a:pt x="678" y="941"/>
                    <a:pt x="674" y="737"/>
                    <a:pt x="684" y="533"/>
                  </a:cubicBezTo>
                  <a:cubicBezTo>
                    <a:pt x="685" y="517"/>
                    <a:pt x="701" y="562"/>
                    <a:pt x="702" y="578"/>
                  </a:cubicBezTo>
                  <a:cubicBezTo>
                    <a:pt x="710" y="707"/>
                    <a:pt x="703" y="836"/>
                    <a:pt x="711" y="965"/>
                  </a:cubicBezTo>
                  <a:cubicBezTo>
                    <a:pt x="714" y="1024"/>
                    <a:pt x="746" y="1089"/>
                    <a:pt x="765" y="1145"/>
                  </a:cubicBezTo>
                  <a:cubicBezTo>
                    <a:pt x="768" y="1154"/>
                    <a:pt x="784" y="1149"/>
                    <a:pt x="792" y="1154"/>
                  </a:cubicBezTo>
                  <a:cubicBezTo>
                    <a:pt x="989" y="1264"/>
                    <a:pt x="766" y="1153"/>
                    <a:pt x="873" y="1199"/>
                  </a:cubicBezTo>
                  <a:cubicBezTo>
                    <a:pt x="967" y="1239"/>
                    <a:pt x="1078" y="1278"/>
                    <a:pt x="1179" y="1289"/>
                  </a:cubicBezTo>
                  <a:cubicBezTo>
                    <a:pt x="1247" y="1306"/>
                    <a:pt x="1311" y="1330"/>
                    <a:pt x="1377" y="1352"/>
                  </a:cubicBezTo>
                  <a:cubicBezTo>
                    <a:pt x="1404" y="1343"/>
                    <a:pt x="1434" y="1340"/>
                    <a:pt x="1458" y="1325"/>
                  </a:cubicBezTo>
                  <a:cubicBezTo>
                    <a:pt x="1499" y="1300"/>
                    <a:pt x="1541" y="1272"/>
                    <a:pt x="1584" y="1253"/>
                  </a:cubicBezTo>
                  <a:cubicBezTo>
                    <a:pt x="1595" y="1248"/>
                    <a:pt x="1609" y="1249"/>
                    <a:pt x="1620" y="1244"/>
                  </a:cubicBezTo>
                  <a:cubicBezTo>
                    <a:pt x="1645" y="1234"/>
                    <a:pt x="1671" y="1224"/>
                    <a:pt x="1692" y="1208"/>
                  </a:cubicBezTo>
                  <a:cubicBezTo>
                    <a:pt x="1704" y="1199"/>
                    <a:pt x="1715" y="1188"/>
                    <a:pt x="1728" y="1181"/>
                  </a:cubicBezTo>
                  <a:cubicBezTo>
                    <a:pt x="1745" y="1173"/>
                    <a:pt x="1782" y="1163"/>
                    <a:pt x="1782" y="1163"/>
                  </a:cubicBezTo>
                  <a:cubicBezTo>
                    <a:pt x="1733" y="1130"/>
                    <a:pt x="1684" y="1118"/>
                    <a:pt x="1629" y="1100"/>
                  </a:cubicBezTo>
                  <a:cubicBezTo>
                    <a:pt x="1613" y="1095"/>
                    <a:pt x="1555" y="1063"/>
                    <a:pt x="1539" y="1055"/>
                  </a:cubicBezTo>
                  <a:cubicBezTo>
                    <a:pt x="1487" y="978"/>
                    <a:pt x="1556" y="1069"/>
                    <a:pt x="1494" y="1019"/>
                  </a:cubicBezTo>
                  <a:cubicBezTo>
                    <a:pt x="1474" y="1003"/>
                    <a:pt x="1464" y="977"/>
                    <a:pt x="1449" y="956"/>
                  </a:cubicBezTo>
                  <a:cubicBezTo>
                    <a:pt x="1436" y="916"/>
                    <a:pt x="1411" y="882"/>
                    <a:pt x="1386" y="848"/>
                  </a:cubicBezTo>
                  <a:cubicBezTo>
                    <a:pt x="1343" y="790"/>
                    <a:pt x="1320" y="736"/>
                    <a:pt x="1251" y="713"/>
                  </a:cubicBezTo>
                  <a:cubicBezTo>
                    <a:pt x="1162" y="646"/>
                    <a:pt x="1196" y="684"/>
                    <a:pt x="1143" y="605"/>
                  </a:cubicBezTo>
                  <a:cubicBezTo>
                    <a:pt x="1117" y="566"/>
                    <a:pt x="1124" y="519"/>
                    <a:pt x="1098" y="479"/>
                  </a:cubicBezTo>
                  <a:cubicBezTo>
                    <a:pt x="1085" y="399"/>
                    <a:pt x="1097" y="441"/>
                    <a:pt x="1053" y="353"/>
                  </a:cubicBezTo>
                  <a:lnTo>
                    <a:pt x="1053" y="353"/>
                  </a:lnTo>
                  <a:cubicBezTo>
                    <a:pt x="1035" y="282"/>
                    <a:pt x="999" y="218"/>
                    <a:pt x="981" y="146"/>
                  </a:cubicBezTo>
                  <a:cubicBezTo>
                    <a:pt x="984" y="122"/>
                    <a:pt x="981" y="96"/>
                    <a:pt x="990" y="74"/>
                  </a:cubicBezTo>
                  <a:cubicBezTo>
                    <a:pt x="1019" y="0"/>
                    <a:pt x="1017" y="82"/>
                    <a:pt x="1017" y="47"/>
                  </a:cubicBezTo>
                  <a:cubicBezTo>
                    <a:pt x="707" y="37"/>
                    <a:pt x="397" y="17"/>
                    <a:pt x="87" y="17"/>
                  </a:cubicBezTo>
                  <a:cubicBezTo>
                    <a:pt x="12" y="17"/>
                    <a:pt x="88" y="140"/>
                    <a:pt x="18" y="47"/>
                  </a:cubicBezTo>
                  <a:close/>
                </a:path>
              </a:pathLst>
            </a:cu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65200" y="6095880"/>
              <a:ext cx="1295280" cy="457200"/>
            </a:xfrm>
            <a:prstGeom prst="ellipse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2469960" y="5943600"/>
              <a:ext cx="1295640" cy="457200"/>
            </a:xfrm>
            <a:prstGeom prst="ellipse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838080" y="2286000"/>
              <a:ext cx="1149480" cy="798480"/>
            </a:xfrm>
            <a:custGeom>
              <a:avLst/>
              <a:gdLst/>
              <a:ahLst/>
              <a:rect l="l" t="t" r="r" b="b"/>
              <a:pathLst>
                <a:path w="1369" h="995">
                  <a:moveTo>
                    <a:pt x="30" y="103"/>
                  </a:moveTo>
                  <a:cubicBezTo>
                    <a:pt x="112" y="91"/>
                    <a:pt x="73" y="101"/>
                    <a:pt x="147" y="76"/>
                  </a:cubicBezTo>
                  <a:cubicBezTo>
                    <a:pt x="165" y="70"/>
                    <a:pt x="201" y="58"/>
                    <a:pt x="201" y="58"/>
                  </a:cubicBezTo>
                  <a:cubicBezTo>
                    <a:pt x="376" y="83"/>
                    <a:pt x="240" y="87"/>
                    <a:pt x="534" y="76"/>
                  </a:cubicBezTo>
                  <a:cubicBezTo>
                    <a:pt x="659" y="34"/>
                    <a:pt x="522" y="46"/>
                    <a:pt x="795" y="58"/>
                  </a:cubicBezTo>
                  <a:cubicBezTo>
                    <a:pt x="839" y="73"/>
                    <a:pt x="876" y="85"/>
                    <a:pt x="921" y="94"/>
                  </a:cubicBezTo>
                  <a:cubicBezTo>
                    <a:pt x="957" y="91"/>
                    <a:pt x="994" y="92"/>
                    <a:pt x="1029" y="85"/>
                  </a:cubicBezTo>
                  <a:cubicBezTo>
                    <a:pt x="1040" y="83"/>
                    <a:pt x="1046" y="71"/>
                    <a:pt x="1056" y="67"/>
                  </a:cubicBezTo>
                  <a:cubicBezTo>
                    <a:pt x="1079" y="59"/>
                    <a:pt x="1128" y="49"/>
                    <a:pt x="1128" y="49"/>
                  </a:cubicBezTo>
                  <a:cubicBezTo>
                    <a:pt x="1369" y="59"/>
                    <a:pt x="1313" y="0"/>
                    <a:pt x="1353" y="121"/>
                  </a:cubicBezTo>
                  <a:cubicBezTo>
                    <a:pt x="1347" y="213"/>
                    <a:pt x="1354" y="493"/>
                    <a:pt x="1236" y="571"/>
                  </a:cubicBezTo>
                  <a:cubicBezTo>
                    <a:pt x="1213" y="639"/>
                    <a:pt x="1192" y="704"/>
                    <a:pt x="1164" y="769"/>
                  </a:cubicBezTo>
                  <a:cubicBezTo>
                    <a:pt x="1145" y="813"/>
                    <a:pt x="1137" y="868"/>
                    <a:pt x="1101" y="904"/>
                  </a:cubicBezTo>
                  <a:cubicBezTo>
                    <a:pt x="1086" y="919"/>
                    <a:pt x="1065" y="928"/>
                    <a:pt x="1047" y="940"/>
                  </a:cubicBezTo>
                  <a:cubicBezTo>
                    <a:pt x="965" y="995"/>
                    <a:pt x="849" y="946"/>
                    <a:pt x="750" y="949"/>
                  </a:cubicBezTo>
                  <a:cubicBezTo>
                    <a:pt x="613" y="966"/>
                    <a:pt x="662" y="964"/>
                    <a:pt x="444" y="949"/>
                  </a:cubicBezTo>
                  <a:cubicBezTo>
                    <a:pt x="411" y="947"/>
                    <a:pt x="379" y="920"/>
                    <a:pt x="345" y="913"/>
                  </a:cubicBezTo>
                  <a:cubicBezTo>
                    <a:pt x="311" y="890"/>
                    <a:pt x="272" y="879"/>
                    <a:pt x="237" y="859"/>
                  </a:cubicBezTo>
                  <a:cubicBezTo>
                    <a:pt x="218" y="848"/>
                    <a:pt x="183" y="823"/>
                    <a:pt x="183" y="823"/>
                  </a:cubicBezTo>
                  <a:cubicBezTo>
                    <a:pt x="176" y="801"/>
                    <a:pt x="163" y="782"/>
                    <a:pt x="156" y="760"/>
                  </a:cubicBezTo>
                  <a:cubicBezTo>
                    <a:pt x="151" y="743"/>
                    <a:pt x="154" y="723"/>
                    <a:pt x="147" y="706"/>
                  </a:cubicBezTo>
                  <a:cubicBezTo>
                    <a:pt x="137" y="682"/>
                    <a:pt x="114" y="666"/>
                    <a:pt x="102" y="643"/>
                  </a:cubicBezTo>
                  <a:cubicBezTo>
                    <a:pt x="78" y="599"/>
                    <a:pt x="52" y="553"/>
                    <a:pt x="30" y="508"/>
                  </a:cubicBezTo>
                  <a:cubicBezTo>
                    <a:pt x="27" y="472"/>
                    <a:pt x="28" y="435"/>
                    <a:pt x="21" y="400"/>
                  </a:cubicBezTo>
                  <a:cubicBezTo>
                    <a:pt x="19" y="389"/>
                    <a:pt x="3" y="384"/>
                    <a:pt x="3" y="373"/>
                  </a:cubicBezTo>
                  <a:cubicBezTo>
                    <a:pt x="0" y="298"/>
                    <a:pt x="1" y="222"/>
                    <a:pt x="12" y="148"/>
                  </a:cubicBezTo>
                  <a:cubicBezTo>
                    <a:pt x="25" y="59"/>
                    <a:pt x="62" y="198"/>
                    <a:pt x="30" y="103"/>
                  </a:cubicBezTo>
                  <a:close/>
                </a:path>
              </a:pathLst>
            </a:custGeom>
            <a:solidFill>
              <a:srgbClr val="eaeaea"/>
            </a:solidFill>
            <a:ln w="9360">
              <a:solidFill>
                <a:srgbClr val="eaeae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1218960" y="2209680"/>
              <a:ext cx="100080" cy="233280"/>
            </a:xfrm>
            <a:custGeom>
              <a:avLst/>
              <a:gdLst/>
              <a:ahLst/>
              <a:rect l="l" t="t" r="r" b="b"/>
              <a:pathLst>
                <a:path w="63" h="147">
                  <a:moveTo>
                    <a:pt x="18" y="84"/>
                  </a:moveTo>
                  <a:cubicBezTo>
                    <a:pt x="21" y="94"/>
                    <a:pt x="27" y="134"/>
                    <a:pt x="54" y="120"/>
                  </a:cubicBezTo>
                  <a:cubicBezTo>
                    <a:pt x="62" y="116"/>
                    <a:pt x="60" y="102"/>
                    <a:pt x="63" y="93"/>
                  </a:cubicBezTo>
                  <a:cubicBezTo>
                    <a:pt x="50" y="0"/>
                    <a:pt x="63" y="45"/>
                    <a:pt x="0" y="3"/>
                  </a:cubicBezTo>
                  <a:cubicBezTo>
                    <a:pt x="10" y="129"/>
                    <a:pt x="9" y="81"/>
                    <a:pt x="9" y="147"/>
                  </a:cubicBezTo>
                </a:path>
              </a:pathLst>
            </a:custGeom>
            <a:solidFill>
              <a:srgbClr val="00ffff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1652400" y="2205000"/>
              <a:ext cx="100080" cy="233280"/>
            </a:xfrm>
            <a:custGeom>
              <a:avLst/>
              <a:gdLst/>
              <a:ahLst/>
              <a:rect l="l" t="t" r="r" b="b"/>
              <a:pathLst>
                <a:path w="63" h="147">
                  <a:moveTo>
                    <a:pt x="18" y="84"/>
                  </a:moveTo>
                  <a:cubicBezTo>
                    <a:pt x="21" y="94"/>
                    <a:pt x="27" y="134"/>
                    <a:pt x="54" y="120"/>
                  </a:cubicBezTo>
                  <a:cubicBezTo>
                    <a:pt x="62" y="116"/>
                    <a:pt x="60" y="102"/>
                    <a:pt x="63" y="93"/>
                  </a:cubicBezTo>
                  <a:cubicBezTo>
                    <a:pt x="50" y="0"/>
                    <a:pt x="63" y="45"/>
                    <a:pt x="0" y="3"/>
                  </a:cubicBezTo>
                  <a:cubicBezTo>
                    <a:pt x="10" y="129"/>
                    <a:pt x="9" y="81"/>
                    <a:pt x="9" y="147"/>
                  </a:cubicBezTo>
                </a:path>
              </a:pathLst>
            </a:custGeom>
            <a:solidFill>
              <a:srgbClr val="00ffff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1447560" y="2590560"/>
              <a:ext cx="152640" cy="22860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0312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9" name=""/>
          <p:cNvGrpSpPr/>
          <p:nvPr/>
        </p:nvGrpSpPr>
        <p:grpSpPr>
          <a:xfrm>
            <a:off x="1465560" y="1828800"/>
            <a:ext cx="3245400" cy="4744800"/>
            <a:chOff x="1465560" y="1828800"/>
            <a:chExt cx="3245400" cy="4744800"/>
          </a:xfrm>
        </p:grpSpPr>
        <p:sp>
          <p:nvSpPr>
            <p:cNvPr id="460" name=""/>
            <p:cNvSpPr/>
            <p:nvPr/>
          </p:nvSpPr>
          <p:spPr>
            <a:xfrm>
              <a:off x="1662120" y="2533680"/>
              <a:ext cx="2985840" cy="3911400"/>
            </a:xfrm>
            <a:custGeom>
              <a:avLst/>
              <a:gdLst/>
              <a:ahLst/>
              <a:rect l="l" t="t" r="r" b="b"/>
              <a:pathLst>
                <a:path w="3414" h="2586">
                  <a:moveTo>
                    <a:pt x="1034" y="300"/>
                  </a:moveTo>
                  <a:cubicBezTo>
                    <a:pt x="852" y="239"/>
                    <a:pt x="644" y="322"/>
                    <a:pt x="458" y="336"/>
                  </a:cubicBezTo>
                  <a:cubicBezTo>
                    <a:pt x="421" y="354"/>
                    <a:pt x="397" y="370"/>
                    <a:pt x="368" y="399"/>
                  </a:cubicBezTo>
                  <a:cubicBezTo>
                    <a:pt x="365" y="411"/>
                    <a:pt x="367" y="425"/>
                    <a:pt x="359" y="435"/>
                  </a:cubicBezTo>
                  <a:cubicBezTo>
                    <a:pt x="353" y="442"/>
                    <a:pt x="341" y="440"/>
                    <a:pt x="332" y="444"/>
                  </a:cubicBezTo>
                  <a:cubicBezTo>
                    <a:pt x="320" y="449"/>
                    <a:pt x="307" y="455"/>
                    <a:pt x="296" y="462"/>
                  </a:cubicBezTo>
                  <a:cubicBezTo>
                    <a:pt x="264" y="482"/>
                    <a:pt x="233" y="507"/>
                    <a:pt x="206" y="534"/>
                  </a:cubicBezTo>
                  <a:cubicBezTo>
                    <a:pt x="180" y="611"/>
                    <a:pt x="217" y="493"/>
                    <a:pt x="188" y="669"/>
                  </a:cubicBezTo>
                  <a:cubicBezTo>
                    <a:pt x="185" y="688"/>
                    <a:pt x="175" y="705"/>
                    <a:pt x="170" y="723"/>
                  </a:cubicBezTo>
                  <a:cubicBezTo>
                    <a:pt x="153" y="792"/>
                    <a:pt x="136" y="861"/>
                    <a:pt x="116" y="930"/>
                  </a:cubicBezTo>
                  <a:cubicBezTo>
                    <a:pt x="99" y="990"/>
                    <a:pt x="91" y="1051"/>
                    <a:pt x="71" y="1110"/>
                  </a:cubicBezTo>
                  <a:cubicBezTo>
                    <a:pt x="59" y="1197"/>
                    <a:pt x="52" y="1284"/>
                    <a:pt x="35" y="1371"/>
                  </a:cubicBezTo>
                  <a:cubicBezTo>
                    <a:pt x="29" y="1477"/>
                    <a:pt x="25" y="1581"/>
                    <a:pt x="8" y="1686"/>
                  </a:cubicBezTo>
                  <a:cubicBezTo>
                    <a:pt x="11" y="1776"/>
                    <a:pt x="0" y="1868"/>
                    <a:pt x="17" y="1956"/>
                  </a:cubicBezTo>
                  <a:cubicBezTo>
                    <a:pt x="20" y="1971"/>
                    <a:pt x="47" y="1962"/>
                    <a:pt x="62" y="1965"/>
                  </a:cubicBezTo>
                  <a:cubicBezTo>
                    <a:pt x="98" y="1973"/>
                    <a:pt x="127" y="1990"/>
                    <a:pt x="161" y="2001"/>
                  </a:cubicBezTo>
                  <a:cubicBezTo>
                    <a:pt x="239" y="1998"/>
                    <a:pt x="317" y="1997"/>
                    <a:pt x="395" y="1992"/>
                  </a:cubicBezTo>
                  <a:cubicBezTo>
                    <a:pt x="454" y="1988"/>
                    <a:pt x="516" y="1959"/>
                    <a:pt x="575" y="1947"/>
                  </a:cubicBezTo>
                  <a:cubicBezTo>
                    <a:pt x="603" y="1862"/>
                    <a:pt x="591" y="1912"/>
                    <a:pt x="602" y="1794"/>
                  </a:cubicBezTo>
                  <a:cubicBezTo>
                    <a:pt x="608" y="1553"/>
                    <a:pt x="520" y="1425"/>
                    <a:pt x="710" y="1362"/>
                  </a:cubicBezTo>
                  <a:cubicBezTo>
                    <a:pt x="734" y="1291"/>
                    <a:pt x="824" y="1275"/>
                    <a:pt x="872" y="1227"/>
                  </a:cubicBezTo>
                  <a:lnTo>
                    <a:pt x="740" y="2586"/>
                  </a:lnTo>
                  <a:lnTo>
                    <a:pt x="2612" y="2586"/>
                  </a:lnTo>
                  <a:cubicBezTo>
                    <a:pt x="2486" y="2097"/>
                    <a:pt x="1822" y="979"/>
                    <a:pt x="2312" y="1101"/>
                  </a:cubicBezTo>
                  <a:cubicBezTo>
                    <a:pt x="2381" y="1147"/>
                    <a:pt x="2389" y="1178"/>
                    <a:pt x="2447" y="1236"/>
                  </a:cubicBezTo>
                  <a:cubicBezTo>
                    <a:pt x="2473" y="1313"/>
                    <a:pt x="2447" y="1229"/>
                    <a:pt x="2465" y="1407"/>
                  </a:cubicBezTo>
                  <a:cubicBezTo>
                    <a:pt x="2469" y="1446"/>
                    <a:pt x="2495" y="1471"/>
                    <a:pt x="2510" y="1506"/>
                  </a:cubicBezTo>
                  <a:cubicBezTo>
                    <a:pt x="2549" y="1596"/>
                    <a:pt x="2568" y="1687"/>
                    <a:pt x="2672" y="1722"/>
                  </a:cubicBezTo>
                  <a:cubicBezTo>
                    <a:pt x="2744" y="1719"/>
                    <a:pt x="2816" y="1718"/>
                    <a:pt x="2888" y="1713"/>
                  </a:cubicBezTo>
                  <a:cubicBezTo>
                    <a:pt x="2921" y="1711"/>
                    <a:pt x="2917" y="1696"/>
                    <a:pt x="2942" y="1677"/>
                  </a:cubicBezTo>
                  <a:cubicBezTo>
                    <a:pt x="2991" y="1639"/>
                    <a:pt x="3055" y="1597"/>
                    <a:pt x="3113" y="1578"/>
                  </a:cubicBezTo>
                  <a:cubicBezTo>
                    <a:pt x="3122" y="1569"/>
                    <a:pt x="3129" y="1558"/>
                    <a:pt x="3140" y="1551"/>
                  </a:cubicBezTo>
                  <a:cubicBezTo>
                    <a:pt x="3148" y="1546"/>
                    <a:pt x="3160" y="1548"/>
                    <a:pt x="3167" y="1542"/>
                  </a:cubicBezTo>
                  <a:cubicBezTo>
                    <a:pt x="3175" y="1535"/>
                    <a:pt x="3176" y="1521"/>
                    <a:pt x="3185" y="1515"/>
                  </a:cubicBezTo>
                  <a:cubicBezTo>
                    <a:pt x="3201" y="1505"/>
                    <a:pt x="3221" y="1503"/>
                    <a:pt x="3239" y="1497"/>
                  </a:cubicBezTo>
                  <a:cubicBezTo>
                    <a:pt x="3281" y="1483"/>
                    <a:pt x="3328" y="1450"/>
                    <a:pt x="3365" y="1425"/>
                  </a:cubicBezTo>
                  <a:cubicBezTo>
                    <a:pt x="3359" y="1245"/>
                    <a:pt x="3414" y="1143"/>
                    <a:pt x="3248" y="1110"/>
                  </a:cubicBezTo>
                  <a:cubicBezTo>
                    <a:pt x="3209" y="1084"/>
                    <a:pt x="3178" y="1054"/>
                    <a:pt x="3140" y="1029"/>
                  </a:cubicBezTo>
                  <a:cubicBezTo>
                    <a:pt x="3105" y="976"/>
                    <a:pt x="3087" y="952"/>
                    <a:pt x="3068" y="894"/>
                  </a:cubicBezTo>
                  <a:cubicBezTo>
                    <a:pt x="3065" y="884"/>
                    <a:pt x="3049" y="884"/>
                    <a:pt x="3041" y="876"/>
                  </a:cubicBezTo>
                  <a:cubicBezTo>
                    <a:pt x="3030" y="865"/>
                    <a:pt x="3026" y="850"/>
                    <a:pt x="3014" y="840"/>
                  </a:cubicBezTo>
                  <a:cubicBezTo>
                    <a:pt x="2999" y="827"/>
                    <a:pt x="2975" y="826"/>
                    <a:pt x="2960" y="813"/>
                  </a:cubicBezTo>
                  <a:cubicBezTo>
                    <a:pt x="2928" y="786"/>
                    <a:pt x="2908" y="769"/>
                    <a:pt x="2870" y="750"/>
                  </a:cubicBezTo>
                  <a:cubicBezTo>
                    <a:pt x="2837" y="700"/>
                    <a:pt x="2783" y="674"/>
                    <a:pt x="2726" y="660"/>
                  </a:cubicBezTo>
                  <a:cubicBezTo>
                    <a:pt x="2717" y="654"/>
                    <a:pt x="2709" y="647"/>
                    <a:pt x="2699" y="642"/>
                  </a:cubicBezTo>
                  <a:cubicBezTo>
                    <a:pt x="2691" y="638"/>
                    <a:pt x="2673" y="642"/>
                    <a:pt x="2672" y="633"/>
                  </a:cubicBezTo>
                  <a:cubicBezTo>
                    <a:pt x="2663" y="559"/>
                    <a:pt x="2656" y="485"/>
                    <a:pt x="2726" y="462"/>
                  </a:cubicBezTo>
                  <a:cubicBezTo>
                    <a:pt x="2738" y="426"/>
                    <a:pt x="2757" y="402"/>
                    <a:pt x="2780" y="372"/>
                  </a:cubicBezTo>
                  <a:cubicBezTo>
                    <a:pt x="2800" y="294"/>
                    <a:pt x="2816" y="265"/>
                    <a:pt x="2780" y="174"/>
                  </a:cubicBezTo>
                  <a:cubicBezTo>
                    <a:pt x="2775" y="163"/>
                    <a:pt x="2756" y="168"/>
                    <a:pt x="2744" y="165"/>
                  </a:cubicBezTo>
                  <a:cubicBezTo>
                    <a:pt x="2705" y="154"/>
                    <a:pt x="2663" y="129"/>
                    <a:pt x="2627" y="111"/>
                  </a:cubicBezTo>
                  <a:cubicBezTo>
                    <a:pt x="2404" y="0"/>
                    <a:pt x="2521" y="48"/>
                    <a:pt x="2087" y="48"/>
                  </a:cubicBezTo>
                </a:path>
              </a:pathLst>
            </a:custGeom>
            <a:solidFill>
              <a:srgbClr val="ff9900"/>
            </a:solidFill>
            <a:ln w="9360">
              <a:solidFill>
                <a:srgbClr val="f8f8f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2317680" y="1944720"/>
              <a:ext cx="1028520" cy="949320"/>
            </a:xfrm>
            <a:prstGeom prst="smileyFace">
              <a:avLst>
                <a:gd name="adj" fmla="val 9282"/>
              </a:avLst>
            </a:prstGeom>
            <a:solidFill>
              <a:srgbClr val="ffcccc"/>
            </a:solidFill>
            <a:ln w="9360">
              <a:solidFill>
                <a:srgbClr val="ff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2514600" y="2179440"/>
              <a:ext cx="220680" cy="214560"/>
            </a:xfrm>
            <a:prstGeom prst="ellipse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943000" y="2179440"/>
              <a:ext cx="219240" cy="214560"/>
            </a:xfrm>
            <a:prstGeom prst="ellipse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2149200" y="1828800"/>
              <a:ext cx="1384560" cy="1598400"/>
            </a:xfrm>
            <a:custGeom>
              <a:avLst/>
              <a:gdLst/>
              <a:ahLst/>
              <a:rect l="l" t="t" r="r" b="b"/>
              <a:pathLst>
                <a:path w="958" h="1196">
                  <a:moveTo>
                    <a:pt x="465" y="168"/>
                  </a:moveTo>
                  <a:cubicBezTo>
                    <a:pt x="386" y="178"/>
                    <a:pt x="396" y="183"/>
                    <a:pt x="335" y="205"/>
                  </a:cubicBezTo>
                  <a:cubicBezTo>
                    <a:pt x="323" y="223"/>
                    <a:pt x="310" y="242"/>
                    <a:pt x="298" y="260"/>
                  </a:cubicBezTo>
                  <a:cubicBezTo>
                    <a:pt x="292" y="269"/>
                    <a:pt x="290" y="284"/>
                    <a:pt x="280" y="288"/>
                  </a:cubicBezTo>
                  <a:cubicBezTo>
                    <a:pt x="271" y="291"/>
                    <a:pt x="261" y="293"/>
                    <a:pt x="252" y="298"/>
                  </a:cubicBezTo>
                  <a:cubicBezTo>
                    <a:pt x="232" y="309"/>
                    <a:pt x="196" y="335"/>
                    <a:pt x="196" y="335"/>
                  </a:cubicBezTo>
                  <a:cubicBezTo>
                    <a:pt x="190" y="344"/>
                    <a:pt x="178" y="352"/>
                    <a:pt x="177" y="363"/>
                  </a:cubicBezTo>
                  <a:cubicBezTo>
                    <a:pt x="175" y="402"/>
                    <a:pt x="193" y="557"/>
                    <a:pt x="224" y="604"/>
                  </a:cubicBezTo>
                  <a:cubicBezTo>
                    <a:pt x="231" y="615"/>
                    <a:pt x="244" y="622"/>
                    <a:pt x="252" y="632"/>
                  </a:cubicBezTo>
                  <a:cubicBezTo>
                    <a:pt x="259" y="641"/>
                    <a:pt x="261" y="654"/>
                    <a:pt x="270" y="660"/>
                  </a:cubicBezTo>
                  <a:cubicBezTo>
                    <a:pt x="287" y="670"/>
                    <a:pt x="326" y="678"/>
                    <a:pt x="326" y="678"/>
                  </a:cubicBezTo>
                  <a:cubicBezTo>
                    <a:pt x="382" y="716"/>
                    <a:pt x="412" y="738"/>
                    <a:pt x="475" y="753"/>
                  </a:cubicBezTo>
                  <a:cubicBezTo>
                    <a:pt x="563" y="748"/>
                    <a:pt x="625" y="773"/>
                    <a:pt x="670" y="706"/>
                  </a:cubicBezTo>
                  <a:cubicBezTo>
                    <a:pt x="685" y="661"/>
                    <a:pt x="700" y="629"/>
                    <a:pt x="744" y="613"/>
                  </a:cubicBezTo>
                  <a:cubicBezTo>
                    <a:pt x="766" y="548"/>
                    <a:pt x="752" y="486"/>
                    <a:pt x="791" y="428"/>
                  </a:cubicBezTo>
                  <a:cubicBezTo>
                    <a:pt x="783" y="396"/>
                    <a:pt x="772" y="347"/>
                    <a:pt x="744" y="325"/>
                  </a:cubicBezTo>
                  <a:cubicBezTo>
                    <a:pt x="736" y="319"/>
                    <a:pt x="725" y="321"/>
                    <a:pt x="716" y="316"/>
                  </a:cubicBezTo>
                  <a:cubicBezTo>
                    <a:pt x="618" y="263"/>
                    <a:pt x="696" y="291"/>
                    <a:pt x="633" y="270"/>
                  </a:cubicBezTo>
                  <a:cubicBezTo>
                    <a:pt x="608" y="253"/>
                    <a:pt x="577" y="235"/>
                    <a:pt x="549" y="223"/>
                  </a:cubicBezTo>
                  <a:cubicBezTo>
                    <a:pt x="531" y="215"/>
                    <a:pt x="493" y="205"/>
                    <a:pt x="493" y="205"/>
                  </a:cubicBezTo>
                  <a:cubicBezTo>
                    <a:pt x="484" y="199"/>
                    <a:pt x="475" y="191"/>
                    <a:pt x="465" y="186"/>
                  </a:cubicBezTo>
                  <a:cubicBezTo>
                    <a:pt x="457" y="182"/>
                    <a:pt x="446" y="182"/>
                    <a:pt x="438" y="177"/>
                  </a:cubicBezTo>
                  <a:cubicBezTo>
                    <a:pt x="418" y="166"/>
                    <a:pt x="382" y="140"/>
                    <a:pt x="382" y="140"/>
                  </a:cubicBezTo>
                  <a:cubicBezTo>
                    <a:pt x="369" y="104"/>
                    <a:pt x="364" y="87"/>
                    <a:pt x="326" y="75"/>
                  </a:cubicBezTo>
                  <a:cubicBezTo>
                    <a:pt x="286" y="78"/>
                    <a:pt x="244" y="74"/>
                    <a:pt x="205" y="84"/>
                  </a:cubicBezTo>
                  <a:cubicBezTo>
                    <a:pt x="194" y="87"/>
                    <a:pt x="196" y="105"/>
                    <a:pt x="187" y="112"/>
                  </a:cubicBezTo>
                  <a:cubicBezTo>
                    <a:pt x="179" y="118"/>
                    <a:pt x="168" y="118"/>
                    <a:pt x="159" y="121"/>
                  </a:cubicBezTo>
                  <a:cubicBezTo>
                    <a:pt x="147" y="158"/>
                    <a:pt x="127" y="182"/>
                    <a:pt x="103" y="214"/>
                  </a:cubicBezTo>
                  <a:cubicBezTo>
                    <a:pt x="62" y="335"/>
                    <a:pt x="0" y="526"/>
                    <a:pt x="122" y="604"/>
                  </a:cubicBezTo>
                  <a:cubicBezTo>
                    <a:pt x="151" y="648"/>
                    <a:pt x="158" y="682"/>
                    <a:pt x="205" y="697"/>
                  </a:cubicBezTo>
                  <a:cubicBezTo>
                    <a:pt x="239" y="792"/>
                    <a:pt x="269" y="849"/>
                    <a:pt x="372" y="883"/>
                  </a:cubicBezTo>
                  <a:cubicBezTo>
                    <a:pt x="437" y="880"/>
                    <a:pt x="504" y="887"/>
                    <a:pt x="568" y="874"/>
                  </a:cubicBezTo>
                  <a:cubicBezTo>
                    <a:pt x="578" y="872"/>
                    <a:pt x="564" y="854"/>
                    <a:pt x="558" y="846"/>
                  </a:cubicBezTo>
                  <a:cubicBezTo>
                    <a:pt x="544" y="829"/>
                    <a:pt x="522" y="824"/>
                    <a:pt x="503" y="818"/>
                  </a:cubicBezTo>
                  <a:cubicBezTo>
                    <a:pt x="498" y="815"/>
                    <a:pt x="459" y="784"/>
                    <a:pt x="447" y="790"/>
                  </a:cubicBezTo>
                  <a:cubicBezTo>
                    <a:pt x="438" y="794"/>
                    <a:pt x="441" y="809"/>
                    <a:pt x="438" y="818"/>
                  </a:cubicBezTo>
                  <a:cubicBezTo>
                    <a:pt x="425" y="903"/>
                    <a:pt x="440" y="867"/>
                    <a:pt x="391" y="939"/>
                  </a:cubicBezTo>
                  <a:cubicBezTo>
                    <a:pt x="385" y="948"/>
                    <a:pt x="378" y="957"/>
                    <a:pt x="372" y="966"/>
                  </a:cubicBezTo>
                  <a:cubicBezTo>
                    <a:pt x="366" y="975"/>
                    <a:pt x="354" y="994"/>
                    <a:pt x="354" y="994"/>
                  </a:cubicBezTo>
                  <a:cubicBezTo>
                    <a:pt x="357" y="1053"/>
                    <a:pt x="334" y="1119"/>
                    <a:pt x="363" y="1171"/>
                  </a:cubicBezTo>
                  <a:cubicBezTo>
                    <a:pt x="377" y="1196"/>
                    <a:pt x="422" y="1175"/>
                    <a:pt x="447" y="1162"/>
                  </a:cubicBezTo>
                  <a:cubicBezTo>
                    <a:pt x="467" y="1151"/>
                    <a:pt x="484" y="1106"/>
                    <a:pt x="484" y="1106"/>
                  </a:cubicBezTo>
                  <a:cubicBezTo>
                    <a:pt x="487" y="1097"/>
                    <a:pt x="489" y="1087"/>
                    <a:pt x="493" y="1078"/>
                  </a:cubicBezTo>
                  <a:cubicBezTo>
                    <a:pt x="498" y="1068"/>
                    <a:pt x="507" y="1060"/>
                    <a:pt x="512" y="1050"/>
                  </a:cubicBezTo>
                  <a:cubicBezTo>
                    <a:pt x="556" y="950"/>
                    <a:pt x="506" y="1029"/>
                    <a:pt x="549" y="966"/>
                  </a:cubicBezTo>
                  <a:cubicBezTo>
                    <a:pt x="580" y="873"/>
                    <a:pt x="531" y="896"/>
                    <a:pt x="651" y="883"/>
                  </a:cubicBezTo>
                  <a:cubicBezTo>
                    <a:pt x="660" y="880"/>
                    <a:pt x="670" y="870"/>
                    <a:pt x="679" y="874"/>
                  </a:cubicBezTo>
                  <a:cubicBezTo>
                    <a:pt x="689" y="878"/>
                    <a:pt x="693" y="891"/>
                    <a:pt x="698" y="901"/>
                  </a:cubicBezTo>
                  <a:cubicBezTo>
                    <a:pt x="702" y="910"/>
                    <a:pt x="728" y="978"/>
                    <a:pt x="735" y="1004"/>
                  </a:cubicBezTo>
                  <a:cubicBezTo>
                    <a:pt x="738" y="1016"/>
                    <a:pt x="736" y="1031"/>
                    <a:pt x="744" y="1041"/>
                  </a:cubicBezTo>
                  <a:cubicBezTo>
                    <a:pt x="750" y="1049"/>
                    <a:pt x="763" y="1047"/>
                    <a:pt x="772" y="1050"/>
                  </a:cubicBezTo>
                  <a:cubicBezTo>
                    <a:pt x="801" y="1093"/>
                    <a:pt x="798" y="1107"/>
                    <a:pt x="883" y="1069"/>
                  </a:cubicBezTo>
                  <a:cubicBezTo>
                    <a:pt x="892" y="1065"/>
                    <a:pt x="880" y="1049"/>
                    <a:pt x="874" y="1041"/>
                  </a:cubicBezTo>
                  <a:cubicBezTo>
                    <a:pt x="859" y="1022"/>
                    <a:pt x="835" y="1011"/>
                    <a:pt x="818" y="994"/>
                  </a:cubicBezTo>
                  <a:cubicBezTo>
                    <a:pt x="807" y="958"/>
                    <a:pt x="814" y="918"/>
                    <a:pt x="800" y="883"/>
                  </a:cubicBezTo>
                  <a:cubicBezTo>
                    <a:pt x="798" y="878"/>
                    <a:pt x="744" y="842"/>
                    <a:pt x="735" y="836"/>
                  </a:cubicBezTo>
                  <a:cubicBezTo>
                    <a:pt x="709" y="798"/>
                    <a:pt x="672" y="793"/>
                    <a:pt x="633" y="771"/>
                  </a:cubicBezTo>
                  <a:cubicBezTo>
                    <a:pt x="614" y="760"/>
                    <a:pt x="577" y="734"/>
                    <a:pt x="577" y="734"/>
                  </a:cubicBezTo>
                  <a:cubicBezTo>
                    <a:pt x="524" y="748"/>
                    <a:pt x="549" y="732"/>
                    <a:pt x="521" y="781"/>
                  </a:cubicBezTo>
                  <a:cubicBezTo>
                    <a:pt x="516" y="791"/>
                    <a:pt x="492" y="809"/>
                    <a:pt x="503" y="809"/>
                  </a:cubicBezTo>
                  <a:cubicBezTo>
                    <a:pt x="516" y="809"/>
                    <a:pt x="520" y="789"/>
                    <a:pt x="530" y="781"/>
                  </a:cubicBezTo>
                  <a:cubicBezTo>
                    <a:pt x="548" y="767"/>
                    <a:pt x="565" y="751"/>
                    <a:pt x="586" y="744"/>
                  </a:cubicBezTo>
                  <a:cubicBezTo>
                    <a:pt x="605" y="738"/>
                    <a:pt x="642" y="725"/>
                    <a:pt x="642" y="725"/>
                  </a:cubicBezTo>
                  <a:cubicBezTo>
                    <a:pt x="737" y="738"/>
                    <a:pt x="847" y="763"/>
                    <a:pt x="930" y="706"/>
                  </a:cubicBezTo>
                  <a:cubicBezTo>
                    <a:pt x="933" y="694"/>
                    <a:pt x="935" y="681"/>
                    <a:pt x="939" y="669"/>
                  </a:cubicBezTo>
                  <a:cubicBezTo>
                    <a:pt x="945" y="650"/>
                    <a:pt x="958" y="613"/>
                    <a:pt x="958" y="613"/>
                  </a:cubicBezTo>
                  <a:cubicBezTo>
                    <a:pt x="953" y="585"/>
                    <a:pt x="942" y="558"/>
                    <a:pt x="939" y="530"/>
                  </a:cubicBezTo>
                  <a:cubicBezTo>
                    <a:pt x="934" y="487"/>
                    <a:pt x="940" y="442"/>
                    <a:pt x="930" y="400"/>
                  </a:cubicBezTo>
                  <a:cubicBezTo>
                    <a:pt x="925" y="378"/>
                    <a:pt x="893" y="344"/>
                    <a:pt x="893" y="344"/>
                  </a:cubicBezTo>
                  <a:cubicBezTo>
                    <a:pt x="890" y="332"/>
                    <a:pt x="888" y="319"/>
                    <a:pt x="883" y="307"/>
                  </a:cubicBezTo>
                  <a:cubicBezTo>
                    <a:pt x="879" y="297"/>
                    <a:pt x="868" y="290"/>
                    <a:pt x="865" y="279"/>
                  </a:cubicBezTo>
                  <a:cubicBezTo>
                    <a:pt x="849" y="230"/>
                    <a:pt x="837" y="130"/>
                    <a:pt x="781" y="102"/>
                  </a:cubicBezTo>
                  <a:cubicBezTo>
                    <a:pt x="758" y="91"/>
                    <a:pt x="731" y="92"/>
                    <a:pt x="707" y="84"/>
                  </a:cubicBezTo>
                  <a:cubicBezTo>
                    <a:pt x="670" y="60"/>
                    <a:pt x="635" y="37"/>
                    <a:pt x="595" y="19"/>
                  </a:cubicBezTo>
                  <a:cubicBezTo>
                    <a:pt x="577" y="11"/>
                    <a:pt x="540" y="0"/>
                    <a:pt x="540" y="0"/>
                  </a:cubicBezTo>
                  <a:cubicBezTo>
                    <a:pt x="512" y="3"/>
                    <a:pt x="484" y="5"/>
                    <a:pt x="456" y="10"/>
                  </a:cubicBezTo>
                  <a:cubicBezTo>
                    <a:pt x="416" y="17"/>
                    <a:pt x="339" y="65"/>
                    <a:pt x="298" y="84"/>
                  </a:cubicBezTo>
                </a:path>
              </a:pathLst>
            </a:custGeom>
            <a:solidFill>
              <a:srgbClr val="cc0099"/>
            </a:solidFill>
            <a:ln w="9360">
              <a:solidFill>
                <a:srgbClr val="cc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1593720" y="3047760"/>
              <a:ext cx="3046320" cy="1089000"/>
            </a:xfrm>
            <a:custGeom>
              <a:avLst/>
              <a:gdLst/>
              <a:ahLst/>
              <a:rect l="l" t="t" r="r" b="b"/>
              <a:pathLst>
                <a:path w="2106" h="1642">
                  <a:moveTo>
                    <a:pt x="675" y="81"/>
                  </a:moveTo>
                  <a:cubicBezTo>
                    <a:pt x="668" y="168"/>
                    <a:pt x="671" y="237"/>
                    <a:pt x="594" y="288"/>
                  </a:cubicBezTo>
                  <a:cubicBezTo>
                    <a:pt x="564" y="377"/>
                    <a:pt x="614" y="241"/>
                    <a:pt x="558" y="342"/>
                  </a:cubicBezTo>
                  <a:cubicBezTo>
                    <a:pt x="549" y="359"/>
                    <a:pt x="551" y="380"/>
                    <a:pt x="540" y="396"/>
                  </a:cubicBezTo>
                  <a:cubicBezTo>
                    <a:pt x="515" y="433"/>
                    <a:pt x="496" y="480"/>
                    <a:pt x="459" y="504"/>
                  </a:cubicBezTo>
                  <a:cubicBezTo>
                    <a:pt x="431" y="587"/>
                    <a:pt x="479" y="460"/>
                    <a:pt x="414" y="558"/>
                  </a:cubicBezTo>
                  <a:cubicBezTo>
                    <a:pt x="403" y="574"/>
                    <a:pt x="402" y="594"/>
                    <a:pt x="396" y="612"/>
                  </a:cubicBezTo>
                  <a:cubicBezTo>
                    <a:pt x="392" y="624"/>
                    <a:pt x="377" y="629"/>
                    <a:pt x="369" y="639"/>
                  </a:cubicBezTo>
                  <a:cubicBezTo>
                    <a:pt x="344" y="669"/>
                    <a:pt x="330" y="706"/>
                    <a:pt x="306" y="738"/>
                  </a:cubicBezTo>
                  <a:cubicBezTo>
                    <a:pt x="290" y="785"/>
                    <a:pt x="255" y="848"/>
                    <a:pt x="207" y="864"/>
                  </a:cubicBezTo>
                  <a:cubicBezTo>
                    <a:pt x="198" y="876"/>
                    <a:pt x="187" y="887"/>
                    <a:pt x="180" y="900"/>
                  </a:cubicBezTo>
                  <a:cubicBezTo>
                    <a:pt x="172" y="917"/>
                    <a:pt x="162" y="954"/>
                    <a:pt x="162" y="954"/>
                  </a:cubicBezTo>
                  <a:cubicBezTo>
                    <a:pt x="159" y="996"/>
                    <a:pt x="170" y="1041"/>
                    <a:pt x="153" y="1080"/>
                  </a:cubicBezTo>
                  <a:cubicBezTo>
                    <a:pt x="149" y="1090"/>
                    <a:pt x="66" y="1105"/>
                    <a:pt x="54" y="1107"/>
                  </a:cubicBezTo>
                  <a:cubicBezTo>
                    <a:pt x="27" y="1134"/>
                    <a:pt x="12" y="1152"/>
                    <a:pt x="0" y="1188"/>
                  </a:cubicBezTo>
                  <a:cubicBezTo>
                    <a:pt x="10" y="1331"/>
                    <a:pt x="1" y="1305"/>
                    <a:pt x="72" y="1404"/>
                  </a:cubicBezTo>
                  <a:cubicBezTo>
                    <a:pt x="78" y="1413"/>
                    <a:pt x="80" y="1427"/>
                    <a:pt x="90" y="1431"/>
                  </a:cubicBezTo>
                  <a:cubicBezTo>
                    <a:pt x="138" y="1450"/>
                    <a:pt x="192" y="1443"/>
                    <a:pt x="243" y="1449"/>
                  </a:cubicBezTo>
                  <a:cubicBezTo>
                    <a:pt x="565" y="1437"/>
                    <a:pt x="420" y="1481"/>
                    <a:pt x="549" y="1395"/>
                  </a:cubicBezTo>
                  <a:cubicBezTo>
                    <a:pt x="559" y="1343"/>
                    <a:pt x="564" y="1339"/>
                    <a:pt x="612" y="1323"/>
                  </a:cubicBezTo>
                  <a:cubicBezTo>
                    <a:pt x="618" y="1258"/>
                    <a:pt x="610" y="1198"/>
                    <a:pt x="666" y="1161"/>
                  </a:cubicBezTo>
                  <a:cubicBezTo>
                    <a:pt x="683" y="1109"/>
                    <a:pt x="662" y="1156"/>
                    <a:pt x="711" y="1107"/>
                  </a:cubicBezTo>
                  <a:cubicBezTo>
                    <a:pt x="752" y="1066"/>
                    <a:pt x="705" y="1093"/>
                    <a:pt x="747" y="1044"/>
                  </a:cubicBezTo>
                  <a:cubicBezTo>
                    <a:pt x="762" y="1026"/>
                    <a:pt x="805" y="989"/>
                    <a:pt x="828" y="981"/>
                  </a:cubicBezTo>
                  <a:cubicBezTo>
                    <a:pt x="844" y="934"/>
                    <a:pt x="827" y="972"/>
                    <a:pt x="864" y="927"/>
                  </a:cubicBezTo>
                  <a:cubicBezTo>
                    <a:pt x="886" y="900"/>
                    <a:pt x="881" y="895"/>
                    <a:pt x="900" y="864"/>
                  </a:cubicBezTo>
                  <a:cubicBezTo>
                    <a:pt x="923" y="825"/>
                    <a:pt x="949" y="798"/>
                    <a:pt x="963" y="756"/>
                  </a:cubicBezTo>
                  <a:cubicBezTo>
                    <a:pt x="966" y="702"/>
                    <a:pt x="960" y="647"/>
                    <a:pt x="972" y="594"/>
                  </a:cubicBezTo>
                  <a:cubicBezTo>
                    <a:pt x="974" y="585"/>
                    <a:pt x="992" y="596"/>
                    <a:pt x="999" y="603"/>
                  </a:cubicBezTo>
                  <a:cubicBezTo>
                    <a:pt x="1008" y="612"/>
                    <a:pt x="1010" y="627"/>
                    <a:pt x="1017" y="639"/>
                  </a:cubicBezTo>
                  <a:cubicBezTo>
                    <a:pt x="1025" y="654"/>
                    <a:pt x="1034" y="670"/>
                    <a:pt x="1044" y="684"/>
                  </a:cubicBezTo>
                  <a:cubicBezTo>
                    <a:pt x="1064" y="712"/>
                    <a:pt x="1107" y="765"/>
                    <a:pt x="1107" y="765"/>
                  </a:cubicBezTo>
                  <a:cubicBezTo>
                    <a:pt x="1140" y="863"/>
                    <a:pt x="1087" y="714"/>
                    <a:pt x="1134" y="819"/>
                  </a:cubicBezTo>
                  <a:cubicBezTo>
                    <a:pt x="1152" y="860"/>
                    <a:pt x="1161" y="904"/>
                    <a:pt x="1179" y="945"/>
                  </a:cubicBezTo>
                  <a:cubicBezTo>
                    <a:pt x="1193" y="978"/>
                    <a:pt x="1188" y="985"/>
                    <a:pt x="1197" y="1026"/>
                  </a:cubicBezTo>
                  <a:cubicBezTo>
                    <a:pt x="1201" y="1045"/>
                    <a:pt x="1219" y="1084"/>
                    <a:pt x="1224" y="1098"/>
                  </a:cubicBezTo>
                  <a:cubicBezTo>
                    <a:pt x="1242" y="1151"/>
                    <a:pt x="1255" y="1206"/>
                    <a:pt x="1269" y="1260"/>
                  </a:cubicBezTo>
                  <a:cubicBezTo>
                    <a:pt x="1275" y="1283"/>
                    <a:pt x="1272" y="1309"/>
                    <a:pt x="1278" y="1332"/>
                  </a:cubicBezTo>
                  <a:cubicBezTo>
                    <a:pt x="1301" y="1418"/>
                    <a:pt x="1427" y="1461"/>
                    <a:pt x="1503" y="1476"/>
                  </a:cubicBezTo>
                  <a:cubicBezTo>
                    <a:pt x="1588" y="1533"/>
                    <a:pt x="1675" y="1537"/>
                    <a:pt x="1773" y="1557"/>
                  </a:cubicBezTo>
                  <a:cubicBezTo>
                    <a:pt x="1813" y="1577"/>
                    <a:pt x="1916" y="1642"/>
                    <a:pt x="1953" y="1566"/>
                  </a:cubicBezTo>
                  <a:cubicBezTo>
                    <a:pt x="1991" y="1488"/>
                    <a:pt x="1958" y="1392"/>
                    <a:pt x="1962" y="1305"/>
                  </a:cubicBezTo>
                  <a:cubicBezTo>
                    <a:pt x="1964" y="1269"/>
                    <a:pt x="1967" y="1233"/>
                    <a:pt x="1971" y="1197"/>
                  </a:cubicBezTo>
                  <a:cubicBezTo>
                    <a:pt x="1974" y="1174"/>
                    <a:pt x="1977" y="1141"/>
                    <a:pt x="1998" y="1125"/>
                  </a:cubicBezTo>
                  <a:cubicBezTo>
                    <a:pt x="2027" y="1102"/>
                    <a:pt x="2074" y="1092"/>
                    <a:pt x="2106" y="1071"/>
                  </a:cubicBezTo>
                  <a:cubicBezTo>
                    <a:pt x="2022" y="1043"/>
                    <a:pt x="2020" y="1035"/>
                    <a:pt x="1917" y="1026"/>
                  </a:cubicBezTo>
                  <a:cubicBezTo>
                    <a:pt x="1877" y="1013"/>
                    <a:pt x="1847" y="994"/>
                    <a:pt x="1809" y="981"/>
                  </a:cubicBezTo>
                  <a:cubicBezTo>
                    <a:pt x="1790" y="952"/>
                    <a:pt x="1780" y="922"/>
                    <a:pt x="1764" y="891"/>
                  </a:cubicBezTo>
                  <a:cubicBezTo>
                    <a:pt x="1751" y="825"/>
                    <a:pt x="1732" y="732"/>
                    <a:pt x="1674" y="693"/>
                  </a:cubicBezTo>
                  <a:cubicBezTo>
                    <a:pt x="1652" y="660"/>
                    <a:pt x="1639" y="631"/>
                    <a:pt x="1611" y="603"/>
                  </a:cubicBezTo>
                  <a:cubicBezTo>
                    <a:pt x="1595" y="554"/>
                    <a:pt x="1555" y="521"/>
                    <a:pt x="1530" y="477"/>
                  </a:cubicBezTo>
                  <a:cubicBezTo>
                    <a:pt x="1514" y="449"/>
                    <a:pt x="1502" y="413"/>
                    <a:pt x="1485" y="387"/>
                  </a:cubicBezTo>
                  <a:cubicBezTo>
                    <a:pt x="1478" y="376"/>
                    <a:pt x="1466" y="370"/>
                    <a:pt x="1458" y="360"/>
                  </a:cubicBezTo>
                  <a:cubicBezTo>
                    <a:pt x="1437" y="335"/>
                    <a:pt x="1414" y="281"/>
                    <a:pt x="1404" y="261"/>
                  </a:cubicBezTo>
                  <a:cubicBezTo>
                    <a:pt x="1391" y="234"/>
                    <a:pt x="1361" y="194"/>
                    <a:pt x="1359" y="162"/>
                  </a:cubicBezTo>
                  <a:cubicBezTo>
                    <a:pt x="1356" y="108"/>
                    <a:pt x="1359" y="54"/>
                    <a:pt x="1359" y="0"/>
                  </a:cubicBezTo>
                </a:path>
              </a:pathLst>
            </a:custGeom>
            <a:solidFill>
              <a:srgbClr val="a50021"/>
            </a:solidFill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 flipH="1" rot="3337200">
              <a:off x="1512000" y="3827880"/>
              <a:ext cx="288720" cy="264960"/>
            </a:xfrm>
            <a:custGeom>
              <a:avLst/>
              <a:gdLst/>
              <a:ahLst/>
              <a:rect l="l" t="t" r="r" b="b"/>
              <a:pathLst>
                <a:path w="409" h="385">
                  <a:moveTo>
                    <a:pt x="22" y="33"/>
                  </a:moveTo>
                  <a:cubicBezTo>
                    <a:pt x="25" y="108"/>
                    <a:pt x="0" y="190"/>
                    <a:pt x="31" y="258"/>
                  </a:cubicBezTo>
                  <a:cubicBezTo>
                    <a:pt x="44" y="285"/>
                    <a:pt x="101" y="271"/>
                    <a:pt x="121" y="249"/>
                  </a:cubicBezTo>
                  <a:cubicBezTo>
                    <a:pt x="146" y="222"/>
                    <a:pt x="139" y="141"/>
                    <a:pt x="139" y="141"/>
                  </a:cubicBezTo>
                  <a:cubicBezTo>
                    <a:pt x="215" y="160"/>
                    <a:pt x="183" y="210"/>
                    <a:pt x="193" y="294"/>
                  </a:cubicBezTo>
                  <a:cubicBezTo>
                    <a:pt x="197" y="330"/>
                    <a:pt x="256" y="384"/>
                    <a:pt x="256" y="384"/>
                  </a:cubicBezTo>
                  <a:cubicBezTo>
                    <a:pt x="295" y="381"/>
                    <a:pt x="335" y="385"/>
                    <a:pt x="373" y="375"/>
                  </a:cubicBezTo>
                  <a:cubicBezTo>
                    <a:pt x="383" y="372"/>
                    <a:pt x="389" y="359"/>
                    <a:pt x="391" y="348"/>
                  </a:cubicBezTo>
                  <a:cubicBezTo>
                    <a:pt x="406" y="263"/>
                    <a:pt x="409" y="154"/>
                    <a:pt x="409" y="69"/>
                  </a:cubicBezTo>
                  <a:lnTo>
                    <a:pt x="394" y="0"/>
                  </a:lnTo>
                  <a:lnTo>
                    <a:pt x="22" y="33"/>
                  </a:lnTo>
                  <a:close/>
                </a:path>
              </a:pathLst>
            </a:custGeom>
            <a:solidFill>
              <a:srgbClr val="ffcccc"/>
            </a:solidFill>
            <a:ln w="9360">
              <a:solidFill>
                <a:srgbClr val="ffcc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8801000">
              <a:off x="4370400" y="3859200"/>
              <a:ext cx="288720" cy="266400"/>
            </a:xfrm>
            <a:custGeom>
              <a:avLst/>
              <a:gdLst/>
              <a:ahLst/>
              <a:rect l="l" t="t" r="r" b="b"/>
              <a:pathLst>
                <a:path w="409" h="385">
                  <a:moveTo>
                    <a:pt x="22" y="33"/>
                  </a:moveTo>
                  <a:cubicBezTo>
                    <a:pt x="25" y="108"/>
                    <a:pt x="0" y="190"/>
                    <a:pt x="31" y="258"/>
                  </a:cubicBezTo>
                  <a:cubicBezTo>
                    <a:pt x="44" y="285"/>
                    <a:pt x="101" y="271"/>
                    <a:pt x="121" y="249"/>
                  </a:cubicBezTo>
                  <a:cubicBezTo>
                    <a:pt x="146" y="222"/>
                    <a:pt x="139" y="141"/>
                    <a:pt x="139" y="141"/>
                  </a:cubicBezTo>
                  <a:cubicBezTo>
                    <a:pt x="215" y="160"/>
                    <a:pt x="183" y="210"/>
                    <a:pt x="193" y="294"/>
                  </a:cubicBezTo>
                  <a:cubicBezTo>
                    <a:pt x="197" y="330"/>
                    <a:pt x="256" y="384"/>
                    <a:pt x="256" y="384"/>
                  </a:cubicBezTo>
                  <a:cubicBezTo>
                    <a:pt x="295" y="381"/>
                    <a:pt x="335" y="385"/>
                    <a:pt x="373" y="375"/>
                  </a:cubicBezTo>
                  <a:cubicBezTo>
                    <a:pt x="383" y="372"/>
                    <a:pt x="389" y="359"/>
                    <a:pt x="391" y="348"/>
                  </a:cubicBezTo>
                  <a:cubicBezTo>
                    <a:pt x="406" y="263"/>
                    <a:pt x="409" y="154"/>
                    <a:pt x="409" y="69"/>
                  </a:cubicBezTo>
                  <a:lnTo>
                    <a:pt x="394" y="0"/>
                  </a:lnTo>
                  <a:lnTo>
                    <a:pt x="22" y="33"/>
                  </a:lnTo>
                  <a:close/>
                </a:path>
              </a:pathLst>
            </a:custGeom>
            <a:solidFill>
              <a:srgbClr val="ffcccc"/>
            </a:solidFill>
            <a:ln w="9360">
              <a:solidFill>
                <a:srgbClr val="ffcc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2495520" y="6381720"/>
              <a:ext cx="555480" cy="191880"/>
            </a:xfrm>
            <a:prstGeom prst="ellipse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3259080" y="6381720"/>
              <a:ext cx="555480" cy="191880"/>
            </a:xfrm>
            <a:prstGeom prst="ellipse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2244600" y="2814480"/>
              <a:ext cx="1790640" cy="3754440"/>
            </a:xfrm>
            <a:custGeom>
              <a:avLst/>
              <a:gdLst/>
              <a:ahLst/>
              <a:rect l="l" t="t" r="r" b="b"/>
              <a:pathLst>
                <a:path w="1238" h="2810">
                  <a:moveTo>
                    <a:pt x="174" y="171"/>
                  </a:moveTo>
                  <a:cubicBezTo>
                    <a:pt x="183" y="207"/>
                    <a:pt x="190" y="230"/>
                    <a:pt x="210" y="261"/>
                  </a:cubicBezTo>
                  <a:cubicBezTo>
                    <a:pt x="219" y="566"/>
                    <a:pt x="307" y="575"/>
                    <a:pt x="93" y="594"/>
                  </a:cubicBezTo>
                  <a:cubicBezTo>
                    <a:pt x="10" y="649"/>
                    <a:pt x="0" y="645"/>
                    <a:pt x="75" y="846"/>
                  </a:cubicBezTo>
                  <a:cubicBezTo>
                    <a:pt x="84" y="871"/>
                    <a:pt x="129" y="852"/>
                    <a:pt x="156" y="855"/>
                  </a:cubicBezTo>
                  <a:cubicBezTo>
                    <a:pt x="168" y="902"/>
                    <a:pt x="195" y="936"/>
                    <a:pt x="210" y="981"/>
                  </a:cubicBezTo>
                  <a:cubicBezTo>
                    <a:pt x="219" y="1534"/>
                    <a:pt x="232" y="2073"/>
                    <a:pt x="237" y="2628"/>
                  </a:cubicBezTo>
                  <a:cubicBezTo>
                    <a:pt x="432" y="2626"/>
                    <a:pt x="1238" y="2810"/>
                    <a:pt x="966" y="2538"/>
                  </a:cubicBezTo>
                  <a:cubicBezTo>
                    <a:pt x="953" y="2498"/>
                    <a:pt x="936" y="2456"/>
                    <a:pt x="912" y="2421"/>
                  </a:cubicBezTo>
                  <a:cubicBezTo>
                    <a:pt x="901" y="2379"/>
                    <a:pt x="886" y="2337"/>
                    <a:pt x="876" y="2295"/>
                  </a:cubicBezTo>
                  <a:cubicBezTo>
                    <a:pt x="869" y="2265"/>
                    <a:pt x="875" y="2230"/>
                    <a:pt x="858" y="2205"/>
                  </a:cubicBezTo>
                  <a:cubicBezTo>
                    <a:pt x="835" y="2170"/>
                    <a:pt x="843" y="2188"/>
                    <a:pt x="831" y="2151"/>
                  </a:cubicBezTo>
                  <a:cubicBezTo>
                    <a:pt x="840" y="979"/>
                    <a:pt x="447" y="926"/>
                    <a:pt x="1083" y="900"/>
                  </a:cubicBezTo>
                  <a:cubicBezTo>
                    <a:pt x="1092" y="891"/>
                    <a:pt x="1099" y="880"/>
                    <a:pt x="1110" y="873"/>
                  </a:cubicBezTo>
                  <a:cubicBezTo>
                    <a:pt x="1151" y="846"/>
                    <a:pt x="1129" y="888"/>
                    <a:pt x="1146" y="837"/>
                  </a:cubicBezTo>
                  <a:cubicBezTo>
                    <a:pt x="1143" y="768"/>
                    <a:pt x="1142" y="699"/>
                    <a:pt x="1137" y="630"/>
                  </a:cubicBezTo>
                  <a:cubicBezTo>
                    <a:pt x="1136" y="615"/>
                    <a:pt x="1137" y="597"/>
                    <a:pt x="1128" y="585"/>
                  </a:cubicBezTo>
                  <a:cubicBezTo>
                    <a:pt x="1104" y="554"/>
                    <a:pt x="1055" y="543"/>
                    <a:pt x="1020" y="531"/>
                  </a:cubicBezTo>
                  <a:cubicBezTo>
                    <a:pt x="1011" y="528"/>
                    <a:pt x="993" y="522"/>
                    <a:pt x="993" y="522"/>
                  </a:cubicBezTo>
                  <a:cubicBezTo>
                    <a:pt x="919" y="547"/>
                    <a:pt x="958" y="543"/>
                    <a:pt x="876" y="531"/>
                  </a:cubicBezTo>
                  <a:cubicBezTo>
                    <a:pt x="873" y="398"/>
                    <a:pt x="965" y="107"/>
                    <a:pt x="804" y="0"/>
                  </a:cubicBezTo>
                  <a:cubicBezTo>
                    <a:pt x="783" y="3"/>
                    <a:pt x="762" y="5"/>
                    <a:pt x="741" y="9"/>
                  </a:cubicBezTo>
                  <a:cubicBezTo>
                    <a:pt x="732" y="11"/>
                    <a:pt x="715" y="9"/>
                    <a:pt x="714" y="18"/>
                  </a:cubicBezTo>
                  <a:cubicBezTo>
                    <a:pt x="711" y="37"/>
                    <a:pt x="732" y="72"/>
                    <a:pt x="732" y="72"/>
                  </a:cubicBezTo>
                  <a:cubicBezTo>
                    <a:pt x="729" y="153"/>
                    <a:pt x="731" y="234"/>
                    <a:pt x="723" y="315"/>
                  </a:cubicBezTo>
                  <a:cubicBezTo>
                    <a:pt x="720" y="349"/>
                    <a:pt x="651" y="387"/>
                    <a:pt x="651" y="387"/>
                  </a:cubicBezTo>
                  <a:cubicBezTo>
                    <a:pt x="408" y="376"/>
                    <a:pt x="488" y="413"/>
                    <a:pt x="381" y="306"/>
                  </a:cubicBezTo>
                  <a:cubicBezTo>
                    <a:pt x="362" y="248"/>
                    <a:pt x="343" y="195"/>
                    <a:pt x="309" y="144"/>
                  </a:cubicBezTo>
                  <a:cubicBezTo>
                    <a:pt x="298" y="101"/>
                    <a:pt x="307" y="86"/>
                    <a:pt x="264" y="72"/>
                  </a:cubicBezTo>
                  <a:cubicBezTo>
                    <a:pt x="138" y="81"/>
                    <a:pt x="112" y="56"/>
                    <a:pt x="165" y="135"/>
                  </a:cubicBezTo>
                  <a:cubicBezTo>
                    <a:pt x="165" y="135"/>
                    <a:pt x="179" y="194"/>
                    <a:pt x="183" y="198"/>
                  </a:cubicBezTo>
                  <a:cubicBezTo>
                    <a:pt x="190" y="205"/>
                    <a:pt x="213" y="216"/>
                    <a:pt x="210" y="207"/>
                  </a:cubicBezTo>
                  <a:cubicBezTo>
                    <a:pt x="205" y="191"/>
                    <a:pt x="186" y="183"/>
                    <a:pt x="174" y="171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3047760" y="2382840"/>
              <a:ext cx="100080" cy="233280"/>
            </a:xfrm>
            <a:custGeom>
              <a:avLst/>
              <a:gdLst/>
              <a:ahLst/>
              <a:rect l="l" t="t" r="r" b="b"/>
              <a:pathLst>
                <a:path w="63" h="147">
                  <a:moveTo>
                    <a:pt x="18" y="84"/>
                  </a:moveTo>
                  <a:cubicBezTo>
                    <a:pt x="21" y="94"/>
                    <a:pt x="27" y="134"/>
                    <a:pt x="54" y="120"/>
                  </a:cubicBezTo>
                  <a:cubicBezTo>
                    <a:pt x="62" y="116"/>
                    <a:pt x="60" y="102"/>
                    <a:pt x="63" y="93"/>
                  </a:cubicBezTo>
                  <a:cubicBezTo>
                    <a:pt x="50" y="0"/>
                    <a:pt x="63" y="45"/>
                    <a:pt x="0" y="3"/>
                  </a:cubicBezTo>
                  <a:cubicBezTo>
                    <a:pt x="10" y="129"/>
                    <a:pt x="9" y="81"/>
                    <a:pt x="9" y="147"/>
                  </a:cubicBezTo>
                </a:path>
              </a:pathLst>
            </a:custGeom>
            <a:solidFill>
              <a:srgbClr val="00ffff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590560" y="2458800"/>
              <a:ext cx="100080" cy="233640"/>
            </a:xfrm>
            <a:custGeom>
              <a:avLst/>
              <a:gdLst/>
              <a:ahLst/>
              <a:rect l="l" t="t" r="r" b="b"/>
              <a:pathLst>
                <a:path w="63" h="147">
                  <a:moveTo>
                    <a:pt x="18" y="84"/>
                  </a:moveTo>
                  <a:cubicBezTo>
                    <a:pt x="21" y="94"/>
                    <a:pt x="27" y="134"/>
                    <a:pt x="54" y="120"/>
                  </a:cubicBezTo>
                  <a:cubicBezTo>
                    <a:pt x="62" y="116"/>
                    <a:pt x="60" y="102"/>
                    <a:pt x="63" y="93"/>
                  </a:cubicBezTo>
                  <a:cubicBezTo>
                    <a:pt x="50" y="0"/>
                    <a:pt x="63" y="45"/>
                    <a:pt x="0" y="3"/>
                  </a:cubicBezTo>
                  <a:cubicBezTo>
                    <a:pt x="10" y="129"/>
                    <a:pt x="9" y="81"/>
                    <a:pt x="9" y="147"/>
                  </a:cubicBezTo>
                </a:path>
              </a:pathLst>
            </a:custGeom>
            <a:solidFill>
              <a:srgbClr val="00ffff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2819160" y="2611440"/>
              <a:ext cx="152640" cy="22860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0312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4" name=""/>
          <p:cNvGrpSpPr/>
          <p:nvPr/>
        </p:nvGrpSpPr>
        <p:grpSpPr>
          <a:xfrm>
            <a:off x="5689440" y="4724280"/>
            <a:ext cx="2024280" cy="1814400"/>
            <a:chOff x="5689440" y="4724280"/>
            <a:chExt cx="2024280" cy="1814400"/>
          </a:xfrm>
        </p:grpSpPr>
        <p:sp>
          <p:nvSpPr>
            <p:cNvPr id="475" name=""/>
            <p:cNvSpPr/>
            <p:nvPr/>
          </p:nvSpPr>
          <p:spPr>
            <a:xfrm>
              <a:off x="5816520" y="4824360"/>
              <a:ext cx="1897200" cy="1174320"/>
            </a:xfrm>
            <a:custGeom>
              <a:avLst/>
              <a:gdLst/>
              <a:ahLst/>
              <a:rect l="l" t="t" r="r" b="b"/>
              <a:pathLst>
                <a:path w="1195" h="1019">
                  <a:moveTo>
                    <a:pt x="27" y="119"/>
                  </a:moveTo>
                  <a:cubicBezTo>
                    <a:pt x="36" y="92"/>
                    <a:pt x="45" y="65"/>
                    <a:pt x="54" y="38"/>
                  </a:cubicBezTo>
                  <a:cubicBezTo>
                    <a:pt x="63" y="10"/>
                    <a:pt x="135" y="2"/>
                    <a:pt x="135" y="2"/>
                  </a:cubicBezTo>
                  <a:cubicBezTo>
                    <a:pt x="361" y="13"/>
                    <a:pt x="265" y="0"/>
                    <a:pt x="378" y="38"/>
                  </a:cubicBezTo>
                  <a:cubicBezTo>
                    <a:pt x="391" y="77"/>
                    <a:pt x="404" y="115"/>
                    <a:pt x="414" y="155"/>
                  </a:cubicBezTo>
                  <a:cubicBezTo>
                    <a:pt x="424" y="350"/>
                    <a:pt x="385" y="338"/>
                    <a:pt x="549" y="353"/>
                  </a:cubicBezTo>
                  <a:cubicBezTo>
                    <a:pt x="564" y="356"/>
                    <a:pt x="579" y="362"/>
                    <a:pt x="594" y="362"/>
                  </a:cubicBezTo>
                  <a:cubicBezTo>
                    <a:pt x="723" y="362"/>
                    <a:pt x="852" y="361"/>
                    <a:pt x="981" y="353"/>
                  </a:cubicBezTo>
                  <a:cubicBezTo>
                    <a:pt x="1015" y="351"/>
                    <a:pt x="1080" y="236"/>
                    <a:pt x="1107" y="209"/>
                  </a:cubicBezTo>
                  <a:cubicBezTo>
                    <a:pt x="1113" y="191"/>
                    <a:pt x="1119" y="173"/>
                    <a:pt x="1125" y="155"/>
                  </a:cubicBezTo>
                  <a:cubicBezTo>
                    <a:pt x="1128" y="146"/>
                    <a:pt x="1118" y="173"/>
                    <a:pt x="1116" y="182"/>
                  </a:cubicBezTo>
                  <a:cubicBezTo>
                    <a:pt x="1113" y="194"/>
                    <a:pt x="1110" y="206"/>
                    <a:pt x="1107" y="218"/>
                  </a:cubicBezTo>
                  <a:cubicBezTo>
                    <a:pt x="1104" y="399"/>
                    <a:pt x="1195" y="657"/>
                    <a:pt x="1044" y="758"/>
                  </a:cubicBezTo>
                  <a:cubicBezTo>
                    <a:pt x="1023" y="841"/>
                    <a:pt x="1053" y="755"/>
                    <a:pt x="1008" y="812"/>
                  </a:cubicBezTo>
                  <a:cubicBezTo>
                    <a:pt x="1002" y="819"/>
                    <a:pt x="1004" y="831"/>
                    <a:pt x="999" y="839"/>
                  </a:cubicBezTo>
                  <a:cubicBezTo>
                    <a:pt x="992" y="850"/>
                    <a:pt x="980" y="856"/>
                    <a:pt x="972" y="866"/>
                  </a:cubicBezTo>
                  <a:cubicBezTo>
                    <a:pt x="959" y="883"/>
                    <a:pt x="953" y="907"/>
                    <a:pt x="936" y="920"/>
                  </a:cubicBezTo>
                  <a:cubicBezTo>
                    <a:pt x="873" y="967"/>
                    <a:pt x="821" y="994"/>
                    <a:pt x="747" y="1019"/>
                  </a:cubicBezTo>
                  <a:cubicBezTo>
                    <a:pt x="627" y="1016"/>
                    <a:pt x="507" y="1015"/>
                    <a:pt x="387" y="1010"/>
                  </a:cubicBezTo>
                  <a:cubicBezTo>
                    <a:pt x="342" y="1008"/>
                    <a:pt x="357" y="999"/>
                    <a:pt x="324" y="974"/>
                  </a:cubicBezTo>
                  <a:cubicBezTo>
                    <a:pt x="307" y="961"/>
                    <a:pt x="270" y="938"/>
                    <a:pt x="270" y="938"/>
                  </a:cubicBezTo>
                  <a:cubicBezTo>
                    <a:pt x="258" y="920"/>
                    <a:pt x="246" y="902"/>
                    <a:pt x="234" y="884"/>
                  </a:cubicBezTo>
                  <a:cubicBezTo>
                    <a:pt x="229" y="876"/>
                    <a:pt x="231" y="864"/>
                    <a:pt x="225" y="857"/>
                  </a:cubicBezTo>
                  <a:cubicBezTo>
                    <a:pt x="218" y="849"/>
                    <a:pt x="207" y="845"/>
                    <a:pt x="198" y="839"/>
                  </a:cubicBezTo>
                  <a:cubicBezTo>
                    <a:pt x="195" y="830"/>
                    <a:pt x="193" y="820"/>
                    <a:pt x="189" y="812"/>
                  </a:cubicBezTo>
                  <a:cubicBezTo>
                    <a:pt x="184" y="802"/>
                    <a:pt x="175" y="795"/>
                    <a:pt x="171" y="785"/>
                  </a:cubicBezTo>
                  <a:cubicBezTo>
                    <a:pt x="163" y="768"/>
                    <a:pt x="153" y="731"/>
                    <a:pt x="153" y="731"/>
                  </a:cubicBezTo>
                  <a:cubicBezTo>
                    <a:pt x="157" y="632"/>
                    <a:pt x="141" y="452"/>
                    <a:pt x="207" y="353"/>
                  </a:cubicBezTo>
                  <a:cubicBezTo>
                    <a:pt x="199" y="296"/>
                    <a:pt x="202" y="250"/>
                    <a:pt x="153" y="218"/>
                  </a:cubicBezTo>
                  <a:cubicBezTo>
                    <a:pt x="111" y="221"/>
                    <a:pt x="67" y="214"/>
                    <a:pt x="27" y="227"/>
                  </a:cubicBezTo>
                  <a:cubicBezTo>
                    <a:pt x="15" y="231"/>
                    <a:pt x="30" y="263"/>
                    <a:pt x="18" y="263"/>
                  </a:cubicBezTo>
                  <a:cubicBezTo>
                    <a:pt x="5" y="263"/>
                    <a:pt x="6" y="239"/>
                    <a:pt x="0" y="227"/>
                  </a:cubicBezTo>
                  <a:cubicBezTo>
                    <a:pt x="3" y="203"/>
                    <a:pt x="0" y="177"/>
                    <a:pt x="9" y="155"/>
                  </a:cubicBezTo>
                  <a:cubicBezTo>
                    <a:pt x="13" y="145"/>
                    <a:pt x="32" y="147"/>
                    <a:pt x="36" y="137"/>
                  </a:cubicBezTo>
                  <a:cubicBezTo>
                    <a:pt x="40" y="128"/>
                    <a:pt x="31" y="118"/>
                    <a:pt x="27" y="110"/>
                  </a:cubicBezTo>
                  <a:cubicBezTo>
                    <a:pt x="26" y="107"/>
                    <a:pt x="27" y="116"/>
                    <a:pt x="27" y="119"/>
                  </a:cubicBez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6" name=""/>
            <p:cNvGrpSpPr/>
            <p:nvPr/>
          </p:nvGrpSpPr>
          <p:grpSpPr>
            <a:xfrm>
              <a:off x="5968800" y="4879440"/>
              <a:ext cx="304920" cy="110520"/>
              <a:chOff x="5968800" y="4879440"/>
              <a:chExt cx="304920" cy="110520"/>
            </a:xfrm>
          </p:grpSpPr>
          <p:sp>
            <p:nvSpPr>
              <p:cNvPr id="477" name=""/>
              <p:cNvSpPr/>
              <p:nvPr/>
            </p:nvSpPr>
            <p:spPr>
              <a:xfrm>
                <a:off x="5968800" y="4879440"/>
                <a:ext cx="304920" cy="110520"/>
              </a:xfrm>
              <a:prstGeom prst="ellipse">
                <a:avLst/>
              </a:prstGeom>
              <a:solidFill>
                <a:srgbClr val="00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1320" bIns="31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6029640" y="4879440"/>
                <a:ext cx="182880" cy="1105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1320" bIns="31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6090480" y="4916160"/>
                <a:ext cx="60840" cy="367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0" name=""/>
            <p:cNvSpPr/>
            <p:nvPr/>
          </p:nvSpPr>
          <p:spPr>
            <a:xfrm rot="12848400">
              <a:off x="5714640" y="4991040"/>
              <a:ext cx="334800" cy="193320"/>
            </a:xfrm>
            <a:prstGeom prst="triangle">
              <a:avLst>
                <a:gd name="adj" fmla="val 50000"/>
              </a:avLst>
            </a:prstGeom>
            <a:solidFill>
              <a:srgbClr val="f0312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5959440" y="4724280"/>
              <a:ext cx="414360" cy="134640"/>
            </a:xfrm>
            <a:custGeom>
              <a:avLst/>
              <a:gdLst/>
              <a:ahLst/>
              <a:rect l="l" t="t" r="r" b="b"/>
              <a:pathLst>
                <a:path w="261" h="117">
                  <a:moveTo>
                    <a:pt x="0" y="90"/>
                  </a:moveTo>
                  <a:cubicBezTo>
                    <a:pt x="3" y="69"/>
                    <a:pt x="0" y="46"/>
                    <a:pt x="9" y="27"/>
                  </a:cubicBezTo>
                  <a:cubicBezTo>
                    <a:pt x="13" y="17"/>
                    <a:pt x="26" y="6"/>
                    <a:pt x="36" y="9"/>
                  </a:cubicBezTo>
                  <a:cubicBezTo>
                    <a:pt x="45" y="11"/>
                    <a:pt x="38" y="30"/>
                    <a:pt x="45" y="36"/>
                  </a:cubicBezTo>
                  <a:cubicBezTo>
                    <a:pt x="55" y="44"/>
                    <a:pt x="69" y="42"/>
                    <a:pt x="81" y="45"/>
                  </a:cubicBezTo>
                  <a:cubicBezTo>
                    <a:pt x="176" y="21"/>
                    <a:pt x="64" y="54"/>
                    <a:pt x="144" y="18"/>
                  </a:cubicBezTo>
                  <a:cubicBezTo>
                    <a:pt x="161" y="10"/>
                    <a:pt x="198" y="0"/>
                    <a:pt x="198" y="0"/>
                  </a:cubicBezTo>
                  <a:cubicBezTo>
                    <a:pt x="213" y="3"/>
                    <a:pt x="230" y="1"/>
                    <a:pt x="243" y="9"/>
                  </a:cubicBezTo>
                  <a:cubicBezTo>
                    <a:pt x="261" y="21"/>
                    <a:pt x="248" y="75"/>
                    <a:pt x="243" y="81"/>
                  </a:cubicBezTo>
                  <a:cubicBezTo>
                    <a:pt x="230" y="98"/>
                    <a:pt x="189" y="117"/>
                    <a:pt x="189" y="117"/>
                  </a:cubicBezTo>
                  <a:cubicBezTo>
                    <a:pt x="117" y="99"/>
                    <a:pt x="89" y="96"/>
                    <a:pt x="0" y="90"/>
                  </a:cubicBezTo>
                  <a:close/>
                </a:path>
              </a:pathLst>
            </a:custGeom>
            <a:solidFill>
              <a:srgbClr val="f0312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6426000" y="5819760"/>
              <a:ext cx="0" cy="552960"/>
            </a:xfrm>
            <a:prstGeom prst="line">
              <a:avLst/>
            </a:prstGeom>
            <a:ln w="763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7111800" y="5764680"/>
              <a:ext cx="0" cy="552600"/>
            </a:xfrm>
            <a:prstGeom prst="line">
              <a:avLst/>
            </a:prstGeom>
            <a:ln w="763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 flipH="1">
              <a:off x="6121440" y="6317640"/>
              <a:ext cx="304560" cy="221040"/>
            </a:xfrm>
            <a:prstGeom prst="line">
              <a:avLst/>
            </a:prstGeom>
            <a:ln w="763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6426000" y="6317640"/>
              <a:ext cx="304920" cy="165600"/>
            </a:xfrm>
            <a:prstGeom prst="line">
              <a:avLst/>
            </a:prstGeom>
            <a:ln w="763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6426000" y="6317640"/>
              <a:ext cx="0" cy="221040"/>
            </a:xfrm>
            <a:prstGeom prst="line">
              <a:avLst/>
            </a:prstGeom>
            <a:ln w="763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6807240" y="6317640"/>
              <a:ext cx="304560" cy="221040"/>
            </a:xfrm>
            <a:prstGeom prst="line">
              <a:avLst/>
            </a:prstGeom>
            <a:ln w="763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111800" y="6317640"/>
              <a:ext cx="304920" cy="165600"/>
            </a:xfrm>
            <a:prstGeom prst="line">
              <a:avLst/>
            </a:prstGeom>
            <a:ln w="763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7111800" y="6317640"/>
              <a:ext cx="0" cy="221040"/>
            </a:xfrm>
            <a:prstGeom prst="line">
              <a:avLst/>
            </a:prstGeom>
            <a:ln w="763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6345000" y="5429160"/>
              <a:ext cx="1143000" cy="314280"/>
            </a:xfrm>
            <a:custGeom>
              <a:avLst/>
              <a:gdLst/>
              <a:ahLst/>
              <a:rect l="l" t="t" r="r" b="b"/>
              <a:pathLst>
                <a:path w="720" h="273">
                  <a:moveTo>
                    <a:pt x="0" y="0"/>
                  </a:moveTo>
                  <a:cubicBezTo>
                    <a:pt x="20" y="101"/>
                    <a:pt x="64" y="106"/>
                    <a:pt x="135" y="153"/>
                  </a:cubicBezTo>
                  <a:cubicBezTo>
                    <a:pt x="141" y="171"/>
                    <a:pt x="137" y="196"/>
                    <a:pt x="153" y="207"/>
                  </a:cubicBezTo>
                  <a:cubicBezTo>
                    <a:pt x="221" y="253"/>
                    <a:pt x="298" y="258"/>
                    <a:pt x="378" y="270"/>
                  </a:cubicBezTo>
                  <a:cubicBezTo>
                    <a:pt x="489" y="267"/>
                    <a:pt x="601" y="273"/>
                    <a:pt x="711" y="261"/>
                  </a:cubicBezTo>
                  <a:cubicBezTo>
                    <a:pt x="720" y="260"/>
                    <a:pt x="707" y="242"/>
                    <a:pt x="702" y="234"/>
                  </a:cubicBezTo>
                  <a:cubicBezTo>
                    <a:pt x="691" y="215"/>
                    <a:pt x="678" y="198"/>
                    <a:pt x="666" y="180"/>
                  </a:cubicBezTo>
                  <a:cubicBezTo>
                    <a:pt x="622" y="115"/>
                    <a:pt x="549" y="90"/>
                    <a:pt x="495" y="3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1" name=""/>
          <p:cNvSpPr txBox="1"/>
          <p:nvPr/>
        </p:nvSpPr>
        <p:spPr>
          <a:xfrm>
            <a:off x="304920" y="990720"/>
            <a:ext cx="8839080" cy="411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Стали они плакать:</a:t>
            </a:r>
            <a:endParaRPr b="1" i="1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Дед плачет...</a:t>
            </a:r>
            <a:endParaRPr b="1" i="1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Баба плачет...</a:t>
            </a:r>
            <a:endParaRPr b="1" i="1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А курочка Ряба их успокаевает:</a:t>
            </a:r>
            <a:endParaRPr b="1" i="1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Не плачте,</a:t>
            </a:r>
            <a:endParaRPr b="1" i="1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Я снесу ещё яичко.</a:t>
            </a:r>
            <a:endParaRPr b="1" i="1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Но не золотое, </a:t>
            </a:r>
            <a:endParaRPr b="1" i="1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А простое.</a:t>
            </a:r>
            <a:endParaRPr b="1" i="1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385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1" dur="385" fill="hold"/>
                                        <p:tgtEl>
                                          <p:spTgt spid="49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3" dur="385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5" dur="385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76320" y="76320"/>
            <a:ext cx="4343400" cy="38098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 rot="20461800">
            <a:off x="2781000" y="838080"/>
            <a:ext cx="685800" cy="2362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5727" y="1768"/>
                  <a:pt x="9854" y="5080"/>
                  <a:pt x="9854" y="10800"/>
                </a:cubicBezTo>
                <a:cubicBezTo>
                  <a:pt x="9854" y="16520"/>
                  <a:pt x="15727" y="1983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419040" y="76320"/>
            <a:ext cx="381240" cy="533160"/>
          </a:xfrm>
          <a:custGeom>
            <a:avLst/>
            <a:gdLst>
              <a:gd name="textAreaLeft" fmla="*/ 156960 w 381240"/>
              <a:gd name="textAreaRight" fmla="*/ 224280 w 381240"/>
              <a:gd name="textAreaTop" fmla="*/ 219600 h 533160"/>
              <a:gd name="textAreaBottom" fmla="*/ 31356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247840" y="228600"/>
            <a:ext cx="381240" cy="533520"/>
          </a:xfrm>
          <a:custGeom>
            <a:avLst/>
            <a:gdLst>
              <a:gd name="textAreaLeft" fmla="*/ 156960 w 381240"/>
              <a:gd name="textAreaRight" fmla="*/ 224280 w 381240"/>
              <a:gd name="textAreaTop" fmla="*/ 219960 h 533520"/>
              <a:gd name="textAreaBottom" fmla="*/ 3135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1333440" y="1676520"/>
            <a:ext cx="381240" cy="533160"/>
          </a:xfrm>
          <a:custGeom>
            <a:avLst/>
            <a:gdLst>
              <a:gd name="textAreaLeft" fmla="*/ 156960 w 381240"/>
              <a:gd name="textAreaRight" fmla="*/ 224280 w 381240"/>
              <a:gd name="textAreaTop" fmla="*/ 219600 h 533160"/>
              <a:gd name="textAreaBottom" fmla="*/ 31356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723960" y="2743200"/>
            <a:ext cx="380880" cy="533520"/>
          </a:xfrm>
          <a:custGeom>
            <a:avLst/>
            <a:gdLst>
              <a:gd name="textAreaLeft" fmla="*/ 156960 w 380880"/>
              <a:gd name="textAreaRight" fmla="*/ 223920 w 380880"/>
              <a:gd name="textAreaTop" fmla="*/ 219960 h 533520"/>
              <a:gd name="textAreaBottom" fmla="*/ 3135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705040" y="1143000"/>
            <a:ext cx="228600" cy="228600"/>
          </a:xfrm>
          <a:prstGeom prst="ellipse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781360" y="1143000"/>
            <a:ext cx="7632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3092400" y="2327400"/>
            <a:ext cx="187200" cy="158760"/>
          </a:xfrm>
          <a:custGeom>
            <a:avLst/>
            <a:gdLst/>
            <a:ahLst/>
            <a:rect l="l" t="t" r="r" b="b"/>
            <a:pathLst>
              <a:path w="118" h="100">
                <a:moveTo>
                  <a:pt x="118" y="62"/>
                </a:moveTo>
                <a:cubicBezTo>
                  <a:pt x="82" y="55"/>
                  <a:pt x="51" y="46"/>
                  <a:pt x="16" y="34"/>
                </a:cubicBezTo>
                <a:cubicBezTo>
                  <a:pt x="13" y="25"/>
                  <a:pt x="0" y="14"/>
                  <a:pt x="7" y="7"/>
                </a:cubicBezTo>
                <a:cubicBezTo>
                  <a:pt x="14" y="0"/>
                  <a:pt x="29" y="8"/>
                  <a:pt x="35" y="16"/>
                </a:cubicBezTo>
                <a:cubicBezTo>
                  <a:pt x="46" y="32"/>
                  <a:pt x="47" y="53"/>
                  <a:pt x="53" y="72"/>
                </a:cubicBezTo>
                <a:cubicBezTo>
                  <a:pt x="56" y="81"/>
                  <a:pt x="54" y="100"/>
                  <a:pt x="63" y="99"/>
                </a:cubicBezTo>
                <a:cubicBezTo>
                  <a:pt x="85" y="96"/>
                  <a:pt x="100" y="74"/>
                  <a:pt x="118" y="62"/>
                </a:cubicBezTo>
                <a:close/>
              </a:path>
            </a:pathLst>
          </a:custGeom>
          <a:solidFill>
            <a:srgbClr val="ff3399"/>
          </a:solidFill>
          <a:ln w="9360">
            <a:solidFill>
              <a:srgbClr val="ff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4724280" y="76320"/>
            <a:ext cx="4343400" cy="3809880"/>
          </a:xfrm>
          <a:prstGeom prst="rect">
            <a:avLst/>
          </a:prstGeom>
          <a:solidFill>
            <a:srgbClr val="66ff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6705720" y="152280"/>
            <a:ext cx="2361960" cy="221004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7315200" y="685800"/>
            <a:ext cx="1143000" cy="114300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7543800" y="990720"/>
            <a:ext cx="228600" cy="2286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8001000" y="990720"/>
            <a:ext cx="228600" cy="2286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7620120" y="106668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8077320" y="106668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5181480" y="457200"/>
            <a:ext cx="1447920" cy="838080"/>
          </a:xfrm>
          <a:prstGeom prst="cloudCallout">
            <a:avLst>
              <a:gd name="adj1" fmla="val 1097"/>
              <a:gd name="adj2" fmla="val 31250"/>
            </a:avLst>
          </a:prstGeom>
          <a:solidFill>
            <a:srgbClr val="ffffff"/>
          </a:solidFill>
          <a:ln w="93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7315200" y="2514600"/>
            <a:ext cx="1447920" cy="838080"/>
          </a:xfrm>
          <a:prstGeom prst="cloudCallout">
            <a:avLst>
              <a:gd name="adj1" fmla="val 1097"/>
              <a:gd name="adj2" fmla="val 31250"/>
            </a:avLst>
          </a:prstGeom>
          <a:solidFill>
            <a:srgbClr val="ffffff"/>
          </a:solidFill>
          <a:ln w="93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304920" y="3962520"/>
            <a:ext cx="8534160" cy="2895480"/>
          </a:xfrm>
          <a:prstGeom prst="rect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685800" y="4038480"/>
            <a:ext cx="2895480" cy="2743200"/>
          </a:xfrm>
          <a:prstGeom prst="rect">
            <a:avLst/>
          </a:prstGeom>
          <a:solidFill>
            <a:srgbClr val="bd0b1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3048120" y="4038480"/>
            <a:ext cx="533160" cy="2743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 flipV="1">
            <a:off x="3124080" y="4038480"/>
            <a:ext cx="0" cy="274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 flipV="1">
            <a:off x="3200400" y="4038480"/>
            <a:ext cx="0" cy="274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 flipV="1">
            <a:off x="3276720" y="4038480"/>
            <a:ext cx="0" cy="274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 flipV="1">
            <a:off x="3352680" y="4038480"/>
            <a:ext cx="0" cy="274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 flipV="1">
            <a:off x="3429000" y="4038480"/>
            <a:ext cx="0" cy="274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 flipV="1">
            <a:off x="3505320" y="4038480"/>
            <a:ext cx="0" cy="274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 txBox="1"/>
          <p:nvPr/>
        </p:nvSpPr>
        <p:spPr>
          <a:xfrm>
            <a:off x="1162080" y="4594320"/>
            <a:ext cx="1504800" cy="55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казки</a:t>
            </a:r>
            <a:endParaRPr b="1" i="1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20" name=""/>
          <p:cNvSpPr/>
          <p:nvPr/>
        </p:nvSpPr>
        <p:spPr>
          <a:xfrm>
            <a:off x="4343400" y="4343400"/>
            <a:ext cx="4343400" cy="213372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7238880" y="5334120"/>
            <a:ext cx="1219320" cy="685800"/>
          </a:xfrm>
          <a:prstGeom prst="ellipse">
            <a:avLst/>
          </a:prstGeom>
          <a:solidFill>
            <a:srgbClr val="f8f8f8"/>
          </a:solidFill>
          <a:ln w="9360">
            <a:solidFill>
              <a:srgbClr val="dfe2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6400800" y="5791320"/>
            <a:ext cx="838080" cy="6094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5410080" y="5562720"/>
            <a:ext cx="838440" cy="609480"/>
          </a:xfrm>
          <a:prstGeom prst="ellipse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6248520" y="5029200"/>
            <a:ext cx="838080" cy="609480"/>
          </a:xfrm>
          <a:prstGeom prst="ellipse">
            <a:avLst/>
          </a:prstGeom>
          <a:solidFill>
            <a:srgbClr val="fc46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5486400" y="4495680"/>
            <a:ext cx="838080" cy="609840"/>
          </a:xfrm>
          <a:prstGeom prst="ellipse">
            <a:avLst/>
          </a:prstGeom>
          <a:solidFill>
            <a:srgbClr val="f8a6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7086600" y="4572000"/>
            <a:ext cx="838080" cy="60948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4572000" y="5029200"/>
            <a:ext cx="824040" cy="6094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8" name=""/>
          <p:cNvGrpSpPr/>
          <p:nvPr/>
        </p:nvGrpSpPr>
        <p:grpSpPr>
          <a:xfrm>
            <a:off x="380880" y="2554200"/>
            <a:ext cx="8381880" cy="3560040"/>
            <a:chOff x="380880" y="2554200"/>
            <a:chExt cx="8381880" cy="3560040"/>
          </a:xfrm>
        </p:grpSpPr>
        <p:sp>
          <p:nvSpPr>
            <p:cNvPr id="529" name=""/>
            <p:cNvSpPr txBox="1"/>
            <p:nvPr/>
          </p:nvSpPr>
          <p:spPr>
            <a:xfrm>
              <a:off x="380880" y="2554200"/>
              <a:ext cx="8381880" cy="1560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gradFill rotWithShape="0">
                    <a:gsLst>
                      <a:gs pos="0">
                        <a:srgbClr val="9400ed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effectLst>
                    <a:outerShdw dist="153753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Arial"/>
                </a:rPr>
                <a:t>Конец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  <p:grpSp>
          <p:nvGrpSpPr>
            <p:cNvPr id="530" name=""/>
            <p:cNvGrpSpPr/>
            <p:nvPr/>
          </p:nvGrpSpPr>
          <p:grpSpPr>
            <a:xfrm>
              <a:off x="2233440" y="3227760"/>
              <a:ext cx="1557000" cy="2886480"/>
              <a:chOff x="2233440" y="3227760"/>
              <a:chExt cx="1557000" cy="2886480"/>
            </a:xfrm>
          </p:grpSpPr>
          <p:sp>
            <p:nvSpPr>
              <p:cNvPr id="531" name=""/>
              <p:cNvSpPr/>
              <p:nvPr/>
            </p:nvSpPr>
            <p:spPr>
              <a:xfrm rot="20196000">
                <a:off x="2855520" y="3962160"/>
                <a:ext cx="533160" cy="2133720"/>
              </a:xfrm>
              <a:custGeom>
                <a:avLst/>
                <a:gdLst>
                  <a:gd name="textAreaLeft" fmla="*/ 25920 w 533160"/>
                  <a:gd name="textAreaRight" fmla="*/ 507240 w 533160"/>
                  <a:gd name="textAreaTop" fmla="*/ 25920 h 2133720"/>
                  <a:gd name="textAreaBottom" fmla="*/ 2107800 h 2133720"/>
                </a:gdLst>
                <a:ahLst/>
                <a:rect l="textAreaLeft" t="textAreaTop" r="textAreaRight" b="textAreaBottom"/>
                <a:pathLst>
                  <a:path w="21600" h="86400">
                    <a:moveTo>
                      <a:pt x="3600" y="0"/>
                    </a:moveTo>
                    <a:arcTo wR="3600" hR="3600" stAng="16200000" swAng="-5400000"/>
                    <a:lnTo>
                      <a:pt x="0" y="82800"/>
                    </a:lnTo>
                    <a:arcTo wR="3600" hR="3600" stAng="10800000" swAng="-5400000"/>
                    <a:lnTo>
                      <a:pt x="18000" y="864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9360">
                <a:solidFill>
                  <a:srgbClr val="bd0b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 rot="9396000">
                <a:off x="2386440" y="3754440"/>
                <a:ext cx="533160" cy="380880"/>
              </a:xfrm>
              <a:custGeom>
                <a:avLst/>
                <a:gdLst>
                  <a:gd name="textAreaLeft" fmla="*/ 117000 w 533160"/>
                  <a:gd name="textAreaRight" fmla="*/ 416160 w 533160"/>
                  <a:gd name="textAreaTop" fmla="*/ 83520 h 380880"/>
                  <a:gd name="textAreaBottom" fmla="*/ 297360 h 380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blipFill rotWithShape="0">
                <a:blip r:embed="rId6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 rot="20196000">
                <a:off x="2338200" y="3254040"/>
                <a:ext cx="248760" cy="552240"/>
              </a:xfrm>
              <a:custGeom>
                <a:avLst/>
                <a:gdLst/>
                <a:ahLst/>
                <a:rect l="l" t="t" r="r" b="b"/>
                <a:pathLst>
                  <a:path w="157" h="348">
                    <a:moveTo>
                      <a:pt x="2" y="348"/>
                    </a:moveTo>
                    <a:cubicBezTo>
                      <a:pt x="5" y="272"/>
                      <a:pt x="0" y="195"/>
                      <a:pt x="11" y="119"/>
                    </a:cubicBezTo>
                    <a:cubicBezTo>
                      <a:pt x="12" y="110"/>
                      <a:pt x="31" y="116"/>
                      <a:pt x="38" y="110"/>
                    </a:cubicBezTo>
                    <a:cubicBezTo>
                      <a:pt x="57" y="95"/>
                      <a:pt x="70" y="43"/>
                      <a:pt x="75" y="28"/>
                    </a:cubicBezTo>
                    <a:cubicBezTo>
                      <a:pt x="78" y="19"/>
                      <a:pt x="84" y="0"/>
                      <a:pt x="84" y="0"/>
                    </a:cubicBezTo>
                    <a:cubicBezTo>
                      <a:pt x="87" y="25"/>
                      <a:pt x="84" y="51"/>
                      <a:pt x="93" y="74"/>
                    </a:cubicBezTo>
                    <a:cubicBezTo>
                      <a:pt x="100" y="93"/>
                      <a:pt x="146" y="81"/>
                      <a:pt x="148" y="101"/>
                    </a:cubicBezTo>
                    <a:cubicBezTo>
                      <a:pt x="157" y="183"/>
                      <a:pt x="148" y="266"/>
                      <a:pt x="148" y="348"/>
                    </a:cubicBezTo>
                    <a:lnTo>
                      <a:pt x="2" y="348"/>
                    </a:lnTo>
                    <a:close/>
                  </a:path>
                </a:pathLst>
              </a:custGeom>
              <a:solidFill>
                <a:srgbClr val="ff9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 rot="20196000">
                <a:off x="2285640" y="3277800"/>
                <a:ext cx="272880" cy="320760"/>
              </a:xfrm>
              <a:custGeom>
                <a:avLst/>
                <a:gdLst/>
                <a:ahLst/>
                <a:rect l="l" t="t" r="r" b="b"/>
                <a:pathLst>
                  <a:path w="172" h="202">
                    <a:moveTo>
                      <a:pt x="19" y="202"/>
                    </a:moveTo>
                    <a:cubicBezTo>
                      <a:pt x="47" y="193"/>
                      <a:pt x="64" y="179"/>
                      <a:pt x="83" y="156"/>
                    </a:cubicBezTo>
                    <a:cubicBezTo>
                      <a:pt x="90" y="148"/>
                      <a:pt x="91" y="134"/>
                      <a:pt x="101" y="129"/>
                    </a:cubicBezTo>
                    <a:cubicBezTo>
                      <a:pt x="118" y="121"/>
                      <a:pt x="138" y="122"/>
                      <a:pt x="156" y="119"/>
                    </a:cubicBezTo>
                    <a:cubicBezTo>
                      <a:pt x="159" y="110"/>
                      <a:pt x="172" y="99"/>
                      <a:pt x="165" y="92"/>
                    </a:cubicBezTo>
                    <a:cubicBezTo>
                      <a:pt x="151" y="79"/>
                      <a:pt x="110" y="74"/>
                      <a:pt x="110" y="74"/>
                    </a:cubicBezTo>
                    <a:cubicBezTo>
                      <a:pt x="104" y="68"/>
                      <a:pt x="93" y="64"/>
                      <a:pt x="92" y="55"/>
                    </a:cubicBezTo>
                    <a:cubicBezTo>
                      <a:pt x="90" y="40"/>
                      <a:pt x="108" y="24"/>
                      <a:pt x="101" y="10"/>
                    </a:cubicBezTo>
                    <a:cubicBezTo>
                      <a:pt x="96" y="0"/>
                      <a:pt x="90" y="29"/>
                      <a:pt x="83" y="37"/>
                    </a:cubicBezTo>
                    <a:cubicBezTo>
                      <a:pt x="77" y="44"/>
                      <a:pt x="70" y="49"/>
                      <a:pt x="64" y="55"/>
                    </a:cubicBezTo>
                    <a:cubicBezTo>
                      <a:pt x="61" y="64"/>
                      <a:pt x="63" y="77"/>
                      <a:pt x="55" y="83"/>
                    </a:cubicBezTo>
                    <a:cubicBezTo>
                      <a:pt x="39" y="94"/>
                      <a:pt x="0" y="101"/>
                      <a:pt x="0" y="101"/>
                    </a:cubicBezTo>
                    <a:cubicBezTo>
                      <a:pt x="18" y="152"/>
                      <a:pt x="9" y="119"/>
                      <a:pt x="19" y="202"/>
                    </a:cubicBezTo>
                    <a:close/>
                  </a:path>
                </a:pathLst>
              </a:custGeom>
              <a:solidFill>
                <a:srgbClr val="fc4614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Я</cp:lastModifiedBy>
  <dcterms:modified xsi:type="dcterms:W3CDTF">2008-12-23T16:04:36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