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класс физика Тема: Звуковые вол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ввести понятие звуковой волны, источников звука и характеристик звука  2) развитие памяти, логического мышления, внимания, познавательного интереса, навыком с амостоятельного труда  3) воспитание культуры труда,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34D1-BFBB-4C4B-B7F4-965525A1F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класс физика Тема: Звуковые вол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ввести понятие звуковой волны, источников звука и характеристик звука  2) развитие памяти, логического мышления, внимания, познавательного интереса, навыком с амостоятельного труда  3) воспитание культуры труда, дисципли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F82-6E39-410F-A9B4-4D899B5BD4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36C-C251-492E-B687-4B4BED21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EFA-F292-4A67-B356-23DE231B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9E6-F14E-43F2-AB63-312C22E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EB3-ECFC-45D5-B3C6-3D6BD1F2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1ABB-5906-4B2E-9BE1-B5DE771B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BF8-B0FF-4467-9925-1322A20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C6C-F8B6-4A75-96BE-2426CA67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A8B9-150A-4B29-8A3B-2BD39158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B699-7657-412D-9F1C-F2C3A63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47B-B56C-4EDB-845A-DD84FB1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288D-A48C-4E5F-9090-3E33378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D5E-2DB6-48F0-8447-EC10663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95E-0B43-4EAC-9429-5F45E236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068E-2E32-4C7A-961C-B48E8EE5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EBF-BBF6-4E3B-A8C1-0E1CC1A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F1A-8D32-4940-A2A7-13784DF9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E11E-3E7A-4B48-B234-0854680B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18C-6821-474E-B2E7-08A7187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D54-3105-4FC1-8E78-6896C7F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F6E-7E7A-4DD6-AE7C-5BB5E6BC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8AB-8F85-4785-BE50-B6750DAD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340-8C51-4560-A650-1424961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6BC-48F0-4E51-B6A4-D456724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E1D-5469-4CA2-9E1F-37D286D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F15-4BE5-454F-B9A3-8C8619B6A3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CD78-5283-4450-A6F8-9BB920117E9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СТНАЯ РАБОТ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Что называется волно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иды волн вы знает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олны называются упругим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олны называются поперечным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кие волны называются продольным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93639E-006 L -0.00364 -0.67059 E">
                                      <p:cBhvr>
                                        <p:cTn id="2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51793E-007 L -0.00365 -0.74162 E">
                                      <p:cBhvr>
                                        <p:cTn id="32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6003E-006 L -0.00364 -1.13463 E">
                                      <p:cBhvr>
                                        <p:cTn id="4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клад «Резонанс»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Женские голоса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иапазон длин волн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ЛЬТО: 40-20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ЦЦО-СОПРАНО: 38-17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лина голосовых связо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жчины:  18-22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с - 25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ритон -  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ор -18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нщины:  15-20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ИТАТЬ: СТР. 115-12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СТНО: СТР.120, Упр.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кла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Ультразвук в природ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нфразвук в природ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спользование ультразву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спользование инфразву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Звуковой резонанс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5954760" y="251928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91720" cy="170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амостоятельная работа 13.01.17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 теме «Длина волны. Скорость распространения волны»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 каких средах распространяются продольные и поперечные волны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лны на поверхности воды – продольные или поперечны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клад «Сейсмические волны»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Звук- это волн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Упругая или не упруга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оперечная или продольна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 урока: Узнать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звуковая волна и узнать характеристики звуковых волн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ассная работа 13.01.17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ВУКОВЫЕ ВОЛНЫ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клад «Источники звука»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уковая волна- продольная упругая волна, распространяющаяся с частотой от 20 до 20000 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фразвук, Ультразв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звука в воздух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30-340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звука в вод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00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звука в желез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800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Характеристики звук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РОМКОСТЬ зв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висит от 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ЫСОТА зву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висит от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. 121  параграф 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ТЕМБР зву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висит от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а</cp:lastModifiedBy>
  <dcterms:modified xsi:type="dcterms:W3CDTF">2017-01-12T16:53:3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