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9 класс физика Тема: Звуковые волн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ь: ввести понятие звуковой волны, источников звука и характеристик звука  2) развитие памяти, логического мышления, внимания, познавательного интереса, навыком с амостоятельного труда  3) воспитание культуры труда, дисциплин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атилова Н.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54010-9E76-448A-9F73-90E32FB6C95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2"/>
          <p:cNvSpPr/>
          <p:nvPr/>
        </p:nvSpPr>
        <p:spPr>
          <a:xfrm>
            <a:off x="0" y="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9 класс физика Тема: Звуковые волн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5180040" y="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Цель: ввести понятие звуковой волны, источников звука и характеристик звука  2) развитие памяти, логического мышления, внимания, познавательного интереса, навыком с амостоятельного труда  3) воспитание культуры труда, дисциплин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Шатилова Н.Н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FF80D-A3EE-4C0C-9ABE-FB6B29F15EB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25563-51F8-493C-8EEA-6660BD6DA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9BB0F-7BD3-4D8D-A714-2366EF2B4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FC03A-10E7-43DC-9CD8-10EEF25BD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CD07D-99A0-4FE2-BBA2-ED53F1111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6F27D-B4E0-45BD-8CBF-AA27D9980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113D2-19CD-492F-ADD8-D14468809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04191-778C-4203-85EC-A8FF9DC89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CD6A8-D570-41D2-893E-C62656894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3FA92-49E7-4A35-A4BA-15263F6B3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6CCC5-F0D7-4F65-B8FF-7F7C348E7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68F5E-311B-40A7-8D6C-F6D09D6F8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751EF-2F2A-4E9E-8E40-0C09E5110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46F68-F1C9-4BF7-AC5A-8A03631DF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F15F3-490B-41F7-A69B-FC5512A74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151B1-D5E9-4B15-B64F-5B3F78374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4B73C-0802-450C-9D61-0B106CB7D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633EE-43DC-47CC-B2B9-7DA823246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74175-3F91-4856-91A7-BC44363CB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1F0B1-A5B9-48EF-A9C5-0C67AC634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37921-FA80-466C-9189-E8AD3A969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075CD-1746-476B-BAE0-AF3AA99DB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C96C7-B11F-4F42-8AB8-A7F4C3A5D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7C8AD-8EC5-4B73-A775-38E40A4E4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7192A-ADDF-4EE2-8366-2C85A3630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prstGeom prst="pie">
              <a:avLst/>
            </a:pr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92D74-48A6-41CF-98B0-FF0F292F59EF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prstGeom prst="pie">
              <a:avLst/>
            </a:pr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42016-29FE-4CAE-8239-B101FFBB8CA7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6868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УСТНАЯ РАБОТА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686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8000"/>
          </a:bodyPr>
          <a:p>
            <a:pPr marL="198720" indent="-198720">
              <a:spcBef>
                <a:spcPts val="15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Что называется волной?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198720" indent="-198720">
              <a:spcBef>
                <a:spcPts val="15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Какие виды волн вы знаете?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198720" indent="-198720">
              <a:spcBef>
                <a:spcPts val="15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Какие волны называются упругими?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198720" indent="-198720">
              <a:spcBef>
                <a:spcPts val="15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Какие волны называются поперечными?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198720" indent="-198720">
              <a:spcBef>
                <a:spcPts val="15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Какие волны называются продольными?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6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9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4.93639E-006 L -0.00364 -0.67059 E">
                                      <p:cBhvr>
                                        <p:cTn id="25" dur="2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7.51793E-007 L -0.00365 -0.74162 E">
                                      <p:cBhvr>
                                        <p:cTn id="32" dur="2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6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9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3" dur="5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3.56003E-006 L -0.00364 -1.13463 E">
                                      <p:cBhvr>
                                        <p:cTn id="45" dur="20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Доклад «Резонанс»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Женские голоса</a:t>
            </a:r>
            <a:br>
              <a:rPr sz="4000"/>
            </a:b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Диапазон длин волн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ОНТРАЛЬТО: 40-201 с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ЕЦЦО-СОПРАНО: 38-171 с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Длина голосовых связок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ужчины:  18-22 с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ас - 25м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аритон -   м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енор -18 м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Женщины:  15-20 м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80520" y="12189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8161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ЧИТАТЬ: СТР. 115-120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8161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УСТНО: СТР.120, Упр. 3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161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Доклады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161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«Ультразвук в природе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161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«Инфразвук в природе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161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«Использование ультразвука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161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«Использование инфразвука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161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«Звуковой резонанс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Object 4"/>
              <p:cNvSpPr txBox="1"/>
              <p:nvPr/>
            </p:nvSpPr>
            <p:spPr>
              <a:xfrm>
                <a:off x="5954760" y="2519280"/>
                <a:ext cx="1425600" cy="269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1920" y="277560"/>
            <a:ext cx="8991720" cy="17031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Самостоятельная работа 13.01.17</a:t>
            </a:r>
            <a:br>
              <a:rPr sz="4000"/>
            </a:b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по теме «Длина волны. Скорость распространения волны»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Вариант 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723920" y="2209680"/>
            <a:ext cx="403884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Вариант 2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В каких средах распространяются продольные и поперечные волны?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Волны на поверхности воды – продольные или поперечные?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Доклад «Сейсмические волны»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Arial"/>
              </a:rPr>
              <a:t>Звук- это волна?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Arial"/>
              </a:rPr>
              <a:t>Упругая или не упругая?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Arial"/>
              </a:rPr>
              <a:t>Поперечная или продольная?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2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7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2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57200" y="2514240"/>
            <a:ext cx="8229600" cy="361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Цель урока: Узнать,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что такое звуковая волна и узнать характеристики звуковых волн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title"/>
          </p:nvPr>
        </p:nvSpPr>
        <p:spPr>
          <a:xfrm>
            <a:off x="533520" y="6858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Классная работа 13.01.17.</a:t>
            </a:r>
            <a:br>
              <a:rPr sz="4000"/>
            </a:b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ЗВУКОВЫЕ ВОЛНЫ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" dur="8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" dur="8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" dur="8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Доклад «Источники звука»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вуковая волна- продольная упругая волна, распространяющаяся с частотой от 20 до 20000 Гц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Инфразвук, Ультразву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корость звука в воздухе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330-340 м/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корость звука в воде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1500 м/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корость звука в железе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5800 м/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8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3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8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3" dur="5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8" dur="5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3" dur="500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8" dur="500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3" dur="500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8229600" cy="4269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Характеристики звука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880" y="8377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ГРОМКОСТЬ звук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зависит от …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ВЫСОТА звука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зависит от 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Стр. 121  параграф 3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ТЕМБР звука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зависит от 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0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5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0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5" dur="5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0" dur="500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5" dur="500"/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0" dur="500"/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Нина</cp:lastModifiedBy>
  <dcterms:modified xsi:type="dcterms:W3CDTF">2017-01-12T16:53:33Z</dcterms:modified>
  <cp:revision>1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