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ADEF-BED3-4D5E-AA49-EC2F4B111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2D62-714A-4FB2-A006-5AEEE639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465E-DB84-476F-9F93-C17F0FEF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C5BF-680C-4C0A-AE8B-1AFB5E69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8A19-4199-47FC-8E9A-1DA5F437F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9147-9FB5-44C5-82E8-4F2DDA22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82F-2E98-40CF-AB0E-F98B55F0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7F7A-1BDF-4A1C-A1F8-8241AA37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80D-6CE6-4529-AD6D-515BA3C2C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D179-6686-4AEB-943D-7FF42979F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8B9E-C80E-4D08-8BC8-5F79618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DB5B-A916-4C6A-8440-688A17FB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7f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901F-EEFC-48D3-8E09-2638FEACE73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13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униципальное общеобразовательное учре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Черемушкинская средняя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971640" y="119700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«Я – гражданин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2133720"/>
            <a:ext cx="73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Направление: эколог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900000" y="2708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«Что я могу сделать с мусоро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971640" y="3429000"/>
            <a:ext cx="792000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уководитель проекта: Долгошеева Е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Авторы: учащиеся 4 класса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Жаткина Екате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ябихин Ил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Чернова Дарь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Колодкина Окс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Рябихин Ром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Малашенкова Викт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Arial"/>
              </a:rPr>
              <a:t>Муревская Ольг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95280" y="630864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село Черемушка 2009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11280" y="0"/>
          <a:ext cx="8076960" cy="6664320"/>
        </p:xfrm>
        <a:graphic>
          <a:graphicData uri="http://schemas.openxmlformats.org/drawingml/2006/table">
            <a:tbl>
              <a:tblPr/>
              <a:tblGrid>
                <a:gridCol w="2809800"/>
                <a:gridCol w="1224000"/>
                <a:gridCol w="2023920"/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297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оберток от конф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лиэтиленовые пакеты, перышки пт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юнь-ию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-ся 3-6 классов, родители, работ-ники ДО ,роди-тели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корзинок, ваз, костюм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ентябрь-дека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Шар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ластиковых бутылок карандаш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арандаш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олиэтиленовых пакетов к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полуфабрик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олиэтиленовых пакетов напольных ков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3-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напольные ков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заколок из перы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Красота и гра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зако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 готовых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амопрезент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611280" y="31680"/>
          <a:ext cx="8076960" cy="6745320"/>
        </p:xfrm>
        <a:graphic>
          <a:graphicData uri="http://schemas.openxmlformats.org/drawingml/2006/table">
            <a:tbl>
              <a:tblPr/>
              <a:tblGrid>
                <a:gridCol w="2809800"/>
                <a:gridCol w="1224000"/>
                <a:gridCol w="2023920"/>
                <a:gridCol w="2019240"/>
              </a:tblGrid>
              <a:tr h="530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оберток от конфет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лиэтиленовые пакеты, перышки пт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юнь-июл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-ся 4 классов, родители, работ-ники ДО ,роди-тели, уч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корзинок, ваз, костюм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ентябрь-декаб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Шарм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изде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ластиковых бутылок карандашн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арандаш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олиэтиленовых пакетов к работ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полуфабрика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из полиэтиленовых пакетов напольных ков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рт-апрель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уководитель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напольные ковр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зготовление заколок из перыш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Январь-февра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Члены клуба «Красота и грац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закол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4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 готовых издел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выстав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3124080" y="152280"/>
            <a:ext cx="2743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Бюджет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68360" y="1197000"/>
          <a:ext cx="8077320" cy="4821120"/>
        </p:xfrm>
        <a:graphic>
          <a:graphicData uri="http://schemas.openxmlformats.org/drawingml/2006/table">
            <a:tbl>
              <a:tblPr/>
              <a:tblGrid>
                <a:gridCol w="2181240"/>
                <a:gridCol w="1533600"/>
                <a:gridCol w="1454040"/>
                <a:gridCol w="1292040"/>
                <a:gridCol w="1616400"/>
              </a:tblGrid>
              <a:tr h="69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аимено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Един. измер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Цена одной е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оличеств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тоим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руб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60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Оборуд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оволо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асходные материал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Канцелярские това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скот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4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8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ножниц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Премия учащимс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грам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ш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15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395280" y="260280"/>
            <a:ext cx="8569440" cy="68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лияние отходов на окружающую сред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Раньше вопрос утилизации отходов остро не стоял. Крестьяне отправляли свою продукцию с поля сразу к столу, обходясь без переработки, упаковки, рекламы и торговой сети. Овощные очистки и тому подобное скармливались домашним животным или использовались в виде компоста как удобрение почвы для будущего урож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ейчас жители деревни продукцию стали обменивать, продавать горожанам, а они нам отправляют нашу переработанную продукцию в упаковках, бутылках, стаканчиках, баночках, пакетах, обертках, флаконах и т.д. для большего удоб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этих пор появился мусор на улицах се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Наша школа расположена между двумя частными магазинами. Ветром на территорию школы и школьного сада приносится мусор в виде пакетов, оберток, стаканчиков, бутылок и т.д. Внешний вид школьной ограды становится невыносимым. И такая же картина на улицах села. Появились неприятные запахи. Возросло количество крыс, му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468360" y="75420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 всем мире отходы рассматривают как потенциальное сырье для будущего продукта – вторичного сырья, как элемент бизнеса. Мы, дети, в таком бизнесе участвовать не можем, но улучшить экологическую обстановку села очень хотим.  Для этого провели наблюдение, собрали сведения, сделали необходимые расчеты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1116000" y="46656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11280" y="333360"/>
            <a:ext cx="8280360" cy="58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Социологическое 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ы решили узнать, сколько пластиковой тары выбрасыва-ет каждая семья. Для этого мы провели социологическое исследование: попросили родителей своих одноклассни-ков ответить на вопросы нашей анке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66"/>
                </a:solidFill>
                <a:latin typeface="Arial"/>
              </a:rPr>
              <a:t>Анк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Здравствуйте, уважаемый участник опроса! Просим вас принять участие в нашем исследовании и ответить на вопро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остав семьи: ______ челове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колько пластиковых бутылок выбрасывает ваша семья в неделю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2л-___шт.; 1,5л-___шт.; 1л-___шт.; 0,5л-___шт.; 0,33л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3. Сколько пакетов выбрасывает ваша семья в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468360" y="1557360"/>
            <a:ext cx="828180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обычные пакеты-___ш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молока, кефира, майонеза и пр.-__шт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большие пакеты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4. Сколько пластиковых баночек выбрасывает ваша семья в ден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йогурта-___шт.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-из-под сметаны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5. Сколько выбрасывает ваша семья пластиковых флаконов из-под шампуней, гелей и других косметических товаров в месяц? -___ш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пасибо за участие в исследова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755640" y="322200"/>
            <a:ext cx="7777080" cy="61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Результаты опро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бутылок- 12 штук объем 2 литра; 20 штук объемом 1,5литра; 21 штук объемом 1 литр; 13 штук объемом 0,5 литра; 16 штук объемом 0,33 лит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баночек из-под йогурта- 40 штук; из-под сметаны- 46 штук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акетов обычного размера- 82шт; из-под молока, кефира-22 шт; больших пакетов- 18ш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ластиковых флаконов из-под шампуней и др-12 ш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324000" y="333360"/>
            <a:ext cx="8496000" cy="64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Пути выхода из данной проблем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Взрослым предлагаем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оздать в районе новые экологически безопасные полигон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бновить во всех селах свалки бытовых отход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жителям села заботиться о благоустройстве своей усадьбы, отходы вывозить на специальные свал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Детям предлагае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ровести мусорный ба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организовать на селе выставку изделий из пластиковых бутылок, баночек из- под йогурта, флаконов из-под шампуней, полиэтиленовых пакет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изготовить домашним хозяйкам горшки для рассады помидоров, огурцов и поддонов для цветочных горш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826920" y="692280"/>
            <a:ext cx="64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Риски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340000" y="2060640"/>
            <a:ext cx="6480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ильный ветер сдует оградку из пластиковых бутылок с клумб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зрослые не захотят с нами работ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Фото047"/>
          <p:cNvPicPr/>
          <p:nvPr/>
        </p:nvPicPr>
        <p:blipFill>
          <a:blip r:embed="rId1"/>
          <a:stretch/>
        </p:blipFill>
        <p:spPr>
          <a:xfrm>
            <a:off x="250920" y="1535040"/>
            <a:ext cx="2208240" cy="1656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Фото048"/>
          <p:cNvPicPr/>
          <p:nvPr/>
        </p:nvPicPr>
        <p:blipFill>
          <a:blip r:embed="rId2"/>
          <a:stretch/>
        </p:blipFill>
        <p:spPr>
          <a:xfrm>
            <a:off x="6443640" y="1514520"/>
            <a:ext cx="2403360" cy="1801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Фото043"/>
          <p:cNvPicPr/>
          <p:nvPr/>
        </p:nvPicPr>
        <p:blipFill>
          <a:blip r:embed="rId3"/>
          <a:stretch/>
        </p:blipFill>
        <p:spPr>
          <a:xfrm>
            <a:off x="3090960" y="1928880"/>
            <a:ext cx="2458800" cy="184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Фото030"/>
          <p:cNvPicPr/>
          <p:nvPr/>
        </p:nvPicPr>
        <p:blipFill>
          <a:blip r:embed="rId4"/>
          <a:stretch/>
        </p:blipFill>
        <p:spPr>
          <a:xfrm>
            <a:off x="379440" y="4465800"/>
            <a:ext cx="2282760" cy="17128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Фото029"/>
          <p:cNvPicPr/>
          <p:nvPr/>
        </p:nvPicPr>
        <p:blipFill>
          <a:blip r:embed="rId5"/>
          <a:stretch/>
        </p:blipFill>
        <p:spPr>
          <a:xfrm>
            <a:off x="3309840" y="4327560"/>
            <a:ext cx="2494080" cy="1870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Фото044"/>
          <p:cNvPicPr/>
          <p:nvPr/>
        </p:nvPicPr>
        <p:blipFill>
          <a:blip r:embed="rId6"/>
          <a:stretch/>
        </p:blipFill>
        <p:spPr>
          <a:xfrm>
            <a:off x="6443640" y="4535640"/>
            <a:ext cx="2244600" cy="1682640"/>
          </a:xfrm>
          <a:prstGeom prst="rect">
            <a:avLst/>
          </a:prstGeom>
          <a:ln w="0">
            <a:noFill/>
          </a:ln>
        </p:spPr>
      </p:pic>
      <p:sp>
        <p:nvSpPr>
          <p:cNvPr id="80" name="WordArt 11"/>
          <p:cNvSpPr txBox="1"/>
          <p:nvPr/>
        </p:nvSpPr>
        <p:spPr>
          <a:xfrm>
            <a:off x="684360" y="260280"/>
            <a:ext cx="7920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одукт нашей деятельности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250920" y="898560"/>
            <a:ext cx="8424720" cy="40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Актуальность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По дороге из школы на улицах нашего села мы видим такие картины. Поневоле возникает вопрос: Что можно сделать, чтобы на улицах не было столько мусор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В результате возникла тема исследования «Что мы можем сделать с мусором? Проблема утилизации отходов»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SDC10077"/>
          <p:cNvPicPr/>
          <p:nvPr/>
        </p:nvPicPr>
        <p:blipFill>
          <a:blip r:embed="rId1"/>
          <a:stretch/>
        </p:blipFill>
        <p:spPr>
          <a:xfrm>
            <a:off x="611280" y="620640"/>
            <a:ext cx="3571920" cy="2676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SDC10079"/>
          <p:cNvPicPr/>
          <p:nvPr/>
        </p:nvPicPr>
        <p:blipFill>
          <a:blip r:embed="rId2"/>
          <a:stretch/>
        </p:blipFill>
        <p:spPr>
          <a:xfrm>
            <a:off x="4716360" y="3429000"/>
            <a:ext cx="381636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DC10082"/>
          <p:cNvPicPr/>
          <p:nvPr/>
        </p:nvPicPr>
        <p:blipFill>
          <a:blip r:embed="rId1"/>
          <a:srcRect l="14171" t="0" r="18898" b="0"/>
          <a:stretch/>
        </p:blipFill>
        <p:spPr>
          <a:xfrm>
            <a:off x="250920" y="260280"/>
            <a:ext cx="2003400" cy="3986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SDC10083"/>
          <p:cNvPicPr/>
          <p:nvPr/>
        </p:nvPicPr>
        <p:blipFill>
          <a:blip r:embed="rId2"/>
          <a:stretch/>
        </p:blipFill>
        <p:spPr>
          <a:xfrm>
            <a:off x="5724360" y="260280"/>
            <a:ext cx="3241800" cy="4324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SDC10081"/>
          <p:cNvPicPr/>
          <p:nvPr/>
        </p:nvPicPr>
        <p:blipFill>
          <a:blip r:embed="rId3"/>
          <a:srcRect l="19989" t="0" r="12456" b="0"/>
          <a:stretch/>
        </p:blipFill>
        <p:spPr>
          <a:xfrm>
            <a:off x="2484360" y="3068640"/>
            <a:ext cx="314496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год 190"/>
          <p:cNvPicPr/>
          <p:nvPr/>
        </p:nvPicPr>
        <p:blipFill>
          <a:blip r:embed="rId1"/>
          <a:stretch/>
        </p:blipFill>
        <p:spPr>
          <a:xfrm>
            <a:off x="336600" y="333360"/>
            <a:ext cx="3619440" cy="27147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Изображение 272"/>
          <p:cNvPicPr/>
          <p:nvPr/>
        </p:nvPicPr>
        <p:blipFill>
          <a:blip r:embed="rId2"/>
          <a:stretch/>
        </p:blipFill>
        <p:spPr>
          <a:xfrm>
            <a:off x="4716360" y="3405240"/>
            <a:ext cx="3629160" cy="2722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00 002"/>
          <p:cNvPicPr/>
          <p:nvPr/>
        </p:nvPicPr>
        <p:blipFill>
          <a:blip r:embed="rId3"/>
          <a:stretch/>
        </p:blipFill>
        <p:spPr>
          <a:xfrm>
            <a:off x="4859280" y="291960"/>
            <a:ext cx="3673440" cy="2756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0 004"/>
          <p:cNvPicPr/>
          <p:nvPr/>
        </p:nvPicPr>
        <p:blipFill>
          <a:blip r:embed="rId4"/>
          <a:stretch/>
        </p:blipFill>
        <p:spPr>
          <a:xfrm>
            <a:off x="611280" y="3616200"/>
            <a:ext cx="3348000" cy="25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00 005"/>
          <p:cNvPicPr/>
          <p:nvPr/>
        </p:nvPicPr>
        <p:blipFill>
          <a:blip r:embed="rId1"/>
          <a:stretch/>
        </p:blipFill>
        <p:spPr>
          <a:xfrm>
            <a:off x="395280" y="260280"/>
            <a:ext cx="3295800" cy="247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PICT1493"/>
          <p:cNvPicPr/>
          <p:nvPr/>
        </p:nvPicPr>
        <p:blipFill>
          <a:blip r:embed="rId2"/>
          <a:stretch/>
        </p:blipFill>
        <p:spPr>
          <a:xfrm>
            <a:off x="4356000" y="4022640"/>
            <a:ext cx="3457800" cy="2594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Изображение 295"/>
          <p:cNvPicPr/>
          <p:nvPr/>
        </p:nvPicPr>
        <p:blipFill>
          <a:blip r:embed="rId3"/>
          <a:stretch/>
        </p:blipFill>
        <p:spPr>
          <a:xfrm>
            <a:off x="685800" y="29973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Изображение 364"/>
          <p:cNvPicPr/>
          <p:nvPr/>
        </p:nvPicPr>
        <p:blipFill>
          <a:blip r:embed="rId4"/>
          <a:stretch/>
        </p:blipFill>
        <p:spPr>
          <a:xfrm>
            <a:off x="5842080" y="260280"/>
            <a:ext cx="2709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609480"/>
            <a:ext cx="403380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бъект исследования: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оцесс загрязнение окружающей</a:t>
            </a: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среды села Черемушка и ее окрестност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788000" y="754200"/>
            <a:ext cx="3887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редмет исследования: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бытовые отходы, возможность их вторичного использования и переработки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539640" y="1125360"/>
            <a:ext cx="8064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цели: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следить путь бытовых отход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уда девать мусо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Что с ним делать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468360" y="836640"/>
            <a:ext cx="806436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дачи исследования</a:t>
            </a: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описать влияние отходов на окружающую сре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доказать, что вторичная переработка мусора необходима для сохранения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редложить свои способы вторичной переработки мус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538200"/>
            <a:ext cx="784836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Гипотеза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Возможно, бытовые отходы загрязняют экологическую обстановку. Попробуем предложить, как их можно вторично использо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539640" y="3994200"/>
            <a:ext cx="81360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етоды  исследо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ми использовались следующие методы: исследования, анализ, анкетирование, эксперимент, наблю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5"/>
          <p:cNvSpPr/>
          <p:nvPr/>
        </p:nvSpPr>
        <p:spPr>
          <a:xfrm>
            <a:off x="324000" y="476280"/>
            <a:ext cx="2592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Целев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и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Жители с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716360" y="476280"/>
            <a:ext cx="410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Исполните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Инициативная груп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учащие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4508640"/>
            <a:ext cx="698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артн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оди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Работники дополнительн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1403280" y="9079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187280" y="2565360"/>
            <a:ext cx="7201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а улицах станет меньше мус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Улицы станут красивее и чищ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</a:rPr>
              <a:t>Нормализуется экологическая обстан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39640" y="981000"/>
          <a:ext cx="8077320" cy="5019840"/>
        </p:xfrm>
        <a:graphic>
          <a:graphicData uri="http://schemas.openxmlformats.org/drawingml/2006/table">
            <a:tbl>
              <a:tblPr/>
              <a:tblGrid>
                <a:gridCol w="2895840"/>
                <a:gridCol w="1066680"/>
                <a:gridCol w="2095560"/>
                <a:gridCol w="201924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ероприят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Да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Исполнител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езультат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здать инициативную групп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Инициатив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923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ставить анкет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нке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ровести анкетир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апр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Долгошеева Е.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к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езультаты опро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бор пластиковых бутылок стаканчиков из под йогу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родите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Собранный материа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135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Подготовка пластиковых бутылок для стенок клум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Май-ию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ащиеся 4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Учителя начальных класс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800000"/>
                          </a:solidFill>
                          <a:latin typeface="Arial"/>
                        </a:rPr>
                        <a:t>Готовые клум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009999"/>
                        </a:gs>
                        <a:gs pos="100000">
                          <a:srgbClr val="fffff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sp>
        <p:nvSpPr>
          <p:cNvPr id="60" name="WordArt 41"/>
          <p:cNvSpPr txBox="1"/>
          <p:nvPr/>
        </p:nvSpPr>
        <p:spPr>
          <a:xfrm>
            <a:off x="2411280" y="26028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Календарный план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41:33Z</dcterms:created>
  <dc:creator>Колодюк</dc:creator>
  <dc:description/>
  <dc:language>en-US</dc:language>
  <cp:lastModifiedBy>Елена</cp:lastModifiedBy>
  <dcterms:modified xsi:type="dcterms:W3CDTF">2018-12-25T03:46:37Z</dcterms:modified>
  <cp:revision>24</cp:revision>
  <dc:subject/>
  <dc:title>Слайд 1</dc:title>
</cp:coreProperties>
</file>