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0136-C5EA-4180-9831-AB495EA5A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39B-69A1-4619-90BF-211C4D2A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63B2-2FD8-44F6-A28B-1DE49786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D00E-625F-4EB8-B34D-9F811634A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71F-EBDC-4B4E-83A0-D67B60F0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B61B-A4D6-46FB-A603-A0F0C8CB2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6BD-02D1-4AAA-A3DF-6207507B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E4D-A62C-4474-8EA2-7E3685E0B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C6F4-0B6A-44CF-A2B4-BCCF88F17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5DD1-D555-4A5C-AC69-69C0627A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390F-3FF7-4875-B088-37DF0513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4A3D-5A17-47D0-B14C-D0BF1781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7f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4243-4680-44D7-A67E-E1BC50B1EF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89000"/>
            <a:ext cx="813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Черемушкинская средня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971640" y="119700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«Я – гражданин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4360" y="2133720"/>
            <a:ext cx="73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правление: эк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00000" y="270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«Что я могу сделать с мусор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971640" y="3429000"/>
            <a:ext cx="792000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Руководитель проекта: Долгошеева Е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Авторы: учащиеся 4 класс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Жаткина Екате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Рябихин Ил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Чернов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олодкина Окс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Рябихин Ром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Малашенкова Вик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Муревская Оль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95280" y="630864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ело Черемушка 2009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11280" y="0"/>
          <a:ext cx="8076960" cy="6664320"/>
        </p:xfrm>
        <a:graphic>
          <a:graphicData uri="http://schemas.openxmlformats.org/drawingml/2006/table">
            <a:tbl>
              <a:tblPr/>
              <a:tblGrid>
                <a:gridCol w="2809800"/>
                <a:gridCol w="1224000"/>
                <a:gridCol w="2023920"/>
                <a:gridCol w="201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ероприя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сполните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зульт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бор оберток от конфет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олиэтиленовые пакеты, перышки пт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юнь-ию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-ся 3-6 классов, родители, работ-ники ДО ,роди-тели,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обранный матер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зготовление корзинок, ваз, костюм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ентябрь-декабр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3-4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Члены клуба «Шар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изде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зготовление из пластиковых бутылок карандашн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январ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уководител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3-4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карандаш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одготовка полиэтиленовых пакетов к рабо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уководител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3-4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полуфабрик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зготовление из полиэтиленовых пакетов напольных ковр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арт-апрель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уководител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3-4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напольные ковр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зготовление заколок из перы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арт-апр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Члены клуба «Красота и грац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зако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ыставка готовых издел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ай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ннициативн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амопрез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11280" y="31680"/>
          <a:ext cx="8076960" cy="6745320"/>
        </p:xfrm>
        <a:graphic>
          <a:graphicData uri="http://schemas.openxmlformats.org/drawingml/2006/table">
            <a:tbl>
              <a:tblPr/>
              <a:tblGrid>
                <a:gridCol w="2809800"/>
                <a:gridCol w="1224000"/>
                <a:gridCol w="2023920"/>
                <a:gridCol w="2019240"/>
              </a:tblGrid>
              <a:tr h="530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ероприя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сполните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зульт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6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бор оберток от конфет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олиэтиленовые пакеты, перышки пт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юнь-ию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-ся 4 классов, родители, работ-ники ДО ,роди-тели,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обранный матер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зготовление корзинок, ваз, костюм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ентябрь-декабр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4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Члены клуба «Шар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изде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зготовление из пластиковых бутылок карандашн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январ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уководител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4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карандаш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одготовка полиэтиленовых пакетов к рабо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уководител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4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полуфабрик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зготовление из полиэтиленовых пакетов напольных ковр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арт-апрель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уководител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4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напольные ковр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зготовление заколок из перы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Январь-февра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Члены клуба «Красота и грац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зако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4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ыставка готовых издел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ай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ннициативн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ыста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3124080" y="152280"/>
            <a:ext cx="2743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юдже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1197000"/>
          <a:ext cx="8077320" cy="4821120"/>
        </p:xfrm>
        <a:graphic>
          <a:graphicData uri="http://schemas.openxmlformats.org/drawingml/2006/table">
            <a:tbl>
              <a:tblPr/>
              <a:tblGrid>
                <a:gridCol w="2181240"/>
                <a:gridCol w="1533600"/>
                <a:gridCol w="1454040"/>
                <a:gridCol w="1292040"/>
                <a:gridCol w="1616400"/>
              </a:tblGrid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Един. изме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Цена одной 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личе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тоим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ровол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сходные материа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анцелярские тов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кот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ож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емия учащим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рам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5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95280" y="260280"/>
            <a:ext cx="8569440" cy="68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лияние отходов на окружающую ср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аньше вопрос утилизации отходов остро не стоял. Крестьяне отправляли свою продукцию с поля сразу к столу, обходясь без переработки, упаковки, рекламы и торговой сети. Овощные очистки и тому подобное скармливались домашним животным или использовались в виде компоста как удобрение почвы для будущего урож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ейчас жители деревни продукцию стали обменивать, продавать горожанам, а они нам отправляют нашу переработанную продукцию в упаковках, бутылках, стаканчиках, баночках, пакетах, обертках, флаконах и т.д. для большего удоб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 этих пор появился мусор на улицах с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ша школа расположена между двумя частными магазинами. Ветром на территорию школы и школьного сада приносится мусор в виде пакетов, оберток, стаканчиков, бутылок и т.д. Внешний вид школьной ограды становится невыносимым. И такая же картина на улицах села. Появились неприятные запахи. Возросло количество крыс, м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68360" y="75420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о всем мире отходы рассматривают как потенциальное сырье для будущего продукта – вторичного сырья, как элемент бизнеса. Мы, дети, в таком бизнесе участвовать не можем, но улучшить экологическую обстановку села очень хотим.  Для этого провели наблюдение, собрали сведения, сделали необходимые расчет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16000" y="466560"/>
            <a:ext cx="70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333360"/>
            <a:ext cx="8280360" cy="58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оциологическое 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ы решили узнать, сколько пластиковой тары выбрасыва-ет каждая семья. Для этого мы провели социологическое исследование: попросили родителей своих одноклассни-ков ответить на вопросы нашей анк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Анк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Здравствуйте, уважаемый участник опроса! Просим вас принять участие в нашем исследовании и ответить на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остав семьи: ______ челове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колько пластиковых бутылок выбрасывает ваша семья в неделю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2л-___шт.; 1,5л-___шт.; 1л-___шт.; 0,5л-___шт.; 0,33л-___ш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3. Сколько пакетов выбрасывает ваша семья в ден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68360" y="1557360"/>
            <a:ext cx="82818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обычные пакеты-___ш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из-под молока, кефира, майонеза и пр.-__шт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большие пакеты-___ш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4. Сколько пластиковых баночек выбрасывает ваша семья в ден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из-под йогурта-___шт.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из-под сметаны-___ш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5. Сколько выбрасывает ваша семья пластиковых флаконов из-под шампуней, гелей и других косметических товаров в месяц? -___ш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пасибо за участие в исследо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755640" y="322200"/>
            <a:ext cx="777708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Результаты опро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ластиковых бутылок- 12 штук объем 2 литра; 20 штук объемом 1,5литра; 21 штук объемом 1 литр; 13 штук объемом 0,5 литра; 16 штук объемом 0,33 лит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ластиковых баночек из-под йогурта- 40 штук; из-под сметаны- 46 шту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акетов обычного размера- 82шт; из-под молока, кефира-22 шт; больших пакетов- 18ш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ластиковых флаконов из-под шампуней и др-12 ш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24000" y="333360"/>
            <a:ext cx="8496000" cy="64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Пути выхода из данной пробле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зрослым предлагае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здать в районе новые экологически безопасные полиг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новить во всех селах свалки бытовых отх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жителям села заботиться о благоустройстве своей усадьбы, отходы вывозить на специальные сва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тям предлаг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вести мусорный ба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рганизовать на селе выставку изделий из пластиковых бутылок, баночек из- под йогурта, флаконов из-под шампуней, полиэтиленовых паке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готовить домашним хозяйкам горшки для рассады помидоров, огурцов и поддонов для цветочных горш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826920" y="69228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Рис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340000" y="2060640"/>
            <a:ext cx="6480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ильный ветер сдует оградку из пластиковых бутылок с клумб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зрослые не захотят с нами рабо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Фото047"/>
          <p:cNvPicPr/>
          <p:nvPr/>
        </p:nvPicPr>
        <p:blipFill>
          <a:blip r:embed="rId1"/>
          <a:stretch/>
        </p:blipFill>
        <p:spPr>
          <a:xfrm>
            <a:off x="250920" y="1535040"/>
            <a:ext cx="2208240" cy="165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Фото048"/>
          <p:cNvPicPr/>
          <p:nvPr/>
        </p:nvPicPr>
        <p:blipFill>
          <a:blip r:embed="rId2"/>
          <a:stretch/>
        </p:blipFill>
        <p:spPr>
          <a:xfrm>
            <a:off x="6443640" y="1514520"/>
            <a:ext cx="2403360" cy="180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Фото043"/>
          <p:cNvPicPr/>
          <p:nvPr/>
        </p:nvPicPr>
        <p:blipFill>
          <a:blip r:embed="rId3"/>
          <a:stretch/>
        </p:blipFill>
        <p:spPr>
          <a:xfrm>
            <a:off x="3090960" y="1928880"/>
            <a:ext cx="2458800" cy="184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Фото030"/>
          <p:cNvPicPr/>
          <p:nvPr/>
        </p:nvPicPr>
        <p:blipFill>
          <a:blip r:embed="rId4"/>
          <a:stretch/>
        </p:blipFill>
        <p:spPr>
          <a:xfrm>
            <a:off x="379440" y="4465800"/>
            <a:ext cx="2282760" cy="171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Фото029"/>
          <p:cNvPicPr/>
          <p:nvPr/>
        </p:nvPicPr>
        <p:blipFill>
          <a:blip r:embed="rId5"/>
          <a:stretch/>
        </p:blipFill>
        <p:spPr>
          <a:xfrm>
            <a:off x="3309840" y="4327560"/>
            <a:ext cx="2494080" cy="1870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Фото044"/>
          <p:cNvPicPr/>
          <p:nvPr/>
        </p:nvPicPr>
        <p:blipFill>
          <a:blip r:embed="rId6"/>
          <a:stretch/>
        </p:blipFill>
        <p:spPr>
          <a:xfrm>
            <a:off x="6443640" y="4535640"/>
            <a:ext cx="2244600" cy="1682640"/>
          </a:xfrm>
          <a:prstGeom prst="rect">
            <a:avLst/>
          </a:prstGeom>
          <a:ln w="0">
            <a:noFill/>
          </a:ln>
        </p:spPr>
      </p:pic>
      <p:sp>
        <p:nvSpPr>
          <p:cNvPr id="80" name="WordArt 11"/>
          <p:cNvSpPr txBox="1"/>
          <p:nvPr/>
        </p:nvSpPr>
        <p:spPr>
          <a:xfrm>
            <a:off x="684360" y="260280"/>
            <a:ext cx="79200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дукт нашей деятельности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250920" y="898560"/>
            <a:ext cx="8424720" cy="40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Актуальность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дороге из школы на улицах нашего села мы видим такие картины. Поневоле возникает вопрос: Что можно сделать, чтобы на улицах не было столько мус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результате возникла тема исследования «Что мы можем сделать с мусором? Проблема утилизации отходов»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SDC10077"/>
          <p:cNvPicPr/>
          <p:nvPr/>
        </p:nvPicPr>
        <p:blipFill>
          <a:blip r:embed="rId1"/>
          <a:stretch/>
        </p:blipFill>
        <p:spPr>
          <a:xfrm>
            <a:off x="611280" y="620640"/>
            <a:ext cx="3571920" cy="2676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SDC10079"/>
          <p:cNvPicPr/>
          <p:nvPr/>
        </p:nvPicPr>
        <p:blipFill>
          <a:blip r:embed="rId2"/>
          <a:stretch/>
        </p:blipFill>
        <p:spPr>
          <a:xfrm>
            <a:off x="4716360" y="342900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DC10082"/>
          <p:cNvPicPr/>
          <p:nvPr/>
        </p:nvPicPr>
        <p:blipFill>
          <a:blip r:embed="rId1"/>
          <a:srcRect l="14171" t="0" r="18898" b="0"/>
          <a:stretch/>
        </p:blipFill>
        <p:spPr>
          <a:xfrm>
            <a:off x="250920" y="260280"/>
            <a:ext cx="2003400" cy="3986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SDC10083"/>
          <p:cNvPicPr/>
          <p:nvPr/>
        </p:nvPicPr>
        <p:blipFill>
          <a:blip r:embed="rId2"/>
          <a:stretch/>
        </p:blipFill>
        <p:spPr>
          <a:xfrm>
            <a:off x="5724360" y="260280"/>
            <a:ext cx="3241800" cy="4324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SDC10081"/>
          <p:cNvPicPr/>
          <p:nvPr/>
        </p:nvPicPr>
        <p:blipFill>
          <a:blip r:embed="rId3"/>
          <a:srcRect l="19989" t="0" r="12456" b="0"/>
          <a:stretch/>
        </p:blipFill>
        <p:spPr>
          <a:xfrm>
            <a:off x="2484360" y="3068640"/>
            <a:ext cx="31449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год 190"/>
          <p:cNvPicPr/>
          <p:nvPr/>
        </p:nvPicPr>
        <p:blipFill>
          <a:blip r:embed="rId1"/>
          <a:stretch/>
        </p:blipFill>
        <p:spPr>
          <a:xfrm>
            <a:off x="336600" y="33336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Изображение 272"/>
          <p:cNvPicPr/>
          <p:nvPr/>
        </p:nvPicPr>
        <p:blipFill>
          <a:blip r:embed="rId2"/>
          <a:stretch/>
        </p:blipFill>
        <p:spPr>
          <a:xfrm>
            <a:off x="4716360" y="3405240"/>
            <a:ext cx="3629160" cy="2722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00 002"/>
          <p:cNvPicPr/>
          <p:nvPr/>
        </p:nvPicPr>
        <p:blipFill>
          <a:blip r:embed="rId3"/>
          <a:stretch/>
        </p:blipFill>
        <p:spPr>
          <a:xfrm>
            <a:off x="4859280" y="29196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0 004"/>
          <p:cNvPicPr/>
          <p:nvPr/>
        </p:nvPicPr>
        <p:blipFill>
          <a:blip r:embed="rId4"/>
          <a:stretch/>
        </p:blipFill>
        <p:spPr>
          <a:xfrm>
            <a:off x="611280" y="3616200"/>
            <a:ext cx="334800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00 005"/>
          <p:cNvPicPr/>
          <p:nvPr/>
        </p:nvPicPr>
        <p:blipFill>
          <a:blip r:embed="rId1"/>
          <a:stretch/>
        </p:blipFill>
        <p:spPr>
          <a:xfrm>
            <a:off x="395280" y="260280"/>
            <a:ext cx="3295800" cy="247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ICT1493"/>
          <p:cNvPicPr/>
          <p:nvPr/>
        </p:nvPicPr>
        <p:blipFill>
          <a:blip r:embed="rId2"/>
          <a:stretch/>
        </p:blipFill>
        <p:spPr>
          <a:xfrm>
            <a:off x="4356000" y="4022640"/>
            <a:ext cx="3457800" cy="2594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Изображение 295"/>
          <p:cNvPicPr/>
          <p:nvPr/>
        </p:nvPicPr>
        <p:blipFill>
          <a:blip r:embed="rId3"/>
          <a:stretch/>
        </p:blipFill>
        <p:spPr>
          <a:xfrm>
            <a:off x="685800" y="29973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Изображение 364"/>
          <p:cNvPicPr/>
          <p:nvPr/>
        </p:nvPicPr>
        <p:blipFill>
          <a:blip r:embed="rId4"/>
          <a:stretch/>
        </p:blipFill>
        <p:spPr>
          <a:xfrm>
            <a:off x="5842080" y="260280"/>
            <a:ext cx="27097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609480"/>
            <a:ext cx="40338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бъект исследования: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цесс загрязнение окружающей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реды села Черемушка и ее окрестнос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788000" y="754200"/>
            <a:ext cx="3887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редмет исследования: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ытовые отходы, возможность их вторичного использования и переработки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1125360"/>
            <a:ext cx="8064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цели: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оследить путь бытовых отхо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уда девать мусо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Что с ним 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8360" y="836640"/>
            <a:ext cx="806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дачи исследования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писать влияние отходов на окружающ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казать, что вторичная переработка мусора необходима для сохранения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едложить свои способы вторичной переработки мус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538200"/>
            <a:ext cx="7848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Гипотеза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озможно, бытовые отходы загрязняют экологическую обстановку. Попробуем предложить, как их можно вторично 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3994200"/>
            <a:ext cx="8136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етоды 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ми использовались следующие методы: исследования, анализ, анкетирование, эксперимент, наблю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24000" y="476280"/>
            <a:ext cx="259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Целев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ча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ители с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716360" y="476280"/>
            <a:ext cx="4105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сполни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нициативн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ча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32000" y="4508640"/>
            <a:ext cx="6985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артн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ботники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403280" y="90792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жидаемый 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187280" y="2565360"/>
            <a:ext cx="720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 улицах станет меньше мус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лицы станут красивее и ч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ормализуется экологическая об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981000"/>
          <a:ext cx="8077320" cy="5019840"/>
        </p:xfrm>
        <a:graphic>
          <a:graphicData uri="http://schemas.openxmlformats.org/drawingml/2006/table">
            <a:tbl>
              <a:tblPr/>
              <a:tblGrid>
                <a:gridCol w="2895840"/>
                <a:gridCol w="1066680"/>
                <a:gridCol w="2095560"/>
                <a:gridCol w="201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ероприя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сполните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зульт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оздать инициативную групп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пр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олгоше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нициативн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оставить анк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пр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олгоше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нк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ровести анкет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пр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олгоше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4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езультаты опро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бор пластиковых бутылок стаканчиков из под йогу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а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4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од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обранный матер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одготовка пластиковых бутылок для стенок клум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ай-ию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4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ителя начальных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клум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60" name="WordArt 41"/>
          <p:cNvSpPr txBox="1"/>
          <p:nvPr/>
        </p:nvSpPr>
        <p:spPr>
          <a:xfrm>
            <a:off x="2411280" y="260280"/>
            <a:ext cx="436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лендарный пла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41:33Z</dcterms:created>
  <dc:creator>Колодюк</dc:creator>
  <dc:description/>
  <dc:language>en-US</dc:language>
  <cp:lastModifiedBy>Елена</cp:lastModifiedBy>
  <dcterms:modified xsi:type="dcterms:W3CDTF">2018-12-25T03:46:37Z</dcterms:modified>
  <cp:revision>24</cp:revision>
  <dc:subject/>
  <dc:title>Слайд 1</dc:title>
</cp:coreProperties>
</file>