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719AD-E1FE-474D-93CD-737805A8C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7AD90-C29D-4B55-84B0-E5A8B958E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068D6-9A3C-4877-A105-2F110A852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D9418-3C83-40FE-AAB1-8657FD9E8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C18EE-DFA5-4CDD-B47F-CCFC8059D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B062A-BC36-4BD7-8B49-CBCC882F0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D369E-BC46-4FD8-A3E0-999C80852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10475-3EB3-4470-836E-28EADF690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B12E0-425F-4E31-B606-26B538562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EC57E-39ED-439B-AD2F-365D0EC51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2C45F-515A-4FAA-9E17-774CF87D7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27101-AF5C-476C-8C50-C2AEF9904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E26CA-28A9-4EE4-A3D5-35BEFD2ECED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Групповая форма работы на уроках технологии в рамках реализации ФГОС</a:t>
            </a:r>
            <a:endParaRPr b="0" lang="en-US" sz="4000" spc="-1" strike="noStrike">
              <a:solidFill>
                <a:srgbClr val="000000"/>
              </a:solidFill>
              <a:latin typeface="Arial"/>
            </a:endParaRPr>
          </a:p>
        </p:txBody>
      </p:sp>
      <p:sp>
        <p:nvSpPr>
          <p:cNvPr id="42" name="PlaceHolder 2"/>
          <p:cNvSpPr>
            <a:spLocks noGrp="1"/>
          </p:cNvSpPr>
          <p:nvPr>
            <p:ph type="subTitle"/>
          </p:nvPr>
        </p:nvSpPr>
        <p:spPr>
          <a:xfrm>
            <a:off x="1332000" y="450864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нисимова Л.В.</a:t>
            </a:r>
            <a:endParaRPr b="0" lang="en-US" sz="32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читель технологии</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БОУ БСОШ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Что положительного дает групповая форма работы учащихся?</a:t>
            </a: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Times New Roman"/>
              </a:rPr>
              <a:t>В-четвертых</a:t>
            </a:r>
            <a:r>
              <a:rPr b="0" lang="ru-RU" sz="2400" spc="-1" strike="noStrike">
                <a:solidFill>
                  <a:srgbClr val="000000"/>
                </a:solidFill>
                <a:latin typeface="Times New Roman"/>
              </a:rPr>
              <a:t>, в групповой работе используется исследовательский или поисковый метод, который развивает творческий подход учащихся и использованию уже полученных знаний.</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Times New Roman"/>
              </a:rPr>
              <a:t>В-пятых</a:t>
            </a:r>
            <a:r>
              <a:rPr b="0" lang="ru-RU" sz="2400" spc="-1" strike="noStrike">
                <a:solidFill>
                  <a:srgbClr val="000000"/>
                </a:solidFill>
                <a:latin typeface="Times New Roman"/>
              </a:rPr>
              <a:t>, использовать групповую форму работы можно достаточно широко и с разными вариантами на уроках обобщения и повторения, изучения нового материала, на семинарах, конференциях, диспутах, при проведении ролевых учебных игр.</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Times New Roman"/>
              </a:rPr>
              <a:t>В-шестых</a:t>
            </a:r>
            <a:r>
              <a:rPr b="0" lang="ru-RU" sz="2400" spc="-1" strike="noStrike">
                <a:solidFill>
                  <a:srgbClr val="000000"/>
                </a:solidFill>
                <a:latin typeface="Times New Roman"/>
              </a:rPr>
              <a:t>, в условиях групповой работы возникает благоприятный эмоциональный фон: исчезает страх перед учебной неудачей, возрастает уверенность учащихся в собственных силах, удовлетворяется потребность в общении, снижается утомляемость, стимулируется познавательный интере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Групповая форма имеет и свои недостатки</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 учитель должен иметь высокий уровень педагогического мастерства, чтобы организовать групповое обучение;</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 существуют трудности в комплектовании групп, так как в классе не всегда есть достаточное количество сильных учеников, которые могут быть лидерами группы.</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ажно учитывать уровень успеваемости, различную информированность, разную трудоспособность ребят, взаимоотношения в классе. От того, как учитель справится с проблемами, связанными с организацией групповой формы деятельности, зависит успешность урок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дивидуализированно-групповая форма учебно-познавательной деятельности</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Эта форма является дополнительной. Благодаря ей учитель имеет возможность на отдельных этапах урока специально заниматься с 1-2 учениками, не отрывая класс от работы по выполнению общего задания. Эта форма способствует предупреждению отставания слабых и создаёт лучшие условия для развития и повышения своего уровня знаний одарённых школьников. Эта форма организации познавательной деятельности учащихся на уроке может применяться при изучении нового материала, при проверке выполнения домашнего задания, при контроле знаний. Организация индивидуализированно-групповой работы требует высокого мастерства учителя, который должен уметь распределять внимание, использовать разнообразный дидактический материал, работая с отдельными учениками, преподаватель не должен выпускать из вида всех учащихся класса, всё, что происходит на уроке, должно быть в поле его зрени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ВЫВОД</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Эта форма деятельности школьников опирается на их самостоятельную работу, которую в методике обучения рассматривают и как форму организации обучения, и как вид учебной деятельности учащихся.</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аким образом, рационально организованная групповая (коллективная) деятельность учащихся не только позволяет решать познавательные задачи, способствует повышению эффективности обучения, но помогает становлению личности школьника, сплочению и развитию ученического коллекти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лассификация форм познавательной деятельности на урока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ыделяют 3 основные формы организации учебно-познавательной деятельности на уроке: фронтальная, индивидуальная, группова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ронтальная  работа учащихся на уроке подразумевает общую, одновременную работу со всем классом. Обращаясь к отдельному ученику, учитель учитывает весь класс, значение ответа одного ученика для всего класса. Это может быть следующее:</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 беседа;</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 обсуждение;</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3) сравне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ндивидуальная работа  учащихся на уроке подразумевает отдельную самостоятельную работу учащегося, подобранную в соответствии с уровнем его подготовки. Это может быть следующее:</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работа по карточкам;</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работа у доски;</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заполнение таблиц;</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написание рефератов, докладов;</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работа с учебниками и т. 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орма организации учебной деятельности учащихся на уроке важна для более эффективного проведения урока.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еобходимо отметить, что по отдельности каждую из трех форм организации учебной деятельности учащихся применять не рекомендуется. Только сочетание этих форм  – групповой, фронтальной и индивидуальной приносит ожидаемые положительные результат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Поле 2"/>
          <p:cNvSpPr/>
          <p:nvPr/>
        </p:nvSpPr>
        <p:spPr>
          <a:xfrm>
            <a:off x="2268360" y="404640"/>
            <a:ext cx="4897440" cy="79236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Формы познавательной деятельности</a:t>
            </a:r>
            <a:endParaRPr b="0" lang="en-US" sz="2000" spc="-1" strike="noStrike">
              <a:solidFill>
                <a:srgbClr val="000000"/>
              </a:solidFill>
              <a:latin typeface="Arial"/>
            </a:endParaRPr>
          </a:p>
        </p:txBody>
      </p:sp>
      <p:sp>
        <p:nvSpPr>
          <p:cNvPr id="76" name="Поле 12"/>
          <p:cNvSpPr/>
          <p:nvPr/>
        </p:nvSpPr>
        <p:spPr>
          <a:xfrm>
            <a:off x="971640" y="1628640"/>
            <a:ext cx="1728720" cy="72072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ронтальная</a:t>
            </a:r>
            <a:endParaRPr b="0" lang="en-US" sz="2000" spc="-1" strike="noStrike">
              <a:solidFill>
                <a:srgbClr val="000000"/>
              </a:solidFill>
              <a:latin typeface="Arial"/>
            </a:endParaRPr>
          </a:p>
        </p:txBody>
      </p:sp>
      <p:sp>
        <p:nvSpPr>
          <p:cNvPr id="77" name="Поле 12"/>
          <p:cNvSpPr/>
          <p:nvPr/>
        </p:nvSpPr>
        <p:spPr>
          <a:xfrm>
            <a:off x="3276720" y="1628640"/>
            <a:ext cx="2087280" cy="64800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ндивидуальная</a:t>
            </a:r>
            <a:endParaRPr b="0" lang="en-US" sz="2000" spc="-1" strike="noStrike">
              <a:solidFill>
                <a:srgbClr val="000000"/>
              </a:solidFill>
              <a:latin typeface="Arial"/>
            </a:endParaRPr>
          </a:p>
        </p:txBody>
      </p:sp>
      <p:sp>
        <p:nvSpPr>
          <p:cNvPr id="78" name="Поле 12"/>
          <p:cNvSpPr/>
          <p:nvPr/>
        </p:nvSpPr>
        <p:spPr>
          <a:xfrm>
            <a:off x="5796000" y="1700280"/>
            <a:ext cx="1422360" cy="41580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a:t>
            </a:r>
            <a:endParaRPr b="0" lang="en-US" sz="1800" spc="-1" strike="noStrike">
              <a:solidFill>
                <a:srgbClr val="000000"/>
              </a:solidFill>
              <a:latin typeface="Arial"/>
            </a:endParaRPr>
          </a:p>
        </p:txBody>
      </p:sp>
      <p:sp>
        <p:nvSpPr>
          <p:cNvPr id="79" name="Rectangle 7"/>
          <p:cNvSpPr/>
          <p:nvPr/>
        </p:nvSpPr>
        <p:spPr>
          <a:xfrm>
            <a:off x="3494520" y="2852280"/>
            <a:ext cx="16041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Личностны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Регулятивные</a:t>
            </a:r>
            <a:endParaRPr b="0" lang="en-US" sz="1800" spc="-1" strike="noStrike">
              <a:solidFill>
                <a:srgbClr val="000000"/>
              </a:solidFill>
              <a:latin typeface="Arial"/>
            </a:endParaRPr>
          </a:p>
        </p:txBody>
      </p:sp>
      <p:sp>
        <p:nvSpPr>
          <p:cNvPr id="80" name="Поле 20"/>
          <p:cNvSpPr/>
          <p:nvPr/>
        </p:nvSpPr>
        <p:spPr>
          <a:xfrm>
            <a:off x="5867280" y="2997360"/>
            <a:ext cx="2233800" cy="50292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ммуникативные</a:t>
            </a:r>
            <a:r>
              <a:rPr b="0" lang="ru-RU" sz="1200" spc="-1" strike="noStrike">
                <a:solidFill>
                  <a:srgbClr val="000000"/>
                </a:solidFill>
                <a:latin typeface="Times New Roman"/>
              </a:rPr>
              <a:t> </a:t>
            </a:r>
            <a:endParaRPr b="0" lang="en-US" sz="1200" spc="-1" strike="noStrike">
              <a:solidFill>
                <a:srgbClr val="000000"/>
              </a:solidFill>
              <a:latin typeface="Arial"/>
            </a:endParaRPr>
          </a:p>
        </p:txBody>
      </p:sp>
      <p:sp>
        <p:nvSpPr>
          <p:cNvPr id="81" name="Rectangle 9"/>
          <p:cNvSpPr/>
          <p:nvPr/>
        </p:nvSpPr>
        <p:spPr>
          <a:xfrm>
            <a:off x="1908000" y="4004640"/>
            <a:ext cx="5473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ормирование УУ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универсальные учебные действия)</a:t>
            </a:r>
            <a:endParaRPr b="0" lang="en-US" sz="1800" spc="-1" strike="noStrike">
              <a:solidFill>
                <a:srgbClr val="000000"/>
              </a:solidFill>
              <a:latin typeface="Arial"/>
            </a:endParaRPr>
          </a:p>
        </p:txBody>
      </p:sp>
      <p:sp>
        <p:nvSpPr>
          <p:cNvPr id="82" name="Line 10"/>
          <p:cNvSpPr/>
          <p:nvPr/>
        </p:nvSpPr>
        <p:spPr>
          <a:xfrm flipH="1">
            <a:off x="1692000" y="765000"/>
            <a:ext cx="266364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1"/>
          <p:cNvSpPr/>
          <p:nvPr/>
        </p:nvSpPr>
        <p:spPr>
          <a:xfrm>
            <a:off x="4427640" y="76500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2"/>
          <p:cNvSpPr/>
          <p:nvPr/>
        </p:nvSpPr>
        <p:spPr>
          <a:xfrm>
            <a:off x="4500720" y="765000"/>
            <a:ext cx="208728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13"/>
          <p:cNvSpPr/>
          <p:nvPr/>
        </p:nvSpPr>
        <p:spPr>
          <a:xfrm>
            <a:off x="4356000" y="206064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4"/>
          <p:cNvSpPr/>
          <p:nvPr/>
        </p:nvSpPr>
        <p:spPr>
          <a:xfrm>
            <a:off x="6588000" y="206064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15"/>
          <p:cNvSpPr/>
          <p:nvPr/>
        </p:nvSpPr>
        <p:spPr>
          <a:xfrm>
            <a:off x="4356000" y="35002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6"/>
          <p:cNvSpPr/>
          <p:nvPr/>
        </p:nvSpPr>
        <p:spPr>
          <a:xfrm flipH="1">
            <a:off x="4572000" y="3357720"/>
            <a:ext cx="2016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ирование УУД (учебных универсальных действий), в большей степени происходит при применении групповых и индивидуальных форм познавательной деятельност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Федеральном компоненте государственного стандарта второго поколения подчеркивается необходимость создания качественно новой личностно ориентированной развивающей модели школы. В основе Стандарта лежит системно-деятельностный подход, одним из важных критериев которого является - активная учебно-познавательная деятельность обучающихс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фронтальной форме организации работы все учащиеся выполняют одинаковые учебно-трудовые задания. Инструктирование учащихся (вводное, текущее, заключительное) и контроль над их работой я осуществляю одновременно для всех. Эта форма работы используется мной в начальный период освоения рабочих приёмов и трудовых операций. Такую форму организации деятельности учащихся я использую, к примеру, в 5-6 классах при изучении свойств волокон, освоении приёмов работы на швейной машине и при пошиве фартука и ночной сорочк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ложительной стороной этой формы работы является то, что каждая из учениц, работая в коллективе, осваивает приёмы само- и взаимоконтроля, взаимопомощи и в тоже время выполняет изделие или индивидуальную работу от начала до конца. При этом осваиваются все трудовые операции, каждый видит конкретный результат своей работы. Но в то же время каждый имеет индивидуальные особенности и различный уровень познавательных способностей, и это, в свою очередь, требует дифференциации трудовых знаний. Эту проблему я решаю, изменяя уровень сложности заданий для каждого учащегося. Например, более слабым учащимся при моделировании изделий  предлагаются варианты моделей невысокого уровня сложности, которые им будет легче раскроить и сшить. Более сильным - наоборо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ригадно-звеньевая форма организации работы предполагает деление учащихся на отдельные группы (звенья или бригады). Каждой группе выдаётся отдельное задание. Внутри каждого звена учащиеся выполняют одно задание. При этом внутри звена или бригады происходит разделение труда, каждый член группы выполняет часть общей работы. При такой организации деятельности хорошо развиваются навыки взаимоконтроля, саморегуляции трудовой деятельности, ответственности за общее дело. Эта форма работы может применяться при изготовлении какого-то сложного изделия.  Например, на уроках по  кулинар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Форма организации коллективной деятельности - это групповая работа над проектом. Конечно, чаще всего учащиеся работают с  индивидуальными проектами. Овладевая навыками работы в какой-либо области деятельности (вышивке, вязании или др.) девочки выбирают изготовление изделий в одной из этих областе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ледует отметить, что работать над коллективным проектом гораздо сложнее, и в группе обязательно должен быть лидер и организатор, должно быть творческое начало и огромное желание сделать что-то интересное и необычное. Каждый должен чувствовать ответственность за свою часть работы перед другими участниками группы и за общий результат и итог работы. Все члены группы обсуждают и планируют работу, каждый вносит свои предложения, замечания и все обсуждают и решают - принять их или отвергнуть. Предлагаются способы и средства изготовления и распределяются обязанности. Да, это сложно, но и интересн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отивация такой деятельности усиливается благодаря творческому характеру, самостоятельности, ответственности перед членами группы, возможности обосновать и выразить свою точку зрения на решение задачи.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пример,  коллективные проекты  в 8 классе по электротехник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ВЫВОД</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уществуют три основные формы организации учебно-познавательной деятельности учащихся на уроке: индивидуальная (самостоятельная работа учащихся), фронтальная и групповая. Каждая форма имеет свои недостатки и преимущества, поэтому, планируя урок, учитель должен подбирать сочетание форм так, чтобы усилить сильные и нейтрализовать слабые стороны каждой формы.</a:t>
            </a:r>
            <a:endParaRPr b="0" lang="en-US" sz="2400" spc="-1" strike="noStrike">
              <a:solidFill>
                <a:srgbClr val="000000"/>
              </a:solidFill>
              <a:latin typeface="Arial"/>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четание индивидуальной и коллективной работы в процессе изучения нового материала, опроса, повторения и закрепления, умение учитывать при этом индивидуальные особенности каждого учащегося, сильные и слабые стороны в их знаниях и навыках - также одна из наиболее важных, характерных черт качественного уро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Литература </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http://www.gumer.info/bibliotek_Buks/Pedagog/konspekt/74.php"</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mailto:i.parinowa@yandex.ru" 02.02.2012  1089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http://pedsovet.su/"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http://www.prodlenka.org/"</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http://knowledge.allbest.ru/cookery/2c0b65635b2ad68b5c43a88421216dhttp://festival.1september.ru/articles/583361/ Ирина Владимировна Коломойцева учитель технологии МОУ "Шайковская СОШ № 2", Кировский р-н, Калужская обл.</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http://nsportal.ru/horunzheva-nataliya-ivanovna</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http://murzim.ru/nauka/pedagogika/didaktika/26920-klassifikaciya-metodov-obucheniya-lerner-iya-skatkin-mn.html</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http://rspu.edu.ru/university/publish/schools/3/6.html</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http://priyatnogo-appetita.com/retsepty/itemlist/tag/.ht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Основная задача образования по ФГОС нового поколения</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оздание условий развития гармоничной, нравственно совершенной, социально активной, профессионально компетентной и саморазвивающейся личности через активизацию внутренних резервов.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азвитие личности происходит в процессе учебной деятельност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ы должны сформировать у  школьника основные компоненты учебной деятельности: учебно-познавательные мотивы, учебные действия, контроль и самоконтроль, оценку и самооценку.  А это возможно при особой организации учащихся в учебном процессе, а именно при использовании парной и групповой работы, где ребенок вооружается навыками самостоятельной деятельности, становится в позицию исследователя, становится равноправным участником обуч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Групповая деятельность</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оцесс организации познавательной коллективной деятельности учащихся, в ходе которой происходит раздел функций между учащимися, достигается их позитивная взаимозависимость, осуществляется взаимодействие, требующее индивидуальной ответственности каждог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ля работы в группах характерными признаками являются</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ожительная взаимозависимость участников (цель осознается как единая, требующая объединения усилий всех членов группы).</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Личная отчетность каждого о проделанной работе в группе (организация деятельности предполагает разделение труда, установление отношения ответственности за свою часть работы).</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дновременное взаимодействие учащихся (при подготовке группового задания и выступления группы на уроке).</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вноправное участие каждого в работе группы.</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тчетность групп (контроль деятельности частично осуществляется самими учащимися).</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ефлексивная деятельность в группах (коллективный анализ и самоанализ), через  рефлексию устанавливается отношение участника к собственному действию и обеспечивается адекватная коррекция этого действ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Рекомендации по созданию групп</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пределение размера группы (от 2 до 7 человек) в зависимости от целей деятельности, наличия учебных материалов, специфике задания.</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став групп и распределение учащихся по группам зависит от целей познавательной деятельности. Причем более эффективной бывает работа в постоянных группах. Даже слабые ученики находят общий язык внутри групп и приобретают умения межличностного общения.</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ыбор руководителя (лидера) группы осуществляют сами учащиеся, как правило, это хорошо успевающие ученики, пользующиеся авторитетом среди одноклассников.</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спределение заданий учителем для каждой группы и инструктаж.</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обходима специальная подготовка аудитории к работе с группами. Столы и стулья расставлены так, чтобы учащиеся могли видеть друг друга и спокойно общаться. Учитель должен иметь доступ к каждой группе.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ллективная деятельность может быть организована не только на уроке, это могут быть творческие задания, рассчитанные на длительный период – неделю, месяц, четверть.</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нечно, не на каждом уроке, возможно, использовать приемы, формы, методы групповой работы. В основном на уроках изучения нового материала имеющего довольно большой теоретический объем, уроках повторения и обобщ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Что положительного дает групповая форма работы учащихся?</a:t>
            </a: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Times New Roman"/>
              </a:rPr>
              <a:t>Во-первых</a:t>
            </a:r>
            <a:r>
              <a:rPr b="0" lang="ru-RU" sz="2800" spc="-1" strike="noStrike">
                <a:solidFill>
                  <a:srgbClr val="000000"/>
                </a:solidFill>
                <a:latin typeface="Times New Roman"/>
              </a:rPr>
              <a:t>, на таких занятиях возникает атмосфера соревнования, раскованности, что повышает заинтересованность учащихся в результатах своей работы.</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Times New Roman"/>
              </a:rPr>
              <a:t>Во-вторых</a:t>
            </a:r>
            <a:r>
              <a:rPr b="0" lang="ru-RU" sz="2800" spc="-1" strike="noStrike">
                <a:solidFill>
                  <a:srgbClr val="000000"/>
                </a:solidFill>
                <a:latin typeface="Times New Roman"/>
              </a:rPr>
              <a:t>, коллективная деятельность стимулирует сначала развитие умений анализа и оценки, потом взаимоанализа и взаимооценки, а затем – самоанализа и самооценки.</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Times New Roman"/>
              </a:rPr>
              <a:t>В-третьих</a:t>
            </a:r>
            <a:r>
              <a:rPr b="0" lang="ru-RU" sz="2800" spc="-1" strike="noStrike">
                <a:solidFill>
                  <a:srgbClr val="000000"/>
                </a:solidFill>
                <a:latin typeface="Times New Roman"/>
              </a:rPr>
              <a:t>, меняется роль учителя, который не дает готовых истин, а организует деятельность учащихся так, что ученики самостоятельно находят решение поставленных пробле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8-21T21:19:13Z</dcterms:created>
  <dc:creator>Admin</dc:creator>
  <dc:description/>
  <dc:language>en-US</dc:language>
  <cp:lastModifiedBy>1</cp:lastModifiedBy>
  <dcterms:modified xsi:type="dcterms:W3CDTF">2018-12-25T16:08:38Z</dcterms:modified>
  <cp:revision>5</cp:revision>
  <dc:subject/>
  <dc:title>Слайд 1</dc:title>
</cp:coreProperties>
</file>