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959F-AEA7-4368-A5D5-0918F73DE4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2CE-0FD7-4F21-B91F-26329C9F5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A43-A49D-4433-9FEE-6F27B6ED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6D6-BD5F-479A-9984-28AB5B5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321A-50C7-4E29-B54A-61939A7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11B5C-E7F1-4377-937F-25249A5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B2A94-6E72-4E9C-BB5D-DCABE9C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DCF2E-15C1-4400-BDBB-D5BEABA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2D5DE-1C55-46E4-8016-77B9F47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1F67-A27F-4F2D-86AB-D60E87B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5C3F-C3E1-4A9D-980F-16D8F1E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CE542-3A0B-4F85-9E7D-BA3132BB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4682E-83B8-4D67-AFE7-141AB0F5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097-B075-4449-BF36-8AF925EC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3BA-C211-4CBC-9D9A-34F6607C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310-2983-4351-9268-7A57CF9C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1E4-DB3D-4E26-9B59-9C23EB8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6C1-B112-443B-99FF-3CA0838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7B8-7A36-4B4C-BAE5-55A7B9D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4658-998A-4F38-BF4E-6FB8239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C249-FA29-452F-A0E7-F4784FC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853-351C-4F00-988B-C47770E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441-97A8-4731-83BB-306CE0A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79C8-9F5A-4E40-9925-9DFB8DD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B35-DE0D-4AA5-BBCF-E423E28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BE5-985D-482E-AD83-A4836CD9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D5B-B100-4A5B-80CC-D9C2717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11E-718C-483C-99B3-42FBF3E5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AEB1-4E71-4F4F-8275-41CA827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8767-DADD-48C7-93B6-6C6DA64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747F-543A-40FA-8842-3EDE7AA2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7AED-E84F-4CF1-8B2B-16A4EA5A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8546-3A9D-46EC-BC8E-B545561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E21-9D50-46D3-A345-0C02F99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F49A-290E-4AC7-A2A9-867E726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AE9B-541E-430C-8A56-3314CAB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9EB9-0CA6-423C-B73C-D5FAB95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F76B-61E0-458A-B605-FF4EA43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3AFF-AC27-4445-9D2F-9E4395F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A4E7-7388-45A5-B5E7-4B06841D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395E-8DEB-43D0-A5B4-7CA8AB5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ACE3-77A2-46F3-9FF5-BEF7160E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2099-C131-498F-9210-D4BFDB1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B63C-D9E2-46E6-BBE9-E9ED4B5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CA5-D4E3-4B73-AFC2-FE40648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7C26-3FC4-44AE-9E5C-1C6D73B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2BAF-6B1B-4824-9A5F-C4BA4CC6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1CE46-2995-4AA3-8143-52B1C3CA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94EB-E373-45F6-953C-33CBCD41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2E9F-6791-4404-A6F8-8D831980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9548-0809-4D26-A3F2-FE12ED4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B717-F5DA-45C3-9D4B-24B9827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2A25-C2E6-4034-B7CD-38B575D5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C628-1589-4C84-8576-7961C18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14040-F828-4499-A748-31F3A066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CB8-87F4-4E67-9F4C-9D64FA9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C0DA-752C-496F-9F63-030FBF5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F650-AF06-4C4D-A690-FCFC4BA1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B081-2859-4EAE-8CF1-48E7503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B22D-F1D5-4223-A0D3-5B0F6A3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2603-0607-4056-8B06-299C3D4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BA73-FEEF-4FC5-B473-D038AF5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B906B-74A9-4F3E-A395-202AC5B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FD83-8702-4D58-A835-D73E54B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38A0-A006-489E-97A1-1028262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E4A8-6D29-4E10-955A-456FBDEC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C34-6616-4745-9C06-838CFF8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D1AB-B6F7-4A6E-A95E-8F0FC84B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CAA1F-EC24-4251-9A31-E445FAE1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7918-A8D6-4CF1-9576-926E21DC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EB54-24EA-471F-A07F-0043FB7F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D8A8D-31E4-4157-9D5C-4B834E05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974C-74FB-4D3A-B6FA-41FA8AC7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485A-26B8-448C-945F-1D48C7F8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3717-D4EC-4862-9819-586FE26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1569-6129-468B-AA56-0439DE6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786C-6437-42D5-A8D5-85B08E5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33A-37D1-4D38-A498-9303E13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8FF6-9B4D-4874-B949-BEC2E44D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D588-5FB6-4767-A6CE-5BAEB621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FC78-8984-48AE-9348-20371C55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28BD-4E40-4D2C-B910-7EACF998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65E51-6F40-41A3-A789-6EFABE34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DAF3-15BB-4B6C-B9DA-20E8396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0678-6B94-463F-A2BC-F961A25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F9D81-475A-4EBE-B4B2-44E2FF1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81AB-C435-4F70-B749-D6C2088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C1C2-C782-4542-8230-F0B7F68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05F-4371-4A2B-86D8-4DF0D30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3F6A-9991-44D2-BE19-28A597E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F9990-5BF4-4459-A1C9-C45F599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CA16-8DEC-4056-92B0-74208453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9EA17-C8AA-4274-BD9D-79D9F015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0879-DB7D-48B3-B978-6628382E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895E-CB3D-4052-B158-E807F0C7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6F4BE-A70E-483B-9A02-11612BA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F24A-FDA2-4C9C-9B78-F4D6399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4CE7A-B434-4DC5-A6DD-687F4DF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C3379-346E-4CE9-9CEA-17636FA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CEF-3A87-4513-BC76-0EDB552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5EE1-72DE-465B-AF1C-DE46025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EE08-9B40-4C71-9893-1468F2B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A813B-41D3-4EBA-9CA0-5A63863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33FFD-A569-4E1B-BB8B-6CF5343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411D-7684-4286-9D77-B5CBAFD4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CC9E-D877-40F0-9FB0-E902E32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04CF-7E37-4D56-AA55-FA6DADC9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BB9BA-A0A8-4DD8-9EBC-E7E26267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D69B3-2C27-4648-B02B-1C30C43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D65A-564F-4A90-98A3-2EB690A3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323A-3683-4DB8-A73B-B970DD886CD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083A-2847-4F37-BAAA-3F07E7CDAE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01F2-70FF-40F4-9E0F-80271B4DACC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4FD-DC71-4164-A853-299EFA8E5CF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4FB5-F166-4F57-A2A9-00CB4A2B76A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11A-AD41-4E4D-8453-B3E3BB2E2BA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2770-915C-4DDB-83BA-7454AEDEDF4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F841-7A79-4F46-84F3-97A733E23AD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604A-08C3-409E-948C-1ED7FC3DB9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4067280" y="5805360"/>
            <a:ext cx="47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 «Логарифм числа. Свойства логарифм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Преподаватель Никола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ru-RU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351000" y="6040440"/>
                <a:ext cx="857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2"/>
              <p:cNvSpPr txBox="1"/>
              <p:nvPr/>
            </p:nvSpPr>
            <p:spPr>
              <a:xfrm>
                <a:off x="5303880" y="3071880"/>
                <a:ext cx="1036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77920" y="582444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3"/>
              <p:cNvSpPr txBox="1"/>
              <p:nvPr/>
            </p:nvSpPr>
            <p:spPr>
              <a:xfrm>
                <a:off x="5349960" y="3200400"/>
                <a:ext cx="885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277920" y="589608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5468760" y="3214800"/>
                <a:ext cx="63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277920" y="604044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4"/>
              <p:cNvSpPr txBox="1"/>
              <p:nvPr/>
            </p:nvSpPr>
            <p:spPr>
              <a:xfrm>
                <a:off x="3198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15"/>
              <p:cNvSpPr txBox="1"/>
              <p:nvPr/>
            </p:nvSpPr>
            <p:spPr>
              <a:xfrm>
                <a:off x="5060880" y="3000240"/>
                <a:ext cx="1451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8"/>
              <p:cNvSpPr txBox="1"/>
              <p:nvPr/>
            </p:nvSpPr>
            <p:spPr>
              <a:xfrm>
                <a:off x="407196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9"/>
              <p:cNvSpPr txBox="1"/>
              <p:nvPr/>
            </p:nvSpPr>
            <p:spPr>
              <a:xfrm>
                <a:off x="6665760" y="714240"/>
                <a:ext cx="812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74376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237200" y="5756400"/>
                <a:ext cx="739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3"/>
              <p:cNvSpPr txBox="1"/>
              <p:nvPr/>
            </p:nvSpPr>
            <p:spPr>
              <a:xfrm>
                <a:off x="1681200" y="575136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912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5"/>
              <p:cNvSpPr txBox="1"/>
              <p:nvPr/>
            </p:nvSpPr>
            <p:spPr>
              <a:xfrm>
                <a:off x="1487520" y="584280"/>
                <a:ext cx="1020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5167440" y="3301920"/>
                <a:ext cx="12063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277920" y="5894280"/>
                <a:ext cx="857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78000" y="987480"/>
                <a:ext cx="495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277920" y="596736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1566720" y="4103640"/>
                <a:ext cx="72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5205240" y="3071880"/>
                <a:ext cx="1160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06280" y="5967360"/>
                <a:ext cx="857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0"/>
              <p:cNvSpPr txBox="1"/>
              <p:nvPr/>
            </p:nvSpPr>
            <p:spPr>
              <a:xfrm>
                <a:off x="5137200" y="3129120"/>
                <a:ext cx="1297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422280" y="6040440"/>
                <a:ext cx="85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User</cp:lastModifiedBy>
  <dcterms:modified xsi:type="dcterms:W3CDTF">2018-10-31T18:56:36Z</dcterms:modified>
  <cp:revision>41</cp:revision>
  <dc:subject/>
  <dc:title>Карусель</dc:title>
</cp:coreProperties>
</file>