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A69E-9A6E-46FC-87BD-E621A3E95E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FB2D-ACEC-44DA-9CFF-E80DC8DBE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3E3-CD54-4388-A392-E9E221E9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FE9-6D13-4F05-8972-FBD0A631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BCF74-8F55-41D8-ADB3-BF049933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00BD6-172F-44E0-B446-4EE18BA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E94DC-9EA0-464D-A25F-504C25F8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D7B72-86FF-4B6E-865C-E5AE9BA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8545B-E8C5-4D95-B2C1-7CF602FD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69471-A07B-4418-AF07-1681BBD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D5773-0E61-401C-AA84-4DF1D003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499A7-1C91-4E1D-9DC2-F149C2EF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5C93A-D5E0-4B07-BFD3-91C0B491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9D8-10C6-4667-9621-6CBDBDA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631-0D2C-4D5B-AD7D-82BD3455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F251-3499-4FA9-A7C0-449C3CBD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49BD-3B45-47C2-84A3-CC693BB0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7224-0A88-4ABF-93F4-E8B593AA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5E15-F26C-4278-9318-944BE069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D43E-2B66-4E6A-9223-ED5E9FEA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73DE-FAF7-452F-B6CE-947DC52B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3C5B-6DE7-4958-AE59-7B31B3EB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A51-AB3B-4376-A08B-54D210DC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1B93-BB2F-4F18-B7A5-2D02391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99B9-6775-4409-A89B-A7435E3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705C-9154-4168-A09E-254F21C4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A6A-EBD6-4862-83A5-6B97D327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D744-8BDF-4A95-A315-08BB4FDD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144F-08FD-44C9-9355-2B3EA2AF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BEFA-686A-490F-9CF5-2A3EFD4F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9C60-F3DE-4700-B666-701ED0C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FCD2-D1A5-4963-8D85-5101255C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9DA2-6046-452C-B66F-A9AD89EB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2C4-A198-44F2-906A-06C827F4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6D92-96ED-4AE9-8FA6-46E4CF1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7132-B4D9-41A9-88D0-571C4B0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2571-D943-4D32-A62A-033078E3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8450-12A7-4E68-AD8B-6D95929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92CA-F9FB-4D34-A361-4E0907F3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31D2-7D05-494D-814A-8288764F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7C4D-766D-4947-AA23-B59C4881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EA5F-F444-4ACE-9931-D2507972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3C7B-A816-4977-A97C-C59FADFB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D2C1-3D3D-48EC-916B-6D442E8D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AB3-29FD-4A90-97FB-B00AD69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AC9B-0BFC-4B96-83DF-3C48D267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0727-C85F-42E9-942B-4F613E52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0471-0002-4350-9959-442AF2EB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1E80-BD42-40E6-89A0-566958D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3F67-D589-4AFF-BB67-401DFFDB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6F38-0368-4ADA-8093-50E2770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38A9-576C-4489-BF7D-6F4A5E9F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9AEC-0657-45A1-8173-88DADF5C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380CB-65BD-4174-96D2-00D1F8D2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27A5-30F4-4859-AC71-A3A5E8A6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C6F-7448-4920-92E0-760D2A83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4FCA2-1170-4D16-BB20-4084271D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4CF66-F9D1-46DA-8F2A-CA4A9E2B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AE9C1-E669-4DCF-AFA1-C056D169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4B02-8FBD-46FF-A8F8-620FCB1D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36BF-4132-4954-9112-505731F1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64FA-7EE0-49DD-9783-ADE5D0F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727A-E6A7-4377-88BB-D9A34CFD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1985-7F3B-41B1-8E45-3019DA9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084FF-EE7E-4EAE-B20C-84F0BD7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83BD-F778-4438-9A54-0D8A423A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DAA-C26E-4F23-875A-601F623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8BE5-D98C-46D6-8D82-768CB22F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1995-325F-483E-99F2-D1B10979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F12E-77D6-4A03-94D9-91E6F50A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46CF-98B4-47BC-8E9E-34DF54DE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96CF0-AD2A-402A-904F-6950FEF9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47EE3-C190-4C3C-9B2A-271C2726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DA6BC-32A4-4055-A623-5A7F3D42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77EE-35CA-484E-AA88-E27334A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565E-BA0B-40F7-B492-918B971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C2E9-3AF3-4089-BA0B-B8861C3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C62-DA43-4ADC-94CD-D3762F0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A9C4-1E81-41A8-99C0-11986661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3821E-ECDC-480F-880E-7120EF5E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E9745-704B-4307-9C26-274536BC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706FE-51AE-48F8-9E1E-32D8E004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D021-8A1E-415E-8CA9-5995E250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05D7-D3C8-49D5-BD4C-CD7D2ED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5A03-8316-46AC-ABC3-FE79409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AE798-76D2-4E5B-87EB-D30328D7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32280-D9FC-4638-BA6F-7DD015D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C53D-8463-4AF0-90EB-929D8899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6F9-23EA-4A53-82AF-DC41D0D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0ACF7-61ED-4055-9ABC-4CD7A01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27CD9-BACE-447E-9780-5B23F3E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7365B-1B24-41F5-B9E3-3BBA5AFD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711D-AB93-4C09-9C0A-A5C3BAED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2E4BB-A62F-4817-B49E-E9B60B8B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12054-8FD0-40B4-9A5B-1031B88F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8D18-B6CA-40E4-86FB-E674094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3357E-E917-4D33-A294-51768057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805CE-9230-453A-A449-F62055C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96271-3E48-4A8B-B8EE-B5885C44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235-174C-448C-A396-9EDBFEB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50908-05C8-466A-924C-620CF2AC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0F10F-83C9-405B-942B-17EAC3A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F166E-3972-40B1-9ECD-459A78D4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C210-D193-401E-ABA7-99ADDB4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7D178-AA11-4B69-8D4F-3864B438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AB228-8550-4A49-8765-72D4EE03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8D4A6-F9E6-4BFA-8B15-09492A4F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2E8E7-AF9D-499C-A16C-D351F7D4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647EB-536A-41B9-8730-6CA55D38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9DA5B-A799-406A-9B9E-EEF40767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5A5F-33FA-49D5-BFB5-D595BF91F42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80EF-D463-4823-9BDF-E695166916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4D8-1793-437D-BE59-1AE3B188C26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4C5E-A8EC-496D-991D-348FA0047646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D0F0-1D5B-4A3D-9D46-F99CFB56B59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CC91-7F94-4B81-8B7F-3EA37522DCB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449-DF52-48F1-B67A-FA147BCB027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7A2-C188-47E5-90A1-E846B72B807C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184-DAC6-43E8-A244-DED63E6393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4"/>
          <p:cNvSpPr/>
          <p:nvPr/>
        </p:nvSpPr>
        <p:spPr>
          <a:xfrm>
            <a:off x="4067280" y="5805360"/>
            <a:ext cx="47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 «Логарифм числа. Свойства логарифм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Преподаватель Николае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ru-RU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351000" y="6040440"/>
                <a:ext cx="857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2"/>
              <p:cNvSpPr txBox="1"/>
              <p:nvPr/>
            </p:nvSpPr>
            <p:spPr>
              <a:xfrm>
                <a:off x="5303880" y="3071880"/>
                <a:ext cx="1036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77920" y="582444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3"/>
              <p:cNvSpPr txBox="1"/>
              <p:nvPr/>
            </p:nvSpPr>
            <p:spPr>
              <a:xfrm>
                <a:off x="5349960" y="3200400"/>
                <a:ext cx="885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3"/>
              <p:cNvSpPr txBox="1"/>
              <p:nvPr/>
            </p:nvSpPr>
            <p:spPr>
              <a:xfrm>
                <a:off x="277920" y="589608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14"/>
              <p:cNvSpPr txBox="1"/>
              <p:nvPr/>
            </p:nvSpPr>
            <p:spPr>
              <a:xfrm>
                <a:off x="5468760" y="3214800"/>
                <a:ext cx="633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3"/>
              <p:cNvSpPr txBox="1"/>
              <p:nvPr/>
            </p:nvSpPr>
            <p:spPr>
              <a:xfrm>
                <a:off x="277920" y="604044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4"/>
              <p:cNvSpPr txBox="1"/>
              <p:nvPr/>
            </p:nvSpPr>
            <p:spPr>
              <a:xfrm>
                <a:off x="3198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15"/>
              <p:cNvSpPr txBox="1"/>
              <p:nvPr/>
            </p:nvSpPr>
            <p:spPr>
              <a:xfrm>
                <a:off x="5060880" y="3000240"/>
                <a:ext cx="14511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8"/>
              <p:cNvSpPr txBox="1"/>
              <p:nvPr/>
            </p:nvSpPr>
            <p:spPr>
              <a:xfrm>
                <a:off x="407196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9"/>
              <p:cNvSpPr txBox="1"/>
              <p:nvPr/>
            </p:nvSpPr>
            <p:spPr>
              <a:xfrm>
                <a:off x="6665760" y="714240"/>
                <a:ext cx="812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0"/>
              <p:cNvSpPr txBox="1"/>
              <p:nvPr/>
            </p:nvSpPr>
            <p:spPr>
              <a:xfrm>
                <a:off x="74376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2"/>
              <p:cNvSpPr txBox="1"/>
              <p:nvPr/>
            </p:nvSpPr>
            <p:spPr>
              <a:xfrm>
                <a:off x="4237200" y="5756400"/>
                <a:ext cx="739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3"/>
              <p:cNvSpPr txBox="1"/>
              <p:nvPr/>
            </p:nvSpPr>
            <p:spPr>
              <a:xfrm>
                <a:off x="1681200" y="575136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4"/>
              <p:cNvSpPr txBox="1"/>
              <p:nvPr/>
            </p:nvSpPr>
            <p:spPr>
              <a:xfrm>
                <a:off x="912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5"/>
              <p:cNvSpPr txBox="1"/>
              <p:nvPr/>
            </p:nvSpPr>
            <p:spPr>
              <a:xfrm>
                <a:off x="1487520" y="584280"/>
                <a:ext cx="1020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5167440" y="3301920"/>
                <a:ext cx="12063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277920" y="5894280"/>
                <a:ext cx="8571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78000" y="987480"/>
                <a:ext cx="495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277920" y="596736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1566720" y="4103640"/>
                <a:ext cx="727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0"/>
              <p:cNvSpPr txBox="1"/>
              <p:nvPr/>
            </p:nvSpPr>
            <p:spPr>
              <a:xfrm>
                <a:off x="5205240" y="3071880"/>
                <a:ext cx="1160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06280" y="5967360"/>
                <a:ext cx="857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10"/>
              <p:cNvSpPr txBox="1"/>
              <p:nvPr/>
            </p:nvSpPr>
            <p:spPr>
              <a:xfrm>
                <a:off x="5137200" y="3129120"/>
                <a:ext cx="1297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422280" y="6040440"/>
                <a:ext cx="85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User</cp:lastModifiedBy>
  <dcterms:modified xsi:type="dcterms:W3CDTF">2018-10-31T18:56:36Z</dcterms:modified>
  <cp:revision>41</cp:revision>
  <dc:subject/>
  <dc:title>Карусель</dc:title>
</cp:coreProperties>
</file>