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7001-AFD1-4BCD-97CC-3F7BB0AB1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E5B0-4A90-46C2-94A0-31C98FA94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1F8F-D144-4D44-96A1-C73953F4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C960-28E1-41B7-BE11-D510B015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8D4A-29B5-4EA7-B3D4-822E90F1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711D-C628-4811-AA25-41699DE0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597C3-ABBA-4BD9-86CA-F0F03CA0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1396-4EFF-4F75-BE24-68E947FD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6D0-7079-4B9A-B770-4A475C14A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4DEB-A3BB-4D62-B490-6900813D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0032-5414-4943-A53D-1A5CF795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573E-0ADE-42C1-8222-18684BF0A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92D4-FC53-4E7B-AA48-00F31780C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9640" y="907920"/>
            <a:ext cx="7921800" cy="453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следовательская работ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стория здания начальных классов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У СОШ № 2 г.Задонск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огвиновой Евгении Алексеевны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ченицы 3"А" класс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аучный руководитель: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марова Светлана Ивановна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315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Газета «Задонский листок» за 1901 год пишет, что в 1901 году там был  склад пиво-медоваренного завода.  В нём  хранили пиво, мёд, квас, минеральную воду, фруктовые лимонад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6360" y="3860640"/>
            <a:ext cx="3292200" cy="21495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6443640" y="3716280"/>
            <a:ext cx="2266920" cy="22766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539640" y="3500280"/>
            <a:ext cx="1928880" cy="25974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22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 июля 1901года в этом доме была открыта чайная-читальня, где продавался дешевый чай, и можно было почитать журналы и газет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572000" y="2924280"/>
            <a:ext cx="4249800" cy="2922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95280" y="3141720"/>
            <a:ext cx="3989520" cy="2494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56000" y="274680"/>
            <a:ext cx="4330800" cy="58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Еще в этом доме находился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модно- галантерейный магазин М.Н.Аристова. Здесь можно было купить ленты, нитки, пуговицы, духи, пудру и другие товары для задонских модниц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324000" y="1052640"/>
            <a:ext cx="3641400" cy="46195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508360" y="260280"/>
            <a:ext cx="3490920" cy="632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В 1917 году в России к власти пришли большевики. В стране началась гражданская война. У богатых забирали их имущество. Это называлось национализация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5407200" cy="6048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После национализации в 1918 году в доме купца С.И. Галкина размещались уездный и волостной исполкомы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84360" y="1773360"/>
            <a:ext cx="3382920" cy="4752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4932360" y="1773360"/>
            <a:ext cx="3403440" cy="4897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826920" y="1844640"/>
            <a:ext cx="279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.И. Лен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В 1938 году в этом здании была открыта политпросветшкола Орловской област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79280" y="1916280"/>
            <a:ext cx="3248280" cy="476244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5796000" y="2060640"/>
            <a:ext cx="3208320" cy="45306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3564000" y="2637000"/>
            <a:ext cx="2087640" cy="3240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20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 довоенные, военные и послевоенные  годы (1940-1950)в этом здании была базовая начальная школа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6842160" cy="4248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91520" cy="27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1954 году здесь открылось Липецкое областное  культпросветучилище. На двух отделениях КПУ, клубном и библиотечном, обучались 551 человек. Позднее к уже существующим отделениям добавилось режиссерское, хореографическое, хоровое, оркестров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979640" y="2781360"/>
            <a:ext cx="5473800" cy="38145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5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Создатель ансамбля «Казаки России», его художественный руководитель и главный балетмейстер, заслуженный артист России Леонид Милованов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8475480" cy="358776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Рок - музыканты Гарик Сукачёв и Сергей Галанин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3338280" cy="492300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5140080" cy="34099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79280" y="609480"/>
            <a:ext cx="8805960" cy="541188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В 1997г. КПУ переехало в г. Липецк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8514" r="10870" b="0"/>
          <a:stretch/>
        </p:blipFill>
        <p:spPr>
          <a:xfrm>
            <a:off x="755640" y="1628640"/>
            <a:ext cx="7632720" cy="43405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1476360" y="2205000"/>
            <a:ext cx="6192720" cy="43927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  <p:sp>
        <p:nvSpPr>
          <p:cNvPr id="88" name=""/>
          <p:cNvSpPr/>
          <p:nvPr/>
        </p:nvSpPr>
        <p:spPr>
          <a:xfrm>
            <a:off x="179280" y="44280"/>
            <a:ext cx="8785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С 1999 года и по настояще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в  доме купца Семёна Ивановича Галки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находятся начальные  классы  МОУ СОШ №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Здесь учатся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276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учеников в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класс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Цель нашей работы: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  выяснить историю здания начальной школ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Задач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становить, кому принадлежало это зд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Выяснить какие организации размещались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Узнать какие интересные события происходили в нём, или интересные люди бывали в нё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В чем уникальность города Задонск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6920" y="1628640"/>
            <a:ext cx="7632720" cy="45784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Город Задонск, "будучи довольно правильно выстроен со многими хорошими домами и находясь в живописной местности - принадлежит к числу лучших уездных городов губернии"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Северная часть Задонска - Дворянская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2060640"/>
            <a:ext cx="8532720" cy="35668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Южная часть Задонска – Мещанская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705440" cy="448632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Arial"/>
              </a:rPr>
              <a:t>Из  материалов Памятной книжки Воронежского уезда на 1887год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На углу Московской и Соборной улицы находился дом купца Галкина. Галкин Семен Иванович, задонский мещанин - есть в списке лиц, имеющих право  участвовать в городском избирательном собрании Задонска. Стоимость принадлежащего ему городского недвижимого имущества оценивалась в 10 000 рублей - это  самая большая сумма в этом списке,  даже больше, чем у городского головы.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22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По данным, полученным в Задонском музее, до революции дом купца Галкина С.И., который занимался виноторговлей, содержал постоялый двор и тракти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92360" y="2637000"/>
            <a:ext cx="5400720" cy="4051080"/>
          </a:xfrm>
          <a:prstGeom prst="rect">
            <a:avLst/>
          </a:prstGeom>
          <a:ln w="19080">
            <a:solidFill>
              <a:srgbClr val="333399"/>
            </a:solidFill>
            <a:miter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17:14:45Z</dcterms:created>
  <dc:creator>XP GAME 2007</dc:creator>
  <dc:description/>
  <dc:language>en-US</dc:language>
  <cp:lastModifiedBy>Елена</cp:lastModifiedBy>
  <dcterms:modified xsi:type="dcterms:W3CDTF">2010-11-15T20:35:05Z</dcterms:modified>
  <cp:revision>280</cp:revision>
  <dc:subject/>
  <dc:title>Выпуск газеты</dc:title>
</cp:coreProperties>
</file>