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6EAA-164F-49C7-BD4B-139A0D42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8FED-5846-4608-B0E0-E412BD51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C774-880A-4BB9-9CEC-B5D6F45DE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23AD-A1D3-4E03-9CE8-3E9411A0C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5113-A62D-4A47-9747-36AB4D8F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9A90-A835-4CF4-985A-7C7C5D8D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63F3-10E0-4A0F-B29C-EA48A89C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D20A-4DA3-46D4-99B9-B75F19E9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0A24-D8FB-43F4-A829-3DA227E0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B6BC-F81E-483E-87A1-40E0D63B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D824-BC97-4A91-BD49-05536514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CB50-FEEF-44E7-A07E-8EFE8B0B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A2F25-F82E-478B-83F2-45FFF0106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907920"/>
            <a:ext cx="792180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следовательская работ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рия здания начальных классов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У СОШ № 2 г.Задонск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огвиновой Евгении Алексеевны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еницы 3"А" класс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учный руководитель: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марова Светлана Ивановн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Газета «Задонский листок» за 1901 год пишет, что в 1901 году там был  склад пиво-медоваренного завода.  В нём  хранили пиво, мёд, квас, минеральную воду, фруктовые лимона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916360" y="3860640"/>
            <a:ext cx="3292200" cy="214956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443640" y="3716280"/>
            <a:ext cx="2266920" cy="227664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39640" y="3500280"/>
            <a:ext cx="1928880" cy="259740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1 июля 1901года в этом доме была открыта чайная-читальня, где продавался дешевый чай, и можно было почитать журналы и газеты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0" y="2924280"/>
            <a:ext cx="4249800" cy="292248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95280" y="3141720"/>
            <a:ext cx="3989520" cy="249408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56000" y="274680"/>
            <a:ext cx="43308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Еще в этом доме находился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модно- галантерейный магазин М.Н.Аристова. Здесь можно было купить ленты, нитки, пуговицы, духи, пудру и другие товары для задонских модниц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3641400" cy="461952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360" y="260280"/>
            <a:ext cx="349092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В 1917 году в России к власти пришли большевики. В стране началась гражданская война. У богатых забирали их имущество. Это называлось национализация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5407200" cy="604872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сле национализации в 1918 году в доме купца С.И. Галкина размещались уездный и волостной исполкомы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3382920" cy="475272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932360" y="1773360"/>
            <a:ext cx="3403440" cy="489744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826920" y="1844640"/>
            <a:ext cx="27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.И. Лен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В 1938 году в этом здании была открыта политпросветшкола Орловской област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3248280" cy="476244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796000" y="2060640"/>
            <a:ext cx="3208320" cy="453060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564000" y="2637000"/>
            <a:ext cx="2087640" cy="324000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 довоенные, военные и послевоенные  годы (1940-1950)в этом здании была базовая начальная школа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87280" y="2421000"/>
            <a:ext cx="6842160" cy="424800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9152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954 году здесь открылось Липецкое областное  культпросветучилище. На двух отделениях КПУ, клубном и библиотечном, обучались 551 человек. Позднее к уже существующим отделениям добавилось режиссерское, хореографическое, хоровое, оркестро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979640" y="2781360"/>
            <a:ext cx="5473800" cy="381456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оздатель ансамбля «Казаки России», его художественный руководитель и главный балетмейстер, заслуженный артист России Леонид Милованов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8475480" cy="358776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Рок - музыканты Гарик Сукачёв и Сергей Галанин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3338280" cy="492300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780000" y="2349360"/>
            <a:ext cx="5140080" cy="340992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9280" y="609480"/>
            <a:ext cx="8805960" cy="541188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В 1997г. КПУ переехало в г. Липецк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8514" r="10870" b="0"/>
          <a:stretch/>
        </p:blipFill>
        <p:spPr>
          <a:xfrm>
            <a:off x="755640" y="1628640"/>
            <a:ext cx="7632720" cy="434052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76360" y="2205000"/>
            <a:ext cx="6192720" cy="439272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179280" y="44280"/>
            <a:ext cx="8785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 1999 года и по настояще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 доме купца Семёна Ивановича Галк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ходятся начальные  классы  МОУ СОШ №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десь учатся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76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учеников в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клас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Цель нашей работы: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выяснить историю здания начальной школ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Установить, кому принадлежало это з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ыяснить какие организации размещались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Узнать какие интересные события происходили в нём, или интересные люди бывали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В чем уникальность города Задонс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7632720" cy="457848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Город Задонск, "будучи довольно правильно выстроен со многими хорошими домами и находясь в живописной местности - принадлежит к числу лучших уездных городов губернии"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Северная часть Задонска - Дворянска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8532720" cy="356688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Южная часть Задонска – Мещанска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7705440" cy="448632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Из  материалов Памятной книжки Воронежского уезда на 1887год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а углу Московской и Соборной улицы находился дом купца Галкина. Галкин Семен Иванович, задонский мещанин - есть в списке лиц, имеющих право  участвовать в городском избирательном собрании Задонска. Стоимость принадлежащего ему городского недвижимого имущества оценивалась в 10 000 рублей - это  самая большая сумма в этом списке,  даже больше, чем у городского головы.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о данным, полученным в Задонском музее, до революции дом купца Галкина С.И., который занимался виноторговлей, содержал постоялый двор и тракт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92360" y="2637000"/>
            <a:ext cx="5400720" cy="405108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17:14:45Z</dcterms:created>
  <dc:creator>XP GAME 2007</dc:creator>
  <dc:description/>
  <dc:language>en-US</dc:language>
  <cp:lastModifiedBy>Елена</cp:lastModifiedBy>
  <dcterms:modified xsi:type="dcterms:W3CDTF">2010-11-15T20:35:05Z</dcterms:modified>
  <cp:revision>280</cp:revision>
  <dc:subject/>
  <dc:title>Выпуск газеты</dc:title>
</cp:coreProperties>
</file>