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868-36EC-4159-A126-7FA96AB6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CD45-9F29-4C33-9FB6-BAB10D20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1FC1-BE7F-4E0E-B209-DBE80293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5D0-8FFE-4A99-BA3C-B12C0FEC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3893-CE33-4495-934A-EB2EFF7F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6AF5-E37A-4A79-85EB-9EB951E2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1E8B-D8D6-4AFA-A868-832ED171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BAF-72C4-48BC-B837-1A257B84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F6D1-8B00-4F9B-BFCC-22CE89EA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2456-0339-4418-83BB-BAA80CE8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8DB9-8E82-4FFD-92BD-8E95D07A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E2E-D446-4494-BE56-DEE675EB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8823-8D02-4B50-92A5-488061CE3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Классный час </a:t>
            </a:r>
            <a:br>
              <a:rPr sz="4800"/>
            </a:b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Искусств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о </a:t>
            </a: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природ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3573360"/>
            <a:ext cx="52578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Клод Моне </a:t>
            </a:r>
            <a:br>
              <a:rPr sz="4800"/>
            </a:b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«Дама в саду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66880" y="2351160"/>
            <a:ext cx="464184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Тюльпаны Голланд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0004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Monotype Corsiva"/>
              </a:rPr>
              <a:t>Мыс Анти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18472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Monotype Corsiva"/>
              </a:rPr>
              <a:t>Бордиге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50403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Цве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9676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Хризанте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23720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Ф.А. Васильев </a:t>
            </a:r>
            <a:br>
              <a:rPr sz="4800"/>
            </a:b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«Мокрый луг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3240" y="1600200"/>
            <a:ext cx="7335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Г.Г. Мясоедов </a:t>
            </a:r>
            <a:br>
              <a:rPr sz="4800"/>
            </a:b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«Дорога во ржи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&amp;Ocy;&amp;pcy;&amp;icy;&amp;scy;&amp;acy;&amp;ncy;&amp;icy;&amp;iecy; &amp;kcy;&amp;acy;&amp;rcy;&amp;tcy;&amp;icy;&amp;ncy;&amp;ycy; &amp;Gcy;&amp;rcy;&amp;icy;&amp;gcy;&amp;ocy;&amp;rcy;&amp;icy;&amp;yacy; &amp;Mcy;&amp;yacy;&amp;scy;&amp;ocy;&amp;iecy;&amp;dcy;&amp;ocy;&amp;vcy;&amp;acy; «&amp;Dcy;&amp;ocy;&amp;rcy;&amp;ocy;&amp;gcy;&amp;acy; &amp;vcy;&amp;ocy; &amp;rcy;&amp;zhcy;&amp;icy;»"/>
          <p:cNvPicPr/>
          <p:nvPr/>
        </p:nvPicPr>
        <p:blipFill>
          <a:blip r:embed="rId1"/>
          <a:stretch/>
        </p:blipFill>
        <p:spPr>
          <a:xfrm>
            <a:off x="1116000" y="2060640"/>
            <a:ext cx="6746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Monotype Corsiva"/>
              </a:rPr>
              <a:t>В. Поленов </a:t>
            </a:r>
            <a:br>
              <a:rPr sz="5400"/>
            </a:br>
            <a:r>
              <a:rPr b="0" lang="en-US" sz="5400" spc="-1" strike="noStrike">
                <a:solidFill>
                  <a:srgbClr val="ff3300"/>
                </a:solidFill>
                <a:latin typeface="Monotype Corsiva"/>
              </a:rPr>
              <a:t>«Золотая осень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&amp;Scy;&amp;ocy;&amp;chcy;&amp;icy;&amp;ncy;&amp;iecy;&amp;ncy;&amp;icy;&amp;iecy; &amp;pcy;&amp;ocy; &amp;kcy;&amp;acy;&amp;rcy;&amp;tcy;&amp;icy;&amp;ncy;&amp;iecy; &amp;Pcy;&amp;ocy;&amp;lcy;&amp;iecy;&amp;ncy;&amp;ocy;&amp;vcy;&amp;acy; &amp;Zcy;&amp;ocy;&amp;lcy;&amp;ocy;&amp;tcy;&amp;acy;&amp;yacy; &amp;ocy;&amp;scy;&amp;iecy;&amp;ncy;&amp;softcy; 3, 4 &amp;kcy;&amp;lcy;&amp;acy;&amp;scy;&amp;scy; (&amp;ocy;&amp;pcy;&amp;icy;&amp;scy;&amp;acy;&amp;ncy;&amp;icy;&amp;iecy;)"/>
          <p:cNvPicPr/>
          <p:nvPr/>
        </p:nvPicPr>
        <p:blipFill>
          <a:blip r:embed="rId1"/>
          <a:stretch/>
        </p:blipFill>
        <p:spPr>
          <a:xfrm>
            <a:off x="1876320" y="2195640"/>
            <a:ext cx="60087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Monotype Corsiva"/>
              </a:rPr>
              <a:t>И.И. Левит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Levitan-Isaak-tihaya-obitel"/>
          <p:cNvPicPr/>
          <p:nvPr/>
        </p:nvPicPr>
        <p:blipFill>
          <a:blip r:embed="rId1"/>
          <a:stretch/>
        </p:blipFill>
        <p:spPr>
          <a:xfrm>
            <a:off x="2627280" y="1700280"/>
            <a:ext cx="46087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Вес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Levitan-Isaak-vesna-bolshaya-voda"/>
          <p:cNvPicPr/>
          <p:nvPr/>
        </p:nvPicPr>
        <p:blipFill>
          <a:blip r:embed="rId1"/>
          <a:stretch/>
        </p:blipFill>
        <p:spPr>
          <a:xfrm>
            <a:off x="2124000" y="119700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Золотая осе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Levitan-Isaak-zolotaya-osen"/>
          <p:cNvPicPr/>
          <p:nvPr/>
        </p:nvPicPr>
        <p:blipFill>
          <a:blip r:embed="rId1"/>
          <a:stretch/>
        </p:blipFill>
        <p:spPr>
          <a:xfrm>
            <a:off x="1908000" y="126828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Levitan-Isaak-osennij-den-sokolniki"/>
          <p:cNvPicPr/>
          <p:nvPr/>
        </p:nvPicPr>
        <p:blipFill>
          <a:blip r:embed="rId1"/>
          <a:stretch/>
        </p:blipFill>
        <p:spPr>
          <a:xfrm>
            <a:off x="1979640" y="1557360"/>
            <a:ext cx="4608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И. И. Левит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Levitan-Isaak-vechernij-zvon"/>
          <p:cNvPicPr/>
          <p:nvPr/>
        </p:nvPicPr>
        <p:blipFill>
          <a:blip r:embed="rId1"/>
          <a:stretch/>
        </p:blipFill>
        <p:spPr>
          <a:xfrm>
            <a:off x="2268360" y="2421000"/>
            <a:ext cx="41752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7:23:44Z</dcterms:created>
  <dc:creator>Admin</dc:creator>
  <dc:description/>
  <dc:language>en-US</dc:language>
  <cp:lastModifiedBy>Admin</cp:lastModifiedBy>
  <dcterms:modified xsi:type="dcterms:W3CDTF">2017-09-28T17:54:33Z</dcterms:modified>
  <cp:revision>2</cp:revision>
  <dc:subject/>
  <dc:title>Искусство о природе</dc:title>
</cp:coreProperties>
</file>