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716-6CBE-439C-91EA-6DD68349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0D7-3CC7-4A5A-927E-EC3F48F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FEE-B646-4DC4-9E7D-51FB27C4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438-F7B9-42BC-ADFC-C4F46405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FA6-1C24-4F91-8A29-53F4171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4A9-2130-4C55-90F4-BD1CECF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FC4-A78F-42F9-84ED-B9F9EA0B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55F-ED43-4E53-B178-A8AB6D0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DA7-2E2C-42AB-99C2-6671BEBC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026-26A7-4351-9AE8-0460E89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B4B-D272-410A-B101-5707A12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7AD-D559-429B-A0F1-4F88474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9B9B-0938-4187-A176-C2CDB280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Классный час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Искус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о </a:t>
            </a: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5257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Клод Моне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Дама в сад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51160"/>
            <a:ext cx="46418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Тюльпаны Голланд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00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Мыс Анти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184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Бордиг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040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Ц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676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Хризанте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2372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Ф.А. Васильев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Мокрый л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Г.Г. Мясоедов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Дорога во ржи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Ocy;&amp;pcy;&amp;icy;&amp;scy;&amp;acy;&amp;ncy;&amp;icy;&amp;iecy; &amp;kcy;&amp;acy;&amp;rcy;&amp;tcy;&amp;icy;&amp;ncy;&amp;ycy; &amp;Gcy;&amp;rcy;&amp;icy;&amp;gcy;&amp;ocy;&amp;rcy;&amp;icy;&amp;yacy; &amp;Mcy;&amp;yacy;&amp;scy;&amp;ocy;&amp;iecy;&amp;dcy;&amp;ocy;&amp;vcy;&amp;acy; «&amp;Dcy;&amp;ocy;&amp;rcy;&amp;ocy;&amp;gcy;&amp;acy; &amp;vcy;&amp;ocy; &amp;rcy;&amp;zhcy;&amp;icy;»"/>
          <p:cNvPicPr/>
          <p:nvPr/>
        </p:nvPicPr>
        <p:blipFill>
          <a:blip r:embed="rId1"/>
          <a:stretch/>
        </p:blipFill>
        <p:spPr>
          <a:xfrm>
            <a:off x="1116000" y="2060640"/>
            <a:ext cx="674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В. Поленов 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«Золотая осень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Scy;&amp;ocy;&amp;chcy;&amp;icy;&amp;ncy;&amp;iecy;&amp;ncy;&amp;icy;&amp;iecy; &amp;pcy;&amp;ocy; &amp;kcy;&amp;acy;&amp;rcy;&amp;tcy;&amp;icy;&amp;ncy;&amp;iecy; &amp;Pcy;&amp;ocy;&amp;lcy;&amp;iecy;&amp;ncy;&amp;ocy;&amp;vcy;&amp;acy; &amp;Zcy;&amp;ocy;&amp;lcy;&amp;ocy;&amp;tcy;&amp;acy;&amp;yacy; &amp;ocy;&amp;scy;&amp;iecy;&amp;ncy;&amp;softcy; 3, 4 &amp;kcy;&amp;lcy;&amp;acy;&amp;scy;&amp;scy; (&amp;ocy;&amp;pcy;&amp;icy;&amp;scy;&amp;acy;&amp;ncy;&amp;icy;&amp;iecy;)"/>
          <p:cNvPicPr/>
          <p:nvPr/>
        </p:nvPicPr>
        <p:blipFill>
          <a:blip r:embed="rId1"/>
          <a:stretch/>
        </p:blipFill>
        <p:spPr>
          <a:xfrm>
            <a:off x="1876320" y="2195640"/>
            <a:ext cx="60087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И.И. Левит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Levitan-Isaak-tihaya-obitel"/>
          <p:cNvPicPr/>
          <p:nvPr/>
        </p:nvPicPr>
        <p:blipFill>
          <a:blip r:embed="rId1"/>
          <a:stretch/>
        </p:blipFill>
        <p:spPr>
          <a:xfrm>
            <a:off x="2627280" y="1700280"/>
            <a:ext cx="46087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Вес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Levitan-Isaak-vesna-bolshaya-voda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Золотая ос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vitan-Isaak-zolotaya-osen"/>
          <p:cNvPicPr/>
          <p:nvPr/>
        </p:nvPicPr>
        <p:blipFill>
          <a:blip r:embed="rId1"/>
          <a:stretch/>
        </p:blipFill>
        <p:spPr>
          <a:xfrm>
            <a:off x="1908000" y="1268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Levitan-Isaak-osennij-den-sokolniki"/>
          <p:cNvPicPr/>
          <p:nvPr/>
        </p:nvPicPr>
        <p:blipFill>
          <a:blip r:embed="rId1"/>
          <a:stretch/>
        </p:blipFill>
        <p:spPr>
          <a:xfrm>
            <a:off x="197964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И. И. Леви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Levitan-Isaak-vechernij-zvon"/>
          <p:cNvPicPr/>
          <p:nvPr/>
        </p:nvPicPr>
        <p:blipFill>
          <a:blip r:embed="rId1"/>
          <a:stretch/>
        </p:blipFill>
        <p:spPr>
          <a:xfrm>
            <a:off x="2268360" y="24210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7:23:44Z</dcterms:created>
  <dc:creator>Admin</dc:creator>
  <dc:description/>
  <dc:language>en-US</dc:language>
  <cp:lastModifiedBy>Admin</cp:lastModifiedBy>
  <dcterms:modified xsi:type="dcterms:W3CDTF">2017-09-28T17:54:33Z</dcterms:modified>
  <cp:revision>2</cp:revision>
  <dc:subject/>
  <dc:title>Искусство о природе</dc:title>
</cp:coreProperties>
</file>