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80F-1C99-4B85-A0B3-52F7ED7657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D5BA-BB4F-4FDD-A868-88184E9350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E605-27DA-405A-8AB3-FCC90811C6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4977-BEFF-4F4D-8A67-93C414948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6FBE-FFE2-4F69-B3DA-C1A97C7B3B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72CD-EE1F-47E5-A9A9-A9809343FF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1F38-AA38-4565-9D83-33C3AD45C3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DBC1-B37E-48E8-B258-9A2E47C585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0DB4-090B-4C6E-8B85-3DBC3FC611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E470-D9C2-4F3A-B40E-78540D4C84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6B27-67A4-44D4-8FE6-5BFF54E25B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7FF3-B604-474C-8F73-1A7A3A12B1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A323-1E91-4B0F-8BB5-1F60C44C03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2D9-9BC7-4AF2-8B43-1ED61E925A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EA29-AB0B-4751-A330-C82B6C3F1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5F5-2997-4220-86BC-70F27CC6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863-6ADC-4F53-89D3-B8D7D957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7D8-E4D4-4661-81F7-AC3ABE24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770-9BB0-4944-A11E-B6112E2E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C03-1420-4E53-A2A7-C22FFEE1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D33-BF4B-4D27-B593-837208E8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7CE-A78D-4DB6-BDED-1A2C0001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6AB-1EB2-4153-9278-37252D1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BBB-E7D1-45D7-8B4A-3D3E16BA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952-30FB-4FC4-8432-927CD781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50D-9073-4932-9779-DAC743A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114-4809-4E02-897A-AFB8002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F197-4F35-42A8-AE4B-5A2C6A7B0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Мастер – класс по изготовлению птичек из шерстяных ниток 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оспитатель Лукина И.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638567.jpg"/>
          <p:cNvPicPr/>
          <p:nvPr/>
        </p:nvPicPr>
        <p:blipFill>
          <a:blip r:embed="rId1"/>
          <a:stretch/>
        </p:blipFill>
        <p:spPr>
          <a:xfrm>
            <a:off x="1766880" y="2647800"/>
            <a:ext cx="5108760" cy="381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Обязательное условие заинтересовать дет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773000"/>
            <a:ext cx="4176720" cy="48243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то сидит в тенистом пар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На рябиновых ветв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расногрудый, в чёрной шап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зади крылышки блестя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есь напыщенный и важ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к из дальних стран визи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Знают все, и знает кажд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Что зовут его … снеги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(И. Захарова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1699920"/>
            <a:ext cx="4041720" cy="475308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опросили снегири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Алой краски у Зари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 Мне не жал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 Заря сказала,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рудки им разрисовала,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Лишь за крылышки взялась...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тайка раз - и поднялась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т теперь всем ясно,-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очему у снегирей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олько грудки крас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 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(Т. Прописн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Ребёнок должен иметь         право вы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5" descr="117187560_Sinichki_i_vorobushki_iz_pryazhi_Masterklass__1_.jpg"/>
          <p:cNvPicPr/>
          <p:nvPr/>
        </p:nvPicPr>
        <p:blipFill>
          <a:blip r:embed="rId1"/>
          <a:stretch/>
        </p:blipFill>
        <p:spPr>
          <a:xfrm>
            <a:off x="1522440" y="1844640"/>
            <a:ext cx="6145200" cy="4608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авила безопасной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6" descr="img17.jpg"/>
          <p:cNvPicPr/>
          <p:nvPr/>
        </p:nvPicPr>
        <p:blipFill>
          <a:blip r:embed="rId1"/>
          <a:stretch/>
        </p:blipFill>
        <p:spPr>
          <a:xfrm>
            <a:off x="0" y="1197000"/>
            <a:ext cx="4908600" cy="3681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12" descr="img4.jpg"/>
          <p:cNvPicPr/>
          <p:nvPr/>
        </p:nvPicPr>
        <p:blipFill>
          <a:blip r:embed="rId2"/>
          <a:stretch/>
        </p:blipFill>
        <p:spPr>
          <a:xfrm>
            <a:off x="4151160" y="285264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Материалы и оборудов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73000"/>
            <a:ext cx="3960720" cy="48243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ы изготовления игрушки «Птички» из пряжи; пряжа черного, красного и серого цветов; бусины для глаз; семечка изготовления клюва; ножницы на каждого участника, белая бумага формата А4; простые карандаши, клей ПВА (можно использовать клей-карандаш); клеенки на ст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6" descr="hello_html_m39c08a2e.jpg"/>
          <p:cNvPicPr/>
          <p:nvPr/>
        </p:nvPicPr>
        <p:blipFill>
          <a:blip r:embed="rId1"/>
          <a:stretch/>
        </p:blipFill>
        <p:spPr>
          <a:xfrm>
            <a:off x="4427640" y="2301840"/>
            <a:ext cx="4546440" cy="3359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Обязательное условие – выполнение требований Сан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img1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1 этап – распределение ни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2 этап – изготовление гру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3 этап – изготовление крыль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4 этап – изготовление хв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16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5 этап декорирование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тог – хорошее настроение от совместной работы и                             готовая поделка на праздник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2124000" y="2523960"/>
            <a:ext cx="568188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грушка - обере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8920" y="1196640"/>
            <a:ext cx="4969080" cy="566100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Немного из истории. Издавна куклы (игрушки)-обереги предназначались для защиты людей от влияния злых сил.   Их изготавливали без применения ножниц и иголки. По народным поверьям кукла без лица считалась, недоступной для вселения в неё злых сил, а значит и безвредной для ребёнка. А птичек изготавливали ранней весной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ими украшали дома, ветви деревьев и костюм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5" descr="image-0-02-05-70dddcbd67e67e8607e14090ec69f52334c5ca79179458c239419f17366f30cf-V.jpg"/>
          <p:cNvPicPr/>
          <p:nvPr/>
        </p:nvPicPr>
        <p:blipFill>
          <a:blip r:embed="rId1"/>
          <a:stretch/>
        </p:blipFill>
        <p:spPr>
          <a:xfrm>
            <a:off x="493236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озерцайте природу и 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становитесь творцами!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 новогодними пожеланиями Лукина И.А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611280" y="220500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7" descr="images-3.jpg"/>
          <p:cNvPicPr/>
          <p:nvPr/>
        </p:nvPicPr>
        <p:blipFill>
          <a:blip r:embed="rId2"/>
          <a:stretch/>
        </p:blipFill>
        <p:spPr>
          <a:xfrm>
            <a:off x="4046400" y="2773440"/>
            <a:ext cx="4773600" cy="3176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тички - обере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773000"/>
            <a:ext cx="3889440" cy="43923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акже птички обычно вешались над колыбелью ребёнка или давалась в руки для игры. Малыш мог дуть на птичку, трогать ручками, приводя её в движение. Это было и игрой, и упражнением.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тица является символом домашнего гнезда, счаст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6" descr="hello_html_m39c08a2e.jpg"/>
          <p:cNvPicPr/>
          <p:nvPr/>
        </p:nvPicPr>
        <p:blipFill>
          <a:blip r:embed="rId1"/>
          <a:stretch/>
        </p:blipFill>
        <p:spPr>
          <a:xfrm>
            <a:off x="4456080" y="2276640"/>
            <a:ext cx="4518000" cy="3389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тичка как новогодня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3640" y="1484280"/>
            <a:ext cx="4103640" cy="518472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тичку можно сделать не только как оберег , но и как новогоднюю игрушку.     В разработанном мной проекте  «Природа и художник» с применением  нетрадиционных техник включены занятия по изготовлению птиц во всех группах (рисование нетрадиционными способами, аппликация, оригами, с помощью шерстяных нит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6" descr="hello_html_m39c08a2e.jpg"/>
          <p:cNvPicPr/>
          <p:nvPr/>
        </p:nvPicPr>
        <p:blipFill>
          <a:blip r:embed="rId1"/>
          <a:stretch/>
        </p:blipFill>
        <p:spPr>
          <a:xfrm>
            <a:off x="4456080" y="2278080"/>
            <a:ext cx="4518000" cy="3386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тицы как символ добра, верности и любви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Работы из детских и взрослых ладош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20160414_101741.jpg"/>
          <p:cNvPicPr/>
          <p:nvPr/>
        </p:nvPicPr>
        <p:blipFill>
          <a:blip r:embed="rId1"/>
          <a:stretch/>
        </p:blipFill>
        <p:spPr>
          <a:xfrm>
            <a:off x="509760" y="2182680"/>
            <a:ext cx="3935160" cy="3935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image-0-02-05-4d89035b06330c96b35b6229246d94fe26e5982fc1da8589694c677fa788cf5b-V.jpg"/>
          <p:cNvPicPr/>
          <p:nvPr/>
        </p:nvPicPr>
        <p:blipFill>
          <a:blip r:embed="rId2"/>
          <a:stretch/>
        </p:blipFill>
        <p:spPr>
          <a:xfrm>
            <a:off x="4645080" y="2421000"/>
            <a:ext cx="432756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 весенним праздникам: Дню птиц, Пас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20160414_101741.jpg"/>
          <p:cNvPicPr/>
          <p:nvPr/>
        </p:nvPicPr>
        <p:blipFill>
          <a:blip r:embed="rId1"/>
          <a:stretch/>
        </p:blipFill>
        <p:spPr>
          <a:xfrm>
            <a:off x="171360" y="2492280"/>
            <a:ext cx="4178520" cy="3133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6" descr="image-0-02-05-a312c4be4eae3d22cda636f8afef0dd1e0d4df13bf8053447b9d186e3b6fbaf3-V.jpg"/>
          <p:cNvPicPr/>
          <p:nvPr/>
        </p:nvPicPr>
        <p:blipFill>
          <a:blip r:embed="rId2"/>
          <a:stretch/>
        </p:blipFill>
        <p:spPr>
          <a:xfrm>
            <a:off x="4549680" y="27637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Нужно помнить, что важен не только сам праздни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13" descr="IMG_20161208_160355_46.jpg"/>
          <p:cNvPicPr/>
          <p:nvPr/>
        </p:nvPicPr>
        <p:blipFill>
          <a:blip r:embed="rId1"/>
          <a:stretch/>
        </p:blipFill>
        <p:spPr>
          <a:xfrm>
            <a:off x="225360" y="2637000"/>
            <a:ext cx="4170600" cy="2936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00720" y="1557000"/>
            <a:ext cx="4464000" cy="50403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но и момент подготовки к нему. Именно этот процесс остается в памяти, а если украшали дом вместе с теми, кто вам близок, то праздник становится еще более желанным, а впечатления от него  яркими и теплыми. И поэтому мы сегодня с вами тоже подготовимся к празднику - будем все вместе изготавливать поделку своими ру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Цель: Создать условия для совместной деятельности детей, родителей и воспитателя.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Изготовление поделки своими ру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20160414_101741.jpg"/>
          <p:cNvPicPr/>
          <p:nvPr/>
        </p:nvPicPr>
        <p:blipFill>
          <a:blip r:embed="rId1"/>
          <a:stretch/>
        </p:blipFill>
        <p:spPr>
          <a:xfrm>
            <a:off x="1092240" y="2349360"/>
            <a:ext cx="7250040" cy="4152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68280"/>
            <a:ext cx="8362800" cy="53294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ознакомить детей и родителей с изготовлением игрушки из пряжи «Птичка». Развивать внимание, воображение, аккурат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бучать детей различным приемам работы с пряжей, умению следовать устным инстру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спитывать у детей усидчивость, терпение, мелкую моторику, глазомер, художественный вкус и творческие способности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иться понимать друг друга. Обсуждать процесс совместной деятельности и оценивать результат. Воспитывать культуру труда, коммуникативные способности детей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оздать предпраздничное настроен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1:59Z</dcterms:created>
  <dc:creator>Helen</dc:creator>
  <dc:description/>
  <dc:language>en-US</dc:language>
  <cp:lastModifiedBy>RePack by Diakov</cp:lastModifiedBy>
  <dcterms:modified xsi:type="dcterms:W3CDTF">2018-12-25T13:34:51Z</dcterms:modified>
  <cp:revision>30</cp:revision>
  <dc:subject/>
  <dc:title>Слайд 1</dc:title>
</cp:coreProperties>
</file>