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0B7-B0CB-42EB-B667-9038776D90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1394-8B47-46E5-BE90-01EBA64F82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29B5-1021-4DCE-8FF9-413CA502E9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F72-25B6-42AA-B4E0-CA86EDF29E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2BB-AE0C-403D-A46D-E74F4D777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629-63BC-49BA-A191-9EB326D8F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89CD-DEF4-4722-9542-40CCD41792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E25-447A-4A59-AEF0-62335F500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1522-8D74-47AD-BA82-36659891C9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9183-125F-473E-9427-110AD1CBEE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BAC-7FDC-4B7C-A85F-0D8EC6E2D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C7F-B540-43D9-9F2C-B261643AE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222-186C-4A29-8F82-403E4788C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FF4F-A680-4293-86C0-4F32E2549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F4A-EEC3-403F-8C80-CC52BC312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DCF-6AF0-4A88-84AE-A34B8EB6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D28-37C0-4A72-B039-B525FE2A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9AC-4C41-444C-A3E2-A7514260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7A6-021F-4BBA-9C85-151B71F9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AE3-C9C7-4C33-90F2-7335233B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218-21BC-493E-9E4B-4C2BF60E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8C5-96EE-4C07-BE35-C9BE4986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A9E-A04F-472D-BCDF-D8658D6A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74A-663C-49B8-BAE4-2220F2FA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F63-49C1-481E-A24C-5EB7F2C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6CA-A4EF-4258-8115-36B8F64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38D-AE0E-4C1B-9CCB-08A4E9D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CF0A-A902-4B06-BA64-8C88A1E05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Мастер – класс по изготовлению птичек из шерстяных ниток 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оспитатель Лукина И.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638567.jpg"/>
          <p:cNvPicPr/>
          <p:nvPr/>
        </p:nvPicPr>
        <p:blipFill>
          <a:blip r:embed="rId1"/>
          <a:stretch/>
        </p:blipFill>
        <p:spPr>
          <a:xfrm>
            <a:off x="1766880" y="2647800"/>
            <a:ext cx="5108760" cy="381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бязательное условие заинтересовать де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773000"/>
            <a:ext cx="4176720" cy="4824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то сидит в тенистом пар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а рябиновых ветв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расногрудый, в чёрной шап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зади крылышки блест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есь напыщенный и важ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к из дальних стран визи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Знают все, и знает кажд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Что зовут его … снеги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(И. Захарова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1699920"/>
            <a:ext cx="4041720" cy="475308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просили снегири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лой краски у Зари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Мне не жал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 Заря сказала,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рудки им разрисовала,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Лишь за крылышки взялась..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тайка раз - и поднялась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т теперь всем ясно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чему у снегирей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лько грудки крас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 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(Т. Прописн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Ребёнок должен иметь         право вы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5" descr="117187560_Sinichki_i_vorobushki_iz_pryazhi_Masterklass__1_.jpg"/>
          <p:cNvPicPr/>
          <p:nvPr/>
        </p:nvPicPr>
        <p:blipFill>
          <a:blip r:embed="rId1"/>
          <a:stretch/>
        </p:blipFill>
        <p:spPr>
          <a:xfrm>
            <a:off x="1522440" y="1844640"/>
            <a:ext cx="6145200" cy="4608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авила безопасной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6" descr="img17.jpg"/>
          <p:cNvPicPr/>
          <p:nvPr/>
        </p:nvPicPr>
        <p:blipFill>
          <a:blip r:embed="rId1"/>
          <a:stretch/>
        </p:blipFill>
        <p:spPr>
          <a:xfrm>
            <a:off x="0" y="1197000"/>
            <a:ext cx="4908600" cy="3681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12" descr="img4.jpg"/>
          <p:cNvPicPr/>
          <p:nvPr/>
        </p:nvPicPr>
        <p:blipFill>
          <a:blip r:embed="rId2"/>
          <a:stretch/>
        </p:blipFill>
        <p:spPr>
          <a:xfrm>
            <a:off x="4151160" y="285264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Материалы и оборудов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73000"/>
            <a:ext cx="3960720" cy="4824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ы изготовления игрушки «Птички» из пряжи; пряжа черного, красного и серого цветов; бусины для глаз; семечка изготовления клюва; ножницы на каждого участника, белая бумага формата А4; простые карандаши, клей ПВА (можно использовать клей-карандаш); клеенки на ст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6" descr="hello_html_m39c08a2e.jpg"/>
          <p:cNvPicPr/>
          <p:nvPr/>
        </p:nvPicPr>
        <p:blipFill>
          <a:blip r:embed="rId1"/>
          <a:stretch/>
        </p:blipFill>
        <p:spPr>
          <a:xfrm>
            <a:off x="4427640" y="2301840"/>
            <a:ext cx="4546440" cy="3359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Обязательное условие – выполнение требований Сан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img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1 этап – распределение ни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2 этап – изготовление гру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3 этап – изготовление крыл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4 этап – изготовление хв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 этап декорирование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тог – хорошее настроение от совместной работы и                             готовая поделка на праздник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2124000" y="2523960"/>
            <a:ext cx="568188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грушка - обер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1196640"/>
            <a:ext cx="4969080" cy="56610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Немного из истории. Издавна куклы (игрушки)-обереги предназначались для защиты людей от влияния злых сил.   Их изготавливали без применения ножниц и иголки. По народным поверьям кукла без лица считалась, недоступной для вселения в неё злых сил, а значит и безвредной для ребёнка. А птичек изготавливали ранней весной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ими украшали дома, ветви деревьев и костюм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5" descr="image-0-02-05-70dddcbd67e67e8607e14090ec69f52334c5ca79179458c239419f17366f30cf-V.jpg"/>
          <p:cNvPicPr/>
          <p:nvPr/>
        </p:nvPicPr>
        <p:blipFill>
          <a:blip r:embed="rId1"/>
          <a:stretch/>
        </p:blipFill>
        <p:spPr>
          <a:xfrm>
            <a:off x="493236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зерцайте природу и 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становитесь творцами!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 новогодними пожеланиями Лукина И.А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IMG_20161208_160327_42(1).jpg"/>
          <p:cNvPicPr/>
          <p:nvPr/>
        </p:nvPicPr>
        <p:blipFill>
          <a:blip r:embed="rId1"/>
          <a:stretch/>
        </p:blipFill>
        <p:spPr>
          <a:xfrm>
            <a:off x="611280" y="220500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7" descr="images-3.jpg"/>
          <p:cNvPicPr/>
          <p:nvPr/>
        </p:nvPicPr>
        <p:blipFill>
          <a:blip r:embed="rId2"/>
          <a:stretch/>
        </p:blipFill>
        <p:spPr>
          <a:xfrm>
            <a:off x="4046400" y="2773440"/>
            <a:ext cx="4773600" cy="317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тички - обер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773000"/>
            <a:ext cx="3889440" cy="4392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акже птички обычно вешались над колыбелью ребёнка или давалась в руки для игры. Малыш мог дуть на птичку, трогать ручками, приводя её в движение. Это было и игрой, и упражнением.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тица является символом домашнего гнезда, счаст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6" descr="hello_html_m39c08a2e.jpg"/>
          <p:cNvPicPr/>
          <p:nvPr/>
        </p:nvPicPr>
        <p:blipFill>
          <a:blip r:embed="rId1"/>
          <a:stretch/>
        </p:blipFill>
        <p:spPr>
          <a:xfrm>
            <a:off x="4456080" y="2276640"/>
            <a:ext cx="4518000" cy="3389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тичка как новогодня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3640" y="1484280"/>
            <a:ext cx="4103640" cy="51847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тичку можно сделать не только как оберег , но и как новогоднюю игрушку.     В разработанном мной проекте  «Природа и художник» с применением  нетрадиционных техник включены занятия по изготовлению птиц во всех группах (рисование нетрадиционными способами, аппликация, оригами, с помощью шерстяных нит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hello_html_m39c08a2e.jpg"/>
          <p:cNvPicPr/>
          <p:nvPr/>
        </p:nvPicPr>
        <p:blipFill>
          <a:blip r:embed="rId1"/>
          <a:stretch/>
        </p:blipFill>
        <p:spPr>
          <a:xfrm>
            <a:off x="4456080" y="2278080"/>
            <a:ext cx="4518000" cy="3386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тицы как символ добра, верности и любви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аботы из детских и взрослых ладош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20160414_101741.jpg"/>
          <p:cNvPicPr/>
          <p:nvPr/>
        </p:nvPicPr>
        <p:blipFill>
          <a:blip r:embed="rId1"/>
          <a:stretch/>
        </p:blipFill>
        <p:spPr>
          <a:xfrm>
            <a:off x="509760" y="2182680"/>
            <a:ext cx="3935160" cy="393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image-0-02-05-4d89035b06330c96b35b6229246d94fe26e5982fc1da8589694c677fa788cf5b-V.jpg"/>
          <p:cNvPicPr/>
          <p:nvPr/>
        </p:nvPicPr>
        <p:blipFill>
          <a:blip r:embed="rId2"/>
          <a:stretch/>
        </p:blipFill>
        <p:spPr>
          <a:xfrm>
            <a:off x="4645080" y="2421000"/>
            <a:ext cx="432756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 весенним праздникам: Дню птиц, Пас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20160414_101741.jpg"/>
          <p:cNvPicPr/>
          <p:nvPr/>
        </p:nvPicPr>
        <p:blipFill>
          <a:blip r:embed="rId1"/>
          <a:stretch/>
        </p:blipFill>
        <p:spPr>
          <a:xfrm>
            <a:off x="171360" y="2492280"/>
            <a:ext cx="4178520" cy="313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image-0-02-05-a312c4be4eae3d22cda636f8afef0dd1e0d4df13bf8053447b9d186e3b6fbaf3-V.jpg"/>
          <p:cNvPicPr/>
          <p:nvPr/>
        </p:nvPicPr>
        <p:blipFill>
          <a:blip r:embed="rId2"/>
          <a:stretch/>
        </p:blipFill>
        <p:spPr>
          <a:xfrm>
            <a:off x="4549680" y="2763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Нужно помнить, что важен не только сам праздни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13" descr="IMG_20161208_160355_46.jpg"/>
          <p:cNvPicPr/>
          <p:nvPr/>
        </p:nvPicPr>
        <p:blipFill>
          <a:blip r:embed="rId1"/>
          <a:stretch/>
        </p:blipFill>
        <p:spPr>
          <a:xfrm>
            <a:off x="225360" y="2637000"/>
            <a:ext cx="4170600" cy="2936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00720" y="1557000"/>
            <a:ext cx="4464000" cy="50403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о и момент подготовки к нему. Именно этот процесс остается в памяти, а если украшали дом вместе с теми, кто вам близок, то праздник становится еще более желанным, а впечатления от него  яркими и теплыми. И поэтому мы сегодня с вами тоже подготовимся к празднику - будем все вместе изготавливать поделку своими ру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Цель: Создать условия для совместной деятельности детей, родителей и воспитателя.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зготовление поделк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20160414_101741.jpg"/>
          <p:cNvPicPr/>
          <p:nvPr/>
        </p:nvPicPr>
        <p:blipFill>
          <a:blip r:embed="rId1"/>
          <a:stretch/>
        </p:blipFill>
        <p:spPr>
          <a:xfrm>
            <a:off x="1092240" y="2349360"/>
            <a:ext cx="7250040" cy="4152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ознакомить детей и родителей с изготовлением игрушки из пряжи «Птичка». Развивать внимание, воображение, аккурат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бучать детей различным приемам работы с пряжей, умению следовать устным инстру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спитывать у детей усидчивость, терпение, мелкую моторику, глазомер, художественный вкус и творческие способности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ься понимать друг друга. Обсуждать процесс совместной деятельности и оценивать результат. Воспитывать культуру труда, коммуникативные способности детей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оздать предпраздничное настро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1:59Z</dcterms:created>
  <dc:creator>Helen</dc:creator>
  <dc:description/>
  <dc:language>en-US</dc:language>
  <cp:lastModifiedBy>RePack by Diakov</cp:lastModifiedBy>
  <dcterms:modified xsi:type="dcterms:W3CDTF">2018-12-25T13:34:51Z</dcterms:modified>
  <cp:revision>30</cp:revision>
  <dc:subject/>
  <dc:title>Слайд 1</dc:title>
</cp:coreProperties>
</file>