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2738-04E8-460D-B37D-B6275D1AA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4800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856800" y="3396240"/>
            <a:ext cx="4800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9BC7-3A8E-4B2B-B900-4E7C1B882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6680" y="97632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856800" y="339624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316680" y="339624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FB1A-EB87-4A7D-8EF6-56867A3F7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1545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480040" y="976320"/>
            <a:ext cx="1545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102920" y="976320"/>
            <a:ext cx="1545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856800" y="3396240"/>
            <a:ext cx="1545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2480040" y="3396240"/>
            <a:ext cx="1545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4102920" y="3396240"/>
            <a:ext cx="1545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D50C-C612-4A4B-89EA-CC1FBB546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CF757-BA0D-4FB0-9192-25BF5F889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56800" y="976320"/>
            <a:ext cx="4800600" cy="46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02FFC-3FB6-4D24-8FD9-75A0913EA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480060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6E697-C4CE-46BA-80B1-00DD3916C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234252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16680" y="976320"/>
            <a:ext cx="234252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745DE-F06A-4982-A7D7-E9ADCFB88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9D909-EC05-4FE2-B228-63135AC3D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344240" y="5829120"/>
            <a:ext cx="488484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013A2-B3B1-4AB6-ACBA-03BEEB4EC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6680" y="976320"/>
            <a:ext cx="234252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56800" y="339624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83456-30CB-42DB-BDD7-C9D467FF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856800" y="976320"/>
            <a:ext cx="4800600" cy="46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5ABB-9686-4DDF-B4F6-5DBF54ADE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234252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6680" y="97632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316680" y="339624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9B0AE-99F3-47C0-86A4-C22F576B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6680" y="97632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56800" y="3396240"/>
            <a:ext cx="4800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96DE8-86BE-44B7-9301-AAE5CEF6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4800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56800" y="3396240"/>
            <a:ext cx="4800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7AE9B-1648-4B26-9574-E98CBFAAE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6680" y="97632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56800" y="339624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316680" y="339624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DB82C-09E0-4FC6-A183-E46A0E5DE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1545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480040" y="976320"/>
            <a:ext cx="1545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102920" y="976320"/>
            <a:ext cx="1545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56800" y="3396240"/>
            <a:ext cx="1545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480040" y="3396240"/>
            <a:ext cx="1545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102920" y="3396240"/>
            <a:ext cx="1545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97CEC-C5E3-4B0D-9D31-79B041D1F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084C1-CBFD-4639-A8D5-39D0285FA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56800" y="976320"/>
            <a:ext cx="4800600" cy="46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63A14-F2B9-4A3F-AD7D-349E22891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480060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950A0-6C5F-443A-8A43-4078FDF43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234252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16680" y="976320"/>
            <a:ext cx="234252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F2FE0-810A-4407-BCC3-B2109D36F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FCF0F-8D95-4C24-A0C8-83BB4C5FF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480060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01FA-D470-415A-B144-32FE367F7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344240" y="5829120"/>
            <a:ext cx="488484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67D85-17DB-4D1D-BD0F-C5E7BB409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16680" y="976320"/>
            <a:ext cx="234252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56800" y="339624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3F0A3-EDB4-4C6E-AF8E-3C2CB73E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234252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16680" y="97632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316680" y="339624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2FD07-7C8C-4819-86CC-0089F12C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16680" y="97632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56800" y="3396240"/>
            <a:ext cx="4800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56867-2C97-4FDE-809D-9E56F83B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4800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856800" y="3396240"/>
            <a:ext cx="4800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E0B9F-0FE1-4CDF-93F0-3FA064733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316680" y="97632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56800" y="339624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3316680" y="339624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6D060-5290-4274-933F-382FE1631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1545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2480040" y="976320"/>
            <a:ext cx="1545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102920" y="976320"/>
            <a:ext cx="1545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856800" y="3396240"/>
            <a:ext cx="1545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2480040" y="3396240"/>
            <a:ext cx="1545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4102920" y="3396240"/>
            <a:ext cx="1545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F3B51-B396-4527-84B3-C4896DF70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3F994-BF76-42F2-90D7-3FFB8BBA5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856800" y="976320"/>
            <a:ext cx="4800600" cy="46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96BA4-918D-4AE9-ACA8-C20E48487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480060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C92DB-D909-40AB-B1C6-F60F8D9E8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234252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316680" y="976320"/>
            <a:ext cx="234252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7018-370B-400D-A885-FB6DD9904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234252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316680" y="976320"/>
            <a:ext cx="234252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7D370-0C40-4478-A8D5-D8B2C02BA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74F77-4C1A-4AB2-9021-F0FE38248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344240" y="5829120"/>
            <a:ext cx="488484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100B6-3D7F-472B-9D48-48473C3A2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6680" y="976320"/>
            <a:ext cx="234252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56800" y="339624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255C4-086A-4243-A024-F8F43B27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234252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316680" y="97632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3316680" y="339624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47FEA-1631-41CC-8A24-7A267A4C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16680" y="97632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56800" y="3396240"/>
            <a:ext cx="4800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C6CD7-F5E5-48A0-A2B1-3B7A1287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4800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856800" y="3396240"/>
            <a:ext cx="4800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A0614-33D3-48AE-BFDC-A2A5D4C0D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316680" y="97632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856800" y="339624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3316680" y="339624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F493E-70D8-42D4-AEB7-B7356E912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1545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2480040" y="976320"/>
            <a:ext cx="1545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102920" y="976320"/>
            <a:ext cx="1545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856800" y="3396240"/>
            <a:ext cx="1545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2480040" y="3396240"/>
            <a:ext cx="1545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4102920" y="3396240"/>
            <a:ext cx="1545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79728-581A-4A90-9306-A389B96E7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BF52-6979-47E2-82BB-DB6B6865F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344240" y="5829120"/>
            <a:ext cx="488484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DB2F-8C8D-41F3-ADB1-4F618477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316680" y="976320"/>
            <a:ext cx="234252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56800" y="339624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4660-567E-41EF-9F00-34E6C4B2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234252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316680" y="97632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316680" y="339624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3971-48BD-42D9-A12F-E7786AED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6680" y="97632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56800" y="3396240"/>
            <a:ext cx="4800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77B6-C5D0-4D7E-9D0E-E943632E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6802560"/>
            <a:ext cx="6870960" cy="2347920"/>
            <a:chOff x="-6480" y="6802560"/>
            <a:chExt cx="6870960" cy="234792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6802560"/>
              <a:ext cx="6870960" cy="23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6807240"/>
              <a:ext cx="6858000" cy="233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6870960" cy="6821640"/>
            <a:chOff x="-6480" y="-6480"/>
            <a:chExt cx="6870960" cy="682164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6870960" cy="682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6858000" cy="68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5024520"/>
            <a:ext cx="6858000" cy="3047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2127240"/>
            <a:ext cx="6870960" cy="6821640"/>
            <a:chOff x="-6480" y="2127240"/>
            <a:chExt cx="6870960" cy="682164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2127240"/>
              <a:ext cx="6870960" cy="682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004760" y="3130560"/>
              <a:ext cx="4848480" cy="48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856800" y="976320"/>
            <a:ext cx="480060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4628880" y="8229600"/>
            <a:ext cx="18860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42720" y="8229600"/>
            <a:ext cx="2514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2857680" y="8229600"/>
            <a:ext cx="1371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DF4F6-0A49-4101-9DB7-975885032A02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5151600"/>
            <a:ext cx="6870960" cy="3998880"/>
            <a:chOff x="-6480" y="5151600"/>
            <a:chExt cx="6870960" cy="39988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5151600"/>
              <a:ext cx="6870960" cy="399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5156280"/>
              <a:ext cx="6858000" cy="39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6870960" cy="5168880"/>
            <a:chOff x="-6480" y="-6480"/>
            <a:chExt cx="6870960" cy="51688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6870960" cy="516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6858000" cy="51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3537000"/>
            <a:ext cx="6858000" cy="304812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2127240"/>
            <a:ext cx="6870960" cy="6821640"/>
            <a:chOff x="-6480" y="2127240"/>
            <a:chExt cx="6870960" cy="682164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2127240"/>
              <a:ext cx="6870960" cy="682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004760" y="3130560"/>
              <a:ext cx="4848480" cy="48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56800" y="976320"/>
            <a:ext cx="480060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628880" y="8229600"/>
            <a:ext cx="18860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42720" y="8229600"/>
            <a:ext cx="2514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2857680" y="8229600"/>
            <a:ext cx="1371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F38A3-1CCD-4EF5-80A9-66F6432CB721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-6480" y="6802560"/>
            <a:ext cx="6870960" cy="2347920"/>
            <a:chOff x="-6480" y="6802560"/>
            <a:chExt cx="6870960" cy="234792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6802560"/>
              <a:ext cx="6870960" cy="23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6807240"/>
              <a:ext cx="6858000" cy="233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-6480" y="-6480"/>
            <a:ext cx="6870960" cy="6821640"/>
            <a:chOff x="-6480" y="-6480"/>
            <a:chExt cx="6870960" cy="682164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6870960" cy="682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6858000" cy="68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5024520"/>
            <a:ext cx="6858000" cy="3047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-6480" y="2127240"/>
            <a:ext cx="6870960" cy="6821640"/>
            <a:chOff x="-6480" y="2127240"/>
            <a:chExt cx="6870960" cy="682164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2127240"/>
              <a:ext cx="6870960" cy="682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004760" y="3130560"/>
              <a:ext cx="4848480" cy="48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-6480" y="5151600"/>
            <a:ext cx="6870960" cy="3998880"/>
            <a:chOff x="-6480" y="5151600"/>
            <a:chExt cx="6870960" cy="399888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5151600"/>
              <a:ext cx="6870960" cy="399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5156280"/>
              <a:ext cx="6858000" cy="39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6870960" cy="5168880"/>
            <a:chOff x="-6480" y="-6480"/>
            <a:chExt cx="6870960" cy="51688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6870960" cy="516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6858000" cy="51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3537000"/>
            <a:ext cx="6858000" cy="304812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2127240"/>
            <a:ext cx="6870960" cy="6821640"/>
            <a:chOff x="-6480" y="2127240"/>
            <a:chExt cx="6870960" cy="682164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2127240"/>
              <a:ext cx="6870960" cy="682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004760" y="3130560"/>
              <a:ext cx="4848480" cy="48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856800" y="976320"/>
            <a:ext cx="480060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628880" y="8229600"/>
            <a:ext cx="18860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42720" y="8229600"/>
            <a:ext cx="2514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2857680" y="8229600"/>
            <a:ext cx="1371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D820E-DFA7-4C43-8196-2D2CF66F232A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-6480" y="5151600"/>
            <a:ext cx="6870960" cy="3998880"/>
            <a:chOff x="-6480" y="5151600"/>
            <a:chExt cx="6870960" cy="399888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5151600"/>
              <a:ext cx="6870960" cy="399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5156280"/>
              <a:ext cx="6858000" cy="39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-6480" y="-6480"/>
            <a:ext cx="6870960" cy="5168880"/>
            <a:chOff x="-6480" y="-6480"/>
            <a:chExt cx="6870960" cy="51688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6870960" cy="516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6858000" cy="51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3537000"/>
            <a:ext cx="6858000" cy="304812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-6480" y="2127240"/>
            <a:ext cx="6870960" cy="6821640"/>
            <a:chOff x="-6480" y="2127240"/>
            <a:chExt cx="6870960" cy="682164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2127240"/>
              <a:ext cx="6870960" cy="682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004760" y="3130560"/>
              <a:ext cx="4848480" cy="48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856800" y="976320"/>
            <a:ext cx="480060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4628880" y="8229600"/>
            <a:ext cx="18860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342720" y="8229600"/>
            <a:ext cx="2514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2857680" y="8229600"/>
            <a:ext cx="1371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17929-4266-46B0-8B45-7C0C39586BD8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1" descr=""/>
          <p:cNvPicPr/>
          <p:nvPr/>
        </p:nvPicPr>
        <p:blipFill>
          <a:blip r:embed="rId2"/>
          <a:stretch/>
        </p:blipFill>
        <p:spPr>
          <a:xfrm>
            <a:off x="542880" y="139680"/>
            <a:ext cx="5497560" cy="86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Объект 2" descr=""/>
          <p:cNvPicPr/>
          <p:nvPr/>
        </p:nvPicPr>
        <p:blipFill>
          <a:blip r:embed="rId2"/>
          <a:stretch/>
        </p:blipFill>
        <p:spPr>
          <a:xfrm>
            <a:off x="404640" y="179280"/>
            <a:ext cx="6296040" cy="880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50640" y="974880"/>
            <a:ext cx="6102360" cy="70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rebuchet MS"/>
              </a:rPr>
              <a:t>Вид проекта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: информационно практико- ориентированный проект с элементами творчеств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rebuchet MS"/>
              </a:rPr>
              <a:t>Срок реализации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: 1 месяц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rebuchet MS"/>
              </a:rPr>
              <a:t>участники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: дети, родители, воспитатели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Актуальность проекта заключается в  успешной и результативной социализации детей  в окружающем мире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rebuchet MS"/>
              </a:rPr>
              <a:t>Результаты проекта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- дети будут знать историю создания одежды, обуви и головных уборов, их значение, виды, составные части и способы изготовления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- дети смогут рассказывать об отдельных видах одежды, обуви и головных уборах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- дети научатся определять виды тканей (х/б, шелк, кожа, мех и т. д.)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- дети научатся рисовать, конструировать, вырезывать различные детали одежды, обуви и головных уборов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- родители , в результате совместного творчества, приобрели копилку совместных творческих идей и воспоминаний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297000" y="1019160"/>
            <a:ext cx="6426000" cy="739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Цель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: Создание условий для развития познавательных и творческих  способностей воспитанников в процессе реализации проекта «Салон модной одежды»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Задачи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Образовательные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- Обогащать знания детей  о разных видах одежды, деталях одежды, обуви и головных уборов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- закрепить знания о назначении одежды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- провести связь одежды и  времен года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- закрепить представления о профессиях, связанных  с производством  одежды, обуви,  головных уборов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- дать детям  первоначальные представления об истории одежды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- повышать познавательный интерес детей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Воспитательные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: воспитывать бережное, аккуратное отношение  к своей одежде и одежде других. Воспитывать уважение к труду людей , которые создают и шьют одежду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Задачи для родителей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: Привлечь  родителей к развитию познавательного интереса детей  путём реализации проект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97000" y="974880"/>
            <a:ext cx="6210000" cy="68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Этапы работы над проектом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Подготовительный этап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- подбор худ и познавательной литературы, наглядных и дидактических материалов: настольно-дидактические игры, иллюстрации,  пособия для матем. центра, презентации и видеоматериалы по теме проект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- подготовка материалов для организации творческой  деятельности детей,  выставка манекенов «Нарядные платья» (с использованием нетрадиционных техник и материалов)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- изготовление атрибутов для с- р игры «Ателье «С иголочки»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-подбор  фотографий  для  дидактического пособия «Река времени»,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- </a:t>
            </a:r>
            <a:r>
              <a:rPr b="0" lang="ru-RU" sz="2000" spc="-1" strike="noStrike">
                <a:solidFill>
                  <a:srgbClr val="ff0000"/>
                </a:solidFill>
                <a:latin typeface="Trebuchet MS"/>
              </a:rPr>
              <a:t>подбор обуви для организации музея обуви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-экспериментирование с тканью: разная по фактуре, по плотности, водонепроницаемости и т. д.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0" y="1020600"/>
          <a:ext cx="6840360" cy="8664840"/>
        </p:xfrm>
        <a:graphic>
          <a:graphicData uri="http://schemas.openxmlformats.org/drawingml/2006/table">
            <a:tbl>
              <a:tblPr/>
              <a:tblGrid>
                <a:gridCol w="2301840"/>
                <a:gridCol w="2282760"/>
                <a:gridCol w="2255760"/>
              </a:tblGrid>
              <a:tr h="860760"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ализация через виды детской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ормы совместной образовательной деятельности с деть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заимодействие с родител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  <a:tr h="7804080"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вательно-исследовательская. Коммуникатив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cde5"/>
                    </a:solidFill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д. пособие «Река времени» (знакомство с историей одежды, обуви и головных убор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еда «Что мы знаем про одежду, обувь и головные уборы?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матривание журналов мод. (познакомить детей со словом «мода», обогатить словарный запас названиями различных видов и элементов одежды – манжеты, рюшки воротники и кружев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/пособие «Планшет-тренажер» (развитие мелкой моторики руки, используя предметы одежды – застегнуть молнию, пуговицы, застежку на сандалии, завязать бант и шнурки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/и «Из чего сделана одежда?» (распознать материалы одежды – кожа, хлопок, синтетика и шелк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/и «Что изменилось?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/и «Четвертый лишний» (разрезные картинки по теме, цифры и буквы. Развивать внимание, восприятие, мышление и речь. Учить детей отвечать на вопро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глядная информативная. «Одевайте ребенка по сезону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щь в пошиве одежды для куклы Барб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</a:tbl>
          </a:graphicData>
        </a:graphic>
      </p:graphicFrame>
      <p:sp>
        <p:nvSpPr>
          <p:cNvPr id="221" name="Прямоугольник 5"/>
          <p:cNvSpPr/>
          <p:nvPr/>
        </p:nvSpPr>
        <p:spPr>
          <a:xfrm>
            <a:off x="1700280" y="23760"/>
            <a:ext cx="3133800" cy="1019160"/>
          </a:xfrm>
          <a:prstGeom prst="rect">
            <a:avLst/>
          </a:prstGeom>
          <a:solidFill>
            <a:srgbClr val="b4dcfa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2 этап. Основной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15920" y="11160"/>
          <a:ext cx="6589800" cy="8736120"/>
        </p:xfrm>
        <a:graphic>
          <a:graphicData uri="http://schemas.openxmlformats.org/drawingml/2006/table">
            <a:tbl>
              <a:tblPr/>
              <a:tblGrid>
                <a:gridCol w="2197080"/>
                <a:gridCol w="2195640"/>
                <a:gridCol w="2197080"/>
              </a:tblGrid>
              <a:tr h="8736120"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8cde5"/>
                    </a:solidFill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колько?», «Какой по счету?» с использованием материала по теме проек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периментирование «Мир ткани» (состав тканей, намоченной в воде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матривание альбомов «Мода», «Из чего сделана одежда?», «Костюмы разных народов», «История создания одежды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/и «В магазине одежды» (учить детей составлять предложения использую в речи названия одежды, обуви, головных уборах, аксесуара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/и «Оденем куклу» ( учить подбирать одежду по назначению – спортивная, домашняя, празднична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8cde5"/>
                    </a:solidFill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мятка для родителей «Расскажите это детям», «Уход за обувью», «Уход за одеждой»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8cde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189000" y="5724360"/>
          <a:ext cx="6499080" cy="3535560"/>
        </p:xfrm>
        <a:graphic>
          <a:graphicData uri="http://schemas.openxmlformats.org/drawingml/2006/table">
            <a:tbl>
              <a:tblPr/>
              <a:tblGrid>
                <a:gridCol w="2178000"/>
                <a:gridCol w="2160720"/>
                <a:gridCol w="2160360"/>
              </a:tblGrid>
              <a:tr h="3535560"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риятие художественной литературы и фольклор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8cde5"/>
                    </a:solidFill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матривание иллюстраций к сказке «Золушка» (приобщить детей любви к искусству, уметь сравнивать одежду прошлого и настоящего времен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ение К. Чуковского «Мойдодыр», «Чудо-дерево», Ш. Перро «Красная шапочка» (учить детей аккуратному обращению с одеждой, прививать к-г навыки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8cde5"/>
                    </a:solidFill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Совместная выставка художественного-литературного по проекту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Изготовление атрибутов к сюжетно-ролевой игре «Ателье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8cde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0" y="250920"/>
          <a:ext cx="6858000" cy="788832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</a:tblGrid>
              <a:tr h="900000"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зыкаль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8cde5"/>
                    </a:solidFill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/игра «Ворон», «Сапожник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8cde5"/>
                    </a:solidFill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шив ворона в красных сапогах для м/игры «Ворон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8cde5"/>
                    </a:solidFill>
                  </a:tcPr>
                </a:tc>
              </a:tr>
              <a:tr h="1012680"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ов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/р игра «Ателье» сюжет «Раскрой одежды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готовление ширмы из трех секций «Салона одежды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5975640"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образительная, конструктивная деятельн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сование «Платье для мам» (развивать эстетическое восприятие, чувство симметрии, композици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пка «Шляпки» (совершенствовать способ изготовления пластилиновой основы в форме шляпки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труирование с элементами аппликации «Магазин летней обуви» (упражнять детей использовать в работе изготовленные ранние шаблоны летней обуви, развивать интерес к работе уверенность в самостоятельности, творческое воображение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тавка манекенов «Нарядные платья» (с использованием тканей, кожи и т.д.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щь в создании манекенов для одеж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135000" y="347760"/>
          <a:ext cx="6588000" cy="3503520"/>
        </p:xfrm>
        <a:graphic>
          <a:graphicData uri="http://schemas.openxmlformats.org/drawingml/2006/table">
            <a:tbl>
              <a:tblPr/>
              <a:tblGrid>
                <a:gridCol w="2195280"/>
                <a:gridCol w="2197440"/>
                <a:gridCol w="2195280"/>
              </a:tblGrid>
              <a:tr h="3503520"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обслуживание и бытовой тру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8cde5"/>
                    </a:solidFill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Совершенствовать умение самостоятельно одеваться и раздеваться в определенной последовательности, правильно размещать вещи в шкафчике, аккуратно складывать и развешивать одежду на стулья перед сном, умение пользоваться разными видами застеже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8cde5"/>
                    </a:solidFill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8cde5"/>
                    </a:solidFill>
                  </a:tcPr>
                </a:tc>
              </a:tr>
            </a:tbl>
          </a:graphicData>
        </a:graphic>
      </p:graphicFrame>
      <p:pic>
        <p:nvPicPr>
          <p:cNvPr id="228" name="Picture 2" descr=""/>
          <p:cNvPicPr/>
          <p:nvPr/>
        </p:nvPicPr>
        <p:blipFill>
          <a:blip r:embed="rId2"/>
          <a:srcRect l="0" t="16606" r="0" b="32227"/>
          <a:stretch/>
        </p:blipFill>
        <p:spPr>
          <a:xfrm>
            <a:off x="189000" y="3924360"/>
            <a:ext cx="6484680" cy="10094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"/>
          <p:cNvPicPr/>
          <p:nvPr/>
        </p:nvPicPr>
        <p:blipFill>
          <a:blip r:embed="rId3"/>
          <a:stretch/>
        </p:blipFill>
        <p:spPr>
          <a:xfrm>
            <a:off x="457200" y="5119560"/>
            <a:ext cx="590724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4T11:54:32Z</dcterms:created>
  <dc:creator>Олька</dc:creator>
  <dc:description/>
  <dc:language>en-US</dc:language>
  <cp:lastModifiedBy>User</cp:lastModifiedBy>
  <dcterms:modified xsi:type="dcterms:W3CDTF">2018-12-25T20:24:46Z</dcterms:modified>
  <cp:revision>35</cp:revision>
  <dc:subject/>
  <dc:title>Презентация PowerPoint</dc:title>
</cp:coreProperties>
</file>