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FE4-23B6-4B59-9B7B-F1096A05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E3A5-F4B0-4FA4-B427-BB9C6D6D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AC3-731B-489A-9491-298DD118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8004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10292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5680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8004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10292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B8F2-E7A8-4805-8F59-6AA1EA3A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9A07-76D7-4961-A325-67D61EAC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223B-AA04-4C07-81D1-DBAF3898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302B-E7D1-46EE-8605-49FE2761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ABF4-AC49-4284-A6F1-F2C6BB09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A216-27F0-4D87-B304-0ABEAC8C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344240" y="5829120"/>
            <a:ext cx="48848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D464-4977-4132-8477-190411A8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BE31-CD2C-49C9-8E04-A10F93BE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BAD-D2E9-46E7-8765-4C910238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9D5E-E42D-4CE1-BECF-B1A16690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2057-8AA1-4BB8-990A-6A32ACD3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A94F-615F-425E-B5D9-8D4F81BB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1B49-BAFC-4C69-A5C1-2DB416F6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48004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10292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5680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48004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10292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2A2E-D2C9-46FC-85A7-A01A769D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50720-7599-481B-9CED-BF2D7AB5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78036-BDBC-4CD2-BD61-A377E1D6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1C29E-013A-4CD3-A1FB-640FA71A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A6DD9-16E3-42E3-98FD-CEE6097A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868AC-DFA4-461D-ACC8-771AE976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2CB-8AAA-416C-B118-4EB68423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344240" y="5829120"/>
            <a:ext cx="48848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888B5-F18E-448E-BAD8-2ECFD2B1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7A6BA-CC70-458B-A274-C0441193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970F1-9F64-403E-9127-1D15EEEC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62493-653B-4808-8D1F-5F04AB98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FB0CC-9250-4F07-95B9-F9FA59CE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0A7D4-B494-4E24-AD38-1613039F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48004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0292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5680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248004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410292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A13E6-F9F9-4E0F-B5F8-650A3477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DF1F9-D7C9-474F-98F5-22C1E90E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91522-C115-482B-883C-09A456B8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B5188-B98D-4C9B-A57B-6C1C7B59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20C5-62F4-49B7-92C5-31C135C5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1D5DD-6CBE-488B-91D6-1261BD49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F38EA-65DA-4F98-8E4C-C5CE4659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44240" y="5829120"/>
            <a:ext cx="48848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05E46-15D6-4DD7-AA15-4A4BB835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0234F-22ED-4AC7-8EA4-BD21410E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89FE6-5D31-4D72-9E1B-21598C88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872CA-1A1A-4E88-BF56-59E9F7E5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25F90-7B22-4EE1-BEE4-35E2A71B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C3E53-DEDC-4052-AB57-B58FF2FC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48004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10292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85680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248004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410292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EE605-AD53-41EF-A681-2CC1B73F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E11-64FC-4E4A-9C76-C2FF3D9D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44240" y="5829120"/>
            <a:ext cx="48848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8C69-4CED-4C91-B411-591E6F85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72A-4D8B-4D8C-8A75-2C89853C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5B2-944C-4C03-8E3C-B0EBCD77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5746-44FB-462F-AE60-A0C02738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6802560"/>
            <a:ext cx="6870960" cy="2347920"/>
            <a:chOff x="-6480" y="6802560"/>
            <a:chExt cx="6870960" cy="234792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6802560"/>
              <a:ext cx="687096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807240"/>
              <a:ext cx="6858000" cy="23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6870960" cy="6821640"/>
            <a:chOff x="-6480" y="-6480"/>
            <a:chExt cx="6870960" cy="682164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687096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6858000" cy="68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5024520"/>
            <a:ext cx="6858000" cy="30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2127240"/>
            <a:ext cx="6870960" cy="6821640"/>
            <a:chOff x="-6480" y="2127240"/>
            <a:chExt cx="6870960" cy="682164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2127240"/>
              <a:ext cx="687096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004760" y="3130560"/>
              <a:ext cx="48484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628880" y="8229600"/>
            <a:ext cx="1886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42720" y="822960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857680" y="8229600"/>
            <a:ext cx="1371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8F3E-7254-4A0A-B4B7-FF0C6C6828A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5151600"/>
            <a:ext cx="6870960" cy="3998880"/>
            <a:chOff x="-6480" y="5151600"/>
            <a:chExt cx="6870960" cy="39988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5151600"/>
              <a:ext cx="687096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56280"/>
              <a:ext cx="6858000" cy="39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6870960" cy="5168880"/>
            <a:chOff x="-6480" y="-6480"/>
            <a:chExt cx="6870960" cy="51688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6870960" cy="51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685800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3537000"/>
            <a:ext cx="6858000" cy="30481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2127240"/>
            <a:ext cx="6870960" cy="6821640"/>
            <a:chOff x="-6480" y="2127240"/>
            <a:chExt cx="6870960" cy="682164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2127240"/>
              <a:ext cx="687096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004760" y="3130560"/>
              <a:ext cx="48484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628880" y="8229600"/>
            <a:ext cx="1886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42720" y="822960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2857680" y="8229600"/>
            <a:ext cx="1371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78EE-02D7-423B-B5C6-C2E809E3901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6802560"/>
            <a:ext cx="6870960" cy="2347920"/>
            <a:chOff x="-6480" y="6802560"/>
            <a:chExt cx="6870960" cy="234792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6802560"/>
              <a:ext cx="687096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6807240"/>
              <a:ext cx="6858000" cy="23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6870960" cy="6821640"/>
            <a:chOff x="-6480" y="-6480"/>
            <a:chExt cx="6870960" cy="682164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687096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6858000" cy="68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5024520"/>
            <a:ext cx="6858000" cy="30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2127240"/>
            <a:ext cx="6870960" cy="6821640"/>
            <a:chOff x="-6480" y="2127240"/>
            <a:chExt cx="6870960" cy="682164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2127240"/>
              <a:ext cx="687096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004760" y="3130560"/>
              <a:ext cx="48484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5151600"/>
            <a:ext cx="6870960" cy="3998880"/>
            <a:chOff x="-6480" y="5151600"/>
            <a:chExt cx="6870960" cy="39988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5151600"/>
              <a:ext cx="687096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56280"/>
              <a:ext cx="6858000" cy="39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6870960" cy="5168880"/>
            <a:chOff x="-6480" y="-6480"/>
            <a:chExt cx="6870960" cy="51688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6870960" cy="51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685800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537000"/>
            <a:ext cx="6858000" cy="30481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2127240"/>
            <a:ext cx="6870960" cy="6821640"/>
            <a:chOff x="-6480" y="2127240"/>
            <a:chExt cx="6870960" cy="682164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2127240"/>
              <a:ext cx="687096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004760" y="3130560"/>
              <a:ext cx="48484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628880" y="8229600"/>
            <a:ext cx="1886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42720" y="822960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2857680" y="8229600"/>
            <a:ext cx="1371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E0FA-6260-4CBD-B37B-6285924345B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5151600"/>
            <a:ext cx="6870960" cy="3998880"/>
            <a:chOff x="-6480" y="5151600"/>
            <a:chExt cx="6870960" cy="39988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5151600"/>
              <a:ext cx="687096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5156280"/>
              <a:ext cx="6858000" cy="39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6870960" cy="5168880"/>
            <a:chOff x="-6480" y="-6480"/>
            <a:chExt cx="6870960" cy="51688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6870960" cy="51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685800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3537000"/>
            <a:ext cx="6858000" cy="30481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2127240"/>
            <a:ext cx="6870960" cy="6821640"/>
            <a:chOff x="-6480" y="2127240"/>
            <a:chExt cx="6870960" cy="682164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2127240"/>
              <a:ext cx="687096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004760" y="3130560"/>
              <a:ext cx="48484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628880" y="8229600"/>
            <a:ext cx="1886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42720" y="822960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2857680" y="8229600"/>
            <a:ext cx="1371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B8D7-440A-4F8B-8D8C-5BB3E53E338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2"/>
          <a:stretch/>
        </p:blipFill>
        <p:spPr>
          <a:xfrm>
            <a:off x="542880" y="139680"/>
            <a:ext cx="5497560" cy="86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Объект 2" descr=""/>
          <p:cNvPicPr/>
          <p:nvPr/>
        </p:nvPicPr>
        <p:blipFill>
          <a:blip r:embed="rId2"/>
          <a:stretch/>
        </p:blipFill>
        <p:spPr>
          <a:xfrm>
            <a:off x="404640" y="179280"/>
            <a:ext cx="6296040" cy="880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0640" y="974880"/>
            <a:ext cx="6102360" cy="70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Вид проекта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информационно практико- ориентированный проект с элементами творчеств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Срок реализации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1 месяц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участники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дети, родители, воспитател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ктуальность проекта заключается в  успешной и результативной социализации детей  в окружающем мир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Результаты проекта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дети будут знать историю создания одежды, обуви и головных уборов, их значение, виды, составные части и способы изготовле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дети смогут рассказывать об отдельных видах одежды, обуви и головных убора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дети научатся определять виды тканей (х/б, шелк, кожа, мех и т. д.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дети научатся рисовать, конструировать, вырезывать различные детали одежды, обуви и головных убор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родители , в результате совместного творчества, приобрели копилку совместных творческих идей и воспоминани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97000" y="1019160"/>
            <a:ext cx="6426000" cy="73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Цель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: Создание условий для развития познавательных и творческих  способностей воспитанников в процессе реализации проекта «Салон модной одежды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Задачи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Образовательные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- Обогащать знания детей  о разных видах одежды, деталях одежды, обуви и головных убор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- закрепить знания о назначении одежды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- провести связь одежды и  времен год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- закрепить представления о профессиях, связанных  с производством  одежды, обуви,  головных убор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- дать детям  первоначальные представления об истории одежды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- повышать познавательный интерес дет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Воспитательные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: воспитывать бережное, аккуратное отношение  к своей одежде и одежде других. Воспитывать уважение к труду людей , которые создают и шьют одеж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Задачи для родителей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: Привлечь  родителей к развитию познавательного интереса детей  путём реализации проек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97000" y="974880"/>
            <a:ext cx="6210000" cy="68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Этапы работы над проекто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одготовительный этап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подбор худ и познавательной литературы, наглядных и дидактических материалов: настольно-дидактические игры, иллюстрации,  пособия для матем. центра, презентации и видеоматериалы по теме проек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подготовка материалов для организации творческой  деятельности детей,  выставка манекенов «Нарядные платья» (с использованием нетрадиционных техник и материалов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изготовление атрибутов для с- р игры «Ателье «С иголочки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подбор  фотографий  для  дидактического пособия «Река времени»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подбор обуви для организации музея обуви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-экспериментирование с тканью: разная по фактуре, по плотности, водонепроницаемости и т. д.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0" y="1020600"/>
          <a:ext cx="6840360" cy="8664840"/>
        </p:xfrm>
        <a:graphic>
          <a:graphicData uri="http://schemas.openxmlformats.org/drawingml/2006/table">
            <a:tbl>
              <a:tblPr/>
              <a:tblGrid>
                <a:gridCol w="2301840"/>
                <a:gridCol w="2282760"/>
                <a:gridCol w="2255760"/>
              </a:tblGrid>
              <a:tr h="86076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ализация через виды детск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ы совместной образовательной деятельности с деть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аимодействие с роди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780408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-исследовательская. Коммуникатив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. пособие «Река времени» (знакомство с историей одежды, обуви и головных убо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Что мы знаем про одежду, обувь и головные уборы?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журналов мод. (познакомить детей со словом «мода», обогатить словарный запас названиями различных видов и элементов одежды – манжеты, рюшки воротники и круже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пособие «Планшет-тренажер» (развитие мелкой моторики руки, используя предметы одежды – застегнуть молнию, пуговицы, застежку на сандалии, завязать бант и шнур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Из чего сделана одежда?» (распознать материалы одежды – кожа, хлопок, синтетика и шелк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Что изменилось?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Четвертый лишний» (разрезные картинки по теме, цифры и буквы. Развивать внимание, восприятие, мышление и речь. Учить детей отвечать на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лядная информативная. «Одевайте ребенка по сезон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ь в пошиве одежды для куклы Барб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  <p:sp>
        <p:nvSpPr>
          <p:cNvPr id="221" name="Прямоугольник 5"/>
          <p:cNvSpPr/>
          <p:nvPr/>
        </p:nvSpPr>
        <p:spPr>
          <a:xfrm>
            <a:off x="1700280" y="23760"/>
            <a:ext cx="3133800" cy="1019160"/>
          </a:xfrm>
          <a:prstGeom prst="rect">
            <a:avLst/>
          </a:prstGeom>
          <a:solidFill>
            <a:srgbClr val="b4dcfa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 этап. Основно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15920" y="11160"/>
          <a:ext cx="6589800" cy="873612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197080"/>
              </a:tblGrid>
              <a:tr h="873612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колько?», «Какой по счету?» с использованием материала по теме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иментирование «Мир ткани» (состав тканей, намоченной в воде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альбомов «Мода», «Из чего сделана одежда?», «Костюмы разных народов», «История создания одежды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В магазине одежды» (учить детей составлять предложения использую в речи названия одежды, обуви, головных уборах, аксесуар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Оденем куклу» ( учить подбирать одежду по назначению – спортивная, домашняя, празднична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ка для родителей «Расскажите это детям», «Уход за обувью», «Уход за одеждой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89000" y="5724360"/>
          <a:ext cx="6499080" cy="3535560"/>
        </p:xfrm>
        <a:graphic>
          <a:graphicData uri="http://schemas.openxmlformats.org/drawingml/2006/table">
            <a:tbl>
              <a:tblPr/>
              <a:tblGrid>
                <a:gridCol w="2178000"/>
                <a:gridCol w="2160720"/>
                <a:gridCol w="2160360"/>
              </a:tblGrid>
              <a:tr h="353556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иятие художественной литературы и фолькл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иллюстраций к сказке «Золушка» (приобщить детей любви к искусству, уметь сравнивать одежду прошлого и настоящего време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К. Чуковского «Мойдодыр», «Чудо-дерево», Ш. Перро «Красная шапочка» (учить детей аккуратному обращению с одеждой, прививать к-г навык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Совместная выставка художественного-литературного по проекту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Изготовление атрибутов к сюжетно-ролевой игре «Ателье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250920"/>
          <a:ext cx="6858000" cy="7888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90000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/игра «Ворон», «Сапожник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шив ворона в красных сапогах для м/игры «Ворон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</a:tr>
              <a:tr h="101268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в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/р игра «Ателье» сюжет «Раскрой одежд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ширмы из трех секций «Салона одежд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597564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, конструктивная деятель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 «Платье для мам» (развивать эстетическое восприятие, чувство симметрии, композиц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пка «Шляпки» (совершенствовать способ изготовления пластилиновой основы в форме шляп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ирование с элементами аппликации «Магазин летней обуви» (упражнять детей использовать в работе изготовленные ранние шаблоны летней обуви, развивать интерес к работе уверенность в самостоятельности, творческое воображение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а манекенов «Нарядные платья» (с использованием тканей, кожи и т.д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ь в создании манекенов для одеж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135000" y="347760"/>
          <a:ext cx="6588000" cy="3503520"/>
        </p:xfrm>
        <a:graphic>
          <a:graphicData uri="http://schemas.openxmlformats.org/drawingml/2006/table">
            <a:tbl>
              <a:tblPr/>
              <a:tblGrid>
                <a:gridCol w="2195280"/>
                <a:gridCol w="2197440"/>
                <a:gridCol w="2195280"/>
              </a:tblGrid>
              <a:tr h="350352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бслуживание и бытовой тру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Совершенствовать умение самостоятельно одеваться и раздеваться в определенной последовательности, правильно размещать вещи в шкафчике, аккуратно складывать и развешивать одежду на стулья перед сном, умение пользоваться разными видами застеже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cde5"/>
                    </a:solidFill>
                  </a:tcPr>
                </a:tc>
              </a:tr>
            </a:tbl>
          </a:graphicData>
        </a:graphic>
      </p:graphicFrame>
      <p:pic>
        <p:nvPicPr>
          <p:cNvPr id="228" name="Picture 2" descr=""/>
          <p:cNvPicPr/>
          <p:nvPr/>
        </p:nvPicPr>
        <p:blipFill>
          <a:blip r:embed="rId2"/>
          <a:srcRect l="0" t="16606" r="0" b="32227"/>
          <a:stretch/>
        </p:blipFill>
        <p:spPr>
          <a:xfrm>
            <a:off x="189000" y="3924360"/>
            <a:ext cx="6484680" cy="1009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3"/>
          <a:stretch/>
        </p:blipFill>
        <p:spPr>
          <a:xfrm>
            <a:off x="457200" y="5119560"/>
            <a:ext cx="590724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4T11:54:32Z</dcterms:created>
  <dc:creator>Олька</dc:creator>
  <dc:description/>
  <dc:language>en-US</dc:language>
  <cp:lastModifiedBy>User</cp:lastModifiedBy>
  <dcterms:modified xsi:type="dcterms:W3CDTF">2018-12-25T20:24:46Z</dcterms:modified>
  <cp:revision>35</cp:revision>
  <dc:subject/>
  <dc:title>Презентация PowerPoint</dc:title>
</cp:coreProperties>
</file>