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E13A-6B50-4C59-9E02-17D0BC5F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ED08-FFA9-406A-AF92-6A8B2752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E0A7-B938-4235-9642-46184953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E911-E044-42AD-A24A-A18FEB0F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71D9-8807-4606-B434-BC4BDA02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75DB-807A-49B3-BC63-9B679AAE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47D3-B2CD-4594-9DAC-D76C52AA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8C4E-3FA8-4BB5-871A-BB7A0F23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8551-9E6F-48D1-AC9D-446B57D2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6449-ED18-4B78-B7D4-3B4AF891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2F8D-40C8-4E10-883F-75778269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61CC-829E-4508-BE26-37ED1074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4106-008B-4594-BAD9-B9D0EF4F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FE6F-D160-4705-8C65-FB53BBB5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CF8F-0E04-4B0F-9E54-BD621E04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719C-3C32-40C2-8E11-B6336A17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CC50-668F-4470-A741-BDE334004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70F6-C7E4-4F01-B20A-386C46FA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CB7E-B797-4467-AD4D-8D2E1DA1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6F96-BE35-4C80-ABC4-F6FBB199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8295-9CFA-4297-8F7A-99959AF3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72BE-5696-46D2-B123-83904C43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2C77-7621-4687-8E34-6B9ACA8E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297A-F321-4ECC-B4B4-7BC173BE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320"/>
              <a:chOff x="-1080" y="2601000"/>
              <a:chExt cx="268704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2520"/>
                <a:ext cx="1833480" cy="1666800"/>
                <a:chOff x="852480" y="4052520"/>
                <a:chExt cx="1833480" cy="16668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0440" y="3938400"/>
                  <a:ext cx="477360" cy="12355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52960" y="4978800"/>
                  <a:ext cx="110520" cy="506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9480" y="5567400"/>
                  <a:ext cx="200880" cy="856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6BC4-A177-43C0-8C7F-0181960AF39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8640" y="52920"/>
              <a:ext cx="3622320" cy="6140160"/>
              <a:chOff x="5408640" y="52920"/>
              <a:chExt cx="3622320" cy="614016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880" y="337680"/>
                <a:ext cx="211608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0840"/>
                <a:ext cx="90648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520" y="2583000"/>
                <a:ext cx="43992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6600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7440" y="2643120"/>
                <a:ext cx="163440" cy="3315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560" y="123516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9280" y="2930040"/>
                <a:ext cx="523800" cy="3268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908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640" y="5195880"/>
              <a:ext cx="175896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1520" y="1033200"/>
              <a:ext cx="1015560" cy="1262520"/>
              <a:chOff x="4151520" y="1033200"/>
              <a:chExt cx="101556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5880" y="107100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0840" y="1604160"/>
                <a:ext cx="488880" cy="314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15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61000" y="303480"/>
              <a:ext cx="889560" cy="833040"/>
              <a:chOff x="5661000" y="303480"/>
              <a:chExt cx="889560" cy="8330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72600" y="805680"/>
                <a:ext cx="178560" cy="36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8600" y="477720"/>
                <a:ext cx="30528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61120" y="40320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9480" y="5266080"/>
              <a:ext cx="1055160" cy="834120"/>
              <a:chOff x="969480" y="5266080"/>
              <a:chExt cx="10551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8200" y="5525640"/>
                <a:ext cx="250920" cy="299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7000" y="5745600"/>
                <a:ext cx="429840" cy="248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480" y="5390640"/>
                <a:ext cx="449280" cy="126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9640"/>
              <a:ext cx="1690560" cy="1146600"/>
              <a:chOff x="375840" y="449640"/>
              <a:chExt cx="169056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440" y="10681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3120" y="5932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736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2160" y="3712320"/>
              <a:ext cx="1156320" cy="1607760"/>
              <a:chOff x="738216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68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760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052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480" y="3240"/>
              <a:ext cx="136836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760" y="161280"/>
              <a:ext cx="108108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800" y="1361160"/>
              <a:ext cx="52380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880" y="1282320"/>
              <a:ext cx="195480" cy="370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5200" y="0"/>
              <a:ext cx="19692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9160" y="1964520"/>
              <a:ext cx="62388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34FA-B4A4-4EF8-9F1F-8E4F04A70988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рок русского язы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Тема «Разделительный твердый знак»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 класс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Школа Росс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Составила: учитель начальных классов Икомасова С.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МБОУ СОШ №3 г. Бугуруслан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гадайте, о какой букве говорится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Перед е, ё, и, ю, я</a:t>
            </a:r>
            <a:br>
              <a:rPr sz="4400"/>
            </a:b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Я в корнях стою, друзья. </a:t>
            </a:r>
            <a:br>
              <a:rPr sz="4400"/>
            </a:b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Воробьи, семья, жильё</a:t>
            </a:r>
            <a:br>
              <a:rPr sz="4400"/>
            </a:b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Перед я, ю, и, е, ё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Закончите дружным ответом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Было сели, стало съели.</a:t>
            </a:r>
            <a:br>
              <a:rPr sz="4800"/>
            </a:b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Догадаться вы сумели </a:t>
            </a:r>
            <a:br>
              <a:rPr sz="4800"/>
            </a:b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Почему случилось так?</a:t>
            </a:r>
            <a:br>
              <a:rPr sz="4800"/>
            </a:b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Кто виновник? 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1692360" y="1628640"/>
            <a:ext cx="107928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WordArt 6"/>
          <p:cNvSpPr txBox="1"/>
          <p:nvPr/>
        </p:nvSpPr>
        <p:spPr>
          <a:xfrm>
            <a:off x="3132000" y="836640"/>
            <a:ext cx="1944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WordArt 7"/>
          <p:cNvSpPr txBox="1"/>
          <p:nvPr/>
        </p:nvSpPr>
        <p:spPr>
          <a:xfrm>
            <a:off x="5364000" y="1197000"/>
            <a:ext cx="3384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,ё,ю,я</a:t>
            </a:r>
            <a:endParaRPr b="0" lang="en-US" sz="1800" spc="1" strike="noStrike">
              <a:ln w="0">
                <a:noFill/>
              </a:ln>
              <a:solidFill>
                <a:srgbClr val="ff505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7" name="WordArt 8"/>
          <p:cNvSpPr txBox="1"/>
          <p:nvPr/>
        </p:nvSpPr>
        <p:spPr>
          <a:xfrm>
            <a:off x="468360" y="4869000"/>
            <a:ext cx="8424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ле  согласного,  перед  буквами</a:t>
            </a:r>
            <a:endParaRPr b="0" lang="en-US" sz="1800" spc="1" strike="noStrike">
              <a:ln w="0">
                <a:noFill/>
              </a:ln>
              <a:solidFill>
                <a:srgbClr val="00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1692360" y="1628640"/>
            <a:ext cx="107928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250920" y="1341360"/>
            <a:ext cx="259236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Line 6"/>
          <p:cNvSpPr/>
          <p:nvPr/>
        </p:nvSpPr>
        <p:spPr>
          <a:xfrm>
            <a:off x="2843280" y="1341360"/>
            <a:ext cx="0" cy="287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WordArt 7"/>
          <p:cNvSpPr txBox="1"/>
          <p:nvPr/>
        </p:nvSpPr>
        <p:spPr>
          <a:xfrm>
            <a:off x="324000" y="1844640"/>
            <a:ext cx="93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* *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2" name="WordArt 8"/>
          <p:cNvSpPr txBox="1"/>
          <p:nvPr/>
        </p:nvSpPr>
        <p:spPr>
          <a:xfrm>
            <a:off x="3132000" y="836640"/>
            <a:ext cx="1944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ъ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WordArt 9"/>
          <p:cNvSpPr txBox="1"/>
          <p:nvPr/>
        </p:nvSpPr>
        <p:spPr>
          <a:xfrm>
            <a:off x="5364000" y="1197000"/>
            <a:ext cx="3384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,ё,ю,я</a:t>
            </a:r>
            <a:endParaRPr b="0" lang="en-US" sz="1800" spc="1" strike="noStrike">
              <a:ln w="0">
                <a:noFill/>
              </a:ln>
              <a:solidFill>
                <a:srgbClr val="ff505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" name="WordArt 10"/>
          <p:cNvSpPr txBox="1"/>
          <p:nvPr/>
        </p:nvSpPr>
        <p:spPr>
          <a:xfrm>
            <a:off x="468360" y="4869000"/>
            <a:ext cx="8424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ле  приставки,  перед  буквами</a:t>
            </a:r>
            <a:endParaRPr b="0" lang="en-US" sz="1800" spc="1" strike="noStrike">
              <a:ln w="0">
                <a:noFill/>
              </a:ln>
              <a:solidFill>
                <a:srgbClr val="00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&quot;Детские презентации&quot; - Детская презентация Разделительный т…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Разделительный твердый знак - Наталья Владимировна Ефремов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Физкультминутка.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3628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Раз - подняться, потянуться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Два - согнуться, разогнуться.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Три - в ладоши три хлопка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Головою три кивка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а четыре - руки шире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ять - руками помахать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Шесть - за парту тихо сесть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азделительный 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ъ</a:t>
            </a: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знак  пишется  </a:t>
            </a: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олько после приставок, оканчивающихся на </a:t>
            </a:r>
            <a:r>
              <a:rPr b="1" lang="ru-RU" sz="5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согласный</a:t>
            </a: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,  перед гласными 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, ё, ю, я.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648320" y="188640"/>
            <a:ext cx="40384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Ехать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стор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Явлени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Апрел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Ясн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Батон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Ест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рех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Ёжитьс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Юбилейн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Являть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WordArt 7"/>
          <p:cNvSpPr txBox="1"/>
          <p:nvPr/>
        </p:nvSpPr>
        <p:spPr>
          <a:xfrm>
            <a:off x="324000" y="1197000"/>
            <a:ext cx="42480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йди  корни,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ед  которыми 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ле приставок 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жет  стоять Ъ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Рефлексия: - 11558/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 сейчас проверь, дружок,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ы готов начать урок? 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сё ль на месте, всё ль в порядке,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учка, книжка и тетрадка?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се ли правильно сидят?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се ль внимательно глядят?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ждый хочет получать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олько лишь оценку 5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Picture 4" descr="зжх"/>
          <p:cNvPicPr/>
          <p:nvPr/>
        </p:nvPicPr>
        <p:blipFill>
          <a:blip r:embed="rId1"/>
          <a:stretch/>
        </p:blipFill>
        <p:spPr>
          <a:xfrm>
            <a:off x="6732720" y="115920"/>
            <a:ext cx="22320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Домашнее зад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Verdana"/>
              </a:rPr>
              <a:t>с. 21, упр. 41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5"/>
          <p:cNvSpPr txBox="1"/>
          <p:nvPr/>
        </p:nvSpPr>
        <p:spPr>
          <a:xfrm>
            <a:off x="539640" y="1197000"/>
            <a:ext cx="79930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 о л о д ц ы 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WordArt 6"/>
          <p:cNvSpPr txBox="1"/>
          <p:nvPr/>
        </p:nvSpPr>
        <p:spPr>
          <a:xfrm>
            <a:off x="1042920" y="4797360"/>
            <a:ext cx="7274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ок  оконче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Вот чем пользуется ТвердыйЗнак. - ЯПлакалъ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P1010100"/>
          <p:cNvPicPr/>
          <p:nvPr/>
        </p:nvPicPr>
        <p:blipFill>
          <a:blip r:embed="rId2"/>
          <a:stretch/>
        </p:blipFill>
        <p:spPr>
          <a:xfrm>
            <a:off x="3316320" y="0"/>
            <a:ext cx="5827680" cy="1766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Копия P1010100"/>
          <p:cNvPicPr/>
          <p:nvPr/>
        </p:nvPicPr>
        <p:blipFill>
          <a:blip r:embed="rId3"/>
          <a:stretch/>
        </p:blipFill>
        <p:spPr>
          <a:xfrm>
            <a:off x="4600440" y="5410080"/>
            <a:ext cx="45435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Минутка чистописания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Дата 2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5515-806B-4735-BEC3-E0E38D2BB213}" type="datetime">
              <a:rPr b="0" lang="ru-RU" sz="1400" spc="-1" strike="noStrike">
                <a:solidFill>
                  <a:srgbClr val="006699"/>
                </a:solidFill>
                <a:latin typeface="Verdana"/>
              </a:rPr>
              <a:t>31.07.26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4F2B-A3DC-4564-96DC-513417D7BEFE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Picture 4" descr="C01EF375"/>
          <p:cNvPicPr/>
          <p:nvPr/>
        </p:nvPicPr>
        <p:blipFill>
          <a:blip r:embed="rId1"/>
          <a:stretch/>
        </p:blipFill>
        <p:spPr>
          <a:xfrm>
            <a:off x="571680" y="1428840"/>
            <a:ext cx="1643040" cy="3768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C01EF375"/>
          <p:cNvPicPr/>
          <p:nvPr/>
        </p:nvPicPr>
        <p:blipFill>
          <a:blip r:embed="rId2"/>
          <a:stretch/>
        </p:blipFill>
        <p:spPr>
          <a:xfrm>
            <a:off x="2143080" y="3214800"/>
            <a:ext cx="1643040" cy="1982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01EF375"/>
          <p:cNvPicPr/>
          <p:nvPr/>
        </p:nvPicPr>
        <p:blipFill>
          <a:blip r:embed="rId3"/>
          <a:stretch/>
        </p:blipFill>
        <p:spPr>
          <a:xfrm>
            <a:off x="3571920" y="3214800"/>
            <a:ext cx="1643040" cy="1982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C01EF375"/>
          <p:cNvPicPr/>
          <p:nvPr/>
        </p:nvPicPr>
        <p:blipFill>
          <a:blip r:embed="rId4"/>
          <a:stretch/>
        </p:blipFill>
        <p:spPr>
          <a:xfrm>
            <a:off x="5072040" y="3214800"/>
            <a:ext cx="164304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Словарная работа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Р . кета,      м . лина,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остр . в,      п . рог,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п . сок,        инт . ресный,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м . рковь,    г . гант,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б . рёза,      т . традь,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п . нал,        мес . ц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Назовите орфограммы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по дорожке, в печке,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побежал, сердце, заболел, поход, на столе,  жёлтый, замочек, медвежонок, чашк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15560"/>
            <a:ext cx="824400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Игра « Пропущенная буква » - (и или е).</a:t>
            </a:r>
            <a:br>
              <a:rPr sz="2400"/>
            </a:br>
            <a:r>
              <a:rPr b="1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Если пропущена буква е, поднимаем руку. Если пропущена буква и, сидим сложа  руки.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9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Г(..)рой, р(..)ка, л(..)сток, б(..)рёза, м(..)довый, кр(..)чать, р(..)сунок, сп(..)шить,   ж(..)вотное,  ш(..)рокий, з(..)мля, т(..)шина, с(..)лач, сн(..)гири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Найди ошибку. Объясни.</a:t>
            </a:r>
            <a:br>
              <a:rPr sz="6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Польто, бирёза, клара, лесница, жолтый, шол, белгород, мышёнок, сонце, чудестный, бутерброт, чясы, площядь, рика, маряк, почька, ночьной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WordArt 7" descr=""/>
          <p:cNvPicPr/>
          <p:nvPr/>
        </p:nvPicPr>
        <p:blipFill>
          <a:blip r:embed="rId1"/>
          <a:stretch/>
        </p:blipFill>
        <p:spPr>
          <a:xfrm>
            <a:off x="1006560" y="2901960"/>
            <a:ext cx="713088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4:01:28Z</dcterms:created>
  <dc:creator>ПОМ</dc:creator>
  <dc:description/>
  <dc:language>en-US</dc:language>
  <cp:lastModifiedBy>10</cp:lastModifiedBy>
  <dcterms:modified xsi:type="dcterms:W3CDTF">2018-12-25T13:23:04Z</dcterms:modified>
  <cp:revision>15</cp:revision>
  <dc:subject/>
  <dc:title>Слайд 1</dc:title>
</cp:coreProperties>
</file>