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1C9-83B2-4D96-B199-545C1C99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4F4-2234-41F9-9FF7-AD906019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1D0-B6AA-4D0F-A07E-C2298CE9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697-12EE-4E59-AE72-0C73E90E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FF60-7B2B-4350-B027-DDACE60E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8952-4B61-487E-8A15-D06EBA99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B36C-0534-482E-8432-F013B245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4E37-E16E-48EC-8A1E-1A673B9B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D5AB-8E64-4C63-A388-B45F00D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FE70-935C-4F6F-9869-8FC2B974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61D-170D-4DFA-B060-DA405C30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826-75AB-4E0C-97A0-5BE5561D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3EB8-E668-4FEC-ADE4-DCC9F30C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A049-5EB2-496C-889D-A216E579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1F4C-699F-4173-B62F-722B61C0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300E-51A8-43A1-9C0B-1D818C0D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B3B2-DD8E-487B-90D9-AD81053D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4AA-DF05-4091-98E8-9C3E9635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E5B-03EE-4A40-A676-DE9F82FD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65B-073C-4FA2-8AA6-FB69C096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BC1-F8FD-407B-922F-524D2742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501-2306-4C3E-9FB5-8FDAC5DE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2F6-D964-49C5-A888-DEC7BE0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7F4-7BA6-4E4F-B47D-EB13171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2FF0-4E53-454F-966D-D2411D86BF8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52920"/>
              <a:ext cx="3622320" cy="6140160"/>
              <a:chOff x="5408640" y="52920"/>
              <a:chExt cx="3622320" cy="61401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37680"/>
                <a:ext cx="211608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0840"/>
                <a:ext cx="90648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3000"/>
                <a:ext cx="43992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6600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7440" y="2643120"/>
                <a:ext cx="163440" cy="3315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3516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28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9640"/>
              <a:ext cx="1690560" cy="1146600"/>
              <a:chOff x="375840" y="44964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81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32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7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2160" y="3712320"/>
              <a:ext cx="1156320" cy="1607760"/>
              <a:chOff x="738216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68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760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052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CB8-EC7A-486A-9851-C531AC7FE18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рок русского язы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Тема «Разделительный твердый знак»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 клас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Школа Росс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оставила: учитель начальных классов Икомасова С.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МБОУ СОШ №3 г. Бугурусла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гадайте, о какой букве говорится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еред е, ё, и, ю, я</a:t>
            </a:r>
            <a:br>
              <a:rPr sz="4400"/>
            </a:b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Я в корнях стою, друзья. </a:t>
            </a:r>
            <a:br>
              <a:rPr sz="4400"/>
            </a:b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Воробьи, семья, жильё</a:t>
            </a:r>
            <a:br>
              <a:rPr sz="4400"/>
            </a:b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еред я, ю, и, е, ё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акончите дружным ответом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Было сели, стало съели.</a:t>
            </a:r>
            <a:br>
              <a:rPr sz="4800"/>
            </a:b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Догадаться вы сумели </a:t>
            </a:r>
            <a:br>
              <a:rPr sz="4800"/>
            </a:b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Почему случилось так?</a:t>
            </a:r>
            <a:br>
              <a:rPr sz="4800"/>
            </a:b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Кто виновник? 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692360" y="1628640"/>
            <a:ext cx="10792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3132000" y="836640"/>
            <a:ext cx="194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7"/>
          <p:cNvSpPr txBox="1"/>
          <p:nvPr/>
        </p:nvSpPr>
        <p:spPr>
          <a:xfrm>
            <a:off x="5364000" y="1197000"/>
            <a:ext cx="338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,ё,ю,я</a:t>
            </a:r>
            <a:endParaRPr b="0" lang="en-US" sz="1800" spc="1" strike="noStrike">
              <a:ln w="0">
                <a:noFill/>
              </a:ln>
              <a:solidFill>
                <a:srgbClr val="ff505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468360" y="4869000"/>
            <a:ext cx="84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е  согласного,  перед  буквами</a:t>
            </a:r>
            <a:endParaRPr b="0" lang="en-US" sz="1800" spc="1" strike="noStrike">
              <a:ln w="0">
                <a:noFill/>
              </a:ln>
              <a:solidFill>
                <a:srgbClr val="00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1692360" y="1628640"/>
            <a:ext cx="10792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250920" y="1341360"/>
            <a:ext cx="2592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843280" y="1341360"/>
            <a:ext cx="0" cy="287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324000" y="1844640"/>
            <a:ext cx="93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* 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WordArt 8"/>
          <p:cNvSpPr txBox="1"/>
          <p:nvPr/>
        </p:nvSpPr>
        <p:spPr>
          <a:xfrm>
            <a:off x="3132000" y="836640"/>
            <a:ext cx="194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ъ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5364000" y="1197000"/>
            <a:ext cx="338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,ё,ю,я</a:t>
            </a:r>
            <a:endParaRPr b="0" lang="en-US" sz="1800" spc="1" strike="noStrike">
              <a:ln w="0">
                <a:noFill/>
              </a:ln>
              <a:solidFill>
                <a:srgbClr val="ff505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10"/>
          <p:cNvSpPr txBox="1"/>
          <p:nvPr/>
        </p:nvSpPr>
        <p:spPr>
          <a:xfrm>
            <a:off x="468360" y="4869000"/>
            <a:ext cx="84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е  приставки,  перед  буквами</a:t>
            </a:r>
            <a:endParaRPr b="0" lang="en-US" sz="1800" spc="1" strike="noStrike">
              <a:ln w="0">
                <a:noFill/>
              </a:ln>
              <a:solidFill>
                <a:srgbClr val="00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&quot;Детские презентации&quot; - Детская презентация Разделительный т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Разделительный твердый знак - Наталья Владимировна Ефремо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Физкультминутка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362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 - подняться, потянутьс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ва - согнуться, разогнуться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ри - в ладоши три хлопк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оловою три кивк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 четыре - руки ш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ять - руками помахать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Шесть - за парту тихо сесть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зделительный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ъ</a:t>
            </a: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знак  пишется  </a:t>
            </a: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олько после приставок, оканчивающихся на </a:t>
            </a:r>
            <a:r>
              <a:rPr b="1" lang="ru-RU" sz="5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согласный</a:t>
            </a: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,  перед гласными 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, ё, ю, я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48320" y="18864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ха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стор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вл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прел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с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ато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ре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Ёжить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Юбилей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вля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7"/>
          <p:cNvSpPr txBox="1"/>
          <p:nvPr/>
        </p:nvSpPr>
        <p:spPr>
          <a:xfrm>
            <a:off x="324000" y="1197000"/>
            <a:ext cx="4248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 корни,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  которыми 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е приставок 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жет  стоять Ъ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Рефлексия: - 11558/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 сейчас проверь, дружок,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ы готов начать урок? 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ё ль на месте, всё ль в порядке,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учка, книжка и тетрадка?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е ли правильно сидят?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е ль внимательно глядят?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ждый хочет получать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олько лишь оценку 5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4" descr="зжх"/>
          <p:cNvPicPr/>
          <p:nvPr/>
        </p:nvPicPr>
        <p:blipFill>
          <a:blip r:embed="rId1"/>
          <a:stretch/>
        </p:blipFill>
        <p:spPr>
          <a:xfrm>
            <a:off x="6732720" y="115920"/>
            <a:ext cx="2232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Verdana"/>
              </a:rPr>
              <a:t>с. 21, упр. 41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5"/>
          <p:cNvSpPr txBox="1"/>
          <p:nvPr/>
        </p:nvSpPr>
        <p:spPr>
          <a:xfrm>
            <a:off x="539640" y="1197000"/>
            <a:ext cx="7993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 о л о д ц ы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6"/>
          <p:cNvSpPr txBox="1"/>
          <p:nvPr/>
        </p:nvSpPr>
        <p:spPr>
          <a:xfrm>
            <a:off x="1042920" y="4797360"/>
            <a:ext cx="7274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  оконче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Вот чем пользуется ТвердыйЗнак. - ЯПлакал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P1010100"/>
          <p:cNvPicPr/>
          <p:nvPr/>
        </p:nvPicPr>
        <p:blipFill>
          <a:blip r:embed="rId2"/>
          <a:stretch/>
        </p:blipFill>
        <p:spPr>
          <a:xfrm>
            <a:off x="3316320" y="0"/>
            <a:ext cx="5827680" cy="176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Копия P1010100"/>
          <p:cNvPicPr/>
          <p:nvPr/>
        </p:nvPicPr>
        <p:blipFill>
          <a:blip r:embed="rId3"/>
          <a:stretch/>
        </p:blipFill>
        <p:spPr>
          <a:xfrm>
            <a:off x="4600440" y="5410080"/>
            <a:ext cx="4543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Минутка чистописани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Дата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CAB7-1FC8-440E-8704-5838071EC6BC}" type="datetime">
              <a:rPr b="0" lang="ru-RU" sz="1400" spc="-1" strike="noStrike">
                <a:solidFill>
                  <a:srgbClr val="006699"/>
                </a:solidFill>
                <a:latin typeface="Verdana"/>
              </a:rPr>
              <a:t>30.07.26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4C42-B29B-4A74-9903-73F656EA0CA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4" descr="C01EF375"/>
          <p:cNvPicPr/>
          <p:nvPr/>
        </p:nvPicPr>
        <p:blipFill>
          <a:blip r:embed="rId1"/>
          <a:stretch/>
        </p:blipFill>
        <p:spPr>
          <a:xfrm>
            <a:off x="571680" y="1428840"/>
            <a:ext cx="1643040" cy="3768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01EF375"/>
          <p:cNvPicPr/>
          <p:nvPr/>
        </p:nvPicPr>
        <p:blipFill>
          <a:blip r:embed="rId2"/>
          <a:stretch/>
        </p:blipFill>
        <p:spPr>
          <a:xfrm>
            <a:off x="2143080" y="3214800"/>
            <a:ext cx="1643040" cy="1982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01EF375"/>
          <p:cNvPicPr/>
          <p:nvPr/>
        </p:nvPicPr>
        <p:blipFill>
          <a:blip r:embed="rId3"/>
          <a:stretch/>
        </p:blipFill>
        <p:spPr>
          <a:xfrm>
            <a:off x="3571920" y="3214800"/>
            <a:ext cx="1643040" cy="1982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01EF375"/>
          <p:cNvPicPr/>
          <p:nvPr/>
        </p:nvPicPr>
        <p:blipFill>
          <a:blip r:embed="rId4"/>
          <a:stretch/>
        </p:blipFill>
        <p:spPr>
          <a:xfrm>
            <a:off x="5072040" y="3214800"/>
            <a:ext cx="164304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ловарная работ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Р . кета,      м . лина,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остр . в,      п . рог,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 . сок,        инт . ресный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м . рковь,    г . гант,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б . рёза,      т . традь,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 . нал,        мес . ц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зовите орфограмм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о дорожке, в печке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обежал, сердце, заболел, поход, на столе,  жёлтый, замочек, медвежонок, чашк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15560"/>
            <a:ext cx="82440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гра « Пропущенная буква » - (и или е).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Если пропущена буква е, поднимаем руку. Если пропущена буква и, сидим сложа  руки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Г(..)рой, р(..)ка, л(..)сток, б(..)рёза, м(..)довый, кр(..)чать, р(..)сунок, сп(..)шить,   ж(..)вотное,  ш(..)рокий, з(..)мля, т(..)шина, с(..)лач, сн(..)гири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йди ошибку. Объясни.</a:t>
            </a:r>
            <a:br>
              <a:rPr sz="6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льто, бирёза, клара, лесница, жолтый, шол, белгород, мышёнок, сонце, чудестный, бутерброт, чясы, площядь, рика, маряк, почька, ночьной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WordArt 7" descr=""/>
          <p:cNvPicPr/>
          <p:nvPr/>
        </p:nvPicPr>
        <p:blipFill>
          <a:blip r:embed="rId1"/>
          <a:stretch/>
        </p:blipFill>
        <p:spPr>
          <a:xfrm>
            <a:off x="1006560" y="2901960"/>
            <a:ext cx="71308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4:01:28Z</dcterms:created>
  <dc:creator>ПОМ</dc:creator>
  <dc:description/>
  <dc:language>en-US</dc:language>
  <cp:lastModifiedBy>10</cp:lastModifiedBy>
  <dcterms:modified xsi:type="dcterms:W3CDTF">2018-12-25T13:23:04Z</dcterms:modified>
  <cp:revision>15</cp:revision>
  <dc:subject/>
  <dc:title>Слайд 1</dc:title>
</cp:coreProperties>
</file>