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EDFE-E64B-45B2-AA10-1C24EFDAC9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70FB-34C9-430A-8641-1CEE24E92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3DA-EA93-4730-AD6E-3599A6CB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034-F2F0-45D4-B213-7FAFF991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58B-D44A-4F07-A371-17A34EBD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E58-677D-463A-9679-D612E302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E48B-12EB-4330-90FB-8A7E70F9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6EB3-1F38-4755-90C1-A468AB8B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4750-BE86-4EFF-9CFC-A26ADE1D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0FCB-A860-49C6-8EFE-C12DB6B9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4402-CBBF-4785-9FD4-79B5D49D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5A00-63ED-4185-871D-C2457421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0739-CDE3-48C0-8177-62CCF420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926-28AD-48DE-A2DB-F98903BD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7BA1-E069-42E0-BD7C-3E69F5BC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563D-BC98-4281-BF8F-17DEBB2C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73F1-5F2F-453E-952A-2F52E61C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BC29-6E06-445D-BF4B-2B177CFF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5F81-6599-47B9-AE77-E6FD5529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39C-D6B5-4FB2-AEAE-46727EED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6E2-4C28-41F2-8DD3-44671200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EF2-1950-482C-9F25-C5C8572A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06A-3B1F-478D-8152-220AE603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CE0-6174-48DE-BEEA-210291E2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880-CBCD-4864-AA8A-600C47E6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7B4-E979-4E2E-9F02-939CA888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5F88-6A92-4A12-9E74-6354D8B48D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11C9-C26F-4ABD-8F9D-34D5A3AB37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8880" y="5516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удентка 32-шк.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льзова Ди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подаватель: Белогурова Л. 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603360" y="1096920"/>
            <a:ext cx="8296200" cy="276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179280" y="4005360"/>
            <a:ext cx="37195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ambria Math"/>
                <a:ea typeface="Cambria Math"/>
              </a:rPr>
              <a:t>ДЕЛОВАЯ ИГРА «ИНТЕРВЬЮ НА «ГОРЯЧУЮ» ТЕМУ»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1412640"/>
            <a:ext cx="521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Цель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сихолого-педагогической компетентности педагогов в вопросах применения технологии моделирования в речевом развитии 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    Закреплять теоретические знания педагогов по темам «Речевое развитие» и «Использование схем и моделей в обучении дошкольников связной реч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     Развивать аналитические, конструктивные и коммуникативные умения педаго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     Способствовать благоприятной адаптации  молодых педагогов, созданию и сохранению в коллективе атмосферы  твор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5272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9916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Деловая игра </a:t>
            </a: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– </a:t>
            </a:r>
            <a:r>
              <a:rPr b="1" lang="ru-RU" sz="4200" spc="-1" strike="noStrike">
                <a:solidFill>
                  <a:srgbClr val="0070c0"/>
                </a:solidFill>
                <a:latin typeface="Monotype Corsiva"/>
              </a:rPr>
              <a:t>метод имитации  принятия управленческих решений в различных ситуациях путем игры по заданным или вырабатываемым самими участниками игры правилам.    </a:t>
            </a:r>
            <a:br>
              <a:rPr sz="4200"/>
            </a:b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2023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ЗНАКИ ДЕЛОВОЙ ИГРЫ: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5472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оздание предметного и социального содержания, условий и динамику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рофессиона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делении состава ролей на первый план выдвигается аспект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нструментального обу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бучения средствам и способам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оведения и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енных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должностных л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ющие являются непосредственными участниками разрешения заключенного в сценарии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конфли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коллективная выработ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шений участниками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699160" y="1413000"/>
            <a:ext cx="329868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2484360" y="549360"/>
            <a:ext cx="4319640" cy="9144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826920" y="2421000"/>
            <a:ext cx="331344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правленчес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755640" y="4581360"/>
            <a:ext cx="331308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ель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4581360"/>
            <a:ext cx="331344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нос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аттестационны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5292720" y="2421000"/>
            <a:ext cx="331308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268360" y="1989000"/>
            <a:ext cx="47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2340000" y="393372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226836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34000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702000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694836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4643280" y="141300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ambria Math"/>
                <a:ea typeface="Cambria Math"/>
              </a:rPr>
              <a:t>ПРИ КОНСТРУИРОВАНИИ  УЧЕБНОЙ ДЕЛОВОЙ ИГРЫ РАЗРАБАТЫВАЮТСЯ МОДЕЛИ ДВУХ ТИПОВ: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76160" y="3092040"/>
            <a:ext cx="3754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Имитацион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251400" y="3068640"/>
            <a:ext cx="244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Игров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940200" y="1874880"/>
            <a:ext cx="523800" cy="99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6948360" y="1874880"/>
            <a:ext cx="524160" cy="99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250920" y="1874880"/>
            <a:ext cx="27367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1332000" y="692280"/>
            <a:ext cx="6769080" cy="9144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ИТАЦИОННАЯ МОДЕЛЬ ДЕЛОВОЙ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2411280" y="1844640"/>
            <a:ext cx="47516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ОБЪЕКТ ИМИ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932360" y="2997360"/>
            <a:ext cx="3745080" cy="1800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Ь СОЦИА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ШЕНИЙ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ФЕССИОНА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0920" y="2997360"/>
            <a:ext cx="3600360" cy="1800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Ь ПРЕДМ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24000" y="4797360"/>
            <a:ext cx="360036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це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изво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 его фраг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5003640" y="4797360"/>
            <a:ext cx="36007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оци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извод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тношения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45720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1692000" y="2205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1692360" y="220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7164360" y="2205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7667640" y="220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ЦЕНАРИЙ ИГРЫ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250920" y="981000"/>
            <a:ext cx="3097080" cy="1081080"/>
          </a:xfrm>
          <a:prstGeom prst="rightArrowCallout">
            <a:avLst>
              <a:gd name="adj1" fmla="val 25002"/>
              <a:gd name="adj2" fmla="val 25000"/>
              <a:gd name="adj3" fmla="val 4774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50920" y="2133720"/>
            <a:ext cx="3097080" cy="1081080"/>
          </a:xfrm>
          <a:prstGeom prst="rightArrowCallout">
            <a:avLst>
              <a:gd name="adj1" fmla="val 25002"/>
              <a:gd name="adj2" fmla="val 25000"/>
              <a:gd name="adj3" fmla="val 4774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250920" y="3357720"/>
            <a:ext cx="3097080" cy="1081080"/>
          </a:xfrm>
          <a:prstGeom prst="rightArrowCallout">
            <a:avLst>
              <a:gd name="adj1" fmla="val 25002"/>
              <a:gd name="adj2" fmla="val 25000"/>
              <a:gd name="adj3" fmla="val 4774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ытий в иг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08000" y="4581360"/>
            <a:ext cx="3311640" cy="1081080"/>
          </a:xfrm>
          <a:prstGeom prst="rightArrowCallout">
            <a:avLst>
              <a:gd name="adj1" fmla="val 25002"/>
              <a:gd name="adj2" fmla="val 25000"/>
              <a:gd name="adj3" fmla="val 47750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ова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заимодей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250920" y="5776920"/>
            <a:ext cx="3097080" cy="1000080"/>
          </a:xfrm>
          <a:prstGeom prst="rightArrowCallout">
            <a:avLst>
              <a:gd name="adj1" fmla="val 25002"/>
              <a:gd name="adj2" fmla="val 25000"/>
              <a:gd name="adj3" fmla="val 47714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упланов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419640" y="1052640"/>
            <a:ext cx="554508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ссы и я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419640" y="2276640"/>
            <a:ext cx="554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иворечие с учетом содерж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одержательный и поведенче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3419640" y="3429000"/>
            <a:ext cx="554508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намика и характер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сса игры – детерминирован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нтанный и смеш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3419640" y="4653000"/>
            <a:ext cx="554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основных этапов иг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ций, шагов в виде блок-сх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419640" y="5796000"/>
            <a:ext cx="5545080" cy="981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ение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грока» и «специалис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МЕТОДИКА ПОДГОТОВКИ И ПРОВЕДЕНИЯ ДЕЛОВОЙ ИГРЫ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040" y="1125000"/>
            <a:ext cx="577188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ПЕРВЫЙ ЭТАП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ГОТОВ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овести тему, цели и замысел занятия до обучае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оздать в учебной группе три рабочие под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пределить в рабочей подгруппе из их участников должностных лиц(ро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азначить экспертов по рассмотрению ситуации (задачи) в каждую рабочую подгруп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пределить задачи участников игры – должностных лиц и экспертов в рабочих подгрупп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Довести учебную литературу, которую обучаемые должны изучить до непосредственного проведения деловой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759280" y="2349360"/>
            <a:ext cx="338472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МЕТОДИКА ПОДГОТОВКИ И ПРОВЕДЕНИЯ ДЕЛОВОЙ ИГРЫ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50752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ТОРОЙ ЭТАП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ПОСРЕДСТВЕННОЕ ПРОВЕДЕНИ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ступительное слово (до 10 минут) содержит: тему занятия, ее цели и задачи, актуальность, замысел игры, уточнение ситуации (задачи), состав и порядок работы в подгрупп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абота по подгруппам по выработке коллективного решения (30-35 мину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ссмотрение итогов работы первой подгруппы. Выступление эксперта. Общая дискуссия. Подведение ит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Аналогичная работа в подгруппах 2,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одведение итогов деловой игры (10-15 мину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8:01:11Z</dcterms:created>
  <dc:creator>Ирина</dc:creator>
  <dc:description/>
  <dc:language>en-US</dc:language>
  <cp:lastModifiedBy>Пользователь Windows</cp:lastModifiedBy>
  <dcterms:modified xsi:type="dcterms:W3CDTF">2018-12-26T20:01:38Z</dcterms:modified>
  <cp:revision>19</cp:revision>
  <dc:subject/>
  <dc:title>Слайд 1</dc:title>
</cp:coreProperties>
</file>