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A42-9384-4FF4-B5AF-1E4D6A933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C5C8-7D98-4380-96DF-33923E7AE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C51-5370-466C-A893-8FA681F7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4DF-9BF9-4F34-9903-8B08A2E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746-1539-431B-B271-9E725821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5BF-33F1-4FB9-A927-295BC057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169-07C7-42E5-B57A-F3585803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1365-0E37-46DE-AA1D-484B5BC9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9FD4-80AB-4B4E-830F-C8D45A8A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CD1-18C1-4F0E-87A6-F80F3A7A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984B-B953-44F7-90AD-0A84D61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2C3B-B144-45A4-856F-A2263A9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873-7A37-438F-A881-EC99826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649-DAF5-4635-9F6A-89CBEC27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9711-2ED5-4167-85CF-4C4FC3C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D9A-346C-47D0-9945-214C249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F4C-B473-4ABA-89CA-C4F105A5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C539-1191-4EBA-8415-B0CEBF0A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3FBE-5039-412A-9C55-F3777581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CC7-0468-4ED9-BAFF-0A38827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975-89D6-4598-BAA4-269FBA0D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F74-F48D-48E1-B606-3E9E90C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22C-BE48-478F-A2A4-7C2AE48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9AE-99AA-4445-B716-9B63A8F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D61-938A-47D2-B47C-8CBDA39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D34-ABFE-411C-B3A5-6715A6D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C34-4B98-447F-82BE-AD44022909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174D-4C83-4DBE-A6B7-27921A7A8D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8880" y="5516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а 32-шк.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зова Ди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подаватель: Белогурова Л. 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1096920"/>
            <a:ext cx="8296200" cy="276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37195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ambria Math"/>
                <a:ea typeface="Cambria Math"/>
              </a:rPr>
              <a:t>ДЕЛОВАЯ ИГРА «ИНТЕРВЬЮ НА «ГОРЯЧУЮ» ТЕМУ»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14126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Цель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сихолого-педагогической компетентности педагогов в вопросах применения технологии моделирования в речевом развити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    Закреплять теоретические знания педагогов по темам «Речевое развитие» и «Использование схем и моделей в обучении дошкольников связной реч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 Развивать аналитические, конструктивные и коммуникативные умения педаг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     Способствовать благоприятной адаптации  молодых педагогов, созданию и сохранению в коллективе атмосферы  твор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5272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Деловая игра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– </a:t>
            </a:r>
            <a:r>
              <a:rPr b="1" lang="ru-RU" sz="4200" spc="-1" strike="noStrike">
                <a:solidFill>
                  <a:srgbClr val="0070c0"/>
                </a:solidFill>
                <a:latin typeface="Monotype Corsiva"/>
              </a:rPr>
              <a:t>метод имитации  принятия управленческих решений в различных ситуациях путем игры по заданным или вырабатываемым самими участниками игры правилам.    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023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НАКИ ДЕЛОВОЙ ИГРЫ: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5472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оздание предметного и социального содержания, условий и динамику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делении состава ролей на первый план выдвигается аспект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нструментального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учения средствам и способам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оведения и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ных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должностных 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е являются непосредственными участниками разрешения заключенного в сценарии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онфли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оллективная вырабо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шений участниками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699160" y="1413000"/>
            <a:ext cx="32986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2484360" y="549360"/>
            <a:ext cx="4319640" cy="9144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26920" y="2421000"/>
            <a:ext cx="331344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правлен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55640" y="458136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4581360"/>
            <a:ext cx="331344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ттестацион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292720" y="242100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68360" y="198900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340000" y="393372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2268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340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702000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694836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4643280" y="14130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 Math"/>
                <a:ea typeface="Cambria Math"/>
              </a:rPr>
              <a:t>ПРИ КОНСТРУИРОВАНИИ  УЧЕБНОЙ ДЕЛОВОЙ ИГРЫ РАЗРАБАТЫВАЮТСЯ МОДЕЛИ ДВУХ ТИПОВ: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76160" y="3092040"/>
            <a:ext cx="3754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митацион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251400" y="3068640"/>
            <a:ext cx="244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Игров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940200" y="1874880"/>
            <a:ext cx="523800" cy="99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6948360" y="1874880"/>
            <a:ext cx="524160" cy="99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250920" y="1874880"/>
            <a:ext cx="2736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1332000" y="692280"/>
            <a:ext cx="6769080" cy="9144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ИТАЦИОННАЯ МОДЕЛЬ ДЕЛОВОЙ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411280" y="1844640"/>
            <a:ext cx="47516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ЪЕКТ ИМИ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932360" y="2997360"/>
            <a:ext cx="3745080" cy="1800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Й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ФЕССИОН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0920" y="2997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ПРЕДМ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24000" y="4797360"/>
            <a:ext cx="360036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 его 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003640" y="4797360"/>
            <a:ext cx="3600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извод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тношения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5720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1692000" y="220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7164360" y="220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766764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ЦЕНАРИ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250920" y="98100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213372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50920" y="335772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в иг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08000" y="4581360"/>
            <a:ext cx="3311640" cy="1081080"/>
          </a:xfrm>
          <a:prstGeom prst="rightArrowCallout">
            <a:avLst>
              <a:gd name="adj1" fmla="val 25002"/>
              <a:gd name="adj2" fmla="val 25000"/>
              <a:gd name="adj3" fmla="val 47750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аимо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50920" y="5776920"/>
            <a:ext cx="3097080" cy="1000080"/>
          </a:xfrm>
          <a:prstGeom prst="rightArrowCallout">
            <a:avLst>
              <a:gd name="adj1" fmla="val 25002"/>
              <a:gd name="adj2" fmla="val 25000"/>
              <a:gd name="adj3" fmla="val 47714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плано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419640" y="1052640"/>
            <a:ext cx="554508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ы и я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419640" y="2276640"/>
            <a:ext cx="554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речие с учетом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одержательный и поведен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419640" y="3429000"/>
            <a:ext cx="554508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и характер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а игры – детерминиров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нтанный и смеш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3419640" y="4653000"/>
            <a:ext cx="554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основных этапов иг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й, шагов в виде блок-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419640" y="5796000"/>
            <a:ext cx="5545080" cy="981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ение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грока» и «специали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ЕТОДИКА ПОДГОТОВКИ И ПРОВЕДЕНИЯ ДЕЛОВО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040" y="1125000"/>
            <a:ext cx="577188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ЕРВЫЙ ЭТАП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овести тему, цели и замысел занятия до обуч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здать в учебной группе три рабочие под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пределить в рабочей подгруппе из их участников должностных лиц(ро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азначить экспертов по рассмотрению ситуации (задачи) в каждую рабочую подгруп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пределить задачи участников игры – должностных лиц и экспертов в рабочих под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Довести учебную литературу, которую обучаемые должны изучить до непосредственного проведения деловой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759280" y="2349360"/>
            <a:ext cx="3384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ЕТОДИКА ПОДГОТОВКИ И ПРОВЕДЕНИЯ ДЕЛОВО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5075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ТОРОЙ ЭТАП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ПОСРЕДСТВЕННОЕ ПРОВЕДЕНИ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тупительное слово (до 10 минут) содержит: тему занятия, ее цели и задачи, актуальность, замысел игры, уточнение ситуации (задачи), состав и порядок работы в под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бота по подгруппам по выработке коллективного решения (30-35 мину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ссмотрение итогов работы первой подгруппы. Выступление эксперта. Общая дискуссия. Подведение ит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Аналогичная работа в подгруппах 2,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одведение итогов деловой игры (10-15 мину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8:01:11Z</dcterms:created>
  <dc:creator>Ирина</dc:creator>
  <dc:description/>
  <dc:language>en-US</dc:language>
  <cp:lastModifiedBy>Пользователь Windows</cp:lastModifiedBy>
  <dcterms:modified xsi:type="dcterms:W3CDTF">2018-12-26T20:01:38Z</dcterms:modified>
  <cp:revision>19</cp:revision>
  <dc:subject/>
  <dc:title>Слайд 1</dc:title>
</cp:coreProperties>
</file>