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chimes.wav" ContentType="audio/x-wav"/>
  <Override PartName="/ppt/media/image16.png" ContentType="image/png"/>
  <Override PartName="/ppt/media/image15.jpeg" ContentType="image/jpeg"/>
  <Override PartName="/ppt/media/image29.gif" ContentType="image/gif"/>
  <Override PartName="/ppt/media/image21.gif" ContentType="image/gif"/>
  <Override PartName="/ppt/media/image10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30.gif" ContentType="image/gif"/>
  <Override PartName="/ppt/media/image8.png" ContentType="image/png"/>
  <Override PartName="/ppt/media/image28.gif" ContentType="image/gif"/>
  <Override PartName="/ppt/media/image34.gif" ContentType="image/gif"/>
  <Override PartName="/ppt/media/image37.jpeg" ContentType="image/jpeg"/>
  <Override PartName="/ppt/media/image12.jpeg" ContentType="image/jpeg"/>
  <Override PartName="/ppt/media/image38.gif" ContentType="image/gif"/>
  <Override PartName="/ppt/media/image43.png" ContentType="image/png"/>
  <Override PartName="/ppt/media/image33.gif" ContentType="image/gif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6.jpeg" ContentType="image/jpeg"/>
  <Override PartName="/ppt/media/applause.wav" ContentType="audio/x-wav"/>
  <Override PartName="/ppt/media/image42.gif" ContentType="image/gif"/>
  <Override PartName="/ppt/media/image35.png" ContentType="image/png"/>
  <Override PartName="/ppt/media/image5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7.png" ContentType="image/png"/>
  <Override PartName="/ppt/media/image27.gif" ContentType="image/gif"/>
  <Override PartName="/ppt/media/image22.jpeg" ContentType="image/jpeg"/>
  <Override PartName="/ppt/media/image39.png" ContentType="image/png"/>
  <Override PartName="/ppt/media/image6.png" ContentType="image/png"/>
  <Override PartName="/ppt/media/image40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F43-108B-4B39-8B95-4AAC20A0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00A-0F8F-4D2E-B8B0-B292752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13F-2CC4-40D7-A033-8A3C0126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C87-C550-4385-BA88-DD3F9425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130-DA1A-4B6D-9124-F325F0A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D06-F193-45FF-AEAB-E751FC84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6A9-98C2-4E0D-B0A4-DB657EEE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2AB-82B6-4C6C-97F7-3848F98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B45-5B22-483F-A616-AFB0E68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4B7-85DF-4D0F-B03F-D7809C7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FBD-60C2-4452-80B1-1B4240C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A35-1BA8-499F-804C-ABB1B71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1E0-9F06-4F2D-96CF-502C770AB8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slide" Target="slide12.xml"/><Relationship Id="rId10" Type="http://schemas.openxmlformats.org/officeDocument/2006/relationships/image" Target="../media/image2.jpeg"/><Relationship Id="rId11" Type="http://schemas.openxmlformats.org/officeDocument/2006/relationships/slide" Target="slide16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image" Target="../media/image15.jpeg"/><Relationship Id="rId4" Type="http://schemas.openxmlformats.org/officeDocument/2006/relationships/image" Target="../media/image27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image" Target="../media/image3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5.jpe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380880" y="380880"/>
            <a:ext cx="8534520" cy="1676520"/>
            <a:chOff x="380880" y="380880"/>
            <a:chExt cx="8534520" cy="1676520"/>
          </a:xfrm>
        </p:grpSpPr>
        <p:sp>
          <p:nvSpPr>
            <p:cNvPr id="42" name="Rectangle 4"/>
            <p:cNvSpPr/>
            <p:nvPr/>
          </p:nvSpPr>
          <p:spPr>
            <a:xfrm>
              <a:off x="380880" y="380880"/>
              <a:ext cx="8534520" cy="1676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762120" y="762120"/>
              <a:ext cx="7848360" cy="99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7"/>
            <p:cNvSpPr txBox="1"/>
            <p:nvPr/>
          </p:nvSpPr>
          <p:spPr>
            <a:xfrm>
              <a:off x="1143000" y="838080"/>
              <a:ext cx="7315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етям о портрете</a:t>
              </a:r>
              <a:endPara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" name="Group 20"/>
          <p:cNvGrpSpPr/>
          <p:nvPr/>
        </p:nvGrpSpPr>
        <p:grpSpPr>
          <a:xfrm>
            <a:off x="2971800" y="2286000"/>
            <a:ext cx="3124080" cy="3375000"/>
            <a:chOff x="2971800" y="2286000"/>
            <a:chExt cx="3124080" cy="3375000"/>
          </a:xfrm>
        </p:grpSpPr>
        <p:sp>
          <p:nvSpPr>
            <p:cNvPr id="46" name="Rectangle 8"/>
            <p:cNvSpPr/>
            <p:nvPr/>
          </p:nvSpPr>
          <p:spPr>
            <a:xfrm>
              <a:off x="2971800" y="2286000"/>
              <a:ext cx="3124080" cy="337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9" descr="девочка с корзиной"/>
            <p:cNvPicPr/>
            <p:nvPr/>
          </p:nvPicPr>
          <p:blipFill>
            <a:blip r:embed="rId5"/>
            <a:stretch/>
          </p:blipFill>
          <p:spPr>
            <a:xfrm>
              <a:off x="3429000" y="2567160"/>
              <a:ext cx="2209680" cy="281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3"/>
          <p:cNvSpPr/>
          <p:nvPr/>
        </p:nvSpPr>
        <p:spPr>
          <a:xfrm>
            <a:off x="0" y="5695920"/>
            <a:ext cx="274320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7" action="ppaction://hlinksldjump"/>
              </a:rPr>
              <a:t>Виды портр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3048120" y="5732640"/>
            <a:ext cx="297180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9" action="ppaction://hlinksldjump"/>
              </a:rPr>
              <a:t>Настроение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248520" y="5732640"/>
            <a:ext cx="2895480" cy="6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11" action="ppaction://hlinksldjump"/>
              </a:rPr>
              <a:t>Цвет и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1.mp3" descr=""/>
          <p:cNvPicPr/>
          <p:nvPr/>
        </p:nvPicPr>
        <p:blipFill>
          <a:blip r:embed="rId12"/>
          <a:stretch/>
        </p:blipFill>
        <p:spPr>
          <a:xfrm>
            <a:off x="944892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2592720" y="63514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: Дебердеева Т.К.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дама больш"/>
          <p:cNvPicPr/>
          <p:nvPr/>
        </p:nvPicPr>
        <p:blipFill>
          <a:blip r:embed="rId1"/>
          <a:stretch/>
        </p:blipFill>
        <p:spPr>
          <a:xfrm>
            <a:off x="457200" y="1600200"/>
            <a:ext cx="1905120" cy="269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семейный2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743200" y="533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ушаков"/>
          <p:cNvPicPr/>
          <p:nvPr/>
        </p:nvPicPr>
        <p:blipFill>
          <a:blip r:embed="rId3"/>
          <a:stretch/>
        </p:blipFill>
        <p:spPr>
          <a:xfrm>
            <a:off x="6248520" y="1295280"/>
            <a:ext cx="20001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09480" y="5943600"/>
            <a:ext cx="807732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йдите лишнюю карти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305920" y="388620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кнокпа зел"/>
          <p:cNvPicPr/>
          <p:nvPr/>
        </p:nvPicPr>
        <p:blipFill>
          <a:blip r:embed="rId4"/>
          <a:stretch/>
        </p:blipFill>
        <p:spPr>
          <a:xfrm>
            <a:off x="2438280" y="38862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нопка кр"/>
          <p:cNvPicPr/>
          <p:nvPr/>
        </p:nvPicPr>
        <p:blipFill>
          <a:blip r:embed="rId5"/>
          <a:stretch/>
        </p:blipFill>
        <p:spPr>
          <a:xfrm>
            <a:off x="4495680" y="22860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салют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209680" y="5486400"/>
            <a:ext cx="4038840" cy="99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514600" y="5562720"/>
            <a:ext cx="3124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олодцы!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8" descr="художник"/>
          <p:cNvPicPr/>
          <p:nvPr/>
        </p:nvPicPr>
        <p:blipFill>
          <a:blip r:embed="rId2"/>
          <a:stretch/>
        </p:blipFill>
        <p:spPr>
          <a:xfrm>
            <a:off x="6400800" y="45720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Oval 9"/>
          <p:cNvSpPr/>
          <p:nvPr/>
        </p:nvSpPr>
        <p:spPr>
          <a:xfrm>
            <a:off x="2438280" y="762120"/>
            <a:ext cx="3505320" cy="4572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" descr="салют"/>
          <p:cNvPicPr/>
          <p:nvPr/>
        </p:nvPicPr>
        <p:blipFill>
          <a:blip r:embed="rId3"/>
          <a:stretch/>
        </p:blipFill>
        <p:spPr>
          <a:xfrm>
            <a:off x="3048120" y="1752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/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2133720" y="1523880"/>
            <a:ext cx="4419360" cy="36576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762525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аним 1"/>
          <p:cNvPicPr/>
          <p:nvPr/>
        </p:nvPicPr>
        <p:blipFill>
          <a:blip r:embed="rId1"/>
          <a:stretch/>
        </p:blipFill>
        <p:spPr>
          <a:xfrm>
            <a:off x="3124080" y="21337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1828800" y="5867280"/>
            <a:ext cx="5105520" cy="6098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пределите настроение человечка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838080" y="228600"/>
            <a:ext cx="7391520" cy="10666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1371600" y="457200"/>
            <a:ext cx="632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строение человека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09680" y="1523880"/>
            <a:ext cx="4343400" cy="3657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аним3"/>
          <p:cNvPicPr/>
          <p:nvPr/>
        </p:nvPicPr>
        <p:blipFill>
          <a:blip r:embed="rId1"/>
          <a:stretch/>
        </p:blipFill>
        <p:spPr>
          <a:xfrm>
            <a:off x="3124080" y="198108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209680" y="1523880"/>
            <a:ext cx="4343400" cy="3657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85e18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аним4"/>
          <p:cNvPicPr/>
          <p:nvPr/>
        </p:nvPicPr>
        <p:blipFill>
          <a:blip r:embed="rId1"/>
          <a:stretch/>
        </p:blipFill>
        <p:spPr>
          <a:xfrm>
            <a:off x="3276720" y="205740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5562720"/>
            <a:ext cx="7086600" cy="9144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пределите настроение героя портр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 выражению лица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609480" y="1143000"/>
            <a:ext cx="2590560" cy="3276720"/>
            <a:chOff x="609480" y="1143000"/>
            <a:chExt cx="2590560" cy="3276720"/>
          </a:xfrm>
        </p:grpSpPr>
        <p:sp>
          <p:nvSpPr>
            <p:cNvPr id="123" name="Rectangle 3"/>
            <p:cNvSpPr/>
            <p:nvPr/>
          </p:nvSpPr>
          <p:spPr>
            <a:xfrm>
              <a:off x="609480" y="1143000"/>
              <a:ext cx="259056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5" descr="вес"/>
            <p:cNvPicPr/>
            <p:nvPr/>
          </p:nvPicPr>
          <p:blipFill>
            <a:blip r:embed="rId1"/>
            <a:stretch/>
          </p:blipFill>
          <p:spPr>
            <a:xfrm>
              <a:off x="990360" y="1524240"/>
              <a:ext cx="182880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6"/>
          <p:cNvGrpSpPr/>
          <p:nvPr/>
        </p:nvGrpSpPr>
        <p:grpSpPr>
          <a:xfrm>
            <a:off x="3429000" y="1143000"/>
            <a:ext cx="2590920" cy="3276720"/>
            <a:chOff x="3429000" y="1143000"/>
            <a:chExt cx="2590920" cy="3276720"/>
          </a:xfrm>
        </p:grpSpPr>
        <p:sp>
          <p:nvSpPr>
            <p:cNvPr id="126" name="Rectangle 10"/>
            <p:cNvSpPr/>
            <p:nvPr/>
          </p:nvSpPr>
          <p:spPr>
            <a:xfrm>
              <a:off x="3429000" y="1143000"/>
              <a:ext cx="259092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icture 11" descr="петр строгий"/>
            <p:cNvPicPr/>
            <p:nvPr/>
          </p:nvPicPr>
          <p:blipFill>
            <a:blip r:embed="rId2"/>
            <a:stretch/>
          </p:blipFill>
          <p:spPr>
            <a:xfrm>
              <a:off x="3657600" y="1828800"/>
              <a:ext cx="213372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9"/>
          <p:cNvGrpSpPr/>
          <p:nvPr/>
        </p:nvGrpSpPr>
        <p:grpSpPr>
          <a:xfrm>
            <a:off x="6248520" y="1143000"/>
            <a:ext cx="2590560" cy="3276720"/>
            <a:chOff x="6248520" y="1143000"/>
            <a:chExt cx="2590560" cy="3276720"/>
          </a:xfrm>
        </p:grpSpPr>
        <p:sp>
          <p:nvSpPr>
            <p:cNvPr id="129" name="Rectangle 12"/>
            <p:cNvSpPr/>
            <p:nvPr/>
          </p:nvSpPr>
          <p:spPr>
            <a:xfrm>
              <a:off x="6248520" y="1143000"/>
              <a:ext cx="259056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13" descr="портрет Елены"/>
            <p:cNvPicPr/>
            <p:nvPr/>
          </p:nvPicPr>
          <p:blipFill>
            <a:blip r:embed="rId3"/>
            <a:stretch/>
          </p:blipFill>
          <p:spPr>
            <a:xfrm>
              <a:off x="6705720" y="1600200"/>
              <a:ext cx="1752480" cy="236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14" descr="художник"/>
          <p:cNvPicPr/>
          <p:nvPr/>
        </p:nvPicPr>
        <p:blipFill>
          <a:blip r:embed="rId4"/>
          <a:stretch/>
        </p:blipFill>
        <p:spPr>
          <a:xfrm>
            <a:off x="72388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цвет"/>
          <p:cNvPicPr/>
          <p:nvPr/>
        </p:nvPicPr>
        <p:blipFill>
          <a:blip r:embed="rId1"/>
          <a:stretch/>
        </p:blipFill>
        <p:spPr>
          <a:xfrm>
            <a:off x="2438280" y="1752480"/>
            <a:ext cx="41148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0"/>
          <p:cNvGrpSpPr/>
          <p:nvPr/>
        </p:nvGrpSpPr>
        <p:grpSpPr>
          <a:xfrm>
            <a:off x="609480" y="1600200"/>
            <a:ext cx="1295640" cy="4876920"/>
            <a:chOff x="609480" y="1600200"/>
            <a:chExt cx="1295640" cy="4876920"/>
          </a:xfrm>
        </p:grpSpPr>
        <p:sp>
          <p:nvSpPr>
            <p:cNvPr id="135" name="Oval 6"/>
            <p:cNvSpPr/>
            <p:nvPr/>
          </p:nvSpPr>
          <p:spPr>
            <a:xfrm>
              <a:off x="609480" y="1600200"/>
              <a:ext cx="129564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609480" y="2362320"/>
              <a:ext cx="129564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609480" y="3048120"/>
              <a:ext cx="129564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609480" y="3809880"/>
              <a:ext cx="1295640" cy="533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609480" y="4495680"/>
              <a:ext cx="1295640" cy="533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609480" y="5181480"/>
              <a:ext cx="1295640" cy="5335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609480" y="5943600"/>
              <a:ext cx="1295640" cy="533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7086600" y="1600200"/>
            <a:ext cx="1295280" cy="4724280"/>
            <a:chOff x="7086600" y="1600200"/>
            <a:chExt cx="1295280" cy="4724280"/>
          </a:xfrm>
        </p:grpSpPr>
        <p:sp>
          <p:nvSpPr>
            <p:cNvPr id="143" name="Oval 13"/>
            <p:cNvSpPr/>
            <p:nvPr/>
          </p:nvSpPr>
          <p:spPr>
            <a:xfrm>
              <a:off x="7086600" y="1600200"/>
              <a:ext cx="1295280" cy="533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7086600" y="2286000"/>
              <a:ext cx="1295280" cy="53352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7086600" y="2971800"/>
              <a:ext cx="1295280" cy="53352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7086600" y="3657600"/>
              <a:ext cx="12952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>
              <a:off x="7086600" y="4343400"/>
              <a:ext cx="1295280" cy="533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8"/>
            <p:cNvSpPr/>
            <p:nvPr/>
          </p:nvSpPr>
          <p:spPr>
            <a:xfrm>
              <a:off x="7086600" y="5029200"/>
              <a:ext cx="1295280" cy="53352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9"/>
            <p:cNvSpPr/>
            <p:nvPr/>
          </p:nvSpPr>
          <p:spPr>
            <a:xfrm>
              <a:off x="7086600" y="5791320"/>
              <a:ext cx="1295280" cy="53316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AutoShape 24"/>
          <p:cNvSpPr/>
          <p:nvPr/>
        </p:nvSpPr>
        <p:spPr>
          <a:xfrm>
            <a:off x="2286000" y="4952880"/>
            <a:ext cx="1600200" cy="1905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яр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вет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вес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4800600" y="5029200"/>
            <a:ext cx="1905120" cy="1828800"/>
          </a:xfrm>
          <a:prstGeom prst="rightArrow">
            <a:avLst>
              <a:gd name="adj1" fmla="val 50000"/>
              <a:gd name="adj2" fmla="val 26043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ем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уск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грус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8"/>
          <p:cNvSpPr/>
          <p:nvPr/>
        </p:nvSpPr>
        <p:spPr>
          <a:xfrm>
            <a:off x="990720" y="304920"/>
            <a:ext cx="70866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1295280" y="533520"/>
            <a:ext cx="647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вет и настроение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художник"/>
          <p:cNvPicPr/>
          <p:nvPr/>
        </p:nvPicPr>
        <p:blipFill>
          <a:blip r:embed="rId1"/>
          <a:stretch/>
        </p:blipFill>
        <p:spPr>
          <a:xfrm>
            <a:off x="7010280" y="480060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gaidn"/>
          <p:cNvPicPr/>
          <p:nvPr/>
        </p:nvPicPr>
        <p:blipFill>
          <a:blip r:embed="rId2"/>
          <a:stretch/>
        </p:blipFill>
        <p:spPr>
          <a:xfrm>
            <a:off x="609480" y="533520"/>
            <a:ext cx="3657600" cy="396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веселый"/>
          <p:cNvPicPr/>
          <p:nvPr/>
        </p:nvPicPr>
        <p:blipFill>
          <a:blip r:embed="rId3"/>
          <a:stretch/>
        </p:blipFill>
        <p:spPr>
          <a:xfrm>
            <a:off x="5257800" y="533520"/>
            <a:ext cx="3048120" cy="39621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685800" y="5105520"/>
            <a:ext cx="6324480" cy="1523880"/>
          </a:xfrm>
          <a:custGeom>
            <a:avLst/>
            <a:gdLst>
              <a:gd name="textAreaLeft" fmla="*/ 179280 w 6324480"/>
              <a:gd name="textAreaRight" fmla="*/ 6145200 w 632448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896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29" y="21600"/>
                </a:lnTo>
                <a:arcTo wR="3600" hR="3600" stAng="10800000" swAng="5400000"/>
                <a:lnTo>
                  <a:pt x="89629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Какими красками написан портрет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Какое настроение передал художник, использова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акой колори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Придумайте о чем могут думать герои карт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андаш"/>
          <p:cNvPicPr/>
          <p:nvPr/>
        </p:nvPicPr>
        <p:blipFill>
          <a:blip r:embed="rId1"/>
          <a:stretch/>
        </p:blipFill>
        <p:spPr>
          <a:xfrm>
            <a:off x="3276720" y="1523880"/>
            <a:ext cx="335268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"/>
          <p:cNvSpPr/>
          <p:nvPr/>
        </p:nvSpPr>
        <p:spPr>
          <a:xfrm>
            <a:off x="762120" y="304920"/>
            <a:ext cx="73152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1371600" y="533520"/>
            <a:ext cx="647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исуем портрет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1219320" y="5105520"/>
            <a:ext cx="6324480" cy="1523880"/>
          </a:xfrm>
          <a:custGeom>
            <a:avLst/>
            <a:gdLst>
              <a:gd name="textAreaLeft" fmla="*/ 179280 w 6324480"/>
              <a:gd name="textAreaRight" fmla="*/ 6145200 w 632448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896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29" y="21600"/>
                </a:lnTo>
                <a:arcTo wR="3600" hR="3600" stAng="10800000" swAng="5400000"/>
                <a:lnTo>
                  <a:pt x="89629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Точка,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точка,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запят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ышла рожица смешная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18.mp3" descr=""/>
          <p:cNvPicPr/>
          <p:nvPr/>
        </p:nvPicPr>
        <p:blipFill>
          <a:blip r:embed="rId4"/>
          <a:stretch/>
        </p:blipFill>
        <p:spPr>
          <a:xfrm>
            <a:off x="9448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2316240" y="981000"/>
            <a:ext cx="4114800" cy="5639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3"/>
          <p:cNvSpPr/>
          <p:nvPr/>
        </p:nvSpPr>
        <p:spPr>
          <a:xfrm>
            <a:off x="4038480" y="3200400"/>
            <a:ext cx="611280" cy="1847880"/>
          </a:xfrm>
          <a:custGeom>
            <a:avLst/>
            <a:gdLst>
              <a:gd name="textAreaLeft" fmla="*/ 0 w 611280"/>
              <a:gd name="textAreaRight" fmla="*/ 611280 w 61128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385" h="1164">
                <a:moveTo>
                  <a:pt x="199" y="0"/>
                </a:moveTo>
                <a:cubicBezTo>
                  <a:pt x="211" y="35"/>
                  <a:pt x="222" y="69"/>
                  <a:pt x="231" y="105"/>
                </a:cubicBezTo>
                <a:cubicBezTo>
                  <a:pt x="224" y="236"/>
                  <a:pt x="213" y="430"/>
                  <a:pt x="166" y="560"/>
                </a:cubicBezTo>
                <a:cubicBezTo>
                  <a:pt x="144" y="693"/>
                  <a:pt x="104" y="821"/>
                  <a:pt x="61" y="949"/>
                </a:cubicBezTo>
                <a:cubicBezTo>
                  <a:pt x="58" y="958"/>
                  <a:pt x="49" y="965"/>
                  <a:pt x="45" y="974"/>
                </a:cubicBezTo>
                <a:cubicBezTo>
                  <a:pt x="26" y="1014"/>
                  <a:pt x="15" y="1060"/>
                  <a:pt x="4" y="1103"/>
                </a:cubicBezTo>
                <a:cubicBezTo>
                  <a:pt x="24" y="1164"/>
                  <a:pt x="0" y="1118"/>
                  <a:pt x="118" y="1136"/>
                </a:cubicBezTo>
                <a:cubicBezTo>
                  <a:pt x="135" y="1139"/>
                  <a:pt x="150" y="1147"/>
                  <a:pt x="166" y="1152"/>
                </a:cubicBezTo>
                <a:cubicBezTo>
                  <a:pt x="174" y="1155"/>
                  <a:pt x="191" y="1160"/>
                  <a:pt x="191" y="1160"/>
                </a:cubicBezTo>
                <a:cubicBezTo>
                  <a:pt x="268" y="1154"/>
                  <a:pt x="332" y="1160"/>
                  <a:pt x="385" y="1103"/>
                </a:cubicBezTo>
                <a:cubicBezTo>
                  <a:pt x="376" y="1060"/>
                  <a:pt x="377" y="1077"/>
                  <a:pt x="377" y="105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2819520" y="3048120"/>
            <a:ext cx="3124080" cy="533160"/>
            <a:chOff x="2819520" y="3048120"/>
            <a:chExt cx="3124080" cy="533160"/>
          </a:xfrm>
        </p:grpSpPr>
        <p:sp>
          <p:nvSpPr>
            <p:cNvPr id="166" name="Oval 3"/>
            <p:cNvSpPr/>
            <p:nvPr/>
          </p:nvSpPr>
          <p:spPr>
            <a:xfrm>
              <a:off x="2819520" y="3048120"/>
              <a:ext cx="11430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4"/>
            <p:cNvSpPr/>
            <p:nvPr/>
          </p:nvSpPr>
          <p:spPr>
            <a:xfrm>
              <a:off x="4800600" y="3124080"/>
              <a:ext cx="11430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5"/>
            <p:cNvSpPr/>
            <p:nvPr/>
          </p:nvSpPr>
          <p:spPr>
            <a:xfrm>
              <a:off x="312444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5181840" y="3124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327672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533412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2819520" y="2438280"/>
            <a:ext cx="3206160" cy="434880"/>
            <a:chOff x="2819520" y="2438280"/>
            <a:chExt cx="3206160" cy="434880"/>
          </a:xfrm>
        </p:grpSpPr>
        <p:sp>
          <p:nvSpPr>
            <p:cNvPr id="173" name="Freeform 21"/>
            <p:cNvSpPr/>
            <p:nvPr/>
          </p:nvSpPr>
          <p:spPr>
            <a:xfrm>
              <a:off x="2819520" y="2438280"/>
              <a:ext cx="1223640" cy="38736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71" h="244">
                  <a:moveTo>
                    <a:pt x="771" y="244"/>
                  </a:moveTo>
                  <a:cubicBezTo>
                    <a:pt x="763" y="220"/>
                    <a:pt x="765" y="189"/>
                    <a:pt x="747" y="171"/>
                  </a:cubicBezTo>
                  <a:cubicBezTo>
                    <a:pt x="735" y="159"/>
                    <a:pt x="727" y="142"/>
                    <a:pt x="714" y="130"/>
                  </a:cubicBezTo>
                  <a:cubicBezTo>
                    <a:pt x="700" y="117"/>
                    <a:pt x="680" y="112"/>
                    <a:pt x="666" y="98"/>
                  </a:cubicBezTo>
                  <a:cubicBezTo>
                    <a:pt x="660" y="92"/>
                    <a:pt x="656" y="85"/>
                    <a:pt x="649" y="81"/>
                  </a:cubicBezTo>
                  <a:cubicBezTo>
                    <a:pt x="634" y="73"/>
                    <a:pt x="617" y="70"/>
                    <a:pt x="601" y="65"/>
                  </a:cubicBezTo>
                  <a:cubicBezTo>
                    <a:pt x="592" y="62"/>
                    <a:pt x="585" y="53"/>
                    <a:pt x="576" y="49"/>
                  </a:cubicBezTo>
                  <a:cubicBezTo>
                    <a:pt x="524" y="26"/>
                    <a:pt x="461" y="9"/>
                    <a:pt x="406" y="0"/>
                  </a:cubicBezTo>
                  <a:cubicBezTo>
                    <a:pt x="283" y="6"/>
                    <a:pt x="243" y="2"/>
                    <a:pt x="146" y="33"/>
                  </a:cubicBezTo>
                  <a:cubicBezTo>
                    <a:pt x="114" y="54"/>
                    <a:pt x="76" y="94"/>
                    <a:pt x="41" y="106"/>
                  </a:cubicBezTo>
                  <a:cubicBezTo>
                    <a:pt x="36" y="114"/>
                    <a:pt x="31" y="123"/>
                    <a:pt x="25" y="130"/>
                  </a:cubicBezTo>
                  <a:cubicBezTo>
                    <a:pt x="20" y="136"/>
                    <a:pt x="0" y="146"/>
                    <a:pt x="8" y="146"/>
                  </a:cubicBezTo>
                  <a:cubicBezTo>
                    <a:pt x="57" y="146"/>
                    <a:pt x="128" y="97"/>
                    <a:pt x="179" y="89"/>
                  </a:cubicBezTo>
                  <a:cubicBezTo>
                    <a:pt x="265" y="75"/>
                    <a:pt x="211" y="82"/>
                    <a:pt x="341" y="73"/>
                  </a:cubicBezTo>
                  <a:cubicBezTo>
                    <a:pt x="405" y="81"/>
                    <a:pt x="466" y="96"/>
                    <a:pt x="528" y="114"/>
                  </a:cubicBezTo>
                  <a:cubicBezTo>
                    <a:pt x="544" y="119"/>
                    <a:pt x="560" y="125"/>
                    <a:pt x="576" y="130"/>
                  </a:cubicBezTo>
                  <a:cubicBezTo>
                    <a:pt x="584" y="133"/>
                    <a:pt x="601" y="138"/>
                    <a:pt x="601" y="138"/>
                  </a:cubicBezTo>
                  <a:cubicBezTo>
                    <a:pt x="609" y="143"/>
                    <a:pt x="616" y="150"/>
                    <a:pt x="625" y="154"/>
                  </a:cubicBezTo>
                  <a:cubicBezTo>
                    <a:pt x="633" y="158"/>
                    <a:pt x="642" y="159"/>
                    <a:pt x="649" y="163"/>
                  </a:cubicBezTo>
                  <a:cubicBezTo>
                    <a:pt x="656" y="167"/>
                    <a:pt x="659" y="176"/>
                    <a:pt x="666" y="179"/>
                  </a:cubicBezTo>
                  <a:cubicBezTo>
                    <a:pt x="681" y="186"/>
                    <a:pt x="698" y="190"/>
                    <a:pt x="714" y="195"/>
                  </a:cubicBezTo>
                  <a:cubicBezTo>
                    <a:pt x="722" y="198"/>
                    <a:pt x="739" y="203"/>
                    <a:pt x="739" y="203"/>
                  </a:cubicBezTo>
                  <a:cubicBezTo>
                    <a:pt x="759" y="233"/>
                    <a:pt x="748" y="220"/>
                    <a:pt x="771" y="24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4802040" y="2485800"/>
              <a:ext cx="1223640" cy="38736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71" h="244">
                  <a:moveTo>
                    <a:pt x="771" y="244"/>
                  </a:moveTo>
                  <a:cubicBezTo>
                    <a:pt x="763" y="220"/>
                    <a:pt x="765" y="189"/>
                    <a:pt x="747" y="171"/>
                  </a:cubicBezTo>
                  <a:cubicBezTo>
                    <a:pt x="735" y="159"/>
                    <a:pt x="727" y="142"/>
                    <a:pt x="714" y="130"/>
                  </a:cubicBezTo>
                  <a:cubicBezTo>
                    <a:pt x="700" y="117"/>
                    <a:pt x="680" y="112"/>
                    <a:pt x="666" y="98"/>
                  </a:cubicBezTo>
                  <a:cubicBezTo>
                    <a:pt x="660" y="92"/>
                    <a:pt x="656" y="85"/>
                    <a:pt x="649" y="81"/>
                  </a:cubicBezTo>
                  <a:cubicBezTo>
                    <a:pt x="634" y="73"/>
                    <a:pt x="617" y="70"/>
                    <a:pt x="601" y="65"/>
                  </a:cubicBezTo>
                  <a:cubicBezTo>
                    <a:pt x="592" y="62"/>
                    <a:pt x="585" y="53"/>
                    <a:pt x="576" y="49"/>
                  </a:cubicBezTo>
                  <a:cubicBezTo>
                    <a:pt x="524" y="26"/>
                    <a:pt x="461" y="9"/>
                    <a:pt x="406" y="0"/>
                  </a:cubicBezTo>
                  <a:cubicBezTo>
                    <a:pt x="283" y="6"/>
                    <a:pt x="243" y="2"/>
                    <a:pt x="146" y="33"/>
                  </a:cubicBezTo>
                  <a:cubicBezTo>
                    <a:pt x="114" y="54"/>
                    <a:pt x="76" y="94"/>
                    <a:pt x="41" y="106"/>
                  </a:cubicBezTo>
                  <a:cubicBezTo>
                    <a:pt x="36" y="114"/>
                    <a:pt x="31" y="123"/>
                    <a:pt x="25" y="130"/>
                  </a:cubicBezTo>
                  <a:cubicBezTo>
                    <a:pt x="20" y="136"/>
                    <a:pt x="0" y="146"/>
                    <a:pt x="8" y="146"/>
                  </a:cubicBezTo>
                  <a:cubicBezTo>
                    <a:pt x="57" y="146"/>
                    <a:pt x="128" y="97"/>
                    <a:pt x="179" y="89"/>
                  </a:cubicBezTo>
                  <a:cubicBezTo>
                    <a:pt x="265" y="75"/>
                    <a:pt x="211" y="82"/>
                    <a:pt x="341" y="73"/>
                  </a:cubicBezTo>
                  <a:cubicBezTo>
                    <a:pt x="405" y="81"/>
                    <a:pt x="466" y="96"/>
                    <a:pt x="528" y="114"/>
                  </a:cubicBezTo>
                  <a:cubicBezTo>
                    <a:pt x="544" y="119"/>
                    <a:pt x="560" y="125"/>
                    <a:pt x="576" y="130"/>
                  </a:cubicBezTo>
                  <a:cubicBezTo>
                    <a:pt x="584" y="133"/>
                    <a:pt x="601" y="138"/>
                    <a:pt x="601" y="138"/>
                  </a:cubicBezTo>
                  <a:cubicBezTo>
                    <a:pt x="609" y="143"/>
                    <a:pt x="616" y="150"/>
                    <a:pt x="625" y="154"/>
                  </a:cubicBezTo>
                  <a:cubicBezTo>
                    <a:pt x="633" y="158"/>
                    <a:pt x="642" y="159"/>
                    <a:pt x="649" y="163"/>
                  </a:cubicBezTo>
                  <a:cubicBezTo>
                    <a:pt x="656" y="167"/>
                    <a:pt x="659" y="176"/>
                    <a:pt x="666" y="179"/>
                  </a:cubicBezTo>
                  <a:cubicBezTo>
                    <a:pt x="681" y="186"/>
                    <a:pt x="698" y="190"/>
                    <a:pt x="714" y="195"/>
                  </a:cubicBezTo>
                  <a:cubicBezTo>
                    <a:pt x="722" y="198"/>
                    <a:pt x="739" y="203"/>
                    <a:pt x="739" y="203"/>
                  </a:cubicBezTo>
                  <a:cubicBezTo>
                    <a:pt x="759" y="233"/>
                    <a:pt x="748" y="220"/>
                    <a:pt x="771" y="24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2590920" y="2819520"/>
            <a:ext cx="3398400" cy="524880"/>
            <a:chOff x="2590920" y="2819520"/>
            <a:chExt cx="3398400" cy="524880"/>
          </a:xfrm>
        </p:grpSpPr>
        <p:sp>
          <p:nvSpPr>
            <p:cNvPr id="176" name="Freeform 24"/>
            <p:cNvSpPr/>
            <p:nvPr/>
          </p:nvSpPr>
          <p:spPr>
            <a:xfrm>
              <a:off x="2590920" y="2819520"/>
              <a:ext cx="1385640" cy="45828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458280"/>
                <a:gd name="textAreaBottom" fmla="*/ 458280 h 458280"/>
              </a:gdLst>
              <a:ahLst/>
              <a:rect l="textAreaLeft" t="textAreaTop" r="textAreaRight" b="textAreaBottom"/>
              <a:pathLst>
                <a:path w="873" h="289">
                  <a:moveTo>
                    <a:pt x="845" y="260"/>
                  </a:moveTo>
                  <a:cubicBezTo>
                    <a:pt x="848" y="241"/>
                    <a:pt x="850" y="222"/>
                    <a:pt x="854" y="203"/>
                  </a:cubicBezTo>
                  <a:cubicBezTo>
                    <a:pt x="858" y="186"/>
                    <a:pt x="865" y="170"/>
                    <a:pt x="870" y="154"/>
                  </a:cubicBezTo>
                  <a:cubicBezTo>
                    <a:pt x="873" y="145"/>
                    <a:pt x="861" y="172"/>
                    <a:pt x="854" y="179"/>
                  </a:cubicBezTo>
                  <a:cubicBezTo>
                    <a:pt x="830" y="202"/>
                    <a:pt x="841" y="189"/>
                    <a:pt x="821" y="219"/>
                  </a:cubicBezTo>
                  <a:cubicBezTo>
                    <a:pt x="810" y="187"/>
                    <a:pt x="821" y="171"/>
                    <a:pt x="829" y="138"/>
                  </a:cubicBezTo>
                  <a:cubicBezTo>
                    <a:pt x="826" y="130"/>
                    <a:pt x="827" y="108"/>
                    <a:pt x="821" y="114"/>
                  </a:cubicBezTo>
                  <a:cubicBezTo>
                    <a:pt x="817" y="118"/>
                    <a:pt x="794" y="192"/>
                    <a:pt x="781" y="211"/>
                  </a:cubicBezTo>
                  <a:cubicBezTo>
                    <a:pt x="762" y="161"/>
                    <a:pt x="761" y="122"/>
                    <a:pt x="756" y="65"/>
                  </a:cubicBezTo>
                  <a:cubicBezTo>
                    <a:pt x="744" y="100"/>
                    <a:pt x="733" y="134"/>
                    <a:pt x="724" y="170"/>
                  </a:cubicBezTo>
                  <a:cubicBezTo>
                    <a:pt x="718" y="131"/>
                    <a:pt x="710" y="95"/>
                    <a:pt x="699" y="57"/>
                  </a:cubicBezTo>
                  <a:cubicBezTo>
                    <a:pt x="686" y="96"/>
                    <a:pt x="675" y="130"/>
                    <a:pt x="667" y="170"/>
                  </a:cubicBezTo>
                  <a:cubicBezTo>
                    <a:pt x="662" y="143"/>
                    <a:pt x="656" y="116"/>
                    <a:pt x="651" y="89"/>
                  </a:cubicBezTo>
                  <a:cubicBezTo>
                    <a:pt x="647" y="67"/>
                    <a:pt x="635" y="24"/>
                    <a:pt x="635" y="24"/>
                  </a:cubicBezTo>
                  <a:cubicBezTo>
                    <a:pt x="627" y="67"/>
                    <a:pt x="635" y="114"/>
                    <a:pt x="618" y="154"/>
                  </a:cubicBezTo>
                  <a:cubicBezTo>
                    <a:pt x="614" y="163"/>
                    <a:pt x="606" y="139"/>
                    <a:pt x="602" y="130"/>
                  </a:cubicBezTo>
                  <a:cubicBezTo>
                    <a:pt x="592" y="107"/>
                    <a:pt x="586" y="81"/>
                    <a:pt x="578" y="57"/>
                  </a:cubicBezTo>
                  <a:cubicBezTo>
                    <a:pt x="573" y="41"/>
                    <a:pt x="562" y="8"/>
                    <a:pt x="562" y="8"/>
                  </a:cubicBezTo>
                  <a:cubicBezTo>
                    <a:pt x="535" y="85"/>
                    <a:pt x="547" y="40"/>
                    <a:pt x="537" y="146"/>
                  </a:cubicBezTo>
                  <a:cubicBezTo>
                    <a:pt x="534" y="138"/>
                    <a:pt x="533" y="129"/>
                    <a:pt x="529" y="122"/>
                  </a:cubicBezTo>
                  <a:cubicBezTo>
                    <a:pt x="520" y="105"/>
                    <a:pt x="503" y="91"/>
                    <a:pt x="497" y="73"/>
                  </a:cubicBezTo>
                  <a:cubicBezTo>
                    <a:pt x="491" y="57"/>
                    <a:pt x="480" y="24"/>
                    <a:pt x="480" y="24"/>
                  </a:cubicBezTo>
                  <a:cubicBezTo>
                    <a:pt x="477" y="65"/>
                    <a:pt x="485" y="107"/>
                    <a:pt x="472" y="146"/>
                  </a:cubicBezTo>
                  <a:cubicBezTo>
                    <a:pt x="467" y="162"/>
                    <a:pt x="466" y="111"/>
                    <a:pt x="456" y="97"/>
                  </a:cubicBezTo>
                  <a:cubicBezTo>
                    <a:pt x="436" y="67"/>
                    <a:pt x="428" y="34"/>
                    <a:pt x="415" y="0"/>
                  </a:cubicBezTo>
                  <a:cubicBezTo>
                    <a:pt x="412" y="8"/>
                    <a:pt x="408" y="16"/>
                    <a:pt x="407" y="24"/>
                  </a:cubicBezTo>
                  <a:cubicBezTo>
                    <a:pt x="403" y="65"/>
                    <a:pt x="412" y="107"/>
                    <a:pt x="399" y="146"/>
                  </a:cubicBezTo>
                  <a:cubicBezTo>
                    <a:pt x="394" y="162"/>
                    <a:pt x="393" y="111"/>
                    <a:pt x="383" y="97"/>
                  </a:cubicBezTo>
                  <a:cubicBezTo>
                    <a:pt x="367" y="73"/>
                    <a:pt x="362" y="52"/>
                    <a:pt x="342" y="33"/>
                  </a:cubicBezTo>
                  <a:cubicBezTo>
                    <a:pt x="331" y="66"/>
                    <a:pt x="330" y="55"/>
                    <a:pt x="342" y="97"/>
                  </a:cubicBezTo>
                  <a:cubicBezTo>
                    <a:pt x="358" y="153"/>
                    <a:pt x="378" y="152"/>
                    <a:pt x="334" y="138"/>
                  </a:cubicBezTo>
                  <a:cubicBezTo>
                    <a:pt x="324" y="124"/>
                    <a:pt x="311" y="112"/>
                    <a:pt x="302" y="97"/>
                  </a:cubicBezTo>
                  <a:cubicBezTo>
                    <a:pt x="288" y="72"/>
                    <a:pt x="283" y="54"/>
                    <a:pt x="261" y="33"/>
                  </a:cubicBezTo>
                  <a:cubicBezTo>
                    <a:pt x="267" y="86"/>
                    <a:pt x="271" y="109"/>
                    <a:pt x="286" y="154"/>
                  </a:cubicBezTo>
                  <a:cubicBezTo>
                    <a:pt x="278" y="157"/>
                    <a:pt x="269" y="165"/>
                    <a:pt x="261" y="162"/>
                  </a:cubicBezTo>
                  <a:cubicBezTo>
                    <a:pt x="231" y="152"/>
                    <a:pt x="202" y="120"/>
                    <a:pt x="180" y="97"/>
                  </a:cubicBezTo>
                  <a:cubicBezTo>
                    <a:pt x="160" y="38"/>
                    <a:pt x="166" y="109"/>
                    <a:pt x="172" y="122"/>
                  </a:cubicBezTo>
                  <a:cubicBezTo>
                    <a:pt x="180" y="138"/>
                    <a:pt x="187" y="155"/>
                    <a:pt x="196" y="170"/>
                  </a:cubicBezTo>
                  <a:cubicBezTo>
                    <a:pt x="200" y="177"/>
                    <a:pt x="218" y="181"/>
                    <a:pt x="213" y="187"/>
                  </a:cubicBezTo>
                  <a:cubicBezTo>
                    <a:pt x="207" y="194"/>
                    <a:pt x="196" y="182"/>
                    <a:pt x="188" y="179"/>
                  </a:cubicBezTo>
                  <a:cubicBezTo>
                    <a:pt x="153" y="167"/>
                    <a:pt x="130" y="142"/>
                    <a:pt x="99" y="122"/>
                  </a:cubicBezTo>
                  <a:cubicBezTo>
                    <a:pt x="94" y="130"/>
                    <a:pt x="85" y="137"/>
                    <a:pt x="83" y="146"/>
                  </a:cubicBezTo>
                  <a:cubicBezTo>
                    <a:pt x="79" y="170"/>
                    <a:pt x="125" y="212"/>
                    <a:pt x="140" y="227"/>
                  </a:cubicBezTo>
                  <a:cubicBezTo>
                    <a:pt x="111" y="255"/>
                    <a:pt x="131" y="245"/>
                    <a:pt x="75" y="227"/>
                  </a:cubicBezTo>
                  <a:cubicBezTo>
                    <a:pt x="67" y="224"/>
                    <a:pt x="50" y="219"/>
                    <a:pt x="50" y="219"/>
                  </a:cubicBezTo>
                  <a:cubicBezTo>
                    <a:pt x="42" y="214"/>
                    <a:pt x="35" y="207"/>
                    <a:pt x="26" y="203"/>
                  </a:cubicBezTo>
                  <a:cubicBezTo>
                    <a:pt x="18" y="199"/>
                    <a:pt x="0" y="187"/>
                    <a:pt x="2" y="195"/>
                  </a:cubicBezTo>
                  <a:cubicBezTo>
                    <a:pt x="9" y="229"/>
                    <a:pt x="45" y="258"/>
                    <a:pt x="75" y="268"/>
                  </a:cubicBezTo>
                  <a:cubicBezTo>
                    <a:pt x="106" y="289"/>
                    <a:pt x="114" y="285"/>
                    <a:pt x="140" y="260"/>
                  </a:cubicBezTo>
                  <a:cubicBezTo>
                    <a:pt x="145" y="244"/>
                    <a:pt x="140" y="216"/>
                    <a:pt x="156" y="211"/>
                  </a:cubicBezTo>
                  <a:cubicBezTo>
                    <a:pt x="197" y="198"/>
                    <a:pt x="237" y="184"/>
                    <a:pt x="278" y="170"/>
                  </a:cubicBezTo>
                  <a:cubicBezTo>
                    <a:pt x="294" y="164"/>
                    <a:pt x="310" y="159"/>
                    <a:pt x="326" y="154"/>
                  </a:cubicBezTo>
                  <a:cubicBezTo>
                    <a:pt x="334" y="151"/>
                    <a:pt x="351" y="146"/>
                    <a:pt x="351" y="146"/>
                  </a:cubicBezTo>
                  <a:cubicBezTo>
                    <a:pt x="468" y="153"/>
                    <a:pt x="581" y="164"/>
                    <a:pt x="699" y="170"/>
                  </a:cubicBezTo>
                  <a:cubicBezTo>
                    <a:pt x="739" y="184"/>
                    <a:pt x="744" y="181"/>
                    <a:pt x="772" y="203"/>
                  </a:cubicBezTo>
                  <a:cubicBezTo>
                    <a:pt x="805" y="229"/>
                    <a:pt x="798" y="260"/>
                    <a:pt x="845" y="26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4603680" y="2885760"/>
              <a:ext cx="1385640" cy="45864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73" h="289">
                  <a:moveTo>
                    <a:pt x="845" y="260"/>
                  </a:moveTo>
                  <a:cubicBezTo>
                    <a:pt x="848" y="241"/>
                    <a:pt x="850" y="222"/>
                    <a:pt x="854" y="203"/>
                  </a:cubicBezTo>
                  <a:cubicBezTo>
                    <a:pt x="858" y="186"/>
                    <a:pt x="865" y="170"/>
                    <a:pt x="870" y="154"/>
                  </a:cubicBezTo>
                  <a:cubicBezTo>
                    <a:pt x="873" y="145"/>
                    <a:pt x="861" y="172"/>
                    <a:pt x="854" y="179"/>
                  </a:cubicBezTo>
                  <a:cubicBezTo>
                    <a:pt x="830" y="202"/>
                    <a:pt x="841" y="189"/>
                    <a:pt x="821" y="219"/>
                  </a:cubicBezTo>
                  <a:cubicBezTo>
                    <a:pt x="810" y="187"/>
                    <a:pt x="821" y="171"/>
                    <a:pt x="829" y="138"/>
                  </a:cubicBezTo>
                  <a:cubicBezTo>
                    <a:pt x="826" y="130"/>
                    <a:pt x="827" y="108"/>
                    <a:pt x="821" y="114"/>
                  </a:cubicBezTo>
                  <a:cubicBezTo>
                    <a:pt x="817" y="118"/>
                    <a:pt x="794" y="192"/>
                    <a:pt x="781" y="211"/>
                  </a:cubicBezTo>
                  <a:cubicBezTo>
                    <a:pt x="762" y="161"/>
                    <a:pt x="761" y="122"/>
                    <a:pt x="756" y="65"/>
                  </a:cubicBezTo>
                  <a:cubicBezTo>
                    <a:pt x="744" y="100"/>
                    <a:pt x="733" y="134"/>
                    <a:pt x="724" y="170"/>
                  </a:cubicBezTo>
                  <a:cubicBezTo>
                    <a:pt x="718" y="131"/>
                    <a:pt x="710" y="95"/>
                    <a:pt x="699" y="57"/>
                  </a:cubicBezTo>
                  <a:cubicBezTo>
                    <a:pt x="686" y="96"/>
                    <a:pt x="675" y="130"/>
                    <a:pt x="667" y="170"/>
                  </a:cubicBezTo>
                  <a:cubicBezTo>
                    <a:pt x="662" y="143"/>
                    <a:pt x="656" y="116"/>
                    <a:pt x="651" y="89"/>
                  </a:cubicBezTo>
                  <a:cubicBezTo>
                    <a:pt x="647" y="67"/>
                    <a:pt x="635" y="24"/>
                    <a:pt x="635" y="24"/>
                  </a:cubicBezTo>
                  <a:cubicBezTo>
                    <a:pt x="627" y="67"/>
                    <a:pt x="635" y="114"/>
                    <a:pt x="618" y="154"/>
                  </a:cubicBezTo>
                  <a:cubicBezTo>
                    <a:pt x="614" y="163"/>
                    <a:pt x="606" y="139"/>
                    <a:pt x="602" y="130"/>
                  </a:cubicBezTo>
                  <a:cubicBezTo>
                    <a:pt x="592" y="107"/>
                    <a:pt x="586" y="81"/>
                    <a:pt x="578" y="57"/>
                  </a:cubicBezTo>
                  <a:cubicBezTo>
                    <a:pt x="573" y="41"/>
                    <a:pt x="562" y="8"/>
                    <a:pt x="562" y="8"/>
                  </a:cubicBezTo>
                  <a:cubicBezTo>
                    <a:pt x="535" y="85"/>
                    <a:pt x="547" y="40"/>
                    <a:pt x="537" y="146"/>
                  </a:cubicBezTo>
                  <a:cubicBezTo>
                    <a:pt x="534" y="138"/>
                    <a:pt x="533" y="129"/>
                    <a:pt x="529" y="122"/>
                  </a:cubicBezTo>
                  <a:cubicBezTo>
                    <a:pt x="520" y="105"/>
                    <a:pt x="503" y="91"/>
                    <a:pt x="497" y="73"/>
                  </a:cubicBezTo>
                  <a:cubicBezTo>
                    <a:pt x="491" y="57"/>
                    <a:pt x="480" y="24"/>
                    <a:pt x="480" y="24"/>
                  </a:cubicBezTo>
                  <a:cubicBezTo>
                    <a:pt x="477" y="65"/>
                    <a:pt x="485" y="107"/>
                    <a:pt x="472" y="146"/>
                  </a:cubicBezTo>
                  <a:cubicBezTo>
                    <a:pt x="467" y="162"/>
                    <a:pt x="466" y="111"/>
                    <a:pt x="456" y="97"/>
                  </a:cubicBezTo>
                  <a:cubicBezTo>
                    <a:pt x="436" y="67"/>
                    <a:pt x="428" y="34"/>
                    <a:pt x="415" y="0"/>
                  </a:cubicBezTo>
                  <a:cubicBezTo>
                    <a:pt x="412" y="8"/>
                    <a:pt x="408" y="16"/>
                    <a:pt x="407" y="24"/>
                  </a:cubicBezTo>
                  <a:cubicBezTo>
                    <a:pt x="403" y="65"/>
                    <a:pt x="412" y="107"/>
                    <a:pt x="399" y="146"/>
                  </a:cubicBezTo>
                  <a:cubicBezTo>
                    <a:pt x="394" y="162"/>
                    <a:pt x="393" y="111"/>
                    <a:pt x="383" y="97"/>
                  </a:cubicBezTo>
                  <a:cubicBezTo>
                    <a:pt x="367" y="73"/>
                    <a:pt x="362" y="52"/>
                    <a:pt x="342" y="33"/>
                  </a:cubicBezTo>
                  <a:cubicBezTo>
                    <a:pt x="331" y="66"/>
                    <a:pt x="330" y="55"/>
                    <a:pt x="342" y="97"/>
                  </a:cubicBezTo>
                  <a:cubicBezTo>
                    <a:pt x="358" y="153"/>
                    <a:pt x="378" y="152"/>
                    <a:pt x="334" y="138"/>
                  </a:cubicBezTo>
                  <a:cubicBezTo>
                    <a:pt x="324" y="124"/>
                    <a:pt x="311" y="112"/>
                    <a:pt x="302" y="97"/>
                  </a:cubicBezTo>
                  <a:cubicBezTo>
                    <a:pt x="288" y="72"/>
                    <a:pt x="283" y="54"/>
                    <a:pt x="261" y="33"/>
                  </a:cubicBezTo>
                  <a:cubicBezTo>
                    <a:pt x="267" y="86"/>
                    <a:pt x="271" y="109"/>
                    <a:pt x="286" y="154"/>
                  </a:cubicBezTo>
                  <a:cubicBezTo>
                    <a:pt x="278" y="157"/>
                    <a:pt x="269" y="165"/>
                    <a:pt x="261" y="162"/>
                  </a:cubicBezTo>
                  <a:cubicBezTo>
                    <a:pt x="231" y="152"/>
                    <a:pt x="202" y="120"/>
                    <a:pt x="180" y="97"/>
                  </a:cubicBezTo>
                  <a:cubicBezTo>
                    <a:pt x="160" y="38"/>
                    <a:pt x="166" y="109"/>
                    <a:pt x="172" y="122"/>
                  </a:cubicBezTo>
                  <a:cubicBezTo>
                    <a:pt x="180" y="138"/>
                    <a:pt x="187" y="155"/>
                    <a:pt x="196" y="170"/>
                  </a:cubicBezTo>
                  <a:cubicBezTo>
                    <a:pt x="200" y="177"/>
                    <a:pt x="218" y="181"/>
                    <a:pt x="213" y="187"/>
                  </a:cubicBezTo>
                  <a:cubicBezTo>
                    <a:pt x="207" y="194"/>
                    <a:pt x="196" y="182"/>
                    <a:pt x="188" y="179"/>
                  </a:cubicBezTo>
                  <a:cubicBezTo>
                    <a:pt x="153" y="167"/>
                    <a:pt x="130" y="142"/>
                    <a:pt x="99" y="122"/>
                  </a:cubicBezTo>
                  <a:cubicBezTo>
                    <a:pt x="94" y="130"/>
                    <a:pt x="85" y="137"/>
                    <a:pt x="83" y="146"/>
                  </a:cubicBezTo>
                  <a:cubicBezTo>
                    <a:pt x="79" y="170"/>
                    <a:pt x="125" y="212"/>
                    <a:pt x="140" y="227"/>
                  </a:cubicBezTo>
                  <a:cubicBezTo>
                    <a:pt x="111" y="255"/>
                    <a:pt x="131" y="245"/>
                    <a:pt x="75" y="227"/>
                  </a:cubicBezTo>
                  <a:cubicBezTo>
                    <a:pt x="67" y="224"/>
                    <a:pt x="50" y="219"/>
                    <a:pt x="50" y="219"/>
                  </a:cubicBezTo>
                  <a:cubicBezTo>
                    <a:pt x="42" y="214"/>
                    <a:pt x="35" y="207"/>
                    <a:pt x="26" y="203"/>
                  </a:cubicBezTo>
                  <a:cubicBezTo>
                    <a:pt x="18" y="199"/>
                    <a:pt x="0" y="187"/>
                    <a:pt x="2" y="195"/>
                  </a:cubicBezTo>
                  <a:cubicBezTo>
                    <a:pt x="9" y="229"/>
                    <a:pt x="45" y="258"/>
                    <a:pt x="75" y="268"/>
                  </a:cubicBezTo>
                  <a:cubicBezTo>
                    <a:pt x="106" y="289"/>
                    <a:pt x="114" y="285"/>
                    <a:pt x="140" y="260"/>
                  </a:cubicBezTo>
                  <a:cubicBezTo>
                    <a:pt x="145" y="244"/>
                    <a:pt x="140" y="216"/>
                    <a:pt x="156" y="211"/>
                  </a:cubicBezTo>
                  <a:cubicBezTo>
                    <a:pt x="197" y="198"/>
                    <a:pt x="237" y="184"/>
                    <a:pt x="278" y="170"/>
                  </a:cubicBezTo>
                  <a:cubicBezTo>
                    <a:pt x="294" y="164"/>
                    <a:pt x="310" y="159"/>
                    <a:pt x="326" y="154"/>
                  </a:cubicBezTo>
                  <a:cubicBezTo>
                    <a:pt x="334" y="151"/>
                    <a:pt x="351" y="146"/>
                    <a:pt x="351" y="146"/>
                  </a:cubicBezTo>
                  <a:cubicBezTo>
                    <a:pt x="468" y="153"/>
                    <a:pt x="581" y="164"/>
                    <a:pt x="699" y="170"/>
                  </a:cubicBezTo>
                  <a:cubicBezTo>
                    <a:pt x="739" y="184"/>
                    <a:pt x="744" y="181"/>
                    <a:pt x="772" y="203"/>
                  </a:cubicBezTo>
                  <a:cubicBezTo>
                    <a:pt x="805" y="229"/>
                    <a:pt x="798" y="260"/>
                    <a:pt x="845" y="26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Freeform 27"/>
          <p:cNvSpPr/>
          <p:nvPr/>
        </p:nvSpPr>
        <p:spPr>
          <a:xfrm>
            <a:off x="3657600" y="5410080"/>
            <a:ext cx="1349280" cy="528840"/>
          </a:xfrm>
          <a:custGeom>
            <a:avLst/>
            <a:gdLst>
              <a:gd name="textAreaLeft" fmla="*/ 0 w 1349280"/>
              <a:gd name="textAreaRight" fmla="*/ 1349280 w 134928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850" h="333">
                <a:moveTo>
                  <a:pt x="0" y="89"/>
                </a:moveTo>
                <a:cubicBezTo>
                  <a:pt x="48" y="107"/>
                  <a:pt x="55" y="105"/>
                  <a:pt x="114" y="98"/>
                </a:cubicBezTo>
                <a:cubicBezTo>
                  <a:pt x="141" y="88"/>
                  <a:pt x="155" y="71"/>
                  <a:pt x="179" y="57"/>
                </a:cubicBezTo>
                <a:cubicBezTo>
                  <a:pt x="186" y="53"/>
                  <a:pt x="195" y="53"/>
                  <a:pt x="203" y="49"/>
                </a:cubicBezTo>
                <a:cubicBezTo>
                  <a:pt x="226" y="37"/>
                  <a:pt x="242" y="17"/>
                  <a:pt x="260" y="0"/>
                </a:cubicBezTo>
                <a:cubicBezTo>
                  <a:pt x="267" y="1"/>
                  <a:pt x="325" y="6"/>
                  <a:pt x="341" y="16"/>
                </a:cubicBezTo>
                <a:cubicBezTo>
                  <a:pt x="348" y="20"/>
                  <a:pt x="350" y="29"/>
                  <a:pt x="357" y="33"/>
                </a:cubicBezTo>
                <a:cubicBezTo>
                  <a:pt x="372" y="41"/>
                  <a:pt x="406" y="49"/>
                  <a:pt x="406" y="49"/>
                </a:cubicBezTo>
                <a:cubicBezTo>
                  <a:pt x="422" y="44"/>
                  <a:pt x="442" y="45"/>
                  <a:pt x="454" y="33"/>
                </a:cubicBezTo>
                <a:cubicBezTo>
                  <a:pt x="460" y="27"/>
                  <a:pt x="464" y="20"/>
                  <a:pt x="471" y="16"/>
                </a:cubicBezTo>
                <a:cubicBezTo>
                  <a:pt x="486" y="8"/>
                  <a:pt x="519" y="0"/>
                  <a:pt x="519" y="0"/>
                </a:cubicBezTo>
                <a:cubicBezTo>
                  <a:pt x="528" y="1"/>
                  <a:pt x="577" y="7"/>
                  <a:pt x="592" y="16"/>
                </a:cubicBezTo>
                <a:cubicBezTo>
                  <a:pt x="623" y="35"/>
                  <a:pt x="646" y="61"/>
                  <a:pt x="682" y="73"/>
                </a:cubicBezTo>
                <a:cubicBezTo>
                  <a:pt x="709" y="91"/>
                  <a:pt x="700" y="88"/>
                  <a:pt x="730" y="98"/>
                </a:cubicBezTo>
                <a:cubicBezTo>
                  <a:pt x="746" y="104"/>
                  <a:pt x="779" y="114"/>
                  <a:pt x="779" y="114"/>
                </a:cubicBezTo>
                <a:cubicBezTo>
                  <a:pt x="844" y="105"/>
                  <a:pt x="850" y="93"/>
                  <a:pt x="819" y="122"/>
                </a:cubicBezTo>
                <a:cubicBezTo>
                  <a:pt x="802" y="174"/>
                  <a:pt x="763" y="202"/>
                  <a:pt x="722" y="235"/>
                </a:cubicBezTo>
                <a:cubicBezTo>
                  <a:pt x="697" y="256"/>
                  <a:pt x="671" y="286"/>
                  <a:pt x="641" y="300"/>
                </a:cubicBezTo>
                <a:cubicBezTo>
                  <a:pt x="607" y="315"/>
                  <a:pt x="571" y="321"/>
                  <a:pt x="536" y="333"/>
                </a:cubicBezTo>
                <a:cubicBezTo>
                  <a:pt x="471" y="330"/>
                  <a:pt x="406" y="330"/>
                  <a:pt x="341" y="325"/>
                </a:cubicBezTo>
                <a:cubicBezTo>
                  <a:pt x="313" y="323"/>
                  <a:pt x="292" y="303"/>
                  <a:pt x="268" y="292"/>
                </a:cubicBezTo>
                <a:cubicBezTo>
                  <a:pt x="245" y="282"/>
                  <a:pt x="217" y="282"/>
                  <a:pt x="195" y="268"/>
                </a:cubicBezTo>
                <a:cubicBezTo>
                  <a:pt x="170" y="252"/>
                  <a:pt x="158" y="236"/>
                  <a:pt x="130" y="227"/>
                </a:cubicBezTo>
                <a:cubicBezTo>
                  <a:pt x="125" y="219"/>
                  <a:pt x="120" y="210"/>
                  <a:pt x="114" y="203"/>
                </a:cubicBezTo>
                <a:cubicBezTo>
                  <a:pt x="109" y="197"/>
                  <a:pt x="102" y="193"/>
                  <a:pt x="97" y="187"/>
                </a:cubicBezTo>
                <a:cubicBezTo>
                  <a:pt x="48" y="122"/>
                  <a:pt x="87" y="153"/>
                  <a:pt x="41" y="122"/>
                </a:cubicBezTo>
                <a:cubicBezTo>
                  <a:pt x="29" y="87"/>
                  <a:pt x="41" y="100"/>
                  <a:pt x="0" y="8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9"/>
          <p:cNvSpPr/>
          <p:nvPr/>
        </p:nvSpPr>
        <p:spPr>
          <a:xfrm>
            <a:off x="1066680" y="0"/>
            <a:ext cx="6564600" cy="6657840"/>
          </a:xfrm>
          <a:custGeom>
            <a:avLst/>
            <a:gdLst>
              <a:gd name="textAreaLeft" fmla="*/ 0 w 6564600"/>
              <a:gd name="textAreaRight" fmla="*/ 6564960 w 6564600"/>
              <a:gd name="textAreaTop" fmla="*/ 0 h 6657840"/>
              <a:gd name="textAreaBottom" fmla="*/ 6658200 h 6657840"/>
            </a:gdLst>
            <a:ahLst/>
            <a:rect l="textAreaLeft" t="textAreaTop" r="textAreaRight" b="textAreaBottom"/>
            <a:pathLst>
              <a:path w="4135" h="4194">
                <a:moveTo>
                  <a:pt x="2897" y="998"/>
                </a:moveTo>
                <a:cubicBezTo>
                  <a:pt x="2886" y="1031"/>
                  <a:pt x="2865" y="1077"/>
                  <a:pt x="2832" y="1095"/>
                </a:cubicBezTo>
                <a:cubicBezTo>
                  <a:pt x="2817" y="1103"/>
                  <a:pt x="2784" y="1111"/>
                  <a:pt x="2784" y="1111"/>
                </a:cubicBezTo>
                <a:cubicBezTo>
                  <a:pt x="2729" y="1100"/>
                  <a:pt x="2691" y="1078"/>
                  <a:pt x="2646" y="1046"/>
                </a:cubicBezTo>
                <a:cubicBezTo>
                  <a:pt x="2557" y="1053"/>
                  <a:pt x="2552" y="1043"/>
                  <a:pt x="2500" y="1095"/>
                </a:cubicBezTo>
                <a:cubicBezTo>
                  <a:pt x="2492" y="1119"/>
                  <a:pt x="2448" y="1200"/>
                  <a:pt x="2419" y="1209"/>
                </a:cubicBezTo>
                <a:cubicBezTo>
                  <a:pt x="2403" y="1214"/>
                  <a:pt x="2370" y="1225"/>
                  <a:pt x="2370" y="1225"/>
                </a:cubicBezTo>
                <a:cubicBezTo>
                  <a:pt x="2284" y="1216"/>
                  <a:pt x="2283" y="1221"/>
                  <a:pt x="2216" y="1176"/>
                </a:cubicBezTo>
                <a:cubicBezTo>
                  <a:pt x="2194" y="1161"/>
                  <a:pt x="2143" y="1144"/>
                  <a:pt x="2143" y="1144"/>
                </a:cubicBezTo>
                <a:cubicBezTo>
                  <a:pt x="2119" y="1147"/>
                  <a:pt x="2093" y="1143"/>
                  <a:pt x="2070" y="1152"/>
                </a:cubicBezTo>
                <a:cubicBezTo>
                  <a:pt x="2045" y="1162"/>
                  <a:pt x="2005" y="1200"/>
                  <a:pt x="2005" y="1200"/>
                </a:cubicBezTo>
                <a:cubicBezTo>
                  <a:pt x="1980" y="1239"/>
                  <a:pt x="1950" y="1254"/>
                  <a:pt x="1908" y="1265"/>
                </a:cubicBezTo>
                <a:cubicBezTo>
                  <a:pt x="1887" y="1262"/>
                  <a:pt x="1843" y="1261"/>
                  <a:pt x="1818" y="1249"/>
                </a:cubicBezTo>
                <a:cubicBezTo>
                  <a:pt x="1786" y="1233"/>
                  <a:pt x="1765" y="1218"/>
                  <a:pt x="1729" y="1209"/>
                </a:cubicBezTo>
                <a:cubicBezTo>
                  <a:pt x="1682" y="1176"/>
                  <a:pt x="1638" y="1185"/>
                  <a:pt x="1583" y="1192"/>
                </a:cubicBezTo>
                <a:cubicBezTo>
                  <a:pt x="1565" y="1202"/>
                  <a:pt x="1543" y="1206"/>
                  <a:pt x="1526" y="1217"/>
                </a:cubicBezTo>
                <a:cubicBezTo>
                  <a:pt x="1500" y="1234"/>
                  <a:pt x="1488" y="1262"/>
                  <a:pt x="1453" y="1265"/>
                </a:cubicBezTo>
                <a:cubicBezTo>
                  <a:pt x="1391" y="1270"/>
                  <a:pt x="1329" y="1270"/>
                  <a:pt x="1267" y="1273"/>
                </a:cubicBezTo>
                <a:cubicBezTo>
                  <a:pt x="1205" y="1295"/>
                  <a:pt x="1166" y="1356"/>
                  <a:pt x="1104" y="1371"/>
                </a:cubicBezTo>
                <a:cubicBezTo>
                  <a:pt x="1089" y="1381"/>
                  <a:pt x="1070" y="1384"/>
                  <a:pt x="1056" y="1395"/>
                </a:cubicBezTo>
                <a:cubicBezTo>
                  <a:pt x="1038" y="1409"/>
                  <a:pt x="1007" y="1444"/>
                  <a:pt x="1007" y="1444"/>
                </a:cubicBezTo>
                <a:cubicBezTo>
                  <a:pt x="999" y="1468"/>
                  <a:pt x="997" y="1496"/>
                  <a:pt x="983" y="1517"/>
                </a:cubicBezTo>
                <a:cubicBezTo>
                  <a:pt x="962" y="1549"/>
                  <a:pt x="939" y="1573"/>
                  <a:pt x="918" y="1606"/>
                </a:cubicBezTo>
                <a:cubicBezTo>
                  <a:pt x="913" y="1614"/>
                  <a:pt x="907" y="1622"/>
                  <a:pt x="902" y="1630"/>
                </a:cubicBezTo>
                <a:cubicBezTo>
                  <a:pt x="896" y="1638"/>
                  <a:pt x="885" y="1655"/>
                  <a:pt x="885" y="1655"/>
                </a:cubicBezTo>
                <a:cubicBezTo>
                  <a:pt x="857" y="1765"/>
                  <a:pt x="886" y="1643"/>
                  <a:pt x="869" y="1914"/>
                </a:cubicBezTo>
                <a:cubicBezTo>
                  <a:pt x="866" y="1956"/>
                  <a:pt x="845" y="2003"/>
                  <a:pt x="837" y="2044"/>
                </a:cubicBezTo>
                <a:cubicBezTo>
                  <a:pt x="843" y="2142"/>
                  <a:pt x="834" y="2289"/>
                  <a:pt x="894" y="2377"/>
                </a:cubicBezTo>
                <a:cubicBezTo>
                  <a:pt x="906" y="2412"/>
                  <a:pt x="923" y="2440"/>
                  <a:pt x="934" y="2474"/>
                </a:cubicBezTo>
                <a:cubicBezTo>
                  <a:pt x="952" y="2604"/>
                  <a:pt x="934" y="2746"/>
                  <a:pt x="894" y="2872"/>
                </a:cubicBezTo>
                <a:cubicBezTo>
                  <a:pt x="872" y="3029"/>
                  <a:pt x="896" y="3283"/>
                  <a:pt x="902" y="3423"/>
                </a:cubicBezTo>
                <a:cubicBezTo>
                  <a:pt x="903" y="3439"/>
                  <a:pt x="923" y="3496"/>
                  <a:pt x="926" y="3504"/>
                </a:cubicBezTo>
                <a:cubicBezTo>
                  <a:pt x="931" y="3520"/>
                  <a:pt x="942" y="3553"/>
                  <a:pt x="942" y="3553"/>
                </a:cubicBezTo>
                <a:cubicBezTo>
                  <a:pt x="938" y="3653"/>
                  <a:pt x="942" y="3802"/>
                  <a:pt x="877" y="3894"/>
                </a:cubicBezTo>
                <a:cubicBezTo>
                  <a:pt x="866" y="3926"/>
                  <a:pt x="853" y="3943"/>
                  <a:pt x="829" y="3967"/>
                </a:cubicBezTo>
                <a:cubicBezTo>
                  <a:pt x="813" y="4015"/>
                  <a:pt x="761" y="4046"/>
                  <a:pt x="715" y="4064"/>
                </a:cubicBezTo>
                <a:cubicBezTo>
                  <a:pt x="699" y="4070"/>
                  <a:pt x="666" y="4080"/>
                  <a:pt x="666" y="4080"/>
                </a:cubicBezTo>
                <a:cubicBezTo>
                  <a:pt x="597" y="4075"/>
                  <a:pt x="562" y="4078"/>
                  <a:pt x="504" y="4064"/>
                </a:cubicBezTo>
                <a:cubicBezTo>
                  <a:pt x="460" y="4053"/>
                  <a:pt x="424" y="4022"/>
                  <a:pt x="382" y="4007"/>
                </a:cubicBezTo>
                <a:cubicBezTo>
                  <a:pt x="359" y="3984"/>
                  <a:pt x="332" y="3966"/>
                  <a:pt x="309" y="3943"/>
                </a:cubicBezTo>
                <a:cubicBezTo>
                  <a:pt x="295" y="3929"/>
                  <a:pt x="269" y="3902"/>
                  <a:pt x="269" y="3902"/>
                </a:cubicBezTo>
                <a:cubicBezTo>
                  <a:pt x="262" y="3872"/>
                  <a:pt x="252" y="3843"/>
                  <a:pt x="245" y="3813"/>
                </a:cubicBezTo>
                <a:cubicBezTo>
                  <a:pt x="248" y="3789"/>
                  <a:pt x="247" y="3764"/>
                  <a:pt x="253" y="3740"/>
                </a:cubicBezTo>
                <a:cubicBezTo>
                  <a:pt x="255" y="3730"/>
                  <a:pt x="265" y="3724"/>
                  <a:pt x="269" y="3715"/>
                </a:cubicBezTo>
                <a:cubicBezTo>
                  <a:pt x="284" y="3680"/>
                  <a:pt x="286" y="3662"/>
                  <a:pt x="293" y="3626"/>
                </a:cubicBezTo>
                <a:cubicBezTo>
                  <a:pt x="290" y="3605"/>
                  <a:pt x="288" y="3568"/>
                  <a:pt x="277" y="3545"/>
                </a:cubicBezTo>
                <a:cubicBezTo>
                  <a:pt x="260" y="3510"/>
                  <a:pt x="226" y="3488"/>
                  <a:pt x="204" y="3456"/>
                </a:cubicBezTo>
                <a:cubicBezTo>
                  <a:pt x="195" y="3429"/>
                  <a:pt x="163" y="3383"/>
                  <a:pt x="163" y="3383"/>
                </a:cubicBezTo>
                <a:cubicBezTo>
                  <a:pt x="158" y="3367"/>
                  <a:pt x="152" y="3350"/>
                  <a:pt x="147" y="3334"/>
                </a:cubicBezTo>
                <a:cubicBezTo>
                  <a:pt x="144" y="3326"/>
                  <a:pt x="139" y="3310"/>
                  <a:pt x="139" y="3310"/>
                </a:cubicBezTo>
                <a:cubicBezTo>
                  <a:pt x="136" y="3225"/>
                  <a:pt x="173" y="3117"/>
                  <a:pt x="98" y="3066"/>
                </a:cubicBezTo>
                <a:cubicBezTo>
                  <a:pt x="76" y="3032"/>
                  <a:pt x="64" y="3001"/>
                  <a:pt x="42" y="2969"/>
                </a:cubicBezTo>
                <a:cubicBezTo>
                  <a:pt x="47" y="2872"/>
                  <a:pt x="47" y="2753"/>
                  <a:pt x="107" y="2669"/>
                </a:cubicBezTo>
                <a:cubicBezTo>
                  <a:pt x="127" y="2547"/>
                  <a:pt x="95" y="2432"/>
                  <a:pt x="82" y="2312"/>
                </a:cubicBezTo>
                <a:cubicBezTo>
                  <a:pt x="74" y="2237"/>
                  <a:pt x="78" y="2201"/>
                  <a:pt x="25" y="2150"/>
                </a:cubicBezTo>
                <a:cubicBezTo>
                  <a:pt x="20" y="2134"/>
                  <a:pt x="14" y="2117"/>
                  <a:pt x="9" y="2101"/>
                </a:cubicBezTo>
                <a:cubicBezTo>
                  <a:pt x="6" y="2093"/>
                  <a:pt x="1" y="2077"/>
                  <a:pt x="1" y="2077"/>
                </a:cubicBezTo>
                <a:cubicBezTo>
                  <a:pt x="4" y="2034"/>
                  <a:pt x="0" y="1989"/>
                  <a:pt x="9" y="1947"/>
                </a:cubicBezTo>
                <a:cubicBezTo>
                  <a:pt x="23" y="1881"/>
                  <a:pt x="71" y="1844"/>
                  <a:pt x="107" y="1793"/>
                </a:cubicBezTo>
                <a:cubicBezTo>
                  <a:pt x="139" y="1748"/>
                  <a:pt x="165" y="1701"/>
                  <a:pt x="180" y="1647"/>
                </a:cubicBezTo>
                <a:cubicBezTo>
                  <a:pt x="183" y="1587"/>
                  <a:pt x="184" y="1528"/>
                  <a:pt x="188" y="1468"/>
                </a:cubicBezTo>
                <a:cubicBezTo>
                  <a:pt x="195" y="1375"/>
                  <a:pt x="255" y="1297"/>
                  <a:pt x="309" y="1225"/>
                </a:cubicBezTo>
                <a:cubicBezTo>
                  <a:pt x="332" y="1158"/>
                  <a:pt x="324" y="1193"/>
                  <a:pt x="334" y="1119"/>
                </a:cubicBezTo>
                <a:cubicBezTo>
                  <a:pt x="338" y="1033"/>
                  <a:pt x="328" y="889"/>
                  <a:pt x="382" y="803"/>
                </a:cubicBezTo>
                <a:cubicBezTo>
                  <a:pt x="386" y="796"/>
                  <a:pt x="394" y="793"/>
                  <a:pt x="399" y="787"/>
                </a:cubicBezTo>
                <a:cubicBezTo>
                  <a:pt x="408" y="777"/>
                  <a:pt x="416" y="766"/>
                  <a:pt x="423" y="754"/>
                </a:cubicBezTo>
                <a:cubicBezTo>
                  <a:pt x="456" y="700"/>
                  <a:pt x="495" y="669"/>
                  <a:pt x="553" y="641"/>
                </a:cubicBezTo>
                <a:cubicBezTo>
                  <a:pt x="593" y="599"/>
                  <a:pt x="656" y="580"/>
                  <a:pt x="691" y="535"/>
                </a:cubicBezTo>
                <a:cubicBezTo>
                  <a:pt x="753" y="456"/>
                  <a:pt x="785" y="347"/>
                  <a:pt x="902" y="332"/>
                </a:cubicBezTo>
                <a:cubicBezTo>
                  <a:pt x="937" y="327"/>
                  <a:pt x="972" y="327"/>
                  <a:pt x="1007" y="324"/>
                </a:cubicBezTo>
                <a:cubicBezTo>
                  <a:pt x="1042" y="312"/>
                  <a:pt x="1069" y="288"/>
                  <a:pt x="1104" y="276"/>
                </a:cubicBezTo>
                <a:cubicBezTo>
                  <a:pt x="1136" y="244"/>
                  <a:pt x="1190" y="222"/>
                  <a:pt x="1234" y="211"/>
                </a:cubicBezTo>
                <a:cubicBezTo>
                  <a:pt x="1287" y="184"/>
                  <a:pt x="1337" y="184"/>
                  <a:pt x="1397" y="178"/>
                </a:cubicBezTo>
                <a:cubicBezTo>
                  <a:pt x="1426" y="168"/>
                  <a:pt x="1453" y="156"/>
                  <a:pt x="1478" y="138"/>
                </a:cubicBezTo>
                <a:cubicBezTo>
                  <a:pt x="1489" y="130"/>
                  <a:pt x="1498" y="118"/>
                  <a:pt x="1510" y="113"/>
                </a:cubicBezTo>
                <a:cubicBezTo>
                  <a:pt x="1538" y="101"/>
                  <a:pt x="1570" y="99"/>
                  <a:pt x="1599" y="89"/>
                </a:cubicBezTo>
                <a:cubicBezTo>
                  <a:pt x="1711" y="96"/>
                  <a:pt x="1804" y="104"/>
                  <a:pt x="1916" y="97"/>
                </a:cubicBezTo>
                <a:cubicBezTo>
                  <a:pt x="2020" y="45"/>
                  <a:pt x="2109" y="19"/>
                  <a:pt x="2224" y="0"/>
                </a:cubicBezTo>
                <a:cubicBezTo>
                  <a:pt x="2306" y="5"/>
                  <a:pt x="2360" y="10"/>
                  <a:pt x="2435" y="24"/>
                </a:cubicBezTo>
                <a:cubicBezTo>
                  <a:pt x="2448" y="26"/>
                  <a:pt x="2462" y="28"/>
                  <a:pt x="2475" y="32"/>
                </a:cubicBezTo>
                <a:cubicBezTo>
                  <a:pt x="2492" y="36"/>
                  <a:pt x="2524" y="48"/>
                  <a:pt x="2524" y="48"/>
                </a:cubicBezTo>
                <a:cubicBezTo>
                  <a:pt x="2556" y="70"/>
                  <a:pt x="2594" y="98"/>
                  <a:pt x="2630" y="113"/>
                </a:cubicBezTo>
                <a:cubicBezTo>
                  <a:pt x="2683" y="136"/>
                  <a:pt x="2751" y="130"/>
                  <a:pt x="2808" y="138"/>
                </a:cubicBezTo>
                <a:cubicBezTo>
                  <a:pt x="2837" y="148"/>
                  <a:pt x="2866" y="158"/>
                  <a:pt x="2889" y="178"/>
                </a:cubicBezTo>
                <a:cubicBezTo>
                  <a:pt x="2915" y="200"/>
                  <a:pt x="2926" y="224"/>
                  <a:pt x="2954" y="243"/>
                </a:cubicBezTo>
                <a:cubicBezTo>
                  <a:pt x="2976" y="313"/>
                  <a:pt x="3040" y="366"/>
                  <a:pt x="3100" y="405"/>
                </a:cubicBezTo>
                <a:cubicBezTo>
                  <a:pt x="3142" y="433"/>
                  <a:pt x="3197" y="426"/>
                  <a:pt x="3238" y="462"/>
                </a:cubicBezTo>
                <a:cubicBezTo>
                  <a:pt x="3326" y="539"/>
                  <a:pt x="3376" y="635"/>
                  <a:pt x="3498" y="665"/>
                </a:cubicBezTo>
                <a:cubicBezTo>
                  <a:pt x="3554" y="703"/>
                  <a:pt x="3535" y="681"/>
                  <a:pt x="3563" y="722"/>
                </a:cubicBezTo>
                <a:cubicBezTo>
                  <a:pt x="3580" y="772"/>
                  <a:pt x="3598" y="824"/>
                  <a:pt x="3627" y="868"/>
                </a:cubicBezTo>
                <a:cubicBezTo>
                  <a:pt x="3630" y="895"/>
                  <a:pt x="3636" y="922"/>
                  <a:pt x="3636" y="949"/>
                </a:cubicBezTo>
                <a:cubicBezTo>
                  <a:pt x="3636" y="1038"/>
                  <a:pt x="3607" y="1131"/>
                  <a:pt x="3676" y="1200"/>
                </a:cubicBezTo>
                <a:cubicBezTo>
                  <a:pt x="3687" y="1234"/>
                  <a:pt x="3712" y="1254"/>
                  <a:pt x="3733" y="1282"/>
                </a:cubicBezTo>
                <a:cubicBezTo>
                  <a:pt x="3744" y="1297"/>
                  <a:pt x="3754" y="1314"/>
                  <a:pt x="3765" y="1330"/>
                </a:cubicBezTo>
                <a:cubicBezTo>
                  <a:pt x="3771" y="1338"/>
                  <a:pt x="3782" y="1355"/>
                  <a:pt x="3782" y="1355"/>
                </a:cubicBezTo>
                <a:cubicBezTo>
                  <a:pt x="3787" y="1371"/>
                  <a:pt x="3793" y="1387"/>
                  <a:pt x="3798" y="1403"/>
                </a:cubicBezTo>
                <a:cubicBezTo>
                  <a:pt x="3801" y="1411"/>
                  <a:pt x="3803" y="1420"/>
                  <a:pt x="3806" y="1428"/>
                </a:cubicBezTo>
                <a:cubicBezTo>
                  <a:pt x="3809" y="1436"/>
                  <a:pt x="3814" y="1452"/>
                  <a:pt x="3814" y="1452"/>
                </a:cubicBezTo>
                <a:cubicBezTo>
                  <a:pt x="3825" y="1541"/>
                  <a:pt x="3816" y="1632"/>
                  <a:pt x="3830" y="1720"/>
                </a:cubicBezTo>
                <a:cubicBezTo>
                  <a:pt x="3833" y="1739"/>
                  <a:pt x="3854" y="1751"/>
                  <a:pt x="3863" y="1768"/>
                </a:cubicBezTo>
                <a:cubicBezTo>
                  <a:pt x="3888" y="1818"/>
                  <a:pt x="3913" y="1867"/>
                  <a:pt x="3944" y="1914"/>
                </a:cubicBezTo>
                <a:cubicBezTo>
                  <a:pt x="3953" y="1944"/>
                  <a:pt x="3968" y="2004"/>
                  <a:pt x="3968" y="2004"/>
                </a:cubicBezTo>
                <a:cubicBezTo>
                  <a:pt x="3961" y="2144"/>
                  <a:pt x="3957" y="2158"/>
                  <a:pt x="3936" y="2263"/>
                </a:cubicBezTo>
                <a:cubicBezTo>
                  <a:pt x="3944" y="2356"/>
                  <a:pt x="3958" y="2406"/>
                  <a:pt x="4009" y="2482"/>
                </a:cubicBezTo>
                <a:cubicBezTo>
                  <a:pt x="4018" y="2509"/>
                  <a:pt x="4024" y="2536"/>
                  <a:pt x="4033" y="2563"/>
                </a:cubicBezTo>
                <a:cubicBezTo>
                  <a:pt x="4026" y="2670"/>
                  <a:pt x="4011" y="2774"/>
                  <a:pt x="4001" y="2880"/>
                </a:cubicBezTo>
                <a:cubicBezTo>
                  <a:pt x="4011" y="2929"/>
                  <a:pt x="4022" y="2976"/>
                  <a:pt x="4049" y="3018"/>
                </a:cubicBezTo>
                <a:cubicBezTo>
                  <a:pt x="4073" y="3112"/>
                  <a:pt x="4039" y="2994"/>
                  <a:pt x="4074" y="3074"/>
                </a:cubicBezTo>
                <a:cubicBezTo>
                  <a:pt x="4082" y="3092"/>
                  <a:pt x="4084" y="3112"/>
                  <a:pt x="4090" y="3131"/>
                </a:cubicBezTo>
                <a:cubicBezTo>
                  <a:pt x="4094" y="3322"/>
                  <a:pt x="4065" y="3423"/>
                  <a:pt x="4114" y="3569"/>
                </a:cubicBezTo>
                <a:cubicBezTo>
                  <a:pt x="4128" y="3672"/>
                  <a:pt x="4135" y="3802"/>
                  <a:pt x="4074" y="3894"/>
                </a:cubicBezTo>
                <a:cubicBezTo>
                  <a:pt x="4063" y="3936"/>
                  <a:pt x="4035" y="3961"/>
                  <a:pt x="4017" y="3999"/>
                </a:cubicBezTo>
                <a:cubicBezTo>
                  <a:pt x="3989" y="4056"/>
                  <a:pt x="3960" y="4099"/>
                  <a:pt x="3911" y="4137"/>
                </a:cubicBezTo>
                <a:cubicBezTo>
                  <a:pt x="3891" y="4152"/>
                  <a:pt x="3861" y="4168"/>
                  <a:pt x="3838" y="4178"/>
                </a:cubicBezTo>
                <a:cubicBezTo>
                  <a:pt x="3823" y="4185"/>
                  <a:pt x="3790" y="4194"/>
                  <a:pt x="3790" y="4194"/>
                </a:cubicBezTo>
                <a:cubicBezTo>
                  <a:pt x="3678" y="4189"/>
                  <a:pt x="3557" y="4193"/>
                  <a:pt x="3449" y="4153"/>
                </a:cubicBezTo>
                <a:cubicBezTo>
                  <a:pt x="3368" y="4072"/>
                  <a:pt x="3317" y="4054"/>
                  <a:pt x="3206" y="4040"/>
                </a:cubicBezTo>
                <a:cubicBezTo>
                  <a:pt x="3167" y="4021"/>
                  <a:pt x="3140" y="3995"/>
                  <a:pt x="3116" y="3959"/>
                </a:cubicBezTo>
                <a:cubicBezTo>
                  <a:pt x="3110" y="3951"/>
                  <a:pt x="3104" y="3943"/>
                  <a:pt x="3100" y="3934"/>
                </a:cubicBezTo>
                <a:cubicBezTo>
                  <a:pt x="3093" y="3919"/>
                  <a:pt x="3084" y="3886"/>
                  <a:pt x="3084" y="3886"/>
                </a:cubicBezTo>
                <a:cubicBezTo>
                  <a:pt x="3090" y="3754"/>
                  <a:pt x="3092" y="3659"/>
                  <a:pt x="3149" y="3545"/>
                </a:cubicBezTo>
                <a:cubicBezTo>
                  <a:pt x="3142" y="3420"/>
                  <a:pt x="3129" y="3305"/>
                  <a:pt x="3141" y="3180"/>
                </a:cubicBezTo>
                <a:cubicBezTo>
                  <a:pt x="3146" y="3125"/>
                  <a:pt x="3192" y="3072"/>
                  <a:pt x="3206" y="3018"/>
                </a:cubicBezTo>
                <a:cubicBezTo>
                  <a:pt x="3198" y="2923"/>
                  <a:pt x="3182" y="2809"/>
                  <a:pt x="3238" y="2726"/>
                </a:cubicBezTo>
                <a:cubicBezTo>
                  <a:pt x="3276" y="2608"/>
                  <a:pt x="3253" y="2482"/>
                  <a:pt x="3238" y="2361"/>
                </a:cubicBezTo>
                <a:cubicBezTo>
                  <a:pt x="3235" y="2282"/>
                  <a:pt x="3237" y="2203"/>
                  <a:pt x="3230" y="2125"/>
                </a:cubicBezTo>
                <a:cubicBezTo>
                  <a:pt x="3226" y="2076"/>
                  <a:pt x="3193" y="2020"/>
                  <a:pt x="3181" y="1971"/>
                </a:cubicBezTo>
                <a:cubicBezTo>
                  <a:pt x="3192" y="1875"/>
                  <a:pt x="3195" y="1879"/>
                  <a:pt x="3181" y="1760"/>
                </a:cubicBezTo>
                <a:cubicBezTo>
                  <a:pt x="3174" y="1704"/>
                  <a:pt x="3151" y="1639"/>
                  <a:pt x="3125" y="1590"/>
                </a:cubicBezTo>
                <a:cubicBezTo>
                  <a:pt x="3088" y="1518"/>
                  <a:pt x="3069" y="1432"/>
                  <a:pt x="3043" y="1355"/>
                </a:cubicBezTo>
                <a:cubicBezTo>
                  <a:pt x="3025" y="1246"/>
                  <a:pt x="2991" y="1154"/>
                  <a:pt x="2930" y="1063"/>
                </a:cubicBezTo>
                <a:cubicBezTo>
                  <a:pt x="2912" y="1007"/>
                  <a:pt x="2927" y="1026"/>
                  <a:pt x="2897" y="99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6"/>
          <p:cNvGrpSpPr/>
          <p:nvPr/>
        </p:nvGrpSpPr>
        <p:grpSpPr>
          <a:xfrm>
            <a:off x="2133720" y="1295280"/>
            <a:ext cx="4419360" cy="5105520"/>
            <a:chOff x="2133720" y="1295280"/>
            <a:chExt cx="4419360" cy="5105520"/>
          </a:xfrm>
        </p:grpSpPr>
        <p:sp>
          <p:nvSpPr>
            <p:cNvPr id="54" name="Rectangle 6"/>
            <p:cNvSpPr/>
            <p:nvPr/>
          </p:nvSpPr>
          <p:spPr>
            <a:xfrm>
              <a:off x="2133720" y="1295280"/>
              <a:ext cx="4419360" cy="5105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Picture 7" descr="музей 3"/>
            <p:cNvPicPr/>
            <p:nvPr/>
          </p:nvPicPr>
          <p:blipFill>
            <a:blip r:embed="rId2"/>
            <a:stretch/>
          </p:blipFill>
          <p:spPr>
            <a:xfrm>
              <a:off x="2438280" y="1523880"/>
              <a:ext cx="3810240" cy="44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8" descr="художник"/>
          <p:cNvPicPr/>
          <p:nvPr/>
        </p:nvPicPr>
        <p:blipFill>
          <a:blip r:embed="rId3"/>
          <a:stretch/>
        </p:blipFill>
        <p:spPr>
          <a:xfrm>
            <a:off x="6629400" y="4648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15"/>
          <p:cNvSpPr txBox="1"/>
          <p:nvPr/>
        </p:nvSpPr>
        <p:spPr>
          <a:xfrm>
            <a:off x="838080" y="380880"/>
            <a:ext cx="7620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Экскурсия в музей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133720" y="914400"/>
            <a:ext cx="4114800" cy="5638680"/>
            <a:chOff x="2133720" y="914400"/>
            <a:chExt cx="4114800" cy="5638680"/>
          </a:xfrm>
        </p:grpSpPr>
        <p:sp>
          <p:nvSpPr>
            <p:cNvPr id="181" name="Oval 3"/>
            <p:cNvSpPr/>
            <p:nvPr/>
          </p:nvSpPr>
          <p:spPr>
            <a:xfrm>
              <a:off x="2133720" y="914400"/>
              <a:ext cx="4114800" cy="56386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4"/>
            <p:cNvGrpSpPr/>
            <p:nvPr/>
          </p:nvGrpSpPr>
          <p:grpSpPr>
            <a:xfrm>
              <a:off x="2438640" y="2362320"/>
              <a:ext cx="3398400" cy="3500280"/>
              <a:chOff x="2438640" y="2362320"/>
              <a:chExt cx="3398400" cy="3500280"/>
            </a:xfrm>
          </p:grpSpPr>
          <p:sp>
            <p:nvSpPr>
              <p:cNvPr id="183" name="Freeform 5"/>
              <p:cNvSpPr/>
              <p:nvPr/>
            </p:nvSpPr>
            <p:spPr>
              <a:xfrm>
                <a:off x="3886560" y="3124080"/>
                <a:ext cx="610920" cy="184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847880"/>
                  <a:gd name="textAreaBottom" fmla="*/ 1848240 h 1847880"/>
                </a:gdLst>
                <a:ahLst/>
                <a:rect l="textAreaLeft" t="textAreaTop" r="textAreaRight" b="textAreaBottom"/>
                <a:pathLst>
                  <a:path w="385" h="1164">
                    <a:moveTo>
                      <a:pt x="199" y="0"/>
                    </a:moveTo>
                    <a:cubicBezTo>
                      <a:pt x="211" y="35"/>
                      <a:pt x="222" y="69"/>
                      <a:pt x="231" y="105"/>
                    </a:cubicBezTo>
                    <a:cubicBezTo>
                      <a:pt x="224" y="236"/>
                      <a:pt x="213" y="430"/>
                      <a:pt x="166" y="560"/>
                    </a:cubicBezTo>
                    <a:cubicBezTo>
                      <a:pt x="144" y="693"/>
                      <a:pt x="104" y="821"/>
                      <a:pt x="61" y="949"/>
                    </a:cubicBezTo>
                    <a:cubicBezTo>
                      <a:pt x="58" y="958"/>
                      <a:pt x="49" y="965"/>
                      <a:pt x="45" y="974"/>
                    </a:cubicBezTo>
                    <a:cubicBezTo>
                      <a:pt x="26" y="1014"/>
                      <a:pt x="15" y="1060"/>
                      <a:pt x="4" y="1103"/>
                    </a:cubicBezTo>
                    <a:cubicBezTo>
                      <a:pt x="24" y="1164"/>
                      <a:pt x="0" y="1118"/>
                      <a:pt x="118" y="1136"/>
                    </a:cubicBezTo>
                    <a:cubicBezTo>
                      <a:pt x="135" y="1139"/>
                      <a:pt x="150" y="1147"/>
                      <a:pt x="166" y="1152"/>
                    </a:cubicBezTo>
                    <a:cubicBezTo>
                      <a:pt x="174" y="1155"/>
                      <a:pt x="191" y="1160"/>
                      <a:pt x="191" y="1160"/>
                    </a:cubicBezTo>
                    <a:cubicBezTo>
                      <a:pt x="268" y="1154"/>
                      <a:pt x="332" y="1160"/>
                      <a:pt x="385" y="1103"/>
                    </a:cubicBezTo>
                    <a:cubicBezTo>
                      <a:pt x="376" y="1060"/>
                      <a:pt x="377" y="1077"/>
                      <a:pt x="377" y="105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Group 6"/>
              <p:cNvGrpSpPr/>
              <p:nvPr/>
            </p:nvGrpSpPr>
            <p:grpSpPr>
              <a:xfrm>
                <a:off x="2667240" y="3200400"/>
                <a:ext cx="3124080" cy="533160"/>
                <a:chOff x="2667240" y="3200400"/>
                <a:chExt cx="3124080" cy="533160"/>
              </a:xfrm>
            </p:grpSpPr>
            <p:sp>
              <p:nvSpPr>
                <p:cNvPr id="185" name="Oval 7"/>
                <p:cNvSpPr/>
                <p:nvPr/>
              </p:nvSpPr>
              <p:spPr>
                <a:xfrm>
                  <a:off x="2667240" y="320040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Oval 8"/>
                <p:cNvSpPr/>
                <p:nvPr/>
              </p:nvSpPr>
              <p:spPr>
                <a:xfrm>
                  <a:off x="4648320" y="327636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9"/>
                <p:cNvSpPr/>
                <p:nvPr/>
              </p:nvSpPr>
              <p:spPr>
                <a:xfrm>
                  <a:off x="2972160" y="320040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Oval 10"/>
                <p:cNvSpPr/>
                <p:nvPr/>
              </p:nvSpPr>
              <p:spPr>
                <a:xfrm>
                  <a:off x="5029560" y="327636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11"/>
                <p:cNvSpPr/>
                <p:nvPr/>
              </p:nvSpPr>
              <p:spPr>
                <a:xfrm>
                  <a:off x="3124440" y="33526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2"/>
                <p:cNvSpPr/>
                <p:nvPr/>
              </p:nvSpPr>
              <p:spPr>
                <a:xfrm>
                  <a:off x="5181840" y="3429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13"/>
              <p:cNvGrpSpPr/>
              <p:nvPr/>
            </p:nvGrpSpPr>
            <p:grpSpPr>
              <a:xfrm>
                <a:off x="2590920" y="2362320"/>
                <a:ext cx="3206880" cy="434880"/>
                <a:chOff x="2590920" y="2362320"/>
                <a:chExt cx="3206880" cy="434880"/>
              </a:xfrm>
            </p:grpSpPr>
            <p:sp>
              <p:nvSpPr>
                <p:cNvPr id="192" name="Freeform 14"/>
                <p:cNvSpPr/>
                <p:nvPr/>
              </p:nvSpPr>
              <p:spPr>
                <a:xfrm>
                  <a:off x="2590920" y="236232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5"/>
                <p:cNvSpPr/>
                <p:nvPr/>
              </p:nvSpPr>
              <p:spPr>
                <a:xfrm>
                  <a:off x="4573800" y="240984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16"/>
              <p:cNvGrpSpPr/>
              <p:nvPr/>
            </p:nvGrpSpPr>
            <p:grpSpPr>
              <a:xfrm>
                <a:off x="2438640" y="2971800"/>
                <a:ext cx="3398400" cy="525600"/>
                <a:chOff x="2438640" y="2971800"/>
                <a:chExt cx="3398400" cy="525600"/>
              </a:xfrm>
            </p:grpSpPr>
            <p:sp>
              <p:nvSpPr>
                <p:cNvPr id="195" name="Freeform 17"/>
                <p:cNvSpPr/>
                <p:nvPr/>
              </p:nvSpPr>
              <p:spPr>
                <a:xfrm>
                  <a:off x="2438640" y="2971800"/>
                  <a:ext cx="1385640" cy="45864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8"/>
                <p:cNvSpPr/>
                <p:nvPr/>
              </p:nvSpPr>
              <p:spPr>
                <a:xfrm>
                  <a:off x="4451400" y="3038400"/>
                  <a:ext cx="1385640" cy="45900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Freeform 19"/>
              <p:cNvSpPr/>
              <p:nvPr/>
            </p:nvSpPr>
            <p:spPr>
              <a:xfrm>
                <a:off x="3505320" y="5334120"/>
                <a:ext cx="1349640" cy="528480"/>
              </a:xfrm>
              <a:custGeom>
                <a:avLst/>
                <a:gdLst>
                  <a:gd name="textAreaLeft" fmla="*/ 0 w 1349640"/>
                  <a:gd name="textAreaRight" fmla="*/ 1350000 w 134964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850" h="333">
                    <a:moveTo>
                      <a:pt x="0" y="89"/>
                    </a:moveTo>
                    <a:cubicBezTo>
                      <a:pt x="48" y="107"/>
                      <a:pt x="55" y="105"/>
                      <a:pt x="114" y="98"/>
                    </a:cubicBezTo>
                    <a:cubicBezTo>
                      <a:pt x="141" y="88"/>
                      <a:pt x="155" y="71"/>
                      <a:pt x="179" y="57"/>
                    </a:cubicBezTo>
                    <a:cubicBezTo>
                      <a:pt x="186" y="53"/>
                      <a:pt x="195" y="53"/>
                      <a:pt x="203" y="49"/>
                    </a:cubicBezTo>
                    <a:cubicBezTo>
                      <a:pt x="226" y="37"/>
                      <a:pt x="242" y="17"/>
                      <a:pt x="260" y="0"/>
                    </a:cubicBezTo>
                    <a:cubicBezTo>
                      <a:pt x="267" y="1"/>
                      <a:pt x="325" y="6"/>
                      <a:pt x="341" y="16"/>
                    </a:cubicBezTo>
                    <a:cubicBezTo>
                      <a:pt x="348" y="20"/>
                      <a:pt x="350" y="29"/>
                      <a:pt x="357" y="33"/>
                    </a:cubicBezTo>
                    <a:cubicBezTo>
                      <a:pt x="372" y="41"/>
                      <a:pt x="406" y="49"/>
                      <a:pt x="406" y="49"/>
                    </a:cubicBezTo>
                    <a:cubicBezTo>
                      <a:pt x="422" y="44"/>
                      <a:pt x="442" y="45"/>
                      <a:pt x="454" y="33"/>
                    </a:cubicBezTo>
                    <a:cubicBezTo>
                      <a:pt x="460" y="27"/>
                      <a:pt x="464" y="20"/>
                      <a:pt x="471" y="16"/>
                    </a:cubicBezTo>
                    <a:cubicBezTo>
                      <a:pt x="486" y="8"/>
                      <a:pt x="519" y="0"/>
                      <a:pt x="519" y="0"/>
                    </a:cubicBezTo>
                    <a:cubicBezTo>
                      <a:pt x="528" y="1"/>
                      <a:pt x="577" y="7"/>
                      <a:pt x="592" y="16"/>
                    </a:cubicBezTo>
                    <a:cubicBezTo>
                      <a:pt x="623" y="35"/>
                      <a:pt x="646" y="61"/>
                      <a:pt x="682" y="73"/>
                    </a:cubicBezTo>
                    <a:cubicBezTo>
                      <a:pt x="709" y="91"/>
                      <a:pt x="700" y="88"/>
                      <a:pt x="730" y="98"/>
                    </a:cubicBezTo>
                    <a:cubicBezTo>
                      <a:pt x="746" y="104"/>
                      <a:pt x="779" y="114"/>
                      <a:pt x="779" y="114"/>
                    </a:cubicBezTo>
                    <a:cubicBezTo>
                      <a:pt x="844" y="105"/>
                      <a:pt x="850" y="93"/>
                      <a:pt x="819" y="122"/>
                    </a:cubicBezTo>
                    <a:cubicBezTo>
                      <a:pt x="802" y="174"/>
                      <a:pt x="763" y="202"/>
                      <a:pt x="722" y="235"/>
                    </a:cubicBezTo>
                    <a:cubicBezTo>
                      <a:pt x="697" y="256"/>
                      <a:pt x="671" y="286"/>
                      <a:pt x="641" y="300"/>
                    </a:cubicBezTo>
                    <a:cubicBezTo>
                      <a:pt x="607" y="315"/>
                      <a:pt x="571" y="321"/>
                      <a:pt x="536" y="333"/>
                    </a:cubicBezTo>
                    <a:cubicBezTo>
                      <a:pt x="471" y="330"/>
                      <a:pt x="406" y="330"/>
                      <a:pt x="341" y="325"/>
                    </a:cubicBezTo>
                    <a:cubicBezTo>
                      <a:pt x="313" y="323"/>
                      <a:pt x="292" y="303"/>
                      <a:pt x="268" y="292"/>
                    </a:cubicBezTo>
                    <a:cubicBezTo>
                      <a:pt x="245" y="282"/>
                      <a:pt x="217" y="282"/>
                      <a:pt x="195" y="268"/>
                    </a:cubicBezTo>
                    <a:cubicBezTo>
                      <a:pt x="170" y="252"/>
                      <a:pt x="158" y="236"/>
                      <a:pt x="130" y="227"/>
                    </a:cubicBezTo>
                    <a:cubicBezTo>
                      <a:pt x="125" y="219"/>
                      <a:pt x="120" y="210"/>
                      <a:pt x="114" y="203"/>
                    </a:cubicBezTo>
                    <a:cubicBezTo>
                      <a:pt x="109" y="197"/>
                      <a:pt x="102" y="193"/>
                      <a:pt x="97" y="187"/>
                    </a:cubicBezTo>
                    <a:cubicBezTo>
                      <a:pt x="48" y="122"/>
                      <a:pt x="87" y="153"/>
                      <a:pt x="41" y="122"/>
                    </a:cubicBezTo>
                    <a:cubicBezTo>
                      <a:pt x="29" y="87"/>
                      <a:pt x="41" y="100"/>
                      <a:pt x="0" y="89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Freeform 22"/>
          <p:cNvSpPr/>
          <p:nvPr/>
        </p:nvSpPr>
        <p:spPr>
          <a:xfrm>
            <a:off x="887400" y="333360"/>
            <a:ext cx="6461280" cy="6324480"/>
          </a:xfrm>
          <a:custGeom>
            <a:avLst/>
            <a:gdLst>
              <a:gd name="textAreaLeft" fmla="*/ 0 w 6461280"/>
              <a:gd name="textAreaRight" fmla="*/ 6461640 w 6461280"/>
              <a:gd name="textAreaTop" fmla="*/ 0 h 6324480"/>
              <a:gd name="textAreaBottom" fmla="*/ 6324840 h 6324480"/>
            </a:gdLst>
            <a:ahLst/>
            <a:rect l="textAreaLeft" t="textAreaTop" r="textAreaRight" b="textAreaBottom"/>
            <a:pathLst>
              <a:path w="4070" h="3984">
                <a:moveTo>
                  <a:pt x="2475" y="455"/>
                </a:moveTo>
                <a:cubicBezTo>
                  <a:pt x="2480" y="466"/>
                  <a:pt x="2484" y="478"/>
                  <a:pt x="2491" y="488"/>
                </a:cubicBezTo>
                <a:cubicBezTo>
                  <a:pt x="2495" y="494"/>
                  <a:pt x="2504" y="497"/>
                  <a:pt x="2508" y="504"/>
                </a:cubicBezTo>
                <a:cubicBezTo>
                  <a:pt x="2516" y="519"/>
                  <a:pt x="2524" y="553"/>
                  <a:pt x="2524" y="553"/>
                </a:cubicBezTo>
                <a:cubicBezTo>
                  <a:pt x="2521" y="604"/>
                  <a:pt x="2525" y="656"/>
                  <a:pt x="2516" y="707"/>
                </a:cubicBezTo>
                <a:cubicBezTo>
                  <a:pt x="2495" y="830"/>
                  <a:pt x="2389" y="979"/>
                  <a:pt x="2297" y="1056"/>
                </a:cubicBezTo>
                <a:cubicBezTo>
                  <a:pt x="2261" y="1086"/>
                  <a:pt x="2228" y="1122"/>
                  <a:pt x="2183" y="1137"/>
                </a:cubicBezTo>
                <a:cubicBezTo>
                  <a:pt x="2094" y="1203"/>
                  <a:pt x="1999" y="1235"/>
                  <a:pt x="1891" y="1250"/>
                </a:cubicBezTo>
                <a:cubicBezTo>
                  <a:pt x="1925" y="1216"/>
                  <a:pt x="1974" y="1198"/>
                  <a:pt x="2005" y="1161"/>
                </a:cubicBezTo>
                <a:cubicBezTo>
                  <a:pt x="2050" y="1108"/>
                  <a:pt x="2072" y="1044"/>
                  <a:pt x="2102" y="983"/>
                </a:cubicBezTo>
                <a:cubicBezTo>
                  <a:pt x="2113" y="937"/>
                  <a:pt x="2127" y="892"/>
                  <a:pt x="2134" y="845"/>
                </a:cubicBezTo>
                <a:cubicBezTo>
                  <a:pt x="2137" y="821"/>
                  <a:pt x="2150" y="796"/>
                  <a:pt x="2143" y="772"/>
                </a:cubicBezTo>
                <a:cubicBezTo>
                  <a:pt x="2140" y="762"/>
                  <a:pt x="2126" y="783"/>
                  <a:pt x="2118" y="788"/>
                </a:cubicBezTo>
                <a:cubicBezTo>
                  <a:pt x="2106" y="837"/>
                  <a:pt x="2078" y="877"/>
                  <a:pt x="2053" y="918"/>
                </a:cubicBezTo>
                <a:cubicBezTo>
                  <a:pt x="1980" y="1039"/>
                  <a:pt x="2055" y="939"/>
                  <a:pt x="1996" y="1015"/>
                </a:cubicBezTo>
                <a:cubicBezTo>
                  <a:pt x="1954" y="1123"/>
                  <a:pt x="1831" y="1199"/>
                  <a:pt x="1721" y="1226"/>
                </a:cubicBezTo>
                <a:cubicBezTo>
                  <a:pt x="1697" y="1223"/>
                  <a:pt x="1667" y="1233"/>
                  <a:pt x="1648" y="1218"/>
                </a:cubicBezTo>
                <a:cubicBezTo>
                  <a:pt x="1637" y="1210"/>
                  <a:pt x="1669" y="1200"/>
                  <a:pt x="1680" y="1193"/>
                </a:cubicBezTo>
                <a:cubicBezTo>
                  <a:pt x="1690" y="1186"/>
                  <a:pt x="1702" y="1182"/>
                  <a:pt x="1713" y="1177"/>
                </a:cubicBezTo>
                <a:cubicBezTo>
                  <a:pt x="1737" y="1145"/>
                  <a:pt x="1765" y="1124"/>
                  <a:pt x="1794" y="1096"/>
                </a:cubicBezTo>
                <a:cubicBezTo>
                  <a:pt x="1808" y="1068"/>
                  <a:pt x="1828" y="1050"/>
                  <a:pt x="1842" y="1023"/>
                </a:cubicBezTo>
                <a:cubicBezTo>
                  <a:pt x="1871" y="966"/>
                  <a:pt x="1888" y="908"/>
                  <a:pt x="1899" y="845"/>
                </a:cubicBezTo>
                <a:cubicBezTo>
                  <a:pt x="1896" y="831"/>
                  <a:pt x="1902" y="812"/>
                  <a:pt x="1891" y="804"/>
                </a:cubicBezTo>
                <a:cubicBezTo>
                  <a:pt x="1883" y="798"/>
                  <a:pt x="1880" y="820"/>
                  <a:pt x="1875" y="828"/>
                </a:cubicBezTo>
                <a:cubicBezTo>
                  <a:pt x="1869" y="839"/>
                  <a:pt x="1865" y="850"/>
                  <a:pt x="1859" y="861"/>
                </a:cubicBezTo>
                <a:cubicBezTo>
                  <a:pt x="1838" y="897"/>
                  <a:pt x="1815" y="931"/>
                  <a:pt x="1794" y="966"/>
                </a:cubicBezTo>
                <a:cubicBezTo>
                  <a:pt x="1731" y="1072"/>
                  <a:pt x="1663" y="1187"/>
                  <a:pt x="1534" y="1218"/>
                </a:cubicBezTo>
                <a:cubicBezTo>
                  <a:pt x="1496" y="1215"/>
                  <a:pt x="1457" y="1220"/>
                  <a:pt x="1420" y="1210"/>
                </a:cubicBezTo>
                <a:cubicBezTo>
                  <a:pt x="1410" y="1207"/>
                  <a:pt x="1436" y="1198"/>
                  <a:pt x="1445" y="1193"/>
                </a:cubicBezTo>
                <a:cubicBezTo>
                  <a:pt x="1518" y="1151"/>
                  <a:pt x="1446" y="1200"/>
                  <a:pt x="1494" y="1161"/>
                </a:cubicBezTo>
                <a:cubicBezTo>
                  <a:pt x="1535" y="1128"/>
                  <a:pt x="1564" y="1088"/>
                  <a:pt x="1607" y="1056"/>
                </a:cubicBezTo>
                <a:cubicBezTo>
                  <a:pt x="1624" y="1004"/>
                  <a:pt x="1669" y="971"/>
                  <a:pt x="1688" y="918"/>
                </a:cubicBezTo>
                <a:cubicBezTo>
                  <a:pt x="1710" y="856"/>
                  <a:pt x="1718" y="862"/>
                  <a:pt x="1672" y="885"/>
                </a:cubicBezTo>
                <a:cubicBezTo>
                  <a:pt x="1613" y="946"/>
                  <a:pt x="1579" y="1024"/>
                  <a:pt x="1494" y="1056"/>
                </a:cubicBezTo>
                <a:cubicBezTo>
                  <a:pt x="1456" y="1092"/>
                  <a:pt x="1361" y="1111"/>
                  <a:pt x="1307" y="1129"/>
                </a:cubicBezTo>
                <a:cubicBezTo>
                  <a:pt x="1283" y="1137"/>
                  <a:pt x="1258" y="1145"/>
                  <a:pt x="1234" y="1153"/>
                </a:cubicBezTo>
                <a:cubicBezTo>
                  <a:pt x="1226" y="1156"/>
                  <a:pt x="1210" y="1161"/>
                  <a:pt x="1210" y="1161"/>
                </a:cubicBezTo>
                <a:cubicBezTo>
                  <a:pt x="1189" y="1180"/>
                  <a:pt x="1171" y="1192"/>
                  <a:pt x="1145" y="1202"/>
                </a:cubicBezTo>
                <a:cubicBezTo>
                  <a:pt x="1114" y="1231"/>
                  <a:pt x="1134" y="1214"/>
                  <a:pt x="1080" y="1250"/>
                </a:cubicBezTo>
                <a:cubicBezTo>
                  <a:pt x="1052" y="1269"/>
                  <a:pt x="1008" y="1338"/>
                  <a:pt x="991" y="1364"/>
                </a:cubicBezTo>
                <a:cubicBezTo>
                  <a:pt x="984" y="1374"/>
                  <a:pt x="979" y="1385"/>
                  <a:pt x="974" y="1396"/>
                </a:cubicBezTo>
                <a:cubicBezTo>
                  <a:pt x="968" y="1412"/>
                  <a:pt x="958" y="1445"/>
                  <a:pt x="958" y="1445"/>
                </a:cubicBezTo>
                <a:cubicBezTo>
                  <a:pt x="946" y="1540"/>
                  <a:pt x="946" y="1514"/>
                  <a:pt x="958" y="1640"/>
                </a:cubicBezTo>
                <a:cubicBezTo>
                  <a:pt x="959" y="1651"/>
                  <a:pt x="974" y="1664"/>
                  <a:pt x="966" y="1672"/>
                </a:cubicBezTo>
                <a:cubicBezTo>
                  <a:pt x="958" y="1680"/>
                  <a:pt x="945" y="1667"/>
                  <a:pt x="934" y="1664"/>
                </a:cubicBezTo>
                <a:cubicBezTo>
                  <a:pt x="909" y="1626"/>
                  <a:pt x="899" y="1631"/>
                  <a:pt x="885" y="1672"/>
                </a:cubicBezTo>
                <a:cubicBezTo>
                  <a:pt x="888" y="1750"/>
                  <a:pt x="887" y="1829"/>
                  <a:pt x="893" y="1907"/>
                </a:cubicBezTo>
                <a:cubicBezTo>
                  <a:pt x="900" y="2002"/>
                  <a:pt x="935" y="2099"/>
                  <a:pt x="958" y="2191"/>
                </a:cubicBezTo>
                <a:cubicBezTo>
                  <a:pt x="949" y="2255"/>
                  <a:pt x="952" y="2262"/>
                  <a:pt x="893" y="2248"/>
                </a:cubicBezTo>
                <a:cubicBezTo>
                  <a:pt x="881" y="2240"/>
                  <a:pt x="860" y="2217"/>
                  <a:pt x="844" y="2240"/>
                </a:cubicBezTo>
                <a:cubicBezTo>
                  <a:pt x="834" y="2254"/>
                  <a:pt x="828" y="2289"/>
                  <a:pt x="828" y="2289"/>
                </a:cubicBezTo>
                <a:cubicBezTo>
                  <a:pt x="834" y="2346"/>
                  <a:pt x="830" y="2382"/>
                  <a:pt x="861" y="2427"/>
                </a:cubicBezTo>
                <a:cubicBezTo>
                  <a:pt x="879" y="2482"/>
                  <a:pt x="865" y="2463"/>
                  <a:pt x="893" y="2492"/>
                </a:cubicBezTo>
                <a:cubicBezTo>
                  <a:pt x="905" y="2527"/>
                  <a:pt x="927" y="2556"/>
                  <a:pt x="942" y="2589"/>
                </a:cubicBezTo>
                <a:cubicBezTo>
                  <a:pt x="949" y="2605"/>
                  <a:pt x="953" y="2622"/>
                  <a:pt x="958" y="2638"/>
                </a:cubicBezTo>
                <a:cubicBezTo>
                  <a:pt x="961" y="2646"/>
                  <a:pt x="966" y="2662"/>
                  <a:pt x="966" y="2662"/>
                </a:cubicBezTo>
                <a:cubicBezTo>
                  <a:pt x="963" y="2727"/>
                  <a:pt x="968" y="2793"/>
                  <a:pt x="958" y="2857"/>
                </a:cubicBezTo>
                <a:cubicBezTo>
                  <a:pt x="957" y="2865"/>
                  <a:pt x="940" y="2859"/>
                  <a:pt x="934" y="2865"/>
                </a:cubicBezTo>
                <a:cubicBezTo>
                  <a:pt x="928" y="2871"/>
                  <a:pt x="929" y="2881"/>
                  <a:pt x="926" y="2889"/>
                </a:cubicBezTo>
                <a:cubicBezTo>
                  <a:pt x="942" y="2971"/>
                  <a:pt x="975" y="3033"/>
                  <a:pt x="1007" y="3108"/>
                </a:cubicBezTo>
                <a:cubicBezTo>
                  <a:pt x="1032" y="3165"/>
                  <a:pt x="986" y="3091"/>
                  <a:pt x="1047" y="3181"/>
                </a:cubicBezTo>
                <a:cubicBezTo>
                  <a:pt x="1052" y="3189"/>
                  <a:pt x="1064" y="3205"/>
                  <a:pt x="1064" y="3205"/>
                </a:cubicBezTo>
                <a:cubicBezTo>
                  <a:pt x="1093" y="3294"/>
                  <a:pt x="1048" y="3162"/>
                  <a:pt x="1088" y="3254"/>
                </a:cubicBezTo>
                <a:cubicBezTo>
                  <a:pt x="1113" y="3312"/>
                  <a:pt x="1126" y="3371"/>
                  <a:pt x="1161" y="3424"/>
                </a:cubicBezTo>
                <a:cubicBezTo>
                  <a:pt x="1190" y="3513"/>
                  <a:pt x="1145" y="3381"/>
                  <a:pt x="1185" y="3473"/>
                </a:cubicBezTo>
                <a:cubicBezTo>
                  <a:pt x="1195" y="3497"/>
                  <a:pt x="1201" y="3522"/>
                  <a:pt x="1210" y="3546"/>
                </a:cubicBezTo>
                <a:cubicBezTo>
                  <a:pt x="1230" y="3666"/>
                  <a:pt x="1287" y="3831"/>
                  <a:pt x="1193" y="3919"/>
                </a:cubicBezTo>
                <a:cubicBezTo>
                  <a:pt x="1172" y="3855"/>
                  <a:pt x="1193" y="3935"/>
                  <a:pt x="1193" y="3871"/>
                </a:cubicBezTo>
                <a:cubicBezTo>
                  <a:pt x="1193" y="3795"/>
                  <a:pt x="1196" y="3716"/>
                  <a:pt x="1153" y="3652"/>
                </a:cubicBezTo>
                <a:cubicBezTo>
                  <a:pt x="1129" y="3688"/>
                  <a:pt x="1115" y="3727"/>
                  <a:pt x="1096" y="3765"/>
                </a:cubicBezTo>
                <a:cubicBezTo>
                  <a:pt x="1076" y="3805"/>
                  <a:pt x="1084" y="3776"/>
                  <a:pt x="1055" y="3814"/>
                </a:cubicBezTo>
                <a:cubicBezTo>
                  <a:pt x="1037" y="3837"/>
                  <a:pt x="1023" y="3863"/>
                  <a:pt x="1007" y="3887"/>
                </a:cubicBezTo>
                <a:cubicBezTo>
                  <a:pt x="996" y="3903"/>
                  <a:pt x="929" y="3942"/>
                  <a:pt x="909" y="3952"/>
                </a:cubicBezTo>
                <a:cubicBezTo>
                  <a:pt x="903" y="3955"/>
                  <a:pt x="861" y="3965"/>
                  <a:pt x="861" y="3976"/>
                </a:cubicBezTo>
                <a:cubicBezTo>
                  <a:pt x="861" y="3984"/>
                  <a:pt x="877" y="3971"/>
                  <a:pt x="885" y="3968"/>
                </a:cubicBezTo>
                <a:cubicBezTo>
                  <a:pt x="906" y="3953"/>
                  <a:pt x="931" y="3944"/>
                  <a:pt x="950" y="3927"/>
                </a:cubicBezTo>
                <a:cubicBezTo>
                  <a:pt x="966" y="3913"/>
                  <a:pt x="976" y="3894"/>
                  <a:pt x="991" y="3879"/>
                </a:cubicBezTo>
                <a:cubicBezTo>
                  <a:pt x="1030" y="3799"/>
                  <a:pt x="1050" y="3748"/>
                  <a:pt x="1064" y="3660"/>
                </a:cubicBezTo>
                <a:cubicBezTo>
                  <a:pt x="1061" y="3633"/>
                  <a:pt x="1067" y="3603"/>
                  <a:pt x="1055" y="3579"/>
                </a:cubicBezTo>
                <a:cubicBezTo>
                  <a:pt x="1051" y="3570"/>
                  <a:pt x="1037" y="3588"/>
                  <a:pt x="1031" y="3595"/>
                </a:cubicBezTo>
                <a:cubicBezTo>
                  <a:pt x="996" y="3633"/>
                  <a:pt x="977" y="3680"/>
                  <a:pt x="942" y="3717"/>
                </a:cubicBezTo>
                <a:cubicBezTo>
                  <a:pt x="895" y="3835"/>
                  <a:pt x="776" y="3895"/>
                  <a:pt x="658" y="3919"/>
                </a:cubicBezTo>
                <a:cubicBezTo>
                  <a:pt x="631" y="3916"/>
                  <a:pt x="599" y="3927"/>
                  <a:pt x="577" y="3911"/>
                </a:cubicBezTo>
                <a:cubicBezTo>
                  <a:pt x="563" y="3901"/>
                  <a:pt x="609" y="3900"/>
                  <a:pt x="625" y="3895"/>
                </a:cubicBezTo>
                <a:cubicBezTo>
                  <a:pt x="636" y="3891"/>
                  <a:pt x="678" y="3858"/>
                  <a:pt x="682" y="3854"/>
                </a:cubicBezTo>
                <a:cubicBezTo>
                  <a:pt x="702" y="3836"/>
                  <a:pt x="739" y="3798"/>
                  <a:pt x="739" y="3798"/>
                </a:cubicBezTo>
                <a:cubicBezTo>
                  <a:pt x="755" y="3747"/>
                  <a:pt x="788" y="3700"/>
                  <a:pt x="812" y="3652"/>
                </a:cubicBezTo>
                <a:cubicBezTo>
                  <a:pt x="829" y="3619"/>
                  <a:pt x="837" y="3575"/>
                  <a:pt x="844" y="3538"/>
                </a:cubicBezTo>
                <a:cubicBezTo>
                  <a:pt x="841" y="3524"/>
                  <a:pt x="848" y="3505"/>
                  <a:pt x="836" y="3497"/>
                </a:cubicBezTo>
                <a:cubicBezTo>
                  <a:pt x="828" y="3492"/>
                  <a:pt x="826" y="3514"/>
                  <a:pt x="820" y="3522"/>
                </a:cubicBezTo>
                <a:cubicBezTo>
                  <a:pt x="812" y="3533"/>
                  <a:pt x="804" y="3543"/>
                  <a:pt x="796" y="3554"/>
                </a:cubicBezTo>
                <a:cubicBezTo>
                  <a:pt x="777" y="3581"/>
                  <a:pt x="775" y="3618"/>
                  <a:pt x="755" y="3644"/>
                </a:cubicBezTo>
                <a:cubicBezTo>
                  <a:pt x="739" y="3665"/>
                  <a:pt x="722" y="3686"/>
                  <a:pt x="707" y="3708"/>
                </a:cubicBezTo>
                <a:cubicBezTo>
                  <a:pt x="634" y="3815"/>
                  <a:pt x="510" y="3843"/>
                  <a:pt x="390" y="3854"/>
                </a:cubicBezTo>
                <a:cubicBezTo>
                  <a:pt x="306" y="3851"/>
                  <a:pt x="223" y="3851"/>
                  <a:pt x="139" y="3846"/>
                </a:cubicBezTo>
                <a:cubicBezTo>
                  <a:pt x="108" y="3844"/>
                  <a:pt x="49" y="3822"/>
                  <a:pt x="49" y="3822"/>
                </a:cubicBezTo>
                <a:cubicBezTo>
                  <a:pt x="114" y="3819"/>
                  <a:pt x="179" y="3820"/>
                  <a:pt x="244" y="3814"/>
                </a:cubicBezTo>
                <a:cubicBezTo>
                  <a:pt x="271" y="3812"/>
                  <a:pt x="325" y="3798"/>
                  <a:pt x="325" y="3798"/>
                </a:cubicBezTo>
                <a:cubicBezTo>
                  <a:pt x="374" y="3773"/>
                  <a:pt x="419" y="3742"/>
                  <a:pt x="455" y="3700"/>
                </a:cubicBezTo>
                <a:cubicBezTo>
                  <a:pt x="496" y="3653"/>
                  <a:pt x="516" y="3588"/>
                  <a:pt x="561" y="3546"/>
                </a:cubicBezTo>
                <a:cubicBezTo>
                  <a:pt x="571" y="3516"/>
                  <a:pt x="584" y="3488"/>
                  <a:pt x="593" y="3457"/>
                </a:cubicBezTo>
                <a:cubicBezTo>
                  <a:pt x="605" y="3416"/>
                  <a:pt x="629" y="3381"/>
                  <a:pt x="577" y="3433"/>
                </a:cubicBezTo>
                <a:cubicBezTo>
                  <a:pt x="567" y="3443"/>
                  <a:pt x="560" y="3454"/>
                  <a:pt x="552" y="3465"/>
                </a:cubicBezTo>
                <a:cubicBezTo>
                  <a:pt x="527" y="3530"/>
                  <a:pt x="552" y="3487"/>
                  <a:pt x="504" y="3530"/>
                </a:cubicBezTo>
                <a:cubicBezTo>
                  <a:pt x="487" y="3545"/>
                  <a:pt x="471" y="3563"/>
                  <a:pt x="455" y="3579"/>
                </a:cubicBezTo>
                <a:cubicBezTo>
                  <a:pt x="421" y="3613"/>
                  <a:pt x="339" y="3621"/>
                  <a:pt x="293" y="3627"/>
                </a:cubicBezTo>
                <a:cubicBezTo>
                  <a:pt x="269" y="3624"/>
                  <a:pt x="243" y="3627"/>
                  <a:pt x="220" y="3619"/>
                </a:cubicBezTo>
                <a:cubicBezTo>
                  <a:pt x="194" y="3610"/>
                  <a:pt x="173" y="3588"/>
                  <a:pt x="147" y="3579"/>
                </a:cubicBezTo>
                <a:cubicBezTo>
                  <a:pt x="125" y="3555"/>
                  <a:pt x="113" y="3529"/>
                  <a:pt x="90" y="3506"/>
                </a:cubicBezTo>
                <a:cubicBezTo>
                  <a:pt x="75" y="3475"/>
                  <a:pt x="69" y="3445"/>
                  <a:pt x="49" y="3416"/>
                </a:cubicBezTo>
                <a:cubicBezTo>
                  <a:pt x="38" y="3383"/>
                  <a:pt x="30" y="3351"/>
                  <a:pt x="17" y="3319"/>
                </a:cubicBezTo>
                <a:cubicBezTo>
                  <a:pt x="12" y="3277"/>
                  <a:pt x="0" y="3206"/>
                  <a:pt x="17" y="3165"/>
                </a:cubicBezTo>
                <a:cubicBezTo>
                  <a:pt x="21" y="3156"/>
                  <a:pt x="27" y="3181"/>
                  <a:pt x="33" y="3189"/>
                </a:cubicBezTo>
                <a:cubicBezTo>
                  <a:pt x="41" y="3200"/>
                  <a:pt x="50" y="3211"/>
                  <a:pt x="58" y="3222"/>
                </a:cubicBezTo>
                <a:cubicBezTo>
                  <a:pt x="64" y="3230"/>
                  <a:pt x="68" y="3238"/>
                  <a:pt x="74" y="3246"/>
                </a:cubicBezTo>
                <a:cubicBezTo>
                  <a:pt x="103" y="3286"/>
                  <a:pt x="141" y="3330"/>
                  <a:pt x="187" y="3351"/>
                </a:cubicBezTo>
                <a:cubicBezTo>
                  <a:pt x="203" y="3358"/>
                  <a:pt x="220" y="3362"/>
                  <a:pt x="236" y="3368"/>
                </a:cubicBezTo>
                <a:cubicBezTo>
                  <a:pt x="244" y="3371"/>
                  <a:pt x="260" y="3376"/>
                  <a:pt x="260" y="3376"/>
                </a:cubicBezTo>
                <a:cubicBezTo>
                  <a:pt x="408" y="3367"/>
                  <a:pt x="372" y="3377"/>
                  <a:pt x="471" y="3327"/>
                </a:cubicBezTo>
                <a:cubicBezTo>
                  <a:pt x="495" y="3293"/>
                  <a:pt x="506" y="3256"/>
                  <a:pt x="528" y="3222"/>
                </a:cubicBezTo>
                <a:cubicBezTo>
                  <a:pt x="550" y="3155"/>
                  <a:pt x="561" y="3090"/>
                  <a:pt x="569" y="3019"/>
                </a:cubicBezTo>
                <a:cubicBezTo>
                  <a:pt x="582" y="2703"/>
                  <a:pt x="617" y="2393"/>
                  <a:pt x="642" y="2078"/>
                </a:cubicBezTo>
                <a:cubicBezTo>
                  <a:pt x="655" y="1913"/>
                  <a:pt x="666" y="1766"/>
                  <a:pt x="707" y="1607"/>
                </a:cubicBezTo>
                <a:cubicBezTo>
                  <a:pt x="727" y="1531"/>
                  <a:pt x="728" y="1451"/>
                  <a:pt x="763" y="1380"/>
                </a:cubicBezTo>
                <a:cubicBezTo>
                  <a:pt x="778" y="1308"/>
                  <a:pt x="795" y="1245"/>
                  <a:pt x="820" y="1177"/>
                </a:cubicBezTo>
                <a:cubicBezTo>
                  <a:pt x="835" y="1136"/>
                  <a:pt x="840" y="1096"/>
                  <a:pt x="861" y="1056"/>
                </a:cubicBezTo>
                <a:cubicBezTo>
                  <a:pt x="875" y="984"/>
                  <a:pt x="892" y="910"/>
                  <a:pt x="926" y="845"/>
                </a:cubicBezTo>
                <a:cubicBezTo>
                  <a:pt x="937" y="800"/>
                  <a:pt x="957" y="761"/>
                  <a:pt x="982" y="723"/>
                </a:cubicBezTo>
                <a:cubicBezTo>
                  <a:pt x="997" y="669"/>
                  <a:pt x="985" y="700"/>
                  <a:pt x="1031" y="634"/>
                </a:cubicBezTo>
                <a:cubicBezTo>
                  <a:pt x="1080" y="564"/>
                  <a:pt x="1115" y="485"/>
                  <a:pt x="1177" y="423"/>
                </a:cubicBezTo>
                <a:cubicBezTo>
                  <a:pt x="1221" y="332"/>
                  <a:pt x="1164" y="436"/>
                  <a:pt x="1218" y="374"/>
                </a:cubicBezTo>
                <a:cubicBezTo>
                  <a:pt x="1231" y="359"/>
                  <a:pt x="1234" y="336"/>
                  <a:pt x="1250" y="325"/>
                </a:cubicBezTo>
                <a:cubicBezTo>
                  <a:pt x="1275" y="308"/>
                  <a:pt x="1300" y="289"/>
                  <a:pt x="1323" y="269"/>
                </a:cubicBezTo>
                <a:cubicBezTo>
                  <a:pt x="1374" y="225"/>
                  <a:pt x="1436" y="176"/>
                  <a:pt x="1502" y="155"/>
                </a:cubicBezTo>
                <a:cubicBezTo>
                  <a:pt x="1510" y="150"/>
                  <a:pt x="1517" y="143"/>
                  <a:pt x="1526" y="139"/>
                </a:cubicBezTo>
                <a:cubicBezTo>
                  <a:pt x="1542" y="132"/>
                  <a:pt x="1575" y="123"/>
                  <a:pt x="1575" y="123"/>
                </a:cubicBezTo>
                <a:cubicBezTo>
                  <a:pt x="1749" y="0"/>
                  <a:pt x="2015" y="13"/>
                  <a:pt x="2216" y="1"/>
                </a:cubicBezTo>
                <a:cubicBezTo>
                  <a:pt x="2340" y="7"/>
                  <a:pt x="2359" y="2"/>
                  <a:pt x="2451" y="17"/>
                </a:cubicBezTo>
                <a:cubicBezTo>
                  <a:pt x="2539" y="31"/>
                  <a:pt x="2624" y="61"/>
                  <a:pt x="2710" y="82"/>
                </a:cubicBezTo>
                <a:cubicBezTo>
                  <a:pt x="2734" y="98"/>
                  <a:pt x="2756" y="105"/>
                  <a:pt x="2783" y="115"/>
                </a:cubicBezTo>
                <a:cubicBezTo>
                  <a:pt x="2809" y="139"/>
                  <a:pt x="2849" y="155"/>
                  <a:pt x="2881" y="171"/>
                </a:cubicBezTo>
                <a:cubicBezTo>
                  <a:pt x="2909" y="200"/>
                  <a:pt x="2942" y="218"/>
                  <a:pt x="2978" y="236"/>
                </a:cubicBezTo>
                <a:cubicBezTo>
                  <a:pt x="3041" y="299"/>
                  <a:pt x="3112" y="360"/>
                  <a:pt x="3165" y="431"/>
                </a:cubicBezTo>
                <a:cubicBezTo>
                  <a:pt x="3199" y="476"/>
                  <a:pt x="3215" y="522"/>
                  <a:pt x="3246" y="569"/>
                </a:cubicBezTo>
                <a:cubicBezTo>
                  <a:pt x="3266" y="599"/>
                  <a:pt x="3295" y="633"/>
                  <a:pt x="3311" y="666"/>
                </a:cubicBezTo>
                <a:cubicBezTo>
                  <a:pt x="3343" y="732"/>
                  <a:pt x="3375" y="796"/>
                  <a:pt x="3408" y="861"/>
                </a:cubicBezTo>
                <a:cubicBezTo>
                  <a:pt x="3428" y="901"/>
                  <a:pt x="3441" y="945"/>
                  <a:pt x="3465" y="983"/>
                </a:cubicBezTo>
                <a:cubicBezTo>
                  <a:pt x="3485" y="1063"/>
                  <a:pt x="3520" y="1147"/>
                  <a:pt x="3546" y="1226"/>
                </a:cubicBezTo>
                <a:cubicBezTo>
                  <a:pt x="3589" y="1354"/>
                  <a:pt x="3613" y="1491"/>
                  <a:pt x="3635" y="1623"/>
                </a:cubicBezTo>
                <a:cubicBezTo>
                  <a:pt x="3667" y="2081"/>
                  <a:pt x="3608" y="2537"/>
                  <a:pt x="3587" y="2995"/>
                </a:cubicBezTo>
                <a:cubicBezTo>
                  <a:pt x="3598" y="3149"/>
                  <a:pt x="3609" y="3282"/>
                  <a:pt x="3733" y="3384"/>
                </a:cubicBezTo>
                <a:cubicBezTo>
                  <a:pt x="3774" y="3418"/>
                  <a:pt x="3738" y="3402"/>
                  <a:pt x="3781" y="3416"/>
                </a:cubicBezTo>
                <a:cubicBezTo>
                  <a:pt x="3825" y="3446"/>
                  <a:pt x="3860" y="3460"/>
                  <a:pt x="3911" y="3473"/>
                </a:cubicBezTo>
                <a:cubicBezTo>
                  <a:pt x="3938" y="3470"/>
                  <a:pt x="3966" y="3471"/>
                  <a:pt x="3992" y="3465"/>
                </a:cubicBezTo>
                <a:cubicBezTo>
                  <a:pt x="4030" y="3456"/>
                  <a:pt x="4046" y="3405"/>
                  <a:pt x="4065" y="3376"/>
                </a:cubicBezTo>
                <a:cubicBezTo>
                  <a:pt x="4070" y="3369"/>
                  <a:pt x="4061" y="3393"/>
                  <a:pt x="4057" y="3400"/>
                </a:cubicBezTo>
                <a:cubicBezTo>
                  <a:pt x="4025" y="3458"/>
                  <a:pt x="4031" y="3445"/>
                  <a:pt x="3976" y="3481"/>
                </a:cubicBezTo>
                <a:cubicBezTo>
                  <a:pt x="3920" y="3517"/>
                  <a:pt x="3845" y="3530"/>
                  <a:pt x="3781" y="3538"/>
                </a:cubicBezTo>
                <a:cubicBezTo>
                  <a:pt x="3661" y="3568"/>
                  <a:pt x="3589" y="3581"/>
                  <a:pt x="3505" y="3497"/>
                </a:cubicBezTo>
                <a:cubicBezTo>
                  <a:pt x="3498" y="3490"/>
                  <a:pt x="3517" y="3513"/>
                  <a:pt x="3522" y="3522"/>
                </a:cubicBezTo>
                <a:cubicBezTo>
                  <a:pt x="3528" y="3532"/>
                  <a:pt x="3531" y="3544"/>
                  <a:pt x="3538" y="3554"/>
                </a:cubicBezTo>
                <a:cubicBezTo>
                  <a:pt x="3561" y="3590"/>
                  <a:pt x="3619" y="3620"/>
                  <a:pt x="3651" y="3652"/>
                </a:cubicBezTo>
                <a:cubicBezTo>
                  <a:pt x="3673" y="3675"/>
                  <a:pt x="3705" y="3684"/>
                  <a:pt x="3733" y="3700"/>
                </a:cubicBezTo>
                <a:cubicBezTo>
                  <a:pt x="3808" y="3743"/>
                  <a:pt x="3891" y="3774"/>
                  <a:pt x="3976" y="3790"/>
                </a:cubicBezTo>
                <a:cubicBezTo>
                  <a:pt x="3964" y="3827"/>
                  <a:pt x="3948" y="3829"/>
                  <a:pt x="3911" y="3838"/>
                </a:cubicBezTo>
                <a:cubicBezTo>
                  <a:pt x="3881" y="3853"/>
                  <a:pt x="3846" y="3871"/>
                  <a:pt x="3814" y="3879"/>
                </a:cubicBezTo>
                <a:cubicBezTo>
                  <a:pt x="3787" y="3886"/>
                  <a:pt x="3733" y="3895"/>
                  <a:pt x="3733" y="3895"/>
                </a:cubicBezTo>
                <a:cubicBezTo>
                  <a:pt x="3553" y="3886"/>
                  <a:pt x="3625" y="3895"/>
                  <a:pt x="3530" y="3863"/>
                </a:cubicBezTo>
                <a:cubicBezTo>
                  <a:pt x="3508" y="3841"/>
                  <a:pt x="3486" y="3820"/>
                  <a:pt x="3465" y="3798"/>
                </a:cubicBezTo>
                <a:cubicBezTo>
                  <a:pt x="3460" y="3792"/>
                  <a:pt x="3449" y="3781"/>
                  <a:pt x="3449" y="3781"/>
                </a:cubicBezTo>
                <a:cubicBezTo>
                  <a:pt x="3462" y="3820"/>
                  <a:pt x="3473" y="3858"/>
                  <a:pt x="3514" y="3871"/>
                </a:cubicBezTo>
                <a:cubicBezTo>
                  <a:pt x="3522" y="3879"/>
                  <a:pt x="3528" y="3890"/>
                  <a:pt x="3538" y="3895"/>
                </a:cubicBezTo>
                <a:cubicBezTo>
                  <a:pt x="3553" y="3903"/>
                  <a:pt x="3587" y="3911"/>
                  <a:pt x="3587" y="3911"/>
                </a:cubicBezTo>
                <a:cubicBezTo>
                  <a:pt x="3595" y="3916"/>
                  <a:pt x="3611" y="3917"/>
                  <a:pt x="3611" y="3927"/>
                </a:cubicBezTo>
                <a:cubicBezTo>
                  <a:pt x="3611" y="3929"/>
                  <a:pt x="3562" y="3944"/>
                  <a:pt x="3562" y="3944"/>
                </a:cubicBezTo>
                <a:cubicBezTo>
                  <a:pt x="3524" y="3948"/>
                  <a:pt x="3487" y="3949"/>
                  <a:pt x="3449" y="3952"/>
                </a:cubicBezTo>
                <a:cubicBezTo>
                  <a:pt x="3288" y="3942"/>
                  <a:pt x="3316" y="3968"/>
                  <a:pt x="3246" y="3863"/>
                </a:cubicBezTo>
                <a:cubicBezTo>
                  <a:pt x="3231" y="3817"/>
                  <a:pt x="3227" y="3774"/>
                  <a:pt x="3222" y="3725"/>
                </a:cubicBezTo>
                <a:cubicBezTo>
                  <a:pt x="3186" y="3775"/>
                  <a:pt x="3202" y="3828"/>
                  <a:pt x="3189" y="3887"/>
                </a:cubicBezTo>
                <a:cubicBezTo>
                  <a:pt x="3184" y="3909"/>
                  <a:pt x="3149" y="3931"/>
                  <a:pt x="3132" y="3944"/>
                </a:cubicBezTo>
                <a:cubicBezTo>
                  <a:pt x="3117" y="3956"/>
                  <a:pt x="3084" y="3976"/>
                  <a:pt x="3084" y="3976"/>
                </a:cubicBezTo>
                <a:cubicBezTo>
                  <a:pt x="3081" y="3968"/>
                  <a:pt x="3074" y="3960"/>
                  <a:pt x="3075" y="3952"/>
                </a:cubicBezTo>
                <a:cubicBezTo>
                  <a:pt x="3077" y="3935"/>
                  <a:pt x="3092" y="3903"/>
                  <a:pt x="3092" y="3903"/>
                </a:cubicBezTo>
                <a:cubicBezTo>
                  <a:pt x="3095" y="3865"/>
                  <a:pt x="3100" y="3828"/>
                  <a:pt x="3100" y="3790"/>
                </a:cubicBezTo>
                <a:cubicBezTo>
                  <a:pt x="3100" y="3768"/>
                  <a:pt x="3105" y="3742"/>
                  <a:pt x="3092" y="3725"/>
                </a:cubicBezTo>
                <a:cubicBezTo>
                  <a:pt x="3085" y="3715"/>
                  <a:pt x="3080" y="3746"/>
                  <a:pt x="3075" y="3757"/>
                </a:cubicBezTo>
                <a:cubicBezTo>
                  <a:pt x="3055" y="3801"/>
                  <a:pt x="3061" y="3792"/>
                  <a:pt x="3051" y="3838"/>
                </a:cubicBezTo>
                <a:cubicBezTo>
                  <a:pt x="3033" y="3919"/>
                  <a:pt x="2986" y="3963"/>
                  <a:pt x="2905" y="3976"/>
                </a:cubicBezTo>
                <a:cubicBezTo>
                  <a:pt x="2883" y="3973"/>
                  <a:pt x="2859" y="3979"/>
                  <a:pt x="2840" y="3968"/>
                </a:cubicBezTo>
                <a:cubicBezTo>
                  <a:pt x="2833" y="3964"/>
                  <a:pt x="2844" y="3952"/>
                  <a:pt x="2848" y="3944"/>
                </a:cubicBezTo>
                <a:cubicBezTo>
                  <a:pt x="2853" y="3935"/>
                  <a:pt x="2859" y="3927"/>
                  <a:pt x="2865" y="3919"/>
                </a:cubicBezTo>
                <a:cubicBezTo>
                  <a:pt x="2898" y="3880"/>
                  <a:pt x="2878" y="3908"/>
                  <a:pt x="2913" y="3879"/>
                </a:cubicBezTo>
                <a:cubicBezTo>
                  <a:pt x="2939" y="3857"/>
                  <a:pt x="2950" y="3833"/>
                  <a:pt x="2978" y="3814"/>
                </a:cubicBezTo>
                <a:cubicBezTo>
                  <a:pt x="2991" y="3774"/>
                  <a:pt x="3031" y="3758"/>
                  <a:pt x="2970" y="3773"/>
                </a:cubicBezTo>
                <a:cubicBezTo>
                  <a:pt x="2944" y="3792"/>
                  <a:pt x="2919" y="3796"/>
                  <a:pt x="2889" y="3806"/>
                </a:cubicBezTo>
                <a:cubicBezTo>
                  <a:pt x="2865" y="3803"/>
                  <a:pt x="2840" y="3805"/>
                  <a:pt x="2816" y="3798"/>
                </a:cubicBezTo>
                <a:cubicBezTo>
                  <a:pt x="2776" y="3787"/>
                  <a:pt x="2806" y="3736"/>
                  <a:pt x="2840" y="3725"/>
                </a:cubicBezTo>
                <a:cubicBezTo>
                  <a:pt x="2869" y="3694"/>
                  <a:pt x="2891" y="3657"/>
                  <a:pt x="2921" y="3627"/>
                </a:cubicBezTo>
                <a:cubicBezTo>
                  <a:pt x="2935" y="3613"/>
                  <a:pt x="2962" y="3587"/>
                  <a:pt x="2962" y="3587"/>
                </a:cubicBezTo>
                <a:cubicBezTo>
                  <a:pt x="2972" y="3556"/>
                  <a:pt x="2988" y="3536"/>
                  <a:pt x="3011" y="3514"/>
                </a:cubicBezTo>
                <a:cubicBezTo>
                  <a:pt x="3019" y="3488"/>
                  <a:pt x="3051" y="3441"/>
                  <a:pt x="3051" y="3441"/>
                </a:cubicBezTo>
                <a:cubicBezTo>
                  <a:pt x="3072" y="3353"/>
                  <a:pt x="3043" y="3456"/>
                  <a:pt x="3075" y="3384"/>
                </a:cubicBezTo>
                <a:cubicBezTo>
                  <a:pt x="3088" y="3354"/>
                  <a:pt x="3089" y="3331"/>
                  <a:pt x="3108" y="3303"/>
                </a:cubicBezTo>
                <a:cubicBezTo>
                  <a:pt x="3129" y="3238"/>
                  <a:pt x="3160" y="3167"/>
                  <a:pt x="3173" y="3100"/>
                </a:cubicBezTo>
                <a:cubicBezTo>
                  <a:pt x="3182" y="3056"/>
                  <a:pt x="3192" y="2993"/>
                  <a:pt x="3205" y="2954"/>
                </a:cubicBezTo>
                <a:cubicBezTo>
                  <a:pt x="3226" y="2891"/>
                  <a:pt x="3251" y="2825"/>
                  <a:pt x="3262" y="2759"/>
                </a:cubicBezTo>
                <a:cubicBezTo>
                  <a:pt x="3278" y="2665"/>
                  <a:pt x="3287" y="2569"/>
                  <a:pt x="3303" y="2475"/>
                </a:cubicBezTo>
                <a:cubicBezTo>
                  <a:pt x="3324" y="2347"/>
                  <a:pt x="3355" y="2223"/>
                  <a:pt x="3368" y="2094"/>
                </a:cubicBezTo>
                <a:cubicBezTo>
                  <a:pt x="3366" y="2013"/>
                  <a:pt x="3380" y="1634"/>
                  <a:pt x="3303" y="1518"/>
                </a:cubicBezTo>
                <a:cubicBezTo>
                  <a:pt x="3289" y="1463"/>
                  <a:pt x="3272" y="1410"/>
                  <a:pt x="3254" y="1356"/>
                </a:cubicBezTo>
                <a:cubicBezTo>
                  <a:pt x="3237" y="1306"/>
                  <a:pt x="3241" y="1283"/>
                  <a:pt x="3213" y="1242"/>
                </a:cubicBezTo>
                <a:cubicBezTo>
                  <a:pt x="3184" y="1156"/>
                  <a:pt x="3230" y="1287"/>
                  <a:pt x="3189" y="1193"/>
                </a:cubicBezTo>
                <a:cubicBezTo>
                  <a:pt x="3169" y="1147"/>
                  <a:pt x="3161" y="1109"/>
                  <a:pt x="3124" y="1072"/>
                </a:cubicBezTo>
                <a:cubicBezTo>
                  <a:pt x="3114" y="1040"/>
                  <a:pt x="3069" y="994"/>
                  <a:pt x="3043" y="966"/>
                </a:cubicBezTo>
                <a:cubicBezTo>
                  <a:pt x="3016" y="1050"/>
                  <a:pt x="3030" y="1135"/>
                  <a:pt x="3002" y="1218"/>
                </a:cubicBezTo>
                <a:cubicBezTo>
                  <a:pt x="2993" y="1243"/>
                  <a:pt x="2982" y="1268"/>
                  <a:pt x="2970" y="1291"/>
                </a:cubicBezTo>
                <a:cubicBezTo>
                  <a:pt x="2961" y="1308"/>
                  <a:pt x="2938" y="1340"/>
                  <a:pt x="2938" y="1340"/>
                </a:cubicBezTo>
                <a:cubicBezTo>
                  <a:pt x="2910" y="1262"/>
                  <a:pt x="2938" y="1350"/>
                  <a:pt x="2938" y="1161"/>
                </a:cubicBezTo>
                <a:cubicBezTo>
                  <a:pt x="2938" y="1099"/>
                  <a:pt x="2923" y="1035"/>
                  <a:pt x="2889" y="983"/>
                </a:cubicBezTo>
                <a:cubicBezTo>
                  <a:pt x="2879" y="951"/>
                  <a:pt x="2863" y="917"/>
                  <a:pt x="2840" y="893"/>
                </a:cubicBezTo>
                <a:cubicBezTo>
                  <a:pt x="2791" y="909"/>
                  <a:pt x="2806" y="957"/>
                  <a:pt x="2800" y="1007"/>
                </a:cubicBezTo>
                <a:cubicBezTo>
                  <a:pt x="2795" y="1048"/>
                  <a:pt x="2790" y="1078"/>
                  <a:pt x="2767" y="1112"/>
                </a:cubicBezTo>
                <a:cubicBezTo>
                  <a:pt x="2765" y="1119"/>
                  <a:pt x="2758" y="1166"/>
                  <a:pt x="2743" y="1169"/>
                </a:cubicBezTo>
                <a:cubicBezTo>
                  <a:pt x="2734" y="1171"/>
                  <a:pt x="2727" y="1158"/>
                  <a:pt x="2719" y="1153"/>
                </a:cubicBezTo>
                <a:cubicBezTo>
                  <a:pt x="2716" y="1131"/>
                  <a:pt x="2711" y="1110"/>
                  <a:pt x="2710" y="1088"/>
                </a:cubicBezTo>
                <a:cubicBezTo>
                  <a:pt x="2706" y="1023"/>
                  <a:pt x="2708" y="958"/>
                  <a:pt x="2702" y="893"/>
                </a:cubicBezTo>
                <a:cubicBezTo>
                  <a:pt x="2695" y="826"/>
                  <a:pt x="2648" y="760"/>
                  <a:pt x="2613" y="707"/>
                </a:cubicBezTo>
                <a:cubicBezTo>
                  <a:pt x="2602" y="671"/>
                  <a:pt x="2581" y="644"/>
                  <a:pt x="2556" y="617"/>
                </a:cubicBezTo>
                <a:cubicBezTo>
                  <a:pt x="2544" y="582"/>
                  <a:pt x="2526" y="553"/>
                  <a:pt x="2499" y="528"/>
                </a:cubicBezTo>
                <a:cubicBezTo>
                  <a:pt x="2486" y="488"/>
                  <a:pt x="2494" y="512"/>
                  <a:pt x="2475" y="455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3"/>
          <p:cNvSpPr/>
          <p:nvPr/>
        </p:nvSpPr>
        <p:spPr>
          <a:xfrm>
            <a:off x="987480" y="189000"/>
            <a:ext cx="2038320" cy="2381040"/>
          </a:xfrm>
          <a:custGeom>
            <a:avLst/>
            <a:gdLst>
              <a:gd name="textAreaLeft" fmla="*/ 0 w 2038320"/>
              <a:gd name="textAreaRight" fmla="*/ 2038320 w 203832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284" h="1500">
                <a:moveTo>
                  <a:pt x="984" y="708"/>
                </a:moveTo>
                <a:cubicBezTo>
                  <a:pt x="1031" y="663"/>
                  <a:pt x="1036" y="589"/>
                  <a:pt x="1082" y="546"/>
                </a:cubicBezTo>
                <a:cubicBezTo>
                  <a:pt x="1096" y="503"/>
                  <a:pt x="1085" y="529"/>
                  <a:pt x="1122" y="473"/>
                </a:cubicBezTo>
                <a:cubicBezTo>
                  <a:pt x="1147" y="435"/>
                  <a:pt x="1157" y="386"/>
                  <a:pt x="1195" y="360"/>
                </a:cubicBezTo>
                <a:cubicBezTo>
                  <a:pt x="1208" y="319"/>
                  <a:pt x="1243" y="283"/>
                  <a:pt x="1268" y="246"/>
                </a:cubicBezTo>
                <a:cubicBezTo>
                  <a:pt x="1278" y="232"/>
                  <a:pt x="1284" y="197"/>
                  <a:pt x="1284" y="197"/>
                </a:cubicBezTo>
                <a:cubicBezTo>
                  <a:pt x="1246" y="159"/>
                  <a:pt x="1190" y="117"/>
                  <a:pt x="1138" y="100"/>
                </a:cubicBezTo>
                <a:cubicBezTo>
                  <a:pt x="1069" y="54"/>
                  <a:pt x="992" y="32"/>
                  <a:pt x="911" y="19"/>
                </a:cubicBezTo>
                <a:cubicBezTo>
                  <a:pt x="828" y="5"/>
                  <a:pt x="660" y="3"/>
                  <a:pt x="660" y="3"/>
                </a:cubicBezTo>
                <a:cubicBezTo>
                  <a:pt x="534" y="7"/>
                  <a:pt x="446" y="0"/>
                  <a:pt x="335" y="27"/>
                </a:cubicBezTo>
                <a:cubicBezTo>
                  <a:pt x="311" y="63"/>
                  <a:pt x="317" y="39"/>
                  <a:pt x="335" y="76"/>
                </a:cubicBezTo>
                <a:cubicBezTo>
                  <a:pt x="339" y="84"/>
                  <a:pt x="337" y="94"/>
                  <a:pt x="343" y="100"/>
                </a:cubicBezTo>
                <a:cubicBezTo>
                  <a:pt x="357" y="114"/>
                  <a:pt x="379" y="118"/>
                  <a:pt x="392" y="132"/>
                </a:cubicBezTo>
                <a:cubicBezTo>
                  <a:pt x="429" y="171"/>
                  <a:pt x="482" y="194"/>
                  <a:pt x="522" y="230"/>
                </a:cubicBezTo>
                <a:cubicBezTo>
                  <a:pt x="554" y="259"/>
                  <a:pt x="595" y="295"/>
                  <a:pt x="627" y="327"/>
                </a:cubicBezTo>
                <a:cubicBezTo>
                  <a:pt x="681" y="381"/>
                  <a:pt x="605" y="326"/>
                  <a:pt x="668" y="368"/>
                </a:cubicBezTo>
                <a:cubicBezTo>
                  <a:pt x="673" y="376"/>
                  <a:pt x="678" y="385"/>
                  <a:pt x="684" y="392"/>
                </a:cubicBezTo>
                <a:cubicBezTo>
                  <a:pt x="697" y="407"/>
                  <a:pt x="725" y="433"/>
                  <a:pt x="725" y="433"/>
                </a:cubicBezTo>
                <a:cubicBezTo>
                  <a:pt x="737" y="468"/>
                  <a:pt x="758" y="497"/>
                  <a:pt x="773" y="530"/>
                </a:cubicBezTo>
                <a:cubicBezTo>
                  <a:pt x="794" y="577"/>
                  <a:pt x="803" y="627"/>
                  <a:pt x="814" y="676"/>
                </a:cubicBezTo>
                <a:cubicBezTo>
                  <a:pt x="823" y="717"/>
                  <a:pt x="829" y="757"/>
                  <a:pt x="838" y="798"/>
                </a:cubicBezTo>
                <a:cubicBezTo>
                  <a:pt x="840" y="809"/>
                  <a:pt x="849" y="840"/>
                  <a:pt x="846" y="830"/>
                </a:cubicBezTo>
                <a:cubicBezTo>
                  <a:pt x="835" y="797"/>
                  <a:pt x="845" y="811"/>
                  <a:pt x="814" y="790"/>
                </a:cubicBezTo>
                <a:cubicBezTo>
                  <a:pt x="779" y="793"/>
                  <a:pt x="742" y="789"/>
                  <a:pt x="708" y="798"/>
                </a:cubicBezTo>
                <a:cubicBezTo>
                  <a:pt x="681" y="805"/>
                  <a:pt x="694" y="855"/>
                  <a:pt x="700" y="887"/>
                </a:cubicBezTo>
                <a:cubicBezTo>
                  <a:pt x="707" y="927"/>
                  <a:pt x="738" y="948"/>
                  <a:pt x="773" y="960"/>
                </a:cubicBezTo>
                <a:cubicBezTo>
                  <a:pt x="783" y="970"/>
                  <a:pt x="802" y="982"/>
                  <a:pt x="798" y="1001"/>
                </a:cubicBezTo>
                <a:cubicBezTo>
                  <a:pt x="796" y="1009"/>
                  <a:pt x="787" y="1012"/>
                  <a:pt x="781" y="1017"/>
                </a:cubicBezTo>
                <a:cubicBezTo>
                  <a:pt x="766" y="1028"/>
                  <a:pt x="751" y="1043"/>
                  <a:pt x="733" y="1049"/>
                </a:cubicBezTo>
                <a:cubicBezTo>
                  <a:pt x="717" y="1054"/>
                  <a:pt x="684" y="1065"/>
                  <a:pt x="684" y="1065"/>
                </a:cubicBezTo>
                <a:cubicBezTo>
                  <a:pt x="644" y="1093"/>
                  <a:pt x="602" y="1098"/>
                  <a:pt x="554" y="1106"/>
                </a:cubicBezTo>
                <a:cubicBezTo>
                  <a:pt x="525" y="1105"/>
                  <a:pt x="263" y="1114"/>
                  <a:pt x="189" y="1065"/>
                </a:cubicBezTo>
                <a:cubicBezTo>
                  <a:pt x="155" y="1042"/>
                  <a:pt x="119" y="1024"/>
                  <a:pt x="84" y="1001"/>
                </a:cubicBezTo>
                <a:cubicBezTo>
                  <a:pt x="78" y="997"/>
                  <a:pt x="75" y="988"/>
                  <a:pt x="68" y="984"/>
                </a:cubicBezTo>
                <a:cubicBezTo>
                  <a:pt x="53" y="976"/>
                  <a:pt x="19" y="968"/>
                  <a:pt x="19" y="968"/>
                </a:cubicBezTo>
                <a:cubicBezTo>
                  <a:pt x="0" y="1024"/>
                  <a:pt x="42" y="1080"/>
                  <a:pt x="76" y="1122"/>
                </a:cubicBezTo>
                <a:cubicBezTo>
                  <a:pt x="165" y="1232"/>
                  <a:pt x="287" y="1318"/>
                  <a:pt x="408" y="1390"/>
                </a:cubicBezTo>
                <a:cubicBezTo>
                  <a:pt x="446" y="1412"/>
                  <a:pt x="472" y="1434"/>
                  <a:pt x="514" y="1447"/>
                </a:cubicBezTo>
                <a:cubicBezTo>
                  <a:pt x="547" y="1469"/>
                  <a:pt x="581" y="1478"/>
                  <a:pt x="619" y="1487"/>
                </a:cubicBezTo>
                <a:cubicBezTo>
                  <a:pt x="660" y="1484"/>
                  <a:pt x="712" y="1500"/>
                  <a:pt x="741" y="1471"/>
                </a:cubicBezTo>
                <a:cubicBezTo>
                  <a:pt x="747" y="1465"/>
                  <a:pt x="744" y="1454"/>
                  <a:pt x="749" y="1447"/>
                </a:cubicBezTo>
                <a:cubicBezTo>
                  <a:pt x="755" y="1439"/>
                  <a:pt x="765" y="1436"/>
                  <a:pt x="773" y="1431"/>
                </a:cubicBezTo>
                <a:cubicBezTo>
                  <a:pt x="784" y="1415"/>
                  <a:pt x="795" y="1398"/>
                  <a:pt x="806" y="1382"/>
                </a:cubicBezTo>
                <a:cubicBezTo>
                  <a:pt x="811" y="1374"/>
                  <a:pt x="822" y="1358"/>
                  <a:pt x="822" y="1358"/>
                </a:cubicBezTo>
                <a:cubicBezTo>
                  <a:pt x="840" y="1302"/>
                  <a:pt x="825" y="1321"/>
                  <a:pt x="855" y="1293"/>
                </a:cubicBezTo>
                <a:cubicBezTo>
                  <a:pt x="858" y="1277"/>
                  <a:pt x="870" y="1217"/>
                  <a:pt x="871" y="1203"/>
                </a:cubicBezTo>
                <a:cubicBezTo>
                  <a:pt x="877" y="1089"/>
                  <a:pt x="804" y="941"/>
                  <a:pt x="919" y="903"/>
                </a:cubicBezTo>
                <a:cubicBezTo>
                  <a:pt x="938" y="885"/>
                  <a:pt x="950" y="865"/>
                  <a:pt x="968" y="846"/>
                </a:cubicBezTo>
                <a:cubicBezTo>
                  <a:pt x="974" y="827"/>
                  <a:pt x="1017" y="718"/>
                  <a:pt x="1017" y="700"/>
                </a:cubicBezTo>
                <a:cubicBezTo>
                  <a:pt x="1017" y="676"/>
                  <a:pt x="1017" y="651"/>
                  <a:pt x="1017" y="627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2209680" y="914400"/>
            <a:ext cx="4114800" cy="5638680"/>
            <a:chOff x="2209680" y="914400"/>
            <a:chExt cx="4114800" cy="5638680"/>
          </a:xfrm>
        </p:grpSpPr>
        <p:sp>
          <p:nvSpPr>
            <p:cNvPr id="201" name="Oval 3"/>
            <p:cNvSpPr/>
            <p:nvPr/>
          </p:nvSpPr>
          <p:spPr>
            <a:xfrm>
              <a:off x="2209680" y="914400"/>
              <a:ext cx="4114800" cy="56386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4"/>
            <p:cNvGrpSpPr/>
            <p:nvPr/>
          </p:nvGrpSpPr>
          <p:grpSpPr>
            <a:xfrm>
              <a:off x="2514600" y="2362320"/>
              <a:ext cx="3398400" cy="3500280"/>
              <a:chOff x="2514600" y="2362320"/>
              <a:chExt cx="3398400" cy="3500280"/>
            </a:xfrm>
          </p:grpSpPr>
          <p:sp>
            <p:nvSpPr>
              <p:cNvPr id="203" name="Freeform 5"/>
              <p:cNvSpPr/>
              <p:nvPr/>
            </p:nvSpPr>
            <p:spPr>
              <a:xfrm>
                <a:off x="3962520" y="3124080"/>
                <a:ext cx="610920" cy="184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847880"/>
                  <a:gd name="textAreaBottom" fmla="*/ 1848240 h 1847880"/>
                </a:gdLst>
                <a:ahLst/>
                <a:rect l="textAreaLeft" t="textAreaTop" r="textAreaRight" b="textAreaBottom"/>
                <a:pathLst>
                  <a:path w="385" h="1164">
                    <a:moveTo>
                      <a:pt x="199" y="0"/>
                    </a:moveTo>
                    <a:cubicBezTo>
                      <a:pt x="211" y="35"/>
                      <a:pt x="222" y="69"/>
                      <a:pt x="231" y="105"/>
                    </a:cubicBezTo>
                    <a:cubicBezTo>
                      <a:pt x="224" y="236"/>
                      <a:pt x="213" y="430"/>
                      <a:pt x="166" y="560"/>
                    </a:cubicBezTo>
                    <a:cubicBezTo>
                      <a:pt x="144" y="693"/>
                      <a:pt x="104" y="821"/>
                      <a:pt x="61" y="949"/>
                    </a:cubicBezTo>
                    <a:cubicBezTo>
                      <a:pt x="58" y="958"/>
                      <a:pt x="49" y="965"/>
                      <a:pt x="45" y="974"/>
                    </a:cubicBezTo>
                    <a:cubicBezTo>
                      <a:pt x="26" y="1014"/>
                      <a:pt x="15" y="1060"/>
                      <a:pt x="4" y="1103"/>
                    </a:cubicBezTo>
                    <a:cubicBezTo>
                      <a:pt x="24" y="1164"/>
                      <a:pt x="0" y="1118"/>
                      <a:pt x="118" y="1136"/>
                    </a:cubicBezTo>
                    <a:cubicBezTo>
                      <a:pt x="135" y="1139"/>
                      <a:pt x="150" y="1147"/>
                      <a:pt x="166" y="1152"/>
                    </a:cubicBezTo>
                    <a:cubicBezTo>
                      <a:pt x="174" y="1155"/>
                      <a:pt x="191" y="1160"/>
                      <a:pt x="191" y="1160"/>
                    </a:cubicBezTo>
                    <a:cubicBezTo>
                      <a:pt x="268" y="1154"/>
                      <a:pt x="332" y="1160"/>
                      <a:pt x="385" y="1103"/>
                    </a:cubicBezTo>
                    <a:cubicBezTo>
                      <a:pt x="376" y="1060"/>
                      <a:pt x="377" y="1077"/>
                      <a:pt x="377" y="105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Group 6"/>
              <p:cNvGrpSpPr/>
              <p:nvPr/>
            </p:nvGrpSpPr>
            <p:grpSpPr>
              <a:xfrm>
                <a:off x="2743200" y="3200400"/>
                <a:ext cx="3124080" cy="533160"/>
                <a:chOff x="2743200" y="3200400"/>
                <a:chExt cx="3124080" cy="533160"/>
              </a:xfrm>
            </p:grpSpPr>
            <p:sp>
              <p:nvSpPr>
                <p:cNvPr id="205" name="Oval 7"/>
                <p:cNvSpPr/>
                <p:nvPr/>
              </p:nvSpPr>
              <p:spPr>
                <a:xfrm>
                  <a:off x="2743200" y="320040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8"/>
                <p:cNvSpPr/>
                <p:nvPr/>
              </p:nvSpPr>
              <p:spPr>
                <a:xfrm>
                  <a:off x="4724280" y="327636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9"/>
                <p:cNvSpPr/>
                <p:nvPr/>
              </p:nvSpPr>
              <p:spPr>
                <a:xfrm>
                  <a:off x="3048120" y="320040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10"/>
                <p:cNvSpPr/>
                <p:nvPr/>
              </p:nvSpPr>
              <p:spPr>
                <a:xfrm>
                  <a:off x="5105520" y="327636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11"/>
                <p:cNvSpPr/>
                <p:nvPr/>
              </p:nvSpPr>
              <p:spPr>
                <a:xfrm>
                  <a:off x="3200400" y="33526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12"/>
                <p:cNvSpPr/>
                <p:nvPr/>
              </p:nvSpPr>
              <p:spPr>
                <a:xfrm>
                  <a:off x="5257800" y="3429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13"/>
              <p:cNvGrpSpPr/>
              <p:nvPr/>
            </p:nvGrpSpPr>
            <p:grpSpPr>
              <a:xfrm>
                <a:off x="2666880" y="2362320"/>
                <a:ext cx="3206880" cy="434880"/>
                <a:chOff x="2666880" y="2362320"/>
                <a:chExt cx="3206880" cy="434880"/>
              </a:xfrm>
            </p:grpSpPr>
            <p:sp>
              <p:nvSpPr>
                <p:cNvPr id="212" name="Freeform 14"/>
                <p:cNvSpPr/>
                <p:nvPr/>
              </p:nvSpPr>
              <p:spPr>
                <a:xfrm>
                  <a:off x="2666880" y="236232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5"/>
                <p:cNvSpPr/>
                <p:nvPr/>
              </p:nvSpPr>
              <p:spPr>
                <a:xfrm>
                  <a:off x="4649760" y="240984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6"/>
              <p:cNvGrpSpPr/>
              <p:nvPr/>
            </p:nvGrpSpPr>
            <p:grpSpPr>
              <a:xfrm>
                <a:off x="2514600" y="2971800"/>
                <a:ext cx="3398400" cy="525600"/>
                <a:chOff x="2514600" y="2971800"/>
                <a:chExt cx="3398400" cy="525600"/>
              </a:xfrm>
            </p:grpSpPr>
            <p:sp>
              <p:nvSpPr>
                <p:cNvPr id="215" name="Freeform 17"/>
                <p:cNvSpPr/>
                <p:nvPr/>
              </p:nvSpPr>
              <p:spPr>
                <a:xfrm>
                  <a:off x="2514600" y="2971800"/>
                  <a:ext cx="1385640" cy="45864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8"/>
                <p:cNvSpPr/>
                <p:nvPr/>
              </p:nvSpPr>
              <p:spPr>
                <a:xfrm>
                  <a:off x="4527360" y="3038400"/>
                  <a:ext cx="1385640" cy="45900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Freeform 19"/>
              <p:cNvSpPr/>
              <p:nvPr/>
            </p:nvSpPr>
            <p:spPr>
              <a:xfrm>
                <a:off x="3581280" y="5334120"/>
                <a:ext cx="1349640" cy="528480"/>
              </a:xfrm>
              <a:custGeom>
                <a:avLst/>
                <a:gdLst>
                  <a:gd name="textAreaLeft" fmla="*/ 0 w 1349640"/>
                  <a:gd name="textAreaRight" fmla="*/ 1350000 w 134964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850" h="333">
                    <a:moveTo>
                      <a:pt x="0" y="89"/>
                    </a:moveTo>
                    <a:cubicBezTo>
                      <a:pt x="48" y="107"/>
                      <a:pt x="55" y="105"/>
                      <a:pt x="114" y="98"/>
                    </a:cubicBezTo>
                    <a:cubicBezTo>
                      <a:pt x="141" y="88"/>
                      <a:pt x="155" y="71"/>
                      <a:pt x="179" y="57"/>
                    </a:cubicBezTo>
                    <a:cubicBezTo>
                      <a:pt x="186" y="53"/>
                      <a:pt x="195" y="53"/>
                      <a:pt x="203" y="49"/>
                    </a:cubicBezTo>
                    <a:cubicBezTo>
                      <a:pt x="226" y="37"/>
                      <a:pt x="242" y="17"/>
                      <a:pt x="260" y="0"/>
                    </a:cubicBezTo>
                    <a:cubicBezTo>
                      <a:pt x="267" y="1"/>
                      <a:pt x="325" y="6"/>
                      <a:pt x="341" y="16"/>
                    </a:cubicBezTo>
                    <a:cubicBezTo>
                      <a:pt x="348" y="20"/>
                      <a:pt x="350" y="29"/>
                      <a:pt x="357" y="33"/>
                    </a:cubicBezTo>
                    <a:cubicBezTo>
                      <a:pt x="372" y="41"/>
                      <a:pt x="406" y="49"/>
                      <a:pt x="406" y="49"/>
                    </a:cubicBezTo>
                    <a:cubicBezTo>
                      <a:pt x="422" y="44"/>
                      <a:pt x="442" y="45"/>
                      <a:pt x="454" y="33"/>
                    </a:cubicBezTo>
                    <a:cubicBezTo>
                      <a:pt x="460" y="27"/>
                      <a:pt x="464" y="20"/>
                      <a:pt x="471" y="16"/>
                    </a:cubicBezTo>
                    <a:cubicBezTo>
                      <a:pt x="486" y="8"/>
                      <a:pt x="519" y="0"/>
                      <a:pt x="519" y="0"/>
                    </a:cubicBezTo>
                    <a:cubicBezTo>
                      <a:pt x="528" y="1"/>
                      <a:pt x="577" y="7"/>
                      <a:pt x="592" y="16"/>
                    </a:cubicBezTo>
                    <a:cubicBezTo>
                      <a:pt x="623" y="35"/>
                      <a:pt x="646" y="61"/>
                      <a:pt x="682" y="73"/>
                    </a:cubicBezTo>
                    <a:cubicBezTo>
                      <a:pt x="709" y="91"/>
                      <a:pt x="700" y="88"/>
                      <a:pt x="730" y="98"/>
                    </a:cubicBezTo>
                    <a:cubicBezTo>
                      <a:pt x="746" y="104"/>
                      <a:pt x="779" y="114"/>
                      <a:pt x="779" y="114"/>
                    </a:cubicBezTo>
                    <a:cubicBezTo>
                      <a:pt x="844" y="105"/>
                      <a:pt x="850" y="93"/>
                      <a:pt x="819" y="122"/>
                    </a:cubicBezTo>
                    <a:cubicBezTo>
                      <a:pt x="802" y="174"/>
                      <a:pt x="763" y="202"/>
                      <a:pt x="722" y="235"/>
                    </a:cubicBezTo>
                    <a:cubicBezTo>
                      <a:pt x="697" y="256"/>
                      <a:pt x="671" y="286"/>
                      <a:pt x="641" y="300"/>
                    </a:cubicBezTo>
                    <a:cubicBezTo>
                      <a:pt x="607" y="315"/>
                      <a:pt x="571" y="321"/>
                      <a:pt x="536" y="333"/>
                    </a:cubicBezTo>
                    <a:cubicBezTo>
                      <a:pt x="471" y="330"/>
                      <a:pt x="406" y="330"/>
                      <a:pt x="341" y="325"/>
                    </a:cubicBezTo>
                    <a:cubicBezTo>
                      <a:pt x="313" y="323"/>
                      <a:pt x="292" y="303"/>
                      <a:pt x="268" y="292"/>
                    </a:cubicBezTo>
                    <a:cubicBezTo>
                      <a:pt x="245" y="282"/>
                      <a:pt x="217" y="282"/>
                      <a:pt x="195" y="268"/>
                    </a:cubicBezTo>
                    <a:cubicBezTo>
                      <a:pt x="170" y="252"/>
                      <a:pt x="158" y="236"/>
                      <a:pt x="130" y="227"/>
                    </a:cubicBezTo>
                    <a:cubicBezTo>
                      <a:pt x="125" y="219"/>
                      <a:pt x="120" y="210"/>
                      <a:pt x="114" y="203"/>
                    </a:cubicBezTo>
                    <a:cubicBezTo>
                      <a:pt x="109" y="197"/>
                      <a:pt x="102" y="193"/>
                      <a:pt x="97" y="187"/>
                    </a:cubicBezTo>
                    <a:cubicBezTo>
                      <a:pt x="48" y="122"/>
                      <a:pt x="87" y="153"/>
                      <a:pt x="41" y="122"/>
                    </a:cubicBezTo>
                    <a:cubicBezTo>
                      <a:pt x="29" y="87"/>
                      <a:pt x="41" y="100"/>
                      <a:pt x="0" y="89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Freeform 20"/>
          <p:cNvSpPr/>
          <p:nvPr/>
        </p:nvSpPr>
        <p:spPr>
          <a:xfrm>
            <a:off x="1928880" y="2998800"/>
            <a:ext cx="338040" cy="968400"/>
          </a:xfrm>
          <a:custGeom>
            <a:avLst/>
            <a:gdLst>
              <a:gd name="textAreaLeft" fmla="*/ 0 w 338040"/>
              <a:gd name="textAreaRight" fmla="*/ 338400 w 3380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213" h="610">
                <a:moveTo>
                  <a:pt x="213" y="17"/>
                </a:moveTo>
                <a:cubicBezTo>
                  <a:pt x="197" y="12"/>
                  <a:pt x="162" y="0"/>
                  <a:pt x="148" y="1"/>
                </a:cubicBezTo>
                <a:cubicBezTo>
                  <a:pt x="131" y="3"/>
                  <a:pt x="99" y="17"/>
                  <a:pt x="99" y="17"/>
                </a:cubicBezTo>
                <a:cubicBezTo>
                  <a:pt x="84" y="65"/>
                  <a:pt x="103" y="22"/>
                  <a:pt x="67" y="58"/>
                </a:cubicBezTo>
                <a:cubicBezTo>
                  <a:pt x="51" y="74"/>
                  <a:pt x="35" y="111"/>
                  <a:pt x="26" y="131"/>
                </a:cubicBezTo>
                <a:cubicBezTo>
                  <a:pt x="19" y="147"/>
                  <a:pt x="10" y="180"/>
                  <a:pt x="10" y="180"/>
                </a:cubicBezTo>
                <a:cubicBezTo>
                  <a:pt x="13" y="262"/>
                  <a:pt x="0" y="449"/>
                  <a:pt x="75" y="529"/>
                </a:cubicBezTo>
                <a:cubicBezTo>
                  <a:pt x="92" y="580"/>
                  <a:pt x="144" y="588"/>
                  <a:pt x="188" y="61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22"/>
          <p:cNvSpPr/>
          <p:nvPr/>
        </p:nvSpPr>
        <p:spPr>
          <a:xfrm>
            <a:off x="6272280" y="3046320"/>
            <a:ext cx="392040" cy="1112760"/>
          </a:xfrm>
          <a:custGeom>
            <a:avLst/>
            <a:gdLst>
              <a:gd name="textAreaLeft" fmla="*/ 0 w 392040"/>
              <a:gd name="textAreaRight" fmla="*/ 392400 w 39204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247" h="701">
                <a:moveTo>
                  <a:pt x="0" y="77"/>
                </a:moveTo>
                <a:cubicBezTo>
                  <a:pt x="16" y="61"/>
                  <a:pt x="28" y="30"/>
                  <a:pt x="49" y="20"/>
                </a:cubicBezTo>
                <a:cubicBezTo>
                  <a:pt x="64" y="13"/>
                  <a:pt x="97" y="4"/>
                  <a:pt x="97" y="4"/>
                </a:cubicBezTo>
                <a:cubicBezTo>
                  <a:pt x="153" y="10"/>
                  <a:pt x="182" y="0"/>
                  <a:pt x="211" y="44"/>
                </a:cubicBezTo>
                <a:cubicBezTo>
                  <a:pt x="237" y="124"/>
                  <a:pt x="226" y="76"/>
                  <a:pt x="235" y="190"/>
                </a:cubicBezTo>
                <a:cubicBezTo>
                  <a:pt x="232" y="265"/>
                  <a:pt x="247" y="430"/>
                  <a:pt x="178" y="499"/>
                </a:cubicBezTo>
                <a:cubicBezTo>
                  <a:pt x="175" y="507"/>
                  <a:pt x="175" y="516"/>
                  <a:pt x="170" y="523"/>
                </a:cubicBezTo>
                <a:cubicBezTo>
                  <a:pt x="164" y="531"/>
                  <a:pt x="151" y="531"/>
                  <a:pt x="146" y="539"/>
                </a:cubicBezTo>
                <a:cubicBezTo>
                  <a:pt x="137" y="554"/>
                  <a:pt x="135" y="572"/>
                  <a:pt x="130" y="588"/>
                </a:cubicBezTo>
                <a:cubicBezTo>
                  <a:pt x="128" y="595"/>
                  <a:pt x="88" y="637"/>
                  <a:pt x="81" y="645"/>
                </a:cubicBezTo>
                <a:cubicBezTo>
                  <a:pt x="72" y="671"/>
                  <a:pt x="66" y="689"/>
                  <a:pt x="40" y="701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23"/>
          <p:cNvSpPr/>
          <p:nvPr/>
        </p:nvSpPr>
        <p:spPr>
          <a:xfrm>
            <a:off x="2077920" y="270000"/>
            <a:ext cx="4297320" cy="332892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3328920"/>
              <a:gd name="textAreaBottom" fmla="*/ 3329280 h 3328920"/>
            </a:gdLst>
            <a:ahLst/>
            <a:rect l="textAreaLeft" t="textAreaTop" r="textAreaRight" b="textAreaBottom"/>
            <a:pathLst>
              <a:path w="2707" h="2097">
                <a:moveTo>
                  <a:pt x="1173" y="276"/>
                </a:moveTo>
                <a:cubicBezTo>
                  <a:pt x="1205" y="246"/>
                  <a:pt x="1214" y="199"/>
                  <a:pt x="1238" y="163"/>
                </a:cubicBezTo>
                <a:cubicBezTo>
                  <a:pt x="1253" y="117"/>
                  <a:pt x="1280" y="75"/>
                  <a:pt x="1320" y="49"/>
                </a:cubicBezTo>
                <a:cubicBezTo>
                  <a:pt x="1331" y="33"/>
                  <a:pt x="1348" y="0"/>
                  <a:pt x="1360" y="17"/>
                </a:cubicBezTo>
                <a:cubicBezTo>
                  <a:pt x="1366" y="26"/>
                  <a:pt x="1354" y="38"/>
                  <a:pt x="1352" y="49"/>
                </a:cubicBezTo>
                <a:cubicBezTo>
                  <a:pt x="1332" y="141"/>
                  <a:pt x="1355" y="45"/>
                  <a:pt x="1336" y="122"/>
                </a:cubicBezTo>
                <a:cubicBezTo>
                  <a:pt x="1339" y="149"/>
                  <a:pt x="1323" y="185"/>
                  <a:pt x="1344" y="203"/>
                </a:cubicBezTo>
                <a:cubicBezTo>
                  <a:pt x="1359" y="216"/>
                  <a:pt x="1377" y="182"/>
                  <a:pt x="1393" y="171"/>
                </a:cubicBezTo>
                <a:cubicBezTo>
                  <a:pt x="1425" y="150"/>
                  <a:pt x="1453" y="126"/>
                  <a:pt x="1490" y="114"/>
                </a:cubicBezTo>
                <a:cubicBezTo>
                  <a:pt x="1480" y="143"/>
                  <a:pt x="1458" y="177"/>
                  <a:pt x="1441" y="203"/>
                </a:cubicBezTo>
                <a:cubicBezTo>
                  <a:pt x="1444" y="217"/>
                  <a:pt x="1439" y="234"/>
                  <a:pt x="1449" y="244"/>
                </a:cubicBezTo>
                <a:cubicBezTo>
                  <a:pt x="1455" y="250"/>
                  <a:pt x="1466" y="238"/>
                  <a:pt x="1474" y="236"/>
                </a:cubicBezTo>
                <a:cubicBezTo>
                  <a:pt x="1487" y="233"/>
                  <a:pt x="1501" y="231"/>
                  <a:pt x="1514" y="228"/>
                </a:cubicBezTo>
                <a:cubicBezTo>
                  <a:pt x="1640" y="238"/>
                  <a:pt x="1585" y="225"/>
                  <a:pt x="1668" y="252"/>
                </a:cubicBezTo>
                <a:cubicBezTo>
                  <a:pt x="1764" y="284"/>
                  <a:pt x="1624" y="237"/>
                  <a:pt x="1717" y="268"/>
                </a:cubicBezTo>
                <a:cubicBezTo>
                  <a:pt x="1725" y="271"/>
                  <a:pt x="1741" y="276"/>
                  <a:pt x="1741" y="276"/>
                </a:cubicBezTo>
                <a:cubicBezTo>
                  <a:pt x="1772" y="305"/>
                  <a:pt x="1818" y="314"/>
                  <a:pt x="1855" y="333"/>
                </a:cubicBezTo>
                <a:cubicBezTo>
                  <a:pt x="1929" y="370"/>
                  <a:pt x="1837" y="329"/>
                  <a:pt x="1896" y="365"/>
                </a:cubicBezTo>
                <a:cubicBezTo>
                  <a:pt x="1908" y="372"/>
                  <a:pt x="1932" y="376"/>
                  <a:pt x="1944" y="382"/>
                </a:cubicBezTo>
                <a:cubicBezTo>
                  <a:pt x="1969" y="394"/>
                  <a:pt x="1994" y="407"/>
                  <a:pt x="2017" y="422"/>
                </a:cubicBezTo>
                <a:cubicBezTo>
                  <a:pt x="2022" y="430"/>
                  <a:pt x="2025" y="441"/>
                  <a:pt x="2033" y="447"/>
                </a:cubicBezTo>
                <a:cubicBezTo>
                  <a:pt x="2040" y="452"/>
                  <a:pt x="2050" y="451"/>
                  <a:pt x="2058" y="455"/>
                </a:cubicBezTo>
                <a:cubicBezTo>
                  <a:pt x="2091" y="473"/>
                  <a:pt x="2112" y="499"/>
                  <a:pt x="2147" y="511"/>
                </a:cubicBezTo>
                <a:cubicBezTo>
                  <a:pt x="2185" y="549"/>
                  <a:pt x="2207" y="578"/>
                  <a:pt x="2252" y="609"/>
                </a:cubicBezTo>
                <a:cubicBezTo>
                  <a:pt x="2274" y="624"/>
                  <a:pt x="2317" y="657"/>
                  <a:pt x="2317" y="657"/>
                </a:cubicBezTo>
                <a:cubicBezTo>
                  <a:pt x="2327" y="689"/>
                  <a:pt x="2351" y="715"/>
                  <a:pt x="2374" y="739"/>
                </a:cubicBezTo>
                <a:cubicBezTo>
                  <a:pt x="2383" y="767"/>
                  <a:pt x="2394" y="783"/>
                  <a:pt x="2415" y="804"/>
                </a:cubicBezTo>
                <a:cubicBezTo>
                  <a:pt x="2435" y="863"/>
                  <a:pt x="2419" y="840"/>
                  <a:pt x="2455" y="877"/>
                </a:cubicBezTo>
                <a:cubicBezTo>
                  <a:pt x="2468" y="916"/>
                  <a:pt x="2480" y="937"/>
                  <a:pt x="2504" y="974"/>
                </a:cubicBezTo>
                <a:cubicBezTo>
                  <a:pt x="2523" y="1003"/>
                  <a:pt x="2528" y="1041"/>
                  <a:pt x="2545" y="1071"/>
                </a:cubicBezTo>
                <a:cubicBezTo>
                  <a:pt x="2555" y="1088"/>
                  <a:pt x="2571" y="1101"/>
                  <a:pt x="2577" y="1120"/>
                </a:cubicBezTo>
                <a:cubicBezTo>
                  <a:pt x="2587" y="1151"/>
                  <a:pt x="2602" y="1187"/>
                  <a:pt x="2626" y="1209"/>
                </a:cubicBezTo>
                <a:cubicBezTo>
                  <a:pt x="2645" y="1267"/>
                  <a:pt x="2632" y="1244"/>
                  <a:pt x="2658" y="1282"/>
                </a:cubicBezTo>
                <a:cubicBezTo>
                  <a:pt x="2680" y="1349"/>
                  <a:pt x="2697" y="1406"/>
                  <a:pt x="2707" y="1477"/>
                </a:cubicBezTo>
                <a:cubicBezTo>
                  <a:pt x="2703" y="1560"/>
                  <a:pt x="2704" y="1651"/>
                  <a:pt x="2691" y="1736"/>
                </a:cubicBezTo>
                <a:cubicBezTo>
                  <a:pt x="2686" y="1771"/>
                  <a:pt x="2677" y="1792"/>
                  <a:pt x="2666" y="1826"/>
                </a:cubicBezTo>
                <a:cubicBezTo>
                  <a:pt x="2660" y="1844"/>
                  <a:pt x="2634" y="1874"/>
                  <a:pt x="2634" y="1874"/>
                </a:cubicBezTo>
                <a:cubicBezTo>
                  <a:pt x="2617" y="1927"/>
                  <a:pt x="2607" y="1996"/>
                  <a:pt x="2569" y="2037"/>
                </a:cubicBezTo>
                <a:cubicBezTo>
                  <a:pt x="2564" y="2053"/>
                  <a:pt x="2565" y="2097"/>
                  <a:pt x="2553" y="2085"/>
                </a:cubicBezTo>
                <a:cubicBezTo>
                  <a:pt x="2522" y="2056"/>
                  <a:pt x="2540" y="2076"/>
                  <a:pt x="2504" y="2020"/>
                </a:cubicBezTo>
                <a:cubicBezTo>
                  <a:pt x="2495" y="2006"/>
                  <a:pt x="2488" y="1972"/>
                  <a:pt x="2488" y="1972"/>
                </a:cubicBezTo>
                <a:cubicBezTo>
                  <a:pt x="2501" y="1919"/>
                  <a:pt x="2519" y="1871"/>
                  <a:pt x="2528" y="1818"/>
                </a:cubicBezTo>
                <a:cubicBezTo>
                  <a:pt x="2525" y="1745"/>
                  <a:pt x="2527" y="1672"/>
                  <a:pt x="2520" y="1599"/>
                </a:cubicBezTo>
                <a:cubicBezTo>
                  <a:pt x="2514" y="1534"/>
                  <a:pt x="2434" y="1408"/>
                  <a:pt x="2398" y="1355"/>
                </a:cubicBezTo>
                <a:cubicBezTo>
                  <a:pt x="2382" y="1306"/>
                  <a:pt x="2348" y="1257"/>
                  <a:pt x="2317" y="1217"/>
                </a:cubicBezTo>
                <a:cubicBezTo>
                  <a:pt x="2281" y="1170"/>
                  <a:pt x="2254" y="1114"/>
                  <a:pt x="2212" y="1071"/>
                </a:cubicBezTo>
                <a:cubicBezTo>
                  <a:pt x="2190" y="1048"/>
                  <a:pt x="2173" y="1043"/>
                  <a:pt x="2155" y="1014"/>
                </a:cubicBezTo>
                <a:cubicBezTo>
                  <a:pt x="2152" y="1022"/>
                  <a:pt x="2146" y="1030"/>
                  <a:pt x="2147" y="1039"/>
                </a:cubicBezTo>
                <a:cubicBezTo>
                  <a:pt x="2149" y="1056"/>
                  <a:pt x="2163" y="1087"/>
                  <a:pt x="2163" y="1087"/>
                </a:cubicBezTo>
                <a:cubicBezTo>
                  <a:pt x="2160" y="1120"/>
                  <a:pt x="2159" y="1153"/>
                  <a:pt x="2155" y="1185"/>
                </a:cubicBezTo>
                <a:cubicBezTo>
                  <a:pt x="2154" y="1193"/>
                  <a:pt x="2155" y="1207"/>
                  <a:pt x="2147" y="1209"/>
                </a:cubicBezTo>
                <a:cubicBezTo>
                  <a:pt x="2138" y="1211"/>
                  <a:pt x="2131" y="1198"/>
                  <a:pt x="2123" y="1193"/>
                </a:cubicBezTo>
                <a:cubicBezTo>
                  <a:pt x="2101" y="1127"/>
                  <a:pt x="2038" y="1021"/>
                  <a:pt x="1969" y="998"/>
                </a:cubicBezTo>
                <a:cubicBezTo>
                  <a:pt x="1962" y="1095"/>
                  <a:pt x="1959" y="1182"/>
                  <a:pt x="1912" y="1266"/>
                </a:cubicBezTo>
                <a:cubicBezTo>
                  <a:pt x="1898" y="1292"/>
                  <a:pt x="1884" y="1318"/>
                  <a:pt x="1863" y="1339"/>
                </a:cubicBezTo>
                <a:cubicBezTo>
                  <a:pt x="1849" y="1353"/>
                  <a:pt x="1822" y="1380"/>
                  <a:pt x="1822" y="1380"/>
                </a:cubicBezTo>
                <a:cubicBezTo>
                  <a:pt x="1785" y="1341"/>
                  <a:pt x="1814" y="1380"/>
                  <a:pt x="1814" y="1282"/>
                </a:cubicBezTo>
                <a:cubicBezTo>
                  <a:pt x="1814" y="1199"/>
                  <a:pt x="1821" y="1110"/>
                  <a:pt x="1774" y="1039"/>
                </a:cubicBezTo>
                <a:cubicBezTo>
                  <a:pt x="1756" y="983"/>
                  <a:pt x="1771" y="1002"/>
                  <a:pt x="1741" y="974"/>
                </a:cubicBezTo>
                <a:cubicBezTo>
                  <a:pt x="1736" y="958"/>
                  <a:pt x="1734" y="911"/>
                  <a:pt x="1725" y="925"/>
                </a:cubicBezTo>
                <a:cubicBezTo>
                  <a:pt x="1703" y="960"/>
                  <a:pt x="1699" y="997"/>
                  <a:pt x="1676" y="1031"/>
                </a:cubicBezTo>
                <a:cubicBezTo>
                  <a:pt x="1661" y="1076"/>
                  <a:pt x="1630" y="1114"/>
                  <a:pt x="1603" y="1152"/>
                </a:cubicBezTo>
                <a:cubicBezTo>
                  <a:pt x="1592" y="1168"/>
                  <a:pt x="1571" y="1201"/>
                  <a:pt x="1571" y="1201"/>
                </a:cubicBezTo>
                <a:cubicBezTo>
                  <a:pt x="1566" y="1127"/>
                  <a:pt x="1567" y="1081"/>
                  <a:pt x="1555" y="1014"/>
                </a:cubicBezTo>
                <a:cubicBezTo>
                  <a:pt x="1550" y="985"/>
                  <a:pt x="1540" y="961"/>
                  <a:pt x="1530" y="933"/>
                </a:cubicBezTo>
                <a:cubicBezTo>
                  <a:pt x="1527" y="925"/>
                  <a:pt x="1522" y="909"/>
                  <a:pt x="1522" y="909"/>
                </a:cubicBezTo>
                <a:cubicBezTo>
                  <a:pt x="1514" y="914"/>
                  <a:pt x="1503" y="917"/>
                  <a:pt x="1498" y="925"/>
                </a:cubicBezTo>
                <a:cubicBezTo>
                  <a:pt x="1485" y="947"/>
                  <a:pt x="1493" y="980"/>
                  <a:pt x="1474" y="998"/>
                </a:cubicBezTo>
                <a:cubicBezTo>
                  <a:pt x="1449" y="1022"/>
                  <a:pt x="1434" y="1052"/>
                  <a:pt x="1401" y="1063"/>
                </a:cubicBezTo>
                <a:cubicBezTo>
                  <a:pt x="1406" y="1052"/>
                  <a:pt x="1413" y="1042"/>
                  <a:pt x="1417" y="1031"/>
                </a:cubicBezTo>
                <a:cubicBezTo>
                  <a:pt x="1424" y="1010"/>
                  <a:pt x="1433" y="966"/>
                  <a:pt x="1433" y="966"/>
                </a:cubicBezTo>
                <a:cubicBezTo>
                  <a:pt x="1428" y="910"/>
                  <a:pt x="1439" y="794"/>
                  <a:pt x="1368" y="771"/>
                </a:cubicBezTo>
                <a:cubicBezTo>
                  <a:pt x="1357" y="803"/>
                  <a:pt x="1347" y="836"/>
                  <a:pt x="1336" y="868"/>
                </a:cubicBezTo>
                <a:cubicBezTo>
                  <a:pt x="1330" y="887"/>
                  <a:pt x="1303" y="917"/>
                  <a:pt x="1303" y="917"/>
                </a:cubicBezTo>
                <a:cubicBezTo>
                  <a:pt x="1293" y="946"/>
                  <a:pt x="1279" y="967"/>
                  <a:pt x="1271" y="998"/>
                </a:cubicBezTo>
                <a:cubicBezTo>
                  <a:pt x="1274" y="1052"/>
                  <a:pt x="1279" y="1106"/>
                  <a:pt x="1279" y="1160"/>
                </a:cubicBezTo>
                <a:cubicBezTo>
                  <a:pt x="1279" y="1171"/>
                  <a:pt x="1282" y="1190"/>
                  <a:pt x="1271" y="1193"/>
                </a:cubicBezTo>
                <a:cubicBezTo>
                  <a:pt x="1260" y="1196"/>
                  <a:pt x="1254" y="1177"/>
                  <a:pt x="1246" y="1169"/>
                </a:cubicBezTo>
                <a:cubicBezTo>
                  <a:pt x="1225" y="1148"/>
                  <a:pt x="1205" y="1122"/>
                  <a:pt x="1190" y="1096"/>
                </a:cubicBezTo>
                <a:cubicBezTo>
                  <a:pt x="1178" y="1075"/>
                  <a:pt x="1157" y="1031"/>
                  <a:pt x="1157" y="1031"/>
                </a:cubicBezTo>
                <a:cubicBezTo>
                  <a:pt x="1147" y="990"/>
                  <a:pt x="1138" y="949"/>
                  <a:pt x="1125" y="909"/>
                </a:cubicBezTo>
                <a:cubicBezTo>
                  <a:pt x="1098" y="918"/>
                  <a:pt x="1097" y="912"/>
                  <a:pt x="1084" y="941"/>
                </a:cubicBezTo>
                <a:cubicBezTo>
                  <a:pt x="1077" y="957"/>
                  <a:pt x="1068" y="990"/>
                  <a:pt x="1068" y="990"/>
                </a:cubicBezTo>
                <a:cubicBezTo>
                  <a:pt x="1068" y="991"/>
                  <a:pt x="1086" y="1196"/>
                  <a:pt x="1068" y="1233"/>
                </a:cubicBezTo>
                <a:cubicBezTo>
                  <a:pt x="1065" y="1240"/>
                  <a:pt x="1040" y="1222"/>
                  <a:pt x="1019" y="1209"/>
                </a:cubicBezTo>
                <a:cubicBezTo>
                  <a:pt x="951" y="1105"/>
                  <a:pt x="943" y="1051"/>
                  <a:pt x="914" y="933"/>
                </a:cubicBezTo>
                <a:cubicBezTo>
                  <a:pt x="867" y="1002"/>
                  <a:pt x="890" y="957"/>
                  <a:pt x="873" y="1014"/>
                </a:cubicBezTo>
                <a:cubicBezTo>
                  <a:pt x="868" y="1030"/>
                  <a:pt x="857" y="1063"/>
                  <a:pt x="857" y="1063"/>
                </a:cubicBezTo>
                <a:cubicBezTo>
                  <a:pt x="860" y="1095"/>
                  <a:pt x="865" y="1128"/>
                  <a:pt x="865" y="1160"/>
                </a:cubicBezTo>
                <a:cubicBezTo>
                  <a:pt x="865" y="1169"/>
                  <a:pt x="865" y="1190"/>
                  <a:pt x="857" y="1185"/>
                </a:cubicBezTo>
                <a:cubicBezTo>
                  <a:pt x="840" y="1175"/>
                  <a:pt x="836" y="1152"/>
                  <a:pt x="825" y="1136"/>
                </a:cubicBezTo>
                <a:cubicBezTo>
                  <a:pt x="793" y="1088"/>
                  <a:pt x="774" y="1039"/>
                  <a:pt x="760" y="982"/>
                </a:cubicBezTo>
                <a:cubicBezTo>
                  <a:pt x="710" y="998"/>
                  <a:pt x="706" y="1050"/>
                  <a:pt x="695" y="1096"/>
                </a:cubicBezTo>
                <a:cubicBezTo>
                  <a:pt x="704" y="1131"/>
                  <a:pt x="708" y="1167"/>
                  <a:pt x="719" y="1201"/>
                </a:cubicBezTo>
                <a:cubicBezTo>
                  <a:pt x="716" y="1209"/>
                  <a:pt x="719" y="1221"/>
                  <a:pt x="711" y="1225"/>
                </a:cubicBezTo>
                <a:cubicBezTo>
                  <a:pt x="703" y="1229"/>
                  <a:pt x="694" y="1221"/>
                  <a:pt x="687" y="1217"/>
                </a:cubicBezTo>
                <a:cubicBezTo>
                  <a:pt x="670" y="1208"/>
                  <a:pt x="654" y="1196"/>
                  <a:pt x="638" y="1185"/>
                </a:cubicBezTo>
                <a:cubicBezTo>
                  <a:pt x="622" y="1174"/>
                  <a:pt x="597" y="1144"/>
                  <a:pt x="597" y="1144"/>
                </a:cubicBezTo>
                <a:cubicBezTo>
                  <a:pt x="579" y="1089"/>
                  <a:pt x="593" y="1108"/>
                  <a:pt x="565" y="1079"/>
                </a:cubicBezTo>
                <a:cubicBezTo>
                  <a:pt x="509" y="1098"/>
                  <a:pt x="476" y="1146"/>
                  <a:pt x="443" y="1193"/>
                </a:cubicBezTo>
                <a:cubicBezTo>
                  <a:pt x="433" y="1222"/>
                  <a:pt x="401" y="1284"/>
                  <a:pt x="378" y="1307"/>
                </a:cubicBezTo>
                <a:cubicBezTo>
                  <a:pt x="347" y="1399"/>
                  <a:pt x="397" y="1257"/>
                  <a:pt x="354" y="1355"/>
                </a:cubicBezTo>
                <a:cubicBezTo>
                  <a:pt x="332" y="1405"/>
                  <a:pt x="317" y="1463"/>
                  <a:pt x="305" y="1517"/>
                </a:cubicBezTo>
                <a:cubicBezTo>
                  <a:pt x="302" y="1631"/>
                  <a:pt x="302" y="1744"/>
                  <a:pt x="297" y="1858"/>
                </a:cubicBezTo>
                <a:cubicBezTo>
                  <a:pt x="296" y="1891"/>
                  <a:pt x="296" y="1926"/>
                  <a:pt x="281" y="1956"/>
                </a:cubicBezTo>
                <a:cubicBezTo>
                  <a:pt x="272" y="1974"/>
                  <a:pt x="243" y="1967"/>
                  <a:pt x="224" y="1972"/>
                </a:cubicBezTo>
                <a:cubicBezTo>
                  <a:pt x="173" y="1959"/>
                  <a:pt x="175" y="1937"/>
                  <a:pt x="159" y="1891"/>
                </a:cubicBezTo>
                <a:cubicBezTo>
                  <a:pt x="132" y="1813"/>
                  <a:pt x="129" y="1685"/>
                  <a:pt x="38" y="1655"/>
                </a:cubicBezTo>
                <a:cubicBezTo>
                  <a:pt x="30" y="1647"/>
                  <a:pt x="6" y="1627"/>
                  <a:pt x="5" y="1615"/>
                </a:cubicBezTo>
                <a:cubicBezTo>
                  <a:pt x="0" y="1533"/>
                  <a:pt x="25" y="1426"/>
                  <a:pt x="70" y="1355"/>
                </a:cubicBezTo>
                <a:cubicBezTo>
                  <a:pt x="84" y="1300"/>
                  <a:pt x="102" y="1244"/>
                  <a:pt x="127" y="1193"/>
                </a:cubicBezTo>
                <a:cubicBezTo>
                  <a:pt x="137" y="1153"/>
                  <a:pt x="153" y="1113"/>
                  <a:pt x="176" y="1079"/>
                </a:cubicBezTo>
                <a:cubicBezTo>
                  <a:pt x="179" y="1071"/>
                  <a:pt x="180" y="1063"/>
                  <a:pt x="184" y="1055"/>
                </a:cubicBezTo>
                <a:cubicBezTo>
                  <a:pt x="188" y="1046"/>
                  <a:pt x="196" y="1040"/>
                  <a:pt x="200" y="1031"/>
                </a:cubicBezTo>
                <a:cubicBezTo>
                  <a:pt x="217" y="991"/>
                  <a:pt x="217" y="965"/>
                  <a:pt x="249" y="933"/>
                </a:cubicBezTo>
                <a:cubicBezTo>
                  <a:pt x="261" y="897"/>
                  <a:pt x="284" y="868"/>
                  <a:pt x="305" y="836"/>
                </a:cubicBezTo>
                <a:cubicBezTo>
                  <a:pt x="332" y="795"/>
                  <a:pt x="342" y="760"/>
                  <a:pt x="387" y="731"/>
                </a:cubicBezTo>
                <a:cubicBezTo>
                  <a:pt x="413" y="690"/>
                  <a:pt x="457" y="660"/>
                  <a:pt x="492" y="625"/>
                </a:cubicBezTo>
                <a:cubicBezTo>
                  <a:pt x="555" y="562"/>
                  <a:pt x="614" y="486"/>
                  <a:pt x="695" y="447"/>
                </a:cubicBezTo>
                <a:cubicBezTo>
                  <a:pt x="718" y="423"/>
                  <a:pt x="739" y="414"/>
                  <a:pt x="768" y="398"/>
                </a:cubicBezTo>
                <a:cubicBezTo>
                  <a:pt x="795" y="383"/>
                  <a:pt x="804" y="366"/>
                  <a:pt x="833" y="357"/>
                </a:cubicBezTo>
                <a:cubicBezTo>
                  <a:pt x="862" y="337"/>
                  <a:pt x="897" y="320"/>
                  <a:pt x="930" y="309"/>
                </a:cubicBezTo>
                <a:cubicBezTo>
                  <a:pt x="981" y="273"/>
                  <a:pt x="1056" y="259"/>
                  <a:pt x="1117" y="244"/>
                </a:cubicBezTo>
                <a:cubicBezTo>
                  <a:pt x="1087" y="216"/>
                  <a:pt x="1082" y="196"/>
                  <a:pt x="1060" y="163"/>
                </a:cubicBezTo>
                <a:cubicBezTo>
                  <a:pt x="1125" y="140"/>
                  <a:pt x="1097" y="143"/>
                  <a:pt x="1157" y="163"/>
                </a:cubicBezTo>
                <a:cubicBezTo>
                  <a:pt x="1196" y="220"/>
                  <a:pt x="1211" y="215"/>
                  <a:pt x="1173" y="27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25"/>
          <p:cNvSpPr/>
          <p:nvPr/>
        </p:nvSpPr>
        <p:spPr>
          <a:xfrm>
            <a:off x="282600" y="1055520"/>
            <a:ext cx="2100240" cy="461340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1323" h="2906">
                <a:moveTo>
                  <a:pt x="1323" y="592"/>
                </a:moveTo>
                <a:cubicBezTo>
                  <a:pt x="1310" y="476"/>
                  <a:pt x="1279" y="338"/>
                  <a:pt x="1193" y="252"/>
                </a:cubicBezTo>
                <a:cubicBezTo>
                  <a:pt x="1175" y="215"/>
                  <a:pt x="1159" y="204"/>
                  <a:pt x="1128" y="179"/>
                </a:cubicBezTo>
                <a:cubicBezTo>
                  <a:pt x="1066" y="128"/>
                  <a:pt x="995" y="74"/>
                  <a:pt x="917" y="49"/>
                </a:cubicBezTo>
                <a:cubicBezTo>
                  <a:pt x="869" y="17"/>
                  <a:pt x="811" y="8"/>
                  <a:pt x="755" y="0"/>
                </a:cubicBezTo>
                <a:cubicBezTo>
                  <a:pt x="685" y="5"/>
                  <a:pt x="662" y="0"/>
                  <a:pt x="609" y="16"/>
                </a:cubicBezTo>
                <a:cubicBezTo>
                  <a:pt x="558" y="31"/>
                  <a:pt x="503" y="73"/>
                  <a:pt x="455" y="98"/>
                </a:cubicBezTo>
                <a:cubicBezTo>
                  <a:pt x="395" y="177"/>
                  <a:pt x="316" y="281"/>
                  <a:pt x="276" y="373"/>
                </a:cubicBezTo>
                <a:cubicBezTo>
                  <a:pt x="255" y="421"/>
                  <a:pt x="236" y="472"/>
                  <a:pt x="211" y="519"/>
                </a:cubicBezTo>
                <a:cubicBezTo>
                  <a:pt x="197" y="575"/>
                  <a:pt x="169" y="626"/>
                  <a:pt x="155" y="682"/>
                </a:cubicBezTo>
                <a:cubicBezTo>
                  <a:pt x="152" y="695"/>
                  <a:pt x="151" y="709"/>
                  <a:pt x="147" y="722"/>
                </a:cubicBezTo>
                <a:cubicBezTo>
                  <a:pt x="142" y="739"/>
                  <a:pt x="130" y="771"/>
                  <a:pt x="130" y="771"/>
                </a:cubicBezTo>
                <a:cubicBezTo>
                  <a:pt x="122" y="831"/>
                  <a:pt x="112" y="879"/>
                  <a:pt x="106" y="941"/>
                </a:cubicBezTo>
                <a:cubicBezTo>
                  <a:pt x="109" y="1044"/>
                  <a:pt x="109" y="1147"/>
                  <a:pt x="114" y="1250"/>
                </a:cubicBezTo>
                <a:cubicBezTo>
                  <a:pt x="118" y="1346"/>
                  <a:pt x="156" y="1448"/>
                  <a:pt x="179" y="1542"/>
                </a:cubicBezTo>
                <a:cubicBezTo>
                  <a:pt x="196" y="1612"/>
                  <a:pt x="214" y="1682"/>
                  <a:pt x="228" y="1753"/>
                </a:cubicBezTo>
                <a:cubicBezTo>
                  <a:pt x="233" y="1780"/>
                  <a:pt x="244" y="1834"/>
                  <a:pt x="244" y="1834"/>
                </a:cubicBezTo>
                <a:cubicBezTo>
                  <a:pt x="247" y="1866"/>
                  <a:pt x="252" y="1899"/>
                  <a:pt x="252" y="1931"/>
                </a:cubicBezTo>
                <a:cubicBezTo>
                  <a:pt x="252" y="1985"/>
                  <a:pt x="248" y="2039"/>
                  <a:pt x="244" y="2093"/>
                </a:cubicBezTo>
                <a:cubicBezTo>
                  <a:pt x="232" y="2254"/>
                  <a:pt x="181" y="2514"/>
                  <a:pt x="0" y="2572"/>
                </a:cubicBezTo>
                <a:cubicBezTo>
                  <a:pt x="18" y="2620"/>
                  <a:pt x="61" y="2622"/>
                  <a:pt x="106" y="2637"/>
                </a:cubicBezTo>
                <a:cubicBezTo>
                  <a:pt x="115" y="2640"/>
                  <a:pt x="121" y="2649"/>
                  <a:pt x="130" y="2653"/>
                </a:cubicBezTo>
                <a:cubicBezTo>
                  <a:pt x="171" y="2671"/>
                  <a:pt x="217" y="2680"/>
                  <a:pt x="260" y="2694"/>
                </a:cubicBezTo>
                <a:cubicBezTo>
                  <a:pt x="370" y="2686"/>
                  <a:pt x="376" y="2711"/>
                  <a:pt x="406" y="2621"/>
                </a:cubicBezTo>
                <a:cubicBezTo>
                  <a:pt x="409" y="2613"/>
                  <a:pt x="401" y="2637"/>
                  <a:pt x="398" y="2645"/>
                </a:cubicBezTo>
                <a:cubicBezTo>
                  <a:pt x="395" y="2653"/>
                  <a:pt x="396" y="2663"/>
                  <a:pt x="390" y="2669"/>
                </a:cubicBezTo>
                <a:cubicBezTo>
                  <a:pt x="371" y="2690"/>
                  <a:pt x="359" y="2713"/>
                  <a:pt x="333" y="2726"/>
                </a:cubicBezTo>
                <a:cubicBezTo>
                  <a:pt x="255" y="2765"/>
                  <a:pt x="178" y="2782"/>
                  <a:pt x="90" y="2791"/>
                </a:cubicBezTo>
                <a:cubicBezTo>
                  <a:pt x="101" y="2835"/>
                  <a:pt x="120" y="2850"/>
                  <a:pt x="163" y="2864"/>
                </a:cubicBezTo>
                <a:cubicBezTo>
                  <a:pt x="192" y="2883"/>
                  <a:pt x="221" y="2889"/>
                  <a:pt x="252" y="2905"/>
                </a:cubicBezTo>
                <a:cubicBezTo>
                  <a:pt x="332" y="2897"/>
                  <a:pt x="370" y="2906"/>
                  <a:pt x="414" y="2840"/>
                </a:cubicBezTo>
                <a:cubicBezTo>
                  <a:pt x="437" y="2745"/>
                  <a:pt x="404" y="2862"/>
                  <a:pt x="439" y="2783"/>
                </a:cubicBezTo>
                <a:cubicBezTo>
                  <a:pt x="456" y="2744"/>
                  <a:pt x="458" y="2686"/>
                  <a:pt x="463" y="2645"/>
                </a:cubicBezTo>
                <a:cubicBezTo>
                  <a:pt x="466" y="2588"/>
                  <a:pt x="464" y="2531"/>
                  <a:pt x="471" y="2475"/>
                </a:cubicBezTo>
                <a:cubicBezTo>
                  <a:pt x="473" y="2459"/>
                  <a:pt x="479" y="2507"/>
                  <a:pt x="479" y="2523"/>
                </a:cubicBezTo>
                <a:cubicBezTo>
                  <a:pt x="479" y="2593"/>
                  <a:pt x="476" y="2664"/>
                  <a:pt x="471" y="2734"/>
                </a:cubicBezTo>
                <a:cubicBezTo>
                  <a:pt x="470" y="2743"/>
                  <a:pt x="456" y="2754"/>
                  <a:pt x="463" y="2759"/>
                </a:cubicBezTo>
                <a:cubicBezTo>
                  <a:pt x="472" y="2765"/>
                  <a:pt x="484" y="2753"/>
                  <a:pt x="495" y="2750"/>
                </a:cubicBezTo>
                <a:cubicBezTo>
                  <a:pt x="546" y="2701"/>
                  <a:pt x="525" y="2725"/>
                  <a:pt x="560" y="2677"/>
                </a:cubicBezTo>
                <a:cubicBezTo>
                  <a:pt x="581" y="2592"/>
                  <a:pt x="551" y="2700"/>
                  <a:pt x="585" y="2613"/>
                </a:cubicBezTo>
                <a:cubicBezTo>
                  <a:pt x="601" y="2571"/>
                  <a:pt x="604" y="2518"/>
                  <a:pt x="609" y="2475"/>
                </a:cubicBezTo>
                <a:cubicBezTo>
                  <a:pt x="606" y="2413"/>
                  <a:pt x="601" y="2350"/>
                  <a:pt x="601" y="2288"/>
                </a:cubicBezTo>
                <a:cubicBezTo>
                  <a:pt x="601" y="2253"/>
                  <a:pt x="605" y="2358"/>
                  <a:pt x="609" y="2393"/>
                </a:cubicBezTo>
                <a:cubicBezTo>
                  <a:pt x="610" y="2404"/>
                  <a:pt x="614" y="2415"/>
                  <a:pt x="617" y="2426"/>
                </a:cubicBezTo>
                <a:cubicBezTo>
                  <a:pt x="643" y="2515"/>
                  <a:pt x="688" y="2528"/>
                  <a:pt x="771" y="2556"/>
                </a:cubicBezTo>
                <a:cubicBezTo>
                  <a:pt x="798" y="2553"/>
                  <a:pt x="826" y="2556"/>
                  <a:pt x="852" y="2548"/>
                </a:cubicBezTo>
                <a:cubicBezTo>
                  <a:pt x="871" y="2542"/>
                  <a:pt x="901" y="2515"/>
                  <a:pt x="901" y="2515"/>
                </a:cubicBezTo>
                <a:cubicBezTo>
                  <a:pt x="904" y="2507"/>
                  <a:pt x="905" y="2499"/>
                  <a:pt x="909" y="2491"/>
                </a:cubicBezTo>
                <a:cubicBezTo>
                  <a:pt x="913" y="2482"/>
                  <a:pt x="930" y="2475"/>
                  <a:pt x="925" y="2466"/>
                </a:cubicBezTo>
                <a:cubicBezTo>
                  <a:pt x="916" y="2449"/>
                  <a:pt x="891" y="2447"/>
                  <a:pt x="877" y="2434"/>
                </a:cubicBezTo>
                <a:cubicBezTo>
                  <a:pt x="863" y="2421"/>
                  <a:pt x="848" y="2407"/>
                  <a:pt x="836" y="2393"/>
                </a:cubicBezTo>
                <a:cubicBezTo>
                  <a:pt x="779" y="2325"/>
                  <a:pt x="718" y="2235"/>
                  <a:pt x="690" y="2150"/>
                </a:cubicBezTo>
                <a:cubicBezTo>
                  <a:pt x="700" y="2070"/>
                  <a:pt x="687" y="2068"/>
                  <a:pt x="747" y="2110"/>
                </a:cubicBezTo>
                <a:cubicBezTo>
                  <a:pt x="806" y="2101"/>
                  <a:pt x="811" y="2105"/>
                  <a:pt x="828" y="2053"/>
                </a:cubicBezTo>
                <a:cubicBezTo>
                  <a:pt x="828" y="2048"/>
                  <a:pt x="826" y="1970"/>
                  <a:pt x="812" y="1947"/>
                </a:cubicBezTo>
                <a:cubicBezTo>
                  <a:pt x="756" y="1851"/>
                  <a:pt x="714" y="1766"/>
                  <a:pt x="674" y="1663"/>
                </a:cubicBezTo>
                <a:cubicBezTo>
                  <a:pt x="667" y="1622"/>
                  <a:pt x="657" y="1583"/>
                  <a:pt x="649" y="1542"/>
                </a:cubicBezTo>
                <a:cubicBezTo>
                  <a:pt x="653" y="1434"/>
                  <a:pt x="649" y="1335"/>
                  <a:pt x="674" y="1233"/>
                </a:cubicBezTo>
                <a:cubicBezTo>
                  <a:pt x="693" y="1155"/>
                  <a:pt x="739" y="1100"/>
                  <a:pt x="787" y="1039"/>
                </a:cubicBezTo>
                <a:cubicBezTo>
                  <a:pt x="826" y="989"/>
                  <a:pt x="852" y="927"/>
                  <a:pt x="901" y="885"/>
                </a:cubicBezTo>
                <a:cubicBezTo>
                  <a:pt x="930" y="860"/>
                  <a:pt x="959" y="849"/>
                  <a:pt x="990" y="828"/>
                </a:cubicBezTo>
                <a:cubicBezTo>
                  <a:pt x="1000" y="829"/>
                  <a:pt x="1071" y="830"/>
                  <a:pt x="1096" y="844"/>
                </a:cubicBezTo>
                <a:cubicBezTo>
                  <a:pt x="1098" y="845"/>
                  <a:pt x="1161" y="893"/>
                  <a:pt x="1169" y="89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26"/>
          <p:cNvSpPr/>
          <p:nvPr/>
        </p:nvSpPr>
        <p:spPr>
          <a:xfrm>
            <a:off x="6248520" y="1295280"/>
            <a:ext cx="2511360" cy="454356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4543560"/>
              <a:gd name="textAreaBottom" fmla="*/ 4543920 h 4543560"/>
            </a:gdLst>
            <a:ahLst/>
            <a:rect l="textAreaLeft" t="textAreaTop" r="textAreaRight" b="textAreaBottom"/>
            <a:pathLst>
              <a:path w="1582" h="2862">
                <a:moveTo>
                  <a:pt x="8" y="714"/>
                </a:moveTo>
                <a:cubicBezTo>
                  <a:pt x="23" y="669"/>
                  <a:pt x="3" y="584"/>
                  <a:pt x="0" y="544"/>
                </a:cubicBezTo>
                <a:cubicBezTo>
                  <a:pt x="9" y="437"/>
                  <a:pt x="25" y="336"/>
                  <a:pt x="106" y="260"/>
                </a:cubicBezTo>
                <a:cubicBezTo>
                  <a:pt x="116" y="231"/>
                  <a:pt x="180" y="158"/>
                  <a:pt x="211" y="138"/>
                </a:cubicBezTo>
                <a:cubicBezTo>
                  <a:pt x="233" y="106"/>
                  <a:pt x="251" y="90"/>
                  <a:pt x="284" y="73"/>
                </a:cubicBezTo>
                <a:cubicBezTo>
                  <a:pt x="300" y="65"/>
                  <a:pt x="309" y="49"/>
                  <a:pt x="325" y="41"/>
                </a:cubicBezTo>
                <a:cubicBezTo>
                  <a:pt x="379" y="14"/>
                  <a:pt x="436" y="6"/>
                  <a:pt x="495" y="0"/>
                </a:cubicBezTo>
                <a:cubicBezTo>
                  <a:pt x="582" y="5"/>
                  <a:pt x="656" y="11"/>
                  <a:pt x="738" y="33"/>
                </a:cubicBezTo>
                <a:cubicBezTo>
                  <a:pt x="796" y="49"/>
                  <a:pt x="845" y="84"/>
                  <a:pt x="901" y="98"/>
                </a:cubicBezTo>
                <a:cubicBezTo>
                  <a:pt x="925" y="114"/>
                  <a:pt x="954" y="125"/>
                  <a:pt x="974" y="146"/>
                </a:cubicBezTo>
                <a:cubicBezTo>
                  <a:pt x="1003" y="176"/>
                  <a:pt x="1037" y="220"/>
                  <a:pt x="1071" y="244"/>
                </a:cubicBezTo>
                <a:cubicBezTo>
                  <a:pt x="1089" y="270"/>
                  <a:pt x="1103" y="298"/>
                  <a:pt x="1120" y="325"/>
                </a:cubicBezTo>
                <a:cubicBezTo>
                  <a:pt x="1132" y="374"/>
                  <a:pt x="1158" y="417"/>
                  <a:pt x="1177" y="463"/>
                </a:cubicBezTo>
                <a:cubicBezTo>
                  <a:pt x="1186" y="506"/>
                  <a:pt x="1195" y="550"/>
                  <a:pt x="1209" y="592"/>
                </a:cubicBezTo>
                <a:cubicBezTo>
                  <a:pt x="1213" y="618"/>
                  <a:pt x="1225" y="684"/>
                  <a:pt x="1225" y="706"/>
                </a:cubicBezTo>
                <a:cubicBezTo>
                  <a:pt x="1230" y="1047"/>
                  <a:pt x="1228" y="1387"/>
                  <a:pt x="1233" y="1728"/>
                </a:cubicBezTo>
                <a:cubicBezTo>
                  <a:pt x="1235" y="1889"/>
                  <a:pt x="1271" y="2109"/>
                  <a:pt x="1363" y="2247"/>
                </a:cubicBezTo>
                <a:cubicBezTo>
                  <a:pt x="1388" y="2324"/>
                  <a:pt x="1453" y="2410"/>
                  <a:pt x="1509" y="2467"/>
                </a:cubicBezTo>
                <a:cubicBezTo>
                  <a:pt x="1528" y="2486"/>
                  <a:pt x="1560" y="2492"/>
                  <a:pt x="1582" y="2507"/>
                </a:cubicBezTo>
                <a:cubicBezTo>
                  <a:pt x="1571" y="2565"/>
                  <a:pt x="1557" y="2591"/>
                  <a:pt x="1501" y="2613"/>
                </a:cubicBezTo>
                <a:cubicBezTo>
                  <a:pt x="1485" y="2619"/>
                  <a:pt x="1468" y="2624"/>
                  <a:pt x="1452" y="2629"/>
                </a:cubicBezTo>
                <a:cubicBezTo>
                  <a:pt x="1444" y="2632"/>
                  <a:pt x="1428" y="2637"/>
                  <a:pt x="1428" y="2637"/>
                </a:cubicBezTo>
                <a:cubicBezTo>
                  <a:pt x="1346" y="2631"/>
                  <a:pt x="1327" y="2636"/>
                  <a:pt x="1266" y="2604"/>
                </a:cubicBezTo>
                <a:cubicBezTo>
                  <a:pt x="1261" y="2596"/>
                  <a:pt x="1253" y="2571"/>
                  <a:pt x="1250" y="2580"/>
                </a:cubicBezTo>
                <a:cubicBezTo>
                  <a:pt x="1245" y="2596"/>
                  <a:pt x="1251" y="2614"/>
                  <a:pt x="1258" y="2629"/>
                </a:cubicBezTo>
                <a:cubicBezTo>
                  <a:pt x="1263" y="2639"/>
                  <a:pt x="1273" y="2646"/>
                  <a:pt x="1282" y="2653"/>
                </a:cubicBezTo>
                <a:cubicBezTo>
                  <a:pt x="1334" y="2696"/>
                  <a:pt x="1388" y="2713"/>
                  <a:pt x="1452" y="2734"/>
                </a:cubicBezTo>
                <a:cubicBezTo>
                  <a:pt x="1431" y="2822"/>
                  <a:pt x="1381" y="2827"/>
                  <a:pt x="1306" y="2856"/>
                </a:cubicBezTo>
                <a:cubicBezTo>
                  <a:pt x="1032" y="2845"/>
                  <a:pt x="1172" y="2862"/>
                  <a:pt x="1031" y="2815"/>
                </a:cubicBezTo>
                <a:cubicBezTo>
                  <a:pt x="989" y="2785"/>
                  <a:pt x="956" y="2751"/>
                  <a:pt x="925" y="2710"/>
                </a:cubicBezTo>
                <a:cubicBezTo>
                  <a:pt x="911" y="2667"/>
                  <a:pt x="885" y="2609"/>
                  <a:pt x="860" y="2572"/>
                </a:cubicBezTo>
                <a:cubicBezTo>
                  <a:pt x="857" y="2561"/>
                  <a:pt x="855" y="2551"/>
                  <a:pt x="852" y="2540"/>
                </a:cubicBezTo>
                <a:cubicBezTo>
                  <a:pt x="850" y="2532"/>
                  <a:pt x="846" y="2523"/>
                  <a:pt x="844" y="2515"/>
                </a:cubicBezTo>
                <a:cubicBezTo>
                  <a:pt x="838" y="2493"/>
                  <a:pt x="828" y="2450"/>
                  <a:pt x="828" y="2450"/>
                </a:cubicBezTo>
                <a:cubicBezTo>
                  <a:pt x="802" y="2488"/>
                  <a:pt x="798" y="2528"/>
                  <a:pt x="787" y="2572"/>
                </a:cubicBezTo>
                <a:cubicBezTo>
                  <a:pt x="784" y="2604"/>
                  <a:pt x="783" y="2637"/>
                  <a:pt x="779" y="2669"/>
                </a:cubicBezTo>
                <a:cubicBezTo>
                  <a:pt x="778" y="2678"/>
                  <a:pt x="779" y="2691"/>
                  <a:pt x="771" y="2694"/>
                </a:cubicBezTo>
                <a:cubicBezTo>
                  <a:pt x="758" y="2699"/>
                  <a:pt x="744" y="2689"/>
                  <a:pt x="730" y="2686"/>
                </a:cubicBezTo>
                <a:cubicBezTo>
                  <a:pt x="712" y="2666"/>
                  <a:pt x="682" y="2621"/>
                  <a:pt x="682" y="2621"/>
                </a:cubicBezTo>
                <a:cubicBezTo>
                  <a:pt x="685" y="2583"/>
                  <a:pt x="686" y="2545"/>
                  <a:pt x="690" y="2507"/>
                </a:cubicBezTo>
                <a:cubicBezTo>
                  <a:pt x="691" y="2493"/>
                  <a:pt x="695" y="2480"/>
                  <a:pt x="698" y="2467"/>
                </a:cubicBezTo>
                <a:cubicBezTo>
                  <a:pt x="700" y="2456"/>
                  <a:pt x="717" y="2434"/>
                  <a:pt x="706" y="2434"/>
                </a:cubicBezTo>
                <a:cubicBezTo>
                  <a:pt x="705" y="2434"/>
                  <a:pt x="630" y="2518"/>
                  <a:pt x="625" y="2523"/>
                </a:cubicBezTo>
                <a:cubicBezTo>
                  <a:pt x="582" y="2515"/>
                  <a:pt x="543" y="2490"/>
                  <a:pt x="511" y="2458"/>
                </a:cubicBezTo>
                <a:cubicBezTo>
                  <a:pt x="514" y="2439"/>
                  <a:pt x="513" y="2420"/>
                  <a:pt x="519" y="2402"/>
                </a:cubicBezTo>
                <a:cubicBezTo>
                  <a:pt x="522" y="2394"/>
                  <a:pt x="531" y="2391"/>
                  <a:pt x="536" y="2385"/>
                </a:cubicBezTo>
                <a:cubicBezTo>
                  <a:pt x="567" y="2344"/>
                  <a:pt x="589" y="2300"/>
                  <a:pt x="625" y="2264"/>
                </a:cubicBezTo>
                <a:cubicBezTo>
                  <a:pt x="634" y="2237"/>
                  <a:pt x="640" y="2210"/>
                  <a:pt x="649" y="2183"/>
                </a:cubicBezTo>
                <a:cubicBezTo>
                  <a:pt x="646" y="2159"/>
                  <a:pt x="665" y="2114"/>
                  <a:pt x="641" y="2110"/>
                </a:cubicBezTo>
                <a:cubicBezTo>
                  <a:pt x="614" y="2106"/>
                  <a:pt x="608" y="2153"/>
                  <a:pt x="592" y="2174"/>
                </a:cubicBezTo>
                <a:cubicBezTo>
                  <a:pt x="574" y="2198"/>
                  <a:pt x="544" y="2207"/>
                  <a:pt x="519" y="2223"/>
                </a:cubicBezTo>
                <a:cubicBezTo>
                  <a:pt x="506" y="2220"/>
                  <a:pt x="492" y="2218"/>
                  <a:pt x="479" y="2215"/>
                </a:cubicBezTo>
                <a:cubicBezTo>
                  <a:pt x="471" y="2213"/>
                  <a:pt x="455" y="2215"/>
                  <a:pt x="455" y="2207"/>
                </a:cubicBezTo>
                <a:cubicBezTo>
                  <a:pt x="455" y="2193"/>
                  <a:pt x="469" y="2183"/>
                  <a:pt x="479" y="2174"/>
                </a:cubicBezTo>
                <a:cubicBezTo>
                  <a:pt x="496" y="2158"/>
                  <a:pt x="517" y="2147"/>
                  <a:pt x="536" y="2134"/>
                </a:cubicBezTo>
                <a:cubicBezTo>
                  <a:pt x="570" y="2110"/>
                  <a:pt x="600" y="2078"/>
                  <a:pt x="633" y="2053"/>
                </a:cubicBezTo>
                <a:cubicBezTo>
                  <a:pt x="645" y="2017"/>
                  <a:pt x="664" y="1981"/>
                  <a:pt x="682" y="1947"/>
                </a:cubicBezTo>
                <a:cubicBezTo>
                  <a:pt x="702" y="1865"/>
                  <a:pt x="740" y="1787"/>
                  <a:pt x="755" y="1704"/>
                </a:cubicBezTo>
                <a:cubicBezTo>
                  <a:pt x="761" y="1672"/>
                  <a:pt x="766" y="1639"/>
                  <a:pt x="771" y="1607"/>
                </a:cubicBezTo>
                <a:cubicBezTo>
                  <a:pt x="774" y="1591"/>
                  <a:pt x="779" y="1558"/>
                  <a:pt x="779" y="1558"/>
                </a:cubicBezTo>
                <a:cubicBezTo>
                  <a:pt x="773" y="1358"/>
                  <a:pt x="790" y="1217"/>
                  <a:pt x="690" y="1055"/>
                </a:cubicBezTo>
                <a:cubicBezTo>
                  <a:pt x="666" y="1015"/>
                  <a:pt x="638" y="972"/>
                  <a:pt x="601" y="941"/>
                </a:cubicBezTo>
                <a:cubicBezTo>
                  <a:pt x="565" y="911"/>
                  <a:pt x="515" y="892"/>
                  <a:pt x="471" y="876"/>
                </a:cubicBezTo>
                <a:cubicBezTo>
                  <a:pt x="409" y="879"/>
                  <a:pt x="339" y="863"/>
                  <a:pt x="284" y="893"/>
                </a:cubicBezTo>
                <a:cubicBezTo>
                  <a:pt x="267" y="902"/>
                  <a:pt x="254" y="919"/>
                  <a:pt x="235" y="925"/>
                </a:cubicBezTo>
                <a:cubicBezTo>
                  <a:pt x="219" y="930"/>
                  <a:pt x="187" y="941"/>
                  <a:pt x="187" y="941"/>
                </a:cubicBezTo>
                <a:cubicBezTo>
                  <a:pt x="148" y="968"/>
                  <a:pt x="119" y="974"/>
                  <a:pt x="73" y="97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1752480" y="1523880"/>
            <a:ext cx="914400" cy="1067040"/>
          </a:xfrm>
          <a:custGeom>
            <a:avLst/>
            <a:gdLst>
              <a:gd name="textAreaLeft" fmla="*/ 213120 w 914400"/>
              <a:gd name="textAreaRight" fmla="*/ 700920 w 914400"/>
              <a:gd name="textAreaTop" fmla="*/ 112320 h 1067040"/>
              <a:gd name="textAreaBottom" fmla="*/ 675720 h 1067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5867280" y="1676520"/>
            <a:ext cx="990720" cy="1066680"/>
          </a:xfrm>
          <a:custGeom>
            <a:avLst/>
            <a:gdLst>
              <a:gd name="textAreaLeft" fmla="*/ 230760 w 990720"/>
              <a:gd name="textAreaRight" fmla="*/ 759600 w 9907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914400" y="304920"/>
            <a:ext cx="73152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219320" y="495360"/>
            <a:ext cx="67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ша картинная галлерея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0880" y="3276720"/>
            <a:ext cx="259092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43600" y="3276720"/>
            <a:ext cx="259092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200400" y="1828800"/>
            <a:ext cx="236232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1" descr="детский"/>
          <p:cNvPicPr/>
          <p:nvPr/>
        </p:nvPicPr>
        <p:blipFill>
          <a:blip r:embed="rId3"/>
          <a:stretch/>
        </p:blipFill>
        <p:spPr>
          <a:xfrm>
            <a:off x="609480" y="3581280"/>
            <a:ext cx="217188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детский2"/>
          <p:cNvPicPr/>
          <p:nvPr/>
        </p:nvPicPr>
        <p:blipFill>
          <a:blip r:embed="rId4"/>
          <a:stretch/>
        </p:blipFill>
        <p:spPr>
          <a:xfrm>
            <a:off x="6134040" y="3581280"/>
            <a:ext cx="2171880" cy="1771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детский3"/>
          <p:cNvPicPr/>
          <p:nvPr/>
        </p:nvPicPr>
        <p:blipFill>
          <a:blip r:embed="rId5"/>
          <a:stretch/>
        </p:blipFill>
        <p:spPr>
          <a:xfrm>
            <a:off x="3505320" y="20574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дама3"/>
          <p:cNvPicPr/>
          <p:nvPr/>
        </p:nvPicPr>
        <p:blipFill>
          <a:blip r:embed="rId1"/>
          <a:stretch/>
        </p:blipFill>
        <p:spPr>
          <a:xfrm>
            <a:off x="2971800" y="14479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дев в шали"/>
          <p:cNvPicPr/>
          <p:nvPr/>
        </p:nvPicPr>
        <p:blipFill>
          <a:blip r:embed="rId2"/>
          <a:stretch/>
        </p:blipFill>
        <p:spPr>
          <a:xfrm>
            <a:off x="5029200" y="14479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врач больш"/>
          <p:cNvPicPr/>
          <p:nvPr/>
        </p:nvPicPr>
        <p:blipFill>
          <a:blip r:embed="rId3"/>
          <a:stretch/>
        </p:blipFill>
        <p:spPr>
          <a:xfrm>
            <a:off x="228600" y="1447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дама больш грустн"/>
          <p:cNvPicPr/>
          <p:nvPr/>
        </p:nvPicPr>
        <p:blipFill>
          <a:blip r:embed="rId4"/>
          <a:stretch/>
        </p:blipFill>
        <p:spPr>
          <a:xfrm>
            <a:off x="7238880" y="1447920"/>
            <a:ext cx="1524240" cy="19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веселый"/>
          <p:cNvPicPr/>
          <p:nvPr/>
        </p:nvPicPr>
        <p:blipFill>
          <a:blip r:embed="rId5"/>
          <a:stretch/>
        </p:blipFill>
        <p:spPr>
          <a:xfrm>
            <a:off x="1066680" y="3657600"/>
            <a:ext cx="19638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Портрет сестры"/>
          <p:cNvPicPr/>
          <p:nvPr/>
        </p:nvPicPr>
        <p:blipFill>
          <a:blip r:embed="rId6"/>
          <a:stretch/>
        </p:blipFill>
        <p:spPr>
          <a:xfrm>
            <a:off x="6324480" y="3809880"/>
            <a:ext cx="183528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ушаков"/>
          <p:cNvPicPr/>
          <p:nvPr/>
        </p:nvPicPr>
        <p:blipFill>
          <a:blip r:embed="rId7"/>
          <a:stretch/>
        </p:blipFill>
        <p:spPr>
          <a:xfrm>
            <a:off x="3505320" y="3657600"/>
            <a:ext cx="1904760" cy="28195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4"/>
          <p:cNvGrpSpPr/>
          <p:nvPr/>
        </p:nvGrpSpPr>
        <p:grpSpPr>
          <a:xfrm>
            <a:off x="533520" y="228600"/>
            <a:ext cx="8153280" cy="838080"/>
            <a:chOff x="533520" y="228600"/>
            <a:chExt cx="8153280" cy="838080"/>
          </a:xfrm>
        </p:grpSpPr>
        <p:sp>
          <p:nvSpPr>
            <p:cNvPr id="67" name="Rectangle 4"/>
            <p:cNvSpPr/>
            <p:nvPr/>
          </p:nvSpPr>
          <p:spPr>
            <a:xfrm>
              <a:off x="533520" y="228600"/>
              <a:ext cx="815328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WordArt 33"/>
            <p:cNvSpPr txBox="1"/>
            <p:nvPr/>
          </p:nvSpPr>
          <p:spPr>
            <a:xfrm>
              <a:off x="1219320" y="380880"/>
              <a:ext cx="7010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Зал портретов</a:t>
              </a:r>
              <a:endPara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художник"/>
          <p:cNvPicPr/>
          <p:nvPr/>
        </p:nvPicPr>
        <p:blipFill>
          <a:blip r:embed="rId1"/>
          <a:stretch/>
        </p:blipFill>
        <p:spPr>
          <a:xfrm>
            <a:off x="7010280" y="480060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4"/>
          <p:cNvSpPr/>
          <p:nvPr/>
        </p:nvSpPr>
        <p:spPr>
          <a:xfrm>
            <a:off x="914400" y="1066680"/>
            <a:ext cx="6781680" cy="4114800"/>
          </a:xfrm>
          <a:custGeom>
            <a:avLst/>
            <a:gdLst>
              <a:gd name="textAreaLeft" fmla="*/ 484920 w 6781680"/>
              <a:gd name="textAreaRight" fmla="*/ 6296760 w 6781680"/>
              <a:gd name="textAreaTop" fmla="*/ 484920 h 4114800"/>
              <a:gd name="textAreaBottom" fmla="*/ 3629880 h 4114800"/>
            </a:gdLst>
            <a:ahLst/>
            <a:rect l="textAreaLeft" t="textAreaTop" r="textAreaRight" b="textAreaBottom"/>
            <a:pathLst>
              <a:path w="355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998" y="21600"/>
                </a:lnTo>
                <a:arcTo wR="3600" hR="3600" stAng="10800000" swAng="5400000"/>
                <a:lnTo>
                  <a:pt x="355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Если видишь, что с карт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мотрит кто-нибудь на н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принц в плаще старин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в робе верхолаз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Летчик или балери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Колька -  твой сосе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бязательно картина назы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ртр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девушка с венком"/>
          <p:cNvPicPr/>
          <p:nvPr/>
        </p:nvPicPr>
        <p:blipFill>
          <a:blip r:embed="rId1"/>
          <a:stretch/>
        </p:blipFill>
        <p:spPr>
          <a:xfrm>
            <a:off x="5105520" y="342900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Пушкин"/>
          <p:cNvPicPr/>
          <p:nvPr/>
        </p:nvPicPr>
        <p:blipFill>
          <a:blip r:embed="rId2"/>
          <a:stretch/>
        </p:blipFill>
        <p:spPr>
          <a:xfrm>
            <a:off x="609480" y="137160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девочка с корзиной"/>
          <p:cNvPicPr/>
          <p:nvPr/>
        </p:nvPicPr>
        <p:blipFill>
          <a:blip r:embed="rId3"/>
          <a:stretch/>
        </p:blipFill>
        <p:spPr>
          <a:xfrm>
            <a:off x="3733920" y="152280"/>
            <a:ext cx="220968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609480" y="5410080"/>
            <a:ext cx="297180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ужско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62720" y="6172200"/>
            <a:ext cx="297180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енски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019920" y="533520"/>
            <a:ext cx="297180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етски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981080" y="5257800"/>
            <a:ext cx="5410440" cy="8380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рупповой 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семейный 3"/>
          <p:cNvPicPr/>
          <p:nvPr/>
        </p:nvPicPr>
        <p:blipFill>
          <a:blip r:embed="rId1"/>
          <a:stretch/>
        </p:blipFill>
        <p:spPr>
          <a:xfrm>
            <a:off x="1752480" y="1295280"/>
            <a:ext cx="198144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семейный портрет 2"/>
          <p:cNvPicPr/>
          <p:nvPr/>
        </p:nvPicPr>
        <p:blipFill>
          <a:blip r:embed="rId2"/>
          <a:stretch/>
        </p:blipFill>
        <p:spPr>
          <a:xfrm>
            <a:off x="5181480" y="8380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портрет"/>
          <p:cNvPicPr/>
          <p:nvPr/>
        </p:nvPicPr>
        <p:blipFill>
          <a:blip r:embed="rId1"/>
          <a:stretch/>
        </p:blipFill>
        <p:spPr>
          <a:xfrm>
            <a:off x="1219320" y="0"/>
            <a:ext cx="617220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657600" y="6019920"/>
            <a:ext cx="190512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ф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467480" y="2514600"/>
            <a:ext cx="144792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ф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профиль"/>
          <p:cNvPicPr/>
          <p:nvPr/>
        </p:nvPicPr>
        <p:blipFill>
          <a:blip r:embed="rId1"/>
          <a:stretch/>
        </p:blipFill>
        <p:spPr>
          <a:xfrm>
            <a:off x="5334120" y="762120"/>
            <a:ext cx="270036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ортрет дочери"/>
          <p:cNvPicPr/>
          <p:nvPr/>
        </p:nvPicPr>
        <p:blipFill>
          <a:blip r:embed="rId2"/>
          <a:stretch/>
        </p:blipFill>
        <p:spPr>
          <a:xfrm>
            <a:off x="1143000" y="685800"/>
            <a:ext cx="2590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художник"/>
          <p:cNvPicPr/>
          <p:nvPr/>
        </p:nvPicPr>
        <p:blipFill>
          <a:blip r:embed="rId3"/>
          <a:stretch/>
        </p:blipFill>
        <p:spPr>
          <a:xfrm>
            <a:off x="3352680" y="4191120"/>
            <a:ext cx="182880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4"/>
          <p:cNvSpPr/>
          <p:nvPr/>
        </p:nvSpPr>
        <p:spPr>
          <a:xfrm>
            <a:off x="533520" y="6019920"/>
            <a:ext cx="807696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ак нарисован человек в профиль или анф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762120" y="228600"/>
            <a:ext cx="3352680" cy="4495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5029200" y="304920"/>
            <a:ext cx="3352680" cy="4495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дама больш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05120" cy="269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натюрморт"/>
          <p:cNvPicPr/>
          <p:nvPr/>
        </p:nvPicPr>
        <p:blipFill>
          <a:blip r:embed="rId3"/>
          <a:stretch/>
        </p:blipFill>
        <p:spPr>
          <a:xfrm>
            <a:off x="3581280" y="320040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семейный2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743200" y="533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ушаков"/>
          <p:cNvPicPr/>
          <p:nvPr/>
        </p:nvPicPr>
        <p:blipFill>
          <a:blip r:embed="rId5"/>
          <a:stretch/>
        </p:blipFill>
        <p:spPr>
          <a:xfrm>
            <a:off x="6248520" y="1295280"/>
            <a:ext cx="20001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609480" y="5943600"/>
            <a:ext cx="807732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йдите лишнюю картину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305920" y="388620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кнокпа зел"/>
          <p:cNvPicPr/>
          <p:nvPr/>
        </p:nvPicPr>
        <p:blipFill>
          <a:blip r:embed="rId6"/>
          <a:stretch/>
        </p:blipFill>
        <p:spPr>
          <a:xfrm>
            <a:off x="2438280" y="38862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кнопка ж"/>
          <p:cNvPicPr/>
          <p:nvPr/>
        </p:nvPicPr>
        <p:blipFill>
          <a:blip r:embed="rId7"/>
          <a:stretch/>
        </p:blipFill>
        <p:spPr>
          <a:xfrm>
            <a:off x="5486400" y="51055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кнопка кр"/>
          <p:cNvPicPr/>
          <p:nvPr/>
        </p:nvPicPr>
        <p:blipFill>
          <a:blip r:embed="rId8"/>
          <a:stretch/>
        </p:blipFill>
        <p:spPr>
          <a:xfrm>
            <a:off x="4495680" y="22860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19:03Z</dcterms:created>
  <dc:creator>shemetaeyu</dc:creator>
  <dc:description/>
  <dc:language>en-US</dc:language>
  <cp:lastModifiedBy>ТК</cp:lastModifiedBy>
  <dcterms:modified xsi:type="dcterms:W3CDTF">2018-12-26T17:04:22Z</dcterms:modified>
  <cp:revision>12</cp:revision>
  <dc:subject/>
  <dc:title>Презентация PowerPoint</dc:title>
</cp:coreProperties>
</file>