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D67F-BB7E-4524-997B-075CC3726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E92EC-5D07-4A66-BE88-51AA66B3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75B87-51BE-49C7-AA5B-B0EB81AE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21FC0-EECC-4798-AC74-D63C2516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92C8-438A-48D0-9AA7-CABB827E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A9C49-9C61-4857-84BE-70971C84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49C0D-ADC6-4E00-8BF1-A64E7510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D2B98-A6B9-4C8C-84B0-A89EE7E1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2838F-4C85-4490-ADF2-90C8E9D9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0A1E2-05FF-451F-B552-8CFFA2CE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C42BE-3225-442C-81A2-DC101D2F13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73210-0958-4E6A-BD73-87183831A2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5CFC-F633-4B7B-97C8-82023B40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250D05-C73A-4873-BED5-0334628A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886FA-820A-4D85-AE1D-A490350B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1DD3D-F4F8-47A2-8149-87A474F3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329C0-9B29-4298-AEE0-6DA1007F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4DC70-BE20-4317-B74F-B664262F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6C8E1D-E326-4F68-9234-2B3F718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3EF12-E325-4788-AF31-F434B6F6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597863-704A-4FD0-BD69-AF991FFE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21275-954F-4C2A-84D1-FE49E997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0F50E-D787-48BD-ADC8-C7AABD51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5F5A-6776-42D6-B209-AA64A47B53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621E8-1BCC-4B21-BAD3-95921674F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5B54FC-36C2-4E38-88EE-E4900F00B6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2CBE61-405E-4064-8C54-A3B50E5D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A347A5-146D-4991-85CD-771B4A82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E3070-4FF9-4452-8767-36ACB387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7A340C-E208-4C59-8013-0C83B04C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E2CD4C-1998-4B7E-933D-20F03B40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F24922-0F16-4B80-99BC-542B3C14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302121-0DC8-44FF-9D82-8C865EDB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B54572-66A4-48A5-8C86-C2853DE0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3FCE0-7A1F-4F1B-AE6E-D8FF70575D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1E76EE-4253-4C9F-9FE9-6C9E428A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CE5D38-BF90-4C68-B4DC-71EE0A3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D5DEC5-5649-4137-92B0-DDBF393499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B278D-B6F4-4D94-A282-50F3FD60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BDC50-4856-41D9-9793-3B7DEF60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3EE2F-A7EB-4458-92D0-169E7942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171A0-1AA6-4D54-89C2-4289E6BF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91460-9547-4257-92AC-B5834001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C690D-D507-4347-BC7D-9DF6DCFD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F75C-9B62-4916-B604-32A547C4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26ECB-05D9-4673-915C-BE309BCD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C98ED-4E51-44D1-9D20-F4C7B5A3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71FDD-0B52-405B-AF64-1482AE05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746F5-E229-4EB3-8C12-D3548E1C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F0A8B-61EF-4F7F-88A8-13DF7D544A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6F7D-C0C1-48E6-B981-50EE7E7328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D2D5-FA19-4F98-8B55-9E2C180E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205F-3FBE-4541-91A1-FE64DE0F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5153-3027-478E-AE13-5073F3C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DACF-C035-4450-A912-298FAC0C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3052-A1CB-487B-9D7C-016ED9A4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395E-9F45-4E6E-90CD-00223116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7D4C-D604-4021-BDC6-275E1FEE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3D2D-CF50-4626-9663-9D5C3A96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25E0-4CF2-4035-86BE-E625BA1E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8F87-74AF-4A77-B84E-A475EB44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B3FE-833C-493B-BB27-D99A5624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23A5-8722-47DD-92EE-6C002A7688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83C05-DC62-4035-A306-7C22E43A97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AB56A-DD0A-44CD-874E-F5F4EF06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947DE-D5E4-46B7-8AE5-9F491016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4601-772E-4DE0-A201-55A2BB72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D254B-DFA0-4CF6-A509-A205E340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FF8F3-46FC-4260-989D-CCACD58F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C2D6B-A486-4324-BB58-005951BA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AE575-0E0F-48FB-AD29-8A8F6FF3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E9A60-993E-4B77-839B-4A415E27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2A2CB-27D7-47C4-8099-164BA38F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086F9-F7FB-4F1A-B707-740D8D33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D4050-1668-49E0-84B5-86415190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082DE-6A45-4C08-A662-E7D69D89B5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740CA-9C93-4EB5-B46D-DA4607379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97ED-831C-45EC-A2AA-BB685690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A5B69-349B-47B1-8009-F2A1B794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0AF626-8DCC-4532-90E6-67030099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6DE06-3A52-4B9A-BC9F-1E035492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43C40-DC81-4CF7-ACEE-F0EB51BF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F5A6BC-4534-4BC9-A223-4D27151A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D452B-60F9-4559-8C36-4F6DD005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C40E8-7298-4ECC-85C5-1F042B00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1587E-A2D3-419B-A717-D2539727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613DA3-328D-447D-A188-A0D617B7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78FC68-A3DA-41C1-9480-10D180B8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4D2C-4827-44CF-B42B-28D53881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D0781-135C-4AA8-82DC-2F14825DB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FF34-4CDE-4FD9-A38D-108E406C59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105C-2AD0-4B92-8B89-CD879A9A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55379-835E-4AF8-8939-398851C2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1596-7C8B-455B-9352-6A4351CC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95289-45A5-4024-B5C7-D809E17E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38876-53DC-4C6A-B451-9A7C553A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1D847-9702-45FF-BEB8-191AE257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D17BA-080D-41A5-8D9F-0ABB5E36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45AE2-27AF-4FF2-8687-AD102E7B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3EEF-1F27-4EDC-A025-60A0AE6F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352FF-66F9-4122-B7A2-942BD048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F9EF-8816-47CC-8144-96F4907B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5C15D-59D6-4431-8946-C9DDF1A14A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DEB94-701C-4AE9-8D52-5FFEF31673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3A375-5BCB-4D1A-AB16-615C735B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94C4C-017B-49B2-BD9F-23346F72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202A9-AC0C-45C9-95CC-AC23844D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6FCD1-13D4-4DF6-9EAB-89EDC5DB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CD61A-2FE9-4854-AD46-858DFBE0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560AC-3538-47A0-8943-7E53184F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0F02-A665-4B7B-921A-3B93204C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27833-16AB-4C1E-8F88-CD6020E3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6F6F6-CBD5-40A3-812B-676F00AA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F5FA5-29E7-45E5-A648-B9F29826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11B99-4227-4B5F-8CE5-67B9E080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E32D1-E7E6-4142-AD72-7DFD72FCF9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51BA08-44DC-4503-ADD8-BE92E2D884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64428F-E6EE-4B85-831E-403E44D7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3F31C9-5F5F-4BFF-8FDE-3463A51D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266CDB-B6C5-4491-B71B-BE3B5097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95160A-610B-47D1-985A-E7AE4C02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EC85-65C4-460B-96C1-37D5325A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1600" y="1709640"/>
            <a:ext cx="10513800" cy="13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946DAF-F619-4BEC-A68A-C2513DCE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AB71C6-F25F-46F6-8D1B-8AF39776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79431C-E451-47CE-BFF1-0047825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723F76-E124-417D-AE9F-64CF1258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1600" y="5372640"/>
            <a:ext cx="10513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DC37DC-350A-4D5B-940D-008080A9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19360" y="4589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160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19360" y="5372640"/>
            <a:ext cx="5130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9B90BF-190D-4F85-A94F-5AFB5523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8624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0880" y="4589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160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8624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0880" y="5372640"/>
            <a:ext cx="3385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8645D9-2E54-4520-9F75-609AF6601C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CD54-54B1-4BB0-9D7D-4ECCF1E230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D0933-F5F4-4B26-AE35-B7947447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7BEEF-6D5F-428A-98E4-37045FB9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C1446-327B-4B92-A8C5-550C67A6EB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0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598DC-7762-43CE-A8D6-1FA88E9B1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24960" y="365040"/>
            <a:ext cx="2627280" cy="58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365040"/>
            <a:ext cx="7732800" cy="58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B3B58-3607-431C-BCDE-1944FA1E0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987BE-53F0-4EC4-8847-6A6D62424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1600" y="1709640"/>
            <a:ext cx="105138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1600" y="4589640"/>
            <a:ext cx="105138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040" indent="-113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8876A-322D-457F-94C1-6D68C7039B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825560"/>
            <a:ext cx="518184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1825560"/>
            <a:ext cx="51814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8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163DD-9B3A-4F8A-A41B-69ABD42365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9520" y="365040"/>
            <a:ext cx="10513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9520" y="1681200"/>
            <a:ext cx="51562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7000"/>
          </a:bodyPr>
          <a:p>
            <a:pPr marL="583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58320" indent="-583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880" y="2505240"/>
            <a:ext cx="515916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2505240"/>
            <a:ext cx="518328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0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7EA49-A227-48F3-B08C-FBAAF9A93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C1610-C43B-4B60-B366-9BD037D94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Num" idx="1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9E5B8-41BE-40B3-AABB-DFC28B069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9880" y="456840"/>
            <a:ext cx="393048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83280" y="987480"/>
            <a:ext cx="617220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9880" y="2057040"/>
            <a:ext cx="393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5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25875-7A50-4418-AE37-7C3103803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9880" y="456840"/>
            <a:ext cx="393048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83280" y="987480"/>
            <a:ext cx="617220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39880" y="2057040"/>
            <a:ext cx="393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680" indent="-2296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5.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8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9BC21-FE86-4771-A8AB-7C49003EE6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23880" y="36021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5" name=""/>
          <p:cNvSpPr/>
          <p:nvPr/>
        </p:nvSpPr>
        <p:spPr>
          <a:xfrm>
            <a:off x="198360" y="704880"/>
            <a:ext cx="804888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Средневековая Англ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уманный Альби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89720" y="4919760"/>
            <a:ext cx="455292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Выполнили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Аблеева Алсу, Бакиева Фарида, Балдина Диана, Загородникова Анастасия, Каримова Карина, Петросян Ангелина.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Группа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12 «Фармац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rcRect l="0" t="0" r="4807" b="0"/>
          <a:stretch/>
        </p:blipFill>
        <p:spPr>
          <a:xfrm>
            <a:off x="5543640" y="1341360"/>
            <a:ext cx="6648480" cy="47196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47880" y="-243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еографическое по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34800" y="1125360"/>
            <a:ext cx="5256360" cy="53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Остров омывает: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с запада и севера Антлантический океан, с востока-Северное море, с запада – Ирландское мор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Полезные ископаемые: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олото, железные руды, медь, олово, угол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Климат: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океанический климат, формируется теплым течением. На северо-востоке страны холодные районы, юго-восточная часть –теплые районы в Англии. Частые туман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7 независимых королевств: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Шотландия, Нортумбия, Восточная Англия, Мерсия, Уэльс, Уэсеекс, область «Датского права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3880" y="-603720"/>
            <a:ext cx="11568240" cy="28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нятие населе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3880" y="1268280"/>
            <a:ext cx="504036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мледел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товод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мес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иратель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реплавание и торгов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бная лов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хота на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етение корз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095880" y="3557520"/>
            <a:ext cx="5878800" cy="30574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6095880" y="538200"/>
            <a:ext cx="5878800" cy="27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rcRect l="24402" t="0" r="15768" b="0"/>
          <a:stretch/>
        </p:blipFill>
        <p:spPr>
          <a:xfrm>
            <a:off x="4792680" y="639720"/>
            <a:ext cx="6759720" cy="557856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03040" y="635040"/>
            <a:ext cx="38862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оциальное устрой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04760" y="2432160"/>
            <a:ext cx="3886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цар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ховен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есть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месленики, торгов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463536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e3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4200" y="484200"/>
            <a:ext cx="3666960" cy="5738760"/>
          </a:xfrm>
          <a:custGeom>
            <a:avLst/>
            <a:gdLst>
              <a:gd name="textAreaLeft" fmla="*/ 0 w 3666960"/>
              <a:gd name="textAreaRight" fmla="*/ 3667320 w 3666960"/>
              <a:gd name="textAreaTop" fmla="*/ 0 h 5738760"/>
              <a:gd name="textAreaBottom" fmla="*/ 5739120 h 5738760"/>
            </a:gdLst>
            <a:ahLst/>
            <a:rect l="textAreaLeft" t="textAreaTop" r="textAreaRight" b="textAreaBottom"/>
            <a:pathLst>
              <a:path w="21600" h="33803">
                <a:moveTo>
                  <a:pt x="0" y="0"/>
                </a:moveTo>
                <a:arcTo wR="0" hR="0" stAng="16200000" swAng="-5400000"/>
                <a:lnTo>
                  <a:pt x="0" y="33803"/>
                </a:lnTo>
                <a:arcTo wR="0" hR="0" stAng="10800000" swAng="-5400000"/>
                <a:lnTo>
                  <a:pt x="21600" y="3380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8caca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rcRect l="0" t="14773" r="0" b="25026"/>
          <a:stretch/>
        </p:blipFill>
        <p:spPr>
          <a:xfrm>
            <a:off x="344520" y="252360"/>
            <a:ext cx="3948120" cy="32227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rcRect l="13894" t="0" r="3562" b="0"/>
          <a:stretch/>
        </p:blipFill>
        <p:spPr>
          <a:xfrm>
            <a:off x="344520" y="3502080"/>
            <a:ext cx="3948120" cy="295416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116320" y="237600"/>
            <a:ext cx="64227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ульту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16680" y="2438280"/>
            <a:ext cx="64227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ыцарски турниры(11-16вв.)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енное состязане рыцарей, демонстрирующие  боевые качества, главню военную си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15960" y="52560"/>
            <a:ext cx="10515600" cy="58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457200" indent="-4557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рхитектур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4980000">
            <a:off x="3851640" y="-226080"/>
            <a:ext cx="260280" cy="1957320"/>
          </a:xfrm>
          <a:custGeom>
            <a:avLst/>
            <a:gdLst>
              <a:gd name="textAreaLeft" fmla="*/ 65160 w 260280"/>
              <a:gd name="textAreaRight" fmla="*/ 195480 w 260280"/>
              <a:gd name="textAreaTop" fmla="*/ 0 h 1957320"/>
              <a:gd name="textAreaBottom" fmla="*/ 1892520 h 19573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20165"/>
                </a:lnTo>
                <a:lnTo>
                  <a:pt x="0" y="20165"/>
                </a:lnTo>
                <a:lnTo>
                  <a:pt x="10800" y="21600"/>
                </a:lnTo>
                <a:lnTo>
                  <a:pt x="21600" y="20165"/>
                </a:lnTo>
                <a:lnTo>
                  <a:pt x="16200" y="20165"/>
                </a:lnTo>
                <a:lnTo>
                  <a:pt x="1620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16800000">
            <a:off x="8171640" y="-176760"/>
            <a:ext cx="257040" cy="1957320"/>
          </a:xfrm>
          <a:custGeom>
            <a:avLst/>
            <a:gdLst>
              <a:gd name="textAreaLeft" fmla="*/ 64080 w 257040"/>
              <a:gd name="textAreaRight" fmla="*/ 192960 w 257040"/>
              <a:gd name="textAreaTop" fmla="*/ 0 h 1957320"/>
              <a:gd name="textAreaBottom" fmla="*/ 1893240 h 19573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20181"/>
                </a:lnTo>
                <a:lnTo>
                  <a:pt x="0" y="20181"/>
                </a:lnTo>
                <a:lnTo>
                  <a:pt x="10800" y="21600"/>
                </a:lnTo>
                <a:lnTo>
                  <a:pt x="21600" y="20181"/>
                </a:lnTo>
                <a:lnTo>
                  <a:pt x="16200" y="20181"/>
                </a:lnTo>
                <a:lnTo>
                  <a:pt x="1620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28800" y="957240"/>
            <a:ext cx="2835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мански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986600" y="1106640"/>
            <a:ext cx="34578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ически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03120" y="1555920"/>
            <a:ext cx="3013200" cy="20127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281400" y="1617840"/>
            <a:ext cx="18288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инчестерский соб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303120" y="3867120"/>
            <a:ext cx="3208320" cy="25322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511440" y="3867120"/>
            <a:ext cx="18288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зилика Сен-Сернин в Тулу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8300880" y="1550880"/>
            <a:ext cx="3587760" cy="20131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6192720" y="1592280"/>
            <a:ext cx="20383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ентерберий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8265960" y="3624120"/>
            <a:ext cx="3297240" cy="30146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873760" y="3959280"/>
            <a:ext cx="610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Эксетер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838080" y="284040"/>
            <a:ext cx="10515600" cy="59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801720" y="860400"/>
            <a:ext cx="2279520" cy="26798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174840" y="1352520"/>
            <a:ext cx="1828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жефри Чо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838080" y="3841920"/>
            <a:ext cx="2279880" cy="26794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174840" y="4611600"/>
            <a:ext cx="212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ильям Лэнгле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9112320" y="885960"/>
            <a:ext cx="2279520" cy="2652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7283520" y="1227240"/>
            <a:ext cx="1828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мас Мэ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9132840" y="3841920"/>
            <a:ext cx="2279520" cy="26524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7066080" y="4610160"/>
            <a:ext cx="200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берт Генри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03640" y="2565360"/>
            <a:ext cx="28213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18-05-28T09:38:39Z</dcterms:modified>
  <cp:revision>6</cp:revision>
  <dc:subject/>
  <dc:title>Презентация PowerPoint</dc:title>
</cp:coreProperties>
</file>