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01C19-4944-406B-B502-968D88B7D7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19DD-A0BA-44A6-BEEC-F8701E63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6BF21-A59E-44C7-AF50-92524DF5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C2ACA-5A48-461E-AFB6-D38BA545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71D1E-9113-4ECA-9710-9F517C7C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69EBF-AD35-4166-883F-31CBDAEE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070DF-06BB-4078-982E-4B8B221B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4CB33-4016-4A3F-AF80-5BDB7D3C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9880D-D31A-47C8-BE8D-5E4B8097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CA395-9E2E-4583-AE90-7AD41838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7C3B3-C57F-4844-B3E5-023E01A975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B4E5D-72DE-47A3-A400-38F817FFC1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64D5-6E54-47B6-B6EE-718BE2F4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7376C-43ED-4DAC-824F-8894A2F1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CF76D-DCEC-41E1-970D-AF911432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A35ADF-7942-4648-B296-7E4FA894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0F5EF7-D188-4992-8369-F9A2C4D1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3747D-D992-4F6A-85F5-521C6740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76CC36-8DA9-43EA-BC16-AD6188B8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27D684-4DC1-4328-9786-D81C885D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58E29-699E-4BF7-886B-328D9E6E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EAD02-87EF-4FED-8ACE-019BFD62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B858CB-B6EF-419B-8A9A-BA9D8E4E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397E-B5D0-4376-B8F8-A3770BCCB2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0264B-9BA1-42A4-A6BD-B5BEB6F0B1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714B2B-E513-472D-BE2A-C2B2418C56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576DCE-99D9-4BBF-B6F6-35BADB81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5F4F8F-1727-4203-B8ED-1EFD1441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513B21-344B-4724-A940-286E8719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0FB218-7DD3-43F1-BAB7-FD760A4C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8131BF-97EA-4371-B1E2-91ABB5F1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2E2C14-A79A-4EED-816C-CB368122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3E6D14-E300-4EA8-B2DB-E5545532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4123AA-7C7E-4F00-92F1-F3295419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13436-06AF-46A3-BA0B-8167F98BE1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2C0D8F-B6D0-4F48-A6A9-9F2B95AF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72190C-97D8-4234-B2D4-11416617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3D9159-2CA6-4723-911B-CD2208ADB9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7D672-C860-44F1-A626-D96B3161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6C817-9B47-476F-973C-138000EC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CEC4C-BA15-48EA-B1DC-FC1BD484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743F7-8B43-4550-B3D6-E05179D9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A08E4-18F3-4EE2-835C-E1ED83F5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13322-2099-4062-AAA7-C1A01DE2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157F-C6EF-49DA-8ED7-61D95F20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4719F-496E-41D7-AB69-40A56C18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FE336-E8EA-4892-A186-69FCFE52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6720B-D66D-462B-8184-F5F04538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76A81-AB0A-4F03-B0F5-B472E028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CCD09-8FC3-4794-9512-4B1CD3AE3C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7A25-2A41-4D3D-B406-EE008DDEB5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8E2D-4B73-44BB-9ADE-51532C69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2994-1C15-432F-854D-0F1176FE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0F07-E29B-43A7-BDB2-3911642C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B2F8-8547-4379-8AA1-5F3926E3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5670D-8C4E-470C-9321-ABC5C1D7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3CE4-D0F3-4D61-B6DD-C7A434AB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89A4-5AC4-4E52-A721-01B60765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9525-09BC-4488-9B76-A1772610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9380-5DE4-4AFB-B36B-E3A73428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0531-BA8C-4C01-8C99-2200B463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FF90-C915-4673-A385-5DD2B462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0A11-4648-4270-9A4A-B91918C75E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F703D-100C-4A56-ACCA-0C6AA1CF79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2FB7C-AA4B-46C1-B28E-A3BC0979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07B74-4E19-4D04-A62E-72B2C91E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234D-14EC-4792-93B3-C4773518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2AB58-52B5-4D85-BDC8-A88331D8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8A1E6-D39A-4F80-87F4-B4908768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D6711-1DD0-42F5-BFBD-4315D05C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FCE73-2FD5-4022-A778-30C9AC92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72125-BA78-4BD9-B085-9ACB4568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7322F-7FC8-4A56-B159-4084B9AA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5DACD-3AEF-4CA0-88A6-DB4C4481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4FE5C-5447-4DE3-AAFA-38D57183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4A49A-E9CA-416E-B245-9CE31E6FF6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1C8756-4FC7-412C-A5C7-AB31710910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718C-C356-40BB-B1FA-B3E60D50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5AED6D-2362-41F9-BC91-9C94AE7E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0863A1-3852-4693-9596-4FA412E7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96F1C5-074E-4A53-A296-BE0ED96A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A05EA1-9116-4A00-9194-8C0593B4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1021E5-53D4-4B9D-A62F-E0BC8658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4697CC-6D41-489D-BAB5-CD4F4935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BFAD8B-5AA8-4479-90D2-FB403D07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24C00-F65C-4C54-8748-424B2A52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945063-F6B1-4AF8-B961-4BC3DBD5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7AC04-5224-47F1-B60F-0FD31949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32EA0-3BAA-4391-862C-8D9B326C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D83697-1A58-4EF6-94B9-E487B6D679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7D0A0-B5BF-4967-8A0E-9262F0E7F9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38485-5218-47C0-8198-A80A7B0D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A9182-4453-4D76-B41F-1744B423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0F93F-C278-4D5A-852F-FC9DBC54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E4967-7020-4585-A2C8-933788FF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070BE-067A-4DF6-B715-296694E9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AD7EC-B95C-4286-AB9E-0CF88D7F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9F43-561E-4317-A8C6-42D9F3DB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55E29-DC4C-4638-90BD-3A6C0B3A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215A-EB13-42B1-ABBB-D2D109E7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D240C-C57E-400D-A2D9-5035DA71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ABBD7-993C-4505-A43D-07245642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282F5-731F-45A3-9E2D-244D3BA988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FFE89-B0C3-426D-BA92-B0268AEE8A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ACF3C-E19A-401C-A63C-FDCEE5B7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58893-2B57-4573-B04C-7DB8D2CF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F7085-1C54-42FE-9F59-A9EC452B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DD815-3AFD-4320-8288-01D77B5E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1A8AE-86E6-4A0B-B741-C9FBA950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112CA-21B1-416C-A4E4-984973EF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9D81C-181C-4016-B04F-087B354A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F583F-BEFE-489C-BC8F-B7CE6838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738597-85B7-4B32-8386-0189F7B0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1E13D-AC1B-4BC7-BFA5-23D6486B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3385B-7934-4972-9CCC-40E844E7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8DECA-6F8B-4B6A-AF1B-85C3804A8E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59F36A-78B0-4DBD-A017-D88705B4B7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EB3B0E-31AF-4171-B862-2BCE1CDF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56E8C1-B64B-42F4-B4B8-3BC5C1FB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3CD871-C470-48E1-9AB2-63CD3C5B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A9D0A8-D4C8-4A9B-839A-40D4190F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2F28E-366D-46BC-A724-B266B692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142C99-BC5F-4C50-A488-E3F30DAC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B95966-AAB0-41CA-8A83-A232B79E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98B6FD-9389-4DD8-907E-D73FF7ED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65924B-32A7-480A-91A0-D35AE00D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8F60B2-664B-4815-9ADC-CB485463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CA9AD9-C0F8-4004-B200-FC8A919A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26D420-F6D4-4D04-A5A2-9EB1125089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52552-BA5D-487B-ABF7-9035BA4874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BDD1C-9883-4127-B2F1-75B72E19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42992-9796-4A21-99FC-A5C3A94A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31BC1-09F7-46F7-A0E6-F2B5038307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0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46CCC-A651-4204-95D7-E8C3CB9E2B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724960" y="365040"/>
            <a:ext cx="2627280" cy="58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8080" y="365040"/>
            <a:ext cx="7732800" cy="58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24229-4D38-4F6D-A2DB-454D4A212C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CA210-DE5E-4B48-B22B-2701DA2EBE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-113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" indent="-113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3040" indent="-113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040" indent="-113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040" indent="-113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040" indent="-113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7E8CC-1D1B-46B8-BBFD-7BFD25B043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825560"/>
            <a:ext cx="518184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1825560"/>
            <a:ext cx="51814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8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1E5C2-BADA-49F1-8F98-2CBE29B83C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9520" y="365040"/>
            <a:ext cx="10513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9520" y="1681200"/>
            <a:ext cx="51562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7000"/>
          </a:bodyPr>
          <a:p>
            <a:pPr marL="5832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320" indent="-583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8320" indent="-583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320" indent="-583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58320" indent="-583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58320" indent="-583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58320" indent="-583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9880" y="2505240"/>
            <a:ext cx="515916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2505240"/>
            <a:ext cx="518328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9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0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E29BA-7D7C-42A7-9309-4CB78DB7EA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491CA-9215-4187-B85A-455FDDED3A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Num" idx="1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391D1-254D-406B-A8E4-D393F8E21F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9880" y="456840"/>
            <a:ext cx="393048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83280" y="987480"/>
            <a:ext cx="617220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9880" y="2057040"/>
            <a:ext cx="393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5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3BE27-4D88-429D-B593-C7F3896C44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9880" y="456840"/>
            <a:ext cx="393048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83280" y="987480"/>
            <a:ext cx="617220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39880" y="2057040"/>
            <a:ext cx="393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8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FDFDC-C28F-4E71-96AB-93D0B86BAA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523880" y="36021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  <a:effectLst>
            <a:outerShdw dist="1800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55" name=""/>
          <p:cNvSpPr/>
          <p:nvPr/>
        </p:nvSpPr>
        <p:spPr>
          <a:xfrm>
            <a:off x="198360" y="704880"/>
            <a:ext cx="804888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Средневековая Англ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Туманный Альби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89720" y="4919760"/>
            <a:ext cx="455292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Выполнили: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Аблеева Алсу, Бакиева Фарида, Балдина Диана, Загородникова Анастасия, Каримова Карина, Петросян Ангелина.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Группа: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12 «Фармац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rcRect l="0" t="0" r="4807" b="0"/>
          <a:stretch/>
        </p:blipFill>
        <p:spPr>
          <a:xfrm>
            <a:off x="5543640" y="1341360"/>
            <a:ext cx="6648480" cy="47196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47880" y="-2430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Географическое по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34800" y="1125360"/>
            <a:ext cx="5256360" cy="53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</a:rPr>
              <a:t>Остров омывает: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с запада и севера Антлантический океан, с востока-Северное море, с запада – Ирландское мор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</a:rPr>
              <a:t>Полезные ископаемые: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золото, железные руды, медь, олово, угол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</a:rPr>
              <a:t>Климат: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океанический климат, формируется теплым течением. На северо-востоке страны холодные районы, юго-восточная часть –теплые районы в Англии. Частые туман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</a:rPr>
              <a:t>7 независимых королевств: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Шотландия, Нортумбия, Восточная Англия, Мерсия, Уэльс, Уэсеекс, область «Датского права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3880" y="-603720"/>
            <a:ext cx="11568240" cy="28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нятие населен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23880" y="1268280"/>
            <a:ext cx="504036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мледел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товод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мес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биратель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реплавание и торгов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бная лов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хота на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етение корз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095880" y="3557520"/>
            <a:ext cx="5878800" cy="30574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6095880" y="538200"/>
            <a:ext cx="5878800" cy="27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rcRect l="24402" t="0" r="15768" b="0"/>
          <a:stretch/>
        </p:blipFill>
        <p:spPr>
          <a:xfrm>
            <a:off x="4792680" y="639720"/>
            <a:ext cx="6759720" cy="557856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03040" y="635040"/>
            <a:ext cx="38862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оциальное устрой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04760" y="2432160"/>
            <a:ext cx="3886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цар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уховен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естья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месленики, торгов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463536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e3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4200" y="484200"/>
            <a:ext cx="3666960" cy="5738760"/>
          </a:xfrm>
          <a:custGeom>
            <a:avLst/>
            <a:gdLst>
              <a:gd name="textAreaLeft" fmla="*/ 0 w 3666960"/>
              <a:gd name="textAreaRight" fmla="*/ 3667320 w 3666960"/>
              <a:gd name="textAreaTop" fmla="*/ 0 h 5738760"/>
              <a:gd name="textAreaBottom" fmla="*/ 5739120 h 5738760"/>
            </a:gdLst>
            <a:ahLst/>
            <a:rect l="textAreaLeft" t="textAreaTop" r="textAreaRight" b="textAreaBottom"/>
            <a:pathLst>
              <a:path w="21600" h="33803">
                <a:moveTo>
                  <a:pt x="0" y="0"/>
                </a:moveTo>
                <a:arcTo wR="0" hR="0" stAng="16200000" swAng="-5400000"/>
                <a:lnTo>
                  <a:pt x="0" y="33803"/>
                </a:lnTo>
                <a:arcTo wR="0" hR="0" stAng="10800000" swAng="-5400000"/>
                <a:lnTo>
                  <a:pt x="21600" y="3380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8caca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rcRect l="0" t="14773" r="0" b="25026"/>
          <a:stretch/>
        </p:blipFill>
        <p:spPr>
          <a:xfrm>
            <a:off x="344520" y="252360"/>
            <a:ext cx="3948120" cy="32227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rcRect l="13894" t="0" r="3562" b="0"/>
          <a:stretch/>
        </p:blipFill>
        <p:spPr>
          <a:xfrm>
            <a:off x="344520" y="3502080"/>
            <a:ext cx="3948120" cy="295416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116320" y="237600"/>
            <a:ext cx="64227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Культу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116680" y="2438280"/>
            <a:ext cx="64227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ыцарски турниры(11-16вв.)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енное состязане рыцарей, демонстрирующие  боевые качества, главню военную си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15960" y="52560"/>
            <a:ext cx="10515600" cy="58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marL="457200" indent="-45576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рхитектур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4980000">
            <a:off x="3851640" y="-226080"/>
            <a:ext cx="260280" cy="1957320"/>
          </a:xfrm>
          <a:custGeom>
            <a:avLst/>
            <a:gdLst>
              <a:gd name="textAreaLeft" fmla="*/ 65160 w 260280"/>
              <a:gd name="textAreaRight" fmla="*/ 195480 w 260280"/>
              <a:gd name="textAreaTop" fmla="*/ 0 h 1957320"/>
              <a:gd name="textAreaBottom" fmla="*/ 1892520 h 19573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20165"/>
                </a:lnTo>
                <a:lnTo>
                  <a:pt x="0" y="20165"/>
                </a:lnTo>
                <a:lnTo>
                  <a:pt x="10800" y="21600"/>
                </a:lnTo>
                <a:lnTo>
                  <a:pt x="21600" y="20165"/>
                </a:lnTo>
                <a:lnTo>
                  <a:pt x="16200" y="20165"/>
                </a:lnTo>
                <a:lnTo>
                  <a:pt x="1620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16800000">
            <a:off x="8171640" y="-176760"/>
            <a:ext cx="257040" cy="1957320"/>
          </a:xfrm>
          <a:custGeom>
            <a:avLst/>
            <a:gdLst>
              <a:gd name="textAreaLeft" fmla="*/ 64080 w 257040"/>
              <a:gd name="textAreaRight" fmla="*/ 192960 w 257040"/>
              <a:gd name="textAreaTop" fmla="*/ 0 h 1957320"/>
              <a:gd name="textAreaBottom" fmla="*/ 1893240 h 19573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20181"/>
                </a:lnTo>
                <a:lnTo>
                  <a:pt x="0" y="20181"/>
                </a:lnTo>
                <a:lnTo>
                  <a:pt x="10800" y="21600"/>
                </a:lnTo>
                <a:lnTo>
                  <a:pt x="21600" y="20181"/>
                </a:lnTo>
                <a:lnTo>
                  <a:pt x="16200" y="20181"/>
                </a:lnTo>
                <a:lnTo>
                  <a:pt x="1620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28800" y="957240"/>
            <a:ext cx="2835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мански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986600" y="1106640"/>
            <a:ext cx="34578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ически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303120" y="1555920"/>
            <a:ext cx="3013200" cy="20127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281400" y="1617840"/>
            <a:ext cx="182880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инчестерский собо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303120" y="3867120"/>
            <a:ext cx="3208320" cy="253224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3511440" y="3867120"/>
            <a:ext cx="18288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зилика Сен-Сернин в Тулу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8300880" y="1550880"/>
            <a:ext cx="3587760" cy="20131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6192720" y="1592280"/>
            <a:ext cx="203832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ентерберий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8265960" y="3624120"/>
            <a:ext cx="3297240" cy="30146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873760" y="3959280"/>
            <a:ext cx="610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Эксетер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838080" y="284040"/>
            <a:ext cx="10515600" cy="59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801720" y="860400"/>
            <a:ext cx="2279520" cy="26798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174840" y="1352520"/>
            <a:ext cx="1828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жефри Чо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838080" y="3841920"/>
            <a:ext cx="2279880" cy="26794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174840" y="4611600"/>
            <a:ext cx="212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ильям Лэнгле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9112320" y="885960"/>
            <a:ext cx="2279520" cy="26524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7283520" y="1227240"/>
            <a:ext cx="1828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мас Мэ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9132840" y="3841920"/>
            <a:ext cx="2279520" cy="26524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7066080" y="4610160"/>
            <a:ext cx="200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берт Генри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03640" y="2565360"/>
            <a:ext cx="28213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02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сть</cp:lastModifiedBy>
  <dcterms:modified xsi:type="dcterms:W3CDTF">2018-05-28T09:38:39Z</dcterms:modified>
  <cp:revision>6</cp:revision>
  <dc:subject/>
  <dc:title>Презентация PowerPoint</dc:title>
</cp:coreProperties>
</file>