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EE3-BA15-457A-AF26-3F68D2A9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B03-ABC1-4877-B521-F8C840E2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A1A-17B9-4C64-B53D-AAF8FB7A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E80-FD4F-4471-BB2C-AD00C36E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040-32E0-4ABB-8325-19FD3E8B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D9B-A26C-4118-9142-AE841E8B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F4F-23BD-42F6-8D2E-1EA1F68B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25B-4EB5-4E8E-B4B5-F2BF3FEF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4D9-C872-481F-A7CC-4BC762E5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5BF-0AB7-455F-958D-4AB21FD2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38B-06DF-4FCD-9FEC-30BBF80E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B6F-C681-402B-A05D-5FEA2573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4B05-A98A-4C48-A812-1641AC805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стюм Древней Грец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067280" y="3068640"/>
            <a:ext cx="43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alligraphy"/>
              </a:rPr>
              <a:t>Существовал ещё другой вид плаща короткий, скреплявшийся на шее пряжкой и свободно падавший на спину и плечи. Этот плащ назывался ХЛАМИДОЙ и применялся на войне, на Охоте, в дороге. В Афинах хламида была обычной одеждой юнош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140360" y="836640"/>
            <a:ext cx="287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Хламида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752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32000" y="33336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alligraphy"/>
              </a:rPr>
              <a:t>Эстетической основой костюма являлась драпировка, которая располагалась в самых разнообразных направлениях, подчёркивая форму тела, и изменялась в разных ракурсах при движении. Вся драпированная одежда основана на системе каскадных, трубчатых, лучевых и органных скл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3095640" cy="376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40320" y="2421000"/>
            <a:ext cx="296244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116000" y="2492280"/>
            <a:ext cx="6958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prstDash val="dash"/>
                  <a:miter/>
                </a:ln>
                <a:solidFill>
                  <a:srgbClr val="ffff00"/>
                </a:solidFill>
                <a:latin typeface="Monotype Corsiva"/>
              </a:rPr>
              <a:t>Женский костюм</a:t>
            </a:r>
            <a:endParaRPr b="0" lang="en-US" sz="8000" spc="1" strike="noStrike">
              <a:ln w="9360">
                <a:solidFill>
                  <a:srgbClr val="000000"/>
                </a:solidFill>
                <a:prstDash val="dash"/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781360"/>
            <a:ext cx="482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alligraphy"/>
              </a:rPr>
              <a:t>Женский костюм того времени надо было не столько кроить, сколько драпировать на себе. Как и мужская , женская одежда разделялась на две основные части – легкое нижнее платье и более плотное верхнее одеяние – ПЕПЛОС. Для выхода на улицу надевали ПЕПЛОС - кусок ткани шириной около полутора метров и длиной 3- 4 метра, которым гречанки драпировались с бесконечным разнообразием складок. Иногда краем этого куска закутывали голову, если не надевали отдельное покрыва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0" y="692280"/>
            <a:ext cx="1984320" cy="544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0" y="-1433520"/>
            <a:ext cx="257328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Пеплос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6 0.0375 C 0.00938 0.03796 0.02171 0.0382 0.03403 0.03912 C 0.03698 0.03935 0.04376 0.04283 0.04584 0.04375 C 0.04705 0.04421 0.04948 0.04537 0.04948 0.0456 C 0.05452 0.05 0.05921 0.05232 0.06494 0.05486 C 0.06615 0.05533 0.06858 0.05648 0.06858 0.05671 C 0.07448 0.06204 0.07014 0.05857 0.07917 0.06273 C 0.0816 0.06389 0.08629 0.06597 0.08629 0.06621 C 0.08976 0.0706 0.09185 0.07523 0.09584 0.07871 C 0.10001 0.08704 0.1066 0.09306 0.11129 0.10093 C 0.11303 0.10417 0.11459 0.10718 0.11615 0.11042 C 0.11702 0.11204 0.11858 0.11528 0.11858 0.11551 C 0.13212 0.17246 0.12327 0.14491 0.12327 0.26597 E">
                                      <p:cBhvr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0208 L -0.26198 0.00208 E">
                                      <p:cBhvr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32000" y="52200"/>
            <a:ext cx="5808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alligraphy"/>
              </a:rPr>
              <a:t>Нижний ХИТОН делался гораздо длиннее мужского. Это длинное свободное одеяние, подхваченное поясом, который замужние женщины носили под грудью, а девушки – на талии или на бёдрах. Иногда к хитону приделывались закрытые и открытые рукава. Обычно хитон скреплялся на правом плече пряжкой или перекрещивался на груди и отделывался каймой. ХИТОН – домашний костю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056360" y="2997360"/>
            <a:ext cx="7056360" cy="337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24000" y="549360"/>
            <a:ext cx="2361960" cy="14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Хитон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44444E-006 L 0.83472 -0.01065 E">
                                      <p:cBhvr>
                                        <p:cTn id="5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1195560"/>
            <a:ext cx="633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Calligraphy"/>
              </a:rPr>
              <a:t>Для женских одежд применялась шерсть, полотно и прозрачная ткань, происхождение которой неизвестно. Из цветов предпочитали шафрановый, пурпурный, зелёный, серо-голубой, золотисто-коричневый и белый. Любили ткани в рисунок, яркие каймы и узоры для отд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16360" y="3173400"/>
            <a:ext cx="38401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58920" y="2852640"/>
            <a:ext cx="625932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prstDash val="dash"/>
                  <a:miter/>
                </a:ln>
                <a:solidFill>
                  <a:srgbClr val="ffff00"/>
                </a:solidFill>
                <a:latin typeface="Monotype Corsiva"/>
              </a:rPr>
              <a:t>Мужской костюм</a:t>
            </a:r>
            <a:endParaRPr b="0" lang="en-US" sz="6600" spc="1" strike="noStrike">
              <a:ln w="9360">
                <a:solidFill>
                  <a:srgbClr val="000000"/>
                </a:solidFill>
                <a:prstDash val="dash"/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113000" cy="5699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932360" y="-1143000"/>
            <a:ext cx="2289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Хитон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6585120"/>
            <a:ext cx="431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alligraphy"/>
              </a:rPr>
              <a:t>Основной частью мужской одежды был ХИТОН. Его надевали прямо на тело. Это кусок ткани с отверстиями для рук. Верхние концы скреплялись на плече пряжкой. Длина хитона была различной в разные периоды. Первоначально его носили очень длинным, позднее стали подбирать пояском так, что он доходил только до колен. Иногда к хитону приделывались рукава. Хитоны для рабов, слуг, ремесленников и воинов имели только одно отверстие, для левой руки, а правое плечо оставалось обнажен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2222E-006 L -1.38889E-006 0.27315 E">
                                      <p:cBhvr>
                                        <p:cTn id="9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L 1.38889E-006 -0.66111 E">
                                      <p:cBhvr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3422520"/>
            <a:ext cx="474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Calligraphy"/>
              </a:rPr>
              <a:t>Поверх хитона набрасывали ГИМАТИЙ – нечто вроде плаща. Один край гиматия укреплялся на груди под левым плечом, затем ткань закидывалась за левое плечо на спину, проходя под правой рукой или над ней, и вновь закидывалась на левое плечо так, чтобы другой конец её падал на сп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00000" y="765000"/>
            <a:ext cx="288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Гиматий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0" y="692280"/>
            <a:ext cx="337500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42465 -0.00069 E">
                                      <p:cBhvr>
                                        <p:cTn id="130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2:51:52Z</dcterms:created>
  <dc:creator>user</dc:creator>
  <dc:description/>
  <dc:language>en-US</dc:language>
  <cp:lastModifiedBy>Oksana</cp:lastModifiedBy>
  <dcterms:modified xsi:type="dcterms:W3CDTF">2011-04-14T10:13:39Z</dcterms:modified>
  <cp:revision>2</cp:revision>
  <dc:subject/>
  <dc:title>Костюм Древней Греции </dc:title>
</cp:coreProperties>
</file>