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E06-EA9E-4E36-876F-88EDD1E6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7C9-3873-478B-BC2D-767B3621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B0B-210D-470A-AC92-58A2C671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462-B8CE-4D28-8E2B-AA7095EA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5557-0CAB-453E-A2A3-7D5B5479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5E40-300F-4FEF-9267-1E4B4893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7B24-EF2C-406D-83F4-64189E16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6CF4-AACB-4328-AAD2-1B8DC2BB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4877-2BF4-43FE-8639-43ACAABB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43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F4DB-B295-4029-9C9B-89D8EB25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E70F-C153-4A1D-BBC3-0EF4A8B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E18-F5CA-4F31-B746-1FEE8582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91B9-A1D3-41CE-BBB9-E502EEFF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619A-842E-4CE6-BCC7-BFD08673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9F2F-94E7-443E-8438-BB4E63CE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B671-0FDC-4076-92D7-ED2C41D8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004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920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004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5920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FB19-90EB-41B9-9BF7-37C8BE67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431-CCAF-40E1-97F5-E852F2DC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43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5004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5920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5004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5920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B31-6934-48A7-B593-9E87162A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B6B-4159-43FA-B791-B3D34FDA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43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367-3392-4CA5-8BA6-73354493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218-0971-4CB9-A194-8A1C293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470-6A74-4D5A-A2F2-B236A4C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99A-C9CB-4EBD-A269-2E8A429C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3318AD-E2A7-4674-8AC1-920C19887AC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440" y="2100240"/>
            <a:ext cx="85978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82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BB1D25-68F5-4B40-972A-EBBC69AA52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293840" y="503280"/>
            <a:ext cx="85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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Математика в жизни се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293840" y="2184480"/>
            <a:ext cx="856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5152a"/>
                </a:solidFill>
                <a:latin typeface="Times New Roman"/>
                <a:ea typeface="Lucida Sans Unicode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емьяненко Эмилия Анатол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арфеновская СОШ 10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5152a"/>
                </a:solidFill>
                <a:latin typeface="Times New Roman"/>
                <a:ea typeface="Lucida Sans Unicode"/>
              </a:rPr>
              <a:t>Руководит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асильченко Надежда Степ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447920" y="5257800"/>
            <a:ext cx="1809720" cy="112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7920000" y="2543040"/>
            <a:ext cx="145260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4680000" y="5040360"/>
            <a:ext cx="1236600" cy="164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920000" y="4500720"/>
            <a:ext cx="18003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8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3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8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940360" y="0"/>
            <a:ext cx="3567240" cy="2637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39640" y="3780000"/>
            <a:ext cx="270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-9.40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8520" y="4319640"/>
            <a:ext cx="329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ина-3.20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9280" y="4859280"/>
            <a:ext cx="35244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кидка-7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-900000" y="5759280"/>
            <a:ext cx="80992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=(0.52х7-0.46х3.2)х3.2х9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65.213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190520" y="6745320"/>
            <a:ext cx="2229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65м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50880" y="5400720"/>
            <a:ext cx="330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=(0,52П-0,46Ш)*Ш*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859280" y="324000"/>
            <a:ext cx="5040360" cy="72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айти площадь п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ΔАВС -прямоугольный, то его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по форму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=AB•BC •1/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CDAN прямоугольник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N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D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ично находятся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1619280" y="3240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720720" y="757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1836720" y="576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3097080" y="720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5"/>
          <a:stretch/>
        </p:blipFill>
        <p:spPr>
          <a:xfrm>
            <a:off x="4319640" y="757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6"/>
          <a:stretch/>
        </p:blipFill>
        <p:spPr>
          <a:xfrm>
            <a:off x="4500720" y="1619280"/>
            <a:ext cx="502920" cy="482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7"/>
          <a:stretch/>
        </p:blipFill>
        <p:spPr>
          <a:xfrm>
            <a:off x="4414680" y="2976480"/>
            <a:ext cx="41940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8"/>
          <a:stretch/>
        </p:blipFill>
        <p:spPr>
          <a:xfrm>
            <a:off x="3274920" y="3443400"/>
            <a:ext cx="419040" cy="5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11"/>
          <p:cNvGraphicFramePr/>
          <p:nvPr/>
        </p:nvGraphicFramePr>
        <p:xfrm>
          <a:off x="1295280" y="1260360"/>
          <a:ext cx="3024360" cy="201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1260360"/>
                    <a:ext cx="30243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682720" y="0"/>
            <a:ext cx="453240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293840" y="2016000"/>
            <a:ext cx="8567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зучении математики мне всегда хотелось узнать о её применении в жизни села, поэтому , работая над данной темой, я поняла, что математика не существует отдельно от жизни: математические соотношения рассматриваются применительно к конкретным ситуациям, теоретические результаты сравниваются с приемами, распространёнными в практической деятельности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2"/>
          <p:cNvSpPr txBox="1"/>
          <p:nvPr/>
        </p:nvSpPr>
        <p:spPr>
          <a:xfrm>
            <a:off x="2016000" y="419040"/>
            <a:ext cx="705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0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аключени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1"/>
          <p:cNvSpPr txBox="1"/>
          <p:nvPr/>
        </p:nvSpPr>
        <p:spPr>
          <a:xfrm>
            <a:off x="3060720" y="1792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134"/>
                <a:gd name="adj2" fmla="val 87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Лит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741240" y="555480"/>
            <a:ext cx="8605800" cy="63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Журнал: «Пчеловод», подшивка за 2001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Сельскохозяйственная энциклопедия  П.П.Лоб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Журнал: «Математика в школе» №1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Учебник: «Геометрия 7-11 класс»Л.С.Атанас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739800" y="604800"/>
            <a:ext cx="86090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7ff"/>
                </a:solidFill>
                <a:latin typeface="Arial"/>
                <a:ea typeface="Lucida Sans Unicode"/>
              </a:rPr>
              <a:t>Актуальность рабо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741240" y="541440"/>
            <a:ext cx="8605800" cy="63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marL="343080" indent="-33372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мение применять знания школьного курса математики в жизни,что способствует расширению кругозора и более пристальному вниманию к школьному материал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992160" y="1984320"/>
            <a:ext cx="8567640" cy="54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</a:t>
            </a:r>
            <a:r>
              <a:rPr b="1" lang="ru-RU" sz="4000" spc="-1" strike="noStrike">
                <a:solidFill>
                  <a:srgbClr val="cc0027"/>
                </a:solidFill>
                <a:latin typeface="Times New Roman"/>
                <a:ea typeface="Lucida Sans Unicode"/>
              </a:rPr>
              <a:t>Умение решать задачи практического характера,с применением приобретенных знаний в школе;расширение кругозора в ходе исследования,а также показать связь математики с жизнь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WordArt 2"/>
          <p:cNvSpPr txBox="1"/>
          <p:nvPr/>
        </p:nvSpPr>
        <p:spPr>
          <a:xfrm>
            <a:off x="2184480" y="755640"/>
            <a:ext cx="6467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1fa3"/>
                </a:solidFill>
                <a:latin typeface="Times New Roman"/>
              </a:rPr>
              <a:t>Цель рабо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d1fa3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1"/>
          <p:cNvSpPr txBox="1"/>
          <p:nvPr/>
        </p:nvSpPr>
        <p:spPr>
          <a:xfrm>
            <a:off x="2184480" y="419040"/>
            <a:ext cx="6132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45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a27eb"/>
                </a:solidFill>
                <a:latin typeface="Times New Roman"/>
              </a:rPr>
              <a:t>Задачи рабо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a27eb"/>
              </a:solidFill>
              <a:latin typeface="Times New Roman"/>
              <a:ea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900000" y="2043000"/>
            <a:ext cx="86472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808e4"/>
                </a:solidFill>
                <a:latin typeface="Comic Sans MS"/>
              </a:rPr>
              <a:t>1.Изучить литературу по данной тем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808e4"/>
                </a:solidFill>
                <a:latin typeface="Comic Sans MS"/>
              </a:rPr>
              <a:t>2.Рассмотреть экстремальное свойство шестиугольных пчелиных со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808e4"/>
                </a:solidFill>
                <a:latin typeface="Comic Sans MS"/>
              </a:rPr>
              <a:t>3.Показать применение формул площади,объема и масс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"/>
          <p:cNvSpPr txBox="1"/>
          <p:nvPr/>
        </p:nvSpPr>
        <p:spPr>
          <a:xfrm>
            <a:off x="1763640" y="336600"/>
            <a:ext cx="74757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c72a"/>
                </a:solidFill>
                <a:latin typeface="Times New Roman"/>
              </a:rPr>
              <a:t>Геометрия пчелиных со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cc72a"/>
              </a:solidFill>
              <a:latin typeface="Times New Roman"/>
              <a:ea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96720" y="1371600"/>
            <a:ext cx="97077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чёлы - удивительные творения природы. Свои геометрические способности они проявляют при построении сот. Если разрезать пчелиные соты плоскостью,перпендикулярной их ребрам,то будет видна сеть правильных шестиугольников ,уложенных в виде парк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468600" y="3708360"/>
            <a:ext cx="2344680" cy="15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309600" y="198360"/>
            <a:ext cx="96105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чему пчелы для построения ячеек сот «выбрали» именно  форму правильного  шестиугольника, а не правильных треугольников или квадратов,ведь их гораздо проще сконструиров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rcRect l="57998" t="-148" r="0" b="0"/>
          <a:stretch/>
        </p:blipFill>
        <p:spPr>
          <a:xfrm>
            <a:off x="3182760" y="2637000"/>
            <a:ext cx="2017800" cy="29192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3968640" y="6135840"/>
            <a:ext cx="1165320" cy="1008000"/>
          </a:xfrm>
          <a:prstGeom prst="hexagon">
            <a:avLst>
              <a:gd name="adj" fmla="val 28902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58920" y="166680"/>
            <a:ext cx="860112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офиль пчелиной ячейки - правильный шестиугольник, и он из всех возможных многоугольников с данной площадью имеет наименьший периметр, поэтому в результате эволюции сложилось та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что пчелы использ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шес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Объем стогов с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968560" y="2065320"/>
            <a:ext cx="358164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539640" y="1347840"/>
            <a:ext cx="856800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нашем совхозе для каждого вида скирды имеется своя формула для вычисления объёма с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400"/>
                </a:solidFill>
                <a:latin typeface="Arial"/>
                <a:ea typeface="Lucida Sans Unicode"/>
              </a:rPr>
              <a:t>Плосковерхая скир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=(0,52П-0,44Ш)*Ш*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Lucida Sans Unicode"/>
              </a:rPr>
              <a:t>Островерхая скир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Замечание: ширина, длина и окружность измеряются на высоте 1 мет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60360" y="3419640"/>
          <a:ext cx="251964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3419640"/>
                    <a:ext cx="251964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575400" y="3060720"/>
            <a:ext cx="242424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260360" y="5099040"/>
                <a:ext cx="16812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П</m:t>
                        </m:r>
                        <m:r>
                          <m:t xml:space="preserve">⋅</m:t>
                        </m:r>
                        <m:r>
                          <m:t xml:space="preserve">Ш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WordArt 6"/>
          <p:cNvSpPr txBox="1"/>
          <p:nvPr/>
        </p:nvSpPr>
        <p:spPr>
          <a:xfrm>
            <a:off x="1679400" y="252360"/>
            <a:ext cx="7728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Объём стогов с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545080" y="2700360"/>
            <a:ext cx="399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=(0,52П-0,46Ш)*Ш*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580000" y="2154240"/>
            <a:ext cx="386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0000"/>
                </a:solidFill>
                <a:latin typeface="Arial"/>
                <a:ea typeface="Lucida Sans Unicode"/>
              </a:rPr>
              <a:t>Кругловерхая скир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5:07:55Z</dcterms:created>
  <dc:creator/>
  <dc:description/>
  <dc:language>en-US</dc:language>
  <cp:lastModifiedBy>всн</cp:lastModifiedBy>
  <dcterms:modified xsi:type="dcterms:W3CDTF">2018-12-26T12:42:39Z</dcterms:modified>
  <cp:revision>2</cp:revision>
  <dc:subject/>
  <dc:title>Слайд 1</dc:title>
</cp:coreProperties>
</file>