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BB4-ACC9-4F0D-8BF5-6B1110FB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33C-6D1A-477D-9C92-901C61EF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BA7-4165-4039-A2D3-8E983720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C72-4443-48DE-8A1F-8A248D9A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2CB0-E5B4-4E3B-9E85-5554940A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2BAA-7678-471B-90D4-2E3CD212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5854-8DAA-4B16-A735-F9137BAF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5B46-A304-4509-878F-E620E7D0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0623-0EB8-4E03-8DFD-76C4D436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E29E-4EE2-40C8-9044-4DA0D083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8D73-F321-43E2-B97F-9B3F6234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6CB-52CB-4590-B8E2-CAB41CA9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7D9A-6D04-4528-AE2E-CC7E712F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DA38-A8CF-4676-8541-0941600F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FAEA-F158-4B28-A9C5-8D51F4CE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C907-4EF8-491B-933D-F89D025B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FBAD-2620-49E3-A335-988502D8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FA426-F8B4-4C03-835D-D1141878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41803-B143-4C18-9A8F-94F69778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F81D1-BA53-4DA6-AF0D-170C3386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DDE23-F52D-44F3-B93A-21CBF519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9FD0F-6E2D-448C-8E71-EA038177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A63-B435-46A2-B5C0-5FAF9DCC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20B87-6C5A-4F0E-A565-0FF047A4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43443-7064-49BD-A81E-F5122E40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B3131-C7C0-4B43-B4B7-71A72178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9EECE-5B7B-4BE9-8F71-E1334DCF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7044F-6F0B-4963-A8B3-82FBE760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2FD4D-A35B-4BC7-BC5E-88550E44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4D09B-6C42-4A37-BD1C-4A34570B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4AEEF-2A7B-4BA1-992F-57B96B2F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0B5D7-1C37-4BE8-9366-1204C125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2549-6843-4951-9A60-55028A04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E6A-8399-4AA8-AE77-36E56DCB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AFF5-267B-4A43-94CF-ED1BB417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17C18-C4B7-4497-AC91-DC30E1F0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E2E0-CF6C-4FD6-8873-54DEF2F0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9047-D4C2-4FF6-A881-8748EE35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A414-3C6B-410C-9262-2041336B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CA793-9225-43B1-B79F-1546432D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86AF3-2373-4188-B19F-8BF1921B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87DA-D432-41C7-B237-D1C8BB8E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ACE1-BD15-4128-A9D6-C17C076A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2E1-5A59-4D6F-B4CC-D62A59B5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E41-7298-48AB-99E7-C57E2463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EA2-BAE3-42C2-B069-E52324D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1BE-AF55-4DB9-B934-70E3AE42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23E-146C-4BB0-9D07-6012942E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2ACC-4B5C-45B3-B281-501D6E65805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81B0-8521-4C19-B729-14BF661971B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5B38-26C8-415D-8F46-C1C728687A9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7A13-89C1-48AF-B0B5-0E884064E2C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792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at holiday in Great Britain do you know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8" descr="46"/>
          <p:cNvPicPr/>
          <p:nvPr/>
        </p:nvPicPr>
        <p:blipFill>
          <a:blip r:embed="rId1"/>
          <a:stretch/>
        </p:blipFill>
        <p:spPr>
          <a:xfrm>
            <a:off x="1619280" y="3716280"/>
            <a:ext cx="1870200" cy="237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рожд"/>
          <p:cNvPicPr/>
          <p:nvPr/>
        </p:nvPicPr>
        <p:blipFill>
          <a:blip r:embed="rId2"/>
          <a:stretch/>
        </p:blipFill>
        <p:spPr>
          <a:xfrm>
            <a:off x="5076720" y="414972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серд"/>
          <p:cNvPicPr/>
          <p:nvPr/>
        </p:nvPicPr>
        <p:blipFill>
          <a:blip r:embed="rId3"/>
          <a:stretch/>
        </p:blipFill>
        <p:spPr>
          <a:xfrm>
            <a:off x="5508720" y="12700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хэл"/>
          <p:cNvPicPr/>
          <p:nvPr/>
        </p:nvPicPr>
        <p:blipFill>
          <a:blip r:embed="rId4"/>
          <a:stretch/>
        </p:blipFill>
        <p:spPr>
          <a:xfrm>
            <a:off x="1042920" y="1484280"/>
            <a:ext cx="2665440" cy="1812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2"/>
          <p:cNvSpPr/>
          <p:nvPr/>
        </p:nvSpPr>
        <p:spPr>
          <a:xfrm>
            <a:off x="808200" y="50846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13"/>
          <p:cNvSpPr txBox="1"/>
          <p:nvPr/>
        </p:nvSpPr>
        <p:spPr>
          <a:xfrm>
            <a:off x="1692360" y="314172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Halloween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WordArt 14"/>
          <p:cNvSpPr txBox="1"/>
          <p:nvPr/>
        </p:nvSpPr>
        <p:spPr>
          <a:xfrm>
            <a:off x="5580000" y="2997360"/>
            <a:ext cx="23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7c80"/>
                </a:solidFill>
                <a:latin typeface="Times New Roman"/>
              </a:rPr>
              <a:t>Valentines Day</a:t>
            </a:r>
            <a:endParaRPr b="0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7c8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15"/>
          <p:cNvSpPr txBox="1"/>
          <p:nvPr/>
        </p:nvSpPr>
        <p:spPr>
          <a:xfrm>
            <a:off x="1547640" y="5950080"/>
            <a:ext cx="19432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en-US" sz="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New Year</a:t>
            </a:r>
            <a:endParaRPr b="0" lang="en-US" sz="800" spc="1" strike="noStrike">
              <a:ln w="9360">
                <a:solidFill>
                  <a:srgbClr val="0066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16"/>
          <p:cNvSpPr txBox="1"/>
          <p:nvPr/>
        </p:nvSpPr>
        <p:spPr>
          <a:xfrm>
            <a:off x="5796000" y="5877000"/>
            <a:ext cx="2087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en-US" sz="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Christmas </a:t>
            </a:r>
            <a:endParaRPr b="0" lang="en-US" sz="8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258920" y="4724280"/>
            <a:ext cx="56181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417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417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Georgia"/>
              </a:rPr>
              <a:t>HOLIDAY </a:t>
            </a:r>
            <a:r>
              <a:rPr b="1" lang="en-US" sz="2100" spc="-1" strike="noStrike">
                <a:solidFill>
                  <a:srgbClr val="006600"/>
                </a:solidFill>
                <a:latin typeface="Georgia"/>
              </a:rPr>
              <a:t> in Great Britai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7" descr="https://selfmadetrip.com/wp-content/uploads/2016/07/Prazdniki-Velikobritanii-770x488.jpg"/>
          <p:cNvPicPr/>
          <p:nvPr/>
        </p:nvPicPr>
        <p:blipFill>
          <a:blip r:embed="rId1"/>
          <a:stretch/>
        </p:blipFill>
        <p:spPr>
          <a:xfrm>
            <a:off x="971640" y="981000"/>
            <a:ext cx="6727680" cy="4264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9" descr="img1"/>
          <p:cNvPicPr/>
          <p:nvPr/>
        </p:nvPicPr>
        <p:blipFill>
          <a:blip r:embed="rId1"/>
          <a:stretch/>
        </p:blipFill>
        <p:spPr>
          <a:xfrm>
            <a:off x="187200" y="1413000"/>
            <a:ext cx="2656080" cy="201600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pic>
        <p:nvPicPr>
          <p:cNvPr id="227" name="Picture 25" descr="781px-Christmas_collage"/>
          <p:cNvPicPr/>
          <p:nvPr/>
        </p:nvPicPr>
        <p:blipFill>
          <a:blip r:embed="rId2"/>
          <a:stretch/>
        </p:blipFill>
        <p:spPr>
          <a:xfrm>
            <a:off x="2916360" y="1413000"/>
            <a:ext cx="3240000" cy="216036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pic>
        <p:nvPicPr>
          <p:cNvPr id="228" name="Picture 30" descr="Yazi_2570_172703296094"/>
          <p:cNvPicPr/>
          <p:nvPr/>
        </p:nvPicPr>
        <p:blipFill>
          <a:blip r:embed="rId3"/>
          <a:stretch/>
        </p:blipFill>
        <p:spPr>
          <a:xfrm>
            <a:off x="6227640" y="1484280"/>
            <a:ext cx="2156040" cy="198900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864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Christmas is celebrated on the </a:t>
            </a:r>
            <a:r>
              <a:rPr b="0" lang="ru-RU" sz="2200" spc="-1" strike="noStrike">
                <a:solidFill>
                  <a:srgbClr val="ff0000"/>
                </a:solidFill>
                <a:latin typeface="Georgia"/>
              </a:rPr>
              <a:t>25th December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. It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is the time when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Christians around the world celebrate the birth of Jesus. Most people ar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on holiday in the UK and stay at home with their family on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Christmas day.  They wake up very early in the morning to find thei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stockings have been filled by Father Christmas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WordArt 22"/>
          <p:cNvSpPr txBox="1"/>
          <p:nvPr/>
        </p:nvSpPr>
        <p:spPr>
          <a:xfrm>
            <a:off x="1979640" y="40464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ristmas </a:t>
            </a:r>
            <a:endParaRPr b="0" lang="en-US" sz="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3" descr="5622002736_2193b387e5"/>
          <p:cNvPicPr/>
          <p:nvPr/>
        </p:nvPicPr>
        <p:blipFill>
          <a:blip r:embed="rId1"/>
          <a:stretch/>
        </p:blipFill>
        <p:spPr>
          <a:xfrm>
            <a:off x="2700360" y="4149720"/>
            <a:ext cx="2185920" cy="218592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pic>
        <p:nvPicPr>
          <p:cNvPr id="232" name="Picture 42" descr="Pasxa"/>
          <p:cNvPicPr/>
          <p:nvPr/>
        </p:nvPicPr>
        <p:blipFill>
          <a:blip r:embed="rId2"/>
          <a:stretch/>
        </p:blipFill>
        <p:spPr>
          <a:xfrm>
            <a:off x="250920" y="4149720"/>
            <a:ext cx="221112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0" descr="320_easter-eggs-004"/>
          <p:cNvPicPr/>
          <p:nvPr/>
        </p:nvPicPr>
        <p:blipFill>
          <a:blip r:embed="rId3"/>
          <a:stretch/>
        </p:blipFill>
        <p:spPr>
          <a:xfrm>
            <a:off x="5148360" y="4149720"/>
            <a:ext cx="3095640" cy="2158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68360" y="1052640"/>
            <a:ext cx="8136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ter usually comes </a:t>
            </a:r>
            <a:r>
              <a:rPr b="0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the month of April.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ter Sunday in the United Kingdom is traditionally about Jesu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's resurrection from death, according to Christian belief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people use the day to decorate Easter eggs, shar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 eggs and participate in Easter egg competitions. Easter is the time fo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da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stival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WordArt 31"/>
          <p:cNvSpPr txBox="1"/>
          <p:nvPr/>
        </p:nvSpPr>
        <p:spPr>
          <a:xfrm>
            <a:off x="1619280" y="549360"/>
            <a:ext cx="568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ff0000">
                    <a:alpha val="98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aster Sunday (Пасхальное воскресенье). </a:t>
            </a:r>
            <a:endParaRPr b="0" lang="en-US" sz="800" spc="1" strike="noStrike">
              <a:ln w="0">
                <a:noFill/>
              </a:ln>
              <a:solidFill>
                <a:srgbClr val="ff0000">
                  <a:alpha val="98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sgiving day (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благодарения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Picture 7" descr="https://get.whotrades.com/u4/photo1C13/20160392072-0/original.jpeg"/>
          <p:cNvPicPr/>
          <p:nvPr/>
        </p:nvPicPr>
        <p:blipFill>
          <a:blip r:embed="rId1"/>
          <a:stretch/>
        </p:blipFill>
        <p:spPr>
          <a:xfrm>
            <a:off x="1476360" y="2997360"/>
            <a:ext cx="5256360" cy="33843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5"/>
          <p:cNvSpPr/>
          <p:nvPr/>
        </p:nvSpPr>
        <p:spPr>
          <a:xfrm>
            <a:off x="1187280" y="1341360"/>
            <a:ext cx="590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people in the USA still celebrate Thanksg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November. They get together with their family and they say thinks for all the good things that they have in their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468360" y="907920"/>
          <a:ext cx="8209080" cy="5113440"/>
        </p:xfrm>
        <a:graphic>
          <a:graphicData uri="http://schemas.openxmlformats.org/drawingml/2006/table">
            <a:tbl>
              <a:tblPr/>
              <a:tblGrid>
                <a:gridCol w="3313080"/>
                <a:gridCol w="4896000"/>
              </a:tblGrid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rite the nouns from the text ex.1p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oup 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ranslate this tex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oup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ll us about one holiday in Great Brita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600200"/>
            <a:ext cx="8147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oup A – write word combinations (noun+adjective) from ex.1p.7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oup B – make a short report about your favourite holida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oup C- make a presentation about other holiday of Great Britai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13:34:27Z</dcterms:created>
  <dc:creator>Абрамова Татьяна</dc:creator>
  <dc:description/>
  <dc:language>en-US</dc:language>
  <cp:lastModifiedBy>12</cp:lastModifiedBy>
  <dcterms:modified xsi:type="dcterms:W3CDTF">2018-02-08T02:55:19Z</dcterms:modified>
  <cp:revision>187</cp:revision>
  <dc:subject/>
  <dc:title>Приздники Великобритании</dc:title>
</cp:coreProperties>
</file>