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gif" ContentType="image/gi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181B-64D1-4365-A774-4383DEBF0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18A4-54B0-4B06-92F7-76894633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502E-69D7-49BD-83DA-61C537EE0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E1A2-EB05-456C-A36E-ADC623516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1029-7FA7-4514-8237-C1058273E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6ECE-BBFF-4CB6-9D0E-3FBD3251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DB58-525B-4CAE-A3C3-759B9895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DFA8-8AB7-422B-8D8D-5800DB3C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7416-B12D-4FC6-8913-69B465AF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8C43-6D6F-4053-B294-76EB1C96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13AD-098E-4EB6-B446-DEF5EDA9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CF80-8B00-41B9-8DD6-7DD3AD53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E0312-095B-4975-8FD6-75ABC11A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7D98-A210-4A0C-8545-1CAC09A0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5C39-5E33-4D31-93CA-E074A6BE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511A-5479-4905-A863-C51C3E04A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C2AD-2A34-427A-9B4D-E76483642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67E7BB-891D-4D7F-831D-69998DA5D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923949-D322-4CF4-A984-875412CB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124B8F-40E4-4D5D-ACA5-77AADDD1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4DF461-3567-46BD-B631-E6FDC16B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E1B68D-4C82-4F7D-8394-CC9E4A00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6FD6-9EE0-47EE-88D4-FB224D05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DB06EE-6351-40E5-A2A9-6AB2D825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C67C2D-156D-4907-9C39-09B8A6D7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A0F5FA-6D67-4986-B2C3-11D08711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C1AC29-6AED-4AC8-9ECC-F6C7DE6D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958E2D-183A-4CB8-8916-BA256C69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992C95-0DD1-4169-A57A-750000C17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1D2176-BF0C-4530-926C-D19E38BC9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662FD-1C5F-4492-B7A2-6B3370EDA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09DC4-6429-4EE6-AE1D-3289BAE3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D3ED1-F6B7-45F4-ADDC-FE025A52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B350-3EFD-4492-8F96-537726B9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33074-CC11-45EA-BBC1-9142D164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93B30-AB6B-45E3-A5CC-31F3B3E2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CABF9-59FC-4B6C-BB7C-885D1E14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403C0-3CF5-491E-9A15-D4039A72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0027B-86C3-44AD-BEC8-B452EB18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4CF04-37F2-4673-8AC6-B851CE1C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9676E-D419-4C3A-A41B-79CBB8D5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3374A-6785-4342-9350-6851DEE27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6DC93-2F18-4A83-B9AF-B5071AF80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BCB4-61D3-4085-8624-2BD18D49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A0D5-0B3C-4CB3-8726-32F4735F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ABBF-5BE6-4A8C-A917-3E9DE224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C997-E5CA-4E30-A9E6-C47032D5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317F-D3F2-4707-B2A6-6976A8BC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BB3F-5B36-4E3D-92AF-E4A60CB19146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D9BF-46A8-44AD-856D-7B5BF70541D7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7E2C-D3D9-4884-A3F5-CD4091E1B67A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1A6B-0504-4DF0-AC7B-B3E49F080754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18440" cy="79200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What holiday in Great Britain do you know?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5" name="Picture 8" descr="46"/>
          <p:cNvPicPr/>
          <p:nvPr/>
        </p:nvPicPr>
        <p:blipFill>
          <a:blip r:embed="rId1"/>
          <a:stretch/>
        </p:blipFill>
        <p:spPr>
          <a:xfrm>
            <a:off x="1619280" y="3716280"/>
            <a:ext cx="1870200" cy="2376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рожд"/>
          <p:cNvPicPr/>
          <p:nvPr/>
        </p:nvPicPr>
        <p:blipFill>
          <a:blip r:embed="rId2"/>
          <a:stretch/>
        </p:blipFill>
        <p:spPr>
          <a:xfrm>
            <a:off x="5076720" y="414972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0" descr="серд"/>
          <p:cNvPicPr/>
          <p:nvPr/>
        </p:nvPicPr>
        <p:blipFill>
          <a:blip r:embed="rId3"/>
          <a:stretch/>
        </p:blipFill>
        <p:spPr>
          <a:xfrm>
            <a:off x="5508720" y="127008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хэл"/>
          <p:cNvPicPr/>
          <p:nvPr/>
        </p:nvPicPr>
        <p:blipFill>
          <a:blip r:embed="rId4"/>
          <a:stretch/>
        </p:blipFill>
        <p:spPr>
          <a:xfrm>
            <a:off x="1042920" y="1484280"/>
            <a:ext cx="2665440" cy="181296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12"/>
          <p:cNvSpPr/>
          <p:nvPr/>
        </p:nvSpPr>
        <p:spPr>
          <a:xfrm>
            <a:off x="808200" y="508464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WordArt 13"/>
          <p:cNvSpPr txBox="1"/>
          <p:nvPr/>
        </p:nvSpPr>
        <p:spPr>
          <a:xfrm>
            <a:off x="1692360" y="3141720"/>
            <a:ext cx="1655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latin typeface="Times New Roman"/>
              </a:rPr>
              <a:t>Halloween</a:t>
            </a:r>
            <a:endParaRPr b="0" lang="en-US" sz="800" spc="1" strike="noStrike">
              <a:ln w="9360">
                <a:solidFill>
                  <a:srgbClr val="ff6600"/>
                </a:solidFill>
                <a:miter/>
              </a:ln>
              <a:solidFill>
                <a:srgbClr val="ff9900"/>
              </a:solidFill>
              <a:latin typeface="Times New Roman"/>
              <a:ea typeface="Times New Roman"/>
            </a:endParaRPr>
          </a:p>
        </p:txBody>
      </p:sp>
      <p:sp>
        <p:nvSpPr>
          <p:cNvPr id="221" name="WordArt 14"/>
          <p:cNvSpPr txBox="1"/>
          <p:nvPr/>
        </p:nvSpPr>
        <p:spPr>
          <a:xfrm>
            <a:off x="5580000" y="2997360"/>
            <a:ext cx="23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7c80"/>
                </a:solidFill>
                <a:latin typeface="Times New Roman"/>
              </a:rPr>
              <a:t>Valentines Day</a:t>
            </a:r>
            <a:endParaRPr b="0" lang="en-US" sz="800" spc="1" strike="noStrike">
              <a:ln w="9360">
                <a:solidFill>
                  <a:srgbClr val="ff0000"/>
                </a:solidFill>
                <a:miter/>
              </a:ln>
              <a:solidFill>
                <a:srgbClr val="ff7c80"/>
              </a:solidFill>
              <a:latin typeface="Times New Roman"/>
              <a:ea typeface="Times New Roman"/>
            </a:endParaRPr>
          </a:p>
        </p:txBody>
      </p:sp>
      <p:sp>
        <p:nvSpPr>
          <p:cNvPr id="222" name="WordArt 15"/>
          <p:cNvSpPr txBox="1"/>
          <p:nvPr/>
        </p:nvSpPr>
        <p:spPr>
          <a:xfrm>
            <a:off x="1547640" y="5950080"/>
            <a:ext cx="194328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339966"/>
                </a:solidFill>
                <a:latin typeface="Times New Roman"/>
              </a:rPr>
              <a:t> </a:t>
            </a:r>
            <a:r>
              <a:rPr b="0" lang="en-US" sz="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339966"/>
                </a:solidFill>
                <a:latin typeface="Times New Roman"/>
              </a:rPr>
              <a:t>New Year</a:t>
            </a:r>
            <a:endParaRPr b="0" lang="en-US" sz="800" spc="1" strike="noStrike">
              <a:ln w="9360">
                <a:solidFill>
                  <a:srgbClr val="006600"/>
                </a:solidFill>
                <a:miter/>
              </a:ln>
              <a:solidFill>
                <a:srgbClr val="339966"/>
              </a:solidFill>
              <a:latin typeface="Times New Roman"/>
              <a:ea typeface="Times New Roman"/>
            </a:endParaRPr>
          </a:p>
        </p:txBody>
      </p:sp>
      <p:sp>
        <p:nvSpPr>
          <p:cNvPr id="223" name="WordArt 16"/>
          <p:cNvSpPr txBox="1"/>
          <p:nvPr/>
        </p:nvSpPr>
        <p:spPr>
          <a:xfrm>
            <a:off x="5796000" y="5877000"/>
            <a:ext cx="208764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99ccff"/>
                </a:solidFill>
                <a:latin typeface="Times New Roman"/>
              </a:rPr>
              <a:t> </a:t>
            </a:r>
            <a:r>
              <a:rPr b="0" lang="en-US" sz="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99ccff"/>
                </a:solidFill>
                <a:latin typeface="Times New Roman"/>
              </a:rPr>
              <a:t>Christmas </a:t>
            </a:r>
            <a:endParaRPr b="0" lang="en-US" sz="800" spc="1" strike="noStrike">
              <a:ln w="9360">
                <a:solidFill>
                  <a:srgbClr val="3366ff"/>
                </a:solidFill>
                <a:miter/>
              </a:ln>
              <a:solidFill>
                <a:srgbClr val="99ccff"/>
              </a:solidFill>
              <a:latin typeface="Times New Roman"/>
              <a:ea typeface="Times New Roman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258920" y="4724280"/>
            <a:ext cx="561816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17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417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417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00"/>
                </a:solidFill>
                <a:latin typeface="Georgia"/>
              </a:rPr>
              <a:t>HOLIDAY </a:t>
            </a:r>
            <a:r>
              <a:rPr b="1" lang="en-US" sz="2100" spc="-1" strike="noStrike">
                <a:solidFill>
                  <a:srgbClr val="006600"/>
                </a:solidFill>
                <a:latin typeface="Georgia"/>
              </a:rPr>
              <a:t> in Great Britain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5" name="Picture 7" descr="https://selfmadetrip.com/wp-content/uploads/2016/07/Prazdniki-Velikobritanii-770x488.jpg"/>
          <p:cNvPicPr/>
          <p:nvPr/>
        </p:nvPicPr>
        <p:blipFill>
          <a:blip r:embed="rId1"/>
          <a:stretch/>
        </p:blipFill>
        <p:spPr>
          <a:xfrm>
            <a:off x="971640" y="981000"/>
            <a:ext cx="6727680" cy="42642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9" descr="img1"/>
          <p:cNvPicPr/>
          <p:nvPr/>
        </p:nvPicPr>
        <p:blipFill>
          <a:blip r:embed="rId1"/>
          <a:stretch/>
        </p:blipFill>
        <p:spPr>
          <a:xfrm>
            <a:off x="187200" y="1413000"/>
            <a:ext cx="2656080" cy="2016000"/>
          </a:xfrm>
          <a:prstGeom prst="rect">
            <a:avLst/>
          </a:prstGeom>
          <a:ln w="25560">
            <a:solidFill>
              <a:srgbClr val="003300"/>
            </a:solidFill>
            <a:miter/>
          </a:ln>
        </p:spPr>
      </p:pic>
      <p:pic>
        <p:nvPicPr>
          <p:cNvPr id="227" name="Picture 25" descr="781px-Christmas_collage"/>
          <p:cNvPicPr/>
          <p:nvPr/>
        </p:nvPicPr>
        <p:blipFill>
          <a:blip r:embed="rId2"/>
          <a:stretch/>
        </p:blipFill>
        <p:spPr>
          <a:xfrm>
            <a:off x="2916360" y="1413000"/>
            <a:ext cx="3240000" cy="2160360"/>
          </a:xfrm>
          <a:prstGeom prst="rect">
            <a:avLst/>
          </a:prstGeom>
          <a:ln w="25560">
            <a:solidFill>
              <a:srgbClr val="003300"/>
            </a:solidFill>
            <a:miter/>
          </a:ln>
        </p:spPr>
      </p:pic>
      <p:pic>
        <p:nvPicPr>
          <p:cNvPr id="228" name="Picture 30" descr="Yazi_2570_172703296094"/>
          <p:cNvPicPr/>
          <p:nvPr/>
        </p:nvPicPr>
        <p:blipFill>
          <a:blip r:embed="rId3"/>
          <a:stretch/>
        </p:blipFill>
        <p:spPr>
          <a:xfrm>
            <a:off x="6227640" y="1484280"/>
            <a:ext cx="2156040" cy="1989000"/>
          </a:xfrm>
          <a:prstGeom prst="rect">
            <a:avLst/>
          </a:prstGeom>
          <a:ln w="25560">
            <a:solidFill>
              <a:srgbClr val="003300"/>
            </a:solidFill>
            <a:miter/>
          </a:ln>
        </p:spPr>
      </p:pic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79280" y="3644640"/>
            <a:ext cx="8640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     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ctr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Christmas is celebrated on the </a:t>
            </a:r>
            <a:r>
              <a:rPr b="0" lang="ru-RU" sz="2200" spc="-1" strike="noStrike">
                <a:solidFill>
                  <a:srgbClr val="ff0000"/>
                </a:solidFill>
                <a:latin typeface="Georgia"/>
              </a:rPr>
              <a:t>25th December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. It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is the time when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ctr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ctr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Christians around the world celebrate the birth of Jesus. Most people are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ctr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ctr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on holiday in the UK and stay at home with their family on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ctr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ctr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Christmas day.  They wake up very early in the morning to find their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ctr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ctr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stockings have been filled by Father Christmas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WordArt 22"/>
          <p:cNvSpPr txBox="1"/>
          <p:nvPr/>
        </p:nvSpPr>
        <p:spPr>
          <a:xfrm>
            <a:off x="1979640" y="404640"/>
            <a:ext cx="4824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hristmas </a:t>
            </a:r>
            <a:endParaRPr b="0" lang="en-US" sz="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ircl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33" descr="5622002736_2193b387e5"/>
          <p:cNvPicPr/>
          <p:nvPr/>
        </p:nvPicPr>
        <p:blipFill>
          <a:blip r:embed="rId1"/>
          <a:stretch/>
        </p:blipFill>
        <p:spPr>
          <a:xfrm>
            <a:off x="2700360" y="4149720"/>
            <a:ext cx="2185920" cy="2185920"/>
          </a:xfrm>
          <a:prstGeom prst="rect">
            <a:avLst/>
          </a:prstGeom>
          <a:ln w="25560">
            <a:solidFill>
              <a:srgbClr val="003300"/>
            </a:solidFill>
            <a:miter/>
          </a:ln>
        </p:spPr>
      </p:pic>
      <p:pic>
        <p:nvPicPr>
          <p:cNvPr id="232" name="Picture 42" descr="Pasxa"/>
          <p:cNvPicPr/>
          <p:nvPr/>
        </p:nvPicPr>
        <p:blipFill>
          <a:blip r:embed="rId2"/>
          <a:stretch/>
        </p:blipFill>
        <p:spPr>
          <a:xfrm>
            <a:off x="250920" y="4149720"/>
            <a:ext cx="2211120" cy="2185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0" descr="320_easter-eggs-004"/>
          <p:cNvPicPr/>
          <p:nvPr/>
        </p:nvPicPr>
        <p:blipFill>
          <a:blip r:embed="rId3"/>
          <a:stretch/>
        </p:blipFill>
        <p:spPr>
          <a:xfrm>
            <a:off x="5148360" y="4149720"/>
            <a:ext cx="3095640" cy="2158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68360" y="1052640"/>
            <a:ext cx="8136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ter usually comes </a:t>
            </a:r>
            <a:r>
              <a:rPr b="0" lang="ru-RU" sz="1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 the month of April. 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ter Sunday in the United Kingdom is traditionally about Jesus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ist's resurrection from death, according to Christian belief.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people use the day to decorate Easter eggs, share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colate eggs and participate in Easter egg competitions. Easter is the time for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iday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stivals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WordArt 31"/>
          <p:cNvSpPr txBox="1"/>
          <p:nvPr/>
        </p:nvSpPr>
        <p:spPr>
          <a:xfrm>
            <a:off x="1619280" y="549360"/>
            <a:ext cx="5688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ff0000">
                    <a:alpha val="98000"/>
                  </a:srgbClr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aster Sunday (Пасхальное воскресенье). </a:t>
            </a:r>
            <a:endParaRPr b="0" lang="en-US" sz="800" spc="1" strike="noStrike">
              <a:ln w="0">
                <a:noFill/>
              </a:ln>
              <a:solidFill>
                <a:srgbClr val="ff0000">
                  <a:alpha val="98000"/>
                </a:srgbClr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ircl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anksgiving day (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нь благодарения)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7" name="Picture 7" descr="https://get.whotrades.com/u4/photo1C13/20160392072-0/original.jpeg"/>
          <p:cNvPicPr/>
          <p:nvPr/>
        </p:nvPicPr>
        <p:blipFill>
          <a:blip r:embed="rId1"/>
          <a:stretch/>
        </p:blipFill>
        <p:spPr>
          <a:xfrm>
            <a:off x="1476360" y="2997360"/>
            <a:ext cx="5256360" cy="338436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 5"/>
          <p:cNvSpPr/>
          <p:nvPr/>
        </p:nvSpPr>
        <p:spPr>
          <a:xfrm>
            <a:off x="1187280" y="1341360"/>
            <a:ext cx="5905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y people in the USA still celebrate Thanksgi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November. They get together with their family and they say thinks for all the good things that they have in their l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468360" y="907920"/>
          <a:ext cx="8209080" cy="5113440"/>
        </p:xfrm>
        <a:graphic>
          <a:graphicData uri="http://schemas.openxmlformats.org/drawingml/2006/table">
            <a:tbl>
              <a:tblPr/>
              <a:tblGrid>
                <a:gridCol w="3313080"/>
                <a:gridCol w="4896000"/>
              </a:tblGrid>
              <a:tr h="170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Group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write the nouns from the text ex.1p.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70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Group B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ranslate this tex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170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Group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ell us about one holiday in Great Britai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MEWOR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6840" y="1600200"/>
            <a:ext cx="814716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roup A – write word combinations (noun+adjective) from ex.1p.76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roup B – make a short report about your favourite holiday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roup C- make a presentation about other holiday of Great Britain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0T13:34:27Z</dcterms:created>
  <dc:creator>Абрамова Татьяна</dc:creator>
  <dc:description/>
  <dc:language>en-US</dc:language>
  <cp:lastModifiedBy>12</cp:lastModifiedBy>
  <dcterms:modified xsi:type="dcterms:W3CDTF">2018-02-08T02:55:19Z</dcterms:modified>
  <cp:revision>187</cp:revision>
  <dc:subject/>
  <dc:title>Приздники Великобритании</dc:title>
</cp:coreProperties>
</file>