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85DB-58C3-458B-BC69-7D0A844AEB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EEEE-61AA-454A-8D67-E2B0F22F73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613-189B-459D-924F-4171F9FC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30A-CDFE-4343-A504-DB4B5ADD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199D5-766D-417A-A39D-4899A6F0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CD815-45B7-44E4-8E97-82B159A9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9D12C-F83B-46E5-82CF-E73421CF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4D173-5DAB-486B-992B-302225C7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03201-CD6D-4268-8FD7-87FECC54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6B113-B2B7-43A4-80A6-BB7293E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98491-3F23-4A36-B6C7-C0A40D5A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D3BFC-DC6C-4371-AD10-E274A822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C4213-D3FA-468F-8288-118EBC7B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8B8-047E-4329-83FF-7292D3A3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FF7-FF74-4FAD-90BF-6829A42F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A704-6769-4C78-8DC7-AF3AC221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2074-6988-425F-8A80-EA21C2D2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8B68-23AE-4699-8E35-6D5BF415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4F02-8DE7-49CB-B683-69215659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3F0E-2CCD-4B7B-BBB7-A4913E1B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4C0F-238A-4448-9F80-E71A7117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84C0-596E-40B4-B9E9-47134252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C33-1E7D-4459-ACAC-57BEFC75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85E5-2AAA-4EA2-9E60-A0C23BAF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59FF-633A-4AC7-8F46-9107AD3C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77E-8936-4D8D-A917-50CA0409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B204-F620-4B1E-A56F-D67F81E0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03D3-6022-496B-913F-6B7E9551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FF6F-C357-49CE-A31A-490AAF08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C3540-2AC3-46B4-A4A5-1F1C90D4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0F4E-4FE1-4E81-8364-6A9B12F8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D21B-5B78-4194-A42D-E902EFDA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B863-4D22-4F2F-B4C0-5907C567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DF1-F8B6-4BC8-A7F6-8372E043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D727-718A-430C-9CCA-350A05EB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1DC3-363A-4794-A7D1-0088D9E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E642-665D-4DBC-B26B-A2FEAF29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6C2D-5E34-42D8-B499-19126E1E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3E9E-1FA3-4544-9F4F-1D8F61D5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0094E-7530-47D4-977E-61A6477D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F6EA8-D33B-49DA-BC3C-4455C313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E436-EE29-4F5B-ACA4-028A5F5E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AC8C-047F-4C5A-B14F-3F164D4A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BAF1-DE39-4483-A1B5-49FA2B77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6CC-FA13-4042-B405-500D7695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49F1E-D60E-4E77-9B49-4C4C0E2A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CFBD-FCA5-4539-A9EB-140992FF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66F58-85DB-40C0-9F89-E26272A1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B357-E08C-4BDC-A614-7A700E93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F6FA-2F52-4965-A968-D729222C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CF53-AAC3-4F05-B9E7-A9DDAB5F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9F47-1D01-40B9-A5C6-785458F2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534D1-395E-4919-B28A-069ADBF2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6511-8BF9-486F-9C5A-DF04B3E5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B26A-7340-430C-96B0-B65E2392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3CB-4E69-470A-AE33-F37037D8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D5B9-8373-4478-B0C8-7310B081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40AD-86A5-4AFF-9662-7FBCB186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DA016-D17A-4F70-8779-087C6BFA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267C0-1CF1-4D8C-B5F3-8DCBF023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8B41-ECE9-45B1-AB0E-5978F4E4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285A-F174-4795-BB9A-145FE45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8D9D-C33D-4137-9989-040871A6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FBF32-D745-4D90-AC70-86D305E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C854-E7D8-4828-8B48-52E83A99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93FB-BFA3-4076-BBB0-1820A19C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83F-1D4B-464F-8512-E76B339F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DC85B-CBC2-4C22-AEB0-7361026A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2E1CD-33F6-4E97-8564-FFAF2D34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9E1F6-7D40-4C7C-B71A-9BE5D4A8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C6BAC-1E0F-46A6-A56F-8C71A4F1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06A8-F0D4-4601-BB38-681BBBC7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6D896-FC62-488A-A2A1-1480CDD9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2765-A36C-4020-8CEF-E8D65D08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67A37-454C-4CD5-B221-E6171BB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FD792-996F-4D04-9FC1-B3C2D4E1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16851-00C7-41EA-9D97-5ED1043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855-766E-42A7-A411-8BF7C636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402D0-5E7B-472B-96F1-C8C13506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0A7DA-1A34-4AFB-A970-1B8203BE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BD49-5C89-4CE8-89D8-AEA01B9D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6D1A-5800-41F0-8299-057A5917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64D98-7EE8-4F8A-972A-95361672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9BA2C-6BC5-415D-AEE6-49D4AC8F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C8837-FF63-4452-A3D3-15083731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10F44-7322-4DBB-BBDE-91AA34C4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82F29-6C4E-4EC7-8D22-CD7A94D9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C7D1C-F897-49A7-9E7D-31A5402F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D89-8EF9-41BC-ADA4-01C7DC5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A900D-2E49-44C4-A42A-12E8F5E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12118-9E28-496A-81FB-098DB72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6649-B68D-4FE6-B07C-B5A025C9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F668-C4E4-4153-9343-62EC7F2D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105B2-76FF-45F6-84EC-9095F531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4AFC3-CF48-47E5-B872-C099B762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4366B-4116-4F76-A924-DBAD8910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DE509-764E-48BA-BA1B-58025850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14AC-2102-45FF-9B01-4B0BECA0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FC6BC-CD5D-482D-ADE3-4C56660C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2D4-9E79-4555-A968-96827A6C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F404D-EBA3-45F6-844E-1305CAB3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FE4F6-C589-459A-A1A5-9D0B300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7B211-70FC-4F23-80DC-260B92C6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806D2-312E-4A4F-94AB-F5AF1028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B3228-D482-4D97-941F-97C86FCF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CE18A-9AA3-4686-AB45-00D41F35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0A661-16D3-4EA0-BA46-9F19BD6E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0A488-7D7C-43D0-9A1A-F6BEFA38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29388-29F8-4F91-B981-8A6CD90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D9EEB-D4EA-43D9-B282-065F2432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C420-96D3-4CE4-895A-5CF5F44C91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0DF8-3458-40D7-9C14-6B3D449B74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F1F9-1B62-403E-9154-EFB52119E0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6DDF-220D-474F-A73D-43C8B1531B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9B28-5A84-4E26-9042-8B4C1A0CD9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E210-0B38-43D6-B07F-EDD6EAE525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4941-15FB-4D1C-815D-7D77114143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D680-230E-4648-AD6A-5FF581CFFB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19D1-013C-4DAA-94E8-21FC576380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89000" y="1542960"/>
            <a:ext cx="8869320" cy="2247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598560" y="5105520"/>
            <a:ext cx="554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Автор: Фирсенко Людмила        Георгие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 advTm="4000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1692360" y="2492280"/>
            <a:ext cx="712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I am the cat.</a:t>
            </a:r>
            <a:r>
              <a:rPr b="0" lang="ru-RU" sz="5400" spc="-1" strike="noStrike">
                <a:solidFill>
                  <a:srgbClr val="000000"/>
                </a:solidFill>
                <a:latin typeface="Garamond"/>
              </a:rPr>
              <a:t>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 I have got three sisters and two brothers. </a:t>
            </a:r>
            <a:r>
              <a:rPr b="0" lang="ru-RU" sz="5400" spc="-1" strike="noStrike">
                <a:solidFill>
                  <a:srgbClr val="000000"/>
                </a:solidFill>
                <a:latin typeface="Garamond"/>
              </a:rPr>
              <a:t>  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I can run and jump.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8" name="Заголовок 2" descr=""/>
          <p:cNvPicPr/>
          <p:nvPr/>
        </p:nvPicPr>
        <p:blipFill>
          <a:blip r:embed="rId1"/>
          <a:stretch/>
        </p:blipFill>
        <p:spPr>
          <a:xfrm>
            <a:off x="244440" y="755640"/>
            <a:ext cx="82407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90600" y="2693880"/>
            <a:ext cx="8240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2b1"/>
                </a:solidFill>
                <a:latin typeface="Franklin Gothic Book"/>
              </a:rPr>
              <a:t>Впиши недостающие заглавные или строчные буквы: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2b1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B_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D_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F_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_g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I_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M_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H_,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L_,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 _p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R_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T_,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Franklin Gothic Book"/>
              </a:rPr>
              <a:t>_y.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676440" y="878040"/>
            <a:ext cx="7785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3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8242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4"/>
          <p:cNvSpPr txBox="1"/>
          <p:nvPr/>
        </p:nvSpPr>
        <p:spPr>
          <a:xfrm>
            <a:off x="1943280" y="2133720"/>
            <a:ext cx="720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Good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179280" y="189000"/>
            <a:ext cx="8713800" cy="635616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676880" y="692280"/>
            <a:ext cx="5877360" cy="155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2060"/>
                </a:solidFill>
                <a:latin typeface="Comic Sans MS"/>
              </a:rPr>
              <a:t>Lesson</a:t>
            </a:r>
            <a:r>
              <a:rPr b="0" lang="ru-RU" sz="9600" spc="-1" strike="noStrike">
                <a:solidFill>
                  <a:srgbClr val="002060"/>
                </a:solidFill>
                <a:latin typeface="Comic Sans MS"/>
              </a:rPr>
              <a:t> 31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0" name="Group 12" descr=""/>
          <p:cNvPicPr/>
          <p:nvPr/>
        </p:nvPicPr>
        <p:blipFill>
          <a:blip r:embed="rId1"/>
          <a:stretch/>
        </p:blipFill>
        <p:spPr>
          <a:xfrm>
            <a:off x="517680" y="2298600"/>
            <a:ext cx="42796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5400" spc="-1" strike="noStrike">
                <a:solidFill>
                  <a:srgbClr val="000099"/>
                </a:solidFill>
                <a:latin typeface="Comic Sans MS"/>
              </a:rPr>
              <a:t>ОСНОВНЫЕ ЗАДАЧИ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Вывести учащихся в диалогическую реч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роверить коммуникативные умения учащихся в аудировании и устной речи, различии интонации утвердительного и вопросительного предложения с помощью изученных речевых оборот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Умение запросить информацию в форме общего и специального вопрос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Контроль знаний букв английского алфави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5" name="WordArt 10"/>
          <p:cNvSpPr txBox="1"/>
          <p:nvPr/>
        </p:nvSpPr>
        <p:spPr>
          <a:xfrm>
            <a:off x="826920" y="1773360"/>
            <a:ext cx="72741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llo, boys and girls!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689040"/>
            <a:ext cx="7650360" cy="1262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68360" y="2276280"/>
            <a:ext cx="662472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Are you sleeping(twice)? Brother John (twice)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Morning bells are</a:t>
            </a:r>
            <a:r>
              <a:rPr b="0" lang="ru-RU" sz="33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ringing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Ding-ding dong (twice)</a:t>
            </a:r>
            <a:r>
              <a:rPr b="0" lang="ru-RU" sz="33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4" descr="wind7"/>
          <p:cNvPicPr/>
          <p:nvPr/>
        </p:nvPicPr>
        <p:blipFill>
          <a:blip r:embed="rId2"/>
          <a:stretch/>
        </p:blipFill>
        <p:spPr>
          <a:xfrm>
            <a:off x="7093080" y="3573360"/>
            <a:ext cx="163512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74680" y="560520"/>
            <a:ext cx="8418600" cy="1073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258920" y="2276280"/>
            <a:ext cx="627552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ave you got a pet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Is this  a cat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 it play football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Is it …</a:t>
            </a:r>
            <a:r>
              <a:rPr b="1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advTm="2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Черепаха"/>
          <p:cNvPicPr/>
          <p:nvPr/>
        </p:nvPicPr>
        <p:blipFill>
          <a:blip r:embed="rId1"/>
          <a:stretch/>
        </p:blipFill>
        <p:spPr>
          <a:xfrm>
            <a:off x="3419640" y="0"/>
            <a:ext cx="2879640" cy="388764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5"/>
          <p:cNvSpPr/>
          <p:nvPr/>
        </p:nvSpPr>
        <p:spPr>
          <a:xfrm>
            <a:off x="539640" y="3284640"/>
            <a:ext cx="8183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Проверка</a:t>
            </a: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домашнего</a:t>
            </a: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Comic Sans MS"/>
              </a:rPr>
              <a:t>задания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  <a:effectLst>
            <a:outerShdw dist="107932" dir="27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755280" y="2249640"/>
            <a:ext cx="79311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аша задача: уметь без  ошибок задавать вопросы,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ля того, чтобы узнать,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лежит в ящик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учший будет вознагражден медалью от Шерлока Холмса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1048320" y="1197000"/>
            <a:ext cx="666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</a:rPr>
              <a:t>Is this a dog?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9:52:13Z</dcterms:created>
  <dc:creator>Customer</dc:creator>
  <dc:description/>
  <dc:language>en-US</dc:language>
  <cp:lastModifiedBy>Позитроника</cp:lastModifiedBy>
  <dcterms:modified xsi:type="dcterms:W3CDTF">2010-12-22T15:08:50Z</dcterms:modified>
  <cp:revision>30</cp:revision>
  <dc:subject/>
  <dc:title>Enjoy English    2</dc:title>
</cp:coreProperties>
</file>