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7F4-BEC3-4A0A-B4E0-9F5F310660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5A4-5418-4095-865A-32DDB13D50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6DA-AAC0-49CA-8068-DCF2268C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5DB-E368-4439-AAAB-3F457FD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9652-23E2-4800-92A1-719BD32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D1AD0-F9BF-4B7A-9415-F957967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28EB8-3B44-40CD-AE0A-504F2B7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7342E-1B30-45EF-8AFB-FE8650CF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41510-931A-44A4-9171-EEE5F4E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23792-053A-4659-8E64-4FF3C38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C430A-9DD1-4369-9674-61EFE58D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A3FC-B02C-4515-8849-590B6808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61DF3-75AC-49AD-9E71-976DC3C1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419-E842-4B29-86E6-6ACBE88C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198-F46C-4DBC-B2E8-18E4C70C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231-988D-4DC1-8822-31FDC9F4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83A-D3EF-406D-BE5D-1AF21F3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CF34-0A38-4755-B132-4085D6C2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E53B-2533-4D5E-931B-8919166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9B0-EEF6-4D23-9C5A-B84B4D0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E78D-E367-4496-AE19-520B454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062D-B134-447C-B20C-7121AF6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A62-2A3B-4FDC-86CD-50ADADA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8C96-8787-4E53-B3A3-6E5A530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F83-408F-40B6-8828-304EB1D0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5382-521F-497A-B84D-0FBDBBDF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7B0-935B-482F-91CA-78E78813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DF83-4B18-466D-A99B-9E2B97A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9B2E-2913-41DA-88F0-15548F13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CAAA-1ACA-4810-A67E-6555F099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B58E-FC10-411E-9233-648FE1A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5667-18BD-41A2-B16A-743209A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B2CE-9599-4B8B-9E27-E0B57362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931-2612-467E-B7EB-F5A4997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476C-6062-4DCF-9E7A-E49C686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9F84-BB95-4A2A-900A-3440939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6A3D-492B-4C4B-84C6-77AB174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307B-9477-4583-9F29-84CCCB8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5A0B-640D-4649-9D75-155CA33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7714-8824-446F-BDD1-C5F9AEEA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3760-A8E8-4D9B-9E02-7A4295CA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5437-2993-4110-9001-F6C8FB08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300E-4DF7-4025-ADB7-6969434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AC15-B9FB-45F7-B00B-E2C579AA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694-EAA9-4E64-9E18-25FCFBE2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FB48-2EE4-4260-916E-C629908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2935-D213-4853-A946-49EB1D7C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3FFE-F63F-4470-9E8C-06DEA7F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DF06-3208-4663-AEC2-5F85C56D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5659-19A8-4DAA-8C74-3A9E729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7CA5-8948-45FF-870A-41317E0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BD96-E144-4F0E-99C5-B1166597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6656-C137-441B-BE81-95719A6B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2B22-B898-4BC1-9AA1-CBA7EC39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76C9-18A3-44B4-90DD-85886079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8EC-60BD-4558-96A9-6669CF4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0975-FE3D-400B-BAE9-A501D8B9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BAE0-9481-4D32-8965-20994CC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3DBE-B391-4B03-ACEF-F2E7532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DA05-CBAA-4458-AD7F-0DC3FAE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952E-8894-4768-AD1E-44CAB5E8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3E05-1007-4B00-9CF7-5775F79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FD23-78C3-4494-B391-706F04C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F09D-473E-40DE-ACCE-793398C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65B4-C6C7-4EE5-85FC-C6C613FA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2960-F65A-43AC-8F43-9926AC00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958-B2CB-46A2-B439-02691D72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AE87-CBD0-4E47-8F59-EC0EEB4D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7C8E6-6012-4D8C-A591-7852DCA0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1D3D-1130-4F8C-A435-6471BD4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474B-4E45-4D7D-BF32-F12EA8C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839E-8DC3-4473-9FF3-D9E3FCA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D418-5C70-4D00-B88D-689E70B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23C9-B2BE-4B7E-8A4C-8BFF39F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1404-88DD-4709-BE57-76ADB39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0BF4-0F56-4BAB-9085-41CBF82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5E87-52A4-4CC9-A894-AABDDE1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894-C252-44BB-A4F0-EB32E3E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724C-0F53-4357-97D7-57D8206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8F09-05BB-49E7-9C0C-5790D4A4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23BD-12EF-4F52-9654-CE94A759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FE91-85CE-4EBD-9C2F-D74EC34D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6265-DD3A-440A-800D-5C73DA8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F880-B377-4044-BB36-51182E2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65B0-DA7C-479C-8D7F-C3E4FA7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5CD7-1E48-467C-918C-D8C833B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088D-A742-423D-B4A1-BE5EF9AA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5C53-2272-4458-96BF-4132199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43C-8D9E-4030-99D3-85E325B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2097-5680-4621-A9D0-F1681C3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AD70-62FF-42DE-99C8-D6B9140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4E16-DF17-41CA-BFC1-4B22A04D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8305-DC52-43CB-8ED7-0E5243E2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13B7-30CA-46E9-9B46-BABC8242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BE59-1AB1-4A2B-8611-2981395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D685-EC06-4D42-9F24-54E664A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C44A-FE37-4061-A76C-5B351541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1B03-3FDC-4C3E-A33F-DCFF747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0BA9-DB85-40CC-BD7A-D863D4D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884-7933-42D4-8122-88BDDFE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8DDA-BAF8-4949-AF4F-CCA6E3F7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865F-23A3-402E-85B2-40AF910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9461-C678-49F8-B9BA-43E89DCC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8C68-EEC9-472A-9AFA-138D8BB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C07C-AED6-480C-93CA-EF05BFA2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6E70-414F-441F-B192-5AB8B570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5F23-F34D-4CFF-AE22-99673F0B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80D2F-6081-47AD-9BD2-834535A6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C7331-96FE-4C76-9D2A-45C87F04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BB6C-5ECA-4B63-B0CF-90FF7E3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E5B-7738-4084-8B50-E597FD4FF4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1F1A-C0E9-4092-8F4D-4913383D68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AAF9-DFB7-47A5-99B0-DDAC3AA093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AFA-27E0-43C4-9746-2380907100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818-9958-464E-BC62-4074CD80F0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BBC-A4D9-4DA1-A98C-6B85E754D7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D57-3B1A-4F86-A9D6-A6E4FE6D45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5A21-6DEA-4569-8382-FE60F332AD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44CF-C905-4054-B99D-5CCA454987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89000" y="1542960"/>
            <a:ext cx="8869320" cy="2247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598560" y="5105520"/>
            <a:ext cx="55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Автор: Фирсенко Людмила        Георги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 advTm="4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692360" y="2492280"/>
            <a:ext cx="71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I am the cat.</a:t>
            </a: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 I have got three sisters and two brothers. </a:t>
            </a: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I can run and jump.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2407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90600" y="2693880"/>
            <a:ext cx="8240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2b1"/>
                </a:solidFill>
                <a:latin typeface="Franklin Gothic Book"/>
              </a:rPr>
              <a:t>Впиши недостающие заглавные или строчные буквы: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B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D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F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_g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I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M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H_,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L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_p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R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T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_y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676440" y="878040"/>
            <a:ext cx="7785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4"/>
          <p:cNvSpPr txBox="1"/>
          <p:nvPr/>
        </p:nvSpPr>
        <p:spPr>
          <a:xfrm>
            <a:off x="1943280" y="2133720"/>
            <a:ext cx="72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79280" y="189000"/>
            <a:ext cx="8713800" cy="635616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676880" y="692280"/>
            <a:ext cx="587736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2060"/>
                </a:solidFill>
                <a:latin typeface="Comic Sans MS"/>
              </a:rPr>
              <a:t>Lesson</a:t>
            </a:r>
            <a:r>
              <a:rPr b="0" lang="ru-RU" sz="9600" spc="-1" strike="noStrike">
                <a:solidFill>
                  <a:srgbClr val="002060"/>
                </a:solidFill>
                <a:latin typeface="Comic Sans MS"/>
              </a:rPr>
              <a:t> 31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0" name="Group 12" descr=""/>
          <p:cNvPicPr/>
          <p:nvPr/>
        </p:nvPicPr>
        <p:blipFill>
          <a:blip r:embed="rId1"/>
          <a:stretch/>
        </p:blipFill>
        <p:spPr>
          <a:xfrm>
            <a:off x="517680" y="2298600"/>
            <a:ext cx="42796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ОСНОВНЫЕ ЗАДАЧИ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Вывести учащихся в диалогическую ре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оверить коммуникативные умения учащихся в аудировании и устной речи, различии интонации утвердительного и вопросительного предложения с помощью изученных речевых оборо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Умение запросить информацию в форме общего и специального вопрос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Контроль знаний букв английского алфави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WordArt 10"/>
          <p:cNvSpPr txBox="1"/>
          <p:nvPr/>
        </p:nvSpPr>
        <p:spPr>
          <a:xfrm>
            <a:off x="826920" y="1773360"/>
            <a:ext cx="72741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llo, boys and girls!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689040"/>
            <a:ext cx="7650360" cy="1262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68360" y="2276280"/>
            <a:ext cx="662472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Are you sleeping(twice)? Brother John (twice)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Morning bells are</a:t>
            </a:r>
            <a:r>
              <a:rPr b="0" lang="ru-RU" sz="3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ringing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ing-ding dong (twice)</a:t>
            </a:r>
            <a:r>
              <a:rPr b="0" lang="ru-RU" sz="33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wind7"/>
          <p:cNvPicPr/>
          <p:nvPr/>
        </p:nvPicPr>
        <p:blipFill>
          <a:blip r:embed="rId2"/>
          <a:stretch/>
        </p:blipFill>
        <p:spPr>
          <a:xfrm>
            <a:off x="7093080" y="3573360"/>
            <a:ext cx="163512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74680" y="560520"/>
            <a:ext cx="8418600" cy="1073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58920" y="2276280"/>
            <a:ext cx="62755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ave you got a pe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Is this  a ca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 it play football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Is it …</a:t>
            </a: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advTm="2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Черепаха"/>
          <p:cNvPicPr/>
          <p:nvPr/>
        </p:nvPicPr>
        <p:blipFill>
          <a:blip r:embed="rId1"/>
          <a:stretch/>
        </p:blipFill>
        <p:spPr>
          <a:xfrm>
            <a:off x="3419640" y="0"/>
            <a:ext cx="2879640" cy="38876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5"/>
          <p:cNvSpPr/>
          <p:nvPr/>
        </p:nvSpPr>
        <p:spPr>
          <a:xfrm>
            <a:off x="539640" y="3284640"/>
            <a:ext cx="818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Проверка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домашнего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755280" y="2249640"/>
            <a:ext cx="79311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ша задача: уметь без  ошибок задавать вопросы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ля того, чтобы узнать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лежит в ящи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учший будет вознагражден медалью от Шерлока Холмса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048320" y="1197000"/>
            <a:ext cx="666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Is this a dog?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9:52:13Z</dcterms:created>
  <dc:creator>Customer</dc:creator>
  <dc:description/>
  <dc:language>en-US</dc:language>
  <cp:lastModifiedBy>Позитроника</cp:lastModifiedBy>
  <dcterms:modified xsi:type="dcterms:W3CDTF">2010-12-22T15:08:50Z</dcterms:modified>
  <cp:revision>30</cp:revision>
  <dc:subject/>
  <dc:title>Enjoy English    2</dc:title>
</cp:coreProperties>
</file>