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118-A3A1-4A9D-969E-EDE02073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902-5DDA-45A1-AC2F-27EABF76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D62-D736-4687-8913-BB54B506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131-5223-4DFC-B03D-8B6DC0A1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74A-CCF9-450E-8DE1-E46D311D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8BF-F347-4012-85E7-FF5F9D1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32C-7650-4CC1-8F76-22FA1706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0F1-40DF-447B-ADD4-F10CE42C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BB9-2ABD-42FC-A54A-FCFC0B6A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62B-F4D1-444F-BCFE-B400ADE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C95-9C88-4308-9403-D16DDD6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4DD-E3A4-474E-A31A-2434D5C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CFE4-2DF7-4FE6-BCFA-6B898226C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333360"/>
            <a:ext cx="8351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Самая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главная ценность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а Земле...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Приложение 1.wmv" descr=""/>
          <p:cNvPicPr/>
          <p:nvPr/>
        </p:nvPicPr>
        <p:blipFill>
          <a:blip r:embed="rId7"/>
          <a:stretch/>
        </p:blipFill>
        <p:spPr>
          <a:xfrm>
            <a:off x="2124000" y="29973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82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Гёте: « Душа  каждого  человека</a:t>
            </a:r>
            <a:r>
              <a:rPr b="1" lang="ru-RU" sz="17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радуется,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Доброта  обезоруживает  большинство люд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Монтень: «  Если  человек  в  течении дня услышит  одно доброе слово, увидит  один добрый  поступок  и  сделает  одно доброе дело,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Руссо : «  Отнимите  у нашего сердца  любовь  к  добру, ……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Стерн Мы не столько любим  людей  за  то добро которое они  нам сделали,………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Толстой: «  Живут  лишь  те , кто творит добро. Добро , которое  ты делаешь  от сердца, ты делаешь всегда  себе  потому что………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62720" y="1241280"/>
            <a:ext cx="3581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колько  за  то добро,  которое  мы  им  сделал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это  единственно  верное  средство  быть  счастливы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  вы отнимите всю  прелесть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гда  он делает  добро другому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живет этот день  не  напрасно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1280" y="260280"/>
            <a:ext cx="7972200" cy="79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е поэтическо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одолжи    высказывания  замечательн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ПРОВЕРЬ  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Гёте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Душа  каждого  человека  радуется,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гда  он делает  добро  другому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брота  обезоруживает  большинство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</a:t>
            </a:r>
            <a:r>
              <a:rPr b="1" i="1" lang="ru-RU" sz="2100" spc="-1" strike="noStrike" u="sng">
                <a:solidFill>
                  <a:srgbClr val="336600"/>
                </a:solidFill>
                <a:uFillTx/>
                <a:latin typeface="Arial"/>
              </a:rPr>
              <a:t>Монтень</a:t>
            </a:r>
            <a:r>
              <a:rPr b="1" i="1" lang="ru-RU" sz="21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Если  человек  в  течении дня услышит  одно доброе слово, увидит  один добрый  поступок  и  сделает  одно доброе дело,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о проживет этот день  не  напр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Руссо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Отнимите  у нашего сердца  любовь  к  добр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  вы отнимите всю  прелесть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 Стерн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Мы не столько любим  людей  за  то добро, которое они  нам сделал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, сколько  за  то добро,  которое  мы  им  сдел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Толстой 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Живут  лишь  те , кто творит добро. Добро , которое  ты делаешь  от сердца, ты  делаешь всегда  себе  потому что это  единственно  верное  средство  быть  счастли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2"/>
          <a:srcRect l="29835" t="8000" r="7169" b="0"/>
          <a:stretch/>
        </p:blipFill>
        <p:spPr>
          <a:xfrm>
            <a:off x="5796000" y="3284640"/>
            <a:ext cx="3139920" cy="3438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95280" y="549360"/>
            <a:ext cx="79772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. Можно ли человека заставить быть доб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. Можно ли стать добрым на врем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3. Нужно ли быть добрым к любому челове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4. Легко ли быть доб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5. Есть ли у вас желание делать добрые де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Mistral"/>
              </a:rPr>
              <a:t>Давайте   закончим наш классный час замечательными стихами Татьяны  Кузовлёвой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вори добро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т большей рад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жизнью жертву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спе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ради славы или сладост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по велению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гда кипишь, судьбой униже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т бессилья и сты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позволяй душе обиж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юминутного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ы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верь – действ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ё встанет на свои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льные не мстите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ужье сильных - добр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20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20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20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2000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2000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2000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5327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поклоняться добро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с думой жить о добро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Вся в голубой и звездной красо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Земля добра. Она дарит нас хлеб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Живой водой и деревом в цв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Под этим вечно неспокойным неб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воевать за доброт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Л. Татьяничевой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456000" cy="2517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374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istral"/>
              </a:rPr>
              <a:t>Твори добро на всей земле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istral"/>
              </a:rPr>
              <a:t>Другим во благ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иложение3.mp3" descr=""/>
          <p:cNvPicPr/>
          <p:nvPr/>
        </p:nvPicPr>
        <p:blipFill>
          <a:blip r:embed="rId3"/>
          <a:stretch/>
        </p:blipFill>
        <p:spPr>
          <a:xfrm>
            <a:off x="900000" y="60498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23009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611280" y="4797360"/>
            <a:ext cx="82296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та это – отзывчивость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шевное расположение к людям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емление делать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 другим.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2291760" y="187920"/>
            <a:ext cx="134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istral"/>
              </a:rPr>
              <a:t>Научите своё сердце доб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-2004480" y="475200"/>
            <a:ext cx="134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Mistral"/>
              </a:rPr>
              <a:t>Научите своё сердце добр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0" y="169992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поклоняться добро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с думой жить о добро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Вся в голубой и звездной красо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Земля добра. Она дарит нас хлеб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Живой водой и деревом в цв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Под этим вечно неспокойным неб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воевать за доброт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. Татьянич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rcRect l="29835" t="8000" r="7169" b="0"/>
          <a:stretch/>
        </p:blipFill>
        <p:spPr>
          <a:xfrm>
            <a:off x="179280" y="1989000"/>
            <a:ext cx="31402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1"/>
          <p:cNvSpPr txBox="1"/>
          <p:nvPr/>
        </p:nvSpPr>
        <p:spPr>
          <a:xfrm>
            <a:off x="357120" y="2924280"/>
            <a:ext cx="752796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та это – отзывчивость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шевное расположение к людям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емление делать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 другим.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13" descr="zon010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867280" y="0"/>
            <a:ext cx="3527640" cy="343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7"/>
          <p:cNvSpPr txBox="1"/>
          <p:nvPr/>
        </p:nvSpPr>
        <p:spPr>
          <a:xfrm rot="5400000">
            <a:off x="-465480" y="162576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Доброта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49" name="приложение 2.wmv" descr=""/>
          <p:cNvPicPr/>
          <p:nvPr/>
        </p:nvPicPr>
        <p:blipFill>
          <a:blip r:embed="rId3"/>
          <a:stretch/>
        </p:blipFill>
        <p:spPr>
          <a:xfrm>
            <a:off x="155520" y="8100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istral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Mistral"/>
              </a:rPr>
              <a:t>Чувства,   характеризующие доброго человека</a:t>
            </a:r>
            <a:r>
              <a:rPr b="1" lang="ru-RU" sz="4000" spc="-1" strike="noStrike">
                <a:solidFill>
                  <a:srgbClr val="ffffff"/>
                </a:solidFill>
                <a:latin typeface="Mistr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бов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ер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жб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щ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вер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па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сла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часть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им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8360" y="1628640"/>
            <a:ext cx="4110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различ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внодуш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вер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поним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па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вож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аж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нави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д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лоб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2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2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6000"/>
                            </p:stCondLst>
                            <p:childTnLst>
                              <p:par>
                                <p:cTn id="2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8000"/>
                            </p:stCondLst>
                            <p:childTnLst>
                              <p:par>
                                <p:cTn id="2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2980800"/>
            <a:ext cx="8589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Старайся всякому  делать добро, а не себе одному.  (Сокр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Когда творишь добро сам, испытываешь радостное удовлетворение  и законную гордость. (Де – Монт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Лишь добро  одно  бессмертно. Зло подолгу не живет.  (Ш.Рустав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838080" y="380880"/>
            <a:ext cx="7315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мудрые  мыс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Нет ничего светлее и бескорыстнее любви матери. С первого дня рождения ребенка мать живет его дыханием, его слезами и улыб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Мать нужна ребенку. В этом смысл ее жизни. Любовь к своему малышу для нее так же естественна, как цветение садов весной. Как солнце посылает свои лучи, согревая все живое, так и любовь матери согревает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Мать приобщает дитя к жизни. В его уста она вкладывает родной язык, вобравший богатство разума, мысли и чувств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Она наполняет его духовной силой, помогает постичь вечные ц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Не это ли держит м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енький мальчик спросил маму: "Почему ты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чешь?" – "Потому что я – женщина." – "Я не понимаю!»  Мама обняла его и сказала: "Этого ты не поймешь никогда." Тогда мальчик спросил y отца: "Почему мама иногда плачет без причин?" "Все женщины иногда плачут без причин, " -всё, что смог ответить отец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 мальчик вырос, стал мужчиной, но не переставал удивляться: "Почему же женщины плачут?" Наконец, он спросил у Бога. И Бог ответил:  "Задумав женщину, Я хотел, чтобы она была совершенной. Я дал ей плечи такие сильные, чтобы держать весь мир, и такие нежные, чтобы поддерживать детскую головку. Я дал ей дух настолько сильный, чтобы вынести роды и другую боль. Я дал ей волю, настолько сильную, что она идёт вперёд, когда другие падают, и она заботится о павших, и больных, и усталых, не жалуясь. Я дал ей доброту любить детей при любых обстоятельствах, даже если они обижают её. Я дал ей силу поддерживать мужа, несмотря на все его недостатки. Я сделал её из его ребра, чтобы она защищала его сердце. Я дал ей мудрость понять, что хороший муж никогда нe причиняет жене боль намеренно, но иногда испытывает её силу и решимость стать рядом с ним, без колебаний. И, наконец, Я дал ей слёзы И право проливать их где и когда необходимо. И тебе, сын Мой, надо понять, что красота женщины не в её одежде, причёске или маникюре. Её красота в глазах, которые открывают дверь к её сердцу. Тому месту, где обитает любовь."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b8f541980101"/>
          <p:cNvPicPr/>
          <p:nvPr/>
        </p:nvPicPr>
        <p:blipFill>
          <a:blip r:embed="rId2"/>
          <a:stretch/>
        </p:blipFill>
        <p:spPr>
          <a:xfrm>
            <a:off x="63360" y="0"/>
            <a:ext cx="2853000" cy="1536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284720" y="404640"/>
            <a:ext cx="200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Слёз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b8f541980101"/>
          <p:cNvPicPr/>
          <p:nvPr/>
        </p:nvPicPr>
        <p:blipFill>
          <a:blip r:embed="rId2"/>
          <a:stretch/>
        </p:blipFill>
        <p:spPr>
          <a:xfrm>
            <a:off x="0" y="0"/>
            <a:ext cx="9144000" cy="4925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4723920"/>
            <a:ext cx="8785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).Почему же женщины плач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).Какими качествами наделил ее бог, чтобы она стала совершен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3).А что позволяет ей быть т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4).В чем же ее красота? Почему глаза - это зеркало душ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гра называется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«Соберите пословицы и поговорк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Жизнь дана на (что?)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Злой не верит, что есть (кто?)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Доброму слову (какой ответ?)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Доброму везде (что?)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Объясните, как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нимаешь эти пословицы?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5:09:08Z</dcterms:created>
  <dc:creator>XP GAME 2007</dc:creator>
  <dc:description/>
  <dc:language>en-US</dc:language>
  <cp:lastModifiedBy>ИННА</cp:lastModifiedBy>
  <dcterms:modified xsi:type="dcterms:W3CDTF">2012-01-30T23:15:10Z</dcterms:modified>
  <cp:revision>14</cp:revision>
  <dc:subject/>
  <dc:title>Слайд 1</dc:title>
</cp:coreProperties>
</file>