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png" ContentType="image/png"/>
  <Override PartName="/ppt/media/image9.png" ContentType="image/png"/>
  <Override PartName="/ppt/media/image6.gif" ContentType="image/gif"/>
  <Override PartName="/ppt/media/image8.jpeg" ContentType="image/jpeg"/>
  <Override PartName="/ppt/media/image10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7.png" ContentType="image/png"/>
  <Override PartName="/ppt/media/image16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image14.gif" ContentType="image/gif"/>
  <Override PartName="/ppt/media/image17.png" ContentType="image/pn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0FC-3813-45DB-A26B-A70F6276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E093-325A-4999-AF82-C81E517C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CE64-8709-4746-A3D8-BAEC2401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CD6-F23C-44CB-A867-AD762A84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BF8-3AEA-4DFE-BBCB-1091F92B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F7B-D3C4-4F40-8DA9-5417EADA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5235-026D-4D33-BEC7-AAFCD1FE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A11-894F-4E70-8C1B-CA2A1428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E38-4582-436D-9F8C-C3B9B580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E60-F8EE-4CA2-B99C-CB911CBE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AA86-64E4-4591-B760-2B3757B1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458-3772-4812-BA44-C968A84E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A79F-4E8F-4F1E-8E65-92FFC303BE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4360" y="333360"/>
            <a:ext cx="835164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Самая 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главная ценность 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на Земле..."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2" name="Приложение 1.wmv" descr=""/>
          <p:cNvPicPr/>
          <p:nvPr/>
        </p:nvPicPr>
        <p:blipFill>
          <a:blip r:embed="rId7"/>
          <a:stretch/>
        </p:blipFill>
        <p:spPr>
          <a:xfrm>
            <a:off x="2124000" y="299736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4824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Гёте: « Душа  каждого  человека</a:t>
            </a:r>
            <a:r>
              <a:rPr b="1" lang="ru-RU" sz="17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 радуется,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Доброта  обезоруживает  большинство люд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*Монтень: «  Если  человек  в  течении дня услышит  одно доброе слово, увидит  один добрый  поступок  и  сделает  одно доброе дело,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*Руссо : «  Отнимите  у нашего сердца  любовь  к  добру, ………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Стерн Мы не столько любим  людей  за  то добро которое они  нам сделали,………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*Толстой: «  Живут  лишь  те , кто творит добро. Добро , которое  ты делаешь  от сердца, ты делаешь всегда  себе  потому что………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62720" y="1241280"/>
            <a:ext cx="3581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колько  за  то добро,  которое  мы  им  сделал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это  единственно  верное  средство  быть  счастливы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  вы отнимите всю  прелесть жиз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гда  он делает  добро другому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 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оживет этот день  не  напрасно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1280" y="260280"/>
            <a:ext cx="7972200" cy="792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ре поэтическо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одолжи    высказывания  замечательных люд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7000"/>
                            </p:stCondLst>
                            <p:childTnLst>
                              <p:par>
                                <p:cTn id="3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9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3" dur="2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9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2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5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8" dur="2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ПРОВЕРЬ  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*Гёте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Душа  каждого  человека  радуется,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когда  он делает  добро  другому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оброта  обезоруживает  большинство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*</a:t>
            </a:r>
            <a:r>
              <a:rPr b="1" i="1" lang="ru-RU" sz="2100" spc="-1" strike="noStrike" u="sng">
                <a:solidFill>
                  <a:srgbClr val="336600"/>
                </a:solidFill>
                <a:uFillTx/>
                <a:latin typeface="Arial"/>
              </a:rPr>
              <a:t>Монтень</a:t>
            </a:r>
            <a:r>
              <a:rPr b="1" i="1" lang="ru-RU" sz="2100" spc="-1" strike="noStrike" u="sng">
                <a:solidFill>
                  <a:srgbClr val="333399"/>
                </a:solidFill>
                <a:uFillTx/>
                <a:latin typeface="Arial"/>
              </a:rPr>
              <a:t>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Если  человек  в  течении дня услышит  одно доброе слово, увидит  один добрый  поступок  и  сделает  одно доброе дело,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то проживет этот день  не  напр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*Руссо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Отнимите  у нашего сердца  любовь  к  добр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  вы отнимите всю  прелесть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* Стерн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Мы не столько любим  людей  за  то добро, которое они  нам сделали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, сколько  за  то добро,  которое  мы  им  сдел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*Толстой 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Живут  лишь  те , кто творит добро. Добро , которое  ты делаешь  от сердца, ты  делаешь всегда  себе  потому что это  единственно  верное  средство  быть  счастлив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2"/>
          <a:srcRect l="29835" t="8000" r="7169" b="0"/>
          <a:stretch/>
        </p:blipFill>
        <p:spPr>
          <a:xfrm>
            <a:off x="5796000" y="3284640"/>
            <a:ext cx="3139920" cy="3438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95280" y="549360"/>
            <a:ext cx="79772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1. Можно ли человека заставить быть добр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2. Можно ли стать добрым на врем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3. Нужно ли быть добрым к любому челове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4. Легко ли быть добр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5. Есть ли у вас желание делать добрые де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Mistral"/>
              </a:rPr>
              <a:t>Давайте   закончим наш классный час замечательными стихами Татьяны  Кузовлёвой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вори добро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т большей рад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жизнью жертву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спе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ради славы или сладост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по велению ду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гда кипишь, судьбой унижен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от бессилья и сты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позволяй душе обиж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июминутного 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ты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верь – действи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сё встанет на свои ме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си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ильные не мститель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ружье сильных - добр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2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1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4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7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2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3" dur="2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6" dur="2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9" dur="20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20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" dur="20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" dur="200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2000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2000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7" dur="2000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708000" y="333360"/>
            <a:ext cx="5327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Давайте поклоняться доброт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Давайте с думой жить о добро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Вся в голубой и звездной красо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Земля добра. Она дарит нас хлеб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Живой водой и деревом в цве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Под этим вечно неспокойным неб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askerville Old Face"/>
              </a:rPr>
              <a:t>Давайте воевать за доброт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Л. Татьяничевой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456000" cy="25178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2923920"/>
            <a:ext cx="3743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istral"/>
              </a:rPr>
              <a:t>Твори добро на всей земле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istral"/>
              </a:rPr>
              <a:t>Другим во благ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иложение3.mp3" descr=""/>
          <p:cNvPicPr/>
          <p:nvPr/>
        </p:nvPicPr>
        <p:blipFill>
          <a:blip r:embed="rId3"/>
          <a:stretch/>
        </p:blipFill>
        <p:spPr>
          <a:xfrm>
            <a:off x="900000" y="604980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0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0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23009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611280" y="4797360"/>
            <a:ext cx="82296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ота это – отзывчивость,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шевное расположение к людям,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емление делать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о другим.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-2291760" y="187920"/>
            <a:ext cx="134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istral"/>
              </a:rPr>
              <a:t>Научите своё сердце доб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-2004480" y="475200"/>
            <a:ext cx="134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6600"/>
                </a:solidFill>
                <a:latin typeface="Mistral"/>
              </a:rPr>
              <a:t>Научите своё сердце добр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92000" y="1699920"/>
            <a:ext cx="5651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Давайте поклоняться доброт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Давайте с думой жить о добро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Вся в голубой и звездной красо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Земля добра. Она дарит нас хлеб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Живой водой и деревом в цве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Под этим вечно неспокойным неб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Давайте воевать за доброт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Л. Татьяниче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/>
          <a:srcRect l="29835" t="8000" r="7169" b="0"/>
          <a:stretch/>
        </p:blipFill>
        <p:spPr>
          <a:xfrm>
            <a:off x="179280" y="1989000"/>
            <a:ext cx="31402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11"/>
          <p:cNvSpPr txBox="1"/>
          <p:nvPr/>
        </p:nvSpPr>
        <p:spPr>
          <a:xfrm>
            <a:off x="357120" y="2924280"/>
            <a:ext cx="752796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ота это – отзывчивость,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шевное расположение к людям,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емление делать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о другим. 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Picture 13" descr="zon010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867280" y="0"/>
            <a:ext cx="3527640" cy="343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7"/>
          <p:cNvSpPr txBox="1"/>
          <p:nvPr/>
        </p:nvSpPr>
        <p:spPr>
          <a:xfrm rot="5400000">
            <a:off x="-465480" y="1625760"/>
            <a:ext cx="23907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Доброта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49" name="приложение 2.wmv" descr=""/>
          <p:cNvPicPr/>
          <p:nvPr/>
        </p:nvPicPr>
        <p:blipFill>
          <a:blip r:embed="rId3"/>
          <a:stretch/>
        </p:blipFill>
        <p:spPr>
          <a:xfrm>
            <a:off x="155520" y="81000"/>
            <a:ext cx="888048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istral"/>
              </a:rPr>
              <a:t>  </a:t>
            </a:r>
            <a:r>
              <a:rPr b="1" i="1" lang="ru-RU" sz="4800" spc="-1" strike="noStrike">
                <a:solidFill>
                  <a:srgbClr val="ffffff"/>
                </a:solidFill>
                <a:latin typeface="Mistral"/>
              </a:rPr>
              <a:t>Чувства,   характеризующие доброго человека</a:t>
            </a:r>
            <a:r>
              <a:rPr b="1" lang="ru-RU" sz="4000" spc="-1" strike="noStrike">
                <a:solidFill>
                  <a:srgbClr val="ffffff"/>
                </a:solidFill>
                <a:latin typeface="Mistral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юбов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вере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ужб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щище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вер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пат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слажд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д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часть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им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им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08360" y="1628640"/>
            <a:ext cx="41101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зразлич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са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внодуш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вер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понима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пат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вож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аж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нави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ад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лоб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2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4000"/>
                            </p:stCondLst>
                            <p:childTnLst>
                              <p:par>
                                <p:cTn id="20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6000"/>
                            </p:stCondLst>
                            <p:childTnLst>
                              <p:par>
                                <p:cTn id="21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2000"/>
                            </p:stCondLst>
                            <p:childTnLst>
                              <p:par>
                                <p:cTn id="22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3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6000"/>
                            </p:stCondLst>
                            <p:childTnLst>
                              <p:par>
                                <p:cTn id="23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2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8000"/>
                            </p:stCondLst>
                            <p:childTnLst>
                              <p:par>
                                <p:cTn id="24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2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3640" y="2980800"/>
            <a:ext cx="858996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Старайся всякому  делать добро, а не себе одному.  (Сокра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Когда творишь добро сам, испытываешь радостное удовлетворение  и законную гордость. (Де – Монте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Лишь добро  одно  бессмертно. Зло подолгу не живет.  (Ш.Руставе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838080" y="380880"/>
            <a:ext cx="73152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мудрые  мыс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Нет ничего светлее и бескорыстнее любви матери. С первого дня рождения ребенка мать живет его дыханием, его слезами и улыб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Мать нужна ребенку. В этом смысл ее жизни. Любовь к своему малышу для нее так же естественна, как цветение садов весной. Как солнце посылает свои лучи, согревая все живое, так и любовь матери согревает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Мать приобщает дитя к жизни. В его уста она вкладывает родной язык, вобравший богатство разума, мысли и чувств на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Она наполняет его духовной силой, помогает постичь вечные ц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Не это ли держит ми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4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9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9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енький мальчик спросил маму: "Почему ты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чешь?" – "Потому что я – женщина." – "Я не понимаю!»  Мама обняла его и сказала: "Этого ты не поймешь никогда." Тогда мальчик спросил y отца: "Почему мама иногда плачет без причин?" "Все женщины иногда плачут без причин, " -всё, что смог ответить отец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ом мальчик вырос, стал мужчиной, но не переставал удивляться: "Почему же женщины плачут?" Наконец, он спросил у Бога. И Бог ответил:  "Задумав женщину, Я хотел, чтобы она была совершенной. Я дал ей плечи такие сильные, чтобы держать весь мир, и такие нежные, чтобы поддерживать детскую головку. Я дал ей дух настолько сильный, чтобы вынести роды и другую боль. Я дал ей волю, настолько сильную, что она идёт вперёд, когда другие падают, и она заботится о павших, и больных, и усталых, не жалуясь. Я дал ей доброту любить детей при любых обстоятельствах, даже если они обижают её. Я дал ей силу поддерживать мужа, несмотря на все его недостатки. Я сделал её из его ребра, чтобы она защищала его сердце. Я дал ей мудрость понять, что хороший муж никогда нe причиняет жене боль намеренно, но иногда испытывает её силу и решимость стать рядом с ним, без колебаний. И, наконец, Я дал ей слёзы И право проливать их где и когда необходимо. И тебе, сын Мой, надо понять, что красота женщины не в её одежде, причёске или маникюре. Её красота в глазах, которые открывают дверь к её сердцу. Тому месту, где обитает любовь."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b8f541980101"/>
          <p:cNvPicPr/>
          <p:nvPr/>
        </p:nvPicPr>
        <p:blipFill>
          <a:blip r:embed="rId2"/>
          <a:stretch/>
        </p:blipFill>
        <p:spPr>
          <a:xfrm>
            <a:off x="63360" y="0"/>
            <a:ext cx="2853000" cy="1536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4284720" y="404640"/>
            <a:ext cx="200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Слёзы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3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b8f541980101"/>
          <p:cNvPicPr/>
          <p:nvPr/>
        </p:nvPicPr>
        <p:blipFill>
          <a:blip r:embed="rId2"/>
          <a:stretch/>
        </p:blipFill>
        <p:spPr>
          <a:xfrm>
            <a:off x="0" y="0"/>
            <a:ext cx="9144000" cy="49258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4723920"/>
            <a:ext cx="8785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).Почему же женщины плачу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2).Какими качествами наделил ее бог, чтобы она стала совершенств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3).А что позволяет ей быть та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4).В чем же ее красота? Почему глаза - это зеркало душ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Игра называется 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«Соберите пословицы и поговорки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Жизнь дана на (что?)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Злой не верит, что есть (кто?)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Доброму слову (какой ответ?)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Доброму везде (что?)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-Объясните, как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онимаешь эти пословицы?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6300720" y="450864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5:09:08Z</dcterms:created>
  <dc:creator>XP GAME 2007</dc:creator>
  <dc:description/>
  <dc:language>en-US</dc:language>
  <cp:lastModifiedBy>ИННА</cp:lastModifiedBy>
  <dcterms:modified xsi:type="dcterms:W3CDTF">2012-01-30T23:15:10Z</dcterms:modified>
  <cp:revision>14</cp:revision>
  <dc:subject/>
  <dc:title>Слайд 1</dc:title>
</cp:coreProperties>
</file>