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D22-2228-4AD1-B978-74761958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FF8-A621-4B40-BF3A-97FE68C6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E1A-A093-4662-BFDE-93DE5A5F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87F-0322-4846-AC15-32913BF0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202-6939-49D5-9442-2B0E2E9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342-7BE2-42C0-8BF5-D07F2A1E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67C-234E-4518-8855-FA8821B9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D73-F13C-46C3-8605-C9CD10B9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B5F-BDEE-48B4-A5FA-B3148DCA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985-E32D-4D09-BED1-8A4DB2A6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C76-D97B-4EAC-8F8B-0357726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AE5-578A-445F-8D05-AD674F6D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77AD-21DE-4192-8F39-E12167339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: «Кук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щеуловой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Б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304812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2763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лько в русском языке слово «кукла» имеет несколько зна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ое - детская игрушка в виде фигурки челове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1970280" cy="263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4114800"/>
            <a:ext cx="784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торое - в театральном представлении фигура человека или животного, сделанная из разных материалов и управляемая актером (кукловодом): куклы на нитях (марионетки), тростевые (на тростях), перчаточные (надетые на руку), механические, верховые куклы (перчаточные и тростевые, играющие над ширмой), теневые куклы (плоские тростевые куклы, проектирующие на экран тени или силуэ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1595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тье - фигура, воспроизводящая человека в полный рост. (словарь С. И. Ожегова) Русское слово «кукла» родственно греческому «киклос» («круг») и означает нечто свернутое, например, деревяшку или пучок соломы, которые девочки издавна пеленали и завертыва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мым древним египетским куклам около 4 тыс. лет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х археологи находят в могилах маленьких египтян. Кукла иногда представляет собой грубый чурбанчик без рук, без ног. Головы украшались париками из деревянных и нитяных бус. Но служили эти куклы не детям, а взрослым и были связаны с различными формами религии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3581640" cy="239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6576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и дни промышленное производство кукол достигло неимоверного развития. Кукла стала неотъемлемой частью нашей повседневной жизни, неким напоминанием о детстве или просто красивым аксессуаром, предметом интерьера. Куклы встречают нас в театре, в магазине, они смотрят на нас с экранов телевиз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70 г. в Советском Союзе был налажен выпуск пластмассы. И появляются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лионы промышленных стандартных игру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би - удивительная кукла. Она была верным спутником не одного поколения дев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2540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295800" cy="495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16200000">
            <a:off x="1157400" y="976320"/>
            <a:ext cx="1419120" cy="53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2305080" cy="131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29400" y="4572000"/>
            <a:ext cx="2076480" cy="131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086600" y="243828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38080" y="2362320"/>
            <a:ext cx="1001880" cy="1904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629400" y="3808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 rot="16200000">
            <a:off x="7405560" y="899640"/>
            <a:ext cx="1419480" cy="381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971800" y="5791320"/>
            <a:ext cx="294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 п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12:30:04Z</dcterms:created>
  <dc:creator>Admin</dc:creator>
  <dc:description/>
  <dc:language>en-US</dc:language>
  <cp:lastModifiedBy>Admin</cp:lastModifiedBy>
  <dcterms:modified xsi:type="dcterms:W3CDTF">2016-04-09T07:26:1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