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872-BDFD-4DE8-A6BB-8A230A5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68A-C5FA-4BD9-87E2-E7AA570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2A4-85FC-48DB-8D10-74BB4654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24D-6E38-4D4C-8FDF-0CD94288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863-6744-4726-A74B-9462CA4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93E-CE71-4FDA-B7B4-8485304B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2EF-85DA-4BD4-8CA9-C7F6577F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380-02D3-4371-BEC0-8EAE6694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581-CD7F-470D-A193-23DF3971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181-0ECB-42E6-A7A0-F394956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FC4-5CA4-4C26-AA92-6807915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1A4-349C-4B6B-AE5B-120A535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8C3-EFC4-414D-819C-779653D1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: «Кук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щеуловой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Б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30481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2763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ько в русском языке слово «кукла» имеет несколько зна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ое - детская игрушка в виде фигурки чело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1970280" cy="263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4114800"/>
            <a:ext cx="784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ое - в театральном представлении фигура человека или животного, сделанная из разных материалов и управляемая актером (кукловодом): куклы на нитях (марионетки), тростевые (на тростях), перчаточные (надетые на руку), механические, верховые куклы (перчаточные и тростевые, играющие над ширмой), теневые куклы (плоские тростевые куклы, проектирующие на экран тени или силуэ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1595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тье - фигура, воспроизводящая человека в полный рост. (словарь С. И. Ожегова) Русское слово «кукла» родственно греческому «киклос» («круг») и означает нечто свернутое, например, деревяшку или пучок соломы, которые девочки издавна пеленали и завертыв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ым древним египетским куклам около 4 тыс. лет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х археологи находят в могилах маленьких египтян. Кукла иногда представляет собой грубый чурбанчик без рук, без ног. Головы украшались париками из деревянных и нитяных бус. Но служили эти куклы не детям, а взрослым и были связаны с различными формами религии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3581640" cy="239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6576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и дни промышленное производство кукол достигло неимоверного развития. Кукла стала неотъемлемой частью нашей повседневной жизни, неким напоминанием о детстве или просто красивым аксессуаром, предметом интерьера. Куклы встречают нас в театре, в магазине, они смотрят на нас с экранов телевиз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0 г. в Советском Союзе был налажен выпуск пластмассы. И появляются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лионы промышленных стандартных игр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би - удивительная кукла. Она была верным спутником не одного поколения дев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2540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295800" cy="495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6200000">
            <a:off x="1157400" y="976320"/>
            <a:ext cx="141912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2305080" cy="131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2076480" cy="131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086600" y="243828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38080" y="2362320"/>
            <a:ext cx="100188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29400" y="3808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 rot="16200000">
            <a:off x="7405560" y="899640"/>
            <a:ext cx="1419480" cy="381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971800" y="5791320"/>
            <a:ext cx="294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 п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12:30:04Z</dcterms:created>
  <dc:creator>Admin</dc:creator>
  <dc:description/>
  <dc:language>en-US</dc:language>
  <cp:lastModifiedBy>Admin</cp:lastModifiedBy>
  <dcterms:modified xsi:type="dcterms:W3CDTF">2016-04-09T07:26:1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