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3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E80-B349-47C9-9C36-A895AAF2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479-9846-4DF8-BB05-6441668A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D7F-5294-42E5-94CF-C2157CBB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A36-91F5-4591-82BB-8A0AE988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6E19-6A8A-436F-853E-474B6968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6EA3-ABF4-44D9-B461-5B7A7B1C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8679-57A7-4C16-B49B-6E0B4F15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41E9-7CC0-4F28-A5DD-ACCF8E16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E8E1-9702-4926-9A36-3C32663B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DA05-0C42-45D9-99C9-A56EC79B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2D39-E588-43ED-9A41-1ED79070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4E0-8412-40CB-9960-9F3F2C67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50F9-B027-4B6D-8A9E-247A1B65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DEDB-FFBC-42EC-A01C-03C63B8C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DF4A-BF2D-4ABD-9903-A7B2EA8C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5399-E5DF-4BFE-A5D9-3976B00E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C840-A99E-4767-A3A4-9AC0AAB9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10B-4383-45F3-9EA4-0F7EECE8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122-D70E-4FA8-95FB-277C8794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7AA-28EA-4A2A-A2AA-55D9C7E3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1C5-F330-48F1-88FD-6EE250D2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C4D-099A-4333-B44D-DE410AA8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B92-51CD-4337-9404-71DC5CBC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73B-3EEA-4EBD-9EDD-787D6B0B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0840" y="0"/>
            <a:ext cx="8840880" cy="6857640"/>
            <a:chOff x="150840" y="0"/>
            <a:chExt cx="8840880" cy="6857640"/>
          </a:xfrm>
        </p:grpSpPr>
        <p:grpSp>
          <p:nvGrpSpPr>
            <p:cNvPr id="1" name=""/>
            <p:cNvGrpSpPr/>
            <p:nvPr/>
          </p:nvGrpSpPr>
          <p:grpSpPr>
            <a:xfrm>
              <a:off x="152280" y="76320"/>
              <a:ext cx="8801280" cy="6781320"/>
              <a:chOff x="152280" y="76320"/>
              <a:chExt cx="8801280" cy="67813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1371600" y="228600"/>
                <a:ext cx="4229280" cy="2285640"/>
                <a:chOff x="1371600" y="228600"/>
                <a:chExt cx="4229280" cy="228564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1371600" y="1143000"/>
                  <a:ext cx="266760" cy="304560"/>
                  <a:chOff x="1371600" y="1143000"/>
                  <a:chExt cx="266760" cy="30456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1447560" y="1333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1523880" y="12956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1447560" y="1218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1485720" y="1218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1600200" y="1257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371600" y="1409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1371600" y="1143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1409760" y="1143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" name=""/>
                <p:cNvGrpSpPr/>
                <p:nvPr/>
              </p:nvGrpSpPr>
              <p:grpSpPr>
                <a:xfrm>
                  <a:off x="1905120" y="2209680"/>
                  <a:ext cx="266760" cy="304560"/>
                  <a:chOff x="1905120" y="2209680"/>
                  <a:chExt cx="266760" cy="304560"/>
                </a:xfrm>
              </p:grpSpPr>
              <p:sp>
                <p:nvSpPr>
                  <p:cNvPr id="13" name=""/>
                  <p:cNvSpPr/>
                  <p:nvPr/>
                </p:nvSpPr>
                <p:spPr>
                  <a:xfrm>
                    <a:off x="1981080" y="24001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2057400" y="23623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1981080" y="22856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2019240" y="22856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2133720" y="23238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1905120" y="24764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1905120" y="22096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1943280" y="22096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2895480" y="228600"/>
                  <a:ext cx="266760" cy="304560"/>
                  <a:chOff x="2895480" y="228600"/>
                  <a:chExt cx="266760" cy="30456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>
                    <a:off x="2971440" y="4190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047760" y="3812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2971440" y="3045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009600" y="3045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124080" y="3427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2895480" y="4953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2895480" y="2286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2933640" y="2286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3962520" y="838080"/>
                  <a:ext cx="266760" cy="304560"/>
                  <a:chOff x="3962520" y="838080"/>
                  <a:chExt cx="266760" cy="30456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>
                    <a:off x="4038480" y="1028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114800" y="990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038480" y="914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76640" y="914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191120" y="952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3962520" y="1104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3962520" y="838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000680" y="838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3200400" y="1676520"/>
                  <a:ext cx="266760" cy="304560"/>
                  <a:chOff x="3200400" y="1676520"/>
                  <a:chExt cx="266760" cy="3045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>
                    <a:off x="3276360" y="18669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3352680" y="1828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3276360" y="17524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314520" y="17524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429000" y="17906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200400" y="19432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200400" y="16765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238560" y="16765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5334120" y="1523880"/>
                  <a:ext cx="266760" cy="304560"/>
                  <a:chOff x="5334120" y="1523880"/>
                  <a:chExt cx="266760" cy="3045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5410080" y="17143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5486400" y="16765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5410080" y="15998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5448240" y="15998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5562720" y="16380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5334120" y="17906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5334120" y="15238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5372280" y="15238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4419720" y="2133720"/>
                  <a:ext cx="266760" cy="304560"/>
                  <a:chOff x="4419720" y="2133720"/>
                  <a:chExt cx="266760" cy="3045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>
                    <a:off x="4495680" y="23241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572000" y="2286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4495680" y="22096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4533840" y="22096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4648320" y="22478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4419720" y="24004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4419720" y="21337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4457880" y="21337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66" name=""/>
              <p:cNvGrpSpPr/>
              <p:nvPr/>
            </p:nvGrpSpPr>
            <p:grpSpPr>
              <a:xfrm>
                <a:off x="380880" y="3124080"/>
                <a:ext cx="5220000" cy="2285640"/>
                <a:chOff x="380880" y="3124080"/>
                <a:chExt cx="5220000" cy="228564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1371600" y="4038480"/>
                  <a:ext cx="266760" cy="304560"/>
                  <a:chOff x="1371600" y="4038480"/>
                  <a:chExt cx="266760" cy="30456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1447560" y="42289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523880" y="41911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447560" y="41144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485720" y="41144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600200" y="41526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1371600" y="43052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371600" y="40384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409760" y="40384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1905120" y="5105160"/>
                  <a:ext cx="266760" cy="304560"/>
                  <a:chOff x="1905120" y="5105160"/>
                  <a:chExt cx="266760" cy="30456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1981080" y="52956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2057400" y="5257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981080" y="51811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2019240" y="51811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133720" y="52192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905120" y="53719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1905120" y="51051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1943280" y="51051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380880" y="3124080"/>
                  <a:ext cx="266760" cy="304560"/>
                  <a:chOff x="380880" y="3124080"/>
                  <a:chExt cx="266760" cy="30456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4568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331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4568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4950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6094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808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3808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4190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2895480" y="3124080"/>
                  <a:ext cx="266760" cy="304560"/>
                  <a:chOff x="2895480" y="3124080"/>
                  <a:chExt cx="266760" cy="30456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29714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30477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29714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30096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1240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8954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28954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9336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3962520" y="3733560"/>
                  <a:ext cx="266760" cy="304560"/>
                  <a:chOff x="3962520" y="3733560"/>
                  <a:chExt cx="266760" cy="30456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4038480" y="39240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4114800" y="38862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4038480" y="38095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4076640" y="38095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4191120" y="38476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3962520" y="40003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962520" y="37335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4000680" y="37335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3200400" y="4572000"/>
                  <a:ext cx="266760" cy="304560"/>
                  <a:chOff x="3200400" y="4572000"/>
                  <a:chExt cx="266760" cy="30456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3276360" y="4762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3352680" y="47242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276360" y="4647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314520" y="4647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3429000" y="4686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3200400" y="4838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3200400" y="4572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3238560" y="4572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5334120" y="4419360"/>
                  <a:ext cx="266760" cy="304560"/>
                  <a:chOff x="5334120" y="4419360"/>
                  <a:chExt cx="266760" cy="30456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5410080" y="46098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5486400" y="4572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5410080" y="44953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5448240" y="44953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5562720" y="45334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5334120" y="46861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334120" y="44193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5372280" y="44193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419720" y="5029200"/>
                  <a:ext cx="266760" cy="304560"/>
                  <a:chOff x="4419720" y="5029200"/>
                  <a:chExt cx="266760" cy="3045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4495680" y="52196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4572000" y="51814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495680" y="51051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533840" y="51051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648320" y="51433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419720" y="52959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419720" y="50292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457880" y="50292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6858000" y="990720"/>
                <a:ext cx="266760" cy="304560"/>
                <a:chOff x="6858000" y="990720"/>
                <a:chExt cx="266760" cy="3045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933960" y="1181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010280" y="1143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933960" y="1066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72120" y="1066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086600" y="1104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858000" y="1257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858000" y="990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896160" y="990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391520" y="2057400"/>
                <a:ext cx="266760" cy="304560"/>
                <a:chOff x="7391520" y="2057400"/>
                <a:chExt cx="266760" cy="3045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467480" y="2247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543800" y="2210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467480" y="2133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505640" y="2133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2171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391520" y="2324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391520" y="2057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429680" y="2057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867280" y="76320"/>
                <a:ext cx="266760" cy="304560"/>
                <a:chOff x="5867280" y="76320"/>
                <a:chExt cx="266760" cy="3045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9432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195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9432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9814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958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8672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8672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9054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8381880" y="76320"/>
                <a:ext cx="266760" cy="304560"/>
                <a:chOff x="8381880" y="76320"/>
                <a:chExt cx="266760" cy="3045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84578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341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4578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4960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6104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3818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3818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4200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8686800" y="1523880"/>
                <a:ext cx="266760" cy="304560"/>
                <a:chOff x="8686800" y="1523880"/>
                <a:chExt cx="266760" cy="30456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876276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83908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76276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80092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91540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68680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68680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72496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6705720" y="3809880"/>
                <a:ext cx="266760" cy="304560"/>
                <a:chOff x="6705720" y="3809880"/>
                <a:chExt cx="266760" cy="3045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781680" y="4000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858000" y="3962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781680" y="3885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819840" y="3885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934320" y="3924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705720" y="4076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705720" y="3809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743880" y="3809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7238880" y="4876920"/>
                <a:ext cx="266760" cy="304560"/>
                <a:chOff x="7238880" y="4876920"/>
                <a:chExt cx="266760" cy="3045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7314840" y="50673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391160" y="5029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314840" y="49528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353000" y="49528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67480" y="49910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238880" y="51436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238880" y="48769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277040" y="48769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5715000" y="2895480"/>
                <a:ext cx="266760" cy="304560"/>
                <a:chOff x="5715000" y="2895480"/>
                <a:chExt cx="266760" cy="3045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7909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8672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7909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8291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436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7150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7150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7531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8229600" y="2895480"/>
                <a:ext cx="266760" cy="304560"/>
                <a:chOff x="8229600" y="2895480"/>
                <a:chExt cx="266760" cy="3045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83055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818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3055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3437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4582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2296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2296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2677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8534520" y="4343400"/>
                <a:ext cx="266760" cy="304560"/>
                <a:chOff x="8534520" y="4343400"/>
                <a:chExt cx="266760" cy="3045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8610480" y="4533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8686800" y="4496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610480" y="4419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648640" y="4419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763120" y="4457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534520" y="4610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534520" y="4343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572680" y="4343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6058080" y="6095880"/>
                <a:ext cx="266400" cy="304560"/>
                <a:chOff x="6058080" y="6095880"/>
                <a:chExt cx="266400" cy="3045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61340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2103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1340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722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2863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0580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0580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0958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8572680" y="6095880"/>
                <a:ext cx="266400" cy="304560"/>
                <a:chOff x="8572680" y="6095880"/>
                <a:chExt cx="266400" cy="3045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86486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7249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86486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6868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8009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85726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85726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6104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152280" y="5943600"/>
                <a:ext cx="266760" cy="304560"/>
                <a:chOff x="152280" y="5943600"/>
                <a:chExt cx="266760" cy="3045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2282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045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282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664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808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522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522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904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2666880" y="5943600"/>
                <a:ext cx="266760" cy="304560"/>
                <a:chOff x="2666880" y="5943600"/>
                <a:chExt cx="266760" cy="3045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7428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191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7428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7810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8954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6668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6668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7050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733920" y="6553080"/>
                <a:ext cx="266760" cy="304560"/>
                <a:chOff x="3733920" y="6553080"/>
                <a:chExt cx="266760" cy="3045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809880" y="6743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886200" y="6705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09880" y="6629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848040" y="6629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62520" y="6667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733920" y="6819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733920" y="6553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772080" y="6553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74" name=""/>
            <p:cNvGrpSpPr/>
            <p:nvPr/>
          </p:nvGrpSpPr>
          <p:grpSpPr>
            <a:xfrm>
              <a:off x="152280" y="0"/>
              <a:ext cx="457200" cy="1066680"/>
              <a:chOff x="152280" y="0"/>
              <a:chExt cx="457200" cy="1066680"/>
            </a:xfrm>
          </p:grpSpPr>
          <p:sp>
            <p:nvSpPr>
              <p:cNvPr id="275" name=""/>
              <p:cNvSpPr/>
              <p:nvPr/>
            </p:nvSpPr>
            <p:spPr>
              <a:xfrm>
                <a:off x="152280" y="914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2280" y="0"/>
                <a:ext cx="457200" cy="914400"/>
              </a:xfrm>
              <a:prstGeom prst="rect">
                <a:avLst/>
              </a:prstGeom>
              <a:solidFill>
                <a:srgbClr val="cdc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50840" y="1141560"/>
              <a:ext cx="8840880" cy="5564160"/>
              <a:chOff x="150840" y="1141560"/>
              <a:chExt cx="8840880" cy="5564160"/>
            </a:xfrm>
          </p:grpSpPr>
          <p:sp>
            <p:nvSpPr>
              <p:cNvPr id="278" name=""/>
              <p:cNvSpPr/>
              <p:nvPr/>
            </p:nvSpPr>
            <p:spPr>
              <a:xfrm rot="5400000">
                <a:off x="264960" y="1331640"/>
                <a:ext cx="15228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341280" y="1407960"/>
                <a:ext cx="76320" cy="15264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5400000">
                <a:off x="455040" y="1217520"/>
                <a:ext cx="76320" cy="22860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5400000">
                <a:off x="303120" y="1446120"/>
                <a:ext cx="75960" cy="38088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5400000">
                <a:off x="-39600" y="1332000"/>
                <a:ext cx="45720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5400000">
                <a:off x="455400" y="912960"/>
                <a:ext cx="75960" cy="5331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5400000">
                <a:off x="-2020680" y="3922560"/>
                <a:ext cx="5488200" cy="777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57200" y="1447920"/>
                <a:ext cx="380880" cy="75960"/>
              </a:xfrm>
              <a:prstGeom prst="rect">
                <a:avLst/>
              </a:prstGeom>
              <a:solidFill>
                <a:srgbClr val="eceb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38080" y="1447920"/>
                <a:ext cx="8153640" cy="759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5400000">
                <a:off x="417600" y="1484280"/>
                <a:ext cx="30456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52280" y="1752480"/>
              <a:ext cx="457200" cy="4953240"/>
              <a:chOff x="152280" y="1752480"/>
              <a:chExt cx="457200" cy="4953240"/>
            </a:xfrm>
          </p:grpSpPr>
          <p:sp>
            <p:nvSpPr>
              <p:cNvPr id="289" name=""/>
              <p:cNvSpPr/>
              <p:nvPr/>
            </p:nvSpPr>
            <p:spPr>
              <a:xfrm>
                <a:off x="152280" y="1752480"/>
                <a:ext cx="457200" cy="15264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2280" y="1905120"/>
                <a:ext cx="457200" cy="4800600"/>
              </a:xfrm>
              <a:prstGeom prst="rect">
                <a:avLst/>
              </a:prstGeom>
              <a:solidFill>
                <a:srgbClr val="b6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9600" indent="-21960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7840" indent="-172800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30720" indent="-172800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778E-FAD3-404D-9B7E-891CCD53D816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152280" y="76320"/>
            <a:ext cx="8801280" cy="6781320"/>
            <a:chOff x="152280" y="76320"/>
            <a:chExt cx="8801280" cy="6781320"/>
          </a:xfrm>
        </p:grpSpPr>
        <p:grpSp>
          <p:nvGrpSpPr>
            <p:cNvPr id="333" name=""/>
            <p:cNvGrpSpPr/>
            <p:nvPr/>
          </p:nvGrpSpPr>
          <p:grpSpPr>
            <a:xfrm>
              <a:off x="1371600" y="228600"/>
              <a:ext cx="4229280" cy="2285640"/>
              <a:chOff x="1371600" y="228600"/>
              <a:chExt cx="4229280" cy="228564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1371600" y="1143000"/>
                <a:ext cx="266760" cy="304560"/>
                <a:chOff x="1371600" y="1143000"/>
                <a:chExt cx="266760" cy="3045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447560" y="1333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523880" y="12956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447560" y="1218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485720" y="1218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600200" y="1257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371600" y="1409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371600" y="1143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409760" y="1143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905120" y="2209680"/>
                <a:ext cx="266760" cy="304560"/>
                <a:chOff x="1905120" y="2209680"/>
                <a:chExt cx="266760" cy="3045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981080" y="24001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057400" y="23623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981080" y="22856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019240" y="22856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133720" y="23238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905120" y="24764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905120" y="22096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943280" y="22096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2895480" y="228600"/>
                <a:ext cx="266760" cy="304560"/>
                <a:chOff x="2895480" y="228600"/>
                <a:chExt cx="266760" cy="3045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2971440" y="419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047760" y="381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971440" y="304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009600" y="304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124080" y="342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95480" y="495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895480" y="228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933640" y="228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3962520" y="838080"/>
                <a:ext cx="266760" cy="304560"/>
                <a:chOff x="3962520" y="838080"/>
                <a:chExt cx="266760" cy="3045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4038480" y="1028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114800" y="990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038480" y="914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076640" y="914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191120" y="952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3962520" y="1104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962520" y="838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00680" y="838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200400" y="1676520"/>
                <a:ext cx="266760" cy="304560"/>
                <a:chOff x="3200400" y="1676520"/>
                <a:chExt cx="266760" cy="304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276360" y="18669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352680" y="1828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276360" y="17524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314520" y="17524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429000" y="17906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200400" y="19432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200400" y="16765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238560" y="16765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334120" y="1523880"/>
                <a:ext cx="266760" cy="304560"/>
                <a:chOff x="5334120" y="1523880"/>
                <a:chExt cx="266760" cy="3045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41008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48640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41008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44824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56272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33412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33412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37228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4419720" y="2133720"/>
                <a:ext cx="266760" cy="304560"/>
                <a:chOff x="4419720" y="2133720"/>
                <a:chExt cx="266760" cy="3045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4495680" y="2324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572000" y="2286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495680" y="2209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533840" y="2209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648320" y="2247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419720" y="2400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419720" y="2133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457880" y="2133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97" name=""/>
            <p:cNvGrpSpPr/>
            <p:nvPr/>
          </p:nvGrpSpPr>
          <p:grpSpPr>
            <a:xfrm>
              <a:off x="380880" y="3124080"/>
              <a:ext cx="5220000" cy="2285640"/>
              <a:chOff x="380880" y="3124080"/>
              <a:chExt cx="5220000" cy="228564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1371600" y="4038480"/>
                <a:ext cx="266760" cy="304560"/>
                <a:chOff x="1371600" y="4038480"/>
                <a:chExt cx="266760" cy="3045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447560" y="4228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523880" y="4191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447560" y="4114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485720" y="4114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600200" y="4152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71600" y="4305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371600" y="4038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409760" y="4038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1905120" y="5105160"/>
                <a:ext cx="266760" cy="304560"/>
                <a:chOff x="1905120" y="5105160"/>
                <a:chExt cx="266760" cy="3045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981080" y="52956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057400" y="5257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981080" y="51811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019240" y="51811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133720" y="52192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905120" y="53719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905120" y="51051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943280" y="51051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380880" y="3124080"/>
                <a:ext cx="266760" cy="304560"/>
                <a:chOff x="380880" y="3124080"/>
                <a:chExt cx="266760" cy="3045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4568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331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568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950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094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08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808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190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2895480" y="3124080"/>
                <a:ext cx="266760" cy="304560"/>
                <a:chOff x="2895480" y="3124080"/>
                <a:chExt cx="266760" cy="30456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9714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0477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9714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0096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1240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8954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8954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9336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3962520" y="3733560"/>
                <a:ext cx="266760" cy="304560"/>
                <a:chOff x="3962520" y="3733560"/>
                <a:chExt cx="266760" cy="3045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4038480" y="39240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114800" y="3886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038480" y="38095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076640" y="38095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191120" y="38476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962520" y="40003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962520" y="37335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000680" y="37335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200400" y="4572000"/>
                <a:ext cx="266760" cy="304560"/>
                <a:chOff x="3200400" y="4572000"/>
                <a:chExt cx="266760" cy="3045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3276360" y="4762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352680" y="47242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276360" y="4647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314520" y="4647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429000" y="4686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200400" y="4838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200400" y="4572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238560" y="4572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334120" y="4419360"/>
                <a:ext cx="266760" cy="304560"/>
                <a:chOff x="5334120" y="4419360"/>
                <a:chExt cx="266760" cy="3045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410080" y="46098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486400" y="4572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410080" y="44953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448240" y="44953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562720" y="45334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334120" y="46861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334120" y="44193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372280" y="44193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4419720" y="5029200"/>
                <a:ext cx="266760" cy="304560"/>
                <a:chOff x="4419720" y="5029200"/>
                <a:chExt cx="266760" cy="3045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4495680" y="52196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572000" y="51814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495680" y="51051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533840" y="51051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648320" y="51433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419720" y="52959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419720" y="50292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457880" y="50292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470" name=""/>
            <p:cNvGrpSpPr/>
            <p:nvPr/>
          </p:nvGrpSpPr>
          <p:grpSpPr>
            <a:xfrm>
              <a:off x="6858000" y="990720"/>
              <a:ext cx="266760" cy="304560"/>
              <a:chOff x="6858000" y="990720"/>
              <a:chExt cx="266760" cy="304560"/>
            </a:xfrm>
          </p:grpSpPr>
          <p:sp>
            <p:nvSpPr>
              <p:cNvPr id="471" name=""/>
              <p:cNvSpPr/>
              <p:nvPr/>
            </p:nvSpPr>
            <p:spPr>
              <a:xfrm>
                <a:off x="6933960" y="11811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010280" y="11430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933960" y="10666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72120" y="10666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086600" y="11048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858000" y="12574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858000" y="9907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896160" y="9907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7391520" y="2057400"/>
              <a:ext cx="266760" cy="304560"/>
              <a:chOff x="7391520" y="2057400"/>
              <a:chExt cx="266760" cy="304560"/>
            </a:xfrm>
          </p:grpSpPr>
          <p:sp>
            <p:nvSpPr>
              <p:cNvPr id="480" name=""/>
              <p:cNvSpPr/>
              <p:nvPr/>
            </p:nvSpPr>
            <p:spPr>
              <a:xfrm>
                <a:off x="7467480" y="2247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543800" y="2210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67480" y="2133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505640" y="2133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620120" y="2171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391520" y="2324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91520" y="2057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429680" y="2057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5867280" y="76320"/>
              <a:ext cx="266760" cy="304560"/>
              <a:chOff x="5867280" y="76320"/>
              <a:chExt cx="266760" cy="304560"/>
            </a:xfrm>
          </p:grpSpPr>
          <p:sp>
            <p:nvSpPr>
              <p:cNvPr id="489" name=""/>
              <p:cNvSpPr/>
              <p:nvPr/>
            </p:nvSpPr>
            <p:spPr>
              <a:xfrm>
                <a:off x="59432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195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9432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9814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958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672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8672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054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8381880" y="76320"/>
              <a:ext cx="266760" cy="304560"/>
              <a:chOff x="8381880" y="76320"/>
              <a:chExt cx="266760" cy="304560"/>
            </a:xfrm>
          </p:grpSpPr>
          <p:sp>
            <p:nvSpPr>
              <p:cNvPr id="498" name=""/>
              <p:cNvSpPr/>
              <p:nvPr/>
            </p:nvSpPr>
            <p:spPr>
              <a:xfrm>
                <a:off x="84578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5341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4578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4960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6104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3818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3818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4200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8686800" y="1523880"/>
              <a:ext cx="266760" cy="304560"/>
              <a:chOff x="8686800" y="1523880"/>
              <a:chExt cx="266760" cy="304560"/>
            </a:xfrm>
          </p:grpSpPr>
          <p:sp>
            <p:nvSpPr>
              <p:cNvPr id="507" name=""/>
              <p:cNvSpPr/>
              <p:nvPr/>
            </p:nvSpPr>
            <p:spPr>
              <a:xfrm>
                <a:off x="8762760" y="1714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839080" y="1676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762760" y="1599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800920" y="1599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15400" y="1638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686800" y="1790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686800" y="1523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724960" y="1523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6705720" y="3809880"/>
              <a:ext cx="266760" cy="304560"/>
              <a:chOff x="6705720" y="3809880"/>
              <a:chExt cx="266760" cy="304560"/>
            </a:xfrm>
          </p:grpSpPr>
          <p:sp>
            <p:nvSpPr>
              <p:cNvPr id="516" name=""/>
              <p:cNvSpPr/>
              <p:nvPr/>
            </p:nvSpPr>
            <p:spPr>
              <a:xfrm>
                <a:off x="6781680" y="4000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58000" y="3962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781680" y="3885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819840" y="3885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34320" y="3924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705720" y="4076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705720" y="3809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743880" y="3809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7238880" y="4876920"/>
              <a:ext cx="266760" cy="304560"/>
              <a:chOff x="7238880" y="4876920"/>
              <a:chExt cx="266760" cy="304560"/>
            </a:xfrm>
          </p:grpSpPr>
          <p:sp>
            <p:nvSpPr>
              <p:cNvPr id="525" name=""/>
              <p:cNvSpPr/>
              <p:nvPr/>
            </p:nvSpPr>
            <p:spPr>
              <a:xfrm>
                <a:off x="7314840" y="50673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91160" y="50292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14840" y="49528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353000" y="49528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467480" y="49910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238880" y="51436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238880" y="48769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277040" y="48769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5715000" y="2895480"/>
              <a:ext cx="266760" cy="304560"/>
              <a:chOff x="5715000" y="2895480"/>
              <a:chExt cx="266760" cy="304560"/>
            </a:xfrm>
          </p:grpSpPr>
          <p:sp>
            <p:nvSpPr>
              <p:cNvPr id="534" name=""/>
              <p:cNvSpPr/>
              <p:nvPr/>
            </p:nvSpPr>
            <p:spPr>
              <a:xfrm>
                <a:off x="57909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8672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7909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291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9436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7150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7150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7531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8229600" y="2895480"/>
              <a:ext cx="266760" cy="304560"/>
              <a:chOff x="8229600" y="2895480"/>
              <a:chExt cx="266760" cy="304560"/>
            </a:xfrm>
          </p:grpSpPr>
          <p:sp>
            <p:nvSpPr>
              <p:cNvPr id="543" name=""/>
              <p:cNvSpPr/>
              <p:nvPr/>
            </p:nvSpPr>
            <p:spPr>
              <a:xfrm>
                <a:off x="83055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3818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3055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3437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4582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2296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2296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2677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8534520" y="4343400"/>
              <a:ext cx="266760" cy="304560"/>
              <a:chOff x="8534520" y="4343400"/>
              <a:chExt cx="266760" cy="304560"/>
            </a:xfrm>
          </p:grpSpPr>
          <p:sp>
            <p:nvSpPr>
              <p:cNvPr id="552" name=""/>
              <p:cNvSpPr/>
              <p:nvPr/>
            </p:nvSpPr>
            <p:spPr>
              <a:xfrm>
                <a:off x="8610480" y="4533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686800" y="4496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610480" y="4419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648640" y="4419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763120" y="4457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534520" y="4610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534520" y="4343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572680" y="4343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6058080" y="6095880"/>
              <a:ext cx="266400" cy="304560"/>
              <a:chOff x="6058080" y="6095880"/>
              <a:chExt cx="266400" cy="304560"/>
            </a:xfrm>
          </p:grpSpPr>
          <p:sp>
            <p:nvSpPr>
              <p:cNvPr id="561" name=""/>
              <p:cNvSpPr/>
              <p:nvPr/>
            </p:nvSpPr>
            <p:spPr>
              <a:xfrm>
                <a:off x="61340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103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1340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1722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863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580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580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958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8572680" y="6095880"/>
              <a:ext cx="266400" cy="304560"/>
              <a:chOff x="8572680" y="6095880"/>
              <a:chExt cx="266400" cy="304560"/>
            </a:xfrm>
          </p:grpSpPr>
          <p:sp>
            <p:nvSpPr>
              <p:cNvPr id="570" name=""/>
              <p:cNvSpPr/>
              <p:nvPr/>
            </p:nvSpPr>
            <p:spPr>
              <a:xfrm>
                <a:off x="86486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7249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6486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6868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8009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5726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5726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6104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152280" y="5943600"/>
              <a:ext cx="266760" cy="304560"/>
              <a:chOff x="152280" y="5943600"/>
              <a:chExt cx="266760" cy="304560"/>
            </a:xfrm>
          </p:grpSpPr>
          <p:sp>
            <p:nvSpPr>
              <p:cNvPr id="579" name=""/>
              <p:cNvSpPr/>
              <p:nvPr/>
            </p:nvSpPr>
            <p:spPr>
              <a:xfrm>
                <a:off x="2282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045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282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664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808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522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22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04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666880" y="5943600"/>
              <a:ext cx="266760" cy="304560"/>
              <a:chOff x="2666880" y="5943600"/>
              <a:chExt cx="266760" cy="304560"/>
            </a:xfrm>
          </p:grpSpPr>
          <p:sp>
            <p:nvSpPr>
              <p:cNvPr id="588" name=""/>
              <p:cNvSpPr/>
              <p:nvPr/>
            </p:nvSpPr>
            <p:spPr>
              <a:xfrm>
                <a:off x="27428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8191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7428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7810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954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6668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6668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7050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733920" y="6553080"/>
              <a:ext cx="266760" cy="304560"/>
              <a:chOff x="3733920" y="6553080"/>
              <a:chExt cx="266760" cy="304560"/>
            </a:xfrm>
          </p:grpSpPr>
          <p:sp>
            <p:nvSpPr>
              <p:cNvPr id="597" name=""/>
              <p:cNvSpPr/>
              <p:nvPr/>
            </p:nvSpPr>
            <p:spPr>
              <a:xfrm>
                <a:off x="3809880" y="67435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886200" y="67057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809880" y="66290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848040" y="66290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962520" y="66672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733920" y="68198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33920" y="65530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772080" y="65530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05" name=""/>
          <p:cNvSpPr/>
          <p:nvPr/>
        </p:nvSpPr>
        <p:spPr>
          <a:xfrm rot="5400000">
            <a:off x="264960" y="2779560"/>
            <a:ext cx="15228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"/>
          <p:cNvSpPr/>
          <p:nvPr/>
        </p:nvSpPr>
        <p:spPr>
          <a:xfrm rot="5400000">
            <a:off x="455400" y="2665440"/>
            <a:ext cx="75960" cy="22860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"/>
          <p:cNvSpPr/>
          <p:nvPr/>
        </p:nvSpPr>
        <p:spPr>
          <a:xfrm rot="5400000">
            <a:off x="303120" y="2894040"/>
            <a:ext cx="76320" cy="38088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-39600" y="2779560"/>
            <a:ext cx="45720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55040" y="2360520"/>
            <a:ext cx="76320" cy="5331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-1296720" y="4646520"/>
            <a:ext cx="4040280" cy="777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03120" y="2894040"/>
            <a:ext cx="8688600" cy="77760"/>
            <a:chOff x="303120" y="2894040"/>
            <a:chExt cx="8688600" cy="77760"/>
          </a:xfrm>
        </p:grpSpPr>
        <p:sp>
          <p:nvSpPr>
            <p:cNvPr id="612" name=""/>
            <p:cNvSpPr/>
            <p:nvPr/>
          </p:nvSpPr>
          <p:spPr>
            <a:xfrm rot="5400000">
              <a:off x="341280" y="2855880"/>
              <a:ext cx="76320" cy="15264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7200" y="2895480"/>
              <a:ext cx="380880" cy="76320"/>
            </a:xfrm>
            <a:prstGeom prst="rect">
              <a:avLst/>
            </a:prstGeom>
            <a:solidFill>
              <a:srgbClr val="ece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38080" y="2895480"/>
              <a:ext cx="8153640" cy="7632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15" name=""/>
          <p:cNvSpPr/>
          <p:nvPr/>
        </p:nvSpPr>
        <p:spPr>
          <a:xfrm rot="5400000">
            <a:off x="417240" y="2931840"/>
            <a:ext cx="30492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52280" y="0"/>
            <a:ext cx="457200" cy="6705720"/>
            <a:chOff x="152280" y="0"/>
            <a:chExt cx="457200" cy="6705720"/>
          </a:xfrm>
        </p:grpSpPr>
        <p:grpSp>
          <p:nvGrpSpPr>
            <p:cNvPr id="617" name=""/>
            <p:cNvGrpSpPr/>
            <p:nvPr/>
          </p:nvGrpSpPr>
          <p:grpSpPr>
            <a:xfrm>
              <a:off x="152280" y="0"/>
              <a:ext cx="457200" cy="2514600"/>
              <a:chOff x="152280" y="0"/>
              <a:chExt cx="457200" cy="2514600"/>
            </a:xfrm>
          </p:grpSpPr>
          <p:sp>
            <p:nvSpPr>
              <p:cNvPr id="618" name=""/>
              <p:cNvSpPr/>
              <p:nvPr/>
            </p:nvSpPr>
            <p:spPr>
              <a:xfrm>
                <a:off x="152280" y="236232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52280" y="0"/>
                <a:ext cx="457200" cy="2362320"/>
              </a:xfrm>
              <a:prstGeom prst="rect">
                <a:avLst/>
              </a:prstGeom>
              <a:solidFill>
                <a:srgbClr val="cdc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152280" y="3200400"/>
              <a:ext cx="457200" cy="3505320"/>
              <a:chOff x="152280" y="3200400"/>
              <a:chExt cx="457200" cy="3505320"/>
            </a:xfrm>
          </p:grpSpPr>
          <p:sp>
            <p:nvSpPr>
              <p:cNvPr id="621" name=""/>
              <p:cNvSpPr/>
              <p:nvPr/>
            </p:nvSpPr>
            <p:spPr>
              <a:xfrm>
                <a:off x="152280" y="3200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52280" y="3352680"/>
                <a:ext cx="457200" cy="3353040"/>
              </a:xfrm>
              <a:prstGeom prst="rect">
                <a:avLst/>
              </a:prstGeom>
              <a:solidFill>
                <a:srgbClr val="b6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A267-2A8D-4542-953A-4A8A14E73066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29486b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Древняя Греция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1042920" y="1430280"/>
            <a:ext cx="77058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Посейдон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755640" y="1617840"/>
            <a:ext cx="50878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Посейдон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– брат Зевса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Его дом – подводный дворец, где он держал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золотую колесницу  и белых лошадей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Символы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– трезубец, дельфин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5843520" y="4497480"/>
            <a:ext cx="261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4643280" y="551664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Храм Посейдон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93" name="Picture 8" descr="poseidon1"/>
          <p:cNvPicPr/>
          <p:nvPr/>
        </p:nvPicPr>
        <p:blipFill>
          <a:blip r:embed="rId1"/>
          <a:stretch/>
        </p:blipFill>
        <p:spPr>
          <a:xfrm>
            <a:off x="6012000" y="981000"/>
            <a:ext cx="3132000" cy="52563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9" descr="poseidon tem"/>
          <p:cNvPicPr/>
          <p:nvPr/>
        </p:nvPicPr>
        <p:blipFill>
          <a:blip r:embed="rId2"/>
          <a:stretch/>
        </p:blipFill>
        <p:spPr>
          <a:xfrm>
            <a:off x="712800" y="3787920"/>
            <a:ext cx="38862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Аид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540072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Бог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Аид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– брат Зевса и Посейдона – властитель мрачного подземного «царства мертвых».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Там текут страшные холодные реки, туда не проникают лучи солнца и всегда стоит безотрадная ночь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Точно гонимые ветром, носятся там души умерших, жалуясь на свою судьбу. Никому нет возврата из этого царства печали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Символ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– двузубые вилы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97" name="Picture 8" descr="hades1"/>
          <p:cNvPicPr/>
          <p:nvPr/>
        </p:nvPicPr>
        <p:blipFill>
          <a:blip r:embed="rId1"/>
          <a:stretch/>
        </p:blipFill>
        <p:spPr>
          <a:xfrm>
            <a:off x="6012000" y="2997360"/>
            <a:ext cx="28479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Гера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99" name="Picture 8" descr="gre_1223_3"/>
          <p:cNvPicPr/>
          <p:nvPr/>
        </p:nvPicPr>
        <p:blipFill>
          <a:blip r:embed="rId1"/>
          <a:stretch/>
        </p:blipFill>
        <p:spPr>
          <a:xfrm>
            <a:off x="4788000" y="1611360"/>
            <a:ext cx="3744720" cy="195084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7"/>
          <p:cNvSpPr/>
          <p:nvPr/>
        </p:nvSpPr>
        <p:spPr>
          <a:xfrm>
            <a:off x="5878440" y="351468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Храм Геры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1" name=""/>
          <p:cNvSpPr/>
          <p:nvPr/>
        </p:nvSpPr>
        <p:spPr>
          <a:xfrm>
            <a:off x="539640" y="414972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Богиня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Гера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–  супруга Зевса, верховная богиня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Греки почитали Геру как охранительницу семьи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В Троянской войне Гера была ярой защитницей греков и противницей троянцев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 Narrow"/>
              </a:rPr>
              <a:t>Символы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– гранат, павлин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02" name="Picture 8" descr="Гера"/>
          <p:cNvPicPr/>
          <p:nvPr/>
        </p:nvPicPr>
        <p:blipFill>
          <a:blip r:embed="rId2"/>
          <a:stretch/>
        </p:blipFill>
        <p:spPr>
          <a:xfrm>
            <a:off x="971640" y="765000"/>
            <a:ext cx="2249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Гермес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5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Гермес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естник богов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этому его изображали в дорожной шапочке, золотых крылатых сандалиях и с золотым жезлом в руке, обладающим волшебной силой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тим жезлом, усыпляющим и пробуждающим людей, Гермес выполняет важную обязанность проводника душ умерших в царство Аида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Гермес – покровитель всех путников, в том числе и купцов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Narrow"/>
              </a:rPr>
              <a:t>Символы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Крылатые сандалии, золотой жезл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05" name="Picture 5" descr="hermes1"/>
          <p:cNvPicPr/>
          <p:nvPr/>
        </p:nvPicPr>
        <p:blipFill>
          <a:blip r:embed="rId1"/>
          <a:stretch/>
        </p:blipFill>
        <p:spPr>
          <a:xfrm>
            <a:off x="6588000" y="3141720"/>
            <a:ext cx="3003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Афина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444560" y="1628640"/>
            <a:ext cx="469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Афина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– дочь Зевса и титаниды Метиды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Зевс проглотил Метиду, т.к. ему предсказали, что ее сын лишит власти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Однажды у Зевса разболелась голова, и он приказал Гефесту расколоть ему голову топором. Оттуда появилась Афина в полном боевом вооружении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Она стала богиней мудрости и войны, а также покровительницей Афин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Е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символы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– сова и оливковое дерево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08" name="Picture 8" descr="Temple-Ath"/>
          <p:cNvPicPr/>
          <p:nvPr/>
        </p:nvPicPr>
        <p:blipFill>
          <a:blip r:embed="rId1"/>
          <a:stretch/>
        </p:blipFill>
        <p:spPr>
          <a:xfrm>
            <a:off x="971640" y="4508640"/>
            <a:ext cx="3376440" cy="182376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1840320" y="633888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Храм Афины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10" name="Picture 9" descr="athene1"/>
          <p:cNvPicPr/>
          <p:nvPr/>
        </p:nvPicPr>
        <p:blipFill>
          <a:blip r:embed="rId2"/>
          <a:stretch/>
        </p:blipFill>
        <p:spPr>
          <a:xfrm>
            <a:off x="971640" y="1484280"/>
            <a:ext cx="23810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Дионис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595296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3120" indent="-213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Бог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ионис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был покровителем виноградарства и виноделия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13120" indent="-213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На почвах Греции плохо росли зерновые, зато виноградники давали большие урожаи: греческие земледельцы производили много вина и для себя, и на продажу. Поэтому Дионис особенно почитался земледельцами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13120" indent="-213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Его изображали красивым юношей с гроздьями винограда в руках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13120" indent="-213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Narrow"/>
              </a:rPr>
              <a:t>Символ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- Жезл, увитый виноградными листьями с сосновой шишкой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13" name="Picture 5" descr="dionis1"/>
          <p:cNvPicPr/>
          <p:nvPr/>
        </p:nvPicPr>
        <p:blipFill>
          <a:blip r:embed="rId1"/>
          <a:stretch/>
        </p:blipFill>
        <p:spPr>
          <a:xfrm>
            <a:off x="6573960" y="2637000"/>
            <a:ext cx="25700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Афродита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715" name="Picture 9" descr="aphrodite1"/>
          <p:cNvPicPr/>
          <p:nvPr/>
        </p:nvPicPr>
        <p:blipFill>
          <a:blip r:embed="rId1"/>
          <a:stretch/>
        </p:blipFill>
        <p:spPr>
          <a:xfrm>
            <a:off x="755640" y="1557360"/>
            <a:ext cx="1720800" cy="20160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2"/>
          <p:cNvPicPr/>
          <p:nvPr/>
        </p:nvPicPr>
        <p:blipFill>
          <a:blip r:embed="rId2"/>
          <a:stretch/>
        </p:blipFill>
        <p:spPr>
          <a:xfrm>
            <a:off x="5302080" y="1343160"/>
            <a:ext cx="3230640" cy="20858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5"/>
          <p:cNvSpPr/>
          <p:nvPr/>
        </p:nvSpPr>
        <p:spPr>
          <a:xfrm>
            <a:off x="5878440" y="3514680"/>
            <a:ext cx="265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Храм Афродиты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"/>
          <p:cNvSpPr/>
          <p:nvPr/>
        </p:nvSpPr>
        <p:spPr>
          <a:xfrm>
            <a:off x="826920" y="4149720"/>
            <a:ext cx="831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Афродита была богиней красоты и любви. Это ей отдал Парис золотое яблоко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Нежась в своих покоях, расчесывает она золотым гребнем кудр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 Narrow"/>
              </a:rPr>
              <a:t>Ее символы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- Розы, голуби, воробьи, дельфины, бараны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Гефест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276360" y="1752480"/>
            <a:ext cx="5562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А в это время муж ее – самый искусный мастер и самый некрасивый из богов, хромоногий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Гефест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, трудится у наковальни в своей кузнице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Отцом Гефеста был Зевс, а матерью – Гера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Гефест – бог огня и кузнечного дел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Символы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- Молот и клещ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21" name="Picture 9" descr="hephaistos1"/>
          <p:cNvPicPr/>
          <p:nvPr/>
        </p:nvPicPr>
        <p:blipFill>
          <a:blip r:embed="rId1"/>
          <a:stretch/>
        </p:blipFill>
        <p:spPr>
          <a:xfrm>
            <a:off x="0" y="0"/>
            <a:ext cx="3079800" cy="3311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8" descr="gre_212_3"/>
          <p:cNvPicPr/>
          <p:nvPr/>
        </p:nvPicPr>
        <p:blipFill>
          <a:blip r:embed="rId2"/>
          <a:stretch/>
        </p:blipFill>
        <p:spPr>
          <a:xfrm>
            <a:off x="0" y="3429000"/>
            <a:ext cx="3333600" cy="222876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5"/>
          <p:cNvSpPr/>
          <p:nvPr/>
        </p:nvSpPr>
        <p:spPr>
          <a:xfrm>
            <a:off x="611280" y="6021360"/>
            <a:ext cx="216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Храм Гефест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Арес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8104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рес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– бог кровавой войны. Греки называли его «губитель людей, разрушитель городов, запятнанный кровью»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Поэт Гомер же называл Ареса самым ненавистным из богов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Его символы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- Факел, копье, собаки, ястреб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26" name="Picture 5" descr="ares1"/>
          <p:cNvPicPr/>
          <p:nvPr/>
        </p:nvPicPr>
        <p:blipFill>
          <a:blip r:embed="rId1"/>
          <a:stretch/>
        </p:blipFill>
        <p:spPr>
          <a:xfrm>
            <a:off x="6012000" y="2924280"/>
            <a:ext cx="35956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Аполлон и Артемида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476000" y="1773360"/>
            <a:ext cx="6048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 algn="ctr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Бог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поллон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и богиня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ртемида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– брат и сестр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 algn="ctr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поллон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– покровитель певцов и музыкантов, вообще всех искусств; он врач, к тому же обладает пророческим даром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 algn="ctr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ртемида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– богиня-охотница, она вооружена луком и часто пользуется стрелами как орудием наказа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29" name="Picture 8" descr="apollo1"/>
          <p:cNvPicPr/>
          <p:nvPr/>
        </p:nvPicPr>
        <p:blipFill>
          <a:blip r:embed="rId1"/>
          <a:stretch/>
        </p:blipFill>
        <p:spPr>
          <a:xfrm>
            <a:off x="0" y="3849840"/>
            <a:ext cx="2546280" cy="300816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5"/>
          <p:cNvSpPr/>
          <p:nvPr/>
        </p:nvSpPr>
        <p:spPr>
          <a:xfrm>
            <a:off x="2340000" y="63388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поллон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31" name="Picture 9" descr="artemis1"/>
          <p:cNvPicPr/>
          <p:nvPr/>
        </p:nvPicPr>
        <p:blipFill>
          <a:blip r:embed="rId2"/>
          <a:stretch/>
        </p:blipFill>
        <p:spPr>
          <a:xfrm>
            <a:off x="6356520" y="3645000"/>
            <a:ext cx="2787480" cy="300816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10"/>
          <p:cNvSpPr/>
          <p:nvPr/>
        </p:nvSpPr>
        <p:spPr>
          <a:xfrm>
            <a:off x="4859280" y="63388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ртемид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3" name=""/>
          <p:cNvSpPr/>
          <p:nvPr/>
        </p:nvSpPr>
        <p:spPr>
          <a:xfrm>
            <a:off x="2195640" y="573408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4" name=""/>
          <p:cNvSpPr/>
          <p:nvPr/>
        </p:nvSpPr>
        <p:spPr>
          <a:xfrm>
            <a:off x="2050920" y="5805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Дерево лавр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5" name=""/>
          <p:cNvSpPr/>
          <p:nvPr/>
        </p:nvSpPr>
        <p:spPr>
          <a:xfrm>
            <a:off x="5292720" y="558972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Кипарисовое дерево, лан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815976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Impact"/>
              </a:rPr>
              <a:t>Религия древних греков</a:t>
            </a:r>
            <a:endParaRPr b="0" lang="en-US" sz="5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69" name="Picture 7" descr="mifi3"/>
          <p:cNvPicPr/>
          <p:nvPr/>
        </p:nvPicPr>
        <p:blipFill>
          <a:blip r:embed="rId1"/>
          <a:stretch/>
        </p:blipFill>
        <p:spPr>
          <a:xfrm>
            <a:off x="2268360" y="3141720"/>
            <a:ext cx="46753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Деметра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700360" y="1752480"/>
            <a:ext cx="613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метра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– богиня плодородия и земледелия, покровительница материнства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Дочь Кроноса и Реи, сестра и супруга Зевса, от которого она родила Персефону. Одно из самых почитаемых олимпийских божеств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 Narrow"/>
              </a:rPr>
              <a:t>Символы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- Ячменный или пшеничный колос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38" name="Picture 5" descr="demeter1"/>
          <p:cNvPicPr/>
          <p:nvPr/>
        </p:nvPicPr>
        <p:blipFill>
          <a:blip r:embed="rId1"/>
          <a:stretch/>
        </p:blipFill>
        <p:spPr>
          <a:xfrm>
            <a:off x="324000" y="2349360"/>
            <a:ext cx="263664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Миф о Деметре и Персефоне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095640" cy="50292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741" name=""/>
          <p:cNvSpPr/>
          <p:nvPr/>
        </p:nvSpPr>
        <p:spPr>
          <a:xfrm>
            <a:off x="3785760" y="609300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Аид похищает Персефону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2" name=""/>
          <p:cNvSpPr/>
          <p:nvPr/>
        </p:nvSpPr>
        <p:spPr>
          <a:xfrm>
            <a:off x="3924360" y="1916280"/>
            <a:ext cx="554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Подумайте какое явление природы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нашло в нем свое отражение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Домашнее задание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читать §28;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просы и задания к §28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Для любознательных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акие подвиги совершил Геракл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55280" y="981000"/>
            <a:ext cx="8077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6b57f"/>
                </a:solidFill>
                <a:latin typeface="Impact"/>
              </a:rPr>
              <a:t>Как религия повлияла на жизнь греков ?</a:t>
            </a: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 Narrow"/>
              </a:rPr>
              <a:t>Религия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– это вера человека в сверхъестественное (богов, духов, души, идолов) и поклонение и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Narrow"/>
              </a:rPr>
              <a:t>Миф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в переводе с греч.– «предание»)- сказание о сотворении мира и человека, о деяниях древних богов и героев и других фантастических существах)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4" descr="837039[1]"/>
          <p:cNvPicPr/>
          <p:nvPr/>
        </p:nvPicPr>
        <p:blipFill>
          <a:blip r:embed="rId1"/>
          <a:srcRect l="0" t="10320" r="0" b="0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Гора Олимп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Греческие боги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76" name="Picture 2052" descr="OlymNav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00000" y="1700280"/>
            <a:ext cx="77774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579640" y="2133720"/>
            <a:ext cx="3187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Impact"/>
              </a:rPr>
              <a:t>Боги Древней Греции</a:t>
            </a: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684360" y="90360"/>
            <a:ext cx="4751280" cy="676764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Harlow Solid Italic"/>
              </a:rPr>
              <a:t>Зевс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80" name="Picture 7" descr="Temple of Zeus Athens"/>
          <p:cNvPicPr/>
          <p:nvPr/>
        </p:nvPicPr>
        <p:blipFill>
          <a:blip r:embed="rId1"/>
          <a:stretch/>
        </p:blipFill>
        <p:spPr>
          <a:xfrm>
            <a:off x="826920" y="1125360"/>
            <a:ext cx="2833920" cy="189900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9"/>
          <p:cNvSpPr/>
          <p:nvPr/>
        </p:nvSpPr>
        <p:spPr>
          <a:xfrm>
            <a:off x="3708360" y="1700280"/>
            <a:ext cx="27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Храм Зевса в Афинах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95280" y="3933720"/>
            <a:ext cx="62643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Зевс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– верховный греческий бог – отец богов и людей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Бог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ождя, грома и молний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го изображали могучим мужчиной средних лет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Символы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– молния и орел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83" name="Picture 5" descr="zeus1"/>
          <p:cNvPicPr/>
          <p:nvPr/>
        </p:nvPicPr>
        <p:blipFill>
          <a:blip r:embed="rId2"/>
          <a:stretch/>
        </p:blipFill>
        <p:spPr>
          <a:xfrm>
            <a:off x="5292720" y="2492280"/>
            <a:ext cx="361152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26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86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7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6"/>
          <p:cNvSpPr/>
          <p:nvPr/>
        </p:nvSpPr>
        <p:spPr>
          <a:xfrm>
            <a:off x="755640" y="0"/>
            <a:ext cx="792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6b57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ля богов греки строили жилища – храм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храме обычно находилась статуя бога, которому был посвящен храм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ойдя внутрь, грек протягивал руки к статуе и молился: он произносил похвалу богу, потом свою просьбу, потом обещание благодарности за исполнение этой просьб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85" name="Picture 7" descr="zevs4"/>
          <p:cNvPicPr/>
          <p:nvPr/>
        </p:nvPicPr>
        <p:blipFill>
          <a:blip r:embed="rId1"/>
          <a:stretch/>
        </p:blipFill>
        <p:spPr>
          <a:xfrm>
            <a:off x="611280" y="2276640"/>
            <a:ext cx="2952720" cy="37432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8" descr="greece_acropol"/>
          <p:cNvPicPr/>
          <p:nvPr/>
        </p:nvPicPr>
        <p:blipFill>
          <a:blip r:embed="rId2"/>
          <a:stretch/>
        </p:blipFill>
        <p:spPr>
          <a:xfrm>
            <a:off x="4140360" y="2349360"/>
            <a:ext cx="4416120" cy="375768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9"/>
          <p:cNvSpPr/>
          <p:nvPr/>
        </p:nvSpPr>
        <p:spPr>
          <a:xfrm>
            <a:off x="900000" y="609300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атуя Зевс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8" name="Text Box 11"/>
          <p:cNvSpPr/>
          <p:nvPr/>
        </p:nvSpPr>
        <p:spPr>
          <a:xfrm>
            <a:off x="5076720" y="6021360"/>
            <a:ext cx="26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Храм Зевс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0:05:52Z</dcterms:created>
  <dc:creator>Customer</dc:creator>
  <dc:description/>
  <cp:keywords/>
  <dc:language>en-US</dc:language>
  <cp:lastModifiedBy>Customer</cp:lastModifiedBy>
  <dcterms:modified xsi:type="dcterms:W3CDTF">2012-03-13T06:27:43Z</dcterms:modified>
  <cp:revision>5</cp:revision>
  <dc:subject/>
  <dc:title>Религия древних гре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81049</vt:lpwstr>
  </property>
</Properties>
</file>