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8B51-0135-4AF9-A129-DE67152C9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0ED5-5439-4305-A1EB-1CBA58CBB7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AAC-8B16-470D-BABF-5790B36FC5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1E9-20B7-46CC-9D8F-5CDCB500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088-1C04-49E1-89BA-B4898E50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4E8-79C1-46D1-B095-11F0E55A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12C-A7F3-45B7-8EDF-1176DA6A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8C6-F920-410F-A7DD-F27DC2E7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4B9C-22CE-43FE-9592-7C9FF114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4D9-196F-4624-BADC-FECFC1D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3851-4BFB-4808-8F2C-8DEA2BF4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2250-E618-46BB-919F-B00BDFE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A240-E198-4CC8-99AE-A79579E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315F-E069-4EED-A5EE-59E5101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AF4-1705-4719-AB87-F50EF91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615-FCC7-4F41-8312-9F2C71A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D8A-303E-4E68-91ED-0EB31C7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4EC5-5F8A-4306-8E5B-BE3ECABC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90AA-C16A-42BA-B256-57E07CBE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610-B86C-406F-A50D-9E3551CC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89F-2590-4C18-AFFD-C6547046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8B3-043D-4FE9-81F5-24B79E9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9E2-ABBD-4CDC-AE03-36219DE7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6FF-041C-4C0E-AF5D-3FE04177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A35-9639-4094-B6CA-97691E1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08A-2852-4888-B10F-2E06C78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136-D304-4433-840E-4BB5D5D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83B-C5B9-4358-BAA3-8200214FAF7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66B-C91B-4C40-BC60-23DB7A8CC0E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160" y="3933360"/>
            <a:ext cx="871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Book Antiqua"/>
              </a:rPr>
              <a:t>Про взятку</a:t>
            </a:r>
            <a:endParaRPr b="0" lang="en-US" sz="43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403280" y="206064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Классный час в 6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Palatino Linotype"/>
              </a:rPr>
              <a:t>Ребус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1 команда –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тажШан,    циярупКор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2 команда –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ротиякраБю,     каВтз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3 команда –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ствотельгамоВы,      кетР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1 команда -  тажШан,  циярупКор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entury Gothic"/>
              </a:rPr>
              <a:t>ОТВЕТЫ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Шантаж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ррупция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182c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2 команда – ротиякраБю,  каВтз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Бюрократия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зятка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</a:t>
            </a:r>
            <a:r>
              <a:rPr b="1" lang="ru-RU" sz="2400" spc="-1" strike="noStrike">
                <a:solidFill>
                  <a:srgbClr val="182c4b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плата или подарок должностному лицу за незаконные действия в пользу дающег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3 команда – ствотельгамоВы, кетР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ымогательство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Рэкет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c00000"/>
                </a:solidFill>
                <a:latin typeface="Palatino Linotype"/>
              </a:rPr>
              <a:t>О чем гласит народная мудрость…</a:t>
            </a: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  </a:t>
            </a:r>
            <a:r>
              <a:rPr b="1" i="1" lang="ru-RU" sz="2200" spc="-1" strike="noStrike">
                <a:solidFill>
                  <a:srgbClr val="182c4b"/>
                </a:solidFill>
                <a:latin typeface="Bookman Old Style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Не подмажешь, не поедешь»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вымогательство, взяточничество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Рука руку моет»</a:t>
            </a: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групповая запланированная деятельность в подкуп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Загребать жар чужими руками»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несознательное соучастие в мошенничестве и афера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Видит око, да зуб не мед»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безрезультативность действий борьбы с коррупцией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Palatino Linotype"/>
              </a:rPr>
              <a:t>Скажем коррупции «Нет!»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9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1560" y="691920"/>
            <a:ext cx="8229600" cy="18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Коррупция - страшное социальное зло, оно многолик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1" name="Содержимое 3" descr="кор 6.jpg"/>
          <p:cNvPicPr/>
          <p:nvPr/>
        </p:nvPicPr>
        <p:blipFill>
          <a:blip r:embed="rId1"/>
          <a:stretch/>
        </p:blipFill>
        <p:spPr>
          <a:xfrm>
            <a:off x="-15840" y="2492280"/>
            <a:ext cx="4487760" cy="4365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4674960" y="2852640"/>
            <a:ext cx="450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Борь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с коррупцией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дело кажд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82c4b"/>
                </a:solidFill>
                <a:latin typeface="Century Gothic"/>
              </a:rPr>
              <a:t>	</a:t>
            </a:r>
            <a:r>
              <a:rPr b="1" lang="ru-RU" sz="2600" spc="-1" strike="noStrike">
                <a:solidFill>
                  <a:srgbClr val="c00000"/>
                </a:solidFill>
                <a:latin typeface="Bookman Old Style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2c4b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182c4b"/>
                </a:solidFill>
                <a:latin typeface="Bookman Old Style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82c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5" name="Picture 2" descr="Слайд32"/>
          <p:cNvPicPr/>
          <p:nvPr/>
        </p:nvPicPr>
        <p:blipFill>
          <a:blip r:embed="rId1"/>
          <a:stretch/>
        </p:blipFill>
        <p:spPr>
          <a:xfrm>
            <a:off x="173160" y="260280"/>
            <a:ext cx="871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Задание:</a:t>
            </a:r>
            <a:r>
              <a:rPr b="1" lang="be-BY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дготовить </a:t>
            </a: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рекламу на тему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Palatino Linotype"/>
              </a:rPr>
              <a:t>"Скажем коррупции "Нет!"</a:t>
            </a: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зображение и представление рекламы на листах формата А3 в течение 10-15 минут.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оррупция «есть корень, из котор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вытекает во все времена и при всяких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соблазнах презрение ко всем законам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Book Antiqua"/>
              </a:rPr>
              <a:t>Томас Гобб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364240" cy="16272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4929120" y="2205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905360" y="3429000"/>
            <a:ext cx="413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ЗАД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  <a:ea typeface="Arial"/>
              </a:rPr>
              <a:t>Подберите синонимы, которые у вас вызывают ассоциацию со словом коррупция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рис.1"/>
          <p:cNvPicPr/>
          <p:nvPr/>
        </p:nvPicPr>
        <p:blipFill>
          <a:blip r:embed="rId2"/>
          <a:stretch/>
        </p:blipFill>
        <p:spPr>
          <a:xfrm>
            <a:off x="468360" y="1500120"/>
            <a:ext cx="38876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55640" y="765000"/>
          <a:ext cx="8069400" cy="5124600"/>
        </p:xfrm>
        <a:graphic>
          <a:graphicData uri="http://schemas.openxmlformats.org/drawingml/2006/table">
            <a:tbl>
              <a:tblPr/>
              <a:tblGrid>
                <a:gridCol w="4035600"/>
                <a:gridCol w="4033800"/>
              </a:tblGrid>
              <a:tr h="8305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Palatino Linotype"/>
                        </a:rPr>
                        <a:t>вымогатель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родаж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равонаруш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83016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Palatino Linotype"/>
                        </a:rPr>
                        <a:t>Корруп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взяточн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одку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6588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коры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6" name="Line 11"/>
          <p:cNvSpPr/>
          <p:nvPr/>
        </p:nvSpPr>
        <p:spPr>
          <a:xfrm flipV="1">
            <a:off x="4716360" y="1483920"/>
            <a:ext cx="0" cy="949320"/>
          </a:xfrm>
          <a:prstGeom prst="line">
            <a:avLst/>
          </a:prstGeom>
          <a:ln w="25560">
            <a:solidFill>
              <a:srgbClr val="ff0000">
                <a:alpha val="86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716360" y="3027240"/>
            <a:ext cx="0" cy="11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928960" y="2060640"/>
            <a:ext cx="8380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3195360" y="2960640"/>
            <a:ext cx="647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5751360" y="2060640"/>
            <a:ext cx="76536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580000" y="3027240"/>
            <a:ext cx="81936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Palatino Linotype"/>
              </a:rPr>
              <a:t>Коррупция (лат. "corrumpire", "портить", "подкупать") </a:t>
            </a:r>
            <a:r>
              <a:rPr b="0" lang="ru-RU" sz="2900" spc="-1" strike="noStrike">
                <a:solidFill>
                  <a:srgbClr val="ff0000"/>
                </a:solidFill>
                <a:latin typeface="Palatino Linotype"/>
              </a:rPr>
              <a:t>означает подкуп, подкупность и продажность общественных и политических деятелей, государственных чиновников и должностных лиц.  </a:t>
            </a:r>
            <a:endParaRPr b="0" lang="en-US" sz="2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3" name="Picture 4" descr="big_pic_241721"/>
          <p:cNvPicPr/>
          <p:nvPr/>
        </p:nvPicPr>
        <p:blipFill>
          <a:blip r:embed="rId1"/>
          <a:stretch/>
        </p:blipFill>
        <p:spPr>
          <a:xfrm>
            <a:off x="826920" y="2708280"/>
            <a:ext cx="7560000" cy="3952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24000" y="336600"/>
            <a:ext cx="864072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  <a:ea typeface="Arial"/>
              </a:rPr>
              <a:t>Виды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Бытовая коррупция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порождается взаимодействием рядовых граждан и чиновников. В нее входят различные подарки от граждан и услуги должностному лицу и членам его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Деловая коррупция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возникает при взаимодействии власти и бизнеса. Например, в случае хозяйственного спора стороны могут стремиться заручиться поддержкой судьи с целью вынесения решения в свою поль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Коррупция верховной власти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относится к политическому руководству и верховным судам в демократических системах. Она касается стоящих у власти групп, недобросовестное поведение которых состоит в осуществлении политики в своих интересах и в ущерб интересам избирателей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Palatino Linotype"/>
              </a:rPr>
              <a:t>Причины коррупции: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  </a:t>
            </a: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 </a:t>
            </a: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- 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Низкая заработная плата государственных служащих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езнание законов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Желание легкой наживы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 Частая сменяемость лиц на различных должностях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естабильность в стране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 Коррупция как привычк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изкий уровень жизни населения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Слабая развитость государственных институтов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 Безработиц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еразвитость институтов гражданского обществ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182c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24000" y="162864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 u="sng">
                <a:solidFill>
                  <a:srgbClr val="c00000"/>
                </a:solidFill>
                <a:uFillTx/>
                <a:latin typeface="Book Antiqua"/>
              </a:rPr>
              <a:t>9 декабря </a:t>
            </a:r>
            <a:r>
              <a:rPr b="0" lang="be-BY" sz="4400" spc="-1" strike="noStrike">
                <a:solidFill>
                  <a:srgbClr val="c00000"/>
                </a:solidFill>
                <a:latin typeface="Book Antiqua"/>
              </a:rPr>
              <a:t>–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Международный день борьбы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с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коррупцией.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Содержимое 9" descr="737_news.jpg"/>
          <p:cNvPicPr/>
          <p:nvPr/>
        </p:nvPicPr>
        <p:blipFill>
          <a:blip r:embed="rId1"/>
          <a:stretch/>
        </p:blipFill>
        <p:spPr>
          <a:xfrm>
            <a:off x="108000" y="476280"/>
            <a:ext cx="36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Palatino Linotype"/>
              </a:rPr>
              <a:t>Обыграть три ситуации и разыграть сценки, соблюдая все полученные знания по антикоррупционной политике</a:t>
            </a:r>
            <a:endParaRPr b="0" lang="en-US" sz="2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I ситуация: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Преподаватель института вас заваливает на экзамене  третий раз. Всем своим видом (а может и напрямую) он дает понять, что нужно заплатить. Ваши действ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II ситуация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: Вам, руководящему работнику,  предлагают  денежные средства, в обмен за определенную услугу,  не соответствующую законодательству. Ваши действ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III ситуация: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 Вам срочно нужен иностранный паспорт, что бы отдохнуть по горячей путевке. А его можно получить только через месяц. Ваши действ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Соловьева Екатерина Сергеевна</cp:lastModifiedBy>
  <dcterms:modified xsi:type="dcterms:W3CDTF">2017-01-31T09:39:36Z</dcterms:modified>
  <cp:revision>56</cp:revision>
  <dc:subject/>
  <dc:title>Вместе против коррупции</dc:title>
</cp:coreProperties>
</file>