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C2B5-F96A-4B4B-BF2D-01C8105104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7351-609A-45BF-8A74-4B3BBE72698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25BB-C030-4C80-A4D2-B41377451CC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192D-25AA-4A80-941D-A83C6147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58B7-3101-4BA0-8DEF-09896932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DE79-B79C-40AC-B2E5-51D50327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3218-05CA-4C17-8164-AAC5B665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EF68-AD75-4F39-8D7A-36956C12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05CD-8742-4157-9A2B-2C5AF29D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7801-61CA-4D24-A007-776D7B9B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69D5-88F3-4B08-BAC9-7BCA9A95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2D63-590F-4311-BF7B-3FAA0358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DAC8-0B30-4EA6-89A1-04E90DDD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BBDE-8493-4EEA-8066-DE5A65CE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0D91-5010-4392-9C36-D551FA6E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F1CC-D3CB-47FF-B28C-02F13857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CD6E-2864-4AA1-B372-F110A652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DF7C-FF7F-4E55-9631-BE6D917C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C7DE-D1B7-49A1-86A5-744347A4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0C8E-994D-40F4-B692-38C3E9C4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D910-352A-4CA3-AE21-9A864712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0EB5-5F7C-4764-A75C-757FFBDF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87FF-5F09-40C6-9BE5-F69ABCD9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E868-F5C4-4137-A020-31074E8B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E877-8C8D-46E5-85B5-E467AE16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72BF-1E9B-46AC-BADC-BEBEE905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02A4-54BB-412C-AD86-2AF064C7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DC46-B8AC-4EFF-9470-F5B4234E51C8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CEF9-B666-43F9-B9C2-B7FA6DE10B6D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8160" y="3933360"/>
            <a:ext cx="871380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Book Antiqua"/>
              </a:rPr>
              <a:t>Про взятку</a:t>
            </a:r>
            <a:endParaRPr b="0" lang="en-US" sz="43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Подзаголовок 2"/>
          <p:cNvSpPr/>
          <p:nvPr/>
        </p:nvSpPr>
        <p:spPr>
          <a:xfrm>
            <a:off x="1403280" y="206064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 Antiqua"/>
                <a:ea typeface="Arial"/>
              </a:rPr>
              <a:t>Классный час в 6-11 клас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Palatino Linotype"/>
              </a:rPr>
              <a:t>Ребусы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1 команда –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тажШан,    циярупКор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2 команда –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ротиякраБю,     каВтзя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3 команда –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ствотельгамоВы,      кетРэ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entury Gothic"/>
              </a:rPr>
              <a:t>1 команда -  тажШан,  циярупКор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365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entury Gothic"/>
              </a:rPr>
              <a:t>ОТВЕТЫ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36504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Шантаж</a:t>
            </a:r>
            <a:r>
              <a:rPr b="0" lang="ru-RU" sz="2400" spc="-1" strike="noStrike">
                <a:solidFill>
                  <a:srgbClr val="182c4b"/>
                </a:solidFill>
                <a:latin typeface="Century Gothic"/>
              </a:rPr>
              <a:t> – угроза разоблачения, разглашения сведений, которые объект шантажа хотел бы сохранить в тайне, с целью добиться какой-либо выгоды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36504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Коррупция</a:t>
            </a:r>
            <a:r>
              <a:rPr b="0" lang="ru-RU" sz="2400" spc="-1" strike="noStrike">
                <a:solidFill>
                  <a:srgbClr val="182c4b"/>
                </a:solidFill>
                <a:latin typeface="Century Gothic"/>
              </a:rPr>
              <a:t> – сращивание государственных структур со структурами преступного мира в сфере экономики, а также продажность и подкуп политических и общественных деятелей, государственных чиновник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365040">
              <a:spcBef>
                <a:spcPts val="601"/>
              </a:spcBef>
              <a:buClr>
                <a:srgbClr val="182c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entury Gothic"/>
              </a:rPr>
              <a:t>2 команда – ротиякраБю,  каВтзя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365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36504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Бюрократия</a:t>
            </a:r>
            <a:r>
              <a:rPr b="0" lang="ru-RU" sz="2400" spc="-1" strike="noStrike">
                <a:solidFill>
                  <a:srgbClr val="182c4b"/>
                </a:solidFill>
                <a:latin typeface="Century Gothic"/>
              </a:rPr>
              <a:t> – 1) высший чиновничий аппарат, администрация; 2) система управления, основанная на формализме, административной волокит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36504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Взятка</a:t>
            </a:r>
            <a:r>
              <a:rPr b="0" lang="ru-RU" sz="2400" spc="-1" strike="noStrike">
                <a:solidFill>
                  <a:srgbClr val="182c4b"/>
                </a:solidFill>
                <a:latin typeface="Century Gothic"/>
              </a:rPr>
              <a:t> –</a:t>
            </a:r>
            <a:r>
              <a:rPr b="1" lang="ru-RU" sz="2400" spc="-1" strike="noStrike">
                <a:solidFill>
                  <a:srgbClr val="182c4b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182c4b"/>
                </a:solidFill>
                <a:latin typeface="Century Gothic"/>
              </a:rPr>
              <a:t>плата или подарок должностному лицу за незаконные действия в пользу дающего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entury Gothic"/>
              </a:rPr>
              <a:t>3 команда – ствотельгамоВы, кетРэ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365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36504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Вымогательство</a:t>
            </a:r>
            <a:r>
              <a:rPr b="0" lang="ru-RU" sz="2400" spc="-1" strike="noStrike">
                <a:solidFill>
                  <a:srgbClr val="182c4b"/>
                </a:solidFill>
                <a:latin typeface="Century Gothic"/>
              </a:rPr>
              <a:t> - не обусловленное правом, не предусмотренное законом требование передачи денег, имущественных ценностей, сопровождаемое разного рода угрозами, обманом со стороны вымогателе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36504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Рэкет</a:t>
            </a:r>
            <a:r>
              <a:rPr b="0" lang="ru-RU" sz="2400" spc="-1" strike="noStrike">
                <a:solidFill>
                  <a:srgbClr val="182c4b"/>
                </a:solidFill>
                <a:latin typeface="Century Gothic"/>
              </a:rPr>
              <a:t> – незаконное, производимое путем угроз, шантажа вымогательство денег от предпринимателей со стороны преступных элементов, рэкетир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 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65040" indent="-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c00000"/>
                </a:solidFill>
                <a:latin typeface="Palatino Linotype"/>
              </a:rPr>
              <a:t>О чем гласит народная мудрость…</a:t>
            </a: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  </a:t>
            </a:r>
            <a:r>
              <a:rPr b="1" i="1" lang="ru-RU" sz="2200" spc="-1" strike="noStrike">
                <a:solidFill>
                  <a:srgbClr val="182c4b"/>
                </a:solidFill>
                <a:latin typeface="Bookman Old Style"/>
              </a:rPr>
              <a:t>Вспомните, какие пословицы и поговорки отражают коррупционную деятельность в современном обществе?  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Bookman Old Style"/>
              </a:rPr>
              <a:t>«Не подмажешь, не поедешь» </a:t>
            </a:r>
            <a:r>
              <a:rPr b="0" lang="ru-RU" sz="2200" spc="-1" strike="noStrike">
                <a:solidFill>
                  <a:srgbClr val="182c4b"/>
                </a:solidFill>
                <a:latin typeface="Bookman Old Style"/>
              </a:rPr>
              <a:t>– вымогательство, взяточничество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Bookman Old Style"/>
              </a:rPr>
              <a:t>«Рука руку моет»</a:t>
            </a:r>
            <a:r>
              <a:rPr b="0" lang="ru-RU" sz="22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0" lang="ru-RU" sz="2200" spc="-1" strike="noStrike">
                <a:solidFill>
                  <a:srgbClr val="182c4b"/>
                </a:solidFill>
                <a:latin typeface="Bookman Old Style"/>
              </a:rPr>
              <a:t>– групповая запланированная деятельность в подкупе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Bookman Old Style"/>
              </a:rPr>
              <a:t>«Загребать жар чужими руками» </a:t>
            </a:r>
            <a:r>
              <a:rPr b="0" lang="ru-RU" sz="2200" spc="-1" strike="noStrike">
                <a:solidFill>
                  <a:srgbClr val="182c4b"/>
                </a:solidFill>
                <a:latin typeface="Bookman Old Style"/>
              </a:rPr>
              <a:t>– несознательное соучастие в мошенничестве и аферах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Bookman Old Style"/>
              </a:rPr>
              <a:t>«Видит око, да зуб не мед» </a:t>
            </a:r>
            <a:r>
              <a:rPr b="0" lang="ru-RU" sz="2200" spc="-1" strike="noStrike">
                <a:solidFill>
                  <a:srgbClr val="182c4b"/>
                </a:solidFill>
                <a:latin typeface="Bookman Old Style"/>
              </a:rPr>
              <a:t>– безрезультативность действий борьбы с коррупцией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Palatino Linotype"/>
              </a:rPr>
              <a:t>Скажем коррупции «Нет!»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29" name="Содержимое 3" descr="_corrupt00.jpg"/>
          <p:cNvPicPr/>
          <p:nvPr/>
        </p:nvPicPr>
        <p:blipFill>
          <a:blip r:embed="rId1"/>
          <a:stretch/>
        </p:blipFill>
        <p:spPr>
          <a:xfrm>
            <a:off x="762120" y="2141640"/>
            <a:ext cx="761976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1560" y="691920"/>
            <a:ext cx="8229600" cy="18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Коррупция - страшное социальное зло, оно многолико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31" name="Содержимое 3" descr="кор 6.jpg"/>
          <p:cNvPicPr/>
          <p:nvPr/>
        </p:nvPicPr>
        <p:blipFill>
          <a:blip r:embed="rId1"/>
          <a:stretch/>
        </p:blipFill>
        <p:spPr>
          <a:xfrm>
            <a:off x="-15840" y="2492280"/>
            <a:ext cx="4487760" cy="43657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3"/>
          <p:cNvSpPr/>
          <p:nvPr/>
        </p:nvSpPr>
        <p:spPr>
          <a:xfrm>
            <a:off x="4674960" y="2852640"/>
            <a:ext cx="4509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Book Antiqua"/>
                <a:ea typeface="Arial"/>
              </a:rPr>
              <a:t>Борьб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Book Antiqua"/>
                <a:ea typeface="Arial"/>
              </a:rPr>
              <a:t>с коррупцией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Book Antiqua"/>
                <a:ea typeface="Arial"/>
              </a:rPr>
              <a:t>дело каждог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56760" y="285480"/>
            <a:ext cx="85726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82c4b"/>
                </a:solidFill>
                <a:latin typeface="Century Gothic"/>
              </a:rPr>
              <a:t>	</a:t>
            </a:r>
            <a:r>
              <a:rPr b="1" lang="ru-RU" sz="2600" spc="-1" strike="noStrike">
                <a:solidFill>
                  <a:srgbClr val="c00000"/>
                </a:solidFill>
                <a:latin typeface="Bookman Old Style"/>
              </a:rPr>
              <a:t>Борьбу с коррупцией нужно начать с самого себя и требовать устранения коррупционных проявлений от окружающих. 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82c4b"/>
                </a:solidFill>
                <a:latin typeface="Bookman Old Style"/>
              </a:rPr>
              <a:t>	</a:t>
            </a:r>
            <a:r>
              <a:rPr b="1" lang="ru-RU" sz="2600" spc="-1" strike="noStrike">
                <a:solidFill>
                  <a:srgbClr val="182c4b"/>
                </a:solidFill>
                <a:latin typeface="Bookman Old Style"/>
              </a:rPr>
              <a:t>Эффективность борьбы зависит от взаимодействия всех ветвей власти, их ответственности за процесс оздоровления общества. Необходимо быстро реагировать на все виды проявлений коррупционных правонарушений, справедливо давать наказания. 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182c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35" name="Picture 2" descr="Слайд32"/>
          <p:cNvPicPr/>
          <p:nvPr/>
        </p:nvPicPr>
        <p:blipFill>
          <a:blip r:embed="rId1"/>
          <a:stretch/>
        </p:blipFill>
        <p:spPr>
          <a:xfrm>
            <a:off x="173160" y="260280"/>
            <a:ext cx="8712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54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Задание:</a:t>
            </a:r>
            <a:r>
              <a:rPr b="1" lang="be-BY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Подготовить </a:t>
            </a:r>
            <a:r>
              <a:rPr b="0" i="1" lang="ru-RU" sz="2400" spc="-1" strike="noStrike">
                <a:solidFill>
                  <a:srgbClr val="000000"/>
                </a:solidFill>
                <a:latin typeface="Palatino Linotype"/>
              </a:rPr>
              <a:t>рекламу на тему 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Palatino Linotype"/>
              </a:rPr>
              <a:t>"Скажем коррупции "Нет!"</a:t>
            </a:r>
            <a:r>
              <a:rPr b="1" lang="ru-RU" sz="2400" spc="-1" strike="noStrike">
                <a:solidFill>
                  <a:srgbClr val="ff0000"/>
                </a:solidFill>
                <a:latin typeface="Palatino Linotype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Изображение и представление рекламы на листах формата А3 в течение 10-15 минут. 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571680" y="4996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оррупция «есть корень, из которого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вытекает во все времена и при всяких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соблазнах презрение ко всем законам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99ff"/>
                </a:solidFill>
                <a:uFillTx/>
                <a:latin typeface="Book Antiqua"/>
              </a:rPr>
              <a:t>Томас Гобб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928880" y="2714760"/>
            <a:ext cx="52862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01760" y="158760"/>
            <a:ext cx="8364240" cy="16272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5"/>
          <p:cNvSpPr/>
          <p:nvPr/>
        </p:nvSpPr>
        <p:spPr>
          <a:xfrm>
            <a:off x="4929120" y="220500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ahoma"/>
                <a:ea typeface="Arial"/>
              </a:rPr>
              <a:t>?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4905360" y="3429000"/>
            <a:ext cx="413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  <a:ea typeface="Arial"/>
              </a:rPr>
              <a:t>ЗАД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  <a:ea typeface="Arial"/>
              </a:rPr>
              <a:t>Подберите синонимы, которые у вас вызывают ассоциацию со словом коррупция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6" descr="рис.1"/>
          <p:cNvPicPr/>
          <p:nvPr/>
        </p:nvPicPr>
        <p:blipFill>
          <a:blip r:embed="rId2"/>
          <a:stretch/>
        </p:blipFill>
        <p:spPr>
          <a:xfrm>
            <a:off x="468360" y="1500120"/>
            <a:ext cx="388764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755640" y="765000"/>
          <a:ext cx="8069400" cy="5124600"/>
        </p:xfrm>
        <a:graphic>
          <a:graphicData uri="http://schemas.openxmlformats.org/drawingml/2006/table">
            <a:tbl>
              <a:tblPr/>
              <a:tblGrid>
                <a:gridCol w="4035600"/>
                <a:gridCol w="4033800"/>
              </a:tblGrid>
              <a:tr h="830520"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00"/>
                          </a:solidFill>
                          <a:latin typeface="Palatino Linotype"/>
                        </a:rPr>
                        <a:t>вымогатель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8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продажн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правонаруш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</a:tr>
              <a:tr h="830160"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Palatino Linotype"/>
                        </a:rPr>
                        <a:t>Коррупц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6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взяточн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Palatino Linotype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подку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</a:tr>
              <a:tr h="1658880"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коры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Palatino Linotype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6" name="Line 11"/>
          <p:cNvSpPr/>
          <p:nvPr/>
        </p:nvSpPr>
        <p:spPr>
          <a:xfrm flipV="1">
            <a:off x="4716360" y="1483920"/>
            <a:ext cx="0" cy="949320"/>
          </a:xfrm>
          <a:prstGeom prst="line">
            <a:avLst/>
          </a:prstGeom>
          <a:ln w="25560">
            <a:solidFill>
              <a:srgbClr val="ff0000">
                <a:alpha val="86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4716360" y="3027240"/>
            <a:ext cx="0" cy="11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2928960" y="2060640"/>
            <a:ext cx="8380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 flipH="1">
            <a:off x="3195360" y="2960640"/>
            <a:ext cx="64764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 flipH="1">
            <a:off x="5751360" y="2060640"/>
            <a:ext cx="765360" cy="34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5580000" y="3027240"/>
            <a:ext cx="819360" cy="29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23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Palatino Linotype"/>
              </a:rPr>
              <a:t>Коррупция (лат. "corrumpire", "портить", "подкупать") </a:t>
            </a:r>
            <a:r>
              <a:rPr b="0" lang="ru-RU" sz="2900" spc="-1" strike="noStrike">
                <a:solidFill>
                  <a:srgbClr val="ff0000"/>
                </a:solidFill>
                <a:latin typeface="Palatino Linotype"/>
              </a:rPr>
              <a:t>означает подкуп, подкупность и продажность общественных и политических деятелей, государственных чиновников и должностных лиц.  </a:t>
            </a:r>
            <a:endParaRPr b="0" lang="en-US" sz="2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3" name="Picture 4" descr="big_pic_241721"/>
          <p:cNvPicPr/>
          <p:nvPr/>
        </p:nvPicPr>
        <p:blipFill>
          <a:blip r:embed="rId1"/>
          <a:stretch/>
        </p:blipFill>
        <p:spPr>
          <a:xfrm>
            <a:off x="826920" y="2708280"/>
            <a:ext cx="7560000" cy="39528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2"/>
          <p:cNvSpPr/>
          <p:nvPr/>
        </p:nvSpPr>
        <p:spPr>
          <a:xfrm>
            <a:off x="324000" y="336600"/>
            <a:ext cx="8640720" cy="67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 Antiqua"/>
                <a:ea typeface="Arial"/>
              </a:rPr>
              <a:t>Виды корруп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 Antiqua"/>
                <a:ea typeface="Arial"/>
              </a:rPr>
              <a:t>Бытовая коррупция</a:t>
            </a:r>
            <a:r>
              <a:rPr b="0" lang="ru-RU" sz="2200" spc="-1" strike="noStrike">
                <a:solidFill>
                  <a:srgbClr val="0000ff"/>
                </a:solidFill>
                <a:latin typeface="Book Antiqua"/>
                <a:ea typeface="Arial"/>
              </a:rPr>
              <a:t> </a:t>
            </a:r>
            <a:r>
              <a:rPr b="0" lang="ru-RU" sz="2200" spc="-1" strike="noStrike">
                <a:solidFill>
                  <a:srgbClr val="cc3300"/>
                </a:solidFill>
                <a:latin typeface="Book Antiqua"/>
                <a:ea typeface="Arial"/>
              </a:rPr>
              <a:t>порождается взаимодействием рядовых граждан и чиновников. В нее входят различные подарки от граждан и услуги должностному лицу и членам его семь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3300"/>
                </a:solidFill>
                <a:latin typeface="Book Antiqua"/>
                <a:ea typeface="Arial"/>
              </a:rPr>
              <a:t> </a:t>
            </a:r>
            <a:r>
              <a:rPr b="1" i="1" lang="ru-RU" sz="2200" spc="-1" strike="noStrike">
                <a:solidFill>
                  <a:srgbClr val="0000ff"/>
                </a:solidFill>
                <a:latin typeface="Book Antiqua"/>
                <a:ea typeface="Arial"/>
              </a:rPr>
              <a:t>Деловая коррупция</a:t>
            </a:r>
            <a:r>
              <a:rPr b="0" lang="ru-RU" sz="2200" spc="-1" strike="noStrike">
                <a:solidFill>
                  <a:srgbClr val="0000ff"/>
                </a:solidFill>
                <a:latin typeface="Book Antiqua"/>
                <a:ea typeface="Arial"/>
              </a:rPr>
              <a:t> </a:t>
            </a:r>
            <a:r>
              <a:rPr b="0" lang="ru-RU" sz="2200" spc="-1" strike="noStrike">
                <a:solidFill>
                  <a:srgbClr val="cc3300"/>
                </a:solidFill>
                <a:latin typeface="Book Antiqua"/>
                <a:ea typeface="Arial"/>
              </a:rPr>
              <a:t>возникает при взаимодействии власти и бизнеса. Например, в случае хозяйственного спора стороны могут стремиться заручиться поддержкой судьи с целью вынесения решения в свою польз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 Antiqua"/>
                <a:ea typeface="Arial"/>
              </a:rPr>
              <a:t>Коррупция верховной власти</a:t>
            </a:r>
            <a:r>
              <a:rPr b="0" lang="ru-RU" sz="2200" spc="-1" strike="noStrike">
                <a:solidFill>
                  <a:srgbClr val="0000ff"/>
                </a:solidFill>
                <a:latin typeface="Book Antiqua"/>
                <a:ea typeface="Arial"/>
              </a:rPr>
              <a:t> </a:t>
            </a:r>
            <a:r>
              <a:rPr b="0" lang="ru-RU" sz="2200" spc="-1" strike="noStrike">
                <a:solidFill>
                  <a:srgbClr val="cc3300"/>
                </a:solidFill>
                <a:latin typeface="Book Antiqua"/>
                <a:ea typeface="Arial"/>
              </a:rPr>
              <a:t>относится к политическому руководству и верховным судам в демократических системах. Она касается стоящих у власти групп, недобросовестное поведение которых состоит в осуществлении политики в своих интересах и в ущерб интересам избирателей</a:t>
            </a:r>
            <a:r>
              <a:rPr b="0" lang="ru-RU" sz="2200" spc="-1" strike="noStrike">
                <a:solidFill>
                  <a:srgbClr val="0000ff"/>
                </a:solidFill>
                <a:latin typeface="Book Antiqua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Palatino Linotype"/>
              </a:rPr>
              <a:t>Причины коррупции: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Century Gothic"/>
              </a:rPr>
              <a:t>  </a:t>
            </a:r>
            <a:r>
              <a:rPr b="1" lang="ru-RU" sz="2200" spc="-1" strike="noStrike">
                <a:solidFill>
                  <a:srgbClr val="002060"/>
                </a:solidFill>
                <a:latin typeface="Century Gothic"/>
              </a:rPr>
              <a:t> </a:t>
            </a:r>
            <a:r>
              <a:rPr b="1" lang="ru-RU" sz="2200" spc="-1" strike="noStrike">
                <a:solidFill>
                  <a:srgbClr val="002060"/>
                </a:solidFill>
                <a:latin typeface="Century Gothic"/>
              </a:rPr>
              <a:t>- </a:t>
            </a: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Низкая заработная плата государственных служащих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   </a:t>
            </a: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- Незнание законов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   </a:t>
            </a: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- Желание легкой наживы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  </a:t>
            </a: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-  Частая сменяемость лиц на различных должностях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   </a:t>
            </a: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- Нестабильность в стране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  </a:t>
            </a: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-  Коррупция как привычка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  </a:t>
            </a: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- Низкий уровень жизни населения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  </a:t>
            </a: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- Слабая развитость государственных институтов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 </a:t>
            </a: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-  Безработица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  </a:t>
            </a:r>
            <a:r>
              <a:rPr b="1" lang="ru-RU" sz="2200" spc="-1" strike="noStrike">
                <a:solidFill>
                  <a:srgbClr val="182c4b"/>
                </a:solidFill>
                <a:latin typeface="Bookman Old Style"/>
              </a:rPr>
              <a:t>- Неразвитость институтов гражданского общества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182c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924000" y="1628640"/>
            <a:ext cx="504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 u="sng">
                <a:solidFill>
                  <a:srgbClr val="c00000"/>
                </a:solidFill>
                <a:uFillTx/>
                <a:latin typeface="Book Antiqua"/>
              </a:rPr>
              <a:t>9 декабря </a:t>
            </a:r>
            <a:r>
              <a:rPr b="0" lang="be-BY" sz="4400" spc="-1" strike="noStrike">
                <a:solidFill>
                  <a:srgbClr val="c00000"/>
                </a:solidFill>
                <a:latin typeface="Book Antiqua"/>
              </a:rPr>
              <a:t>–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 Antiqua"/>
              </a:rPr>
              <a:t>Международный день борьбы 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 Antiqua"/>
              </a:rPr>
              <a:t>с</a:t>
            </a:r>
            <a:r>
              <a:rPr b="0" lang="ru-RU" sz="4400" spc="-1" strike="noStrike">
                <a:solidFill>
                  <a:srgbClr val="c00000"/>
                </a:solidFill>
                <a:latin typeface="Book Antiqua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Book Antiqua"/>
              </a:rPr>
              <a:t>коррупцией.</a:t>
            </a:r>
            <a:r>
              <a:rPr b="0" lang="ru-RU" sz="4400" spc="-1" strike="noStrike">
                <a:solidFill>
                  <a:srgbClr val="c00000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8" name="Содержимое 9" descr="737_news.jpg"/>
          <p:cNvPicPr/>
          <p:nvPr/>
        </p:nvPicPr>
        <p:blipFill>
          <a:blip r:embed="rId1"/>
          <a:stretch/>
        </p:blipFill>
        <p:spPr>
          <a:xfrm>
            <a:off x="108000" y="476280"/>
            <a:ext cx="3672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Palatino Linotype"/>
              </a:rPr>
              <a:t>Обыграть три ситуации и разыграть сценки, соблюдая все полученные знания по антикоррупционной политике</a:t>
            </a:r>
            <a:endParaRPr b="0" lang="en-US" sz="2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I ситуация: </a:t>
            </a:r>
            <a:r>
              <a:rPr b="0" lang="ru-RU" sz="2400" spc="-1" strike="noStrike">
                <a:solidFill>
                  <a:srgbClr val="0000ff"/>
                </a:solidFill>
                <a:latin typeface="Book Antiqua"/>
              </a:rPr>
              <a:t>Преподаватель института вас заваливает на экзамене  третий раз. Всем своим видом (а может и напрямую) он дает понять, что нужно заплатить. Ваши действ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II ситуация</a:t>
            </a:r>
            <a:r>
              <a:rPr b="0" lang="ru-RU" sz="2400" spc="-1" strike="noStrike">
                <a:solidFill>
                  <a:srgbClr val="0000ff"/>
                </a:solidFill>
                <a:latin typeface="Book Antiqua"/>
              </a:rPr>
              <a:t>: Вам, руководящему работнику,  предлагают  денежные средства, в обмен за определенную услугу,  не соответствующую законодательству. Ваши действи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III ситуация:</a:t>
            </a:r>
            <a:r>
              <a:rPr b="0" lang="ru-RU" sz="2400" spc="-1" strike="noStrike">
                <a:solidFill>
                  <a:srgbClr val="0000ff"/>
                </a:solidFill>
                <a:latin typeface="Book Antiqua"/>
              </a:rPr>
              <a:t> Вам срочно нужен иностранный паспорт, что бы отдохнуть по горячей путевке. А его можно получить только через месяц. Ваши действи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18:16:15Z</dcterms:created>
  <dc:creator>Ирина</dc:creator>
  <dc:description/>
  <dc:language>en-US</dc:language>
  <cp:lastModifiedBy>Соловьева Екатерина Сергеевна</cp:lastModifiedBy>
  <dcterms:modified xsi:type="dcterms:W3CDTF">2017-01-31T09:39:36Z</dcterms:modified>
  <cp:revision>56</cp:revision>
  <dc:subject/>
  <dc:title>Вместе против коррупции</dc:title>
</cp:coreProperties>
</file>