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F31-1EF8-4949-B512-2EC898E36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7937-FC5C-49B8-9F4A-BC8C8937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B021-FDAA-4371-B6D2-EA169CDFF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CDA8-10B6-411D-85CE-B627ADD55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EE35-33C5-488A-B7CD-20BBE6F7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7EFD-BEDF-47F1-AA86-2C96E8576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B7C8E-AB4C-40DF-8A7E-1CB600A1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C1CE-0BD2-4138-B267-C4030EC47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A0D7-CC7A-4E60-BAC5-D2F23902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D304-6B66-4869-A47E-23EC6B31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1CE4-5824-4B84-B3FB-BE9A5147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BAB6-D52D-4CC5-8747-503A73D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0883A-56B6-4E67-BEEA-BA2EC415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7C6B-87CD-4CE7-8BDD-C4137275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E39F-F11D-4130-8DA7-7C710B3AE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960A-5FBD-49E5-A436-EC8841661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1E852-DDF7-49E4-BD96-97B3EAF2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345-7B62-4ECD-9B07-521FAFDF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D0C4-CEB5-466D-B844-A08D1214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C11-0DDD-4641-8957-CE476455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5720-558B-4AD7-8F93-DFF415D8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C6C5-EEEC-41B8-A6DD-D52A49C4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34D-A617-4C87-83B7-4F8CF4BCD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14B8-233B-46E2-8CCF-9155B9FB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513C-13BB-4D85-91E1-69D159EDEE0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03F7-35E3-44D6-8062-833EEC0707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АМОПОДГОТОВКА КАК ПЕДАГОГИЧЕСКИ УПРАВЛЯЕМАЯ САМОСТОЯТЕЛЬНАЯ  ПОЗНАВАТЕЛЬНАЯ ДЕЯТЕЛЬНОСТЬ УЧАЩИХСЯ СПЕЦИАЛЬНЫХ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( КОРРЕКЦИОННЫХ) ОБРАЗОВАТЕЛЬНЫХ УЧРЕЖДЕНИ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ловия качественного выполнения домашнего зад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чество инструктажа по выполнению домашнего зад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едагог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ференцированность домашнего зад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верка  качества  выполне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машних зад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наглядных пособий,дид. материалов,памя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заимопомощь учащих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Правила   </a:t>
            </a:r>
            <a:br>
              <a:rPr sz="6600"/>
            </a:b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проведения самоподготовки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 ни в коем случае не имеет права объяснять материал ребенку, т.к. незнание методики предмета может навредить ребенку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, в случае затруднения, может только натолкнуть ребенка на выполнение домашнего задания. Если ребенок не справляется, значит он не усвоил тему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 должен поставить в известность об этом  учителя, т.к. самоподготовка направлена на закрепление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спитателю необходимо помнить, что самоподготовка направлена н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витие самостоятельности воспитанников, поэтому, учитыва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х индивидуальные особенности, надо поощрять все проявления самостоятель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дагогам необходимо определять объем заданий, учитывая возрастные и    индивидуальные особенности  (для  сильных учеников  около  половин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ого,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то выполнили на уроке, для более слабых 1/3 - 1/4 часть от пройденного материала на уроке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елях осуществления принципа преемственности воспитатель должен посещать уроки учителя не менее 1 раза в четвер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должен посещать самоподготовку по мере необходимости и в случае возникновения вопросов по выполнению домашнего задания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АВИЛА  ПОВЕДЕНИЯ НА САМОПОДГОТОВКЕ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РЕЩА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аздыв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ать тишину, громко разговари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лекать товарищей от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исывать задание у товарищ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ниматься посторонними дел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ить из класса без разрешения воспитате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амятк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приготовить рабочее место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ровняй пар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бери мусор (ненужно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готовь учебники, тетради, ручку, черновик, дневн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бери портфель на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иши задание в дневн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То, что ребенок умеет делать сегодня в сотрудничестве, он сумеет сделать завтра  самостоятельно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.С.Выготский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моподготовка – одна из форм организации учебного процесса. Это обязательные ежедневные занятия, на которых  школьники самостоятельно выполняют  учебные задания в строго отведенное время под руководством воспитателя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разовательные функции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ционн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вающ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структивная функ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ммуникативн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ворческая функ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оспитательные функц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игиеническ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отивационн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ормирующ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ганизационная функ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самостоятельной активности школьников в выполнении домашних заданий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тивно- самостоятель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мо- самостоятель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удительно- исполнитель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ребования к организации самоподготовк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игиеническ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идактическ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воспитательные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ункции воспитателя во время самоподготовки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структиров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блюд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дивидуальная помощ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верка и учет качества выполн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уктура самоподготов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онный момент (подготовка оборудования и рабочего места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 Вводная часть (психологический настрой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стоятельная работа учащих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Провер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Заключительный педагогический контро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09:26:22Z</dcterms:created>
  <dc:creator>Дерунец Генадий Анатольевичь</dc:creator>
  <dc:description/>
  <dc:language>en-US</dc:language>
  <cp:lastModifiedBy>ученик</cp:lastModifiedBy>
  <dcterms:modified xsi:type="dcterms:W3CDTF">2017-10-31T08:01:44Z</dcterms:modified>
  <cp:revision>6</cp:revision>
  <dc:subject/>
  <dc:title>САМОПОДГОТОВКА КАК ПЕДАГОГИЧЕСКИ УПРАВЛЯЕМАЯ САМОСТОЯТЕЛЬНАЯ  ПОЗНАВАТЕЛЬНАЯ ДЕЯТЕЛЬНОСТЬ УЧАЩИХСЯ СПЕЦИАЛЬНЫХ  ( КОРРЕКЦИОННЫХ) ОБРАЗОВАТЕЛЬНЫХ УЧРЕЖДЕНИЙ</dc:title>
</cp:coreProperties>
</file>