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DCA5-A525-40BF-8887-5BF6CC4A7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6815-3ED6-4FEA-BD12-F3C9F023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D744-1876-48E4-BA4D-C27965DA0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1D99-B219-4E96-AEB2-D04FF5D4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8440-73F0-4715-BD7A-3E494E045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10EA-1113-4145-8933-F4AEC7F3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A850-EECA-4C9B-BD3B-B235BAF5F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56574-46AE-4D44-9564-468C10ED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727C-9009-46BB-8B33-C0BE13CD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74EB-B662-45B6-AF43-11940246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CF104-5C05-40E2-83E3-B2FDC89F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7C6A-F415-41AE-BE4B-C23CACCA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BB922-BFB8-49FD-80AB-12A69120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EE506-16BE-4E6B-9193-356FD803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B5DB2-705C-420D-9CBB-CCCF2A10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B78C-E621-4995-AE5C-104E6665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97A8-1A1D-4832-B3AC-80BA6D4E5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4B27-A72D-4A8E-8247-529F5F16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6E73-492B-4B48-80BA-06C68526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9C53-5A73-406F-9740-8A2F84DF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C6F7-0D9E-4AC3-B271-76770E9D2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F820-D29B-495F-9D43-134A35F2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E82E-DFC9-4DD3-A227-8DD62A01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AD0-C6F7-4B63-8A0A-AA8D1922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9F13-2D2B-4E38-826D-C4EA56FA028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B31B4-0631-4053-BFA0-C78B4A87F5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САМОПОДГОТОВКА КАК ПЕДАГОГИЧЕСКИ УПРАВЛЯЕМАЯ САМОСТОЯТЕЛЬНАЯ  ПОЗНАВАТЕЛЬНАЯ ДЕЯТЕЛЬНОСТЬ УЧАЩИХСЯ СПЕЦИАЛЬНЫХ </a:t>
            </a:r>
            <a:br>
              <a:rPr sz="3600"/>
            </a:b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( КОРРЕКЦИОННЫХ) ОБРАЗОВАТЕЛЬНЫХ УЧРЕЖДЕНИЙ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Условия качественного выполнения домашнего задания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чество инструктажа по выполнению домашнего задан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педагого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ифференцированность домашнего задания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верка  качества  выполнения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домашних задан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Использование наглядных пособий,дид. материалов,памято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Взаимопомощь учащихс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17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Правила   </a:t>
            </a:r>
            <a:br>
              <a:rPr sz="6600"/>
            </a:br>
            <a:r>
              <a:rPr b="1" lang="ru-RU" sz="6600" spc="-1" strike="noStrike">
                <a:solidFill>
                  <a:srgbClr val="feec94"/>
                </a:solidFill>
                <a:latin typeface="Times New Roman"/>
              </a:rPr>
              <a:t>проведения самоподготовки</a:t>
            </a:r>
            <a:endParaRPr b="1" lang="en-US" sz="6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тель ни в коем случае не имеет права объяснять материал ребенку, т.к. незнание методики предмета может навредить ребенку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тель, в случае затруднения, может только натолкнуть ребенка на выполнение домашнего задания. Если ребенок не справляется, значит он не усвоил тему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спитатель должен поставить в известность об этом  учителя, т.к. самоподготовка направлена на закрепление материал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оспитателю необходимо помнить, что самоподготовка направлена на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азвитие самостоятельности воспитанников, поэтому, учитывая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их индивидуальные особенности, надо поощрять все проявления самостоятельности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едагогам необходимо определять объем заданий, учитывая возрастные и    индивидуальные особенности  (для  сильных учеников  около  половин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того,</a:t>
            </a:r>
            <a:r>
              <a:rPr b="0" i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то выполнили на уроке, для более слабых 1/3 - 1/4 часть от пройденного материала на уроке)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целях осуществления принципа преемственности воспитатель должен посещать уроки учителя не менее 1 раза в четверть.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ь должен посещать самоподготовку по мере необходимости и в случае возникновения вопросов по выполнению домашнего задания детьм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РАВИЛА  ПОВЕДЕНИЯ НА САМОПОДГОТОВКЕ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ПРЕЩАЕТС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аздыва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ать тишину, громко разговаривать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влекать товарищей от работ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писывать задание у товарищей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ниматься посторонними дел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ходить из класса без разрешения воспитателя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амятка</a:t>
            </a: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ак приготовить рабочее место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дровняй парту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бери мусор (ненужное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готовь учебники, тетради, ручку, черновик, дневни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бери портфель на место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пиши задание в дневник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То, что ребенок умеет делать сегодня в сотрудничестве, он сумеет сделать завтра  самостоятельно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                 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Л.С.Выготский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68360" y="404280"/>
            <a:ext cx="8136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Самоподготовка – одна из форм организации учебного процесса. Это обязательные ежедневные занятия, на которых  школьники самостоятельно выполняют  учебные задания в строго отведенное время под руководством воспитателя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бразовательные функции 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Информационная функци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азвивающая функци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нструктивная функц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Коммуникативная функци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Творческая функц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eec94"/>
                </a:solidFill>
                <a:latin typeface="Times New Roman"/>
              </a:rPr>
              <a:t>Воспитательные функци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Гигиеническая функци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Мотивационная функци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Формирующая функция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Организационная функци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ояние самостоятельной активности школьников в выполнении домашних заданий.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8229600" cy="33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Активно- самостоятельн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висимо- самостоятельн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нудительно- исполнительское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9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Требования к организации самоподготовки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игиенические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дидактические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воспитательные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Функции воспитателя во время самоподготовки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нструктирование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аблюде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ндивидуальная помощ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Контрол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Проверка и учет качества выполнени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труктура самоподготовки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.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рганизационный момент (подготовка оборудования и рабочего места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     Вводная часть (психологический настрой)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II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амостоятельная работа учащихс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V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    Проверк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812880" indent="-8128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    Заключительный педагогический контро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09:26:22Z</dcterms:created>
  <dc:creator>Дерунец Генадий Анатольевичь</dc:creator>
  <dc:description/>
  <dc:language>en-US</dc:language>
  <cp:lastModifiedBy>ученик</cp:lastModifiedBy>
  <dcterms:modified xsi:type="dcterms:W3CDTF">2017-10-31T08:01:44Z</dcterms:modified>
  <cp:revision>6</cp:revision>
  <dc:subject/>
  <dc:title>САМОПОДГОТОВКА КАК ПЕДАГОГИЧЕСКИ УПРАВЛЯЕМАЯ САМОСТОЯТЕЛЬНАЯ  ПОЗНАВАТЕЛЬНАЯ ДЕЯТЕЛЬНОСТЬ УЧАЩИХСЯ СПЕЦИАЛЬНЫХ  ( КОРРЕКЦИОННЫХ) ОБРАЗОВАТЕЛЬНЫХ УЧРЕЖДЕНИЙ</dc:title>
</cp:coreProperties>
</file>