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jpeg" ContentType="image/jpeg"/>
  <Override PartName="/ppt/media/image39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10.png" ContentType="image/png"/>
  <Override PartName="/ppt/media/image45.png" ContentType="image/png"/>
  <Override PartName="/ppt/media/image27.jpeg" ContentType="image/jpeg"/>
  <Override PartName="/ppt/media/image30.jpeg" ContentType="image/jpeg"/>
  <Override PartName="/ppt/media/image32.jpeg" ContentType="image/jpeg"/>
  <Override PartName="/ppt/media/image35.png" ContentType="image/png"/>
  <Override PartName="/ppt/media/image7.gif" ContentType="image/gif"/>
  <Override PartName="/ppt/media/image11.png" ContentType="image/png"/>
  <Override PartName="/ppt/media/image13.png" ContentType="image/png"/>
  <Override PartName="/ppt/media/image9.gif" ContentType="image/gif"/>
  <Override PartName="/ppt/media/image36.png" ContentType="image/png"/>
  <Override PartName="/ppt/media/image37.png" ContentType="image/png"/>
  <Override PartName="/ppt/media/image44.gif" ContentType="image/gif"/>
  <Override PartName="/ppt/media/image38.gif" ContentType="image/gif"/>
  <Override PartName="/ppt/media/image41.png" ContentType="image/png"/>
  <Override PartName="/ppt/media/image43.wmf" ContentType="image/x-wmf"/>
  <Override PartName="/ppt/media/image26.jpeg" ContentType="image/jpeg"/>
  <Override PartName="/ppt/media/image42.png" ContentType="image/png"/>
  <Override PartName="/ppt/media/image6.gif" ContentType="image/gif"/>
  <Override PartName="/ppt/media/image29.gif" ContentType="image/gif"/>
  <Override PartName="/ppt/media/image14.jpeg" ContentType="image/jpeg"/>
  <Override PartName="/ppt/media/image3.png" ContentType="image/png"/>
  <Override PartName="/ppt/media/image40.gif" ContentType="image/gif"/>
  <Override PartName="/ppt/media/image33.png" ContentType="image/png"/>
  <Override PartName="/ppt/media/image8.jpeg" ContentType="image/jpeg"/>
  <Override PartName="/ppt/media/image5.gif" ContentType="image/gif"/>
  <Override PartName="/ppt/media/image28.png" ContentType="image/png"/>
  <Override PartName="/ppt/media/image12.jpeg" ContentType="image/jpeg"/>
  <Override PartName="/ppt/media/image34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53B9-E31F-471C-943C-CED683016F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FD34-DB2D-4E1A-86FF-77EB98E616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AAF6-87F3-41DC-BEB1-55C14D22D0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ы «ССС» заносятся в индивидуальную таблицу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8C04-CB02-426E-A73A-38ECC9CB5A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F22A-0551-4D0B-B6FE-B16F4B3D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6DC6-8538-4432-B88C-51E9EE11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58B1-B6DD-4547-BBFE-F1A7CC85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C721-28E4-4760-848A-397234E57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85A20-A7BF-4AB2-8FFA-F43BBA21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1AD31-FD05-4451-8773-2F460E5E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F1CB-5989-43AA-A4E0-7AE2DF9F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2A507-657A-428D-B832-62D10784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DC71-D5BB-4AE8-9901-669C4845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E93C-2C23-4073-9640-B6949FF0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A857-DAC1-40A3-A19D-70B5A9DD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A8FE-4509-487A-8638-4E45AAC4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E09E-46E2-4056-99D8-CDD635B0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9D61-BDEB-456B-ABC1-0EACE81A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D066-7217-4B69-8436-416DAB53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6CF3-4125-4E34-A8DF-DB68517B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84328-5A7B-4DC5-A4BB-C02AC2F6A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0D035-75F6-43BB-87CF-7149F535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4F18C-8F0C-4ED3-8CC8-9244F9A1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C054D-E70A-4308-B7E8-DE8D4B41B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09CFE-12F8-4A1E-8CE7-51A47576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48CB5-EED7-4D9F-BD58-B9BE7DD0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D0B6-DF81-41F7-A744-AAD7E065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E89CD-C99E-4531-A564-E9A4BEE4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68C0C-21D8-4C5D-AEFF-6CAB7F2F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EA76B5-8D8D-46B5-B8A8-D9BC7982C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CA43E-A378-4DDF-B762-59845BA1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EA12E-6E93-4093-AB26-CFB89D68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CBCA9-870F-40B8-ADB7-7226ABCA5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4ADA5-DA98-4805-9474-A0C4B293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78F31-CDE0-45F3-8457-9CEB75700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B6E69-EDA6-495D-A707-4C43CF0E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266EA-C22E-4248-8948-D9E63087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A4BE-B2EC-4711-80DB-100BFB28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43591-D167-4F31-8DCF-7FD08930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4FBF8-518E-48DB-9B62-B4A1210E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B5001-19C7-4ACD-AF8F-B638246F7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9DA3F-AC6B-4401-98A6-8D5E1B3F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FA4CF-814F-4A14-9A08-14235EEB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EBDB0-2A34-433A-AEBB-CF7114DC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51940-EFD2-47AF-B45B-C9403774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B04B8-70E8-4512-A6E7-CB9E73EFD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1BC59-2B98-4E83-B204-35D22C308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C61EC-E08C-4142-9D1D-8C4089C92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4052-F522-4FDB-BAA3-C532627F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5F7CEA-C4CB-4F0B-9FA0-5B8A0A2C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A94977-B115-41B9-86C3-CD4C16E1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22029-A7AA-48FF-97FE-FEEA4EA0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761E7-FBB6-449C-AE79-D9D560D74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E602A-A677-4257-9A5E-3914E7C5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975A4-DD5E-4859-BBE0-05D73F04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A010A-2F58-424D-A919-A73F3A68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EDF9B8-FC88-42EB-8684-B9996D86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BECEA-E5C8-4B56-963C-7933455B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3E218-7978-4B70-A9AD-9DE0EDFF9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F325-C2BD-46C3-A7A6-1DC8D009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10162-0810-4D8B-8E4C-16EE259C8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522BD-D276-4F45-917E-E8F9AF694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2805D-6578-409A-9FC3-873626F5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7FC44F-2DD4-4EF4-AADD-2AC3E0D3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2F375-3A05-47F9-BF1C-F9DD10DD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51AAB-F7FE-4044-A43B-5C0A800A2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A2973-0932-4104-9166-0F10F202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1A313-4675-4854-BC17-27CF66DF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D7B5E-38A1-4B6B-9EA3-FB02097D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D64B8-226C-4CDC-9E23-6E1EF665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E5EC-CDD6-4581-8337-8B675085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B5719-7E94-463A-9745-142749E9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C1282-B459-4D97-AEAC-D65DF76DE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35E6B-4A80-4DF9-8442-C666A9D3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1F86-478C-45D3-892D-2EE03A3D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544A-FBD5-451A-AC27-08597D04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1F76B-8570-4877-A6F6-EBB61F45720A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7F06-5171-41B6-9A51-DBC81162470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7FEF-924F-4720-901C-994AB742A11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1DE1-620A-4FE0-8A94-02FB44690AD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B2BA-1251-4179-9916-107041E579E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5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6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FBA6-1919-441A-BC03-7205612AFD50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gif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ad-don.narod.ru/web-diz/animations/an37.gif" TargetMode="External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school8.narod.ru/New/22okt08.gif" TargetMode="External"/><Relationship Id="rId2" Type="http://schemas.openxmlformats.org/officeDocument/2006/relationships/image" Target="../media/image40.gif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mobilis1.narod.ru/wall/anim/Anim_0247.gif" TargetMode="External"/><Relationship Id="rId2" Type="http://schemas.openxmlformats.org/officeDocument/2006/relationships/image" Target="../media/image44.gif"/><Relationship Id="rId3" Type="http://schemas.openxmlformats.org/officeDocument/2006/relationships/hyperlink" Target="http://www.ribak.net/talks/style_emoticons/default/vbig115.gif" TargetMode="External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hyperlink" Target="http://img-fotki.yandex.ru/get/8/zbiwol1961.2/0_4528_5a2a8631_XL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extBox 11" descr=""/>
          <p:cNvPicPr/>
          <p:nvPr/>
        </p:nvPicPr>
        <p:blipFill>
          <a:blip r:embed="rId1"/>
          <a:stretch/>
        </p:blipFill>
        <p:spPr>
          <a:xfrm>
            <a:off x="566640" y="1785960"/>
            <a:ext cx="8223480" cy="25732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6" descr="C:\Documents and Settings\Admin\Рабочий стол\Новая папка (4)\p238_2.gif"/>
          <p:cNvPicPr/>
          <p:nvPr/>
        </p:nvPicPr>
        <p:blipFill>
          <a:blip r:embed="rId2"/>
          <a:stretch/>
        </p:blipFill>
        <p:spPr>
          <a:xfrm>
            <a:off x="928800" y="4286160"/>
            <a:ext cx="221436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1060560" y="360360"/>
            <a:ext cx="7626240" cy="7920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21392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Красный (червленый) – символ храбрости и мужест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Синий (лазурный) – символ красот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Зеленый – символ надежды, молодости, радости и изобил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урпурный (фиолетовый) – сила и могуществ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Черный – печаль, благоразумие и смирен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ЖЕЛТЫЙ и белый – сравнение с драгоценными металлами – серебром и золот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Золотой – символ богатст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Серебряный – чистот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9" name="Picture 2" descr="http://im6-tub.yandex.net/i?id=106078825&amp;tov=6"/>
          <p:cNvPicPr/>
          <p:nvPr/>
        </p:nvPicPr>
        <p:blipFill>
          <a:blip r:embed="rId2"/>
          <a:stretch/>
        </p:blipFill>
        <p:spPr>
          <a:xfrm>
            <a:off x="6643800" y="4429080"/>
            <a:ext cx="22939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Box 6"/>
          <p:cNvSpPr/>
          <p:nvPr/>
        </p:nvSpPr>
        <p:spPr>
          <a:xfrm>
            <a:off x="785880" y="285840"/>
            <a:ext cx="7500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TextBox 7"/>
          <p:cNvSpPr/>
          <p:nvPr/>
        </p:nvSpPr>
        <p:spPr>
          <a:xfrm>
            <a:off x="1357200" y="0"/>
            <a:ext cx="66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ГЕРБЫ КЛАССА.</a:t>
            </a:r>
            <a:endParaRPr b="0" i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2" name="Picture 8" descr=""/>
          <p:cNvPicPr/>
          <p:nvPr/>
        </p:nvPicPr>
        <p:blipFill>
          <a:blip r:embed="rId1"/>
          <a:stretch/>
        </p:blipFill>
        <p:spPr>
          <a:xfrm>
            <a:off x="5562720" y="1285920"/>
            <a:ext cx="2992320" cy="33573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"/>
          <p:cNvPicPr/>
          <p:nvPr/>
        </p:nvPicPr>
        <p:blipFill>
          <a:blip r:embed="rId2"/>
          <a:stretch/>
        </p:blipFill>
        <p:spPr>
          <a:xfrm>
            <a:off x="642960" y="1357200"/>
            <a:ext cx="2855880" cy="31784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0" descr=""/>
          <p:cNvPicPr/>
          <p:nvPr/>
        </p:nvPicPr>
        <p:blipFill>
          <a:blip r:embed="rId3"/>
          <a:stretch/>
        </p:blipFill>
        <p:spPr>
          <a:xfrm>
            <a:off x="2857680" y="2857680"/>
            <a:ext cx="332892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2298600" y="285840"/>
            <a:ext cx="3919680" cy="933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C:\Documents and Settings\Admin\Рабочий стол\мастер класс\Photo%20566.gif"/>
          <p:cNvPicPr/>
          <p:nvPr/>
        </p:nvPicPr>
        <p:blipFill>
          <a:blip r:embed="rId2"/>
          <a:stretch/>
        </p:blipFill>
        <p:spPr>
          <a:xfrm>
            <a:off x="3643200" y="1214280"/>
            <a:ext cx="2071800" cy="1845000"/>
          </a:xfrm>
          <a:prstGeom prst="rect">
            <a:avLst/>
          </a:prstGeom>
          <a:ln w="0">
            <a:noFill/>
          </a:ln>
        </p:spPr>
      </p:pic>
      <p:sp>
        <p:nvSpPr>
          <p:cNvPr id="357" name="TextBox 4"/>
          <p:cNvSpPr/>
          <p:nvPr/>
        </p:nvSpPr>
        <p:spPr>
          <a:xfrm>
            <a:off x="3286080" y="314316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ИМВОЛ МУДРОСТИ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TextBox 6"/>
          <p:cNvSpPr/>
          <p:nvPr/>
        </p:nvSpPr>
        <p:spPr>
          <a:xfrm>
            <a:off x="3429000" y="58356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ИМВОЛ ЖИЗНИ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9" name="Picture 4" descr="C:\Documents and Settings\Admin\Рабочий стол\мастер класс\011.jpg"/>
          <p:cNvPicPr/>
          <p:nvPr/>
        </p:nvPicPr>
        <p:blipFill>
          <a:blip r:embed="rId3"/>
          <a:stretch/>
        </p:blipFill>
        <p:spPr>
          <a:xfrm>
            <a:off x="6357960" y="1285920"/>
            <a:ext cx="2428920" cy="1643040"/>
          </a:xfrm>
          <a:prstGeom prst="rect">
            <a:avLst/>
          </a:prstGeom>
          <a:ln w="0">
            <a:noFill/>
          </a:ln>
        </p:spPr>
      </p:pic>
      <p:sp>
        <p:nvSpPr>
          <p:cNvPr id="360" name="TextBox 8"/>
          <p:cNvSpPr/>
          <p:nvPr/>
        </p:nvSpPr>
        <p:spPr>
          <a:xfrm>
            <a:off x="6215040" y="321480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ИМВОЛ МИРА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1" name="Picture 6" descr="http://www.creationlab.ru/index_recl/lavr_vetka2.gif"/>
          <p:cNvPicPr/>
          <p:nvPr/>
        </p:nvPicPr>
        <p:blipFill>
          <a:blip r:embed="rId4">
            <a:lum bright="-40000"/>
          </a:blip>
          <a:stretch/>
        </p:blipFill>
        <p:spPr>
          <a:xfrm>
            <a:off x="428760" y="4000680"/>
            <a:ext cx="2771640" cy="1785600"/>
          </a:xfrm>
          <a:prstGeom prst="rect">
            <a:avLst/>
          </a:prstGeom>
          <a:ln w="0">
            <a:noFill/>
          </a:ln>
        </p:spPr>
      </p:pic>
      <p:sp>
        <p:nvSpPr>
          <p:cNvPr id="362" name="TextBox 10"/>
          <p:cNvSpPr/>
          <p:nvPr/>
        </p:nvSpPr>
        <p:spPr>
          <a:xfrm>
            <a:off x="500040" y="585792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ИМВОЛ ПОБЕДЫ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TextBox 13"/>
          <p:cNvSpPr/>
          <p:nvPr/>
        </p:nvSpPr>
        <p:spPr>
          <a:xfrm>
            <a:off x="0" y="321480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ИМВОЛ ЗНАНИЙ И УМА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TextBox 17"/>
          <p:cNvSpPr/>
          <p:nvPr/>
        </p:nvSpPr>
        <p:spPr>
          <a:xfrm>
            <a:off x="6357960" y="592920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ИМВОЛ РОСТА И РАЗВИТИЯ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Picture 15" descr=""/>
          <p:cNvPicPr/>
          <p:nvPr/>
        </p:nvPicPr>
        <p:blipFill>
          <a:blip r:embed="rId5"/>
          <a:stretch/>
        </p:blipFill>
        <p:spPr>
          <a:xfrm>
            <a:off x="357120" y="1571760"/>
            <a:ext cx="2428920" cy="15001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6" descr=""/>
          <p:cNvPicPr/>
          <p:nvPr/>
        </p:nvPicPr>
        <p:blipFill>
          <a:blip r:embed="rId6"/>
          <a:stretch/>
        </p:blipFill>
        <p:spPr>
          <a:xfrm>
            <a:off x="3500280" y="3571920"/>
            <a:ext cx="2143440" cy="21430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7" descr=""/>
          <p:cNvPicPr/>
          <p:nvPr/>
        </p:nvPicPr>
        <p:blipFill>
          <a:blip r:embed="rId7"/>
          <a:stretch/>
        </p:blipFill>
        <p:spPr>
          <a:xfrm>
            <a:off x="6281640" y="3786120"/>
            <a:ext cx="2424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Tahoma"/>
                <a:ea typeface="Tahoma"/>
              </a:rPr>
              <a:t>1. Формирование рабочих групп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0" y="2276640"/>
            <a:ext cx="8748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dd9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елимся на 3 мини – группы.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братите внимание на свой цветовой жетон.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AutoShape 4"/>
          <p:cNvSpPr/>
          <p:nvPr/>
        </p:nvSpPr>
        <p:spPr>
          <a:xfrm>
            <a:off x="468360" y="4572000"/>
            <a:ext cx="1746360" cy="1592280"/>
          </a:xfrm>
          <a:custGeom>
            <a:avLst/>
            <a:gdLst>
              <a:gd name="textAreaLeft" fmla="*/ 398520 w 1746360"/>
              <a:gd name="textAreaRight" fmla="*/ 1347840 w 1746360"/>
              <a:gd name="textAreaTop" fmla="*/ 363240 h 1592280"/>
              <a:gd name="textAreaBottom" fmla="*/ 1229040 h 159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 гр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AutoShape 6"/>
          <p:cNvSpPr/>
          <p:nvPr/>
        </p:nvSpPr>
        <p:spPr>
          <a:xfrm>
            <a:off x="7020000" y="4941720"/>
            <a:ext cx="1584360" cy="144000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 гр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AutoShape 7"/>
          <p:cNvSpPr/>
          <p:nvPr/>
        </p:nvSpPr>
        <p:spPr>
          <a:xfrm>
            <a:off x="3635280" y="3573360"/>
            <a:ext cx="1728720" cy="1582920"/>
          </a:xfrm>
          <a:custGeom>
            <a:avLst/>
            <a:gdLst>
              <a:gd name="textAreaLeft" fmla="*/ 394560 w 1728720"/>
              <a:gd name="textAreaRight" fmla="*/ 1334160 w 1728720"/>
              <a:gd name="textAreaTop" fmla="*/ 361440 h 1582920"/>
              <a:gd name="textAreaBottom" fmla="*/ 1221480 h 158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гр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3" name="Picture 8" descr=""/>
          <p:cNvPicPr/>
          <p:nvPr/>
        </p:nvPicPr>
        <p:blipFill>
          <a:blip r:embed="rId1"/>
          <a:stretch/>
        </p:blipFill>
        <p:spPr>
          <a:xfrm>
            <a:off x="3500280" y="4929120"/>
            <a:ext cx="2552760" cy="16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57224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  <a:ea typeface="Tahoma"/>
              </a:rPr>
              <a:t>2. Определение общего плана работы в группе</a:t>
            </a:r>
            <a:r>
              <a:rPr b="1" lang="en-US" sz="4000" spc="-1" strike="noStrike">
                <a:solidFill>
                  <a:srgbClr val="3333ff"/>
                </a:solidFill>
                <a:latin typeface="Tahoma"/>
                <a:ea typeface="Tahoma"/>
              </a:rPr>
              <a:t>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Прямоугольник 3"/>
          <p:cNvSpPr/>
          <p:nvPr/>
        </p:nvSpPr>
        <p:spPr>
          <a:xfrm>
            <a:off x="2286000" y="1996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Прямоугольная выноска 5"/>
          <p:cNvSpPr/>
          <p:nvPr/>
        </p:nvSpPr>
        <p:spPr>
          <a:xfrm>
            <a:off x="4714920" y="1928880"/>
            <a:ext cx="4071960" cy="1857240"/>
          </a:xfrm>
          <a:prstGeom prst="wedgeRectCallout">
            <a:avLst>
              <a:gd name="adj1" fmla="val -66518"/>
              <a:gd name="adj2" fmla="val 9050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Используй в своей речи:                              Ты согласен?»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«Не возражаешь?»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«Хочу дополнить к сказанному…»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«Я согласен…» 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7" name="Picture 6" descr=""/>
          <p:cNvPicPr/>
          <p:nvPr/>
        </p:nvPicPr>
        <p:blipFill>
          <a:blip r:embed="rId1"/>
          <a:stretch/>
        </p:blipFill>
        <p:spPr>
          <a:xfrm>
            <a:off x="642960" y="3000240"/>
            <a:ext cx="3319560" cy="30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639720" y="639720"/>
            <a:ext cx="8218440" cy="10922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Edu01"/>
          <p:cNvPicPr/>
          <p:nvPr/>
        </p:nvPicPr>
        <p:blipFill>
          <a:blip r:embed="rId2"/>
          <a:stretch/>
        </p:blipFill>
        <p:spPr>
          <a:xfrm>
            <a:off x="2627280" y="2205000"/>
            <a:ext cx="3286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30088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3333ff"/>
                </a:solidFill>
                <a:latin typeface="Tahoma"/>
                <a:ea typeface="Tahoma"/>
              </a:rPr>
              <a:t>4. Анализ выполненной работы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81" name="Picture 12" descr="Картинка 59 из 6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2781360"/>
            <a:ext cx="32148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28800" y="214200"/>
            <a:ext cx="8015040" cy="146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3333ff"/>
                </a:solidFill>
                <a:latin typeface="Tahoma"/>
                <a:ea typeface="Tahoma"/>
              </a:rPr>
              <a:t>5. Защита проекта.</a:t>
            </a:r>
            <a:endParaRPr b="0" lang="en-US" sz="5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83" name="Picture 14" descr="Картинка 566 из 7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2637000"/>
            <a:ext cx="2786040" cy="2549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"/>
          <p:cNvPicPr/>
          <p:nvPr/>
        </p:nvPicPr>
        <p:blipFill>
          <a:blip r:embed="rId3"/>
          <a:stretch/>
        </p:blipFill>
        <p:spPr>
          <a:xfrm>
            <a:off x="6643800" y="2143080"/>
            <a:ext cx="200160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87280" y="62064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99"/>
                </a:solidFill>
                <a:latin typeface="Times New Roman"/>
              </a:rPr>
              <a:t>Составляющие «ССС»: 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86" name="Group 26" descr=""/>
          <p:cNvPicPr/>
          <p:nvPr/>
        </p:nvPicPr>
        <p:blipFill>
          <a:blip r:embed="rId1"/>
          <a:stretch/>
        </p:blipFill>
        <p:spPr>
          <a:xfrm>
            <a:off x="55440" y="1957320"/>
            <a:ext cx="8832960" cy="20113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3" descr="j0343343"/>
          <p:cNvPicPr/>
          <p:nvPr/>
        </p:nvPicPr>
        <p:blipFill>
          <a:blip r:embed="rId2"/>
          <a:stretch/>
        </p:blipFill>
        <p:spPr>
          <a:xfrm>
            <a:off x="7236000" y="189000"/>
            <a:ext cx="1649160" cy="171612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4"/>
          <p:cNvSpPr/>
          <p:nvPr/>
        </p:nvSpPr>
        <p:spPr>
          <a:xfrm>
            <a:off x="4929120" y="3929040"/>
            <a:ext cx="914400" cy="914400"/>
          </a:xfrm>
          <a:custGeom>
            <a:avLst/>
            <a:gdLst>
              <a:gd name="textAreaLeft" fmla="*/ 309960 w 914400"/>
              <a:gd name="textAreaRight" fmla="*/ 604440 w 914400"/>
              <a:gd name="textAreaTop" fmla="*/ 309960 h 914400"/>
              <a:gd name="textAreaBottom" fmla="*/ 604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327" y="7327"/>
                </a:lnTo>
                <a:lnTo>
                  <a:pt x="10800" y="0"/>
                </a:lnTo>
                <a:lnTo>
                  <a:pt x="14273" y="7327"/>
                </a:lnTo>
                <a:lnTo>
                  <a:pt x="21600" y="10800"/>
                </a:lnTo>
                <a:lnTo>
                  <a:pt x="14273" y="14273"/>
                </a:lnTo>
                <a:lnTo>
                  <a:pt x="10800" y="21600"/>
                </a:lnTo>
                <a:lnTo>
                  <a:pt x="7327" y="14273"/>
                </a:lnTo>
                <a:lnTo>
                  <a:pt x="0" y="10800"/>
                </a:lnTo>
                <a:close/>
              </a:path>
            </a:pathLst>
          </a:cu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WordArt 20"/>
          <p:cNvSpPr txBox="1"/>
          <p:nvPr/>
        </p:nvSpPr>
        <p:spPr>
          <a:xfrm>
            <a:off x="611280" y="4221000"/>
            <a:ext cx="2879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b5395"/>
                </a:solidFill>
                <a:latin typeface="Arial"/>
              </a:rPr>
              <a:t>проявил везд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b5395"/>
              </a:solidFill>
              <a:latin typeface="Arial"/>
              <a:ea typeface="Arial"/>
            </a:endParaRPr>
          </a:p>
        </p:txBody>
      </p:sp>
      <p:sp>
        <p:nvSpPr>
          <p:cNvPr id="390" name="WordArt 21"/>
          <p:cNvSpPr txBox="1"/>
          <p:nvPr/>
        </p:nvSpPr>
        <p:spPr>
          <a:xfrm>
            <a:off x="2050920" y="4572000"/>
            <a:ext cx="454356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b5395"/>
                </a:solidFill>
                <a:latin typeface="Arial"/>
              </a:rPr>
              <a:t>проявил, но не везд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b5395"/>
              </a:solidFill>
              <a:latin typeface="Arial"/>
              <a:ea typeface="Arial"/>
            </a:endParaRPr>
          </a:p>
        </p:txBody>
      </p:sp>
      <p:sp>
        <p:nvSpPr>
          <p:cNvPr id="391" name="WordArt 22"/>
          <p:cNvSpPr txBox="1"/>
          <p:nvPr/>
        </p:nvSpPr>
        <p:spPr>
          <a:xfrm>
            <a:off x="4716360" y="5300640"/>
            <a:ext cx="3841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b5395"/>
                </a:solidFill>
                <a:latin typeface="Arial"/>
              </a:rPr>
              <a:t>очень мало проявил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b5395"/>
              </a:solidFill>
              <a:latin typeface="Arial"/>
              <a:ea typeface="Arial"/>
            </a:endParaRPr>
          </a:p>
        </p:txBody>
      </p:sp>
      <p:sp>
        <p:nvSpPr>
          <p:cNvPr id="392" name="4-конечная звезда 11"/>
          <p:cNvSpPr/>
          <p:nvPr/>
        </p:nvSpPr>
        <p:spPr>
          <a:xfrm>
            <a:off x="7429680" y="4357800"/>
            <a:ext cx="928440" cy="928440"/>
          </a:xfrm>
          <a:custGeom>
            <a:avLst/>
            <a:gdLst>
              <a:gd name="textAreaLeft" fmla="*/ 326880 w 928440"/>
              <a:gd name="textAreaRight" fmla="*/ 601560 w 928440"/>
              <a:gd name="textAreaTop" fmla="*/ 326880 h 928440"/>
              <a:gd name="textAreaBottom" fmla="*/ 601560 h 92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610" y="7610"/>
                </a:lnTo>
                <a:lnTo>
                  <a:pt x="10800" y="0"/>
                </a:lnTo>
                <a:lnTo>
                  <a:pt x="13990" y="7610"/>
                </a:lnTo>
                <a:lnTo>
                  <a:pt x="21600" y="10800"/>
                </a:lnTo>
                <a:lnTo>
                  <a:pt x="13990" y="13990"/>
                </a:lnTo>
                <a:lnTo>
                  <a:pt x="10800" y="21600"/>
                </a:lnTo>
                <a:lnTo>
                  <a:pt x="7610" y="1399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4-конечная звезда 12"/>
          <p:cNvSpPr/>
          <p:nvPr/>
        </p:nvSpPr>
        <p:spPr>
          <a:xfrm>
            <a:off x="2071800" y="3357720"/>
            <a:ext cx="928440" cy="928440"/>
          </a:xfrm>
          <a:custGeom>
            <a:avLst/>
            <a:gdLst>
              <a:gd name="textAreaLeft" fmla="*/ 326880 w 928440"/>
              <a:gd name="textAreaRight" fmla="*/ 601560 w 928440"/>
              <a:gd name="textAreaTop" fmla="*/ 326880 h 928440"/>
              <a:gd name="textAreaBottom" fmla="*/ 601560 h 92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610" y="7610"/>
                </a:lnTo>
                <a:lnTo>
                  <a:pt x="10800" y="0"/>
                </a:lnTo>
                <a:lnTo>
                  <a:pt x="13990" y="7610"/>
                </a:lnTo>
                <a:lnTo>
                  <a:pt x="21600" y="10800"/>
                </a:lnTo>
                <a:lnTo>
                  <a:pt x="13990" y="13990"/>
                </a:lnTo>
                <a:lnTo>
                  <a:pt x="10800" y="21600"/>
                </a:lnTo>
                <a:lnTo>
                  <a:pt x="7610" y="1399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WordArt 2"/>
          <p:cNvSpPr txBox="1"/>
          <p:nvPr/>
        </p:nvSpPr>
        <p:spPr>
          <a:xfrm>
            <a:off x="1187280" y="692280"/>
            <a:ext cx="6120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Рефлексия</a:t>
            </a:r>
            <a:endParaRPr b="1" i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258920" y="2060640"/>
          <a:ext cx="6912000" cy="4143240"/>
        </p:xfrm>
        <a:graphic>
          <a:graphicData uri="http://schemas.openxmlformats.org/drawingml/2006/table">
            <a:tbl>
              <a:tblPr/>
              <a:tblGrid>
                <a:gridCol w="1387440"/>
                <a:gridCol w="5524560"/>
              </a:tblGrid>
              <a:tr h="72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.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Мне было легко работать в группе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</a:tr>
              <a:tr h="670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Мне было трудно работать в группе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.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Мне было интересно участвовать в проекте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Мне было не интересно работать над этим проектом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</a:tr>
              <a:tr h="67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3.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Я доволен (довольна) своей работой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</a:tr>
              <a:tr h="671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Я не доволен (довольна) своей работой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</a:tr>
            </a:tbl>
          </a:graphicData>
        </a:graphic>
      </p:graphicFrame>
      <p:sp>
        <p:nvSpPr>
          <p:cNvPr id="396" name="Oval 26"/>
          <p:cNvSpPr/>
          <p:nvPr/>
        </p:nvSpPr>
        <p:spPr>
          <a:xfrm>
            <a:off x="1835280" y="2349360"/>
            <a:ext cx="36036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Oval 27"/>
          <p:cNvSpPr/>
          <p:nvPr/>
        </p:nvSpPr>
        <p:spPr>
          <a:xfrm>
            <a:off x="1835280" y="3068640"/>
            <a:ext cx="36036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Oval 28"/>
          <p:cNvSpPr/>
          <p:nvPr/>
        </p:nvSpPr>
        <p:spPr>
          <a:xfrm>
            <a:off x="1835280" y="3716280"/>
            <a:ext cx="36036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Oval 29"/>
          <p:cNvSpPr/>
          <p:nvPr/>
        </p:nvSpPr>
        <p:spPr>
          <a:xfrm>
            <a:off x="1835280" y="4292640"/>
            <a:ext cx="36036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Oval 30"/>
          <p:cNvSpPr/>
          <p:nvPr/>
        </p:nvSpPr>
        <p:spPr>
          <a:xfrm>
            <a:off x="1835280" y="4941720"/>
            <a:ext cx="36036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Oval 31"/>
          <p:cNvSpPr/>
          <p:nvPr/>
        </p:nvSpPr>
        <p:spPr>
          <a:xfrm>
            <a:off x="1835280" y="5589720"/>
            <a:ext cx="36036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Picture 2" descr="Картинка 464 из 7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86800" y="428760"/>
            <a:ext cx="1170000" cy="13572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Картинка 763 из 171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14368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57200" y="285840"/>
            <a:ext cx="8229600" cy="60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  <a:ea typeface="Tahoma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Создать герб класс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  <a:ea typeface="Tahoma"/>
              </a:rPr>
              <a:t>Задачи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Обучающая: Познакомить детей с историей возникновения геральдики, с основными требованиями к созданию герб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Воспитательная: Развивать навыки сотрудничества и коопераци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Развивающая: Развивать навыки коммуникации: взаимопонимания, слушания, умения развивать самостоятельность и ответственность в ситуациях реальной деятельности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4" name="Picture 7" descr="302"/>
          <p:cNvPicPr/>
          <p:nvPr/>
        </p:nvPicPr>
        <p:blipFill>
          <a:blip r:embed="rId1"/>
          <a:stretch/>
        </p:blipFill>
        <p:spPr>
          <a:xfrm>
            <a:off x="6072120" y="3894120"/>
            <a:ext cx="307188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57200" y="214200"/>
            <a:ext cx="614376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ff"/>
                </a:solidFill>
                <a:latin typeface="Calibri"/>
              </a:rPr>
              <a:t>ПЛАН РАБОТЫ: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13840" y="1213920"/>
            <a:ext cx="89298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ahoma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ahoma"/>
              </a:rPr>
              <a:t>Мотивация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ahoma"/>
              </a:rPr>
              <a:t>-Обсуждение в группа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ahoma"/>
              </a:rPr>
              <a:t>-Планирование совместной деятельност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ahoma"/>
              </a:rPr>
              <a:t>-Оформление результатов совместной деятельност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ahoma"/>
              </a:rPr>
              <a:t>-Обмен информацие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ahoma"/>
              </a:rPr>
              <a:t>-Рефлексия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1"/>
          <a:stretch/>
        </p:blipFill>
        <p:spPr>
          <a:xfrm>
            <a:off x="4786200" y="3286080"/>
            <a:ext cx="357192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russiaCLR_cg31_31825"/>
          <p:cNvPicPr/>
          <p:nvPr/>
        </p:nvPicPr>
        <p:blipFill>
          <a:blip r:embed="rId2"/>
          <a:stretch/>
        </p:blipFill>
        <p:spPr>
          <a:xfrm rot="10800000">
            <a:off x="857160" y="0"/>
            <a:ext cx="2500560" cy="143208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6"/>
          <p:cNvSpPr/>
          <p:nvPr/>
        </p:nvSpPr>
        <p:spPr>
          <a:xfrm>
            <a:off x="857160" y="1357200"/>
            <a:ext cx="285840" cy="285840"/>
          </a:xfrm>
          <a:prstGeom prst="smileyFace">
            <a:avLst>
              <a:gd name="adj" fmla="val -465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Box 12"/>
          <p:cNvSpPr/>
          <p:nvPr/>
        </p:nvSpPr>
        <p:spPr>
          <a:xfrm>
            <a:off x="1214280" y="121428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Москва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Прямоугольник 13"/>
          <p:cNvSpPr/>
          <p:nvPr/>
        </p:nvSpPr>
        <p:spPr>
          <a:xfrm>
            <a:off x="2857680" y="1071720"/>
            <a:ext cx="3714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Verdana"/>
              </a:rPr>
              <a:t>Россия</a:t>
            </a:r>
            <a:endParaRPr b="0" i="1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3" name="Picture 4" descr="Картинка 12 из 605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57240" y="428760"/>
            <a:ext cx="45432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706320" y="212760"/>
            <a:ext cx="8010720" cy="1152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"/>
          <p:cNvPicPr/>
          <p:nvPr/>
        </p:nvPicPr>
        <p:blipFill>
          <a:blip r:embed="rId2"/>
          <a:stretch/>
        </p:blipFill>
        <p:spPr>
          <a:xfrm>
            <a:off x="500040" y="1643040"/>
            <a:ext cx="3873600" cy="2071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"/>
          <p:cNvPicPr/>
          <p:nvPr/>
        </p:nvPicPr>
        <p:blipFill>
          <a:blip r:embed="rId3"/>
          <a:stretch/>
        </p:blipFill>
        <p:spPr>
          <a:xfrm>
            <a:off x="5805360" y="1571760"/>
            <a:ext cx="2341800" cy="25714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"/>
          <p:cNvPicPr/>
          <p:nvPr/>
        </p:nvPicPr>
        <p:blipFill>
          <a:blip r:embed="rId4"/>
          <a:stretch/>
        </p:blipFill>
        <p:spPr>
          <a:xfrm>
            <a:off x="3714840" y="3071880"/>
            <a:ext cx="2643120" cy="34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208080" y="0"/>
            <a:ext cx="8650080" cy="5499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"/>
          <p:cNvPicPr/>
          <p:nvPr/>
        </p:nvPicPr>
        <p:blipFill>
          <a:blip r:embed="rId2"/>
          <a:stretch/>
        </p:blipFill>
        <p:spPr>
          <a:xfrm>
            <a:off x="5429160" y="3220920"/>
            <a:ext cx="33768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6000" y="356760"/>
            <a:ext cx="6400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ahoma"/>
                <a:ea typeface="Tahoma"/>
              </a:rPr>
              <a:t>Гербы школ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1" name="Picture 6" descr=""/>
          <p:cNvPicPr/>
          <p:nvPr/>
        </p:nvPicPr>
        <p:blipFill>
          <a:blip r:embed="rId1"/>
          <a:stretch/>
        </p:blipFill>
        <p:spPr>
          <a:xfrm>
            <a:off x="230040" y="1571760"/>
            <a:ext cx="3673800" cy="26431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"/>
          <p:cNvPicPr/>
          <p:nvPr/>
        </p:nvPicPr>
        <p:blipFill>
          <a:blip r:embed="rId2"/>
          <a:stretch/>
        </p:blipFill>
        <p:spPr>
          <a:xfrm>
            <a:off x="5857920" y="1571760"/>
            <a:ext cx="2631960" cy="26431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"/>
          <p:cNvPicPr/>
          <p:nvPr/>
        </p:nvPicPr>
        <p:blipFill>
          <a:blip r:embed="rId3"/>
          <a:stretch/>
        </p:blipFill>
        <p:spPr>
          <a:xfrm>
            <a:off x="3429000" y="3429000"/>
            <a:ext cx="29336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13" descr=""/>
          <p:cNvPicPr/>
          <p:nvPr/>
        </p:nvPicPr>
        <p:blipFill>
          <a:blip r:embed="rId1"/>
          <a:stretch/>
        </p:blipFill>
        <p:spPr>
          <a:xfrm>
            <a:off x="4286160" y="2571840"/>
            <a:ext cx="4614840" cy="392904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Герб – это эмблема государства, города, сословия, рода, изображаемая на флагах, монетах, печатях, государственных и других официальных документах, отражающая исторические традиции                                    владельца. Наука                                      занимающаяся                                              составлением и                                                 изучением гербов                                        геральдика. 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cxnSp>
        <p:nvCxnSpPr>
          <p:cNvPr id="336" name="Прямая со стрелкой 7"/>
          <p:cNvCxnSpPr/>
          <p:nvPr/>
        </p:nvCxnSpPr>
        <p:spPr>
          <a:xfrm flipH="1">
            <a:off x="6571800" y="2786040"/>
            <a:ext cx="1000800" cy="35784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7" name="TextBox 8"/>
          <p:cNvSpPr/>
          <p:nvPr/>
        </p:nvSpPr>
        <p:spPr>
          <a:xfrm>
            <a:off x="7786800" y="2428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орона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38" name="Прямая со стрелкой 12"/>
          <p:cNvCxnSpPr/>
          <p:nvPr/>
        </p:nvCxnSpPr>
        <p:spPr>
          <a:xfrm flipH="1">
            <a:off x="6571440" y="3213720"/>
            <a:ext cx="1358280" cy="8578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9" name="TextBox 13"/>
          <p:cNvSpPr/>
          <p:nvPr/>
        </p:nvSpPr>
        <p:spPr>
          <a:xfrm>
            <a:off x="7858080" y="28576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щит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40" name="Прямая со стрелкой 15"/>
          <p:cNvCxnSpPr/>
          <p:nvPr/>
        </p:nvCxnSpPr>
        <p:spPr>
          <a:xfrm flipV="1">
            <a:off x="4857480" y="5928480"/>
            <a:ext cx="1429560" cy="14364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1" name="TextBox 16"/>
          <p:cNvSpPr/>
          <p:nvPr/>
        </p:nvSpPr>
        <p:spPr>
          <a:xfrm>
            <a:off x="4286160" y="60721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девиз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42" name="Прямая со стрелкой 18"/>
          <p:cNvCxnSpPr/>
          <p:nvPr/>
        </p:nvCxnSpPr>
        <p:spPr>
          <a:xfrm flipH="1" flipV="1">
            <a:off x="5428440" y="4214160"/>
            <a:ext cx="786600" cy="5007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3" name="Прямая со стрелкой 20"/>
          <p:cNvCxnSpPr/>
          <p:nvPr/>
        </p:nvCxnSpPr>
        <p:spPr>
          <a:xfrm flipV="1">
            <a:off x="6929280" y="4285440"/>
            <a:ext cx="858240" cy="4294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4" name="TextBox 21"/>
          <p:cNvSpPr/>
          <p:nvPr/>
        </p:nvSpPr>
        <p:spPr>
          <a:xfrm>
            <a:off x="5500800" y="485784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щитодержатели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1835280" y="426960"/>
            <a:ext cx="6851520" cy="1305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"/>
          <p:cNvPicPr/>
          <p:nvPr/>
        </p:nvPicPr>
        <p:blipFill>
          <a:blip r:embed="rId2"/>
          <a:stretch/>
        </p:blipFill>
        <p:spPr>
          <a:xfrm>
            <a:off x="857160" y="1857240"/>
            <a:ext cx="75456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10:06:18Z</dcterms:created>
  <dc:creator>674536845</dc:creator>
  <dc:description/>
  <dc:language>en-US</dc:language>
  <cp:lastModifiedBy>Админ</cp:lastModifiedBy>
  <dcterms:modified xsi:type="dcterms:W3CDTF">2018-12-25T22:47:00Z</dcterms:modified>
  <cp:revision>125</cp:revision>
  <dc:subject/>
  <dc:title>Символика моего класса</dc:title>
</cp:coreProperties>
</file>