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jpeg" ContentType="image/jpeg"/>
  <Override PartName="/ppt/media/image39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10.png" ContentType="image/png"/>
  <Override PartName="/ppt/media/image45.png" ContentType="image/png"/>
  <Override PartName="/ppt/media/image27.jpeg" ContentType="image/jpeg"/>
  <Override PartName="/ppt/media/image30.jpeg" ContentType="image/jpeg"/>
  <Override PartName="/ppt/media/image32.jpeg" ContentType="image/jpeg"/>
  <Override PartName="/ppt/media/image35.png" ContentType="image/png"/>
  <Override PartName="/ppt/media/image7.gif" ContentType="image/gif"/>
  <Override PartName="/ppt/media/image11.png" ContentType="image/png"/>
  <Override PartName="/ppt/media/image13.png" ContentType="image/png"/>
  <Override PartName="/ppt/media/image9.gif" ContentType="image/gif"/>
  <Override PartName="/ppt/media/image36.png" ContentType="image/png"/>
  <Override PartName="/ppt/media/image37.png" ContentType="image/png"/>
  <Override PartName="/ppt/media/image44.gif" ContentType="image/gif"/>
  <Override PartName="/ppt/media/image38.gif" ContentType="image/gif"/>
  <Override PartName="/ppt/media/image41.png" ContentType="image/png"/>
  <Override PartName="/ppt/media/image43.wmf" ContentType="image/x-wmf"/>
  <Override PartName="/ppt/media/image26.jpeg" ContentType="image/jpeg"/>
  <Override PartName="/ppt/media/image42.png" ContentType="image/png"/>
  <Override PartName="/ppt/media/image6.gif" ContentType="image/gif"/>
  <Override PartName="/ppt/media/image29.gif" ContentType="image/gif"/>
  <Override PartName="/ppt/media/image14.jpeg" ContentType="image/jpeg"/>
  <Override PartName="/ppt/media/image3.png" ContentType="image/png"/>
  <Override PartName="/ppt/media/image40.gif" ContentType="image/gif"/>
  <Override PartName="/ppt/media/image33.png" ContentType="image/png"/>
  <Override PartName="/ppt/media/image8.jpeg" ContentType="image/jpeg"/>
  <Override PartName="/ppt/media/image5.gif" ContentType="image/gif"/>
  <Override PartName="/ppt/media/image28.png" ContentType="image/png"/>
  <Override PartName="/ppt/media/image12.jpeg" ContentType="image/jpeg"/>
  <Override PartName="/ppt/media/image34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1185-0EF1-4441-8CE6-3D1094CB90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800F5-6B2B-4C6A-BADD-C6D9A23B0CE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55F3-9777-4C92-B5E9-8D5B749899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«ССС» заносятся в индивидуальную таблицу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C9916-5F12-4BE2-BFEE-1FCCABB28AE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3DD-0F8B-48E4-82A1-CC7C4209F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2DCA-92B9-4492-83B7-18113920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F12A-2875-4BDD-89A9-B995F0770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BA0C-00AC-48B2-BA12-CC6D93A9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F1B1-C8DC-4AF3-8205-C4A7C5449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862B8-23A1-48B2-8094-A0792BFBF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81271-139A-41D6-B621-9B88FBD7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E033-2F43-4CD6-BFB4-0729638E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09CE-F594-46A7-9713-2FB451E3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F3A0-FDAF-407A-B2B2-15C22FCAA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83733-989C-471D-8D26-0B905FCA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9644-3746-4213-97D5-4FAA7BAB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E8EC9-05AB-4E2E-9E28-5DCC7270D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6344-25B1-43F8-B8C9-F247D648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75FD-FC97-4947-A864-DE50F5BF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982A-B3DA-4451-B50F-BF790DB0C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39B87-FC8B-4E9E-B768-BEADD6F4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9BE4A-8BC7-4329-83F0-1DEAA088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083AF-D11E-4A6A-B4DC-25DAD2E9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E7F56-EC83-46D5-9329-E9B780D15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BEC86-C996-4856-9BD4-D790831A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BE8C8-E969-4CF8-AC73-040C6214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654-57AE-4334-AD32-E1DE1BB5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32D53-BCE2-426F-B5AD-A96531C1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9994C-22A3-4D42-BB5B-D4035423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FC99D-5B31-4A8B-857C-9208ED52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B6EB6-27E7-4A1A-87C0-6C7C0EB4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94DBA-D4D6-4B1C-AD88-AD99D16C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7EEC9-2750-4CB4-BFA8-ADCDEDEB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89345-8FC3-42E6-BCF2-5788B59B0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3FABE0-5AD3-45ED-8C34-592CA6782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829BE-84E9-4E8E-9518-8A0989C12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24481E-9416-4C99-9BCE-ACE2AE57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E88D-5DA8-45CC-B661-C0C2098F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08023C-C236-4EDA-A9A8-BD588B1D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C4AFCB-2218-4FC2-A651-E452F744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FBD40-9CCC-4E3C-975D-1AE16C6CD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596B9-A4D3-490D-A5D5-31E1E3AF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9EF927-6DA1-4671-B7F1-EA1B525F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AD22D-65FE-4CA4-81CE-51B97805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25B68-74DF-45A0-95ED-E3F7679A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9ED66-4901-4F80-9FA5-A291344DF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7D2D4-19BD-4EEF-BF1D-A6447AA80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E52D2-42BD-4523-A658-8CAEA41A7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B7D3-F9D3-4FEC-9389-EFDB6DF2E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41AEA5-A5C2-4B7E-A13F-87EAE52BB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3544D-9FA4-420A-991B-C1D336F6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22906-6CF4-4465-ABBD-8D1C9B301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24F00-991D-4011-A802-B362C711F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67247-6A4A-4DF4-A71D-715884830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F7148-E7BC-4375-8BC7-05C182C6E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37231-8DE6-4EAB-BF13-077B09F9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037849-661D-430A-9D91-C4846B17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58A86-2F79-4EFE-8673-FFF2FC5E9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22DB2-3E96-430D-8CF4-575A7D99B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BFF7-C7E7-431C-937B-1402986A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CDCE9-BE3B-471F-B391-19C5B9F22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D5272-EA86-41E3-967E-59BA13AA3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66EEE-6A58-43FB-88F8-2E6C3BEC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EC804-656F-45BB-A4A0-7D8304E3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43D66-E146-4171-8BF7-3ABBF3D4B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40863-877F-4AA2-8688-F17DC7997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A67820-92F6-4C96-A625-EE3708FB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F5B4C9-23BB-4B08-BAD5-68980C94E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C9458-93D8-4B44-BD6D-C5B632DB2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A9277-5E53-4736-9059-9BE04611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BB55-39F4-4E04-B70C-7E698820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D6E13-C42A-406E-A541-C59A3781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65F14-BA3A-45C6-B396-672D3379F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7024D-B891-41C3-92CE-C09DE001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3CB-DBF4-4369-B2B0-92B3F27C9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A47B-1196-47CE-80B7-B8200218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986F-43BF-486D-967D-B7A0C00498A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A3B2-8A59-43B0-A30C-BA92EE99DB9E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4413-16A1-4114-938D-ABF107095A7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9A067-0E5D-4A23-8867-6551BDFFC98E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159A-A335-4F76-84DE-B42CC7DB6972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6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8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60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611C-9C57-41E3-8E2F-E939C924A717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image" Target="../media/image31.png"/><Relationship Id="rId5" Type="http://schemas.openxmlformats.org/officeDocument/2006/relationships/image" Target="../media/image32.jpe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gif"/><Relationship Id="rId3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rad-don.narod.ru/web-diz/animations/an37.gif" TargetMode="External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school8.narod.ru/New/22okt08.gif" TargetMode="External"/><Relationship Id="rId2" Type="http://schemas.openxmlformats.org/officeDocument/2006/relationships/image" Target="../media/image40.gif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mobilis1.narod.ru/wall/anim/Anim_0247.gif" TargetMode="External"/><Relationship Id="rId2" Type="http://schemas.openxmlformats.org/officeDocument/2006/relationships/image" Target="../media/image44.gif"/><Relationship Id="rId3" Type="http://schemas.openxmlformats.org/officeDocument/2006/relationships/hyperlink" Target="http://www.ribak.net/talks/style_emoticons/default/vbig115.gif" TargetMode="External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hyperlink" Target="http://img-fotki.yandex.ru/get/8/zbiwol1961.2/0_4528_5a2a8631_XL" TargetMode="Externa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TextBox 11" descr=""/>
          <p:cNvPicPr/>
          <p:nvPr/>
        </p:nvPicPr>
        <p:blipFill>
          <a:blip r:embed="rId1"/>
          <a:stretch/>
        </p:blipFill>
        <p:spPr>
          <a:xfrm>
            <a:off x="566640" y="1785960"/>
            <a:ext cx="8223480" cy="257328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6" descr="C:\Documents and Settings\Admin\Рабочий стол\Новая папка (4)\p238_2.gif"/>
          <p:cNvPicPr/>
          <p:nvPr/>
        </p:nvPicPr>
        <p:blipFill>
          <a:blip r:embed="rId2"/>
          <a:stretch/>
        </p:blipFill>
        <p:spPr>
          <a:xfrm>
            <a:off x="928800" y="4286160"/>
            <a:ext cx="2214360" cy="237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Заголовок 1" descr=""/>
          <p:cNvPicPr/>
          <p:nvPr/>
        </p:nvPicPr>
        <p:blipFill>
          <a:blip r:embed="rId1"/>
          <a:stretch/>
        </p:blipFill>
        <p:spPr>
          <a:xfrm>
            <a:off x="1060560" y="360360"/>
            <a:ext cx="7626240" cy="79200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21392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Красный (червленый) – символ храбрости и муже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иний (лазурный) – символ красот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Зеленый – символ надежды, молодости, радости и изобил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Пурпурный (фиолетовый) – сила и могущество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Черный – печаль, благоразумие и смирени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ЖЕЛТЫЙ и белый – сравнение с драгоценными металлами – серебром и золото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Золотой – символ богатст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Серебряный – чистот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49" name="Picture 2" descr="http://im6-tub.yandex.net/i?id=106078825&amp;tov=6"/>
          <p:cNvPicPr/>
          <p:nvPr/>
        </p:nvPicPr>
        <p:blipFill>
          <a:blip r:embed="rId2"/>
          <a:stretch/>
        </p:blipFill>
        <p:spPr>
          <a:xfrm>
            <a:off x="6643800" y="4429080"/>
            <a:ext cx="22939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Box 6"/>
          <p:cNvSpPr/>
          <p:nvPr/>
        </p:nvSpPr>
        <p:spPr>
          <a:xfrm>
            <a:off x="785880" y="285840"/>
            <a:ext cx="7500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1357200" y="0"/>
            <a:ext cx="66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ahoma"/>
              </a:rPr>
              <a:t>ГЕРБЫ КЛАССА.</a:t>
            </a:r>
            <a:endParaRPr b="0" i="1" lang="en-US" sz="6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2" name="Picture 8" descr=""/>
          <p:cNvPicPr/>
          <p:nvPr/>
        </p:nvPicPr>
        <p:blipFill>
          <a:blip r:embed="rId1"/>
          <a:stretch/>
        </p:blipFill>
        <p:spPr>
          <a:xfrm>
            <a:off x="5562720" y="1285920"/>
            <a:ext cx="2992320" cy="33573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"/>
          <p:cNvPicPr/>
          <p:nvPr/>
        </p:nvPicPr>
        <p:blipFill>
          <a:blip r:embed="rId2"/>
          <a:stretch/>
        </p:blipFill>
        <p:spPr>
          <a:xfrm>
            <a:off x="642960" y="1357200"/>
            <a:ext cx="2855880" cy="31784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0" descr=""/>
          <p:cNvPicPr/>
          <p:nvPr/>
        </p:nvPicPr>
        <p:blipFill>
          <a:blip r:embed="rId3"/>
          <a:stretch/>
        </p:blipFill>
        <p:spPr>
          <a:xfrm>
            <a:off x="2857680" y="2857680"/>
            <a:ext cx="3328920" cy="36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Заголовок 1" descr=""/>
          <p:cNvPicPr/>
          <p:nvPr/>
        </p:nvPicPr>
        <p:blipFill>
          <a:blip r:embed="rId1"/>
          <a:stretch/>
        </p:blipFill>
        <p:spPr>
          <a:xfrm>
            <a:off x="2298600" y="285840"/>
            <a:ext cx="3919680" cy="93348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C:\Documents and Settings\Admin\Рабочий стол\мастер класс\Photo%20566.gif"/>
          <p:cNvPicPr/>
          <p:nvPr/>
        </p:nvPicPr>
        <p:blipFill>
          <a:blip r:embed="rId2"/>
          <a:stretch/>
        </p:blipFill>
        <p:spPr>
          <a:xfrm>
            <a:off x="3643200" y="1214280"/>
            <a:ext cx="2071800" cy="1845000"/>
          </a:xfrm>
          <a:prstGeom prst="rect">
            <a:avLst/>
          </a:prstGeom>
          <a:ln w="0">
            <a:noFill/>
          </a:ln>
        </p:spPr>
      </p:pic>
      <p:sp>
        <p:nvSpPr>
          <p:cNvPr id="357" name="TextBox 4"/>
          <p:cNvSpPr/>
          <p:nvPr/>
        </p:nvSpPr>
        <p:spPr>
          <a:xfrm>
            <a:off x="3286080" y="314316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МВОЛ МУДРОСТИ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TextBox 6"/>
          <p:cNvSpPr/>
          <p:nvPr/>
        </p:nvSpPr>
        <p:spPr>
          <a:xfrm>
            <a:off x="3429000" y="58356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МВОЛ ЖИЗНИ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9" name="Picture 4" descr="C:\Documents and Settings\Admin\Рабочий стол\мастер класс\011.jpg"/>
          <p:cNvPicPr/>
          <p:nvPr/>
        </p:nvPicPr>
        <p:blipFill>
          <a:blip r:embed="rId3"/>
          <a:stretch/>
        </p:blipFill>
        <p:spPr>
          <a:xfrm>
            <a:off x="6357960" y="1285920"/>
            <a:ext cx="2428920" cy="1643040"/>
          </a:xfrm>
          <a:prstGeom prst="rect">
            <a:avLst/>
          </a:prstGeom>
          <a:ln w="0">
            <a:noFill/>
          </a:ln>
        </p:spPr>
      </p:pic>
      <p:sp>
        <p:nvSpPr>
          <p:cNvPr id="360" name="TextBox 8"/>
          <p:cNvSpPr/>
          <p:nvPr/>
        </p:nvSpPr>
        <p:spPr>
          <a:xfrm>
            <a:off x="6215040" y="32148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МВОЛ МИРА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1" name="Picture 6" descr="http://www.creationlab.ru/index_recl/lavr_vetka2.gif"/>
          <p:cNvPicPr/>
          <p:nvPr/>
        </p:nvPicPr>
        <p:blipFill>
          <a:blip r:embed="rId4">
            <a:lum bright="-40000"/>
          </a:blip>
          <a:stretch/>
        </p:blipFill>
        <p:spPr>
          <a:xfrm>
            <a:off x="428760" y="4000680"/>
            <a:ext cx="2771640" cy="1785600"/>
          </a:xfrm>
          <a:prstGeom prst="rect">
            <a:avLst/>
          </a:prstGeom>
          <a:ln w="0">
            <a:noFill/>
          </a:ln>
        </p:spPr>
      </p:pic>
      <p:sp>
        <p:nvSpPr>
          <p:cNvPr id="362" name="TextBox 10"/>
          <p:cNvSpPr/>
          <p:nvPr/>
        </p:nvSpPr>
        <p:spPr>
          <a:xfrm>
            <a:off x="500040" y="585792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МВОЛ ПОБЕДЫ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0" y="321480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МВОЛ ЗНАНИЙ И УМА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TextBox 17"/>
          <p:cNvSpPr/>
          <p:nvPr/>
        </p:nvSpPr>
        <p:spPr>
          <a:xfrm>
            <a:off x="6357960" y="592920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СИМВОЛ РОСТА И РАЗВИТИЯ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5" name="Picture 15" descr=""/>
          <p:cNvPicPr/>
          <p:nvPr/>
        </p:nvPicPr>
        <p:blipFill>
          <a:blip r:embed="rId5"/>
          <a:stretch/>
        </p:blipFill>
        <p:spPr>
          <a:xfrm>
            <a:off x="357120" y="1571760"/>
            <a:ext cx="2428920" cy="150012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16" descr=""/>
          <p:cNvPicPr/>
          <p:nvPr/>
        </p:nvPicPr>
        <p:blipFill>
          <a:blip r:embed="rId6"/>
          <a:stretch/>
        </p:blipFill>
        <p:spPr>
          <a:xfrm>
            <a:off x="3500280" y="3571920"/>
            <a:ext cx="2143440" cy="21430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7" descr=""/>
          <p:cNvPicPr/>
          <p:nvPr/>
        </p:nvPicPr>
        <p:blipFill>
          <a:blip r:embed="rId7"/>
          <a:stretch/>
        </p:blipFill>
        <p:spPr>
          <a:xfrm>
            <a:off x="6281640" y="3786120"/>
            <a:ext cx="24242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ff"/>
                </a:solidFill>
                <a:latin typeface="Tahoma"/>
                <a:ea typeface="Tahoma"/>
              </a:rPr>
              <a:t>1. Формирование рабочих групп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0" y="2276640"/>
            <a:ext cx="87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9dd9"/>
                </a:solidFill>
                <a:latin typeface="Comic Sans MS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елимся на 3 мини – группы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братите внимание на свой цветовой жетон.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AutoShape 4"/>
          <p:cNvSpPr/>
          <p:nvPr/>
        </p:nvSpPr>
        <p:spPr>
          <a:xfrm>
            <a:off x="468360" y="4572000"/>
            <a:ext cx="1746360" cy="1592280"/>
          </a:xfrm>
          <a:custGeom>
            <a:avLst/>
            <a:gdLst>
              <a:gd name="textAreaLeft" fmla="*/ 398520 w 1746360"/>
              <a:gd name="textAreaRight" fmla="*/ 1347840 w 1746360"/>
              <a:gd name="textAreaTop" fmla="*/ 363240 h 1592280"/>
              <a:gd name="textAreaBottom" fmla="*/ 1229040 h 1592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 гр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AutoShape 6"/>
          <p:cNvSpPr/>
          <p:nvPr/>
        </p:nvSpPr>
        <p:spPr>
          <a:xfrm>
            <a:off x="7020000" y="4941720"/>
            <a:ext cx="1584360" cy="1440000"/>
          </a:xfrm>
          <a:custGeom>
            <a:avLst/>
            <a:gdLst>
              <a:gd name="textAreaLeft" fmla="*/ 361440 w 1584360"/>
              <a:gd name="textAreaRight" fmla="*/ 1222920 w 158436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 гр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AutoShape 7"/>
          <p:cNvSpPr/>
          <p:nvPr/>
        </p:nvSpPr>
        <p:spPr>
          <a:xfrm>
            <a:off x="3635280" y="3573360"/>
            <a:ext cx="1728720" cy="1582920"/>
          </a:xfrm>
          <a:custGeom>
            <a:avLst/>
            <a:gdLst>
              <a:gd name="textAreaLeft" fmla="*/ 394560 w 1728720"/>
              <a:gd name="textAreaRight" fmla="*/ 1334160 w 1728720"/>
              <a:gd name="textAreaTop" fmla="*/ 361440 h 1582920"/>
              <a:gd name="textAreaBottom" fmla="*/ 1221480 h 1582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 гр</a:t>
            </a:r>
            <a:endParaRPr b="0" i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3" name="Picture 8" descr=""/>
          <p:cNvPicPr/>
          <p:nvPr/>
        </p:nvPicPr>
        <p:blipFill>
          <a:blip r:embed="rId1"/>
          <a:stretch/>
        </p:blipFill>
        <p:spPr>
          <a:xfrm>
            <a:off x="3500280" y="4929120"/>
            <a:ext cx="2552760" cy="164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85880" y="213840"/>
            <a:ext cx="757224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  <a:ea typeface="Tahoma"/>
              </a:rPr>
              <a:t>2. Определение общего плана работы в группе</a:t>
            </a:r>
            <a:r>
              <a:rPr b="1" lang="en-US" sz="4000" spc="-1" strike="noStrike">
                <a:solidFill>
                  <a:srgbClr val="3333ff"/>
                </a:solidFill>
                <a:latin typeface="Tahoma"/>
                <a:ea typeface="Tahoma"/>
              </a:rPr>
              <a:t>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Прямоугольник 3"/>
          <p:cNvSpPr/>
          <p:nvPr/>
        </p:nvSpPr>
        <p:spPr>
          <a:xfrm>
            <a:off x="2286000" y="1996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Прямоугольная выноска 5"/>
          <p:cNvSpPr/>
          <p:nvPr/>
        </p:nvSpPr>
        <p:spPr>
          <a:xfrm>
            <a:off x="4714920" y="1928880"/>
            <a:ext cx="4071960" cy="1857240"/>
          </a:xfrm>
          <a:prstGeom prst="wedgeRectCallout">
            <a:avLst>
              <a:gd name="adj1" fmla="val -66518"/>
              <a:gd name="adj2" fmla="val 9050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Используй в своей речи:                              Ты согласен?»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Не возражаешь?»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Хочу дополнить к сказанному…»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Times New Roman"/>
              </a:rPr>
              <a:t>«Я согласен…» </a:t>
            </a:r>
            <a:endParaRPr b="0" i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7" name="Picture 6" descr=""/>
          <p:cNvPicPr/>
          <p:nvPr/>
        </p:nvPicPr>
        <p:blipFill>
          <a:blip r:embed="rId1"/>
          <a:stretch/>
        </p:blipFill>
        <p:spPr>
          <a:xfrm>
            <a:off x="642960" y="3000240"/>
            <a:ext cx="331956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Rectangle 2" descr=""/>
          <p:cNvPicPr/>
          <p:nvPr/>
        </p:nvPicPr>
        <p:blipFill>
          <a:blip r:embed="rId1"/>
          <a:stretch/>
        </p:blipFill>
        <p:spPr>
          <a:xfrm>
            <a:off x="639720" y="639720"/>
            <a:ext cx="8218440" cy="10922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Edu01"/>
          <p:cNvPicPr/>
          <p:nvPr/>
        </p:nvPicPr>
        <p:blipFill>
          <a:blip r:embed="rId2"/>
          <a:stretch/>
        </p:blipFill>
        <p:spPr>
          <a:xfrm>
            <a:off x="2627280" y="2205000"/>
            <a:ext cx="328608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42960" y="213840"/>
            <a:ext cx="830088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3333ff"/>
                </a:solidFill>
                <a:latin typeface="Tahoma"/>
                <a:ea typeface="Tahoma"/>
              </a:rPr>
              <a:t>4. Анализ выполненной работы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1" name="Picture 12" descr="Картинка 59 из 6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781360"/>
            <a:ext cx="32148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28800" y="214200"/>
            <a:ext cx="801504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3333ff"/>
                </a:solidFill>
                <a:latin typeface="Tahoma"/>
                <a:ea typeface="Tahoma"/>
              </a:rPr>
              <a:t>5. Защита проекта.</a:t>
            </a:r>
            <a:endParaRPr b="0" lang="en-US" sz="5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3" name="Picture 14" descr="Картинка 566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2637000"/>
            <a:ext cx="2786040" cy="2549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3"/>
          <a:stretch/>
        </p:blipFill>
        <p:spPr>
          <a:xfrm>
            <a:off x="6643800" y="2143080"/>
            <a:ext cx="200160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99"/>
                </a:solidFill>
                <a:latin typeface="Times New Roman"/>
              </a:rPr>
              <a:t>Составляющие «ССС»: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86" name="Group 26" descr=""/>
          <p:cNvPicPr/>
          <p:nvPr/>
        </p:nvPicPr>
        <p:blipFill>
          <a:blip r:embed="rId1"/>
          <a:stretch/>
        </p:blipFill>
        <p:spPr>
          <a:xfrm>
            <a:off x="55440" y="1957320"/>
            <a:ext cx="8832960" cy="2011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3" descr="j0343343"/>
          <p:cNvPicPr/>
          <p:nvPr/>
        </p:nvPicPr>
        <p:blipFill>
          <a:blip r:embed="rId2"/>
          <a:stretch/>
        </p:blipFill>
        <p:spPr>
          <a:xfrm>
            <a:off x="7236000" y="189000"/>
            <a:ext cx="1649160" cy="171612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4"/>
          <p:cNvSpPr/>
          <p:nvPr/>
        </p:nvSpPr>
        <p:spPr>
          <a:xfrm>
            <a:off x="4929120" y="3929040"/>
            <a:ext cx="914400" cy="914400"/>
          </a:xfrm>
          <a:custGeom>
            <a:avLst/>
            <a:gdLst>
              <a:gd name="textAreaLeft" fmla="*/ 309960 w 914400"/>
              <a:gd name="textAreaRight" fmla="*/ 604440 w 914400"/>
              <a:gd name="textAreaTop" fmla="*/ 309960 h 914400"/>
              <a:gd name="textAreaBottom" fmla="*/ 6044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327" y="7327"/>
                </a:lnTo>
                <a:lnTo>
                  <a:pt x="10800" y="0"/>
                </a:lnTo>
                <a:lnTo>
                  <a:pt x="14273" y="7327"/>
                </a:lnTo>
                <a:lnTo>
                  <a:pt x="21600" y="10800"/>
                </a:lnTo>
                <a:lnTo>
                  <a:pt x="14273" y="14273"/>
                </a:lnTo>
                <a:lnTo>
                  <a:pt x="10800" y="21600"/>
                </a:lnTo>
                <a:lnTo>
                  <a:pt x="7327" y="14273"/>
                </a:lnTo>
                <a:lnTo>
                  <a:pt x="0" y="10800"/>
                </a:lnTo>
                <a:close/>
              </a:path>
            </a:pathLst>
          </a:cu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WordArt 20"/>
          <p:cNvSpPr txBox="1"/>
          <p:nvPr/>
        </p:nvSpPr>
        <p:spPr>
          <a:xfrm>
            <a:off x="611280" y="4221000"/>
            <a:ext cx="287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b5395"/>
                </a:solidFill>
                <a:latin typeface="Arial"/>
              </a:rPr>
              <a:t>проявил везд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b5395"/>
              </a:solidFill>
              <a:latin typeface="Arial"/>
              <a:ea typeface="Arial"/>
            </a:endParaRPr>
          </a:p>
        </p:txBody>
      </p:sp>
      <p:sp>
        <p:nvSpPr>
          <p:cNvPr id="390" name="WordArt 21"/>
          <p:cNvSpPr txBox="1"/>
          <p:nvPr/>
        </p:nvSpPr>
        <p:spPr>
          <a:xfrm>
            <a:off x="2050920" y="4572000"/>
            <a:ext cx="4543560" cy="14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b5395"/>
                </a:solidFill>
                <a:latin typeface="Arial"/>
              </a:rPr>
              <a:t>проявил, но не везде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b5395"/>
              </a:solidFill>
              <a:latin typeface="Arial"/>
              <a:ea typeface="Arial"/>
            </a:endParaRPr>
          </a:p>
        </p:txBody>
      </p:sp>
      <p:sp>
        <p:nvSpPr>
          <p:cNvPr id="391" name="WordArt 22"/>
          <p:cNvSpPr txBox="1"/>
          <p:nvPr/>
        </p:nvSpPr>
        <p:spPr>
          <a:xfrm>
            <a:off x="4716360" y="5300640"/>
            <a:ext cx="384192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b5395"/>
                </a:solidFill>
                <a:latin typeface="Arial"/>
              </a:rPr>
              <a:t>очень мало прояви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b5395"/>
              </a:solidFill>
              <a:latin typeface="Arial"/>
              <a:ea typeface="Arial"/>
            </a:endParaRPr>
          </a:p>
        </p:txBody>
      </p:sp>
      <p:sp>
        <p:nvSpPr>
          <p:cNvPr id="392" name="4-конечная звезда 11"/>
          <p:cNvSpPr/>
          <p:nvPr/>
        </p:nvSpPr>
        <p:spPr>
          <a:xfrm>
            <a:off x="7429680" y="4357800"/>
            <a:ext cx="928440" cy="928440"/>
          </a:xfrm>
          <a:custGeom>
            <a:avLst/>
            <a:gdLst>
              <a:gd name="textAreaLeft" fmla="*/ 326880 w 928440"/>
              <a:gd name="textAreaRight" fmla="*/ 601560 w 928440"/>
              <a:gd name="textAreaTop" fmla="*/ 326880 h 928440"/>
              <a:gd name="textAreaBottom" fmla="*/ 6015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10" y="7610"/>
                </a:lnTo>
                <a:lnTo>
                  <a:pt x="10800" y="0"/>
                </a:lnTo>
                <a:lnTo>
                  <a:pt x="13990" y="7610"/>
                </a:lnTo>
                <a:lnTo>
                  <a:pt x="21600" y="10800"/>
                </a:lnTo>
                <a:lnTo>
                  <a:pt x="13990" y="13990"/>
                </a:lnTo>
                <a:lnTo>
                  <a:pt x="10800" y="21600"/>
                </a:lnTo>
                <a:lnTo>
                  <a:pt x="7610" y="13990"/>
                </a:lnTo>
                <a:lnTo>
                  <a:pt x="0" y="108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4-конечная звезда 12"/>
          <p:cNvSpPr/>
          <p:nvPr/>
        </p:nvSpPr>
        <p:spPr>
          <a:xfrm>
            <a:off x="2071800" y="3357720"/>
            <a:ext cx="928440" cy="928440"/>
          </a:xfrm>
          <a:custGeom>
            <a:avLst/>
            <a:gdLst>
              <a:gd name="textAreaLeft" fmla="*/ 326880 w 928440"/>
              <a:gd name="textAreaRight" fmla="*/ 601560 w 928440"/>
              <a:gd name="textAreaTop" fmla="*/ 326880 h 928440"/>
              <a:gd name="textAreaBottom" fmla="*/ 601560 h 928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7610" y="7610"/>
                </a:lnTo>
                <a:lnTo>
                  <a:pt x="10800" y="0"/>
                </a:lnTo>
                <a:lnTo>
                  <a:pt x="13990" y="7610"/>
                </a:lnTo>
                <a:lnTo>
                  <a:pt x="21600" y="10800"/>
                </a:lnTo>
                <a:lnTo>
                  <a:pt x="13990" y="13990"/>
                </a:lnTo>
                <a:lnTo>
                  <a:pt x="10800" y="21600"/>
                </a:lnTo>
                <a:lnTo>
                  <a:pt x="7610" y="1399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WordArt 2"/>
          <p:cNvSpPr txBox="1"/>
          <p:nvPr/>
        </p:nvSpPr>
        <p:spPr>
          <a:xfrm>
            <a:off x="1187280" y="692280"/>
            <a:ext cx="612000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ahoma"/>
              </a:rPr>
              <a:t>Рефлексия</a:t>
            </a:r>
            <a:endParaRPr b="1" i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1258920" y="2060640"/>
          <a:ext cx="6912000" cy="4143240"/>
        </p:xfrm>
        <a:graphic>
          <a:graphicData uri="http://schemas.openxmlformats.org/drawingml/2006/table">
            <a:tbl>
              <a:tblPr/>
              <a:tblGrid>
                <a:gridCol w="1387440"/>
                <a:gridCol w="5524560"/>
              </a:tblGrid>
              <a:tr h="72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1.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не было легко работать в группе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670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не было трудно работать в группе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2.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не было интересно участвовать в проекте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Мне было не интересно работать над этим проектом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67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3.</a:t>
                      </a:r>
                      <a:endParaRPr b="0" i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Я доволен (довольна) своей работой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i="1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Я не доволен (довольна) своей работой.</a:t>
                      </a:r>
                      <a:endParaRPr b="0" i="1" lang="en-US" sz="2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9dd9"/>
                    </a:solidFill>
                  </a:tcPr>
                </a:tc>
              </a:tr>
            </a:tbl>
          </a:graphicData>
        </a:graphic>
      </p:graphicFrame>
      <p:sp>
        <p:nvSpPr>
          <p:cNvPr id="396" name="Oval 26"/>
          <p:cNvSpPr/>
          <p:nvPr/>
        </p:nvSpPr>
        <p:spPr>
          <a:xfrm>
            <a:off x="1835280" y="2349360"/>
            <a:ext cx="36036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Oval 27"/>
          <p:cNvSpPr/>
          <p:nvPr/>
        </p:nvSpPr>
        <p:spPr>
          <a:xfrm>
            <a:off x="1835280" y="3068640"/>
            <a:ext cx="360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Oval 28"/>
          <p:cNvSpPr/>
          <p:nvPr/>
        </p:nvSpPr>
        <p:spPr>
          <a:xfrm>
            <a:off x="1835280" y="3716280"/>
            <a:ext cx="360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Oval 29"/>
          <p:cNvSpPr/>
          <p:nvPr/>
        </p:nvSpPr>
        <p:spPr>
          <a:xfrm>
            <a:off x="1835280" y="4292640"/>
            <a:ext cx="360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Oval 30"/>
          <p:cNvSpPr/>
          <p:nvPr/>
        </p:nvSpPr>
        <p:spPr>
          <a:xfrm>
            <a:off x="1835280" y="4941720"/>
            <a:ext cx="360360" cy="28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Oval 31"/>
          <p:cNvSpPr/>
          <p:nvPr/>
        </p:nvSpPr>
        <p:spPr>
          <a:xfrm>
            <a:off x="1835280" y="5589720"/>
            <a:ext cx="360360" cy="287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Picture 2" descr="Картинка 464 из 71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86800" y="428760"/>
            <a:ext cx="1170000" cy="13572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Картинка 763 из 171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5143680"/>
            <a:ext cx="1357200" cy="13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457200" y="285840"/>
            <a:ext cx="8229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  <a:ea typeface="Tahoma"/>
              </a:rPr>
              <a:t>Цель: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Создать герб класс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  <a:ea typeface="Tahoma"/>
              </a:rPr>
              <a:t>Задачи: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Обучающая: Познакомить детей с историей возникновения геральдики, с основными требованиями к созданию герба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Воспитательная: Развивать навыки сотрудничества и кооперации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Развивающая: Развивать навыки коммуникации: взаимопонимания, слушания, умения развивать самостоятельность и ответственность в ситуациях реальной деятельности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4" name="Picture 7" descr="302"/>
          <p:cNvPicPr/>
          <p:nvPr/>
        </p:nvPicPr>
        <p:blipFill>
          <a:blip r:embed="rId1"/>
          <a:stretch/>
        </p:blipFill>
        <p:spPr>
          <a:xfrm>
            <a:off x="6072120" y="3894120"/>
            <a:ext cx="307188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57200" y="214200"/>
            <a:ext cx="6143760" cy="857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3333ff"/>
                </a:solidFill>
                <a:latin typeface="Calibri"/>
              </a:rPr>
              <a:t>ПЛАН РАБОТЫ: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213840" y="1213920"/>
            <a:ext cx="89298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  <a:ea typeface="Tahoma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ahoma"/>
              </a:rPr>
              <a:t>Мотивац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ahoma"/>
              </a:rPr>
              <a:t>-Обсуждение в группах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ahoma"/>
              </a:rPr>
              <a:t>-Планирование совместной деятельно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ahoma"/>
              </a:rPr>
              <a:t>-Оформление результатов совместной деятельност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ahoma"/>
              </a:rPr>
              <a:t>-Обмен информаци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ahoma"/>
              </a:rPr>
              <a:t>-Рефлексия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317" name="Picture 3" descr=""/>
          <p:cNvPicPr/>
          <p:nvPr/>
        </p:nvPicPr>
        <p:blipFill>
          <a:blip r:embed="rId1"/>
          <a:stretch/>
        </p:blipFill>
        <p:spPr>
          <a:xfrm>
            <a:off x="4786200" y="3286080"/>
            <a:ext cx="357192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russiaCLR_cg31_31825"/>
          <p:cNvPicPr/>
          <p:nvPr/>
        </p:nvPicPr>
        <p:blipFill>
          <a:blip r:embed="rId2"/>
          <a:stretch/>
        </p:blipFill>
        <p:spPr>
          <a:xfrm rot="10800000">
            <a:off x="857160" y="0"/>
            <a:ext cx="2500560" cy="143208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6"/>
          <p:cNvSpPr/>
          <p:nvPr/>
        </p:nvSpPr>
        <p:spPr>
          <a:xfrm>
            <a:off x="857160" y="1357200"/>
            <a:ext cx="285840" cy="285840"/>
          </a:xfrm>
          <a:prstGeom prst="smileyFace">
            <a:avLst>
              <a:gd name="adj" fmla="val -465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TextBox 12"/>
          <p:cNvSpPr/>
          <p:nvPr/>
        </p:nvSpPr>
        <p:spPr>
          <a:xfrm>
            <a:off x="1214280" y="1214280"/>
            <a:ext cx="13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ahoma"/>
              </a:rPr>
              <a:t>Москва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Прямоугольник 13"/>
          <p:cNvSpPr/>
          <p:nvPr/>
        </p:nvSpPr>
        <p:spPr>
          <a:xfrm>
            <a:off x="2857680" y="1071720"/>
            <a:ext cx="3714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66"/>
                </a:solidFill>
                <a:latin typeface="Verdana"/>
              </a:rPr>
              <a:t>Россия</a:t>
            </a:r>
            <a:endParaRPr b="0" i="1" lang="en-US" sz="6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" name="Picture 4" descr="Картинка 12 из 605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57240" y="428760"/>
            <a:ext cx="454320" cy="49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Rectangle 2" descr=""/>
          <p:cNvPicPr/>
          <p:nvPr/>
        </p:nvPicPr>
        <p:blipFill>
          <a:blip r:embed="rId1"/>
          <a:stretch/>
        </p:blipFill>
        <p:spPr>
          <a:xfrm>
            <a:off x="706320" y="212760"/>
            <a:ext cx="8010720" cy="1152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6" descr=""/>
          <p:cNvPicPr/>
          <p:nvPr/>
        </p:nvPicPr>
        <p:blipFill>
          <a:blip r:embed="rId2"/>
          <a:stretch/>
        </p:blipFill>
        <p:spPr>
          <a:xfrm>
            <a:off x="500040" y="1643040"/>
            <a:ext cx="3873600" cy="2071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3"/>
          <a:stretch/>
        </p:blipFill>
        <p:spPr>
          <a:xfrm>
            <a:off x="5805360" y="1571760"/>
            <a:ext cx="2341800" cy="25714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8" descr=""/>
          <p:cNvPicPr/>
          <p:nvPr/>
        </p:nvPicPr>
        <p:blipFill>
          <a:blip r:embed="rId4"/>
          <a:stretch/>
        </p:blipFill>
        <p:spPr>
          <a:xfrm>
            <a:off x="3714840" y="3071880"/>
            <a:ext cx="2643120" cy="3424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Заголовок 1" descr=""/>
          <p:cNvPicPr/>
          <p:nvPr/>
        </p:nvPicPr>
        <p:blipFill>
          <a:blip r:embed="rId1"/>
          <a:stretch/>
        </p:blipFill>
        <p:spPr>
          <a:xfrm>
            <a:off x="208080" y="0"/>
            <a:ext cx="8650080" cy="54990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"/>
          <p:cNvPicPr/>
          <p:nvPr/>
        </p:nvPicPr>
        <p:blipFill>
          <a:blip r:embed="rId2"/>
          <a:stretch/>
        </p:blipFill>
        <p:spPr>
          <a:xfrm>
            <a:off x="5429160" y="3220920"/>
            <a:ext cx="33768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286000" y="356760"/>
            <a:ext cx="6400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Tahoma"/>
                <a:ea typeface="Tahoma"/>
              </a:rPr>
              <a:t>Гербы школ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31" name="Picture 6" descr=""/>
          <p:cNvPicPr/>
          <p:nvPr/>
        </p:nvPicPr>
        <p:blipFill>
          <a:blip r:embed="rId1"/>
          <a:stretch/>
        </p:blipFill>
        <p:spPr>
          <a:xfrm>
            <a:off x="230040" y="1571760"/>
            <a:ext cx="3673800" cy="26431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7" descr=""/>
          <p:cNvPicPr/>
          <p:nvPr/>
        </p:nvPicPr>
        <p:blipFill>
          <a:blip r:embed="rId2"/>
          <a:stretch/>
        </p:blipFill>
        <p:spPr>
          <a:xfrm>
            <a:off x="5857920" y="1571760"/>
            <a:ext cx="2631960" cy="26431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8" descr=""/>
          <p:cNvPicPr/>
          <p:nvPr/>
        </p:nvPicPr>
        <p:blipFill>
          <a:blip r:embed="rId3"/>
          <a:stretch/>
        </p:blipFill>
        <p:spPr>
          <a:xfrm>
            <a:off x="3429000" y="3429000"/>
            <a:ext cx="293364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13" descr=""/>
          <p:cNvPicPr/>
          <p:nvPr/>
        </p:nvPicPr>
        <p:blipFill>
          <a:blip r:embed="rId1"/>
          <a:stretch/>
        </p:blipFill>
        <p:spPr>
          <a:xfrm>
            <a:off x="4286160" y="2571840"/>
            <a:ext cx="4614840" cy="392904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Tahoma"/>
              </a:rPr>
              <a:t>Герб – это эмблема государства, города, сословия, рода, изображаемая на флагах, монетах, печатях, государственных и других официальных документах, отражающая исторические традиции                                    владельца. Наука                                      занимающаяся                                              составлением и                                                 изучением гербов                                        геральдика. </a:t>
            </a:r>
            <a:br>
              <a:rPr sz="2800"/>
            </a:br>
            <a:br>
              <a:rPr sz="24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cxnSp>
        <p:nvCxnSpPr>
          <p:cNvPr id="336" name="Прямая со стрелкой 7"/>
          <p:cNvCxnSpPr/>
          <p:nvPr/>
        </p:nvCxnSpPr>
        <p:spPr>
          <a:xfrm flipH="1">
            <a:off x="6571800" y="2786040"/>
            <a:ext cx="1000800" cy="35784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7" name="TextBox 8"/>
          <p:cNvSpPr/>
          <p:nvPr/>
        </p:nvSpPr>
        <p:spPr>
          <a:xfrm>
            <a:off x="7786800" y="2428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рона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38" name="Прямая со стрелкой 12"/>
          <p:cNvCxnSpPr/>
          <p:nvPr/>
        </p:nvCxnSpPr>
        <p:spPr>
          <a:xfrm flipH="1">
            <a:off x="6571440" y="3213720"/>
            <a:ext cx="1358280" cy="8578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9" name="TextBox 13"/>
          <p:cNvSpPr/>
          <p:nvPr/>
        </p:nvSpPr>
        <p:spPr>
          <a:xfrm>
            <a:off x="7858080" y="285768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щит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40" name="Прямая со стрелкой 15"/>
          <p:cNvCxnSpPr/>
          <p:nvPr/>
        </p:nvCxnSpPr>
        <p:spPr>
          <a:xfrm flipV="1">
            <a:off x="4857480" y="5928480"/>
            <a:ext cx="1429560" cy="14364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1" name="TextBox 16"/>
          <p:cNvSpPr/>
          <p:nvPr/>
        </p:nvSpPr>
        <p:spPr>
          <a:xfrm>
            <a:off x="4286160" y="6072120"/>
            <a:ext cx="150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девиз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342" name="Прямая со стрелкой 18"/>
          <p:cNvCxnSpPr/>
          <p:nvPr/>
        </p:nvCxnSpPr>
        <p:spPr>
          <a:xfrm flipH="1" flipV="1">
            <a:off x="5428440" y="4214160"/>
            <a:ext cx="786600" cy="500760"/>
          </a:xfrm>
          <a:prstGeom prst="straightConnector1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Прямая со стрелкой 20"/>
          <p:cNvCxnSpPr/>
          <p:nvPr/>
        </p:nvCxnSpPr>
        <p:spPr>
          <a:xfrm flipV="1">
            <a:off x="6929280" y="4285440"/>
            <a:ext cx="858240" cy="429480"/>
          </a:xfrm>
          <a:prstGeom prst="straightConnector1">
            <a:avLst/>
          </a:prstGeom>
          <a:ln w="442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44" name="TextBox 21"/>
          <p:cNvSpPr/>
          <p:nvPr/>
        </p:nvSpPr>
        <p:spPr>
          <a:xfrm>
            <a:off x="5500800" y="4857840"/>
            <a:ext cx="214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щитодержатели</a:t>
            </a:r>
            <a:endParaRPr b="0" i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Заголовок 1" descr=""/>
          <p:cNvPicPr/>
          <p:nvPr/>
        </p:nvPicPr>
        <p:blipFill>
          <a:blip r:embed="rId1"/>
          <a:stretch/>
        </p:blipFill>
        <p:spPr>
          <a:xfrm>
            <a:off x="1835280" y="426960"/>
            <a:ext cx="6851520" cy="13050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"/>
          <p:cNvPicPr/>
          <p:nvPr/>
        </p:nvPicPr>
        <p:blipFill>
          <a:blip r:embed="rId2"/>
          <a:stretch/>
        </p:blipFill>
        <p:spPr>
          <a:xfrm>
            <a:off x="857160" y="1857240"/>
            <a:ext cx="75456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10:06:18Z</dcterms:created>
  <dc:creator>674536845</dc:creator>
  <dc:description/>
  <dc:language>en-US</dc:language>
  <cp:lastModifiedBy>Админ</cp:lastModifiedBy>
  <dcterms:modified xsi:type="dcterms:W3CDTF">2018-12-25T22:47:00Z</dcterms:modified>
  <cp:revision>125</cp:revision>
  <dc:subject/>
  <dc:title>Символика моего класса</dc:title>
</cp:coreProperties>
</file>