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241-DE68-4BFE-BDC6-73995E0E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35B1-36A9-4698-B313-A76C0055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EF5A-4B79-49B5-A1D0-DA7ECBB6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C950-D27D-442A-9190-422DFDE9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3A4E-CE85-45A9-89BD-7608AD0B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10F1-8EDE-4BEE-B8F3-A0AE6BC3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016C-BFC2-4F94-B84C-1EE31BE8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A22A-2B4D-4744-A785-52C3D6D9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A3FF-F81C-40AB-A78C-27401845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16A5-E141-4C6C-B1D6-BADD7C35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1075-C642-43DD-9941-6E8ADCC9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EB76-7517-446F-91C3-9D8E2A59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39FB-FE7E-4866-9A4D-77A7029E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AE30-1DA9-49BF-941C-24C393C1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D281-037B-49F9-A061-BE7B84AF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6D90-5ED9-413B-94D3-753ACB6E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9EE9-A244-4E16-8552-6B2069A7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877D6-8D5D-40D2-BAF4-B4C42750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45B9D-E6A4-4F98-A56A-31C6793E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C52D6-38B4-4935-889F-CF0EDA5C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B98A5-41AF-4775-B0A8-0C01622D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36231-489B-4BBD-A023-225F3B88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82AD-613C-4999-8490-F75187BE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5D7ED-8BAB-450B-99A9-863A0090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7870C-A12B-4ECC-8CBE-D8BB488B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928A4-AF8C-4063-8BBF-C87AE01E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ACE63-43FE-4383-9F47-929D9E6F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B1DEB-F203-4E1B-9768-647BEB34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29A0A-B767-4CAD-B1F1-C78E3129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29DA9-FFE5-42B9-9A67-C2AB7CF8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721CF-B012-4C8B-93D9-17525FFD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587CB-5A11-4BA6-9E36-8E77A964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A876A-956C-4BB2-B95F-87E82827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C257-9F8E-46A6-A3E0-4B435767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C3C70-7464-43F6-ABC0-8F473D0D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C5B68-9977-439B-A9B0-DC5FFD7D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FC2FC-8D84-4186-ABB2-9BFD6A24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A486B-194E-400B-8FED-CB47011B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6E838-0DB5-4158-9905-08942304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A1DB2-F0CD-4350-A7A9-DD46E065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21E0E-F4EE-4299-B413-6769EE2E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FFD5A-BBDB-406E-A284-8BDBB016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4180C-BD6E-4E61-BA24-591C2E05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E8D4D-4C05-43E4-8582-F8A9B55C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47AD-0EDC-40B4-956A-2A15D38F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63E9E-E4EA-4917-ABF7-055D9F27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51CDA-AB51-497A-AD14-07D27934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E57DF-FE78-44B4-AF40-B2A0BF7A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36374-FCAA-4292-AC0F-786C8CB6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BCF64-AD49-444B-B593-953639BA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6EA89-5C1C-40E7-A306-9AF4BA8A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75D2E-D446-45F7-BCCF-241DE3F7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822D9-8233-4E84-8659-5A691B1B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D7643-DA73-4689-8163-77A40216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714F6-32B1-4179-B94E-E67F05FD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BE8-D9BB-43B5-BCDD-7951EDE9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5EDB8-F121-453A-AF6F-FE04204F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8C22-A174-4843-ABC6-681C875B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7A49-96C3-4EE9-A0AF-AB63CB85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82AF-9C01-42BB-9417-07675F3A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72DD-03C3-45FC-8178-C0E87A323AD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CB05-ABCF-49CF-9D3C-DB5E65819ED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8F94-AA84-4C86-854F-89837D8B858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EF33-FEB4-4AD2-BC30-03F776C1A35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5CF8-B38F-4AEB-8388-1FD4D1031BC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61760" y="4572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Что такое местоимени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723600" y="-579960"/>
            <a:ext cx="78966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c1c1d"/>
                </a:solidFill>
                <a:latin typeface="Times New Roman"/>
                <a:ea typeface="Calibri"/>
              </a:rPr>
              <a:t>Замени  имена существитель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c1c1d"/>
                </a:solidFill>
                <a:latin typeface="Times New Roman"/>
                <a:ea typeface="Calibri"/>
              </a:rPr>
              <a:t>местоимениями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тя -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орь -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но -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-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C:\Users\Rieltor-1\Desktop\62430453 - копия.jpg"/>
          <p:cNvPicPr/>
          <p:nvPr/>
        </p:nvPicPr>
        <p:blipFill>
          <a:blip r:embed="rId1"/>
          <a:stretch/>
        </p:blipFill>
        <p:spPr>
          <a:xfrm>
            <a:off x="4648320" y="1981080"/>
            <a:ext cx="38606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723600" y="-579960"/>
            <a:ext cx="78966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c1c1d"/>
                </a:solidFill>
                <a:latin typeface="Times New Roman"/>
                <a:ea typeface="Calibri"/>
              </a:rPr>
              <a:t>Замени  имена существитель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c1c1d"/>
                </a:solidFill>
                <a:latin typeface="Times New Roman"/>
                <a:ea typeface="Calibri"/>
              </a:rPr>
              <a:t>местоимениями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тя -  о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орь – о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но – о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– о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C:\Users\Rieltor-1\Desktop\62430453 - копия.jpg"/>
          <p:cNvPicPr/>
          <p:nvPr/>
        </p:nvPicPr>
        <p:blipFill>
          <a:blip r:embed="rId1"/>
          <a:stretch/>
        </p:blipFill>
        <p:spPr>
          <a:xfrm>
            <a:off x="4572000" y="1981080"/>
            <a:ext cx="38606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480" y="3805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50702"/>
                </a:solidFill>
                <a:latin typeface="Times New Roman"/>
                <a:ea typeface="Times New Roman"/>
              </a:rPr>
              <a:t>Вставь местоимения подходящие по смыслу. 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а,___пойдёшь гулять?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____будем играть?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на Ивановна, ______нам объясните урок?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9" name="Picture 4" descr="C:\Users\Rieltor-1\Desktop\podarki-uchitelyam.jpg"/>
          <p:cNvPicPr/>
          <p:nvPr/>
        </p:nvPicPr>
        <p:blipFill>
          <a:blip r:embed="rId1"/>
          <a:stretch/>
        </p:blipFill>
        <p:spPr>
          <a:xfrm>
            <a:off x="2743200" y="4572000"/>
            <a:ext cx="216072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480" y="3805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50702"/>
                </a:solidFill>
                <a:latin typeface="Times New Roman"/>
                <a:ea typeface="Times New Roman"/>
              </a:rPr>
              <a:t>Вставь местоимения подходящие по смыслу. 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а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ты 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йдёшь гулять?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 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дем играть?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на Ивановна,  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м объясните урок?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2" name="Picture 4" descr="C:\Users\Rieltor-1\Desktop\podarki-uchitelyam.jpg"/>
          <p:cNvPicPr/>
          <p:nvPr/>
        </p:nvPicPr>
        <p:blipFill>
          <a:blip r:embed="rId1"/>
          <a:stretch/>
        </p:blipFill>
        <p:spPr>
          <a:xfrm>
            <a:off x="2743200" y="4495680"/>
            <a:ext cx="216072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Игра «Найди лишнее!»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61760" y="1752480"/>
            <a:ext cx="74674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, они, на, ты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но, она, он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, Яна, ты, вы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, она, пою, оно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, по, вы, он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, она, они, око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5" name="Picture 4" descr="C:\Users\Rieltor-1\Desktop\c40068bf901774754ed737f543684c5e7b213906_original.png"/>
          <p:cNvPicPr/>
          <p:nvPr/>
        </p:nvPicPr>
        <p:blipFill>
          <a:blip r:embed="rId1"/>
          <a:stretch/>
        </p:blipFill>
        <p:spPr>
          <a:xfrm>
            <a:off x="380880" y="2362320"/>
            <a:ext cx="2590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4" descr=""/>
          <p:cNvPicPr/>
          <p:nvPr/>
        </p:nvPicPr>
        <p:blipFill>
          <a:blip r:embed="rId1"/>
          <a:stretch/>
        </p:blipFill>
        <p:spPr>
          <a:xfrm>
            <a:off x="685800" y="684360"/>
            <a:ext cx="1066680" cy="106524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6" descr=""/>
          <p:cNvPicPr/>
          <p:nvPr/>
        </p:nvPicPr>
        <p:blipFill>
          <a:blip r:embed="rId2"/>
          <a:stretch/>
        </p:blipFill>
        <p:spPr>
          <a:xfrm>
            <a:off x="674640" y="2819520"/>
            <a:ext cx="1077840" cy="10872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5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143000" cy="11523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4"/>
          <p:cNvSpPr/>
          <p:nvPr/>
        </p:nvSpPr>
        <p:spPr>
          <a:xfrm>
            <a:off x="2286000" y="533520"/>
            <a:ext cx="6324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понял,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такое местоим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могу это объяснить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дноклассни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понял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что  такое личные местоим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 не уверен,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что объясню друго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не совсем понял,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что такое личные местоим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"/>
          <p:cNvSpPr/>
          <p:nvPr/>
        </p:nvSpPr>
        <p:spPr>
          <a:xfrm>
            <a:off x="914400" y="19051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пасиб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за р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писок источников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Perpetua"/>
              </a:rPr>
              <a:t>1</a:t>
            </a: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. Канакина В.П. Русский язык. 2 класс: учеб. для общеобразоват. учреждений с приложением на электронном носителе. В 2 ч. Ч.2/В.П.Канакина, В.Г.Горецкий. – 2-е изд. – М.:Просвещение, 2012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2</a:t>
            </a:r>
            <a:r>
              <a:rPr b="0" lang="ru-RU" sz="1800" spc="-1" strike="noStrike" u="sng">
                <a:solidFill>
                  <a:srgbClr val="0070c0"/>
                </a:solidFill>
                <a:uFillTx/>
                <a:latin typeface="Cambria"/>
              </a:rPr>
              <a:t>. </a:t>
            </a:r>
            <a:r>
              <a:rPr b="1" lang="ru-RU" sz="1800" spc="-1" strike="noStrike" u="sng">
                <a:solidFill>
                  <a:srgbClr val="0070c0"/>
                </a:solidFill>
                <a:uFillTx/>
                <a:latin typeface="Cambria"/>
              </a:rPr>
              <a:t>http://smile.jaff.ru/emotion-smiles.htm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mbria"/>
              </a:rPr>
              <a:t>3</a:t>
            </a:r>
            <a:r>
              <a:rPr b="1" lang="ru-RU" sz="1600" spc="-1" strike="noStrike" u="sng">
                <a:solidFill>
                  <a:srgbClr val="0070c0"/>
                </a:solidFill>
                <a:uFillTx/>
                <a:latin typeface="Cambria"/>
              </a:rPr>
              <a:t>. http://nsportal.ru/detskii-sad/raznoe/shablony-dlya-izgotovleniya-prezentatsii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12-27T10:29:10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30000000000010243100207f6000400038000</vt:lpwstr>
  </property>
  <property fmtid="{D5CDD505-2E9C-101B-9397-08002B2CF9AE}" pid="3" name="Version">
    <vt:r8>1</vt:r8>
  </property>
</Properties>
</file>