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425-2ED0-452B-9E55-ED6CB1FF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D02-413E-47DD-9030-E5C48762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A40-3E2C-4500-81A4-F3A5C861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A42-B729-48BD-8B4F-2B50C955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273-4228-4985-95C8-E45C5C01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5D0C-7675-490E-AD6C-CE66CEF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5FB4-2BD8-47A0-A1BC-B5DD82FD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8745-CE54-464E-8ABC-A68AD781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8E1-8CDB-4A75-9277-2071CF6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7F04-0390-4C6B-B7C5-D49F34F2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955-1B23-4753-BB40-B344F9B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FE8-69FB-4374-A792-9E3755E8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28D-47CC-490D-9491-A5E1915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DA55-B4FA-4D24-B05A-97772063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32F6-CE50-4A6D-8CFE-9FA071B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5CD-486A-4D1B-B6DA-09DD36E6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A3A3-F9D1-4F90-BF55-E14A06C4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CE95-D770-4CB6-9BAB-ECA3FD8D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8CD6-3374-481D-97DD-148CBC55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B1FB-9171-4530-8DF0-AF2653D1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87CA-2845-4D7F-9503-B47CC84D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6EEA-3883-4611-83F4-D16388D2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CD4-ACDE-4758-B7F2-2C8BE5F6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B379-9CA6-4130-8871-90112F0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9E3C-3F3A-47E6-9CFE-8F1BDCB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E6CF-63DA-4D8B-A936-1DB157A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B796-1632-427B-9BCC-651361B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8583-9526-472F-9763-71EC1604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7178-EB4D-44BC-8407-6704A3C9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BC65-D28D-4CF3-8EE8-2AAC8A58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BCD0-61A9-4143-9DB3-D3835089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46C9-DE89-4598-A88D-D208E85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D04AF-1750-418B-9DE1-87BAC4E9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3AE-0E05-4CA0-827C-D9BF8B2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19F3-6273-49B4-9E47-4732C6C9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6661-4DDD-4D0B-8D8C-DA860E96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5382-A77F-4726-8D85-64AE10C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584E4-2206-4C34-A675-511A6D2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C918-9F1A-4134-9629-A1A14C6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3FFC-6ACF-431E-B3EF-62C7860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D447-0D23-48B5-B1A3-13FF327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BAB0-617E-42C3-935D-C24C412B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6486-0F1C-435A-9E85-5051E717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7703-E3A8-4296-B526-72465A55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F07-BF2F-4B20-B025-0BA5A987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CB6D-F7AC-472C-863E-63AE6C0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0DD3-1E96-4536-9D49-351928A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31DD-F87B-40BA-9124-8819B13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4A05-C7D4-46AE-8D00-EA0AD92B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5D48-1DE4-4C65-8593-39055EC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BD21-5E4E-4D63-93B9-DE595F8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F600-A33E-4345-B2BF-6BC5F4C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48428-B7A1-4AC2-BB71-C61A9AB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C207-BCD7-46F5-A8B2-1640A74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C05B-B27C-46FC-8B16-A02D27ED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ED5-285D-4266-B54C-FEF7D4B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640A-5B06-4384-A6BB-787D7830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F1E-2991-43BA-96AB-5ADD1E1A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F11-3C5B-48C1-B3BF-C1DEE8A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6B9-A05A-4CD6-85A9-A2EDF4C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E3DF-F9F4-4C77-93E7-F7C0CE460A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F1DD-F81E-41D2-AB6A-F2767B5FF2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953A-63C9-4B49-A38E-CADAF2808C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A4FE-62E4-4A4F-ADFC-823B73472D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C86-CAB5-4148-BADC-BD2E39F7E8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6176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Что такое местоим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723600" y="-579960"/>
            <a:ext cx="7896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Замени  имена существи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местоимениям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я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орь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но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-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C:\Users\Rieltor-1\Desktop\62430453 - копия.jpg"/>
          <p:cNvPicPr/>
          <p:nvPr/>
        </p:nvPicPr>
        <p:blipFill>
          <a:blip r:embed="rId1"/>
          <a:stretch/>
        </p:blipFill>
        <p:spPr>
          <a:xfrm>
            <a:off x="4648320" y="19810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23600" y="-579960"/>
            <a:ext cx="7896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Замени  имена существи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Times New Roman"/>
                <a:ea typeface="Calibri"/>
              </a:rPr>
              <a:t>местоимениям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я - 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орь – 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но – о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– о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C:\Users\Rieltor-1\Desktop\62430453 - копия.jpg"/>
          <p:cNvPicPr/>
          <p:nvPr/>
        </p:nvPicPr>
        <p:blipFill>
          <a:blip r:embed="rId1"/>
          <a:stretch/>
        </p:blipFill>
        <p:spPr>
          <a:xfrm>
            <a:off x="4572000" y="19810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480" y="3805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0702"/>
                </a:solidFill>
                <a:latin typeface="Times New Roman"/>
                <a:ea typeface="Times New Roman"/>
              </a:rPr>
              <a:t>Вставь местоимения подходящие по смыслу.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а,___пойдёшь гуля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____будем игра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Ивановна, ______нам объясните урок?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Picture 4" descr="C:\Users\Rieltor-1\Desktop\podarki-uchitelyam.jpg"/>
          <p:cNvPicPr/>
          <p:nvPr/>
        </p:nvPicPr>
        <p:blipFill>
          <a:blip r:embed="rId1"/>
          <a:stretch/>
        </p:blipFill>
        <p:spPr>
          <a:xfrm>
            <a:off x="2743200" y="4572000"/>
            <a:ext cx="2160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3805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0702"/>
                </a:solidFill>
                <a:latin typeface="Times New Roman"/>
                <a:ea typeface="Times New Roman"/>
              </a:rPr>
              <a:t>Вставь местоимения подходящие по смыслу.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а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ы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дёшь гуля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м играть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Ивановна,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объясните урок?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4" descr="C:\Users\Rieltor-1\Desktop\podarki-uchitelyam.jpg"/>
          <p:cNvPicPr/>
          <p:nvPr/>
        </p:nvPicPr>
        <p:blipFill>
          <a:blip r:embed="rId1"/>
          <a:stretch/>
        </p:blipFill>
        <p:spPr>
          <a:xfrm>
            <a:off x="2743200" y="4495680"/>
            <a:ext cx="2160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Игра «Найди лишнее!»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1760" y="175248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они, на, т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но, она, он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 Яна, ты, в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она, пою, он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 по, вы, он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она, они, ок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4" descr="C:\Users\Rieltor-1\Desktop\c40068bf901774754ed737f543684c5e7b213906_original.png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"/>
          <p:cNvPicPr/>
          <p:nvPr/>
        </p:nvPicPr>
        <p:blipFill>
          <a:blip r:embed="rId1"/>
          <a:stretch/>
        </p:blipFill>
        <p:spPr>
          <a:xfrm>
            <a:off x="685800" y="684360"/>
            <a:ext cx="1066680" cy="10652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"/>
          <p:cNvPicPr/>
          <p:nvPr/>
        </p:nvPicPr>
        <p:blipFill>
          <a:blip r:embed="rId2"/>
          <a:stretch/>
        </p:blipFill>
        <p:spPr>
          <a:xfrm>
            <a:off x="674640" y="2819520"/>
            <a:ext cx="1077840" cy="1087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43000" cy="11523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2286000" y="53352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нял,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местои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огу это объяснит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дноклассн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нял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 такое личные местои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не уверен,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 объясню друг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е совсем понял,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то такое личные местои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914400" y="1905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писок источников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Perpetua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. Канакина В.П. Русский язык. 2 класс: учеб. для общеобразоват. учреждений с приложением на электронном носителе. В 2 ч. Ч.2/В.П.Канакина, В.Г.Горецкий. – 2-е изд. – М.:Просвещение, 2012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Cambria"/>
              </a:rPr>
              <a:t>.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Cambria"/>
              </a:rPr>
              <a:t>http://smile.jaff.ru/emotion-smiles.htm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mbria"/>
              </a:rPr>
              <a:t>3</a:t>
            </a:r>
            <a:r>
              <a:rPr b="1" lang="ru-RU" sz="1600" spc="-1" strike="noStrike" u="sng">
                <a:solidFill>
                  <a:srgbClr val="0070c0"/>
                </a:solidFill>
                <a:uFillTx/>
                <a:latin typeface="Cambria"/>
              </a:rPr>
              <a:t>. http://nsportal.ru/detskii-sad/raznoe/shablony-dlya-izgotovleniya-prezentatsii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27T10:29:1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30000000000010243100207f6000400038000</vt:lpwstr>
  </property>
  <property fmtid="{D5CDD505-2E9C-101B-9397-08002B2CF9AE}" pid="3" name="Version">
    <vt:r8>1</vt:r8>
  </property>
</Properties>
</file>