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965-644E-497F-9B4D-80BDE4DE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EAF-EB31-4487-BE47-E0D1BBEA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1A1-7DA9-4C55-BDCC-F1344EB2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3FF-5CAD-4677-914B-4121D67B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8D5-FCED-4CCF-88D1-E4409B06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A9C-E43D-4B55-B61B-853A0246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E14-B957-409D-9FFF-B563A1FD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CE1-189D-4A8B-BC9B-4B881186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A78-384B-4DE1-B76C-67C4705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C1E-AF2A-4697-BEE1-7E40BBD9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96E-A21D-4E73-B55A-3D2339DC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AFF-6A27-47F8-971D-98214C9D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8F7D-1770-49D0-A8B4-9DABD62F19F3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95200" y="2059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униципальное   дошкольное образовательное учреждение «Детский сад №78» Энгельсского муниципального района Саратовской области</a:t>
            </a:r>
            <a:br>
              <a:rPr sz="3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8068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Технология продуктивного чтения-слушания. Алгоритм проектирования НОД  художественно эстетической деятельности в контексте реализации системно-деятельностного подх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рший 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сшей квалификацион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тегории Кузнецова Ел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ковл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драматизация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33360" y="1916280"/>
            <a:ext cx="667728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621360" y="189000"/>
            <a:ext cx="8168040" cy="45972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вление иллюстрации  и придумывание своего оконч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64000" y="1614600"/>
            <a:ext cx="3084840" cy="38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31687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179280" y="69840"/>
            <a:ext cx="877572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358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проектирования  восприятие художественной литературы и фольклора НОД «Наши книжки»: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2560" y="1052640"/>
            <a:ext cx="7566120" cy="58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едагог выбирает произведение (сказку, рассказ, стихотворе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ам предварительно читает и вычитывает 3 уровня текстовой информации: фактуальную (содержится в тексте в явном виде), подтекстовую (присутствует в тексте в неявном виде, «между строк») и концептуальную (основной смысл текст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Определяет художественную задачу текста(мотив, который побудил автора к написанию произведения, замысел авто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Формирует цель НОД  в соответствии с возрастом детей и художественной задачей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Формирует тему НОД(именно как тему, а не просто как название произведения), исходя из художественной         задачи текста и ц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87280" y="54000"/>
            <a:ext cx="829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Формирует задачи для каждого этапа деятельности; соотносит задачи с соответствующими образовательными област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Продумывает действия детей на каждом этапе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Прогнозирует цель, которую могут поставить де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Обдумывает работу с текстом до чт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Определяет в тексте места остано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Продумывает работу после чт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Формулирует вопросы рефлексивного этап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Продумывает перспективный эта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7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262626"/>
              </a:solidFill>
              <a:latin typeface="Calibri Light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9144000" cy="7496280"/>
        </p:xfrm>
        <a:graphic>
          <a:graphicData uri="http://schemas.openxmlformats.org/drawingml/2006/table">
            <a:tbl>
              <a:tblPr/>
              <a:tblGrid>
                <a:gridCol w="1763640"/>
                <a:gridCol w="3456000"/>
                <a:gridCol w="3924360"/>
              </a:tblGrid>
              <a:tr h="3049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раст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Н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9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едагога - конкретные локальные, а не  сквозные цели и задачи, которые будут иметь отношение только к конкретной теме конкретного дня. С позиций деятельностного подхода они не делятся на воспитательные и развивающие, так как результат планируется интегрированный. Задачи педагога начинаются с глаголов, которые раскрывают его педагогическую деятельность по организации Н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агаемая цель ребенка-внутренний побуждающий моти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Зачем? Ради чего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8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он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возникновения внутреннего побуждающего мотива к новой деятельности(срочно нуж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 откликаются (мы готов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оч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атруд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вопросов, подводящих ребёнка к осознанию или формулированию ц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ние затруднения, уточнение, формирование цели деятельности, подбор средств(мы знаем что дела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ски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саму деятельность. Формирует действия во взаимодействии, получение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 воображение, творческую активность, формирует умение сопережив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ого знания или умения, изменения правил, деятельность по новому. Озвучивание вывода и развивающее задание(это мы сделали, что нового узнали, чему научил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ует вопросы рефлексивного этапа, положительное отношение с совмес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«назад», выражение  эмоции по итогам деятельности. Указывают на трудности, что особенно понравило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ует детей на дальнейшее прогнозирование деятельности, применение полученных ум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на самостоятельную деятельность: предполагают, что можно сделать самостоятельно в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1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ение художественной литературы по программе «От рождения до школы»: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500120"/>
          <a:ext cx="9144000" cy="5364360"/>
        </p:xfrm>
        <a:graphic>
          <a:graphicData uri="http://schemas.openxmlformats.org/drawingml/2006/table">
            <a:tbl>
              <a:tblPr/>
              <a:tblGrid>
                <a:gridCol w="3570120"/>
                <a:gridCol w="5573880"/>
              </a:tblGrid>
              <a:tr h="40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Вводная бес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сосредоточить внимание детей, вызвать интерес к содержанию прои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Пояс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еливают детей на восприятие определенного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Чтение прои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установок на 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лостное восприятие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1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Работа над тек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ысление причинно-следственных взаимоотношений между персонажами (вопросы; показ иллюстраций; повторное чтение отдельных отрывков; объяснение отдельных выра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Чтение с установкой на вним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ое восприятие текста целиком или частично и его запоминание для дальнейшего пересказа  или обыгры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9200" y="1179360"/>
            <a:ext cx="8435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продуктивного чтения-слуш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й образовательной программы дошкольного образования «Детский сад 2100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»</a:t>
            </a:r>
            <a:r>
              <a:rPr b="0" i="1" lang="ru-RU" sz="2800" spc="-1" strike="noStrike">
                <a:solidFill>
                  <a:srgbClr val="000000"/>
                </a:solidFill>
                <a:latin typeface="Calibri Light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12880" y="278100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: восприятие текста на слух, его понимани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ство: особые приемы на каждом этапе чтения текс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-2293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262626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46080"/>
          <a:ext cx="9144000" cy="9372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4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73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Работа с текстом до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оложение о ком или о чем будем читать (по названию, рассматривание   обложки, иллюстраций; игровой ситуа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: прогнозирование и мотивация к ознакомлению с тек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4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Работа с текстом во время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с остановками; комментарий прочитанного; усиление эмоционального восприятия, задаем вопрос к автору, включение воображения детей, возможность домыслива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: вхождение в текст, включение эмоций, воображения, реакция на содержание, сопереживание геро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Работа с текстом после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 и задания для выявления первичного восприятия, обсуждение прочитанного, творческое задание(инсценировка,оживление иллюстрации; создание мультика; концовка по-своем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: эстетическое удовлетворение, понимание  смысла текста, выражение своего отношения к геро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1716120"/>
            <a:ext cx="5830920" cy="432432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2"/>
          <p:cNvSpPr/>
          <p:nvPr/>
        </p:nvSpPr>
        <p:spPr>
          <a:xfrm>
            <a:off x="1908000" y="104760"/>
            <a:ext cx="6588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258920" y="10476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обложки, иллюстраций; ответы на вопросы детей; прогнозирова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звать желание у детей ознакомится с текстом (зацепить, предвосхищ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2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 остановками; комментарий прочитанного; возможность домысливания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ойти в текст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1212840" y="2182680"/>
            <a:ext cx="67420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еседа о прочитанном, воспроизведение прочитанного с помощью заданий</a:t>
            </a:r>
            <a:br>
              <a:rPr sz="2500"/>
            </a:b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понимание детьми смысла текст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Рисунок 7" descr=""/>
          <p:cNvPicPr/>
          <p:nvPr/>
        </p:nvPicPr>
        <p:blipFill>
          <a:blip r:embed="rId1"/>
          <a:stretch/>
        </p:blipFill>
        <p:spPr>
          <a:xfrm>
            <a:off x="2236680" y="2276640"/>
            <a:ext cx="4886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ультфильм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00280" y="1844640"/>
            <a:ext cx="57657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" descr=""/>
          <p:cNvPicPr/>
          <p:nvPr/>
        </p:nvPicPr>
        <p:blipFill>
          <a:blip r:embed="rId1"/>
          <a:stretch/>
        </p:blipFill>
        <p:spPr>
          <a:xfrm>
            <a:off x="4270320" y="3579840"/>
            <a:ext cx="4694400" cy="3102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"/>
          <p:cNvPicPr/>
          <p:nvPr/>
        </p:nvPicPr>
        <p:blipFill>
          <a:blip r:embed="rId2"/>
          <a:stretch/>
        </p:blipFill>
        <p:spPr>
          <a:xfrm>
            <a:off x="195120" y="260280"/>
            <a:ext cx="4075200" cy="3573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3760" y="4935600"/>
            <a:ext cx="4835520" cy="45972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ленточного диафиль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5:54:17Z</dcterms:created>
  <dc:creator>Admin</dc:creator>
  <dc:description/>
  <dc:language>en-US</dc:language>
  <cp:lastModifiedBy>1</cp:lastModifiedBy>
  <dcterms:modified xsi:type="dcterms:W3CDTF">2018-12-27T19:52:33Z</dcterms:modified>
  <cp:revision>90</cp:revision>
  <dc:subject/>
  <dc:title>Слайд 1</dc:title>
</cp:coreProperties>
</file>