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6C4-9BC1-4E29-9A96-DE78A9C7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8D1-47C6-4B82-8054-24B4DFFB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35471-EB56-4F2D-8F10-13A136AB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7B321-CCAA-4F29-B164-822DC152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50DF8-96A1-4991-8505-D2508760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CF469-213D-4750-A394-4CEF91DD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B596F-67B3-434A-AAF6-9B99BAC6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69BBD-34F2-4843-A729-3947034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80AB2-159D-4963-BF48-5FB8283F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BB903-17B7-4DE7-AFB6-CF362E00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20A0E-00FC-42A1-B6FD-FEAFD9E9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823CE-1F03-4532-8F1A-421CE09B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C67-AE6A-415D-99F5-800B316B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C2C18-FCD2-430B-9A04-C1CECDB5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DFC9F-02FC-4E0F-954E-88E26C14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C4C39-6210-48CA-88CB-C4052128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33FEB-D1D1-4BB5-90BA-4115BCE9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DEF4E-0BCD-46AC-9267-1BEC1332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BB80E-646B-4384-9B8D-F1EB585D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2B94D-86C3-4EA4-9366-10E76C0B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B07C5-DB87-4578-B730-C2E5F9D8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CD3B7-74C2-43DB-AA41-93B46546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C7ADA-A7D7-4A02-A872-87365A1E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D2E-E1F5-468E-BDB4-C8A46B29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21F74-A260-4DDF-A748-6888C848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27D2B-C6B5-4761-A87B-06C90CDF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CC069-02E8-474A-8610-DAAAB1A4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81A04-99DC-4C62-8E53-7617724C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3499A-E670-40A8-B4BE-F475E7DB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21BA6-A13E-447A-8A9D-949B78F9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D88E0-67C5-458E-A38D-2953EE51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2A213-D4E2-4FED-83BE-03CA6A3C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1A76E-2278-45F8-87EF-C8D32295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08A2C-57AE-4F46-AEE1-1E30C4FC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0E10-9F90-4F13-A9BD-C59AE7DF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F1AA4-84C6-404E-814B-045C00F9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07920-015D-4383-BD94-32932A6B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6E496-CF94-4D02-83A4-994AFF1B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871F0-C6D5-41A4-BC41-7AB7B72B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DF3EA-17DD-419B-9BBD-881A047C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B7FB9-3802-41F5-B93D-44A32AA7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9D7F2-119B-4A44-9F4F-60208871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E8DCE-3E0C-439F-BAFF-FB9E2380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67541-A82B-4D61-9BBD-44482AA7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72DEB-52E8-4CE9-A677-3E549AFE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F584-8A48-4916-B980-314EAEC2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33543-A99A-4844-BFEE-3C68ECF7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129F2-1843-449A-8260-AB86844B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ED850-E7C9-4D51-89AD-A446F03A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A3DDA-CB79-4970-96B7-C40E8C2E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95F53-216B-4F7B-ACF8-C7A151DF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B2B90-A013-4E7C-B581-97578A51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AFEA8-2837-4815-BB44-3CD5318C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9FF59-35B3-4491-8A78-B5005C5D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C11F7-86BC-4622-BB37-04BD347E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5B8F7-EB9C-4B2D-AF52-6212C097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3F24-DCB5-4FAA-93D7-6A737CC7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FC944-47C3-4238-82D3-13A2F9B2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6AC03-614C-4362-8853-389C3077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CA6C8-0D3D-45B0-895B-D835FD52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5EA69-DE7B-4384-8CD1-6FFB2AD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BC541-8DFF-4D3D-A4FF-5CA62AF9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F4D47-47B1-44AC-A466-579754D0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25CB9-ABB9-400A-A112-46EABAF9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B672-50C6-406A-A66E-CC0864B0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0725-2497-4B36-A052-2CFF96BF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C81A-24BC-44F2-95D2-150136A7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2EDE-9561-4469-A634-FB528C18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3AD-414F-42AA-A089-B43E3714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7D50-C866-4664-94C9-FECEFFE8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C63E-7A78-4070-A417-2C76E457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9020-E9F0-4934-BF96-C59540CE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39A5-D736-4B36-B521-76B942C0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1955-D77F-4CEB-9916-56C0AC4D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24B4-9172-45C3-B823-0930523F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0916E-17DA-4BA4-87AC-15740B8D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A7F1-A98D-4370-A82A-46A12367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8B048-3421-4FD3-81EB-EB3DDCD9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75A9-220B-4997-8940-213EFEC3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370-AC6D-40B5-B204-DA0D4F1D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E701-5921-4027-BEC1-8D03E9C6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14785-3851-4848-9B7D-536C574A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3FDA8-71B1-4A16-B32E-BEA0876A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7319-554C-48EE-884D-C95F88A2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F370-FCFE-4EEE-902B-30497D2F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ADE5-B5DC-4CDB-AE01-7672FEA2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5B7C-2313-4CE4-B772-5A99625C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9D052-32CD-46A1-890E-05815571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7027-C991-4848-AE18-C72C531F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621F7-C244-4F73-8D0B-12198F44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2D8-2A50-4B04-8536-41CD3E27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2C8B-C258-4D88-A9C7-9395320A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B72A-88AB-4D0F-8303-93E5B30D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C56F-1ED7-43CC-B52F-05FA8434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92DD0-EC7F-45E2-AD58-094BFBAA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0380-071E-4A2B-BCAB-4D04C095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8E57B-F297-492F-AF51-4548776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76B73-11B5-444C-BAD4-CE9D5623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F60E5-EA21-48E3-AA03-D1A691DD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2E806-0B60-43BE-B4D1-E98D872E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AF5AC-1F2C-457C-86BE-22504EF3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4D8-92F1-406E-BAC5-65609AD9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0153F-EAB2-4C15-9A68-2BAAF4C9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ED5EC-048F-4CEA-A67C-16174A1D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9D5D-5518-494E-8405-28A41E4B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7B78-D784-4525-BC4F-055B2910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8CBF9-B8B6-407C-82FF-33222D87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3707D-7A0F-42BA-8FFE-3E2B6D84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1DBE7-8CAC-48F5-A9BC-0EBEE3A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F6796-08FA-434D-A6C9-C244D8F1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46656-7122-4E9E-8140-67B6F976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14A8-7B8A-4D60-95ED-7B9A9BD1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850-935C-4B15-A95A-F6AFB009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F849D-FB6F-4F42-9CD6-E1FB0368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174D-794D-4544-996E-220E4496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C59B8-5912-4D02-9CA8-D2BBC711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FA5CA-43AE-4E11-8EFD-31D7F699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E803A-8C76-4805-A4A5-9CC2A45D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C860B-1CB0-4BDB-9CD9-919AA649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ECEC0-2481-4DCB-A0A3-421A7AFF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7C6A7-FFBE-42D5-8F25-BD5B6B2A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3C136-B138-4694-81C8-3BC30A1E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B7076-3165-4A67-8687-4A27115E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ACB-1F3A-4937-A989-AD3B99D0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03AFC-CABA-43B4-89E9-44A80D1F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08FB9-4A8E-4777-87E9-A900E72B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7C06E-3BA4-48E6-820E-15DC7D93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E4FF2-C8D3-4A9E-9517-E4DF6A98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DC5BC-2C83-495C-A3A1-44010727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2C822-469E-4C41-BE92-C34D7480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2928D-A954-41F3-9423-9B772584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970C0-9864-4068-84A6-9F27A463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2EDC1-56DF-422B-A795-6BFEF744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1C16A-6461-42CF-BAC5-BA4CDF0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FC1-7B84-40F8-B16B-913530D0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25BAF-1430-4FA0-B3D1-D6273C7B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F0EB2-A40A-426E-976E-E5D047A7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EA89-4786-4E67-A77F-A71210E6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008C5-DF10-404C-80C8-6212A96C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EB544-F69B-4E3F-8164-5A088EB2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B98FA-8154-4A5E-A214-12CDC524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501A1-3F20-4070-BA38-1E8F98F9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1D0D-22AA-4953-B6E9-FA4B31AF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B7A3D-4DB6-4CA0-932F-F28CD99A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88F24-034E-4C97-882A-46D819FD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734-F72A-41E2-AB5F-A262F1F3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A0910-1E27-4D4D-9A4E-E00DBFEC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B0907-039B-485D-AACB-A9C54C2A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3EE3A-D197-438F-959C-E166BB10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0C739-DD72-4C03-ABB7-D1E165C0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CD3D0-FC83-4A81-B0C3-2B2B98ED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53A46-BD67-46B8-B1F1-4A9AC7B4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42B20-C8A9-4C06-8EE0-25B737B0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D167D-962C-42F9-8156-37689F43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6F3FE-F0FB-460F-ADFE-A23B8C47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60DEF-9FF4-4B4D-B91D-A5E4148B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10814B-7F81-436C-B07A-906D08BC79C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513F6B-D551-476A-BCD5-F63DAA62FAD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B33C17-1239-406A-AF7B-3BEE9728D04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3703C5-8F29-426C-9617-540A3842EE8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2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26E8B2-EFAD-42BA-84F9-31791C0C947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6CF3CF-E1F8-4B10-B5E0-597BB575054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9DEFF0-D196-4A8E-9D9B-A0AD14A70BA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C49EBC-8DA0-4D85-A2BC-D39831906F6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C0085C-8483-42FD-AB7F-529CEBD7ED4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A26D52-A4C1-4B95-8095-2049239AE0D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6A6E2F-321F-4F0F-8308-A93494A7D47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30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5708A0-1B12-412B-8DAC-DE2B937ADF3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37A134-E2C3-466E-B5B7-5019FB18A3B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Rectangle 1" descr=""/>
          <p:cNvPicPr/>
          <p:nvPr/>
        </p:nvPicPr>
        <p:blipFill>
          <a:blip r:embed="rId2"/>
          <a:stretch/>
        </p:blipFill>
        <p:spPr>
          <a:xfrm>
            <a:off x="347760" y="1695600"/>
            <a:ext cx="8040600" cy="1839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14400" y="0"/>
            <a:ext cx="9129600" cy="45086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"/>
          <p:cNvPicPr/>
          <p:nvPr/>
        </p:nvPicPr>
        <p:blipFill>
          <a:blip r:embed="rId3"/>
          <a:stretch/>
        </p:blipFill>
        <p:spPr>
          <a:xfrm>
            <a:off x="4427640" y="4437000"/>
            <a:ext cx="1903320" cy="2421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"/>
          <p:cNvPicPr/>
          <p:nvPr/>
        </p:nvPicPr>
        <p:blipFill>
          <a:blip r:embed="rId4"/>
          <a:stretch/>
        </p:blipFill>
        <p:spPr>
          <a:xfrm>
            <a:off x="7199280" y="4437000"/>
            <a:ext cx="1944720" cy="2421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"/>
          <p:cNvPicPr/>
          <p:nvPr/>
        </p:nvPicPr>
        <p:blipFill>
          <a:blip r:embed="rId5"/>
          <a:stretch/>
        </p:blipFill>
        <p:spPr>
          <a:xfrm>
            <a:off x="5940360" y="4437000"/>
            <a:ext cx="1295640" cy="2421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"/>
          <p:cNvPicPr/>
          <p:nvPr/>
        </p:nvPicPr>
        <p:blipFill>
          <a:blip r:embed="rId6"/>
          <a:stretch/>
        </p:blipFill>
        <p:spPr>
          <a:xfrm>
            <a:off x="2771640" y="4437000"/>
            <a:ext cx="1981440" cy="2421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"/>
          <p:cNvPicPr/>
          <p:nvPr/>
        </p:nvPicPr>
        <p:blipFill>
          <a:blip r:embed="rId7"/>
          <a:stretch/>
        </p:blipFill>
        <p:spPr>
          <a:xfrm>
            <a:off x="0" y="4508640"/>
            <a:ext cx="3059280" cy="2349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600" name="Rectangle 2" descr=""/>
          <p:cNvPicPr/>
          <p:nvPr/>
        </p:nvPicPr>
        <p:blipFill>
          <a:blip r:embed="rId3"/>
          <a:stretch/>
        </p:blipFill>
        <p:spPr>
          <a:xfrm>
            <a:off x="463680" y="212760"/>
            <a:ext cx="4473360" cy="178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" descr=""/>
          <p:cNvPicPr/>
          <p:nvPr/>
        </p:nvPicPr>
        <p:blipFill>
          <a:blip r:embed="rId2"/>
          <a:stretch/>
        </p:blipFill>
        <p:spPr>
          <a:xfrm>
            <a:off x="0" y="4262400"/>
            <a:ext cx="4067280" cy="25956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3995280" y="404280"/>
            <a:ext cx="53118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>
                <a:solidFill>
                  <a:srgbClr val="d788a3"/>
                </a:solidFill>
                <a:latin typeface="Trebuchet MS"/>
              </a:rPr>
              <a:t>Дезинфицирующие и чистящие средств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3" name="Picture 3" descr=""/>
          <p:cNvPicPr/>
          <p:nvPr/>
        </p:nvPicPr>
        <p:blipFill>
          <a:blip r:embed="rId3"/>
          <a:stretch/>
        </p:blipFill>
        <p:spPr>
          <a:xfrm>
            <a:off x="4211640" y="2354400"/>
            <a:ext cx="4932360" cy="4503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"/>
          <p:cNvPicPr/>
          <p:nvPr/>
        </p:nvPicPr>
        <p:blipFill>
          <a:blip r:embed="rId4"/>
          <a:stretch/>
        </p:blipFill>
        <p:spPr>
          <a:xfrm>
            <a:off x="0" y="2205000"/>
            <a:ext cx="4067280" cy="2060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" descr=""/>
          <p:cNvPicPr/>
          <p:nvPr/>
        </p:nvPicPr>
        <p:blipFill>
          <a:blip r:embed="rId5"/>
          <a:stretch/>
        </p:blipFill>
        <p:spPr>
          <a:xfrm>
            <a:off x="0" y="0"/>
            <a:ext cx="4067280" cy="2212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68360" y="105228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800" spc="-1" strike="noStrike">
                <a:solidFill>
                  <a:srgbClr val="d788a3"/>
                </a:solidFill>
                <a:latin typeface="Trebuchet MS"/>
              </a:rPr>
              <a:t>Спасибо за внимание!!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1"/>
          <p:cNvGrpSpPr/>
          <p:nvPr/>
        </p:nvGrpSpPr>
        <p:grpSpPr>
          <a:xfrm>
            <a:off x="582480" y="480960"/>
            <a:ext cx="7909200" cy="5585040"/>
            <a:chOff x="582480" y="480960"/>
            <a:chExt cx="7909200" cy="5585040"/>
          </a:xfrm>
        </p:grpSpPr>
        <p:sp>
          <p:nvSpPr>
            <p:cNvPr id="574" name="AutoShape 5"/>
            <p:cNvSpPr/>
            <p:nvPr/>
          </p:nvSpPr>
          <p:spPr>
            <a:xfrm>
              <a:off x="3351240" y="480960"/>
              <a:ext cx="2371680" cy="2233800"/>
            </a:xfrm>
            <a:prstGeom prst="roundRect">
              <a:avLst>
                <a:gd name="adj" fmla="val 16667"/>
              </a:avLst>
            </a:prstGeom>
            <a:solidFill>
              <a:srgbClr val="852f74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Уборк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AutoShape 6"/>
            <p:cNvSpPr/>
            <p:nvPr/>
          </p:nvSpPr>
          <p:spPr>
            <a:xfrm>
              <a:off x="582480" y="3832200"/>
              <a:ext cx="2371680" cy="2233800"/>
            </a:xfrm>
            <a:prstGeom prst="roundRect">
              <a:avLst>
                <a:gd name="adj" fmla="val 16667"/>
              </a:avLst>
            </a:prstGeom>
            <a:solidFill>
              <a:srgbClr val="852f74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Ежеднев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 сухая 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7"/>
            <p:cNvSpPr/>
            <p:nvPr/>
          </p:nvSpPr>
          <p:spPr>
            <a:xfrm>
              <a:off x="3351240" y="3832200"/>
              <a:ext cx="2371680" cy="2233800"/>
            </a:xfrm>
            <a:prstGeom prst="roundRect">
              <a:avLst>
                <a:gd name="adj" fmla="val 16667"/>
              </a:avLst>
            </a:prstGeom>
            <a:solidFill>
              <a:srgbClr val="852f74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Еженеде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влажная 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8"/>
            <p:cNvSpPr/>
            <p:nvPr/>
          </p:nvSpPr>
          <p:spPr>
            <a:xfrm>
              <a:off x="6119640" y="3832200"/>
              <a:ext cx="2372040" cy="2233800"/>
            </a:xfrm>
            <a:prstGeom prst="roundRect">
              <a:avLst>
                <a:gd name="adj" fmla="val 16667"/>
              </a:avLst>
            </a:prstGeom>
            <a:solidFill>
              <a:srgbClr val="852f74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Сезон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генеральная 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Rectangle 2" descr=""/>
          <p:cNvPicPr/>
          <p:nvPr/>
        </p:nvPicPr>
        <p:blipFill>
          <a:blip r:embed="rId2"/>
          <a:stretch/>
        </p:blipFill>
        <p:spPr>
          <a:xfrm>
            <a:off x="237960" y="378000"/>
            <a:ext cx="8455320" cy="13842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395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d788a3"/>
                </a:solidFill>
                <a:latin typeface="Trebuchet MS"/>
              </a:rPr>
              <a:t>Проветривани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d788a3"/>
                </a:solidFill>
                <a:latin typeface="Trebuchet MS"/>
              </a:rPr>
              <a:t>Уборка постел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d788a3"/>
                </a:solidFill>
                <a:latin typeface="Trebuchet MS"/>
              </a:rPr>
              <a:t>Протирание пыл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2"/>
          <a:stretch/>
        </p:blipFill>
        <p:spPr>
          <a:xfrm>
            <a:off x="3924360" y="0"/>
            <a:ext cx="4248000" cy="33577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"/>
          <p:cNvPicPr/>
          <p:nvPr/>
        </p:nvPicPr>
        <p:blipFill>
          <a:blip r:embed="rId3"/>
          <a:stretch/>
        </p:blipFill>
        <p:spPr>
          <a:xfrm>
            <a:off x="0" y="3357720"/>
            <a:ext cx="8172360" cy="3500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3924360" cy="3357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2"/>
          <a:stretch/>
        </p:blipFill>
        <p:spPr>
          <a:xfrm>
            <a:off x="249120" y="-6480"/>
            <a:ext cx="8456760" cy="1359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324000" y="19238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Удаление пыли с любой поверх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Протирка сантехники, мойка ванной и туалетных комнат, протирка кухонных гарнитур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Протирка коридоров, прихожих,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Мытье пол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Чистка ковров и всевозможных ковровых покрытий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Чистка мягкой  мебели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252720" y="5510160"/>
            <a:ext cx="5724360" cy="134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ec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79280" y="5486400"/>
            <a:ext cx="716436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25b00"/>
              </a:solidFill>
              <a:latin typeface="Trebuchet MS"/>
            </a:endParaRPr>
          </a:p>
        </p:txBody>
      </p:sp>
      <p:pic>
        <p:nvPicPr>
          <p:cNvPr id="588" name="Рисунок 5" descr="1_12326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Rectangle 1" descr=""/>
          <p:cNvPicPr/>
          <p:nvPr/>
        </p:nvPicPr>
        <p:blipFill>
          <a:blip r:embed="rId2"/>
          <a:stretch/>
        </p:blipFill>
        <p:spPr>
          <a:xfrm>
            <a:off x="195120" y="37800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d788a3"/>
                </a:solidFill>
                <a:latin typeface="Trebuchet MS"/>
              </a:rPr>
              <a:t>Удаление пыли мягкой тряпкой со стек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d788a3"/>
                </a:solidFill>
                <a:latin typeface="Trebuchet MS"/>
              </a:rPr>
              <a:t>Мытье рамы и подоконников теплой водой с моющим средство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d788a3"/>
                </a:solidFill>
                <a:latin typeface="Trebuchet MS"/>
              </a:rPr>
              <a:t>Мытье стекол специальным моющим средство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d788a3"/>
                </a:solidFill>
                <a:latin typeface="Trebuchet MS"/>
              </a:rPr>
              <a:t>Протирание стекол салфеткой из нетканых материал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Rectangle 2" descr=""/>
          <p:cNvPicPr/>
          <p:nvPr/>
        </p:nvPicPr>
        <p:blipFill>
          <a:blip r:embed="rId3"/>
          <a:stretch/>
        </p:blipFill>
        <p:spPr>
          <a:xfrm>
            <a:off x="-115920" y="255600"/>
            <a:ext cx="4145040" cy="1957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55:26Z</dcterms:created>
  <dc:creator>1</dc:creator>
  <dc:description/>
  <dc:language>en-US</dc:language>
  <cp:lastModifiedBy>Денис</cp:lastModifiedBy>
  <dcterms:modified xsi:type="dcterms:W3CDTF">2018-01-14T17:36:17Z</dcterms:modified>
  <cp:revision>13</cp:revision>
  <dc:subject/>
  <dc:title>Гигиена жилища</dc:title>
</cp:coreProperties>
</file>