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403-F9EE-4825-B2DD-3DCF6C98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203-4B08-4F73-99E1-C134A71B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4B8E0-D8A1-4D96-8BF2-00D32041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F9F2F-D892-4B00-88D7-20C34B37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F649E-1D68-4902-BD32-579E05AF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78459-5EF2-44E6-9BB9-D016321D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BC20D-1533-4C49-937E-544BEB21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36319-2627-4BB6-9547-CF8C7CFB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2E3E6-6B87-4E3E-A2E2-CA28CABD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8F237-1F90-4358-BF08-2386AC9F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CBBE9-F7EF-4FBF-A2CD-D2AFE1EA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4078A-576B-4C14-AC5E-F1063962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EBA-4E6F-4C8B-B4F9-58D5B561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497E7-2518-4E29-BCB9-E64E44B1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2F09F-32F6-4BD3-B24E-AA0565AD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02E4C-F54E-4DCC-A22A-11688676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4F3A7-F082-4010-874E-ACCD21CE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777EB-AA99-45A9-A56F-0EF14D24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713B0-6C12-4CA0-B977-B6FEE472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0ECE9-4666-46A3-B191-3B63DAC8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D79DF-BF91-4B4C-8A5E-82FBE826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FAD61-5FD7-4510-B3FE-D70A3ACE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4A03B-8385-4D2B-AA1A-D4525532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8AB-D759-490E-8D95-EBBF3BD1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BFF14-DD35-4A35-B56F-A43B8C2E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62238-6393-48FE-AB8C-34913F70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B0DDD-1673-4E7E-8E96-0C0BEEE9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E8ECB-CEF8-49A3-BB8A-D60109F4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E45AC-209A-496C-BF34-CF0D1B9D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83262-9FB0-4AEE-97D5-0CA58015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2C9FC-C272-4376-AE88-71FCB7FF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1EA85-9887-4D9C-9860-7CA995C2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691A4-EE37-456E-A822-005E6CD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1C970-257B-4740-8C07-C0D06B94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BC51-05B1-410E-BBC5-FC09ABF2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7CD47-DE0E-4A4F-96F8-C6DDA55B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5BD89-BE71-41B1-89B6-771E85AA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91A75-DA09-400A-88B4-57B7261F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9B6D3-6478-4DB3-90DF-CE46E18B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21A8D-DCE7-4237-BB99-A9B21DA7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D74B0-15F1-463A-B8CF-2C3EC7CE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B044B-8ADD-4336-AF30-50E63D89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76E66-5C30-4BC1-A56B-196387F1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5DDA9-1D92-4780-86AC-637A340D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7CE6A-2B58-487B-A0FF-182B52C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1C91-9871-48C1-88E6-83018F1E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5806D-454B-441C-974F-0F1CF063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19F92-3F94-4736-963E-5670B095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7BD00-55D3-4B7E-BC65-E8CC2C81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727BE-AD46-4FB3-A6B1-D8F3AD75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56FB5-74C0-449A-B8F2-AC6722AF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BC8F1-069B-4E3F-BB01-B4EAA507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523E0-9F80-4ACE-A26C-C3673A72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1DBF4-14D2-4D5B-AAF8-8AF0AEFF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D5560-7D9E-4200-A9AD-80C63DF4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DC09E-6A54-4734-AE76-5C29F726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6D28-CD8F-4F36-A6CF-B9090F4D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DB172-20DA-4BEB-B545-5839B8E6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5306F-CACE-4EF4-9B25-F51EAC78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09566-1A68-4546-B993-56D68604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CDD61-3D25-4059-A359-494B0F2B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D98F4-C5A3-4FE6-906A-A1127499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14D8F-3C62-43BC-B152-96530AD2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9410D-5814-4AF5-BB73-32BBB8D5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08C4-6BC7-48A1-994C-A583CD63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24B1-B5A6-4738-A9D1-D80A311B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A7E2-E644-4E72-8058-D1945AB1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B9CE-8204-494F-BEAC-1651603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E95-A4C2-4FDD-A621-ED5DE127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7CE8-329C-442B-8530-47D1CE1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8391-5252-4370-A969-8F1E3151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4A53-CE4D-4FFB-B4B3-0969E0CA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E61E-29A7-437B-8F04-A711E353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F374-DD7D-44F3-9C23-0F89E362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544F-6936-48E4-B4A7-802B5B63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C02EA-277C-4B77-8A46-A4B73F6B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12095-844F-43D1-A68F-60CC66F3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0412B-9E16-4480-876A-D0715498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4C28-F4CD-4854-87A2-67D312F2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138-3605-4F2E-A395-349829ED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8E0E-054E-4017-9DA3-7FB53BF3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F31D6-3CED-42B6-98B7-A547ADD0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69EF-9359-4F7F-8AAB-727A6AFB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DC7B-EA01-4C26-9E6E-E4C3AC3D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E7CB-1B1E-4C33-BC53-1161633C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6EF6-0A3B-46BE-AA91-0418AA76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375A-A927-4536-9511-4550220C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BEF0F-DC3A-4434-BBEC-1506EA41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0D184-F8AE-4846-9E1B-022728C0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D64C-7C2B-4F95-9F31-1E57DA56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FE9-1A64-4A80-A691-985223C3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08B92-AC4E-4A67-97FC-A27EE082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8B468-8546-4261-A2F2-5784C9CA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10BA-10B0-4F66-8FEA-2D57AB41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635BF-AD92-4F97-AB07-2163BE87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118AC-BDF9-49DF-B315-19EA67E0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4388-D372-4B6E-8C58-37BA896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5AE5-98C5-4770-9A4A-B559933B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CCFD-E2D7-456B-B676-D4C772BA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29F0-B4BE-4746-8CAE-B6BB3EB0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AC524-7808-4F23-8239-6ABACAD2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31D-0BEF-4D2C-B0BE-858A01EB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FCEA3-F798-460C-92A8-CDE0B367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4EC72-1497-4DDC-95F5-4EC16D56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3AD21-D34F-489D-8CF4-A85327AE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4AE7C-3F10-4ABC-9F0A-97E23A22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D3166-3F03-4F6A-A358-4A700BA3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2E250-8510-4270-A735-5E2B54E0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01C3F-4D4F-4AB6-8169-BAD47CC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017E0-504A-4303-B7FE-8EC053DC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91AA4-4A05-4DB2-9EE2-F1F05B53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72FEB-1B16-439C-A0DF-D0896D33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201-5FEF-42A0-BDAE-B20EA348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F6764-C037-466C-9CBF-105753E9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765BD-00F4-46B4-AC8D-210AE59F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34AE7-1AFA-4DCB-B860-3DD1CE17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F3CCA-C21C-4813-8063-0F4D53A8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22A97-EFB0-44D1-9B5E-01526CD0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8F44A-AAF0-4DFD-B2BF-F4EDB452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061B7-1151-46D8-8AAB-F953E7B3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17A47-03FF-46F2-ACC6-AC79AE3C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BECB2-3D51-4171-8860-1EAF9E53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E6082-CB84-4FE1-AA6D-8F3A5774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BB4-A820-4A66-A17C-BCB5B00E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8A16E-C63D-4249-BC2D-B1B61C3E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3A60B-1054-4071-9E18-02FF58C7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24586-A152-4206-8B08-BD21804A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F42EA-6C83-4B24-8AD9-02F53541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57A06-11F4-46AA-95AD-17CA4620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E4A31-413C-49C0-863D-623EADA1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F1A4F-A526-4F16-9976-C1A48989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9455A-0C78-4B4F-BE10-446A6D43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F5716-B58B-425F-8212-C40EC8D7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D5AEB-9E50-4403-9E7B-2E2D20C5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C17-2E38-468F-A04B-3281DEE9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1C93F-B319-4A14-85FA-D329543E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38624-CDEB-46C5-8519-17824D94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1B848-C240-4235-96F9-C2CD8791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EA981-A38C-4ED7-B7E7-0EB3B055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2A098-74D4-4186-9C28-1B666DBA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5A9A7-62C5-473D-8B7B-09EE4170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6BF40-31CC-4735-8E70-331F9756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5CF70-10FF-4618-9D24-F2850926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8E369-3B2C-4C28-94C2-6CA0D728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7303B-14A0-439A-A927-E91BAE1A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EF5-A34E-4FB0-A036-D7902163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C7A85-D97A-47DE-92C8-342D04E7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33A1C-281F-4A6D-BE6D-B3FDAB75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78E0C-DB95-4B38-9832-B2FD485F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0B8BA-7FE6-4F4E-84C6-98EDB08D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DD1FF-0414-4B1E-B2AA-628C78AA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8B9A3-5B3A-4772-B704-AB1BB8D6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E6433-F231-4DFB-9008-D055C6D4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02E4C-A696-47F5-8B6B-AEB2C984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7D81F-6D63-4D36-AABC-4B55EB1E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ED35A-96D8-4E79-A176-E5F6BF1F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497340-958F-46AF-851A-6BF59D3DA20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EDFC3D-EBB0-4B77-B169-1FC474AFE2C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172095-2849-421C-81D6-47B9A0F0ECF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8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D6D4ED-9EFD-4867-8F5C-00B4BF807D9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2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CFE375-B344-46F4-B0E5-E8A6F46809A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37CDE3-84E9-4D86-914D-2003CDE204C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B8C7A6-EA8D-4F12-B47B-EF8F8317792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F765B8-20DE-404E-91A7-21AAC29684E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5A2E9E-E2A0-4508-9375-E539A83EFC0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CBD953-6FB6-424C-B078-351FFE93788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61251B-8B3F-49FF-BC22-650801196C6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30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433729-63EE-4D60-A939-9ED98CC1CD4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AC22D7-5710-497A-8E75-32BEE9A0822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Rectangle 1" descr=""/>
          <p:cNvPicPr/>
          <p:nvPr/>
        </p:nvPicPr>
        <p:blipFill>
          <a:blip r:embed="rId2"/>
          <a:stretch/>
        </p:blipFill>
        <p:spPr>
          <a:xfrm>
            <a:off x="347760" y="1695600"/>
            <a:ext cx="8040600" cy="1839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14400" y="0"/>
            <a:ext cx="9129600" cy="45086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" descr=""/>
          <p:cNvPicPr/>
          <p:nvPr/>
        </p:nvPicPr>
        <p:blipFill>
          <a:blip r:embed="rId3"/>
          <a:stretch/>
        </p:blipFill>
        <p:spPr>
          <a:xfrm>
            <a:off x="4427640" y="4437000"/>
            <a:ext cx="1903320" cy="2421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"/>
          <p:cNvPicPr/>
          <p:nvPr/>
        </p:nvPicPr>
        <p:blipFill>
          <a:blip r:embed="rId4"/>
          <a:stretch/>
        </p:blipFill>
        <p:spPr>
          <a:xfrm>
            <a:off x="7199280" y="4437000"/>
            <a:ext cx="1944720" cy="2421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"/>
          <p:cNvPicPr/>
          <p:nvPr/>
        </p:nvPicPr>
        <p:blipFill>
          <a:blip r:embed="rId5"/>
          <a:stretch/>
        </p:blipFill>
        <p:spPr>
          <a:xfrm>
            <a:off x="5940360" y="4437000"/>
            <a:ext cx="1295640" cy="2421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"/>
          <p:cNvPicPr/>
          <p:nvPr/>
        </p:nvPicPr>
        <p:blipFill>
          <a:blip r:embed="rId6"/>
          <a:stretch/>
        </p:blipFill>
        <p:spPr>
          <a:xfrm>
            <a:off x="2771640" y="4437000"/>
            <a:ext cx="1981440" cy="2421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"/>
          <p:cNvPicPr/>
          <p:nvPr/>
        </p:nvPicPr>
        <p:blipFill>
          <a:blip r:embed="rId7"/>
          <a:stretch/>
        </p:blipFill>
        <p:spPr>
          <a:xfrm>
            <a:off x="0" y="4508640"/>
            <a:ext cx="3059280" cy="2349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600" name="Rectangle 2" descr=""/>
          <p:cNvPicPr/>
          <p:nvPr/>
        </p:nvPicPr>
        <p:blipFill>
          <a:blip r:embed="rId3"/>
          <a:stretch/>
        </p:blipFill>
        <p:spPr>
          <a:xfrm>
            <a:off x="463680" y="212760"/>
            <a:ext cx="4473360" cy="178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1" descr=""/>
          <p:cNvPicPr/>
          <p:nvPr/>
        </p:nvPicPr>
        <p:blipFill>
          <a:blip r:embed="rId2"/>
          <a:stretch/>
        </p:blipFill>
        <p:spPr>
          <a:xfrm>
            <a:off x="0" y="4262400"/>
            <a:ext cx="4067280" cy="25956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3995280" y="404280"/>
            <a:ext cx="53118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>
                <a:solidFill>
                  <a:srgbClr val="d788a3"/>
                </a:solidFill>
                <a:latin typeface="Trebuchet MS"/>
              </a:rPr>
              <a:t>Дезинфицирующие и чистящие средств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3" name="Picture 3" descr=""/>
          <p:cNvPicPr/>
          <p:nvPr/>
        </p:nvPicPr>
        <p:blipFill>
          <a:blip r:embed="rId3"/>
          <a:stretch/>
        </p:blipFill>
        <p:spPr>
          <a:xfrm>
            <a:off x="4211640" y="2354400"/>
            <a:ext cx="4932360" cy="4503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"/>
          <p:cNvPicPr/>
          <p:nvPr/>
        </p:nvPicPr>
        <p:blipFill>
          <a:blip r:embed="rId4"/>
          <a:stretch/>
        </p:blipFill>
        <p:spPr>
          <a:xfrm>
            <a:off x="0" y="2205000"/>
            <a:ext cx="4067280" cy="2060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5" descr=""/>
          <p:cNvPicPr/>
          <p:nvPr/>
        </p:nvPicPr>
        <p:blipFill>
          <a:blip r:embed="rId5"/>
          <a:stretch/>
        </p:blipFill>
        <p:spPr>
          <a:xfrm>
            <a:off x="0" y="0"/>
            <a:ext cx="4067280" cy="2212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68360" y="105228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800" spc="-1" strike="noStrike">
                <a:solidFill>
                  <a:srgbClr val="d788a3"/>
                </a:solidFill>
                <a:latin typeface="Trebuchet MS"/>
              </a:rPr>
              <a:t>Спасибо за внимание!!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1"/>
          <p:cNvGrpSpPr/>
          <p:nvPr/>
        </p:nvGrpSpPr>
        <p:grpSpPr>
          <a:xfrm>
            <a:off x="582480" y="480960"/>
            <a:ext cx="7909200" cy="5585040"/>
            <a:chOff x="582480" y="480960"/>
            <a:chExt cx="7909200" cy="5585040"/>
          </a:xfrm>
        </p:grpSpPr>
        <p:sp>
          <p:nvSpPr>
            <p:cNvPr id="574" name="AutoShape 5"/>
            <p:cNvSpPr/>
            <p:nvPr/>
          </p:nvSpPr>
          <p:spPr>
            <a:xfrm>
              <a:off x="3351240" y="480960"/>
              <a:ext cx="2371680" cy="2233800"/>
            </a:xfrm>
            <a:prstGeom prst="roundRect">
              <a:avLst>
                <a:gd name="adj" fmla="val 16667"/>
              </a:avLst>
            </a:prstGeom>
            <a:solidFill>
              <a:srgbClr val="852f74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Уборк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AutoShape 6"/>
            <p:cNvSpPr/>
            <p:nvPr/>
          </p:nvSpPr>
          <p:spPr>
            <a:xfrm>
              <a:off x="582480" y="3832200"/>
              <a:ext cx="2371680" cy="2233800"/>
            </a:xfrm>
            <a:prstGeom prst="roundRect">
              <a:avLst>
                <a:gd name="adj" fmla="val 16667"/>
              </a:avLst>
            </a:prstGeom>
            <a:solidFill>
              <a:srgbClr val="852f74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Ежеднев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 сухая 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7"/>
            <p:cNvSpPr/>
            <p:nvPr/>
          </p:nvSpPr>
          <p:spPr>
            <a:xfrm>
              <a:off x="3351240" y="3832200"/>
              <a:ext cx="2371680" cy="2233800"/>
            </a:xfrm>
            <a:prstGeom prst="roundRect">
              <a:avLst>
                <a:gd name="adj" fmla="val 16667"/>
              </a:avLst>
            </a:prstGeom>
            <a:solidFill>
              <a:srgbClr val="852f74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Еженеде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влажная 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8"/>
            <p:cNvSpPr/>
            <p:nvPr/>
          </p:nvSpPr>
          <p:spPr>
            <a:xfrm>
              <a:off x="6119640" y="3832200"/>
              <a:ext cx="2372040" cy="2233800"/>
            </a:xfrm>
            <a:prstGeom prst="roundRect">
              <a:avLst>
                <a:gd name="adj" fmla="val 16667"/>
              </a:avLst>
            </a:prstGeom>
            <a:solidFill>
              <a:srgbClr val="852f74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Сезон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генеральная 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Rectangle 2" descr=""/>
          <p:cNvPicPr/>
          <p:nvPr/>
        </p:nvPicPr>
        <p:blipFill>
          <a:blip r:embed="rId2"/>
          <a:stretch/>
        </p:blipFill>
        <p:spPr>
          <a:xfrm>
            <a:off x="237960" y="378000"/>
            <a:ext cx="8455320" cy="13842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395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d788a3"/>
                </a:solidFill>
                <a:latin typeface="Trebuchet MS"/>
              </a:rPr>
              <a:t>Проветривани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d788a3"/>
                </a:solidFill>
                <a:latin typeface="Trebuchet MS"/>
              </a:rPr>
              <a:t>Уборка постел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d788a3"/>
                </a:solidFill>
                <a:latin typeface="Trebuchet MS"/>
              </a:rPr>
              <a:t>Протирание пыл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2"/>
          <a:stretch/>
        </p:blipFill>
        <p:spPr>
          <a:xfrm>
            <a:off x="3924360" y="0"/>
            <a:ext cx="4248000" cy="33577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"/>
          <p:cNvPicPr/>
          <p:nvPr/>
        </p:nvPicPr>
        <p:blipFill>
          <a:blip r:embed="rId3"/>
          <a:stretch/>
        </p:blipFill>
        <p:spPr>
          <a:xfrm>
            <a:off x="0" y="3357720"/>
            <a:ext cx="8172360" cy="3500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3924360" cy="3357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2"/>
          <a:stretch/>
        </p:blipFill>
        <p:spPr>
          <a:xfrm>
            <a:off x="249120" y="-6480"/>
            <a:ext cx="8456760" cy="1359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324000" y="19238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d788a3"/>
                </a:solidFill>
                <a:latin typeface="Trebuchet MS"/>
              </a:rPr>
              <a:t>Удаление пыли с любой поверх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d788a3"/>
                </a:solidFill>
                <a:latin typeface="Trebuchet MS"/>
              </a:rPr>
              <a:t>Протирка сантехники, мойка ванной и туалетных комнат, протирка кухонных гарнитур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d788a3"/>
                </a:solidFill>
                <a:latin typeface="Trebuchet MS"/>
              </a:rPr>
              <a:t>Протирка коридоров, прихожих,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d788a3"/>
                </a:solidFill>
                <a:latin typeface="Trebuchet MS"/>
              </a:rPr>
              <a:t>Мытье пол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d788a3"/>
                </a:solidFill>
                <a:latin typeface="Trebuchet MS"/>
              </a:rPr>
              <a:t>Чистка ковров и всевозможных ковровых покрытий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d788a3"/>
                </a:solidFill>
                <a:latin typeface="Trebuchet MS"/>
              </a:rPr>
              <a:t>Чистка мягкой  мебели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252720" y="5510160"/>
            <a:ext cx="5724360" cy="134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ec000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79280" y="5486400"/>
            <a:ext cx="716436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25b00"/>
              </a:solidFill>
              <a:latin typeface="Trebuchet MS"/>
            </a:endParaRPr>
          </a:p>
        </p:txBody>
      </p:sp>
      <p:pic>
        <p:nvPicPr>
          <p:cNvPr id="588" name="Рисунок 5" descr="1_12326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Rectangle 1" descr=""/>
          <p:cNvPicPr/>
          <p:nvPr/>
        </p:nvPicPr>
        <p:blipFill>
          <a:blip r:embed="rId2"/>
          <a:stretch/>
        </p:blipFill>
        <p:spPr>
          <a:xfrm>
            <a:off x="195120" y="37800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d788a3"/>
                </a:solidFill>
                <a:latin typeface="Trebuchet MS"/>
              </a:rPr>
              <a:t>Удаление пыли мягкой тряпкой со стек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d788a3"/>
                </a:solidFill>
                <a:latin typeface="Trebuchet MS"/>
              </a:rPr>
              <a:t>Мытье рамы и подоконников теплой водой с моющим средство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d788a3"/>
                </a:solidFill>
                <a:latin typeface="Trebuchet MS"/>
              </a:rPr>
              <a:t>Мытье стекол специальным моющим средство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d788a3"/>
                </a:solidFill>
                <a:latin typeface="Trebuchet MS"/>
              </a:rPr>
              <a:t>Протирание стекол салфеткой из нетканых материал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Rectangle 2" descr=""/>
          <p:cNvPicPr/>
          <p:nvPr/>
        </p:nvPicPr>
        <p:blipFill>
          <a:blip r:embed="rId3"/>
          <a:stretch/>
        </p:blipFill>
        <p:spPr>
          <a:xfrm>
            <a:off x="-115920" y="255600"/>
            <a:ext cx="4145040" cy="1957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55:26Z</dcterms:created>
  <dc:creator>1</dc:creator>
  <dc:description/>
  <dc:language>en-US</dc:language>
  <cp:lastModifiedBy>Денис</cp:lastModifiedBy>
  <dcterms:modified xsi:type="dcterms:W3CDTF">2018-01-14T17:36:17Z</dcterms:modified>
  <cp:revision>13</cp:revision>
  <dc:subject/>
  <dc:title>Гигиена жилища</dc:title>
</cp:coreProperties>
</file>