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3EBC-85A0-42AB-B07E-35CC06351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E39B-F852-4017-A773-79ECFC13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0E36-D07C-4983-B02D-3D5098C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A424-47AF-4929-BF8F-E81A31819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454B-A009-4E81-9878-11D6765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63DB-3DF0-4289-8EFA-19BA3EFA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981D-A489-49B4-947D-9908C55A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F5BC-8B1C-435B-B0E1-C41BF21F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37F9-6B5F-494A-AF6B-685D2062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7551-2C68-4044-82D1-7F81FB47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CEB0-33B8-40B4-A0EF-D01702F6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3653-712C-400E-A2B6-08252D15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9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51BA0-2CE1-4AF1-ABD7-FC315475AB6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285840"/>
            <a:ext cx="328284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8320" y="1357200"/>
            <a:ext cx="617580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« Характеристи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уч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стежк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29200" y="3071880"/>
            <a:ext cx="2946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96920" y="357120"/>
            <a:ext cx="52372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ель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3254400" cy="400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4880" y="1285920"/>
            <a:ext cx="4562280" cy="371484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75" name=""/>
          <p:cNvSpPr/>
          <p:nvPr/>
        </p:nvSpPr>
        <p:spPr>
          <a:xfrm>
            <a:off x="743400" y="5429160"/>
            <a:ext cx="7581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охраняют срезы от осып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2080" y="214200"/>
            <a:ext cx="6617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тежки для приш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урни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7120" y="2340000"/>
            <a:ext cx="4124520" cy="28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иточные пе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78656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62080" y="214200"/>
            <a:ext cx="6617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тежки для приш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урни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040" y="3857760"/>
            <a:ext cx="8319960" cy="28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шивание пуговиц и крюч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61437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22640" y="142920"/>
            <a:ext cx="6319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леобраз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67360" y="2428920"/>
            <a:ext cx="3527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тай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шив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4441680" cy="42861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22640" y="142920"/>
            <a:ext cx="6319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леобраз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1500120"/>
            <a:ext cx="71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55760" y="1428840"/>
            <a:ext cx="329544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мёт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пуш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7840" y="2714760"/>
            <a:ext cx="36860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142920"/>
            <a:ext cx="65386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рестообраз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878280" cy="3071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43240" y="2000160"/>
            <a:ext cx="46832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0" y="285840"/>
            <a:ext cx="8596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лементы ниточных соед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480" y="2071800"/>
            <a:ext cx="2430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ежо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00680" y="1214280"/>
            <a:ext cx="3071520" cy="282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2920" y="4214880"/>
            <a:ext cx="878688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жо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элемент структуры, полученный при переплетении ниток между двумя проколами тка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6720" y="357120"/>
            <a:ext cx="8547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лементы ниточных соед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8800" y="2143080"/>
            <a:ext cx="24926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роч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3000" y="4500720"/>
            <a:ext cx="764820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оч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последователь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яд стеж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0280" y="1500120"/>
            <a:ext cx="4637160" cy="2857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0" y="214200"/>
            <a:ext cx="8596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лементы ниточных соед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7720" y="1785960"/>
            <a:ext cx="13921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080" y="4000680"/>
            <a:ext cx="72792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соединение двух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скольких слоёв матери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оч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00280" y="1000080"/>
            <a:ext cx="48657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7120" y="214200"/>
            <a:ext cx="857088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чные стежки по своему назначению подразделяются 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я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с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тлеобраз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естообраз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ежки для пришивания фурни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20840" y="285840"/>
            <a:ext cx="4786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ямые стеж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14920" y="1285920"/>
            <a:ext cx="3825720" cy="471492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1073160" y="1785960"/>
            <a:ext cx="3015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ёточ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4214880"/>
            <a:ext cx="41047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ль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95520" y="285840"/>
            <a:ext cx="40669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осые стеж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2928960" cy="394308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63" name=""/>
          <p:cNvSpPr/>
          <p:nvPr/>
        </p:nvSpPr>
        <p:spPr>
          <a:xfrm>
            <a:off x="790560" y="5357880"/>
            <a:ext cx="3106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мет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3680" y="5357880"/>
            <a:ext cx="30502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мёт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006800" cy="371484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95520" y="285840"/>
            <a:ext cx="40669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осые стеж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4103640" cy="407196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68" name=""/>
          <p:cNvSpPr/>
          <p:nvPr/>
        </p:nvSpPr>
        <p:spPr>
          <a:xfrm>
            <a:off x="5068800" y="1285920"/>
            <a:ext cx="363240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мёт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шив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ёга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туково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96920" y="357120"/>
            <a:ext cx="52372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ельные ст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3400" y="5429160"/>
            <a:ext cx="7581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едохраняют срезы от осып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4954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