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788BC-BC14-4B32-B6C9-A4F1263594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F7F5-59C4-42EC-9097-851E4505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596E-F0B6-4FF1-8ABD-287638BD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9FDA-1FEC-4042-9C70-CD241C1B4C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8690-7897-4F69-9B1F-5886F573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54DA-6D51-4118-939E-20E3D337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2096-1958-4CC2-9E50-32170B79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298B-62E5-47AD-AE37-CE54A76F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46BA-0BB8-4B5B-AEFB-208BABA0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45E4-30C0-41D3-AF20-0852AF0A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32E4-A8F8-4F11-9ECC-9AE61F3F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2CFD1-DDF7-4170-970E-AF92BA0D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480" cy="390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.9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0480" cy="390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58ACF-7DD4-4D97-A336-8B6449E2A38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680" y="285840"/>
            <a:ext cx="328284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8320" y="1357200"/>
            <a:ext cx="617580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« Характеристи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уч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стежко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29200" y="3071880"/>
            <a:ext cx="2946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96920" y="357120"/>
            <a:ext cx="52372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етельные сте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3254400" cy="4000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14880" y="1285920"/>
            <a:ext cx="4562280" cy="371484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sp>
        <p:nvSpPr>
          <p:cNvPr id="75" name=""/>
          <p:cNvSpPr/>
          <p:nvPr/>
        </p:nvSpPr>
        <p:spPr>
          <a:xfrm>
            <a:off x="743400" y="5429160"/>
            <a:ext cx="7581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едохраняют срезы от осып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2080" y="214200"/>
            <a:ext cx="66178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тежки для приш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урни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37120" y="2340000"/>
            <a:ext cx="4124520" cy="28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ре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иточные пет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478656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62080" y="214200"/>
            <a:ext cx="66178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тежки для приш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урни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040" y="3857760"/>
            <a:ext cx="8319960" cy="28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шивание пуговиц и крюч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14280" y="2214720"/>
            <a:ext cx="614376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22640" y="142920"/>
            <a:ext cx="6319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етлеобразные сте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67360" y="2428920"/>
            <a:ext cx="3527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тай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шив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4441680" cy="428616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22640" y="142920"/>
            <a:ext cx="6319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етлеобразные сте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28920" y="1500120"/>
            <a:ext cx="71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55760" y="1428840"/>
            <a:ext cx="329544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мёт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пуш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57840" y="2714760"/>
            <a:ext cx="36860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3840" y="142920"/>
            <a:ext cx="65386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рестообразные сте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878280" cy="3071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143240" y="2000160"/>
            <a:ext cx="468324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00" y="285840"/>
            <a:ext cx="8596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лементы ниточных соеди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84480" y="2071800"/>
            <a:ext cx="24300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тежок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00680" y="1214280"/>
            <a:ext cx="3071520" cy="2829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2920" y="4214880"/>
            <a:ext cx="878688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ежо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это элемент структуры, полученный при переплетении ниток между двумя проколами тка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6720" y="357120"/>
            <a:ext cx="85474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лементы ниточных соед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8800" y="2143080"/>
            <a:ext cx="24926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троч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3000" y="4500720"/>
            <a:ext cx="764820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роч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это последователь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яд стеж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00280" y="1500120"/>
            <a:ext cx="4637160" cy="2857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9200" y="214200"/>
            <a:ext cx="8596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лементы ниточных соеди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7720" y="1785960"/>
            <a:ext cx="13921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Ш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080" y="4000680"/>
            <a:ext cx="727920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Ш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это соединение двух 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скольких слоёв материа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роч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00280" y="1000080"/>
            <a:ext cx="48657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214200"/>
            <a:ext cx="857088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учные стежки по своему назначению подразделяются 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ям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с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тлеобраз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те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рестообраз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ежки для пришивания фурни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20840" y="285840"/>
            <a:ext cx="4786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Прямые стеж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14920" y="1285920"/>
            <a:ext cx="3825720" cy="471492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1073160" y="1785960"/>
            <a:ext cx="3015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мёточн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3280" y="4214880"/>
            <a:ext cx="41047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ль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95520" y="285840"/>
            <a:ext cx="40669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осые стеж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2928960" cy="394308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sp>
        <p:nvSpPr>
          <p:cNvPr id="63" name=""/>
          <p:cNvSpPr/>
          <p:nvPr/>
        </p:nvSpPr>
        <p:spPr>
          <a:xfrm>
            <a:off x="790560" y="5357880"/>
            <a:ext cx="3106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мет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3680" y="5357880"/>
            <a:ext cx="30502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мёт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006800" cy="371484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95520" y="285840"/>
            <a:ext cx="40669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осые стеж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4103640" cy="407196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sp>
        <p:nvSpPr>
          <p:cNvPr id="68" name=""/>
          <p:cNvSpPr/>
          <p:nvPr/>
        </p:nvSpPr>
        <p:spPr>
          <a:xfrm>
            <a:off x="5068800" y="1285920"/>
            <a:ext cx="3632400" cy="48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мёт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шив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ёга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туков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96920" y="357120"/>
            <a:ext cx="52372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етельные сте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3400" y="5429160"/>
            <a:ext cx="7581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едохраняют срезы от осып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85960" y="1071720"/>
            <a:ext cx="49546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