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2.gif" ContentType="image/gif"/>
  <Override PartName="/ppt/media/image3.png" ContentType="image/png"/>
  <Override PartName="/ppt/media/image4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5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34575-4F99-468B-9B5C-FDF5038189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B7014-9078-4EF5-9278-07122A1E1B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4B3C1-1D69-4C92-85DD-F0EEBF1387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7ED2C-E6A5-4C2B-9A32-9791CB8938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9275B-8FD6-459C-9DD1-C69FB0C404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AC6D5-F975-49CA-94D5-AA48FD311C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47112-0FF3-45C1-8391-ACD5DB6356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00C6D-F5DD-4FCF-A199-4EAC9621E4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57CAB-A161-4A41-A349-456A0762F6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BF395-EF01-4CD0-B160-C137FA99AE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241DA-562E-4B95-AC37-F9C77E305F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15C1-85AF-467E-9B0B-5A51456A20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C0F3-8FCD-4005-8975-38518097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1AAF-F6A0-4CDB-B718-97DE8EAC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E41B-02FD-42F6-94E1-BF095BC06B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16EC1-1F83-46ED-B5C6-F54B7452F0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C0387-BCED-4A37-A7FB-EDED1D64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12FB9-C0BC-4BED-83DC-C2A4BCC3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8A76C-4DB4-4D32-8A7B-3135F2EB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09A88-1B6D-48EE-8DB1-657BAD1D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59840"/>
            <a:ext cx="82263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66ECB-8D66-4590-909D-72CE468E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00952-A6BF-4C0D-A34F-C68778A4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77D3E-BB0D-44B8-9432-26125EF3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63EF5-89EE-4D4D-B5BA-7BF90E1F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65B44-4F64-4C8D-9712-475355A7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3C1FC-C163-4E6B-ACDC-D06A6FC8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88C7B-C246-4456-B3E2-7DDC0FD9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18D44-1DB3-4D2A-8476-17EF76F081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7D37-C7F0-4A14-B9E7-401ACA9A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23F78-79A3-4587-84A6-21659EF1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5951-3793-4667-9B9A-440BE8C9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59840"/>
            <a:ext cx="82263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0CC4-ED70-482D-90BB-C89D387D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BAE8-9B5C-44A1-8FC4-04D0A470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DD47A-9AB3-4D69-9A01-AB7C334C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A0F0F-C6D2-4007-ADAA-1024A3C2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.1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0A7B1-629B-48A5-9979-46461D79852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30.10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FBDB71-426A-4BB0-953C-D7A39E25F327}" type="slidenum"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26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28760" y="128592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ашинных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иг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92720" y="3714840"/>
            <a:ext cx="292104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357120"/>
            <a:ext cx="72010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2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пределение крутки ни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571760"/>
            <a:ext cx="9144000" cy="46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9480" y="0"/>
            <a:ext cx="714240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Строение машинной игл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360600" y="1000080"/>
            <a:ext cx="2500560" cy="5095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74280" y="1285920"/>
            <a:ext cx="461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03000" y="5500800"/>
            <a:ext cx="461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31760" y="2928960"/>
            <a:ext cx="461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28880" y="4143240"/>
            <a:ext cx="4665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43760" y="4286160"/>
            <a:ext cx="5410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03760" y="5000760"/>
            <a:ext cx="461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1800360"/>
            <a:ext cx="234000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9280" y="3419640"/>
            <a:ext cx="18003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6119640"/>
            <a:ext cx="2340000" cy="18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4680000"/>
            <a:ext cx="18003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317840" y="4680000"/>
            <a:ext cx="180360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317480" y="5400720"/>
            <a:ext cx="21639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500040" y="1428840"/>
            <a:ext cx="3000240" cy="378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737080" y="142920"/>
            <a:ext cx="57463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значение состав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астей и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0200" y="1714680"/>
            <a:ext cx="689292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олб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лужит для закрепления иглы в иглодержате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Лезв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одает нить челно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стр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лужит для прокола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линный желоб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редохра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ть от истирания о тк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ороткий желоб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лужит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я пет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Ушк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лужит для заправки ни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3857760" cy="4714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71960" y="428760"/>
            <a:ext cx="485784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Иглы различают по форм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точки остр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86240" y="3286080"/>
            <a:ext cx="914400" cy="914400"/>
          </a:xfrm>
          <a:prstGeom prst="ellipse">
            <a:avLst/>
          </a:prstGeom>
          <a:noFill/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00920" y="3214800"/>
            <a:ext cx="106056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57880" y="5214960"/>
            <a:ext cx="914400" cy="914400"/>
          </a:xfrm>
          <a:prstGeom prst="diamond">
            <a:avLst/>
          </a:prstGeom>
          <a:noFill/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00920" y="5214960"/>
            <a:ext cx="1060560" cy="914400"/>
          </a:xfrm>
          <a:prstGeom prst="hexagon">
            <a:avLst>
              <a:gd name="adj" fmla="val 28996"/>
              <a:gd name="vf" fmla="val 115470"/>
            </a:avLst>
          </a:prstGeom>
          <a:noFill/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30600" y="320760"/>
            <a:ext cx="1925640" cy="5789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15840" y="363600"/>
            <a:ext cx="1839960" cy="5751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03600" y="360360"/>
            <a:ext cx="1944720" cy="5762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453360" y="368280"/>
            <a:ext cx="2247840" cy="57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360360"/>
            <a:ext cx="594036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19280" y="360360"/>
            <a:ext cx="6119640" cy="59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40000" y="318960"/>
            <a:ext cx="6659280" cy="59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2960" y="5143680"/>
            <a:ext cx="4857840" cy="2371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52320" y="0"/>
            <a:ext cx="794844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Иглы различают по фор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лезв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8760" y="2000160"/>
            <a:ext cx="3929040" cy="2946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13320" y="2071800"/>
            <a:ext cx="42469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анный вид иг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меняются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ашине потай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дшивоч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еж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1-10-30T11:40:38Z</dcterms:modified>
  <cp:revision>1</cp:revision>
  <dc:subject/>
  <dc:title>Классификация  машинных игл.</dc:title>
</cp:coreProperties>
</file>