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2.gif" ContentType="image/gif"/>
  <Override PartName="/ppt/media/image3.png" ContentType="image/png"/>
  <Override PartName="/ppt/media/image4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5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943D4-553A-44CC-BFF2-2F15FC22F8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FE136-C8FB-4D06-B78A-02DE5DDE17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EF8B4-C193-4017-9189-529ADBB2B7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F96C4-DF5A-433F-86F9-E626778BFB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5F3B6-FF99-464A-9E6E-A330DFA179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C9A2E-3962-4B95-A271-C376646D80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B5E76-5032-4259-B40D-4104203E74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223C0-90D6-4422-9404-84CEC2056A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81057-8F4C-4ED3-ADC5-D12B77A583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A5C32-B7DA-4916-BBBB-FAB49D93E0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776CB-DF42-4EAB-968E-20BA651FCB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38F7-5EFB-459B-AD30-A062128231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D43F-C7CD-4B84-A287-854C6119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E4229-D930-4E96-AF3C-ED93F1AE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5263E-B3B2-445B-BE6E-CF7932395B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C950B-3881-4964-A8EB-CC06B133BF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18591-B406-40E8-B4A0-D548197D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1089B-0936-4CFF-827E-49BB6A68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972E6-A5C9-4532-A83D-B35BF90F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B666E-7045-4147-BA92-6F961AB2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59840"/>
            <a:ext cx="82263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E6BAE-4BB7-4377-93C9-1883E6D3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D68B1-7D71-42B4-8F2D-FD04DD10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80B8-1CBA-4A2F-840F-0703EC40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ABCA8-F70A-487E-8727-B6E6650E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95DAB-A438-4D91-AE08-965B506E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C132B-0DB7-4E14-9D70-3929B3BA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3E1F1-AE6A-4926-BCB1-825E083A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634EF-7233-4CE2-9D28-C725140BB1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0596-4D68-4581-AC31-CCD694A1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BE43-21ED-439D-8785-0884D352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2F81B-BE21-4644-A63A-AECA09F9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59840"/>
            <a:ext cx="82263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A8CF3-EAE7-4A5C-8ED0-1C8CA9A8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577C8-6964-4A36-8C1D-40419EC3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9CD79-C323-48B6-B6E8-EF87FF41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AF21-43E3-4D04-8982-16AE32B2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.10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08A0C-E03D-47A8-87E9-7315206186C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30.10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B3F68E5-43D5-4A19-AE9F-BA7C7A3B97AA}" type="slidenum"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28760" y="128592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лассификация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машинных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иг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92720" y="3714840"/>
            <a:ext cx="292104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357120"/>
            <a:ext cx="72010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2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пределение крутки нит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1571760"/>
            <a:ext cx="9144000" cy="46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9480" y="0"/>
            <a:ext cx="714240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Строение машинной игл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360600" y="1000080"/>
            <a:ext cx="2500560" cy="5095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74280" y="1285920"/>
            <a:ext cx="4611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03000" y="5500800"/>
            <a:ext cx="4611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31760" y="2928960"/>
            <a:ext cx="4611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28880" y="4143240"/>
            <a:ext cx="4665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43760" y="4286160"/>
            <a:ext cx="5410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03760" y="5000760"/>
            <a:ext cx="4611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1800360"/>
            <a:ext cx="234000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19280" y="3419640"/>
            <a:ext cx="18003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6119640"/>
            <a:ext cx="2340000" cy="18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4680000"/>
            <a:ext cx="18003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317840" y="4680000"/>
            <a:ext cx="180360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317480" y="5400720"/>
            <a:ext cx="21639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500040" y="1428840"/>
            <a:ext cx="3000240" cy="378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737080" y="142920"/>
            <a:ext cx="57463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значение состав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астей и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0200" y="1714680"/>
            <a:ext cx="689292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олб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лужит для закрепления иглы в иглодержате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Лезв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подает нить челно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стр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лужит для прокола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Длинный желоб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предохра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ть от истирания о тк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ороткий желоб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лужит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я пет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Ушк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лужит для заправки ни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3857760" cy="4714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71960" y="428760"/>
            <a:ext cx="485784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Иглы различают по форм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точки остр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86240" y="3286080"/>
            <a:ext cx="914400" cy="914400"/>
          </a:xfrm>
          <a:prstGeom prst="ellipse">
            <a:avLst/>
          </a:prstGeom>
          <a:noFill/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00920" y="3214800"/>
            <a:ext cx="106056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57880" y="5214960"/>
            <a:ext cx="914400" cy="914400"/>
          </a:xfrm>
          <a:prstGeom prst="diamond">
            <a:avLst/>
          </a:prstGeom>
          <a:noFill/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00920" y="5214960"/>
            <a:ext cx="1060560" cy="914400"/>
          </a:xfrm>
          <a:prstGeom prst="hexagon">
            <a:avLst>
              <a:gd name="adj" fmla="val 28996"/>
              <a:gd name="vf" fmla="val 115470"/>
            </a:avLst>
          </a:prstGeom>
          <a:noFill/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730600" y="320760"/>
            <a:ext cx="1925640" cy="5789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15840" y="363600"/>
            <a:ext cx="1839960" cy="5751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03600" y="360360"/>
            <a:ext cx="1944720" cy="5762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453360" y="368280"/>
            <a:ext cx="2247840" cy="57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19280" y="360360"/>
            <a:ext cx="594036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19280" y="360360"/>
            <a:ext cx="6119640" cy="59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40000" y="318960"/>
            <a:ext cx="6659280" cy="59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2960" y="5143680"/>
            <a:ext cx="4857840" cy="2371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52320" y="0"/>
            <a:ext cx="794844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Иглы различают по форм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лезв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8760" y="2000160"/>
            <a:ext cx="3929040" cy="2946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13320" y="2071800"/>
            <a:ext cx="42469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анный вид иг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меняются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ашине потай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дшивоч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еж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1-10-30T11:40:38Z</dcterms:modified>
  <cp:revision>1</cp:revision>
  <dc:subject/>
  <dc:title>Классификация  машинных игл.</dc:title>
</cp:coreProperties>
</file>