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ABF2E-98B9-4C6A-9CFF-8AFF6D824C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9B850-ED00-4026-A7DD-98292DB7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28B80-D3A4-4BC7-A88C-82131187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149CB-FA01-4BBB-BED8-D602D2338E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A6D26-0E15-43AC-95D6-17DBAD2A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223E1-29E1-472C-8F42-3C7DFCAE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C3A9E-B1F0-42E0-8880-4BE72C15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F03AE-A68B-4FAA-8D51-9929CDBAF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6A5FA-3F47-4CEB-9976-D85704CCD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5F061-7BDB-4C8A-9DA4-8D28B8CE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23B7F-96F1-4BA5-BCDF-F647FD89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CBCB5-BEB2-4A18-ABDF-EDA060B2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23.11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C37C198-FB7E-4673-86EA-F8C4DEAF1F8C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7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9.jpeg"/><Relationship Id="rId5" Type="http://schemas.openxmlformats.org/officeDocument/2006/relationships/image" Target="../media/image4.jpeg"/><Relationship Id="rId6" Type="http://schemas.openxmlformats.org/officeDocument/2006/relationships/image" Target="../media/image10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67520" y="1285920"/>
            <a:ext cx="5985360" cy="31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Классификация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швейных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машин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143760" y="4071960"/>
            <a:ext cx="230976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889640" y="1714680"/>
            <a:ext cx="568224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Специальные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машин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5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5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9960" y="0"/>
            <a:ext cx="82274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 степени участия работающе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ашины бываю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14200" y="2857680"/>
            <a:ext cx="2714760" cy="2714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071880" y="2928960"/>
            <a:ext cx="2928960" cy="2571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6143760" y="2928960"/>
            <a:ext cx="2714400" cy="25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19400" y="1785960"/>
            <a:ext cx="261288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е автом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4360" y="1785960"/>
            <a:ext cx="302292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луавтом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557760" y="1785960"/>
            <a:ext cx="203544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втом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5040" y="0"/>
            <a:ext cx="825012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Швейные машины бывают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33200" y="1411200"/>
            <a:ext cx="8343000" cy="53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.Стачивающ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2.Обметывающ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3. Стачивающе-обметывающ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4. Однониточные цепного стеж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5. Зигзагообразного челночн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ежк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8200" y="428760"/>
            <a:ext cx="894672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сновные отечественные заводы п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зготовлению швейных маши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6840" y="2357280"/>
            <a:ext cx="174420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ОЗЛ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41040" y="3929040"/>
            <a:ext cx="165132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РЗЛ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96200" y="2357280"/>
            <a:ext cx="200952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ПЗЛ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5360" y="3214800"/>
            <a:ext cx="296352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шан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49280" y="4786200"/>
            <a:ext cx="29282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остов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87000" y="3286080"/>
            <a:ext cx="308376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доль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79640" y="539640"/>
            <a:ext cx="70912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7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6. Потайного подшивочн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еж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7. Для выполнения закрепо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8. Для выполнения петел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9. Для пришивания пуговиц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14240" y="142920"/>
            <a:ext cx="3357720" cy="2786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715000" y="142920"/>
            <a:ext cx="2824200" cy="2786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571680" y="3571920"/>
            <a:ext cx="2857320" cy="2933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0240" y="2857680"/>
            <a:ext cx="353808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чивающ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68640" y="2928960"/>
            <a:ext cx="40028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метывающ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52200" y="4572000"/>
            <a:ext cx="387936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чивающе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метывающ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42960" y="285840"/>
            <a:ext cx="3357720" cy="2500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42960" y="3214800"/>
            <a:ext cx="3500280" cy="2838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346280" y="500040"/>
            <a:ext cx="3833280" cy="21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тайн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дшивочн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еж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14400" y="3643200"/>
            <a:ext cx="41414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ля выпол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е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00040" y="571680"/>
            <a:ext cx="3643200" cy="2786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143680" y="428760"/>
            <a:ext cx="3214440" cy="3500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8240" y="3857760"/>
            <a:ext cx="41414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ля выпол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реп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72880" y="4071960"/>
            <a:ext cx="435636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ля пришива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угови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560" y="0"/>
            <a:ext cx="913392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 зависимости от коли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именяемых ниток машины бываю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14200" y="1500120"/>
            <a:ext cx="2611440" cy="2357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143160" y="1428840"/>
            <a:ext cx="2667240" cy="2495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072120" y="1428840"/>
            <a:ext cx="2551320" cy="2428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357120" y="4071960"/>
            <a:ext cx="2214720" cy="2486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3143160" y="4286160"/>
            <a:ext cx="2786040" cy="2071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6286680" y="4143240"/>
            <a:ext cx="2643120" cy="23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26720" y="0"/>
            <a:ext cx="89938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 зависимости от количества выпол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яемых операций машины бываю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429160" y="2500200"/>
            <a:ext cx="2857680" cy="2286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785880" y="2500200"/>
            <a:ext cx="2928960" cy="2214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69520" y="1785960"/>
            <a:ext cx="324396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ниверса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85400" y="1785960"/>
            <a:ext cx="2823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пециа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94160" y="5000760"/>
            <a:ext cx="317376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ыполня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дну операц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6640" y="5000760"/>
            <a:ext cx="460008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ыполняют несколь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перац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27760" y="1714680"/>
            <a:ext cx="652500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Универсальные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машин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