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4D670-732D-4A5B-921E-6E59BEF873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77706-9AFA-4641-A7A9-9D3FAB26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73504-4A60-4FCB-81E5-24500C26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AEE5F-FBA9-4F32-B70E-E17A0D3CA5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2EA5-EF8D-49E8-A1CE-D5DEF812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BFE1D-F912-4D8B-A7AF-03CCCE5E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20593-82C6-4B79-8204-DAAD6F05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2B5D8-542E-45B6-A41C-AFF0CCF9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5496A-09D1-4DB7-B547-D3F7A550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57EAA-71F3-4B23-80C3-3961F667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6AC0C-847C-4BBE-BDB1-8AB664A7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AAE9A-2335-4924-ABB6-05E166C7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23.11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45A26F6-5BC8-4BB0-B2F1-F5D71CAFC005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7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image" Target="../media/image4.jpeg"/><Relationship Id="rId6" Type="http://schemas.openxmlformats.org/officeDocument/2006/relationships/image" Target="../media/image10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67520" y="1285920"/>
            <a:ext cx="598536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Классификация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швейных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машин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43760" y="4071960"/>
            <a:ext cx="23097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89640" y="1714680"/>
            <a:ext cx="568224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Специальны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машин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9960" y="0"/>
            <a:ext cx="82274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 степени участия работающе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шины быва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14200" y="2857680"/>
            <a:ext cx="2714760" cy="2714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071880" y="292896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143760" y="2928960"/>
            <a:ext cx="2714400" cy="25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9400" y="1785960"/>
            <a:ext cx="261288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е автом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4360" y="1785960"/>
            <a:ext cx="302292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луавтом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57760" y="1785960"/>
            <a:ext cx="20354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втом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5040" y="0"/>
            <a:ext cx="82501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Швейные машины бывают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33200" y="1411200"/>
            <a:ext cx="834300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.Стачивающ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.Обметывающ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. Стачивающе-обметывающ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4. Однониточные цепного стеж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5. Зигзагообразного челноч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еж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8200" y="428760"/>
            <a:ext cx="89467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новные отечественные заводы п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зготовлению швейных маши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6840" y="2357280"/>
            <a:ext cx="17442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ОЗЛ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41040" y="3929040"/>
            <a:ext cx="16513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РЗЛ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96200" y="2357280"/>
            <a:ext cx="20095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ПЗЛ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5360" y="3214800"/>
            <a:ext cx="29635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ша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49280" y="4786200"/>
            <a:ext cx="29282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ост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87000" y="3286080"/>
            <a:ext cx="30837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оль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79640" y="539640"/>
            <a:ext cx="70912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7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. Потайного подшивоч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еж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7. Для выполнения закреп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8. Для выполнения пете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9. Для пришивания пуговиц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14240" y="142920"/>
            <a:ext cx="3357720" cy="2786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715000" y="142920"/>
            <a:ext cx="2824200" cy="2786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71680" y="3571920"/>
            <a:ext cx="2857320" cy="2933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0240" y="2857680"/>
            <a:ext cx="35380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чив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68640" y="2928960"/>
            <a:ext cx="40028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метыв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52200" y="4572000"/>
            <a:ext cx="387936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чивающе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метыв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42960" y="285840"/>
            <a:ext cx="3357720" cy="2500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42960" y="3214800"/>
            <a:ext cx="3500280" cy="2838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346280" y="500040"/>
            <a:ext cx="3833280" cy="21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тай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шивоч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еж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14400" y="3643200"/>
            <a:ext cx="41414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ля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0040" y="571680"/>
            <a:ext cx="3643200" cy="2786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143680" y="428760"/>
            <a:ext cx="3214440" cy="3500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240" y="3857760"/>
            <a:ext cx="41414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ля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реп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72880" y="4071960"/>
            <a:ext cx="435636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ля пришив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угов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560" y="0"/>
            <a:ext cx="91339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 зависимости от кол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няемых ниток машины быва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14200" y="1500120"/>
            <a:ext cx="2611440" cy="235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143160" y="1428840"/>
            <a:ext cx="2667240" cy="2495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072120" y="1428840"/>
            <a:ext cx="2551320" cy="242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57120" y="4071960"/>
            <a:ext cx="2214720" cy="2486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3143160" y="4286160"/>
            <a:ext cx="2786040" cy="2071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6286680" y="4143240"/>
            <a:ext cx="2643120" cy="23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6720" y="0"/>
            <a:ext cx="89938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 зависимости от количества выпол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яемых операций машины быва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429160" y="250020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85880" y="2500200"/>
            <a:ext cx="2928960" cy="2214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9520" y="1785960"/>
            <a:ext cx="324396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ниверса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85400" y="1785960"/>
            <a:ext cx="2823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ециа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94160" y="5000760"/>
            <a:ext cx="317376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полня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дну операц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6640" y="5000760"/>
            <a:ext cx="46000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полняют неск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ер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27760" y="1714680"/>
            <a:ext cx="65250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Универсальны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машин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