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7B97E-92B9-46A3-B609-E7CBDCE953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C6100-CB5A-47C1-9005-7B2D9A99B3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5AFEB-BCFC-4503-9488-D1C4434CCC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AD60B-C2AF-492C-8E7E-7B55692ED8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334D7-CF1A-46FC-AC6D-ACD959A497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BF276-8375-4F3E-90EA-13D67C75B2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1C385-90A6-4928-BEB2-2F55167FCA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4E88B-DAFA-42F2-A00C-764A2CD312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9E42C-1BF5-4FF2-810D-187924B2D8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C8896-C8E8-4D96-A4F9-F21E8E6BAF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017EC-8187-4A52-BC46-6A1C16146A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943F3-EF8E-4890-9424-73A42345C4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0723D-DFC4-43C5-A8F1-B9423B25D0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3C7BB-3FD9-459C-8957-41BA4DE4F6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E0E0F-1719-450A-BCD7-BBA1AC75F0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44317-21B5-4471-A355-5E7E6BEA65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92CAC-995D-4177-B430-6A103FF297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41260-C45D-4B79-9C01-026CF69945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989F-295C-457A-BE9A-E27D82B1D6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EED6-C94A-49E8-AE76-79A6A876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1F758-87C2-4745-96FC-2E4868A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F945-CBC7-4BCC-8FDD-4E884E22F0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3F34E-239E-4B9D-988D-419CFA3B36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9AB69-E0AB-44E6-AFB0-B09B3FE7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ACF1F-1565-4FA6-BC46-87A05F2D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FBCA8-0223-4F65-B12C-8DA1310B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5D245-80E1-46BA-BA20-C1DDBC76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8C832-F4E4-400B-B10E-A1633051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8D114-0112-484D-A530-04837BD5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C447E-4996-4BB4-958E-0C6635AA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7146A-E92E-485B-814B-B2602E3F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FAD03-67F8-495F-9E2A-B03FE96C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E08E4-F7BB-46C3-9D54-3C25039D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B7010-7832-43AA-8AED-9D0F87F7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DF81E-7BAA-437C-8C4F-9DAAB12F5E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F20F-81B1-45A3-8315-AE19E95E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D8546-6F28-471F-8DD2-EE820FB9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217E8-1458-4310-A04C-04292641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05305-1E6C-4192-9630-4D0D632F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D423-CA58-4379-AC37-118FAB82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0A07E-D292-4058-AA8B-7A2D4D2B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B2E40-D68B-4812-9DCB-10954D25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.10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8C4A8B-6935-4B32-9753-1EA42238834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.10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876D7B-1EF3-4167-85DD-E60511B5DBB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3502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ПРЕЗЕНТАЦИЯ: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«Кукла, как отражение эпохи»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233280" y="2708280"/>
            <a:ext cx="3878280" cy="4033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 flipH="1">
            <a:off x="4642560" y="52563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: воспитатель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зорные бабо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чеева Виктория 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181080" y="115920"/>
            <a:ext cx="886788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7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 куклах сочиняли сказки. В них куклы были помощниками человека, которые охраняли, спасали, давали мудрые советы. Кукол любили, берегли, передавали по наследству. В конце концов,  куклами стали играть. Например,  крестьяне не счит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гру в куклы пустой забав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ни верили, что чем усерд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грает ребенок, тем бо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будет достаток в семье, а ес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 куклами обращаться плох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о не миновать неприят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253692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-252360" y="115920"/>
            <a:ext cx="939636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6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ля девочек из богатых семей кукол заказывали за границей. Французские куклы прославились на весь мир уже в 16 веке. Но кроме игровой у них была еще одна важная роль – они знакомили дам с последними веяниями моды. Этих красавиц французы назвали пандорами. Название кукла приобрела благодаря древнегреческому миф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69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ак на земле появ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69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несчастья, а также особ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69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рода женщин, требующ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69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оскоши и укра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5219640" y="3789360"/>
            <a:ext cx="3745080" cy="29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457200" y="1628640"/>
            <a:ext cx="51944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укол дарили друг другу в знак дружбы и любви. Во все времена считалось, что подарок, сделанный от чистого сердца, принесёт счаст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5651640" y="981000"/>
            <a:ext cx="3181320" cy="528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-324000" y="333360"/>
            <a:ext cx="949176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Французы назвали пандорой куклу, которая отличалась красотой и страстью к роскошной жизни.  Эта кукла предназначалась не для игры, а для передачи с наибольшей точностью всех деталей и тонкостей дамского платья того времени. В ХVIII веке панд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явились в Новом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 просуществовали та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уклы до первой полов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ХIХ века, пока на них был с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http://school.xvatit.com/images/e/e0/Doll04.jpg"/>
          <p:cNvPicPr/>
          <p:nvPr/>
        </p:nvPicPr>
        <p:blipFill>
          <a:blip r:embed="rId1"/>
          <a:stretch/>
        </p:blipFill>
        <p:spPr>
          <a:xfrm>
            <a:off x="5796000" y="2781360"/>
            <a:ext cx="31510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3851280" y="189000"/>
            <a:ext cx="490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3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амые дорогие куклы с фарфоровыми головками, в костюмах из парчи и шёлка, украшенных бисером, золотыми и серебряными галунами, затейливыми кружевами, теперь входят в музейные собрания России, Франции, Америки и других стра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http://3.bp.blogspot.com/-z1RKeMAq06Q/ThGbJ6PNmRI/AAAAAAAAAks/RtiAuuuAKjg/s1600/%25D1%2581%25D0%25B5%25D0%25B9%25D1%2587%25D0%25B0%25D1%25812.jpg"/>
          <p:cNvPicPr/>
          <p:nvPr/>
        </p:nvPicPr>
        <p:blipFill>
          <a:blip r:embed="rId1"/>
          <a:stretch/>
        </p:blipFill>
        <p:spPr>
          <a:xfrm>
            <a:off x="179280" y="189000"/>
            <a:ext cx="1822680" cy="388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nacekomie.ru/forum/files/201311/19663_7bfef26264af57819c59a38df24b9037.jpg"/>
          <p:cNvPicPr/>
          <p:nvPr/>
        </p:nvPicPr>
        <p:blipFill>
          <a:blip r:embed="rId2"/>
          <a:stretch/>
        </p:blipFill>
        <p:spPr>
          <a:xfrm>
            <a:off x="2124000" y="1989000"/>
            <a:ext cx="2016360" cy="44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2928960" y="476280"/>
            <a:ext cx="534672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Французские кукольники долгое время сотрудничали с немецкими.  Хорошенькие головки из папье-маше немцы посылали во Францию,  где к ним пришивали туловища из розовой лайки, после чего готовых кукол наряжали в модные пла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http://img0.liveinternet.ru/images/attach/c/4/81/18/81018144_large_23_81772_3e97168a2c4cacf.jpg"/>
          <p:cNvPicPr/>
          <p:nvPr/>
        </p:nvPicPr>
        <p:blipFill>
          <a:blip r:embed="rId1"/>
          <a:stretch/>
        </p:blipFill>
        <p:spPr>
          <a:xfrm>
            <a:off x="108000" y="879480"/>
            <a:ext cx="281628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0" y="0"/>
            <a:ext cx="86868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конце ХIХ века в России появились куклы, которые были ничуть не хуже зарубежных. У них были фарфоровые головы с прелестными личиками и красивыми волосами, а носили они искусно сшитые народные костюмы разных губерний России. Таких кукол назвали этнографическими. Костюмы  у 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ыли самые настоящие: сарафа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шушуны, поневы, душегрей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тделка – вот в чем была особ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расота народной одеж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дежду для таких кукол ш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лучшие портные Посте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алаты в Кр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http://kafa-info.com.ua/sSite/?u=http://ic.pics.livejournal.com/lenarudenko/8358342/646434/646434_original.jpg"/>
          <p:cNvPicPr/>
          <p:nvPr/>
        </p:nvPicPr>
        <p:blipFill>
          <a:blip r:embed="rId1"/>
          <a:stretch/>
        </p:blipFill>
        <p:spPr>
          <a:xfrm>
            <a:off x="6227640" y="2592360"/>
            <a:ext cx="274644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664000" cy="40082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"/>
          <p:cNvSpPr/>
          <p:nvPr/>
        </p:nvSpPr>
        <p:spPr>
          <a:xfrm>
            <a:off x="5435640" y="4581360"/>
            <a:ext cx="338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ПАСИБО ЗА ВНИМ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бейонс"/>
          <p:cNvPicPr/>
          <p:nvPr/>
        </p:nvPicPr>
        <p:blipFill>
          <a:blip r:embed="rId2"/>
          <a:stretch/>
        </p:blipFill>
        <p:spPr>
          <a:xfrm>
            <a:off x="5479920" y="1020600"/>
            <a:ext cx="1513080" cy="2337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масленица"/>
          <p:cNvPicPr/>
          <p:nvPr/>
        </p:nvPicPr>
        <p:blipFill>
          <a:blip r:embed="rId3"/>
          <a:stretch/>
        </p:blipFill>
        <p:spPr>
          <a:xfrm>
            <a:off x="3638520" y="122400"/>
            <a:ext cx="1589040" cy="2476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C1339o"/>
          <p:cNvPicPr/>
          <p:nvPr/>
        </p:nvPicPr>
        <p:blipFill>
          <a:blip r:embed="rId4"/>
          <a:stretch/>
        </p:blipFill>
        <p:spPr>
          <a:xfrm>
            <a:off x="7132680" y="1735200"/>
            <a:ext cx="1903320" cy="246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2"/>
          <p:cNvPicPr/>
          <p:nvPr/>
        </p:nvPicPr>
        <p:blipFill>
          <a:blip r:embed="rId5"/>
          <a:stretch/>
        </p:blipFill>
        <p:spPr>
          <a:xfrm>
            <a:off x="2811600" y="2873520"/>
            <a:ext cx="2635200" cy="39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51280" y="930240"/>
            <a:ext cx="480996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аленькая девочка без куклы почти так же несчастна и точно так же немыслима, как женщина без детей», — совершенно справедливо писал когда-то Виктор Гю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597120" y="3613320"/>
            <a:ext cx="1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33200" y="549360"/>
            <a:ext cx="346392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3276720" y="1208160"/>
            <a:ext cx="548316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Археологи считают, что куклы появились более 30 тыс. лет наза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Их делали из мамонтовой кости и уже тогда использовали в ритуала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ttps://funifi.com/blog/wp-content/uploads/2015/07/Funifi-chores-kids-ancient-toys-4-bl.jpg"/>
          <p:cNvPicPr/>
          <p:nvPr/>
        </p:nvPicPr>
        <p:blipFill>
          <a:blip r:embed="rId1"/>
          <a:stretch/>
        </p:blipFill>
        <p:spPr>
          <a:xfrm>
            <a:off x="250920" y="476280"/>
            <a:ext cx="3097080" cy="62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203640" y="765000"/>
            <a:ext cx="548316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аленькие богатые египтяне играли куклами, у которых были тщательно вылепленные лица, подвижные руки и ноги  и настоящие вол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х изготавливали самые искусные мастера-кукольники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ttp://health-fitnes.ru/cimg/2014/103110/0818616"/>
          <p:cNvPicPr/>
          <p:nvPr/>
        </p:nvPicPr>
        <p:blipFill>
          <a:blip r:embed="rId1"/>
          <a:stretch/>
        </p:blipFill>
        <p:spPr>
          <a:xfrm>
            <a:off x="114480" y="549360"/>
            <a:ext cx="297000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843280" y="19080"/>
            <a:ext cx="620244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1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 Древней Греции куклы были разные – от деревянных чурбанчиков с едва намеченными чертами лица до кукол с тонко вылепленными из воска лицами и телами, со сгибавшимися руками и ногами. Дорогим куклам полагалось и богатое приданое: дома, домашняя утварь, сундучки с одеждой. Таких кукол могли приобрести, разумеется, не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ttps://upload.wikimedia.org/wikipedia/commons/3/3e/Terracotta_doll_Louvre_Cp4654.jpg"/>
          <p:cNvPicPr/>
          <p:nvPr/>
        </p:nvPicPr>
        <p:blipFill>
          <a:blip r:embed="rId1"/>
          <a:stretch/>
        </p:blipFill>
        <p:spPr>
          <a:xfrm>
            <a:off x="250920" y="284040"/>
            <a:ext cx="2736720" cy="631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3564000" y="189000"/>
            <a:ext cx="51228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4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 вот как кукла стала спасителем человека, и не одного. Древние славяне приносили женщин в жертву богине плодородия. К счастью, кому-то пришло в голову отдать богам вместо живой женщины куклу, которую нарядили в сарафан и белый платочек. И боги не были прот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cdn-nus-1.pinme.ru/photo/3a/a0/3aa0ad15b16cbf8cbbd0ca4b5d183362.jpg"/>
          <p:cNvPicPr/>
          <p:nvPr/>
        </p:nvPicPr>
        <p:blipFill>
          <a:blip r:embed="rId1"/>
          <a:stretch/>
        </p:blipFill>
        <p:spPr>
          <a:xfrm>
            <a:off x="0" y="981000"/>
            <a:ext cx="3564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3635280" y="189000"/>
            <a:ext cx="505152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8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екоторые куклы имели особую роль:  они отвлекали на себя злые силы. Перед свадьбой мать дарила дочери куклу-берегиню, благословляя на замужество. Старинный обычай «приглашать» куклу на свадьбу сохранился до наш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://img4.searchmasterclass.net/uploads/posts/2013-06-21/image_484313.jpg"/>
          <p:cNvPicPr/>
          <p:nvPr/>
        </p:nvPicPr>
        <p:blipFill>
          <a:blip r:embed="rId1"/>
          <a:stretch/>
        </p:blipFill>
        <p:spPr>
          <a:xfrm>
            <a:off x="395280" y="260280"/>
            <a:ext cx="3240000" cy="58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64328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анайская кукла-амулет Акоан имела очень большие глаза – чтобы хорошенько присматривала за своими владель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://www.toybytoy.com/file/0021/600/7809.jpg"/>
          <p:cNvPicPr/>
          <p:nvPr/>
        </p:nvPicPr>
        <p:blipFill>
          <a:blip r:embed="rId1"/>
          <a:stretch/>
        </p:blipFill>
        <p:spPr>
          <a:xfrm>
            <a:off x="611280" y="692280"/>
            <a:ext cx="32781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576360" y="404640"/>
            <a:ext cx="800424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же в древности красоте наряда куклы стали придавать особое значение: считалось, что чем красивее кукла, тем краше будет ее хозяй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http://s019.radikal.ru/i635/1204/20/33f9239694a1.jpg"/>
          <p:cNvPicPr/>
          <p:nvPr/>
        </p:nvPicPr>
        <p:blipFill>
          <a:blip r:embed="rId1"/>
          <a:stretch/>
        </p:blipFill>
        <p:spPr>
          <a:xfrm>
            <a:off x="826920" y="2565360"/>
            <a:ext cx="3673800" cy="409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farm9.staticflickr.com/8404/8684797123_f3d90c7607.jpg"/>
          <p:cNvPicPr/>
          <p:nvPr/>
        </p:nvPicPr>
        <p:blipFill>
          <a:blip r:embed="rId2"/>
          <a:stretch/>
        </p:blipFill>
        <p:spPr>
          <a:xfrm>
            <a:off x="4751280" y="2565360"/>
            <a:ext cx="3829320" cy="4062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ня</dc:creator>
  <dc:description/>
  <dc:language>en-US</dc:language>
  <cp:lastModifiedBy>детский сад</cp:lastModifiedBy>
  <dcterms:modified xsi:type="dcterms:W3CDTF">2016-03-22T13:43:06Z</dcterms:modified>
  <cp:revision>16</cp:revision>
  <dc:subject/>
  <dc:title>История кукол</dc:title>
</cp:coreProperties>
</file>