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B51B5-13BF-4D30-9AFA-C9B26FD60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FDAB1-ECA3-47BD-8117-61E6FC6A6E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6E0F-106B-4573-AFD6-463F1E2F5A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18205-5DA6-40F1-B50C-055B7C88FB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B733-EA30-406B-A737-FEE711E9F3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99C79-3636-4C52-BC93-47A444EA3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B159-F4F4-4007-A3D2-E3502A0FB8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4287D-A446-43B2-97EB-7E710AC50A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6775-AC4A-41E6-BDB7-DBFD5265B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6DAAF-9C45-4740-889E-8CEE8220EE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F26E3-2075-4DD1-9001-4943D46790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AE8A-2627-4981-B12F-03BB627529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4C812-BE9F-4972-9FE2-2D4BC3F651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1A927-32C8-45E3-A333-6658EF4212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B20D-33FF-4449-BD29-B689D07BB1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48E06-2770-4E65-9FC8-374EB32270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32BD8-A565-41B0-9BD8-0C5B218365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1C297-E4EE-4578-A114-83DF125AF8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A268-43D0-45B1-AE5D-73DD50CC6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C562-6EA9-4760-8A2D-4934A0FA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7F3C-0767-4554-B616-747B870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B2CF-06D1-49D0-8B7C-0A54AC80F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4A78F-287C-44AA-8205-F273B4D61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A7763-2801-47FA-97E6-569C2A1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E43E-E2A3-492D-B027-9F168FD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46B8-5B4F-4BB0-A2C0-2453DABC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41800-20B3-41D0-B02C-90127024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7D4F-0CD2-4672-B3AB-99226280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0FE82-28D9-4A09-9513-F16F25BD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B37C-374B-4136-8DD0-8DE0D61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CE4BC-71C1-4B49-9951-9F4A4EB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63A8F-1A37-4191-ACB1-07EDAC3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A0F7A-345E-4F89-BCDF-91630B4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56F03-55D0-47D8-A4D9-AE7F0A5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7F5FC-40D3-4866-A643-B415A51EF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FE0F-BD64-4A7B-AA5A-5793B0B0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9F23-1E3B-47C7-B11E-C7B8F46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AF61-A450-4900-86E4-C29BA16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7739-615A-4ADB-93E4-094FF50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4B63-13C7-4EB1-8BB4-E85D58B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0E8F-1C3A-405F-A84C-0D1974A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7C89-E800-4D57-8032-4F25675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A0D070-AD76-44BB-B5F7-A6667433EA4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D1AD78-91C6-4754-B3B6-7B84B27B70B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3502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РЕЗЕНТАЦИЯ: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«Кукла, как отражение эпохи»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33280" y="2708280"/>
            <a:ext cx="3878280" cy="403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 flipH="1">
            <a:off x="4642560" y="5256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воспитатель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зорные баб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чеева Виктор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181080" y="115920"/>
            <a:ext cx="88678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7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 куклах сочиняли сказки. В них куклы были помощниками человека, которые охраняли, спасали, давали мудрые советы. Кукол любили, берегли, передавали по наследству. В конце концов,  куклами стали играть. Например,  крестьяне не счит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гру в куклы пустой заба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ни верили, что чем усер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грает ребенок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будет достаток в семье, а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 куклами обращаться плох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о не миновать неприят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5369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-252360" y="115920"/>
            <a:ext cx="93963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6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ля девочек из богатых семей кукол заказывали за границей. Французские куклы прославились на весь мир уже в 16 веке. Но кроме игровой у них была еще одна важная роль – они знакомили дам с последними веяниями моды. Этих красавиц французы назвали пандорами. Название кукла приобрела благодаря древнегреческому миф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ак на земле появ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есчастья, а также особ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рода женщин, требу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6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оскоши и укра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219640" y="3789360"/>
            <a:ext cx="3745080" cy="29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1628640"/>
            <a:ext cx="5194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укол дарили друг другу в знак дружбы и любви. Во все времена считалось, что подарок, сделанный от чистого сердца, принесёт 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651640" y="981000"/>
            <a:ext cx="3181320" cy="528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-324000" y="333360"/>
            <a:ext cx="94917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ранцузы назвали пандорой куклу, которая отличалась красотой и страстью к роскошной жизни.  Эта кукла предназначалась не для игры, а для передачи с наибольшей точностью всех деталей и тонкостей дамского платья того времени. В ХVIII веке панд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явились в Ново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 просуществовали та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уклы до первой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IХ века, пока на них был с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school.xvatit.com/images/e/e0/Doll04.jpg"/>
          <p:cNvPicPr/>
          <p:nvPr/>
        </p:nvPicPr>
        <p:blipFill>
          <a:blip r:embed="rId1"/>
          <a:stretch/>
        </p:blipFill>
        <p:spPr>
          <a:xfrm>
            <a:off x="5796000" y="2781360"/>
            <a:ext cx="31510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851280" y="189000"/>
            <a:ext cx="490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3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амые дорогие куклы с фарфоровыми головками, в костюмах из парчи и шёлка, украшенных бисером, золотыми и серебряными галунами, затейливыми кружевами, теперь входят в музейные собрания России, Франции, Америки и других стр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3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3.bp.blogspot.com/-z1RKeMAq06Q/ThGbJ6PNmRI/AAAAAAAAAks/RtiAuuuAKjg/s1600/%25D1%2581%25D0%25B5%25D0%25B9%25D1%2587%25D0%25B0%25D1%25812.jpg"/>
          <p:cNvPicPr/>
          <p:nvPr/>
        </p:nvPicPr>
        <p:blipFill>
          <a:blip r:embed="rId1"/>
          <a:stretch/>
        </p:blipFill>
        <p:spPr>
          <a:xfrm>
            <a:off x="179280" y="189000"/>
            <a:ext cx="1822680" cy="38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nacekomie.ru/forum/files/201311/19663_7bfef26264af57819c59a38df24b9037.jpg"/>
          <p:cNvPicPr/>
          <p:nvPr/>
        </p:nvPicPr>
        <p:blipFill>
          <a:blip r:embed="rId2"/>
          <a:stretch/>
        </p:blipFill>
        <p:spPr>
          <a:xfrm>
            <a:off x="2124000" y="1989000"/>
            <a:ext cx="20163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928960" y="476280"/>
            <a:ext cx="534672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Французские кукольники долгое время сотрудничали с немецкими.  Хорошенькие головки из папье-маше немцы посылали во Францию,  где к ним пришивали туловища из розовой лайки, после чего готовых кукол наряжали в модные пла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img0.liveinternet.ru/images/attach/c/4/81/18/81018144_large_23_81772_3e97168a2c4cacf.jpg"/>
          <p:cNvPicPr/>
          <p:nvPr/>
        </p:nvPicPr>
        <p:blipFill>
          <a:blip r:embed="rId1"/>
          <a:stretch/>
        </p:blipFill>
        <p:spPr>
          <a:xfrm>
            <a:off x="108000" y="879480"/>
            <a:ext cx="281628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0" y="0"/>
            <a:ext cx="86868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онце ХIХ века в России появились куклы, которые были ничуть не хуже зарубежных. У них были фарфоровые головы с прелестными личиками и красивыми волосами, а носили они искусно сшитые народные костюмы разных губерний России. Таких кукол назвали этнографическими. Костюмы  у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ыли самые настоящие: сарафа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шушуны, поневы, душегрей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делка – вот в чем была особ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расота народной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дежду для таких кукол ш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учшие портные Пос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алаты в Кр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kafa-info.com.ua/sSite/?u=http://ic.pics.livejournal.com/lenarudenko/8358342/646434/646434_original.jpg"/>
          <p:cNvPicPr/>
          <p:nvPr/>
        </p:nvPicPr>
        <p:blipFill>
          <a:blip r:embed="rId1"/>
          <a:stretch/>
        </p:blipFill>
        <p:spPr>
          <a:xfrm>
            <a:off x="6227640" y="2592360"/>
            <a:ext cx="27464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4000" cy="4008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435640" y="4581360"/>
            <a:ext cx="338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ПАСИБО ЗА ВНИМ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бейонс"/>
          <p:cNvPicPr/>
          <p:nvPr/>
        </p:nvPicPr>
        <p:blipFill>
          <a:blip r:embed="rId2"/>
          <a:stretch/>
        </p:blipFill>
        <p:spPr>
          <a:xfrm>
            <a:off x="5479920" y="1020600"/>
            <a:ext cx="1513080" cy="233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масленица"/>
          <p:cNvPicPr/>
          <p:nvPr/>
        </p:nvPicPr>
        <p:blipFill>
          <a:blip r:embed="rId3"/>
          <a:stretch/>
        </p:blipFill>
        <p:spPr>
          <a:xfrm>
            <a:off x="3638520" y="122400"/>
            <a:ext cx="158904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1339o"/>
          <p:cNvPicPr/>
          <p:nvPr/>
        </p:nvPicPr>
        <p:blipFill>
          <a:blip r:embed="rId4"/>
          <a:stretch/>
        </p:blipFill>
        <p:spPr>
          <a:xfrm>
            <a:off x="7132680" y="1735200"/>
            <a:ext cx="1903320" cy="246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2"/>
          <p:cNvPicPr/>
          <p:nvPr/>
        </p:nvPicPr>
        <p:blipFill>
          <a:blip r:embed="rId5"/>
          <a:stretch/>
        </p:blipFill>
        <p:spPr>
          <a:xfrm>
            <a:off x="2811600" y="2873520"/>
            <a:ext cx="263520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51280" y="930240"/>
            <a:ext cx="48099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аленькая девочка без куклы почти так же несчастна и точно так же немыслима, как женщина без детей», — совершенно справедливо писал когда-то Виктор Гю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97120" y="3613320"/>
            <a:ext cx="1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" y="549360"/>
            <a:ext cx="34639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76720" y="1208160"/>
            <a:ext cx="548316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Археологи считают, что куклы появились более 30 тыс. лет наза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х делали из мамонтовой кости и уже тогда использовали в ритуал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s://funifi.com/blog/wp-content/uploads/2015/07/Funifi-chores-kids-ancient-toys-4-bl.jpg"/>
          <p:cNvPicPr/>
          <p:nvPr/>
        </p:nvPicPr>
        <p:blipFill>
          <a:blip r:embed="rId1"/>
          <a:stretch/>
        </p:blipFill>
        <p:spPr>
          <a:xfrm>
            <a:off x="250920" y="476280"/>
            <a:ext cx="309708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203640" y="765000"/>
            <a:ext cx="54831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аленькие богатые египтяне играли куклами, у которых были тщательно вылепленные лица, подвижные руки и ноги  и настоящие вол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х изготавливали самые искусные мастера-кукольники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health-fitnes.ru/cimg/2014/103110/0818616"/>
          <p:cNvPicPr/>
          <p:nvPr/>
        </p:nvPicPr>
        <p:blipFill>
          <a:blip r:embed="rId1"/>
          <a:stretch/>
        </p:blipFill>
        <p:spPr>
          <a:xfrm>
            <a:off x="114480" y="549360"/>
            <a:ext cx="2970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843280" y="19080"/>
            <a:ext cx="620244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Древней Греции куклы были разные – от деревянных чурбанчиков с едва намеченными чертами лица до кукол с тонко вылепленными из воска лицами и телами, со сгибавшимися руками и ногами. Дорогим куклам полагалось и богатое приданое: дома, домашняя утварь, сундучки с одеждой. Таких кукол могли приобрести, разумеется, не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s://upload.wikimedia.org/wikipedia/commons/3/3e/Terracotta_doll_Louvre_Cp4654.jpg"/>
          <p:cNvPicPr/>
          <p:nvPr/>
        </p:nvPicPr>
        <p:blipFill>
          <a:blip r:embed="rId1"/>
          <a:stretch/>
        </p:blipFill>
        <p:spPr>
          <a:xfrm>
            <a:off x="250920" y="284040"/>
            <a:ext cx="2736720" cy="63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3564000" y="189000"/>
            <a:ext cx="51228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4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от как кукла стала спасителем человека, и не одного. Древние славяне приносили женщин в жертву богине плодородия. К счастью, кому-то пришло в голову отдать богам вместо живой женщины куклу, которую нарядили в сарафан и белый платочек. И боги не были прот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cdn-nus-1.pinme.ru/photo/3a/a0/3aa0ad15b16cbf8cbbd0ca4b5d183362.jpg"/>
          <p:cNvPicPr/>
          <p:nvPr/>
        </p:nvPicPr>
        <p:blipFill>
          <a:blip r:embed="rId1"/>
          <a:stretch/>
        </p:blipFill>
        <p:spPr>
          <a:xfrm>
            <a:off x="0" y="98100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3635280" y="189000"/>
            <a:ext cx="505152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которые куклы имели особую роль:  они отвлекали на себя злые силы. Перед свадьбой мать дарила дочери куклу-берегиню, благословляя на замужество. Старинный обычай «приглашать» куклу на свадьбу сохранился до на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img4.searchmasterclass.net/uploads/posts/2013-06-21/image_484313.jpg"/>
          <p:cNvPicPr/>
          <p:nvPr/>
        </p:nvPicPr>
        <p:blipFill>
          <a:blip r:embed="rId1"/>
          <a:stretch/>
        </p:blipFill>
        <p:spPr>
          <a:xfrm>
            <a:off x="395280" y="260280"/>
            <a:ext cx="3240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найская кукла-амулет Акоан имела очень большие глаза – чтобы хорошенько присматривала за своими владель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toybytoy.com/file/0021/600/7809.jpg"/>
          <p:cNvPicPr/>
          <p:nvPr/>
        </p:nvPicPr>
        <p:blipFill>
          <a:blip r:embed="rId1"/>
          <a:stretch/>
        </p:blipFill>
        <p:spPr>
          <a:xfrm>
            <a:off x="611280" y="692280"/>
            <a:ext cx="3278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76360" y="404640"/>
            <a:ext cx="800424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же в древности красоте наряда куклы стали придавать особое значение: считалось, что чем красивее кукла, тем краше будет ее хозя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s019.radikal.ru/i635/1204/20/33f9239694a1.jpg"/>
          <p:cNvPicPr/>
          <p:nvPr/>
        </p:nvPicPr>
        <p:blipFill>
          <a:blip r:embed="rId1"/>
          <a:stretch/>
        </p:blipFill>
        <p:spPr>
          <a:xfrm>
            <a:off x="826920" y="2565360"/>
            <a:ext cx="3673800" cy="409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farm9.staticflickr.com/8404/8684797123_f3d90c7607.jpg"/>
          <p:cNvPicPr/>
          <p:nvPr/>
        </p:nvPicPr>
        <p:blipFill>
          <a:blip r:embed="rId2"/>
          <a:stretch/>
        </p:blipFill>
        <p:spPr>
          <a:xfrm>
            <a:off x="4751280" y="2565360"/>
            <a:ext cx="3829320" cy="406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ня</dc:creator>
  <dc:description/>
  <dc:language>en-US</dc:language>
  <cp:lastModifiedBy>детский сад</cp:lastModifiedBy>
  <dcterms:modified xsi:type="dcterms:W3CDTF">2016-03-22T13:43:06Z</dcterms:modified>
  <cp:revision>16</cp:revision>
  <dc:subject/>
  <dc:title>История кукол</dc:title>
</cp:coreProperties>
</file>