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212B-429E-4F56-B1DE-612E2DCE7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56D2-368D-4F7D-8921-70F2FBF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3152-2E70-4088-82E0-4297EFC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A46A-9652-492B-9131-6C2DA432E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C08F-6238-4551-9F92-613946EF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DE93-0814-42B5-89EC-52DC91A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4559-2137-4C89-89DC-F2746E7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8AF1-AC2D-4E37-A12E-EE9B6F2A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19DE-4BF5-41CF-B4C0-5194AC49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1878-7A70-406B-B826-28FF2A9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55A5-0667-4436-850B-A5ED5D7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B7F2-F309-4FDA-A7F3-665D60D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072BA-D879-4BFE-8246-3B6D3DCB468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00" y="1714680"/>
            <a:ext cx="85762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рганизация рабочего м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и выполн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машинных раб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43800" y="464328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14720" y="3357720"/>
            <a:ext cx="214200" cy="2500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72120" y="3357720"/>
            <a:ext cx="214560" cy="2500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14720" y="2928960"/>
            <a:ext cx="4214520" cy="428760"/>
          </a:xfrm>
          <a:prstGeom prst="cube">
            <a:avLst>
              <a:gd name="adj" fmla="val 25000"/>
            </a:avLst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5000760"/>
            <a:ext cx="3643200" cy="7128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6120" y="4857840"/>
            <a:ext cx="785880" cy="50004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28920" y="3500280"/>
            <a:ext cx="785880" cy="42876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14760" y="3571920"/>
            <a:ext cx="214200" cy="21420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4572000"/>
            <a:ext cx="785880" cy="1429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71840" y="4143240"/>
            <a:ext cx="142920" cy="428760"/>
          </a:xfrm>
          <a:prstGeom prst="can">
            <a:avLst>
              <a:gd name="adj" fmla="val 25000"/>
            </a:avLst>
          </a:prstGeom>
          <a:solidFill>
            <a:srgbClr val="e46c0a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4960" y="3357720"/>
            <a:ext cx="78588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57880" y="3500280"/>
            <a:ext cx="214200" cy="214560"/>
          </a:xfrm>
          <a:prstGeom prst="ellipse">
            <a:avLst/>
          </a:pr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500280"/>
            <a:ext cx="21420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00840" y="1571760"/>
            <a:ext cx="71280" cy="13572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0800" y="2000160"/>
            <a:ext cx="1000080" cy="4608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0800" y="1643040"/>
            <a:ext cx="46080" cy="3571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6280" y="1643040"/>
            <a:ext cx="46080" cy="35712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357120"/>
              <a:gd name="textAreaBottom" fmla="*/ 354960 h 357120"/>
            </a:gdLst>
            <a:ahLst/>
            <a:rect l="textAreaLeft" t="textAreaTop" r="textAreaRight" b="textAreaBottom"/>
            <a:pathLst>
              <a:path w="21600" h="166270">
                <a:moveTo>
                  <a:pt x="3600" y="0"/>
                </a:moveTo>
                <a:arcTo wR="3600" hR="3600" stAng="16200000" swAng="-5400000"/>
                <a:lnTo>
                  <a:pt x="0" y="162670"/>
                </a:lnTo>
                <a:arcTo wR="3600" hR="3600" stAng="10800000" swAng="-5400000"/>
                <a:lnTo>
                  <a:pt x="18000" y="1662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15040" y="1500120"/>
            <a:ext cx="214200" cy="500040"/>
          </a:xfrm>
          <a:prstGeom prst="can">
            <a:avLst>
              <a:gd name="adj" fmla="val 25000"/>
            </a:avLst>
          </a:prstGeom>
          <a:solidFill>
            <a:srgbClr val="1f497d"/>
          </a:solidFill>
          <a:ln w="255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8920" y="1571760"/>
            <a:ext cx="571320" cy="1357200"/>
          </a:xfrm>
          <a:custGeom>
            <a:avLst/>
            <a:gdLst>
              <a:gd name="textAreaLeft" fmla="*/ 0 w 571320"/>
              <a:gd name="textAreaRight" fmla="*/ 571680 w 57132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685960" y="1444320"/>
            <a:ext cx="733680" cy="966600"/>
          </a:xfrm>
          <a:custGeom>
            <a:avLst/>
            <a:gdLst>
              <a:gd name="textAreaLeft" fmla="*/ 161280 w 733680"/>
              <a:gd name="textAreaRight" fmla="*/ 572400 w 733680"/>
              <a:gd name="textAreaTop" fmla="*/ 212400 h 966600"/>
              <a:gd name="textAreaBottom" fmla="*/ 754200 h 9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43200" y="2286000"/>
            <a:ext cx="1357560" cy="64296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142920" y="3214800"/>
            <a:ext cx="1000800" cy="216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4" name=""/>
          <p:cNvCxnSpPr/>
          <p:nvPr/>
        </p:nvCxnSpPr>
        <p:spPr>
          <a:xfrm>
            <a:off x="-360" y="192888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/>
          <p:nvPr/>
        </p:nvCxnSpPr>
        <p:spPr>
          <a:xfrm>
            <a:off x="-141120" y="3785760"/>
            <a:ext cx="1357920" cy="39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6" name=""/>
          <p:cNvCxnSpPr/>
          <p:nvPr/>
        </p:nvCxnSpPr>
        <p:spPr>
          <a:xfrm>
            <a:off x="358920" y="4428720"/>
            <a:ext cx="1072080" cy="39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7" name=""/>
          <p:cNvCxnSpPr/>
          <p:nvPr/>
        </p:nvCxnSpPr>
        <p:spPr>
          <a:xfrm rot="10800000">
            <a:off x="4787280" y="3641040"/>
            <a:ext cx="1357920" cy="21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8" name=""/>
          <p:cNvCxnSpPr/>
          <p:nvPr/>
        </p:nvCxnSpPr>
        <p:spPr>
          <a:xfrm rot="10800000">
            <a:off x="4928400" y="4928400"/>
            <a:ext cx="14295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9" name=""/>
          <p:cNvCxnSpPr/>
          <p:nvPr/>
        </p:nvCxnSpPr>
        <p:spPr>
          <a:xfrm rot="10800000">
            <a:off x="4714200" y="2214000"/>
            <a:ext cx="14295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0" name=""/>
          <p:cNvCxnSpPr/>
          <p:nvPr/>
        </p:nvCxnSpPr>
        <p:spPr>
          <a:xfrm rot="10800000">
            <a:off x="3214080" y="2571120"/>
            <a:ext cx="18579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3500280" y="3357720"/>
            <a:ext cx="1643400" cy="7855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/>
          <p:nvPr/>
        </p:nvCxnSpPr>
        <p:spPr>
          <a:xfrm rot="10800000">
            <a:off x="3715560" y="3429720"/>
            <a:ext cx="1500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3" name=""/>
          <p:cNvCxnSpPr/>
          <p:nvPr/>
        </p:nvCxnSpPr>
        <p:spPr>
          <a:xfrm rot="10800000">
            <a:off x="3428280" y="5071320"/>
            <a:ext cx="1000800" cy="42948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4" name=""/>
          <p:cNvSpPr/>
          <p:nvPr/>
        </p:nvSpPr>
        <p:spPr>
          <a:xfrm>
            <a:off x="644400" y="278604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88240" y="450072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9440" y="221472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02400" y="321480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5680" y="342900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71720" y="4071960"/>
            <a:ext cx="230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5680" y="142884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00960" y="1785960"/>
            <a:ext cx="4665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59320" y="5572080"/>
            <a:ext cx="744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16520" y="4000680"/>
            <a:ext cx="464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360" y="214200"/>
            <a:ext cx="6450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Рабочее место порт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360" y="214200"/>
            <a:ext cx="87346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абочее место портного состоит 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200" y="1000080"/>
            <a:ext cx="671436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мышленный ст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йки сто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мышленная маш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нопки 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щик для хранения отвер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о для масл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ампа местного осве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бинодерж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зиновый ковр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1240" indent="-73980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