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5F20-A184-46F8-BF07-5B9A3965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580E-55FD-46DB-818C-5B3858E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8181-1C6F-4C4C-A797-B121A52D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4641-2D06-4648-B42A-21BAE027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CCB3-FD63-4140-9B7C-147D7ED9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1C5-C9F4-4984-938E-AA7969D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409-E39A-4873-947E-6EE1442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20C4-BA00-411B-869A-0B577832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9D7F-EA8D-4041-AEEE-220FE20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7BF-63AC-49EF-B440-9BEAE17C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E13-675E-4676-BA20-A8DDD7E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8B69-83C6-413C-ABD9-7907EC0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BAF4-F97E-4F76-9C93-EFD6EF8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62D-B501-4608-8AE1-7989D65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C7D-B339-4BFD-98AD-18171AE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2D76-E249-41C3-93BD-95E97AD4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C0DF-F716-4D7E-963B-69A68D45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1DC7-321C-4869-8481-6BF7D67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7CFA-9186-4EB1-B5C6-78C9637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133D-D19D-460F-B9CA-DAEC4C7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1519-C357-40A8-AD0B-956F282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E26C-2865-4A90-B105-C1F7F88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367F-B789-4250-93C3-35529D7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6ECC-8CDA-4F8D-8D7D-464B8A0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E559-F6B6-4962-8C36-C8079A2AB0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EFE5-AEBF-4583-9E12-81B4F20EDF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9625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бщекультурное воспитание обучающихся средствами языка на уроках немецкого язык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0120" y="5866920"/>
            <a:ext cx="304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380880"/>
            <a:ext cx="8458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екультурное воспит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…от того, как мы воспитаем молодёжь, зависит то, сможет ли Россия сберечь и приумножить саму себя, сможет ли она быть современной, но в то же время сможет ли не растерять себя как нацию, не утратить свою самобытность в очень непростой современной обстановк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идент РФ В.В.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….преподавание в средней школе – это, прежде всего, воспитани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адемик Д.С. Лихач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8040" y="151560"/>
            <a:ext cx="7929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одним из важнейших компонентов образования в интересах человека, общества,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спитания на современном этапе развития нашего общества являе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обучающих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ской ответств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в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амосо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ухо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льту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ициати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способности к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спешной социал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задача реализуется в процессе общекультур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и задачи общекультурного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здание условий, обеспечивающих общекультурное воспитание личности школьника на основе развития его индивидуальности на уроках иностранн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родолжить формирование представления о куль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пагандировать знания о культурных ценностях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формировать доброжелательное отношение к носителю языка, толер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формировать уважительного отношения к иностранному языку как средству межкультурного государствен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помочь раскрыть и реализовать внутренние резер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способности, интересы, талант, личностные качест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512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проведени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проводятся в форме КВНов, викторин, соревнований, конкурсов, беседы на немец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занятия помогают  закрепить приобретенные учащимися умения и навыки, сделать изучение предмета привлека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а активизирует познавательную инициативу обучающихс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а побуждает учащихся к творческому использованию изученного на уроках лексического и грамматическ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10080" y="533160"/>
            <a:ext cx="335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овая презентация интерактивной передвижной выставки "Сказочные мир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«поляне» в этом сказочном лесу можно узнать о жизни братьев Гримм, об истории появления их сказок, а также о языке их сказочных тек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можно посидеть, почитать, поучаствовать в написании сказки, рассказывать и слу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tt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www.youtube.com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/watch?v=4ufsqKRnM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7737480" cy="2663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2290680"/>
            <a:ext cx="60199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600" spc="-1" strike="noStrike">
                <a:solidFill>
                  <a:srgbClr val="cc0000"/>
                </a:solidFill>
                <a:latin typeface="Vivaldi"/>
              </a:rPr>
              <a:t>Weihnachten in Deutschland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762120"/>
            <a:ext cx="993600" cy="9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 flipH="1" rot="10800000">
            <a:off x="3505320" y="1981080"/>
            <a:ext cx="380880" cy="3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620120" y="21337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1052280"/>
            <a:ext cx="381240" cy="36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flipH="1" rot="10800000">
            <a:off x="2438280" y="761760"/>
            <a:ext cx="381240" cy="36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 flipH="1" rot="10800000">
            <a:off x="4381560" y="2133360"/>
            <a:ext cx="380880" cy="36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47640" y="5791320"/>
            <a:ext cx="7848720" cy="753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38080" y="380880"/>
            <a:ext cx="5524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есное на уро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8-12-27T17:39:1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