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A1EE-6A60-4D69-AF84-0C15F651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BA87-0438-4E26-AF6B-D9A4DB2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55E9-4533-4BCF-A4DC-567121DF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8A1A-A62A-4539-AC2C-F69017DC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F131-B227-40C6-B4C9-574F4EC7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EF2B-7C68-4476-93BF-40246E3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1DC-0E02-4163-89CC-48CCFC0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1F2-8ABB-44C0-85CC-1B8F4F3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BA2A-8400-4219-82F1-29F13D7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54C-39DA-443F-8645-2DC568E7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051C-5153-40A0-B394-5E680AA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3E14-0A71-4353-A028-C6D53E0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1115-332F-4250-B4C3-3A5A8A6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06A-F548-423F-9415-45C2121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9B3-7B58-4B7F-8A9A-9972170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67AE-E930-42B7-9087-7D8B22D6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F07B-D3FE-4CF0-9E13-54C513D4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06AC-9D89-4BB9-BFAB-E21979B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5143-B642-4C7D-A859-C676107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E46A-8E9A-4E4D-AB80-74DA30F9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3248-3CC5-4539-8B8D-C28ECAC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FE2C-2C03-4682-A194-EF7C92C9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EAAD-F1E3-4E2E-8400-BDFE489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9E81-2E7F-4E25-B618-25586C7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632B-6AA5-4A6A-9C91-FDA7A58FD9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8C3-8150-4A01-8528-C54868213F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9625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бщекультурное воспитание обучающихся средствами языка на уроках немецкого язык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0120" y="5866920"/>
            <a:ext cx="304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380880"/>
            <a:ext cx="8458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екультурное воспит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…от того, как мы воспитаем молодёжь, зависит то, сможет ли Россия сберечь и приумножить саму себя, сможет ли она быть современной, но в то же время сможет ли не растерять себя как нацию, не утратить свою самобытность в очень непростой современной обстановк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идент РФ В.В.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….преподавание в средней школе – это, прежде всего, воспитани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адемик Д.С. Лихач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8040" y="151560"/>
            <a:ext cx="7929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одним из важнейших компонентов образования в интересах человека, общества,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й задач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спитания на современном этапе развития нашего общества являе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обучающих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ской ответств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в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амосо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ухо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льту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ициати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способности к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спешной социал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задача реализуется в процессе общекультур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и задачи общекультурного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здание условий, обеспечивающих общекультурное воспитание личности школьника на основе развития его индивидуальности на уроках иностранн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продолжить формирование представления о куль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опагандировать знания о культурных ценностях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формировать доброжелательное отношение к носителю языка, толер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формировать уважительного отношения к иностранному языку как средству межкультурного государствен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помочь раскрыть и реализовать внутренние резер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способности, интересы, талант, личностные качест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512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проведени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проводятся в форме КВНов, викторин, соревнований, конкурсов, беседы на немец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занятия помогают  закрепить приобретенные учащимися умения и навыки, сделать изучение предмета привлека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а активизирует познавательную инициативу обучающихс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а побуждает учащихся к творческому использованию изученного на уроках лексического и грамматическ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10080" y="533160"/>
            <a:ext cx="335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овая презентация интерактивной передвижной выставки "Сказочные мир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«поляне» в этом сказочном лесу можно узнать о жизни братьев Гримм, об истории появления их сказок, а также о языке их сказочных тек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можно посидеть, почитать, поучаствовать в написании сказки, рассказывать и слу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tt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www.youtube.com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/watch?v=4ufsqKRnM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7737480" cy="2663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2290680"/>
            <a:ext cx="60199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600" spc="-1" strike="noStrike">
                <a:solidFill>
                  <a:srgbClr val="cc0000"/>
                </a:solidFill>
                <a:latin typeface="Vivaldi"/>
              </a:rPr>
              <a:t>Weihnachten in Deutschland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762120"/>
            <a:ext cx="993600" cy="9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 flipH="1" rot="10800000">
            <a:off x="3505320" y="1981080"/>
            <a:ext cx="380880" cy="3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620120" y="213372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1052280"/>
            <a:ext cx="381240" cy="36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flipH="1" rot="10800000">
            <a:off x="2438280" y="761760"/>
            <a:ext cx="381240" cy="36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 flipH="1" rot="10800000">
            <a:off x="4381560" y="2133360"/>
            <a:ext cx="380880" cy="36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47640" y="5791320"/>
            <a:ext cx="7848720" cy="753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838080" y="380880"/>
            <a:ext cx="5524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есное на уро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8-12-27T17:39:1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