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7DCB-4256-458E-B4EF-7423433E5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2FA8-FFD2-4A4B-B31C-A9585C7E65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76DD-A9E6-48BC-A585-E728C95007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EC62-7F7A-432F-86B2-8A8DFBD670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AE4B-4B75-48E9-951E-4F8C33D5A5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3AA0-6678-4E79-A0CD-5FFC23AC94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009B-C62A-4642-8A3B-DEFEBF8341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F65A-33A9-47FD-BE57-30182F9A12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97C9-69E0-498D-86FD-2BE3A4A8CDD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8259-AA6C-4A4E-AA3B-5C10F45E1C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F8D5-BE58-4597-A786-32D80A0A41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59CA0-2376-4CC2-928A-D17C8B5D0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6516-457C-4DAF-A8FD-A95448F0CF9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B0455-DBEB-4DB3-988A-FA77FF06C18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8AF6B-D761-424E-9A23-5A404CE123C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62B37-0620-4946-93F9-07474929A6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3596D-249E-4273-8DA4-091FA0E0D7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16F5F-6C2B-46AA-938D-BD8F6464E2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2F282-3C3F-4949-A2AE-1B0A304169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9D491-C1E4-4730-A3BE-CEDC4606D7F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45357-1647-4F4D-B0A3-D39F40BE63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005CE-CF9F-473B-B981-443712DDA3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CFAF8-78E7-4735-AD2D-8012FD2E7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7AB6-939F-4E44-8BDA-79634CD8D0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D47F5-EE34-44FC-A361-B9AFD0A4D4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6B1DC-5635-4BF5-A202-8175CCD813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6A4F0-89C1-4824-BEFD-354BA67495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E19C2-C045-4449-895C-A1A9456D9C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3F94A-B0C7-43D1-B5C7-1FCB63E7D2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C0BF5-04B3-46F3-B358-F5B29CB547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9734D-B8D9-489E-80F2-55527D5F087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222FE-55B5-470D-B986-17A53F41B3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27F90-E524-4AFE-8D05-95E824E7FBD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B6346-730E-44E8-AA56-982D80708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3992-65D3-45C4-8323-D17F51766A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6408F-7B14-404F-8E4B-17E1E3FBAC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AAA1F-E4FD-4FF9-998C-21A80C0166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37F3A-FC87-40C8-B987-68C7EE9171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ECE0-37FF-440D-A661-F1130183D9D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5760-EAA6-424E-8789-E710461C6A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5005-FDB6-4353-AAE7-4C059808D62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FCBD-5870-4C62-88AB-97F211C788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03B1-5C80-4B18-B38A-1B0771D6F2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3536-9B62-472A-AB63-1BA6078AFF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603B-A02E-4183-8371-B5357151FF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0F5F-46FA-4C6A-9F09-B04F674508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1029-FCC3-4037-AE05-710E6C22B8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0104-C1F3-4D30-B13F-03E8CA6CB1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1EEF-3A42-4BDE-AF15-7B2B8A2656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B219-D4A2-420F-9D37-32905E118C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F351-F8D3-4FE3-B388-2595A174202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72A35-1FD0-4DF3-ACC2-096C2AAE05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674BC-46AF-4E0F-AD00-1144A91502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B46C0-12D4-4CB6-A16F-102035E0C5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8438D-F41F-4A35-9D51-3A1A9D44F1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EAC3D-CE10-443B-905B-8CA9749A6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7647-A058-40C4-98CD-BE67A0F7224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32034-29BA-4213-89CA-8C5A32468F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55FA5-9BBB-471A-9641-2A4500A91EE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66E4D-5205-416C-9E63-F10ADC5231A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34B1D-4F10-4F27-93C4-9C7AE644DE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E10C9-B3C2-458D-9B98-8A4BBEEA43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AA4DE-AC60-4A72-88AB-689CE8E4B3E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46442-9585-4BF9-8515-47F3B3C90A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471F7-84AE-4A95-944C-FBC5258A25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A425A-EE86-4188-BC0D-881BF5CCE54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4AD22-2326-4D98-8561-73D974D92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16E9-F8F0-4072-957F-A705C702E40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3E962-33B6-40FA-9DF6-FE78B75A69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FDDAF-9E9A-44F9-96EF-A0530B1EE0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6FAFD-DF0B-4661-AEEC-0CEEA2CED61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E979D-80CF-4DF9-A533-E3E5D734AE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D5460-C71F-4FB8-B01A-2B3EA42D26E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1CD09-09E1-4C9B-8088-F5637D49A3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C3FB5-5560-48E7-8B1A-6A8CA34D60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441A7-F07A-46C1-B787-4AE757317C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0E8EC-4FC5-4777-BC34-9744D84A99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B435-A46A-40E9-9754-DD78AE194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D23F-1571-4531-A624-F338C60CAFF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D960-66F7-4855-996A-005F3E3A59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A458-655C-420B-92E3-47069C9B287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1FA1-F7B3-4664-BF94-6798A1CCA3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E43B-BE08-4C4B-940B-7F91C91188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1646-3623-4ABA-A18F-AE301E6376D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561C-304D-4D75-B84C-163B8A6F17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6ABE-BA2B-4D4B-A1CB-CE1694ECB00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3B91-CE96-4EC4-ADEA-7AE9D129EA8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4340-B11E-42DD-B549-4C2EACAC617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8B70-050C-4E5F-84C8-A9E31DC7AD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FB4B-1928-4371-AE67-A1749AA5B95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5561-9CF8-4D5E-A7B4-3AB0EC2DC11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650A78-9C34-4C08-B816-A52FF034D9D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DCE72-1373-4DEB-8369-3602934D47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65527-76DD-4D0D-8183-CB977FF9B2F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E74DC-CDCD-45F0-8274-FE626B3DA8B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5378A3-0E60-44E9-A204-4ECD3D541BF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34719-F1CE-4FB3-BBA0-5F640F1579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470A4-CBB6-45CA-85C4-CB3C97E9FF4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5DDAA7-544A-4FE6-84B7-4583791EE65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043FA-6D57-418F-9937-2507C6F45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FC90-2294-4555-A52F-80E8959496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B750C-4D0E-46C7-9C36-6CC8D885C19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09490-D083-4438-96C9-8A0E2580AD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349B09-9529-47B3-A43B-D7ADC78A90A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F3A47-F86F-4DC7-89F3-77D1A449490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81F17-969A-4350-8D04-122570EF338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4D60E-86FF-401A-B724-F541B641CAE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53656-0400-4974-BBF5-4AAD5F6A7C9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7947E-A08C-4E6A-A67F-8076F571FEC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0DA6-B129-4657-A550-059BDFEA725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61C72-50AC-47A1-A2D6-ACF694AD4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6F5-34B4-42CE-8DF1-891750FD9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C9C3-BC17-4488-B3A0-EA05A8E73AC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A1DB1-C5D0-4F77-9E67-5160607B512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A78E5-41C6-4FB1-A8B6-CF62224EE35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12442-D573-484B-9D18-6F21A467B6A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604AC-AA4E-4D12-852A-279D2FE55D9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9C2C6-5EAB-4F27-A137-592DCB41F7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220A-7822-407C-BE53-FC292D7D29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62F1-03B2-4E13-8FAB-107B597D71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E1ED-E127-4112-97F9-7C6677CCBE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3735-9724-42F9-A35F-318F2A75D8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4CF-0563-477E-A772-C9EF5088DD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11-C088-4CA9-AE8A-6673F78AC9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B55-BC33-408D-91BC-47B824E8EE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5EE-1CE2-4D0A-9DEE-1BBC2CFAC4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55-9B00-4A1D-BDEE-D7662EA8C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64FF-2EF6-4867-93ED-5D0470284C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F0C-414F-4919-B050-4CF318E0A2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6A8-C068-4AC2-8098-F58CEF30FE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209-6874-45B9-8CD3-4B724A02E3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648-E9BC-4305-9DD9-899C74FF20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CCF-BBCA-4327-A25E-D0E799B9E2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E5C-3C39-4B55-B81C-8324126F32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B76-2466-4360-A553-FA43173944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963C2-BE84-4186-9E38-8B70FC19D9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C50F-B201-4533-A87C-AA6A570897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A0FE-9F0E-44E6-8541-15D93641E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ABD7-3808-4482-805B-E7670E8540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A8572-6359-4725-9642-863B479A3A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EFBA-8ED2-440B-B43C-EB9D124897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9B0A-4E43-43B5-8021-44144DE2E1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701EE-EF34-4B1C-9D09-894A154AE0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8DE31-40CE-430C-AF6F-03339D221B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0F0E6-CF82-4D74-A013-24EEC50C93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C0E93-DA93-4A06-A626-BD2197B26B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E8864-EAE7-409E-B6EC-61879B297F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0FABD-7211-4E3F-A412-EA35B81959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4F3B-B229-47E6-A41A-44152A1C5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2594-FE57-4B34-9E12-F770D6FF67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F50D1-64C3-4D69-97AE-FE0CCFE4F9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35EA-0AC1-400D-A179-B0D8C28A75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E73E0-D75B-4701-8FE5-8281C7EB4C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B340-A96F-41BD-B1C4-9632E6BA1A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F590-C2A6-401C-9DD9-944A9144CA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B3B19-B7F8-48CF-8A05-B8D4A7FEE9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4D16-AA75-40B8-A66B-7CC8526AF3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DCBC-290B-44B7-B8EC-4BEC042DF7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189D6-59BE-4E02-B0C0-0BFD39BED6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C36B-4878-4647-872B-B2FDB21A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3280-17C3-41FF-A18F-C2B21AC87B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F364-69DA-4144-BC61-475B5BCD66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780-3A07-4C15-948A-434D22DC11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AFC2-1CBA-40D1-9B3A-EDDF5E55CB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AD7C-45F4-4BB7-94E6-6AF5B6A138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25F8-54B5-449A-85D4-C793FC4A67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97A-8912-4E8D-A143-8F561AC80F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19A-40B8-414B-B3C4-9516A77CDC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7309-785F-4918-B93D-5457625C16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CD0-4620-4105-A32D-E61256ACA6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1BA-5C10-49AF-9744-3C111472F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50A8-C81F-43F2-BF9E-3968FD5AAB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574-E558-4893-B9B0-B6E9221781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3E4-78F0-46A2-AACC-AFE353C79E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CA4-C3B8-49F9-94B8-6D7533B070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F3DEF-AD8B-40BE-8E39-F7E16ABBB0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7A1E1-9E50-4620-872C-54D9EF75616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DDD4A-B3FA-4C76-8EE4-D458244DDB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36B5A-E387-4454-9053-A1E7E30DCC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C9C1A2-0155-4A10-BC72-D6A91696FF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1D9E4-A828-40E6-8D99-32C70E952F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24582-F4F8-4B3F-A364-6E476DDB0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24EE-5474-4FED-8EF0-1D8E58BF10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BBD56-06F9-4DF1-BB96-D5A4E1D45D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E98FA-D0E8-45E9-A9E6-DDCDF4E880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382CD-0CE5-41C2-8103-946BF4EFFE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A47F3-8CE5-4EE1-9762-4C3C051A3A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E774B-9B94-47CF-AE1D-9D7B464014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4870F-7F96-4E97-A0E3-5BDA703B2D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9D166-A835-43CB-BF5A-42B434B4462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21DF1-220C-4980-8841-CB07598FA5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3AF28-DBD7-415F-8276-26FC1D8AD1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46316-F0EF-4B56-AAB1-C679CA301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A8A1-9F4E-42CD-8722-F4E4319442F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C9D41-F058-4ED9-AFB0-906280FBD0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776D8-A4B5-42AE-983A-44DF7C289C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51E14-0BD0-41F4-9399-5B606C418F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0FABC-5D58-42A9-BBF1-335803E6FC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D8A95-12BD-4551-AED7-B9330D8FDF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57EAF-9E49-411F-AED9-72048D5EDC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4728B-3E5E-43B4-BD82-7AAA7E8EA17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2BC1-1C15-43E4-841A-24108973E7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3B27-4679-4EEB-876B-25380E7703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B496-D439-415E-A01D-C5EC5A38E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240600"/>
            <a:ext cx="1882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3305160" y="628668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03840" y="169560"/>
            <a:ext cx="482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ED6C0-3980-4C10-ACBF-78F4DB516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0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860218-BA53-4D08-B92A-B498DB28201E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1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1F9C53-1312-43A0-A783-E749D3519D35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2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8252FA-F0F0-4BDC-A16A-252B8E2F5F9D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3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1C1E76-A6C7-49DA-A8D1-BB6EF19D15D2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6288120"/>
            <a:ext cx="186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332568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4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A3A931-EE60-4699-802B-E43ADF927AC2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288120"/>
            <a:ext cx="186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"/>
          <p:cNvSpPr/>
          <p:nvPr/>
        </p:nvSpPr>
        <p:spPr>
          <a:xfrm>
            <a:off x="332568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5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7B8799-1308-43BE-B93F-BA055F23D324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Num" idx="16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63AC3-1548-4A61-9C53-58216F46F603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17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D8FCB9-73D5-48DD-BF94-664D8A92797A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53822C-B8FC-4E48-B11D-4F0925C9CC65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6352B-9C86-459A-BDC0-25F5F681F5CE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8306D4-7648-4CF5-BD81-75819E5F96DD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6BCA45-941B-417A-BEEA-BA415181C9D1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21B6FF-726B-408D-AF03-A4A7D1E19004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95C02B-17D1-4807-A0E2-D9A85C9C0A42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8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055458-6A15-4DF6-9A84-A8FA364471E2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64D95-0E91-47D5-92C6-625F7B4C651B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440000"/>
            <a:ext cx="745632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детей с  расстройствами аутистического спектр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Рекомендации для учителей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340000" cy="21603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440000" y="179280"/>
            <a:ext cx="61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Особые образовательные потребности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39640" y="200160"/>
            <a:ext cx="809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Обучение самостоятельной работе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"/>
          <p:cNvSpPr/>
          <p:nvPr/>
        </p:nvSpPr>
        <p:spPr>
          <a:xfrm>
            <a:off x="179280" y="900000"/>
            <a:ext cx="9180720" cy="79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1) во время объяснения задания дайте визуальную подсказку: подчеркните в учебнике те задания, которые надо будет сделать; отксерокопируйте задание на отдельный лист; напишите номер задания и страницу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2) после инструкции остановите взгляд на ребёнке. Очень часто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уже на данном этапе можно увидеть, «услышал» ли ребенок инструкцию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3) убедитесь, что ребёнок правильно понял задание и готов к его выполнению: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«Что ты сделаешь, после того как прочитаешь?», «Покажи, какое упражнение ты будешь списывать?»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и т.п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4) если ребенок не начал выполнять задание даже после повторения инструкции, попробуйте выполнить задание совместно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5) во время самостоятельного выполнения заданий не упускайте из вида обучающегося. Периодически проверяйте на каком этапе выполнения  ребенок, чтобы вовремя оказать поддержк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60360" y="20520"/>
            <a:ext cx="845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Правила общения с ребёнком с РД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82600" y="1054080"/>
            <a:ext cx="2651040" cy="180036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014640" y="709560"/>
            <a:ext cx="590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) следите за тем, чтобы ваша речь всегда была простой и конкретной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2) обучайте детей конкретным </a:t>
            </a:r>
            <a:r>
              <a:rPr b="1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социальным правилам и навыкам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3) избегайте использования фразеологизмов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4) давайте ребенку возможность очень четкого выбора и стремитесь, чтобы он был закрытым, а не открытым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"/>
          <p:cNvSpPr/>
          <p:nvPr/>
        </p:nvSpPr>
        <p:spPr>
          <a:xfrm>
            <a:off x="179280" y="2998800"/>
            <a:ext cx="89330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5) повторяйте инструкции и контролируйте понимани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6) обеспечьте очень четкую структуру обучения и составьте постоянный распорядок дня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7) всегда заранее предупреждайте аутичного ребенка об изменениях в привычных процедурах и распорядке дня или о смене деятельност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8) всегда обращайтесь к ученикам в персонализированной, индивидуальной манер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9) используйте различные методы визуализации информа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0) избегайте перестимуля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1) незначительное изменение в манере поведения аутичного ребенка может свидетельствовать о его беспокойстве или тревог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2) изредка разрешайте ребенку доступ к некоторым формам навязчивого  поведения в качестве вознаграждения за приложенные усилия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7854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879640" y="1238400"/>
            <a:ext cx="3713400" cy="1643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2879640" y="360360"/>
            <a:ext cx="485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НАРУШЕНИЯ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360360" y="3240000"/>
            <a:ext cx="3419640" cy="144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/>
          <p:nvPr/>
        </p:nvSpPr>
        <p:spPr>
          <a:xfrm>
            <a:off x="3060720" y="5040360"/>
            <a:ext cx="3419280" cy="143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"/>
          <p:cNvSpPr/>
          <p:nvPr/>
        </p:nvSpPr>
        <p:spPr>
          <a:xfrm>
            <a:off x="5219640" y="3240000"/>
            <a:ext cx="3600360" cy="144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360360" y="3684600"/>
            <a:ext cx="32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эмоциональная сфер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"/>
          <p:cNvSpPr/>
          <p:nvPr/>
        </p:nvSpPr>
        <p:spPr>
          <a:xfrm>
            <a:off x="5189400" y="3673440"/>
            <a:ext cx="360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средства коммуникаци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/>
          <p:nvPr/>
        </p:nvSpPr>
        <p:spPr>
          <a:xfrm>
            <a:off x="3240000" y="5483160"/>
            <a:ext cx="32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социальные навык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079640" y="360360"/>
            <a:ext cx="701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imes New Roman"/>
              </a:rPr>
              <a:t>Трудности обучения детей с РД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"/>
          <p:cNvSpPr/>
          <p:nvPr/>
        </p:nvSpPr>
        <p:spPr>
          <a:xfrm>
            <a:off x="179280" y="1440000"/>
            <a:ext cx="864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1) организация собственной деятельности и поведения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2) выраженная неравномерность и специфика развития психических функций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3) трудности социально-эмоционального взаимодействия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4) потребности в специальной организации образовательного пространств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5) необходимость использования специальных приемов и методов при  обучени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9280" y="539640"/>
            <a:ext cx="86407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Цель психолого-педагогической помощи - </a:t>
            </a: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вовлечение ребенка в развивающее взаимодейств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"/>
          <p:cNvSpPr/>
          <p:nvPr/>
        </p:nvSpPr>
        <p:spPr>
          <a:xfrm>
            <a:off x="360360" y="1800360"/>
            <a:ext cx="8280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Начало обучения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1) динамическое наблюдение за особенностями поведения ребён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2) выявление особенностей понимания речи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3)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  <a:ea typeface="Times-Roman;Times New Roman"/>
              </a:rPr>
              <a:t>оптимальное время продуктивной работы обучающегос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619280" y="252360"/>
            <a:ext cx="648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rebuchet MS"/>
              </a:rPr>
              <a:t>Особенности организации учебной деятельнос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"/>
          <p:cNvSpPr/>
          <p:nvPr/>
        </p:nvSpPr>
        <p:spPr>
          <a:xfrm>
            <a:off x="190440" y="1743120"/>
            <a:ext cx="8640720" cy="13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1) наличие четких границ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2) поддержание единого алгоритма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3) наличие визуальных стимулов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4) подв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едение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 итог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ов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5) фиксирование ребёнка на п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о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ложительных моментах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6) введение правил поведения на уроке </a:t>
            </a:r>
            <a:r>
              <a:rPr b="0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(использование пиктограмм, введение расписания)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7) адаптация учебного материал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8) обучение самостоятельной работе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160720" y="379440"/>
            <a:ext cx="521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ПИКТОГРАММЫ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4140360" y="1246320"/>
            <a:ext cx="2339640" cy="12747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6300720" y="2700360"/>
            <a:ext cx="2293920" cy="1260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4140360" y="4140360"/>
            <a:ext cx="2339640" cy="12906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6662880" y="5219640"/>
            <a:ext cx="19764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160720" y="379440"/>
            <a:ext cx="504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ПИКТОГРАММЫ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360360" y="1252440"/>
            <a:ext cx="3419640" cy="23479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940360" y="1600200"/>
            <a:ext cx="2527200" cy="3259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1979640" y="3921120"/>
            <a:ext cx="355428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00000" y="179280"/>
            <a:ext cx="7740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Адаптация учебного материал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"/>
          <p:cNvSpPr/>
          <p:nvPr/>
        </p:nvSpPr>
        <p:spPr>
          <a:xfrm>
            <a:off x="3419640" y="790560"/>
            <a:ext cx="5040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«я слышу, и я забываю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я вижу, и я запоминаю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я делаю, и я понимаю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179280" y="1079640"/>
            <a:ext cx="341964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1353960"/>
            <a:ext cx="3240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тематические представления — работа по заданному алгоритму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"/>
          <p:cNvSpPr/>
          <p:nvPr/>
        </p:nvSpPr>
        <p:spPr>
          <a:xfrm>
            <a:off x="539640" y="2879640"/>
            <a:ext cx="360072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"/>
          <p:cNvSpPr/>
          <p:nvPr/>
        </p:nvSpPr>
        <p:spPr>
          <a:xfrm>
            <a:off x="1260360" y="4859280"/>
            <a:ext cx="378000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"/>
          <p:cNvSpPr/>
          <p:nvPr/>
        </p:nvSpPr>
        <p:spPr>
          <a:xfrm>
            <a:off x="900000" y="3240000"/>
            <a:ext cx="3600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стественно-гуманитарный цикл — учебные фильмы, презентации, практические задани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"/>
          <p:cNvSpPr/>
          <p:nvPr/>
        </p:nvSpPr>
        <p:spPr>
          <a:xfrm>
            <a:off x="1800360" y="5111640"/>
            <a:ext cx="3419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ррекция письма — дополнительная разлиновка, увеличенный формат тетраде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"/>
          <p:cNvSpPr/>
          <p:nvPr/>
        </p:nvSpPr>
        <p:spPr>
          <a:xfrm>
            <a:off x="4319640" y="2340000"/>
            <a:ext cx="341928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"/>
          <p:cNvSpPr/>
          <p:nvPr/>
        </p:nvSpPr>
        <p:spPr>
          <a:xfrm>
            <a:off x="4500720" y="2700360"/>
            <a:ext cx="3240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удности понимания речи — поэтапное объяснение, выделение ключевых слов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"/>
          <p:cNvSpPr/>
          <p:nvPr/>
        </p:nvSpPr>
        <p:spPr>
          <a:xfrm>
            <a:off x="5219640" y="4319640"/>
            <a:ext cx="360036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"/>
          <p:cNvSpPr/>
          <p:nvPr/>
        </p:nvSpPr>
        <p:spPr>
          <a:xfrm>
            <a:off x="5580000" y="4572000"/>
            <a:ext cx="324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удности понимания письменной речи — адаптирование текстов для чтени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903240" y="360360"/>
            <a:ext cx="743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ВАЖНО!!!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"/>
          <p:cNvSpPr/>
          <p:nvPr/>
        </p:nvSpPr>
        <p:spPr>
          <a:xfrm>
            <a:off x="179280" y="1079640"/>
            <a:ext cx="8640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- то, что не подкреплено наглядностью или практическим действием не запоминается ребенком;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- все абстрактные понятия будут усвоены только через образец или алгоритм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700360" y="4500720"/>
            <a:ext cx="34192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1:40:51Z</dcterms:created>
  <dc:creator>Marya Peleshak</dc:creator>
  <dc:description/>
  <dc:language>en-US</dc:language>
  <cp:lastModifiedBy>Учитель 10</cp:lastModifiedBy>
  <dcterms:modified xsi:type="dcterms:W3CDTF">2014-03-20T09:17:00Z</dcterms:modified>
  <cp:revision>3</cp:revision>
  <dc:subject/>
  <dc:title>Презентация PowerPoint</dc:title>
</cp:coreProperties>
</file>