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9.png" ContentType="image/png"/>
  <Override PartName="/ppt/media/image7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46A7F-FC8E-4E67-BC11-CC18195DE1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726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79040" y="4020840"/>
            <a:ext cx="75726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5DA49-CA47-4DC2-8D6E-2A0504DF3CC3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43CE6-FEFF-431B-880C-C7B7195DF81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72CBA-3804-41CB-A252-F9D0C481149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779040" y="166680"/>
            <a:ext cx="7572600" cy="57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155B9-A6F4-4AB3-9D0D-18A000D0D31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77904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A8D9C-66BB-43D1-A251-3BAF47BCB21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5948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564BC-3F06-459B-91CC-402334B1ECF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779040" y="4020840"/>
            <a:ext cx="75726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B0DF4-F317-404E-B485-17D894709F0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726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779040" y="4020840"/>
            <a:ext cx="75726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FB502-5C60-4E28-8421-6C492284470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77904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5948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92D15-C1B7-4B8A-B02D-F2FF4DEE0E8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339720" y="18284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0040" y="18284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779040" y="40208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339720" y="40208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00040" y="40208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5C2E8-2021-4A56-8DE1-9A95063B9878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CE2C67-B57D-4CB3-B2CB-9C143C0227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7904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948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D0DDC-317D-4C13-9973-300CEC261DB5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72600" cy="41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2BDDFC-0E6E-4635-AB23-E16DD7A2A3BB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726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F14E43-F00D-4A52-8637-EA17A005B983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DD4E7F-93A9-45F0-9808-F0385E0C1744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F42773-493F-405E-B646-AB9E9B432389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779040" y="166680"/>
            <a:ext cx="7572600" cy="57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1BA426-7B73-46E9-B88A-BDEB3A98E0DD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77904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13752D-B8FF-484C-8D43-5BC71B7995E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5948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56CF5C-0AB2-4EEB-869E-0F52AD4E9398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779040" y="4020840"/>
            <a:ext cx="75726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B513DF-9AF5-4D9C-ADAB-39D4A170DCB9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726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779040" y="4020840"/>
            <a:ext cx="75726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89E5BA-792A-45FE-8286-D9541471FF0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77904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5948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B8A185-ACD8-46B2-9BDA-4855F62190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9720" y="18284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00040" y="18284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79040" y="40208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9720" y="40208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00040" y="40208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221FF-BE1F-43A3-A5BE-E3402F3FEB02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339720" y="18284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900040" y="18284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779040" y="40208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339720" y="40208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5900040" y="40208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E7D8CA-EEF5-42A6-8514-1D6C676894C1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94D512-4312-4CF0-84FA-DB6F37F2414F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72600" cy="41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AF3716-DD2F-48F4-AC2A-01681D603CF4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726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5F0678-2DC3-4145-A853-92DC61889798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8BA234-6017-4D17-BA95-A7B5CD32937E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CC1337-B210-459C-A681-021DE901DA1A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779040" y="166680"/>
            <a:ext cx="7572600" cy="57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FE0673-E969-4457-B4E8-EF2A03EB63DE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77904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FCB0F4-E37C-4F5A-902D-9D1601C1E3B4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5948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963A31-8A9D-48C5-9CC8-156D89D1EF45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779040" y="4020840"/>
            <a:ext cx="75726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A04B45-71A4-4FA1-BC0C-A10FBB0D86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B277B-2B9B-46CE-B9C8-6908E292581A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726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779040" y="4020840"/>
            <a:ext cx="75726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925FAC-BDD3-4CF4-8C1A-53B3D50BAD39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77904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5948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8E352B-1827-4845-8BAD-45E7A2271372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339720" y="18284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900040" y="18284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779040" y="40208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339720" y="40208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5900040" y="40208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66460F-94FB-44DB-B92D-E2B460B58623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00CDE-01EF-4A2D-AC4A-34A4D7B33E87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72600" cy="41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2F4E0-BC22-43C1-A371-50D6C2DED82B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726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FE725-8C87-4701-A6C6-02B53205DDFF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A11BF-4D7A-4030-B6E5-B1044B19FCF1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19C88-B9C3-478D-9223-8579A3237937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779040" y="166680"/>
            <a:ext cx="7572600" cy="57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05300-B49C-4233-9439-AAEFE0B41AE6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77904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D3957-771B-43F6-BDDB-221136814BB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72600" cy="41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26B6A-477B-4FDF-99AC-828819D83714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5948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839BA-848B-469A-B9C6-80FA38254014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779040" y="4020840"/>
            <a:ext cx="75726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FB08D-6779-4C05-817A-BFA80CFCB65B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726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779040" y="4020840"/>
            <a:ext cx="75726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DAEC6-1FE6-4BEB-8C9D-924D3EEDB2E0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77904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5948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33C80-732C-4B15-A1FC-0CCC41A7B036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339720" y="18284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900040" y="18284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779040" y="40208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339720" y="40208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5900040" y="40208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11E20-1B06-4A76-9B2B-E419A042E550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4CD8C08-4B16-44B0-8DB2-4C964F398C3D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72600" cy="41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85FB740-BCA6-44CB-85FD-B90A25EBDEE3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726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09F8E39-0054-470D-8DDC-C0987251A87A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AC941AF-78E6-416F-B4EB-A5B803B7086B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864734A-56FF-44DE-8FEF-A0238FD01EB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726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F1824-ED61-4DD4-B002-9A1E3A13F924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779040" y="166680"/>
            <a:ext cx="7572600" cy="57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8CDB020-169D-4BFE-9B61-7C5821D55032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77904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685FA14-7DF3-41DA-8B0C-5D549BEB5B05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5948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190F349-29C2-4339-A871-2B0A2A3CA782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779040" y="4020840"/>
            <a:ext cx="75726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4250A09-5683-478E-B912-877A366555F4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726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779040" y="4020840"/>
            <a:ext cx="75726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4258339-B3D5-4A44-A2C5-EF67A104A0EC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77904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5948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DF419C9-55E5-4C6E-BB2F-AC748F9EB296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339720" y="18284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0040" y="18284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779040" y="40208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339720" y="40208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5900040" y="40208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9DD110E-0B11-42A9-AD6D-9269762E65A3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A40982-6770-4D85-A985-4C9E9E28779F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72600" cy="41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26EBD9-7688-4B84-990C-D47FE1955C8F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726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B1D222-9840-4147-B203-6C36CD3EA0B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86374-797A-46E2-B464-2CE51F370B50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D4AA21-AFC8-4E95-877D-678B4E289869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80B134-21F6-4496-8308-CB934C5A9091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779040" y="166680"/>
            <a:ext cx="7572600" cy="57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6E2CDF-DFA0-4500-956E-730A4B9C5DC4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77904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B64100-AF78-463C-B1E8-07370909139B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5948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DEC60C-1362-4B71-8E88-9242FF383A15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779040" y="4020840"/>
            <a:ext cx="75726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FDAFBC-1968-423F-8C42-A68BF59D2548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726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779040" y="4020840"/>
            <a:ext cx="75726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1E1FFE-6F25-42CE-B484-CE68524F5EC0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77904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5948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C22251-7951-42ED-858D-8B4379DFEBF7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339720" y="18284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900040" y="18284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779040" y="40208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339720" y="40208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5900040" y="40208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F63452-945E-4BF0-9C70-C0A249842EBF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63B178-597F-4055-9CE9-26A0F392633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85DF8-998F-4F6D-A167-B4898618FD40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72600" cy="41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43880C-3845-4A19-8B95-DFD4F66CCFE4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726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29D1FA-F5B6-4322-9699-991AB66F22BF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FD6B71-2039-4618-8A21-90692952724E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94ED5-28F5-41B2-8211-CE8F43AF5FB2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779040" y="166680"/>
            <a:ext cx="7572600" cy="57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67C3C-7B92-43F5-A9AA-DB0B5FE5660D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77904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9BE5F8-C0E8-4A4F-91CD-D0BD3C2E61D5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5948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8CB82D-4381-442D-8B37-EEF6FE8F79CE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779040" y="4020840"/>
            <a:ext cx="75726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897F0-853C-42F8-A326-8190940277CF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726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779040" y="4020840"/>
            <a:ext cx="75726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3BBC8-C50D-4904-B9D2-2CE3DE74F011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77904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5948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CBFACF-88F9-485F-AC60-1A892FD4891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79040" y="166680"/>
            <a:ext cx="7572600" cy="57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4C361-9E90-4826-9C85-5471A61A2184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339720" y="18284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900040" y="18284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779040" y="40208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339720" y="40208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5900040" y="40208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656DEC-D90D-466F-8B8F-41FAC707C877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066B426-0EDF-4F53-B73A-713DDDD1C37F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72600" cy="41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79E7DB3-C1F2-4265-962B-3EABD6908FAE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726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78871BD-ECBB-4B00-9D48-0F1B6CB5C6EB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C909F8A-2AD1-47A2-BD04-1B3822851631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C0C94CB-C1FF-4DDD-B59C-B343A8DFA390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ubTitle"/>
          </p:nvPr>
        </p:nvSpPr>
        <p:spPr>
          <a:xfrm>
            <a:off x="779040" y="166680"/>
            <a:ext cx="7572600" cy="57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BFC0E08-DB88-4418-B9AD-15E0C72FA684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77904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803B18A-14FD-473E-BBFF-B9C027E02C85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65948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E06DCC3-C27A-4F57-8B8F-86697D423C6E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779040" y="4020840"/>
            <a:ext cx="75726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710214A-89F1-403F-9545-93D5F5EBE32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7904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D9902-27EF-47F0-882B-292D9A433EB3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726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779040" y="4020840"/>
            <a:ext cx="75726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A78E838-35A7-4D5D-A9A3-2829E7DA309E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77904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65948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08561BA-CC5E-465E-9ED5-A39D1C70F44E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3339720" y="18284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5900040" y="18284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779040" y="40208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9" name="PlaceHolder 6"/>
          <p:cNvSpPr>
            <a:spLocks noGrp="1"/>
          </p:cNvSpPr>
          <p:nvPr>
            <p:ph/>
          </p:nvPr>
        </p:nvSpPr>
        <p:spPr>
          <a:xfrm>
            <a:off x="3339720" y="40208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0" name="PlaceHolder 7"/>
          <p:cNvSpPr>
            <a:spLocks noGrp="1"/>
          </p:cNvSpPr>
          <p:nvPr>
            <p:ph/>
          </p:nvPr>
        </p:nvSpPr>
        <p:spPr>
          <a:xfrm>
            <a:off x="5900040" y="40208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48735DB-470C-433E-91F8-C5F8E037811C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42B56F-DDEC-4799-884B-946C32FE8BEE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72600" cy="41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853EAF-2F98-44F2-AD5F-754B1F428122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726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7EE8E8-E3A4-4154-8711-39CB74872F66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ADB4C8-5A78-467B-9E7B-1BE01CE7A009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64C449-8EBD-4B9E-8DE7-57F82B0BB0D1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ubTitle"/>
          </p:nvPr>
        </p:nvSpPr>
        <p:spPr>
          <a:xfrm>
            <a:off x="779040" y="166680"/>
            <a:ext cx="7572600" cy="57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A874CB-3FF0-4B24-87E6-E826D51667E8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77904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047057-59B2-4152-A3FF-D3F617F9F4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72600" cy="41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31760-1F8D-4C15-9DA4-59DDC5F159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948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7BB78-F846-4231-8BAD-CD231C6A335E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65948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E8F29D-7F23-4281-8D57-9E0745621481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779040" y="4020840"/>
            <a:ext cx="75726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29BA0D-EE25-4F52-9B83-AECA96AF66E2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726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779040" y="4020840"/>
            <a:ext cx="75726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A63DEC-83AD-4C70-926B-CF3F1B94A9B4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77904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65948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DA7DBD-1B4E-4E63-B366-7B2FF6508C69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3339720" y="18284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5900040" y="18284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779040" y="40208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2" name="PlaceHolder 6"/>
          <p:cNvSpPr>
            <a:spLocks noGrp="1"/>
          </p:cNvSpPr>
          <p:nvPr>
            <p:ph/>
          </p:nvPr>
        </p:nvSpPr>
        <p:spPr>
          <a:xfrm>
            <a:off x="3339720" y="40208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3" name="PlaceHolder 7"/>
          <p:cNvSpPr>
            <a:spLocks noGrp="1"/>
          </p:cNvSpPr>
          <p:nvPr>
            <p:ph/>
          </p:nvPr>
        </p:nvSpPr>
        <p:spPr>
          <a:xfrm>
            <a:off x="5900040" y="40208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99C1BA-F04B-46BA-9B50-87011ED6068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79040" y="4020840"/>
            <a:ext cx="75726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DAAF1-5B5E-4401-8CD2-51DDC3204F1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726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79040" y="4020840"/>
            <a:ext cx="75726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2025B-2C70-4BB8-BBE0-84DCC609C51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7904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948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12443-E930-4210-A03D-A613EE2D5AB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39720" y="18284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00040" y="18284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779040" y="40208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39720" y="40208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00040" y="40208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F1E42-7E02-46E8-86A2-8619070266F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A0CE-E480-480C-9D52-C1CACB0260C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72600" cy="41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C0D8-5F76-434A-BBBC-76EF19D8983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726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66E7-EEB0-4DD1-913E-EFBD33B7A94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C8CC-3A1B-4E4F-9BA9-60D3DA33B50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B8F7-787E-4000-8CA1-8C4DEE6654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726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0E721-E548-4ABF-A47F-E49EC3F7AD0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79040" y="166680"/>
            <a:ext cx="7572600" cy="57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BCAE-7E03-4735-81B2-4EC26C4CB03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7904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A17C-04C8-4D02-9ADA-437E3E8AE92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948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1113-11F2-4ED4-B2F1-2C2247F885F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79040" y="4020840"/>
            <a:ext cx="75726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76B3-E09A-495F-B1AA-C8338EB4A20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726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779040" y="4020840"/>
            <a:ext cx="75726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EE58-B53C-4236-9274-580508183C5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7904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948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C559-50AE-4B59-BC80-A163D2D80E0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39720" y="18284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00040" y="18284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779040" y="40208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39720" y="40208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00040" y="40208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BC4A-95B5-40B0-9E80-87241169BEE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CA0E83-C888-4E16-A94D-1D64316BC51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72600" cy="41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6E009A-622D-4BE7-873F-EC7E0473B3B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726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0399A8-FF09-42E1-AA9D-562CD729E7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35037-7733-4EDE-9879-82D9441860E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D8AA84-04EC-4D1E-B84B-4185F9D66DF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E68A25-9959-42FD-9CF4-613FBAD6473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779040" y="166680"/>
            <a:ext cx="7572600" cy="57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CDF4F4-1076-4EA3-8460-C2CF8CAF014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7904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4B5984-C775-4C98-9370-3C002DC9161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5948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A35444-366E-49F0-9D7F-3B48950E07F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79040" y="4020840"/>
            <a:ext cx="75726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0A3FC3-B8C9-4A64-8A3D-5CC34C077A6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726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779040" y="4020840"/>
            <a:ext cx="75726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F63DB2-C0BB-408B-9BB2-A0C7A01CACD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77904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5948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45831B-8B48-4553-A6A9-C519DF86730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39720" y="18284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900040" y="18284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779040" y="40208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39720" y="40208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900040" y="40208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08C0D7-CCF9-43E2-B43D-30DA23B541F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5F15CA-7FE2-4921-AE01-334D22072F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748BB-5679-45A0-9FB2-786F65B6A89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72600" cy="41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B1E1FF-C622-44CE-9A98-1428E6EECD3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726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00F4BF-5330-4829-9F5C-D9D9A3DF3EC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93323F-6D44-4FAC-8549-75C15BD57A1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8A8437-CD30-47C1-BBC9-71E3B373E40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779040" y="166680"/>
            <a:ext cx="7572600" cy="57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CA7912-07A4-447A-AA0F-CF8AB6DB80D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77904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230FD4-9D80-4940-B75A-95F6B0E74B0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5948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A69DB9-2BB1-4961-9A4D-52C7D47AF3F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79040" y="4020840"/>
            <a:ext cx="75726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42D6AF-8E97-4CFA-B7C7-78FA788A942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726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779040" y="4020840"/>
            <a:ext cx="75726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F75B32-1C87-47BC-8569-8F177A93C4D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77904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5948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187EB0-0AF1-4B8C-AB0B-8BC2245C15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79040" y="166680"/>
            <a:ext cx="7572600" cy="57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68572-8DE3-4F77-B103-D842E03D260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39720" y="18284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900040" y="18284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779040" y="40208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39720" y="40208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900040" y="40208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247BED-BC0D-408C-8CAA-7C525A1A54B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440A4-D329-4183-BAA0-29E25B8ACC4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72600" cy="41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D4316-4316-49C2-9256-D0BAAA07726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726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63236-681E-4519-BC9B-FCB4FDB77D0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D3929-F37F-4817-9C77-F3C281D9E70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3DD99-A3D9-49B7-A68D-9E9B08DF525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779040" y="166680"/>
            <a:ext cx="7572600" cy="57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2C5CB-C9DA-4366-A4A4-2B6EE84205C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77904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BF7C2-EBD0-4512-97D5-36D84231827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5948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852F7-1070-4AF9-A2DE-A435C8FE357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779040" y="4020840"/>
            <a:ext cx="75726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06DA5-0033-4D28-8E6E-67850441AD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7904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8B138-3D5A-4D76-A91F-362C9DD59A3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726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779040" y="4020840"/>
            <a:ext cx="75726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D7B01-88A6-48A4-B75E-1996C32F379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77904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5948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1B3B5-E55A-4C0A-8964-3418E38C08D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39720" y="18284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00040" y="18284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779040" y="40208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39720" y="40208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00040" y="40208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E92A0-8A14-4286-A6A1-CD320EAC092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6CC98A-7C05-428B-8655-246531F198A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72600" cy="41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807449-4ED2-4DD6-B095-C8069E092DD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726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93E159-1EA6-4AA0-91A6-0341E63D8D9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693C8D-71C3-4748-A91A-215341AD43C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3C721C-37D6-44E9-BD76-D3B4D11567F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779040" y="166680"/>
            <a:ext cx="7572600" cy="57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FDF2CD-4717-41A4-B432-E69AD44C4B6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77904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4DE435-EFDF-448B-8DE7-8AC760EBA4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948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E6ACF-9AE6-459B-8991-29803BF5B62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5948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940384-44A1-4784-AC03-A4E76FDF356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779040" y="4020840"/>
            <a:ext cx="75726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675D0A-94FA-40F4-9AAE-419BB756C28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726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779040" y="4020840"/>
            <a:ext cx="75726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5F5CCB-469F-4F9A-9D1D-4FCF1C059DA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77904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5948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906B97-056E-478C-89B3-5878E3B6996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39720" y="18284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00040" y="18284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779040" y="40208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39720" y="40208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00040" y="40208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23CE5E-B9EC-40CA-AB46-A83EFD34C85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8E5BB1-EC65-45F3-AF0C-5B3C558DA12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72600" cy="41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2F8502-B3C2-4A7A-B174-F9885D4743C6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726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73FAC0-75FC-4EDE-B228-D0A6D4CA1082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6754E9-4CFD-4E8E-A66A-DC19673C418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0AEC42-8AFA-4A70-BFDA-D8317C08BE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79040" y="4020840"/>
            <a:ext cx="75726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BDAFA-CA53-48F3-99A0-D533A68DCA8D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779040" y="166680"/>
            <a:ext cx="7572600" cy="57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A390A3-2FDE-4BED-8934-0BAC6234DA3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77904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30CCB2-1817-4186-90E6-E9E54B8EEE8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5948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17F321-B51F-49BC-AE15-454BE6FA89D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779040" y="4020840"/>
            <a:ext cx="75726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5CC448-E7DF-4388-ADF9-B00D6FC05A9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726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779040" y="4020840"/>
            <a:ext cx="75726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A5A065-EB00-4AC8-B803-0FFD9194ED7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77904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59480" y="4020840"/>
            <a:ext cx="36954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F39CB1-827F-4F57-A20E-765BE44CC17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39720" y="18284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900040" y="18284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779040" y="40208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39720" y="40208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5900040" y="4020840"/>
            <a:ext cx="24382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7499D2-E71E-4325-B2C0-88C34FED9757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4A281-0267-4685-94FF-32F50BBC324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72600" cy="41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578F9-62B5-46DC-A90F-42163A9DE89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726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35A98-78DF-4335-BFFB-9BC40EFD9F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7" h="6478587">
                <a:moveTo>
                  <a:pt x="610024" y="0"/>
                </a:moveTo>
                <a:lnTo>
                  <a:pt x="8764587" y="0"/>
                </a:lnTo>
                <a:lnTo>
                  <a:pt x="8764587" y="5868563"/>
                </a:lnTo>
                <a:cubicBezTo>
                  <a:pt x="8764587" y="6205470"/>
                  <a:pt x="8491470" y="6478587"/>
                  <a:pt x="8154563" y="6478587"/>
                </a:cubicBezTo>
                <a:lnTo>
                  <a:pt x="0" y="6478587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726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6240600"/>
            <a:ext cx="1882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"/>
          <p:cNvSpPr/>
          <p:nvPr/>
        </p:nvSpPr>
        <p:spPr>
          <a:xfrm>
            <a:off x="3305160" y="6286680"/>
            <a:ext cx="523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8403840" y="169560"/>
            <a:ext cx="4827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35ED3E-EC6E-4491-AA6F-5046A3ED99E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7" h="6478587">
                <a:moveTo>
                  <a:pt x="610024" y="0"/>
                </a:moveTo>
                <a:lnTo>
                  <a:pt x="8764587" y="0"/>
                </a:lnTo>
                <a:lnTo>
                  <a:pt x="8764587" y="5868563"/>
                </a:lnTo>
                <a:cubicBezTo>
                  <a:pt x="8764587" y="6205470"/>
                  <a:pt x="8491470" y="6478587"/>
                  <a:pt x="8154563" y="6478587"/>
                </a:cubicBezTo>
                <a:lnTo>
                  <a:pt x="0" y="6478587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726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4" name=""/>
          <p:cNvSpPr/>
          <p:nvPr/>
        </p:nvSpPr>
        <p:spPr>
          <a:xfrm>
            <a:off x="380880" y="6288120"/>
            <a:ext cx="1882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5" name=""/>
          <p:cNvSpPr/>
          <p:nvPr/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sldNum" idx="10"/>
          </p:nvPr>
        </p:nvSpPr>
        <p:spPr>
          <a:xfrm>
            <a:off x="8403840" y="218880"/>
            <a:ext cx="4827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EB03B2B-2A97-4BE6-AFF1-877037E48910}" type="slidenum">
              <a:rPr b="0" lang="en-US" sz="1200" spc="-1" strike="noStrike">
                <a:solidFill>
                  <a:srgbClr val="1b3861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7" h="6478587">
                <a:moveTo>
                  <a:pt x="610024" y="0"/>
                </a:moveTo>
                <a:lnTo>
                  <a:pt x="8764587" y="0"/>
                </a:lnTo>
                <a:lnTo>
                  <a:pt x="8764587" y="5868563"/>
                </a:lnTo>
                <a:cubicBezTo>
                  <a:pt x="8764587" y="6205470"/>
                  <a:pt x="8491470" y="6478587"/>
                  <a:pt x="8154563" y="6478587"/>
                </a:cubicBezTo>
                <a:lnTo>
                  <a:pt x="0" y="6478587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726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7" name=""/>
          <p:cNvSpPr/>
          <p:nvPr/>
        </p:nvSpPr>
        <p:spPr>
          <a:xfrm>
            <a:off x="380880" y="6288120"/>
            <a:ext cx="1882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sldNum" idx="11"/>
          </p:nvPr>
        </p:nvSpPr>
        <p:spPr>
          <a:xfrm>
            <a:off x="8403840" y="218880"/>
            <a:ext cx="4827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846E271-3FA6-41B3-9453-ECB60DED91C9}" type="slidenum">
              <a:rPr b="0" lang="en-US" sz="1200" spc="-1" strike="noStrike">
                <a:solidFill>
                  <a:srgbClr val="1b3861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7" h="6478587">
                <a:moveTo>
                  <a:pt x="610024" y="0"/>
                </a:moveTo>
                <a:lnTo>
                  <a:pt x="8764587" y="0"/>
                </a:lnTo>
                <a:lnTo>
                  <a:pt x="8764587" y="5868563"/>
                </a:lnTo>
                <a:cubicBezTo>
                  <a:pt x="8764587" y="6205470"/>
                  <a:pt x="8491470" y="6478587"/>
                  <a:pt x="8154563" y="6478587"/>
                </a:cubicBezTo>
                <a:lnTo>
                  <a:pt x="0" y="6478587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726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380880" y="6288120"/>
            <a:ext cx="1882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1" name=""/>
          <p:cNvSpPr/>
          <p:nvPr/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sldNum" idx="12"/>
          </p:nvPr>
        </p:nvSpPr>
        <p:spPr>
          <a:xfrm>
            <a:off x="8403840" y="218880"/>
            <a:ext cx="4827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7B38558-B933-4A3D-A0D5-4E57087B881A}" type="slidenum">
              <a:rPr b="0" lang="en-US" sz="1200" spc="-1" strike="noStrike">
                <a:solidFill>
                  <a:srgbClr val="1b3861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7" h="6478587">
                <a:moveTo>
                  <a:pt x="610024" y="0"/>
                </a:moveTo>
                <a:lnTo>
                  <a:pt x="8764587" y="0"/>
                </a:lnTo>
                <a:lnTo>
                  <a:pt x="8764587" y="5868563"/>
                </a:lnTo>
                <a:cubicBezTo>
                  <a:pt x="8764587" y="6205470"/>
                  <a:pt x="8491470" y="6478587"/>
                  <a:pt x="8154563" y="6478587"/>
                </a:cubicBezTo>
                <a:lnTo>
                  <a:pt x="0" y="6478587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2"/>
          <a:stretch/>
        </p:blipFill>
        <p:spPr>
          <a:xfrm>
            <a:off x="449280" y="187200"/>
            <a:ext cx="8535960" cy="648360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726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3" name=""/>
          <p:cNvSpPr/>
          <p:nvPr/>
        </p:nvSpPr>
        <p:spPr>
          <a:xfrm>
            <a:off x="3886200" y="6288120"/>
            <a:ext cx="1882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4" name=""/>
          <p:cNvSpPr/>
          <p:nvPr/>
        </p:nvSpPr>
        <p:spPr>
          <a:xfrm>
            <a:off x="5867280" y="6288120"/>
            <a:ext cx="2676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sldNum" idx="13"/>
          </p:nvPr>
        </p:nvSpPr>
        <p:spPr>
          <a:xfrm>
            <a:off x="8403840" y="218880"/>
            <a:ext cx="4827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7C607BA-3E22-423E-AD66-424401E23C6D}" type="slidenum">
              <a:rPr b="0" lang="en-US" sz="1200" spc="-1" strike="noStrike">
                <a:solidFill>
                  <a:srgbClr val="1b3861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7" h="6478587">
                <a:moveTo>
                  <a:pt x="610024" y="0"/>
                </a:moveTo>
                <a:lnTo>
                  <a:pt x="8764587" y="0"/>
                </a:lnTo>
                <a:lnTo>
                  <a:pt x="8764587" y="5868563"/>
                </a:lnTo>
                <a:cubicBezTo>
                  <a:pt x="8764587" y="6205470"/>
                  <a:pt x="8491470" y="6478587"/>
                  <a:pt x="8154563" y="6478587"/>
                </a:cubicBezTo>
                <a:lnTo>
                  <a:pt x="0" y="6478587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726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6" name=""/>
          <p:cNvSpPr/>
          <p:nvPr/>
        </p:nvSpPr>
        <p:spPr>
          <a:xfrm>
            <a:off x="380880" y="6288120"/>
            <a:ext cx="18608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3325680" y="6288120"/>
            <a:ext cx="5218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sldNum" idx="14"/>
          </p:nvPr>
        </p:nvSpPr>
        <p:spPr>
          <a:xfrm>
            <a:off x="8403840" y="218880"/>
            <a:ext cx="4827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CA81ACD-7175-4095-B89E-90B3E396ECA1}" type="slidenum">
              <a:rPr b="0" lang="en-US" sz="1200" spc="-1" strike="noStrike">
                <a:solidFill>
                  <a:srgbClr val="1b3861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7" h="6478587">
                <a:moveTo>
                  <a:pt x="610024" y="0"/>
                </a:moveTo>
                <a:lnTo>
                  <a:pt x="8764587" y="0"/>
                </a:lnTo>
                <a:lnTo>
                  <a:pt x="8764587" y="5868563"/>
                </a:lnTo>
                <a:cubicBezTo>
                  <a:pt x="8764587" y="6205470"/>
                  <a:pt x="8491470" y="6478587"/>
                  <a:pt x="8154563" y="6478587"/>
                </a:cubicBezTo>
                <a:lnTo>
                  <a:pt x="0" y="6478587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726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9" name=""/>
          <p:cNvSpPr/>
          <p:nvPr/>
        </p:nvSpPr>
        <p:spPr>
          <a:xfrm>
            <a:off x="380880" y="6288120"/>
            <a:ext cx="18608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0" name=""/>
          <p:cNvSpPr/>
          <p:nvPr/>
        </p:nvSpPr>
        <p:spPr>
          <a:xfrm>
            <a:off x="3325680" y="6288120"/>
            <a:ext cx="5218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sldNum" idx="15"/>
          </p:nvPr>
        </p:nvSpPr>
        <p:spPr>
          <a:xfrm>
            <a:off x="8403840" y="218880"/>
            <a:ext cx="4827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0F7EFD6-8B92-4801-B5DC-4CBA0168A836}" type="slidenum">
              <a:rPr b="0" lang="en-US" sz="1200" spc="-1" strike="noStrike">
                <a:solidFill>
                  <a:srgbClr val="1b3861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7" h="6478587">
                <a:moveTo>
                  <a:pt x="610024" y="0"/>
                </a:moveTo>
                <a:lnTo>
                  <a:pt x="8764587" y="0"/>
                </a:lnTo>
                <a:lnTo>
                  <a:pt x="8764587" y="5868563"/>
                </a:lnTo>
                <a:cubicBezTo>
                  <a:pt x="8764587" y="6205470"/>
                  <a:pt x="8491470" y="6478587"/>
                  <a:pt x="8154563" y="6478587"/>
                </a:cubicBezTo>
                <a:lnTo>
                  <a:pt x="0" y="6478587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649" name="" descr="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726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2" name=""/>
          <p:cNvSpPr/>
          <p:nvPr/>
        </p:nvSpPr>
        <p:spPr>
          <a:xfrm>
            <a:off x="380880" y="6288120"/>
            <a:ext cx="1882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3" name=""/>
          <p:cNvSpPr/>
          <p:nvPr/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sldNum" idx="16"/>
          </p:nvPr>
        </p:nvSpPr>
        <p:spPr>
          <a:xfrm>
            <a:off x="8403840" y="218880"/>
            <a:ext cx="4827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67FB7DB-F444-43F6-86BD-9DDC71E9731A}" type="slidenum">
              <a:rPr b="0" lang="en-US" sz="1200" spc="-1" strike="noStrike">
                <a:solidFill>
                  <a:srgbClr val="1b3861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7" h="6478587">
                <a:moveTo>
                  <a:pt x="610024" y="0"/>
                </a:moveTo>
                <a:lnTo>
                  <a:pt x="8764587" y="0"/>
                </a:lnTo>
                <a:lnTo>
                  <a:pt x="8764587" y="5868563"/>
                </a:lnTo>
                <a:cubicBezTo>
                  <a:pt x="8764587" y="6205470"/>
                  <a:pt x="8491470" y="6478587"/>
                  <a:pt x="8154563" y="6478587"/>
                </a:cubicBezTo>
                <a:lnTo>
                  <a:pt x="0" y="6478587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692" name="" descr="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726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5" name=""/>
          <p:cNvSpPr/>
          <p:nvPr/>
        </p:nvSpPr>
        <p:spPr>
          <a:xfrm>
            <a:off x="380880" y="6288120"/>
            <a:ext cx="1882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6" name=""/>
          <p:cNvSpPr/>
          <p:nvPr/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sldNum" idx="17"/>
          </p:nvPr>
        </p:nvSpPr>
        <p:spPr>
          <a:xfrm>
            <a:off x="8403840" y="218880"/>
            <a:ext cx="4827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A51E8EC-8A0F-4E2F-A329-58223821FD3F}" type="slidenum">
              <a:rPr b="0" lang="en-US" sz="1200" spc="-1" strike="noStrike">
                <a:solidFill>
                  <a:srgbClr val="1b3861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7" h="6478587">
                <a:moveTo>
                  <a:pt x="610024" y="0"/>
                </a:moveTo>
                <a:lnTo>
                  <a:pt x="8764587" y="0"/>
                </a:lnTo>
                <a:lnTo>
                  <a:pt x="8764587" y="5868563"/>
                </a:lnTo>
                <a:cubicBezTo>
                  <a:pt x="8764587" y="6205470"/>
                  <a:pt x="8491470" y="6478587"/>
                  <a:pt x="8154563" y="6478587"/>
                </a:cubicBezTo>
                <a:lnTo>
                  <a:pt x="0" y="6478587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726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2"/>
          </p:nvPr>
        </p:nvSpPr>
        <p:spPr>
          <a:xfrm>
            <a:off x="8403840" y="218880"/>
            <a:ext cx="4827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DE604BD-7C10-4C37-9471-28DF47CC3BAD}" type="slidenum">
              <a:rPr b="0" lang="en-US" sz="1200" spc="-1" strike="noStrike">
                <a:solidFill>
                  <a:srgbClr val="1b3861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6288120"/>
            <a:ext cx="1882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" name=""/>
          <p:cNvSpPr/>
          <p:nvPr/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7" h="6478587">
                <a:moveTo>
                  <a:pt x="610024" y="0"/>
                </a:moveTo>
                <a:lnTo>
                  <a:pt x="8764587" y="0"/>
                </a:lnTo>
                <a:lnTo>
                  <a:pt x="8764587" y="5868563"/>
                </a:lnTo>
                <a:cubicBezTo>
                  <a:pt x="8764587" y="6205470"/>
                  <a:pt x="8491470" y="6478587"/>
                  <a:pt x="8154563" y="6478587"/>
                </a:cubicBezTo>
                <a:lnTo>
                  <a:pt x="0" y="6478587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726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6288120"/>
            <a:ext cx="1882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0" name=""/>
          <p:cNvSpPr/>
          <p:nvPr/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3"/>
          </p:nvPr>
        </p:nvSpPr>
        <p:spPr>
          <a:xfrm>
            <a:off x="8403840" y="218880"/>
            <a:ext cx="4827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CCB072F-D15A-4920-AE67-21DF4703670D}" type="slidenum">
              <a:rPr b="0" lang="en-US" sz="1200" spc="-1" strike="noStrike">
                <a:solidFill>
                  <a:srgbClr val="1b3861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7" h="6478587">
                <a:moveTo>
                  <a:pt x="610024" y="0"/>
                </a:moveTo>
                <a:lnTo>
                  <a:pt x="8764587" y="0"/>
                </a:lnTo>
                <a:lnTo>
                  <a:pt x="8764587" y="5868563"/>
                </a:lnTo>
                <a:cubicBezTo>
                  <a:pt x="8764587" y="6205470"/>
                  <a:pt x="8491470" y="6478587"/>
                  <a:pt x="8154563" y="6478587"/>
                </a:cubicBezTo>
                <a:lnTo>
                  <a:pt x="0" y="6478587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726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6288120"/>
            <a:ext cx="1882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3" name=""/>
          <p:cNvSpPr/>
          <p:nvPr/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Num" idx="4"/>
          </p:nvPr>
        </p:nvSpPr>
        <p:spPr>
          <a:xfrm>
            <a:off x="8403840" y="218880"/>
            <a:ext cx="4827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EC94A1B-B111-464A-A169-CF03F289045E}" type="slidenum">
              <a:rPr b="0" lang="en-US" sz="1200" spc="-1" strike="noStrike">
                <a:solidFill>
                  <a:srgbClr val="1b3861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7" h="6478587">
                <a:moveTo>
                  <a:pt x="610024" y="0"/>
                </a:moveTo>
                <a:lnTo>
                  <a:pt x="8764587" y="0"/>
                </a:lnTo>
                <a:lnTo>
                  <a:pt x="8764587" y="5868563"/>
                </a:lnTo>
                <a:cubicBezTo>
                  <a:pt x="8764587" y="6205470"/>
                  <a:pt x="8491470" y="6478587"/>
                  <a:pt x="8154563" y="6478587"/>
                </a:cubicBezTo>
                <a:lnTo>
                  <a:pt x="0" y="6478587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726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6288120"/>
            <a:ext cx="1882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6" name=""/>
          <p:cNvSpPr/>
          <p:nvPr/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5"/>
          </p:nvPr>
        </p:nvSpPr>
        <p:spPr>
          <a:xfrm>
            <a:off x="8403840" y="218880"/>
            <a:ext cx="4827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D6A1734-B00C-4749-93B6-C24CD0683980}" type="slidenum">
              <a:rPr b="0" lang="en-US" sz="1200" spc="-1" strike="noStrike">
                <a:solidFill>
                  <a:srgbClr val="1b3861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7" h="6478587">
                <a:moveTo>
                  <a:pt x="610024" y="0"/>
                </a:moveTo>
                <a:lnTo>
                  <a:pt x="8764587" y="0"/>
                </a:lnTo>
                <a:lnTo>
                  <a:pt x="8764587" y="5868563"/>
                </a:lnTo>
                <a:cubicBezTo>
                  <a:pt x="8764587" y="6205470"/>
                  <a:pt x="8491470" y="6478587"/>
                  <a:pt x="8154563" y="6478587"/>
                </a:cubicBezTo>
                <a:lnTo>
                  <a:pt x="0" y="6478587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874800" y="2286000"/>
            <a:ext cx="3562200" cy="1440"/>
          </a:xfrm>
          <a:prstGeom prst="line">
            <a:avLst/>
          </a:prstGeom>
          <a:ln cap="sq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7" name=""/>
          <p:cNvSpPr/>
          <p:nvPr/>
        </p:nvSpPr>
        <p:spPr>
          <a:xfrm>
            <a:off x="4816440" y="2286000"/>
            <a:ext cx="3565440" cy="1440"/>
          </a:xfrm>
          <a:prstGeom prst="line">
            <a:avLst/>
          </a:prstGeom>
          <a:ln cap="sq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8" name=""/>
          <p:cNvSpPr/>
          <p:nvPr/>
        </p:nvSpPr>
        <p:spPr>
          <a:xfrm>
            <a:off x="874800" y="2286000"/>
            <a:ext cx="3562200" cy="1440"/>
          </a:xfrm>
          <a:prstGeom prst="line">
            <a:avLst/>
          </a:prstGeom>
          <a:ln cap="sq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9" name=""/>
          <p:cNvSpPr/>
          <p:nvPr/>
        </p:nvSpPr>
        <p:spPr>
          <a:xfrm>
            <a:off x="4816440" y="2286000"/>
            <a:ext cx="3565440" cy="1440"/>
          </a:xfrm>
          <a:prstGeom prst="line">
            <a:avLst/>
          </a:prstGeom>
          <a:ln cap="sq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726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2" name=""/>
          <p:cNvSpPr/>
          <p:nvPr/>
        </p:nvSpPr>
        <p:spPr>
          <a:xfrm>
            <a:off x="380880" y="6288120"/>
            <a:ext cx="1882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3" name=""/>
          <p:cNvSpPr/>
          <p:nvPr/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sldNum" idx="6"/>
          </p:nvPr>
        </p:nvSpPr>
        <p:spPr>
          <a:xfrm>
            <a:off x="8403840" y="218880"/>
            <a:ext cx="4827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06B9DD9-6ED1-4794-AE2D-23AE847BBF17}" type="slidenum">
              <a:rPr b="0" lang="en-US" sz="1200" spc="-1" strike="noStrike">
                <a:solidFill>
                  <a:srgbClr val="1b3861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7" h="6478587">
                <a:moveTo>
                  <a:pt x="610024" y="0"/>
                </a:moveTo>
                <a:lnTo>
                  <a:pt x="8764587" y="0"/>
                </a:lnTo>
                <a:lnTo>
                  <a:pt x="8764587" y="5868563"/>
                </a:lnTo>
                <a:cubicBezTo>
                  <a:pt x="8764587" y="6205470"/>
                  <a:pt x="8491470" y="6478587"/>
                  <a:pt x="8154563" y="6478587"/>
                </a:cubicBezTo>
                <a:lnTo>
                  <a:pt x="0" y="6478587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726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5" name=""/>
          <p:cNvSpPr/>
          <p:nvPr/>
        </p:nvSpPr>
        <p:spPr>
          <a:xfrm>
            <a:off x="380880" y="6288120"/>
            <a:ext cx="1882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6" name=""/>
          <p:cNvSpPr/>
          <p:nvPr/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Num" idx="7"/>
          </p:nvPr>
        </p:nvSpPr>
        <p:spPr>
          <a:xfrm>
            <a:off x="8403840" y="218880"/>
            <a:ext cx="4827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92C4660-E85C-49FD-92B9-479BD6C69693}" type="slidenum">
              <a:rPr b="0" lang="en-US" sz="1200" spc="-1" strike="noStrike">
                <a:solidFill>
                  <a:srgbClr val="1b3861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7" h="6478587">
                <a:moveTo>
                  <a:pt x="610024" y="0"/>
                </a:moveTo>
                <a:lnTo>
                  <a:pt x="8764587" y="0"/>
                </a:lnTo>
                <a:lnTo>
                  <a:pt x="8764587" y="5868563"/>
                </a:lnTo>
                <a:cubicBezTo>
                  <a:pt x="8764587" y="6205470"/>
                  <a:pt x="8491470" y="6478587"/>
                  <a:pt x="8154563" y="6478587"/>
                </a:cubicBezTo>
                <a:lnTo>
                  <a:pt x="0" y="6478587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726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8" name=""/>
          <p:cNvSpPr/>
          <p:nvPr/>
        </p:nvSpPr>
        <p:spPr>
          <a:xfrm>
            <a:off x="380880" y="6288120"/>
            <a:ext cx="1882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9" name=""/>
          <p:cNvSpPr/>
          <p:nvPr/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sldNum" idx="8"/>
          </p:nvPr>
        </p:nvSpPr>
        <p:spPr>
          <a:xfrm>
            <a:off x="8403840" y="218880"/>
            <a:ext cx="4827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4A4A692-C3F5-42AA-AF89-CABF6DD26921}" type="slidenum">
              <a:rPr b="0" lang="en-US" sz="1200" spc="-1" strike="noStrike">
                <a:solidFill>
                  <a:srgbClr val="1b3861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7" h="6478587">
                <a:moveTo>
                  <a:pt x="610024" y="0"/>
                </a:moveTo>
                <a:lnTo>
                  <a:pt x="8764587" y="0"/>
                </a:lnTo>
                <a:lnTo>
                  <a:pt x="8764587" y="5868563"/>
                </a:lnTo>
                <a:cubicBezTo>
                  <a:pt x="8764587" y="6205470"/>
                  <a:pt x="8491470" y="6478587"/>
                  <a:pt x="8154563" y="6478587"/>
                </a:cubicBezTo>
                <a:lnTo>
                  <a:pt x="0" y="6478587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79040" y="166680"/>
            <a:ext cx="7572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726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1" name=""/>
          <p:cNvSpPr/>
          <p:nvPr/>
        </p:nvSpPr>
        <p:spPr>
          <a:xfrm>
            <a:off x="380880" y="6288120"/>
            <a:ext cx="1882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2" name=""/>
          <p:cNvSpPr/>
          <p:nvPr/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Num" idx="9"/>
          </p:nvPr>
        </p:nvSpPr>
        <p:spPr>
          <a:xfrm>
            <a:off x="8403840" y="218880"/>
            <a:ext cx="4827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A494DAB-4FE7-4637-AF65-9E8BDC053047}" type="slidenum">
              <a:rPr b="0" lang="en-US" sz="1200" spc="-1" strike="noStrike">
                <a:solidFill>
                  <a:srgbClr val="1b3861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/>
          <p:nvPr/>
        </p:nvSpPr>
        <p:spPr>
          <a:xfrm>
            <a:off x="1600200" y="2492280"/>
            <a:ext cx="67626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5" name=""/>
          <p:cNvSpPr/>
          <p:nvPr/>
        </p:nvSpPr>
        <p:spPr>
          <a:xfrm>
            <a:off x="1600200" y="3967200"/>
            <a:ext cx="6762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6" name=""/>
          <p:cNvSpPr/>
          <p:nvPr/>
        </p:nvSpPr>
        <p:spPr>
          <a:xfrm>
            <a:off x="685800" y="1440000"/>
            <a:ext cx="7456320" cy="29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детей с  расстройствами аутистического спектра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Рекомендации для учителей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737" name="" descr=""/>
          <p:cNvPicPr/>
          <p:nvPr/>
        </p:nvPicPr>
        <p:blipFill>
          <a:blip r:embed="rId1"/>
          <a:stretch/>
        </p:blipFill>
        <p:spPr>
          <a:xfrm>
            <a:off x="539640" y="4319640"/>
            <a:ext cx="2340000" cy="216036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1440000" y="179280"/>
            <a:ext cx="61196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Особые образовательные потребности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539640" y="200160"/>
            <a:ext cx="80996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cffff"/>
                </a:solidFill>
                <a:latin typeface="Times New Roman"/>
              </a:rPr>
              <a:t>Обучение самостоятельной работе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1" name=""/>
          <p:cNvSpPr/>
          <p:nvPr/>
        </p:nvSpPr>
        <p:spPr>
          <a:xfrm>
            <a:off x="179280" y="900000"/>
            <a:ext cx="9180720" cy="79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33"/>
                </a:solidFill>
                <a:latin typeface="Times New Roman"/>
              </a:rPr>
              <a:t>1) во время объяснения задания дайте визуальную подсказку: подчеркните в учебнике те задания, которые надо будет сделать; отксерокопируйте задание на отдельный лист; напишите номер задания и страницу;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33"/>
                </a:solidFill>
                <a:latin typeface="Times New Roman"/>
              </a:rPr>
              <a:t>2) после инструкции остановите взгляд на ребёнке. Очень часто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33"/>
                </a:solidFill>
                <a:latin typeface="Times New Roman"/>
              </a:rPr>
              <a:t>уже на данном этапе можно увидеть, «услышал» ли ребенок инструкцию;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33"/>
                </a:solidFill>
                <a:latin typeface="Times New Roman"/>
              </a:rPr>
              <a:t>3) убедитесь, что ребёнок правильно понял задание и готов к его выполнению: </a:t>
            </a:r>
            <a:r>
              <a:rPr b="0" i="1" lang="ru-RU" sz="2400" spc="-1" strike="noStrike">
                <a:solidFill>
                  <a:srgbClr val="000033"/>
                </a:solidFill>
                <a:latin typeface="Times New Roman"/>
              </a:rPr>
              <a:t>«Что ты сделаешь, после того как прочитаешь?», «Покажи, какое упражнение ты будешь списывать?» </a:t>
            </a:r>
            <a:r>
              <a:rPr b="0" lang="ru-RU" sz="2400" spc="-1" strike="noStrike">
                <a:solidFill>
                  <a:srgbClr val="000033"/>
                </a:solidFill>
                <a:latin typeface="Times New Roman"/>
              </a:rPr>
              <a:t>и т.п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33"/>
                </a:solidFill>
                <a:latin typeface="Times New Roman"/>
              </a:rPr>
              <a:t>4) если ребенок не начал выполнять задание даже после повторения инструкции, попробуйте выполнить задание совместно;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33"/>
                </a:solidFill>
                <a:latin typeface="Times New Roman"/>
              </a:rPr>
              <a:t>5) во время самостоятельного выполнения заданий не упускайте из вида обучающегося. Периодически проверяйте на каком этапе выполнения  ребенок, чтобы вовремя оказать поддержку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/>
          <p:nvPr/>
        </p:nvSpPr>
        <p:spPr>
          <a:xfrm>
            <a:off x="360360" y="20520"/>
            <a:ext cx="845964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cffff"/>
                </a:solidFill>
                <a:latin typeface="Times New Roman"/>
              </a:rPr>
              <a:t>Правила общения с ребёнком с РДА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783" name="" descr=""/>
          <p:cNvPicPr/>
          <p:nvPr/>
        </p:nvPicPr>
        <p:blipFill>
          <a:blip r:embed="rId1"/>
          <a:stretch/>
        </p:blipFill>
        <p:spPr>
          <a:xfrm>
            <a:off x="282600" y="1054080"/>
            <a:ext cx="2651040" cy="1800360"/>
          </a:xfrm>
          <a:prstGeom prst="rect">
            <a:avLst/>
          </a:prstGeom>
          <a:ln w="0">
            <a:noFill/>
          </a:ln>
        </p:spPr>
      </p:pic>
      <p:sp>
        <p:nvSpPr>
          <p:cNvPr id="784" name=""/>
          <p:cNvSpPr/>
          <p:nvPr/>
        </p:nvSpPr>
        <p:spPr>
          <a:xfrm>
            <a:off x="3014640" y="709560"/>
            <a:ext cx="590400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33"/>
                </a:solidFill>
                <a:latin typeface="Times New Roman"/>
              </a:rPr>
              <a:t>1) следите за тем, чтобы ваша речь всегда была простой и конкретной;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33"/>
                </a:solidFill>
                <a:latin typeface="Times New Roman"/>
              </a:rPr>
              <a:t>2) обучайте детей конкретным </a:t>
            </a:r>
            <a:r>
              <a:rPr b="1" lang="en-US" sz="1800" spc="-1" strike="noStrike" u="sng">
                <a:solidFill>
                  <a:srgbClr val="000033"/>
                </a:solidFill>
                <a:uFillTx/>
                <a:latin typeface="Times New Roman"/>
              </a:rPr>
              <a:t>социальным правилам и навыкам;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33"/>
                </a:solidFill>
                <a:latin typeface="Times New Roman"/>
              </a:rPr>
              <a:t>3) избегайте использования фразеологизмов;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33"/>
                </a:solidFill>
                <a:latin typeface="Times New Roman"/>
              </a:rPr>
              <a:t>4) давайте ребенку возможность очень четкого выбора и стремитесь, чтобы он был закрытым, а не открытым;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5" name=""/>
          <p:cNvSpPr/>
          <p:nvPr/>
        </p:nvSpPr>
        <p:spPr>
          <a:xfrm>
            <a:off x="179280" y="2998800"/>
            <a:ext cx="8933040" cy="38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33"/>
                </a:solidFill>
                <a:latin typeface="Times New Roman"/>
              </a:rPr>
              <a:t>5) повторяйте инструкции и контролируйте понимание;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33"/>
                </a:solidFill>
                <a:latin typeface="Times New Roman"/>
              </a:rPr>
              <a:t>6) обеспечьте очень четкую структуру обучения и составьте постоянный распорядок дня;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33"/>
                </a:solidFill>
                <a:latin typeface="Times New Roman"/>
              </a:rPr>
              <a:t>7) всегда заранее предупреждайте аутичного ребенка об изменениях в привычных процедурах и распорядке дня или о смене деятельности;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33"/>
                </a:solidFill>
                <a:latin typeface="Times New Roman"/>
              </a:rPr>
              <a:t>8) всегда обращайтесь к ученикам в персонализированной, индивидуальной манере;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33"/>
                </a:solidFill>
                <a:latin typeface="Times New Roman"/>
              </a:rPr>
              <a:t>9) используйте различные методы визуализации информации;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33"/>
                </a:solidFill>
                <a:latin typeface="Times New Roman"/>
              </a:rPr>
              <a:t>10) избегайте перестимуляции;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33"/>
                </a:solidFill>
                <a:latin typeface="Times New Roman"/>
              </a:rPr>
              <a:t>11) незначительное изменение в манере поведения аутичного ребенка может свидетельствовать о его беспокойстве или тревоге;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33"/>
                </a:solidFill>
                <a:latin typeface="Times New Roman"/>
              </a:rPr>
              <a:t>12) изредка разрешайте ребенку доступ к некоторым формам навязчивого  поведения в качестве вознаграждения за приложенные усилия.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" descr=""/>
          <p:cNvPicPr/>
          <p:nvPr/>
        </p:nvPicPr>
        <p:blipFill>
          <a:blip r:embed="rId1"/>
          <a:stretch/>
        </p:blipFill>
        <p:spPr>
          <a:xfrm>
            <a:off x="179280" y="179280"/>
            <a:ext cx="8785440" cy="648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1600200" y="2492280"/>
            <a:ext cx="67626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0" name=""/>
          <p:cNvSpPr/>
          <p:nvPr/>
        </p:nvSpPr>
        <p:spPr>
          <a:xfrm>
            <a:off x="1600200" y="3967200"/>
            <a:ext cx="6762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1"/>
          <a:stretch/>
        </p:blipFill>
        <p:spPr>
          <a:xfrm>
            <a:off x="2879640" y="1238400"/>
            <a:ext cx="3713400" cy="1643040"/>
          </a:xfrm>
          <a:prstGeom prst="rect">
            <a:avLst/>
          </a:prstGeom>
          <a:ln w="0">
            <a:noFill/>
          </a:ln>
        </p:spPr>
      </p:pic>
      <p:sp>
        <p:nvSpPr>
          <p:cNvPr id="742" name=""/>
          <p:cNvSpPr/>
          <p:nvPr/>
        </p:nvSpPr>
        <p:spPr>
          <a:xfrm>
            <a:off x="2879640" y="360360"/>
            <a:ext cx="485928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33"/>
                </a:solidFill>
                <a:latin typeface="Times New Roman"/>
              </a:rPr>
              <a:t>НАРУШЕНИЯ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3" name=""/>
          <p:cNvSpPr/>
          <p:nvPr/>
        </p:nvSpPr>
        <p:spPr>
          <a:xfrm>
            <a:off x="360360" y="3240000"/>
            <a:ext cx="3419640" cy="1440000"/>
          </a:xfrm>
          <a:prstGeom prst="ellipse">
            <a:avLst/>
          </a:prstGeom>
          <a:solidFill>
            <a:srgbClr val="99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4" name=""/>
          <p:cNvSpPr/>
          <p:nvPr/>
        </p:nvSpPr>
        <p:spPr>
          <a:xfrm>
            <a:off x="3060720" y="5040360"/>
            <a:ext cx="3419280" cy="1439640"/>
          </a:xfrm>
          <a:prstGeom prst="ellipse">
            <a:avLst/>
          </a:prstGeom>
          <a:solidFill>
            <a:srgbClr val="99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5" name=""/>
          <p:cNvSpPr/>
          <p:nvPr/>
        </p:nvSpPr>
        <p:spPr>
          <a:xfrm>
            <a:off x="5219640" y="3240000"/>
            <a:ext cx="3600360" cy="1440000"/>
          </a:xfrm>
          <a:prstGeom prst="ellipse">
            <a:avLst/>
          </a:prstGeom>
          <a:solidFill>
            <a:srgbClr val="99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360360" y="3684600"/>
            <a:ext cx="324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Times-Roman;Times New Roman"/>
              </a:rPr>
              <a:t>эмоциональная сфера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7" name=""/>
          <p:cNvSpPr/>
          <p:nvPr/>
        </p:nvSpPr>
        <p:spPr>
          <a:xfrm>
            <a:off x="5189400" y="3673440"/>
            <a:ext cx="36007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Times-Roman;Times New Roman"/>
              </a:rPr>
              <a:t>средства коммуникации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8" name=""/>
          <p:cNvSpPr/>
          <p:nvPr/>
        </p:nvSpPr>
        <p:spPr>
          <a:xfrm>
            <a:off x="3240000" y="5483160"/>
            <a:ext cx="324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Times-Roman;Times New Roman"/>
              </a:rPr>
              <a:t>социальные навыки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1079640" y="360360"/>
            <a:ext cx="70196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cffff"/>
                </a:solidFill>
                <a:latin typeface="Times New Roman"/>
              </a:rPr>
              <a:t>Трудности обучения детей с РДА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0" name=""/>
          <p:cNvSpPr/>
          <p:nvPr/>
        </p:nvSpPr>
        <p:spPr>
          <a:xfrm>
            <a:off x="179280" y="1440000"/>
            <a:ext cx="864072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333366"/>
                </a:solidFill>
                <a:latin typeface="Times-Roman;Times New Roman"/>
              </a:rPr>
              <a:t>1) организация собственной деятельности и поведения;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333366"/>
                </a:solidFill>
                <a:latin typeface="Times-Roman;Times New Roman"/>
              </a:rPr>
              <a:t>2) выраженная неравномерность и специфика развития психических функций;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333366"/>
                </a:solidFill>
                <a:latin typeface="Times-Roman;Times New Roman"/>
              </a:rPr>
              <a:t>3) трудности социально-эмоционального взаимодействия;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333366"/>
                </a:solidFill>
                <a:latin typeface="Times-Roman;Times New Roman"/>
              </a:rPr>
              <a:t>4) потребности в специальной организации образовательного пространства;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333366"/>
                </a:solidFill>
                <a:latin typeface="Times-Roman;Times New Roman"/>
              </a:rPr>
              <a:t>5) необходимость использования специальных приемов и методов при  обучении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179280" y="539640"/>
            <a:ext cx="8640720" cy="9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cffff"/>
                </a:solidFill>
                <a:latin typeface="Times New Roman"/>
              </a:rPr>
              <a:t>Цель психолого-педагогической помощи - </a:t>
            </a:r>
            <a:r>
              <a:rPr b="1" i="1" lang="en-US" sz="2800" spc="-1" strike="noStrike">
                <a:solidFill>
                  <a:srgbClr val="ccffff"/>
                </a:solidFill>
                <a:latin typeface="Times New Roman"/>
              </a:rPr>
              <a:t>вовлечение ребенка в развивающее взаимодействие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2" name=""/>
          <p:cNvSpPr/>
          <p:nvPr/>
        </p:nvSpPr>
        <p:spPr>
          <a:xfrm>
            <a:off x="360360" y="1800360"/>
            <a:ext cx="828036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0066"/>
                </a:solidFill>
                <a:latin typeface="Times New Roman"/>
              </a:rPr>
              <a:t>Начало обучения: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0066"/>
                </a:solidFill>
                <a:latin typeface="Times New Roman"/>
              </a:rPr>
              <a:t>1) динамическое наблюдение за особенностями поведения ребёнка;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0066"/>
                </a:solidFill>
                <a:latin typeface="Times New Roman"/>
              </a:rPr>
              <a:t>2) выявление особенностей понимания речи;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0066"/>
                </a:solidFill>
                <a:latin typeface="Times New Roman"/>
              </a:rPr>
              <a:t>3)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  <a:ea typeface="Times-Roman;Times New Roman"/>
              </a:rPr>
              <a:t>оптимальное время продуктивной работы обучающегося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/>
          <p:nvPr/>
        </p:nvSpPr>
        <p:spPr>
          <a:xfrm>
            <a:off x="1619280" y="252360"/>
            <a:ext cx="648000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cffff"/>
                </a:solidFill>
                <a:latin typeface="Trebuchet MS"/>
              </a:rPr>
              <a:t>Особенности организации учебной деятельности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4" name=""/>
          <p:cNvSpPr/>
          <p:nvPr/>
        </p:nvSpPr>
        <p:spPr>
          <a:xfrm>
            <a:off x="190440" y="1743120"/>
            <a:ext cx="8640720" cy="138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33"/>
                </a:solidFill>
                <a:latin typeface="Times-Roman;Times New Roman"/>
                <a:ea typeface="Times-Roman;Times New Roman"/>
              </a:rPr>
              <a:t>1) наличие четких границ урока;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33"/>
                </a:solidFill>
                <a:latin typeface="Times-Roman;Times New Roman"/>
                <a:ea typeface="Times-Roman;Times New Roman"/>
              </a:rPr>
              <a:t>2) поддержание единого алгоритма урока;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33"/>
                </a:solidFill>
                <a:latin typeface="Times-Roman;Times New Roman"/>
                <a:ea typeface="Times-Roman;Times New Roman"/>
              </a:rPr>
              <a:t>3) наличие визуальных стимулов;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33"/>
                </a:solidFill>
                <a:latin typeface="Times-Roman;Times New Roman"/>
                <a:ea typeface="Times-Roman;Times New Roman"/>
              </a:rPr>
              <a:t>4) подв</a:t>
            </a:r>
            <a:r>
              <a:rPr b="1" lang="ru-RU" sz="2800" spc="-1" strike="noStrike">
                <a:solidFill>
                  <a:srgbClr val="000033"/>
                </a:solidFill>
                <a:latin typeface="Times-Roman;Times New Roman"/>
                <a:ea typeface="Times-Roman;Times New Roman"/>
              </a:rPr>
              <a:t>едение</a:t>
            </a:r>
            <a:r>
              <a:rPr b="1" lang="en-US" sz="2800" spc="-1" strike="noStrike">
                <a:solidFill>
                  <a:srgbClr val="000033"/>
                </a:solidFill>
                <a:latin typeface="Times-Roman;Times New Roman"/>
                <a:ea typeface="Times-Roman;Times New Roman"/>
              </a:rPr>
              <a:t> итог</a:t>
            </a:r>
            <a:r>
              <a:rPr b="1" lang="ru-RU" sz="2800" spc="-1" strike="noStrike">
                <a:solidFill>
                  <a:srgbClr val="000033"/>
                </a:solidFill>
                <a:latin typeface="Times-Roman;Times New Roman"/>
                <a:ea typeface="Times-Roman;Times New Roman"/>
              </a:rPr>
              <a:t>ов</a:t>
            </a:r>
            <a:r>
              <a:rPr b="1" lang="en-US" sz="2800" spc="-1" strike="noStrike">
                <a:solidFill>
                  <a:srgbClr val="000033"/>
                </a:solidFill>
                <a:latin typeface="Times-Roman;Times New Roman"/>
                <a:ea typeface="Times-Roman;Times New Roman"/>
              </a:rPr>
              <a:t> урока;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33"/>
                </a:solidFill>
                <a:latin typeface="Times-Roman;Times New Roman"/>
                <a:ea typeface="Times-Roman;Times New Roman"/>
              </a:rPr>
              <a:t>5) фиксирование ребёнка на п</a:t>
            </a:r>
            <a:r>
              <a:rPr b="1" lang="ru-RU" sz="2800" spc="-1" strike="noStrike">
                <a:solidFill>
                  <a:srgbClr val="000033"/>
                </a:solidFill>
                <a:latin typeface="Times-Roman;Times New Roman"/>
                <a:ea typeface="Times-Roman;Times New Roman"/>
              </a:rPr>
              <a:t>о</a:t>
            </a:r>
            <a:r>
              <a:rPr b="1" lang="en-US" sz="2800" spc="-1" strike="noStrike">
                <a:solidFill>
                  <a:srgbClr val="000033"/>
                </a:solidFill>
                <a:latin typeface="Times-Roman;Times New Roman"/>
                <a:ea typeface="Times-Roman;Times New Roman"/>
              </a:rPr>
              <a:t>ложительных моментах;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33"/>
                </a:solidFill>
                <a:latin typeface="Times-Roman;Times New Roman"/>
                <a:ea typeface="Times-Roman;Times New Roman"/>
              </a:rPr>
              <a:t>6) введение правил поведения на уроке </a:t>
            </a:r>
            <a:r>
              <a:rPr b="0" lang="en-US" sz="2800" spc="-1" strike="noStrike">
                <a:solidFill>
                  <a:srgbClr val="000033"/>
                </a:solidFill>
                <a:latin typeface="Times-Roman;Times New Roman"/>
                <a:ea typeface="Times-Roman;Times New Roman"/>
              </a:rPr>
              <a:t>(использование пиктограмм, введение расписания)</a:t>
            </a:r>
            <a:r>
              <a:rPr b="1" lang="en-US" sz="2800" spc="-1" strike="noStrike">
                <a:solidFill>
                  <a:srgbClr val="000033"/>
                </a:solidFill>
                <a:latin typeface="Times-Roman;Times New Roman"/>
                <a:ea typeface="Times-Roman;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33"/>
                </a:solidFill>
                <a:latin typeface="Times-Roman;Times New Roman"/>
                <a:ea typeface="Times-Roman;Times New Roman"/>
              </a:rPr>
              <a:t>7) адаптация учебного материала;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33"/>
                </a:solidFill>
                <a:latin typeface="Times-Roman;Times New Roman"/>
                <a:ea typeface="Times-Roman;Times New Roman"/>
              </a:rPr>
              <a:t>8) обучение самостоятельной работе.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"/>
          <p:cNvSpPr/>
          <p:nvPr/>
        </p:nvSpPr>
        <p:spPr>
          <a:xfrm>
            <a:off x="2160720" y="379440"/>
            <a:ext cx="521964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33"/>
                </a:solidFill>
                <a:latin typeface="Times New Roman"/>
              </a:rPr>
              <a:t>ПИКТОГРАММЫ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756" name="" descr=""/>
          <p:cNvPicPr/>
          <p:nvPr/>
        </p:nvPicPr>
        <p:blipFill>
          <a:blip r:embed="rId1"/>
          <a:stretch/>
        </p:blipFill>
        <p:spPr>
          <a:xfrm>
            <a:off x="539640" y="1619280"/>
            <a:ext cx="2880000" cy="4319640"/>
          </a:xfrm>
          <a:prstGeom prst="rect">
            <a:avLst/>
          </a:prstGeom>
          <a:ln w="0">
            <a:noFill/>
          </a:ln>
        </p:spPr>
      </p:pic>
      <p:pic>
        <p:nvPicPr>
          <p:cNvPr id="757" name="" descr=""/>
          <p:cNvPicPr/>
          <p:nvPr/>
        </p:nvPicPr>
        <p:blipFill>
          <a:blip r:embed="rId2"/>
          <a:stretch/>
        </p:blipFill>
        <p:spPr>
          <a:xfrm>
            <a:off x="4140360" y="1246320"/>
            <a:ext cx="2339640" cy="1274760"/>
          </a:xfrm>
          <a:prstGeom prst="rect">
            <a:avLst/>
          </a:prstGeom>
          <a:ln w="0">
            <a:noFill/>
          </a:ln>
        </p:spPr>
      </p:pic>
      <p:pic>
        <p:nvPicPr>
          <p:cNvPr id="758" name="" descr=""/>
          <p:cNvPicPr/>
          <p:nvPr/>
        </p:nvPicPr>
        <p:blipFill>
          <a:blip r:embed="rId3"/>
          <a:stretch/>
        </p:blipFill>
        <p:spPr>
          <a:xfrm>
            <a:off x="6300720" y="2700360"/>
            <a:ext cx="2293920" cy="1260360"/>
          </a:xfrm>
          <a:prstGeom prst="rect">
            <a:avLst/>
          </a:prstGeom>
          <a:ln w="0">
            <a:noFill/>
          </a:ln>
        </p:spPr>
      </p:pic>
      <p:pic>
        <p:nvPicPr>
          <p:cNvPr id="759" name="" descr=""/>
          <p:cNvPicPr/>
          <p:nvPr/>
        </p:nvPicPr>
        <p:blipFill>
          <a:blip r:embed="rId4"/>
          <a:stretch/>
        </p:blipFill>
        <p:spPr>
          <a:xfrm>
            <a:off x="4140360" y="4140360"/>
            <a:ext cx="2339640" cy="1290600"/>
          </a:xfrm>
          <a:prstGeom prst="rect">
            <a:avLst/>
          </a:prstGeom>
          <a:ln w="0">
            <a:noFill/>
          </a:ln>
        </p:spPr>
      </p:pic>
      <p:pic>
        <p:nvPicPr>
          <p:cNvPr id="760" name="" descr=""/>
          <p:cNvPicPr/>
          <p:nvPr/>
        </p:nvPicPr>
        <p:blipFill>
          <a:blip r:embed="rId5"/>
          <a:stretch/>
        </p:blipFill>
        <p:spPr>
          <a:xfrm>
            <a:off x="6662880" y="5219640"/>
            <a:ext cx="1976400" cy="116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2160720" y="379440"/>
            <a:ext cx="504036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33"/>
                </a:solidFill>
                <a:latin typeface="Times New Roman"/>
              </a:rPr>
              <a:t>ПИКТОГРАММЫ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762" name="" descr=""/>
          <p:cNvPicPr/>
          <p:nvPr/>
        </p:nvPicPr>
        <p:blipFill>
          <a:blip r:embed="rId1"/>
          <a:stretch/>
        </p:blipFill>
        <p:spPr>
          <a:xfrm>
            <a:off x="360360" y="1252440"/>
            <a:ext cx="3419640" cy="2347920"/>
          </a:xfrm>
          <a:prstGeom prst="rect">
            <a:avLst/>
          </a:prstGeom>
          <a:ln w="0">
            <a:noFill/>
          </a:ln>
        </p:spPr>
      </p:pic>
      <p:pic>
        <p:nvPicPr>
          <p:cNvPr id="763" name="" descr=""/>
          <p:cNvPicPr/>
          <p:nvPr/>
        </p:nvPicPr>
        <p:blipFill>
          <a:blip r:embed="rId2"/>
          <a:stretch/>
        </p:blipFill>
        <p:spPr>
          <a:xfrm>
            <a:off x="5940360" y="1600200"/>
            <a:ext cx="2527200" cy="3259080"/>
          </a:xfrm>
          <a:prstGeom prst="rect">
            <a:avLst/>
          </a:prstGeom>
          <a:ln w="0">
            <a:noFill/>
          </a:ln>
        </p:spPr>
      </p:pic>
      <p:pic>
        <p:nvPicPr>
          <p:cNvPr id="764" name="" descr=""/>
          <p:cNvPicPr/>
          <p:nvPr/>
        </p:nvPicPr>
        <p:blipFill>
          <a:blip r:embed="rId3"/>
          <a:stretch/>
        </p:blipFill>
        <p:spPr>
          <a:xfrm>
            <a:off x="1979640" y="3921120"/>
            <a:ext cx="3554280" cy="255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900000" y="179280"/>
            <a:ext cx="774072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33"/>
                </a:solidFill>
                <a:latin typeface="Times New Roman"/>
              </a:rPr>
              <a:t>Адаптация учебного материала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6" name=""/>
          <p:cNvSpPr/>
          <p:nvPr/>
        </p:nvSpPr>
        <p:spPr>
          <a:xfrm>
            <a:off x="3419640" y="790560"/>
            <a:ext cx="5040000" cy="13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33"/>
                </a:solidFill>
                <a:latin typeface="Times-Roman;Times New Roman"/>
              </a:rPr>
              <a:t>«я слышу, и я забываю,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33"/>
                </a:solidFill>
                <a:latin typeface="Times-Roman;Times New Roman"/>
              </a:rPr>
              <a:t>я вижу, и я запоминаю,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33"/>
                </a:solidFill>
                <a:latin typeface="Times-Roman;Times New Roman"/>
              </a:rPr>
              <a:t>я делаю, и я понимаю»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179280" y="1079640"/>
            <a:ext cx="3419640" cy="1619280"/>
          </a:xfrm>
          <a:prstGeom prst="ellipse">
            <a:avLst/>
          </a:prstGeom>
          <a:solidFill>
            <a:srgbClr val="99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8" name=""/>
          <p:cNvSpPr/>
          <p:nvPr/>
        </p:nvSpPr>
        <p:spPr>
          <a:xfrm>
            <a:off x="179280" y="1353960"/>
            <a:ext cx="3240360" cy="9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Математические представления — работа по заданному алгоритму 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9" name=""/>
          <p:cNvSpPr/>
          <p:nvPr/>
        </p:nvSpPr>
        <p:spPr>
          <a:xfrm>
            <a:off x="539640" y="2879640"/>
            <a:ext cx="3600720" cy="1800360"/>
          </a:xfrm>
          <a:prstGeom prst="ellipse">
            <a:avLst/>
          </a:prstGeom>
          <a:solidFill>
            <a:srgbClr val="99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0" name=""/>
          <p:cNvSpPr/>
          <p:nvPr/>
        </p:nvSpPr>
        <p:spPr>
          <a:xfrm>
            <a:off x="1260360" y="4859280"/>
            <a:ext cx="3780000" cy="1619280"/>
          </a:xfrm>
          <a:prstGeom prst="ellipse">
            <a:avLst/>
          </a:prstGeom>
          <a:solidFill>
            <a:srgbClr val="99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1" name=""/>
          <p:cNvSpPr/>
          <p:nvPr/>
        </p:nvSpPr>
        <p:spPr>
          <a:xfrm>
            <a:off x="900000" y="3240000"/>
            <a:ext cx="360072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Естественно-гуманитарный цикл — учебные фильмы, презентации, практические задания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2" name=""/>
          <p:cNvSpPr/>
          <p:nvPr/>
        </p:nvSpPr>
        <p:spPr>
          <a:xfrm>
            <a:off x="1800360" y="5111640"/>
            <a:ext cx="341928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Коррекция письма — дополнительная разлиновка, увеличенный формат тетрадей 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3" name=""/>
          <p:cNvSpPr/>
          <p:nvPr/>
        </p:nvSpPr>
        <p:spPr>
          <a:xfrm>
            <a:off x="4319640" y="2340000"/>
            <a:ext cx="3419280" cy="1619280"/>
          </a:xfrm>
          <a:prstGeom prst="ellipse">
            <a:avLst/>
          </a:prstGeom>
          <a:solidFill>
            <a:srgbClr val="99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4" name=""/>
          <p:cNvSpPr/>
          <p:nvPr/>
        </p:nvSpPr>
        <p:spPr>
          <a:xfrm>
            <a:off x="4500720" y="2700360"/>
            <a:ext cx="324000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Трудности понимания речи — поэтапное объяснение, выделение ключевых слов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5" name=""/>
          <p:cNvSpPr/>
          <p:nvPr/>
        </p:nvSpPr>
        <p:spPr>
          <a:xfrm>
            <a:off x="5219640" y="4319640"/>
            <a:ext cx="3600360" cy="1619280"/>
          </a:xfrm>
          <a:prstGeom prst="ellipse">
            <a:avLst/>
          </a:prstGeom>
          <a:solidFill>
            <a:srgbClr val="99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6" name=""/>
          <p:cNvSpPr/>
          <p:nvPr/>
        </p:nvSpPr>
        <p:spPr>
          <a:xfrm>
            <a:off x="5580000" y="4572000"/>
            <a:ext cx="32400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Трудности понимания письменной речи — адаптирование текстов для чтения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/>
          <p:nvPr/>
        </p:nvSpPr>
        <p:spPr>
          <a:xfrm>
            <a:off x="903240" y="360360"/>
            <a:ext cx="7437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cffff"/>
                </a:solidFill>
                <a:latin typeface="Times New Roman"/>
              </a:rPr>
              <a:t>ВАЖНО!!!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8" name=""/>
          <p:cNvSpPr/>
          <p:nvPr/>
        </p:nvSpPr>
        <p:spPr>
          <a:xfrm>
            <a:off x="179280" y="1079640"/>
            <a:ext cx="864072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33"/>
                </a:solidFill>
                <a:latin typeface="Times New Roman"/>
              </a:rPr>
              <a:t>- то, что не подкреплено наглядностью или практическим действием не запоминается ребенком;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33"/>
                </a:solidFill>
                <a:latin typeface="Times New Roman"/>
              </a:rPr>
              <a:t>- все абстрактные понятия будут усвоены только через образец или алгоритм.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779" name="" descr=""/>
          <p:cNvPicPr/>
          <p:nvPr/>
        </p:nvPicPr>
        <p:blipFill>
          <a:blip r:embed="rId1"/>
          <a:stretch/>
        </p:blipFill>
        <p:spPr>
          <a:xfrm>
            <a:off x="2700360" y="4500720"/>
            <a:ext cx="3419280" cy="1915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11:40:51Z</dcterms:created>
  <dc:creator>Marya Peleshak</dc:creator>
  <dc:description/>
  <dc:language>en-US</dc:language>
  <cp:lastModifiedBy>Учитель 10</cp:lastModifiedBy>
  <dcterms:modified xsi:type="dcterms:W3CDTF">2014-03-20T09:17:00Z</dcterms:modified>
  <cp:revision>3</cp:revision>
  <dc:subject/>
  <dc:title>Презентация PowerPoint</dc:title>
</cp:coreProperties>
</file>