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0C8-5408-41EB-A146-42EC51E3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F99-CE08-4D84-AEA6-79BCA104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2FC-109C-4D04-81A5-EFE400EB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49A-76F6-429D-9C00-461B8F7F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5EA7-127E-4039-996A-757BD6F5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04A9-18A8-48E4-A4DB-0403F6CA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0797-F28D-41B3-B2FC-8A36CB73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7029-5EAE-4E10-8961-9BAB6DB0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102F-546C-495D-B118-A8C336C7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54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9990-6280-4D8D-8751-DB57FC07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1D50-9E15-410B-B2BF-25E70213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470-2460-4B82-8530-30B99A90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A983-8606-425B-AC87-909BF366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A1DC-42CB-48DC-8894-F913937B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EEEF-8318-4264-BACF-B8509C83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2C1E-14B5-44CD-A129-083A0C0E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3057-984F-4D93-89F9-1EAF58E1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583F-BEE2-4A6F-AD1A-A2C5062B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B08-C809-4070-8F1B-A15F848A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FB8-8DF4-4094-B414-772154CB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54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7DD-99CA-4456-84F3-749BEBE2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17B4-8B06-4B77-A466-AC8D581B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805-F44F-45BC-A7B9-31A75C6C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0C7-4230-4CD4-A8D7-F639B83B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58040" cy="6868800"/>
            <a:chOff x="0" y="0"/>
            <a:chExt cx="9158040" cy="6868800"/>
          </a:xfrm>
        </p:grpSpPr>
        <p:sp>
          <p:nvSpPr>
            <p:cNvPr id="1" name="Rectangle 2"/>
            <p:cNvSpPr/>
            <p:nvPr/>
          </p:nvSpPr>
          <p:spPr>
            <a:xfrm>
              <a:off x="0" y="6643800"/>
              <a:ext cx="8077320" cy="22500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8077320" cy="19980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7952040" y="0"/>
              <a:ext cx="1202760" cy="685656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7847280" y="46800"/>
              <a:ext cx="1292760" cy="6259320"/>
              <a:chOff x="7847280" y="46800"/>
              <a:chExt cx="1292760" cy="6259320"/>
            </a:xfrm>
          </p:grpSpPr>
          <p:grpSp>
            <p:nvGrpSpPr>
              <p:cNvPr id="5" name="Group 6"/>
              <p:cNvGrpSpPr/>
              <p:nvPr/>
            </p:nvGrpSpPr>
            <p:grpSpPr>
              <a:xfrm>
                <a:off x="8380080" y="46800"/>
                <a:ext cx="759960" cy="2221920"/>
                <a:chOff x="8380080" y="46800"/>
                <a:chExt cx="759960" cy="2221920"/>
              </a:xfrm>
            </p:grpSpPr>
            <p:grpSp>
              <p:nvGrpSpPr>
                <p:cNvPr id="6" name="Group 7"/>
                <p:cNvGrpSpPr/>
                <p:nvPr/>
              </p:nvGrpSpPr>
              <p:grpSpPr>
                <a:xfrm>
                  <a:off x="8631720" y="46800"/>
                  <a:ext cx="416520" cy="181800"/>
                  <a:chOff x="8631720" y="46800"/>
                  <a:chExt cx="416520" cy="181800"/>
                </a:xfrm>
              </p:grpSpPr>
              <p:grpSp>
                <p:nvGrpSpPr>
                  <p:cNvPr id="7" name="Group 8"/>
                  <p:cNvGrpSpPr/>
                  <p:nvPr/>
                </p:nvGrpSpPr>
                <p:grpSpPr>
                  <a:xfrm>
                    <a:off x="8631720" y="46800"/>
                    <a:ext cx="416520" cy="181800"/>
                    <a:chOff x="8631720" y="46800"/>
                    <a:chExt cx="416520" cy="181800"/>
                  </a:xfrm>
                </p:grpSpPr>
                <p:sp>
                  <p:nvSpPr>
                    <p:cNvPr id="8" name="Freeform 9"/>
                    <p:cNvSpPr/>
                    <p:nvPr/>
                  </p:nvSpPr>
                  <p:spPr>
                    <a:xfrm rot="16200000">
                      <a:off x="8773200" y="-94320"/>
                      <a:ext cx="13356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0"/>
                    <p:cNvSpPr/>
                    <p:nvPr/>
                  </p:nvSpPr>
                  <p:spPr>
                    <a:xfrm rot="16200000">
                      <a:off x="8763480" y="13680"/>
                      <a:ext cx="9252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1"/>
                  <p:cNvSpPr/>
                  <p:nvPr/>
                </p:nvSpPr>
                <p:spPr>
                  <a:xfrm rot="16200000">
                    <a:off x="8821800" y="122760"/>
                    <a:ext cx="16920" cy="392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 rot="16200000">
                    <a:off x="8726760" y="72000"/>
                    <a:ext cx="284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 rot="16200000">
                    <a:off x="8843760" y="72000"/>
                    <a:ext cx="4284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 rot="16200000">
                    <a:off x="8924040" y="101160"/>
                    <a:ext cx="154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 rot="16200000">
                    <a:off x="8841600" y="157320"/>
                    <a:ext cx="42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 rot="16200000">
                    <a:off x="8748720" y="138960"/>
                    <a:ext cx="252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0080" y="22788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5560" y="2278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7960" y="53244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2000" y="912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5560" y="8366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4280" y="12175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5560" y="15980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5560" y="1978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5"/>
              <p:cNvGrpSpPr/>
              <p:nvPr/>
            </p:nvGrpSpPr>
            <p:grpSpPr>
              <a:xfrm>
                <a:off x="7847280" y="1599480"/>
                <a:ext cx="826200" cy="4706640"/>
                <a:chOff x="7847280" y="1599480"/>
                <a:chExt cx="826200" cy="4706640"/>
              </a:xfrm>
            </p:grpSpPr>
            <p:pic>
              <p:nvPicPr>
                <p:cNvPr id="25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0760" y="1599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7080" y="19040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0760" y="251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9000" y="27414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8840" y="28936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5160" y="319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9000" y="3274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3040" y="37314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2880" y="350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2880" y="388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0760" y="41122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3040" y="220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7280" y="43405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2880" y="487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3040" y="525456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2880" y="5406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5160" y="56350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2880" y="6015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7080" y="58633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5"/>
            <p:cNvSpPr/>
            <p:nvPr/>
          </p:nvSpPr>
          <p:spPr>
            <a:xfrm>
              <a:off x="7952040" y="4907520"/>
              <a:ext cx="1190160" cy="19393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7937640" y="4856760"/>
              <a:ext cx="1218960" cy="19994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7"/>
            <p:cNvSpPr/>
            <p:nvPr/>
          </p:nvSpPr>
          <p:spPr>
            <a:xfrm>
              <a:off x="7926480" y="2817000"/>
              <a:ext cx="1231560" cy="40359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8"/>
            <p:cNvSpPr/>
            <p:nvPr/>
          </p:nvSpPr>
          <p:spPr>
            <a:xfrm>
              <a:off x="8008920" y="3537360"/>
              <a:ext cx="979200" cy="21837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49"/>
            <p:cNvSpPr/>
            <p:nvPr/>
          </p:nvSpPr>
          <p:spPr>
            <a:xfrm>
              <a:off x="8242560" y="426600"/>
              <a:ext cx="914040" cy="50472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0"/>
            <p:cNvSpPr/>
            <p:nvPr/>
          </p:nvSpPr>
          <p:spPr>
            <a:xfrm>
              <a:off x="8248680" y="261720"/>
              <a:ext cx="909360" cy="30708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1"/>
            <p:cNvSpPr/>
            <p:nvPr/>
          </p:nvSpPr>
          <p:spPr>
            <a:xfrm>
              <a:off x="7942320" y="0"/>
              <a:ext cx="576000" cy="33519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2"/>
            <p:cNvSpPr/>
            <p:nvPr/>
          </p:nvSpPr>
          <p:spPr>
            <a:xfrm>
              <a:off x="7942320" y="1080"/>
              <a:ext cx="299880" cy="33523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3"/>
            <p:cNvSpPr/>
            <p:nvPr/>
          </p:nvSpPr>
          <p:spPr>
            <a:xfrm>
              <a:off x="7864560" y="1080"/>
              <a:ext cx="8856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4"/>
            <p:cNvSpPr/>
            <p:nvPr/>
          </p:nvSpPr>
          <p:spPr>
            <a:xfrm>
              <a:off x="7956720" y="6228000"/>
              <a:ext cx="1164960" cy="61884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5"/>
            <p:cNvSpPr/>
            <p:nvPr/>
          </p:nvSpPr>
          <p:spPr>
            <a:xfrm rot="5400000">
              <a:off x="4324680" y="331560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741BBC-CD6E-46AD-8A14-1513E7E9FF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"/>
          <p:cNvGrpSpPr/>
          <p:nvPr/>
        </p:nvGrpSpPr>
        <p:grpSpPr>
          <a:xfrm>
            <a:off x="0" y="0"/>
            <a:ext cx="9158040" cy="6868800"/>
            <a:chOff x="0" y="0"/>
            <a:chExt cx="9158040" cy="6868800"/>
          </a:xfrm>
        </p:grpSpPr>
        <p:sp>
          <p:nvSpPr>
            <p:cNvPr id="97" name="Rectangle 2"/>
            <p:cNvSpPr/>
            <p:nvPr/>
          </p:nvSpPr>
          <p:spPr>
            <a:xfrm>
              <a:off x="0" y="6643800"/>
              <a:ext cx="8077320" cy="22500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3"/>
            <p:cNvSpPr/>
            <p:nvPr/>
          </p:nvSpPr>
          <p:spPr>
            <a:xfrm>
              <a:off x="0" y="0"/>
              <a:ext cx="8077320" cy="19980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4"/>
            <p:cNvSpPr/>
            <p:nvPr/>
          </p:nvSpPr>
          <p:spPr>
            <a:xfrm>
              <a:off x="7952040" y="0"/>
              <a:ext cx="1202760" cy="685656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5"/>
            <p:cNvGrpSpPr/>
            <p:nvPr/>
          </p:nvGrpSpPr>
          <p:grpSpPr>
            <a:xfrm>
              <a:off x="7847280" y="46800"/>
              <a:ext cx="1292760" cy="6259320"/>
              <a:chOff x="7847280" y="46800"/>
              <a:chExt cx="1292760" cy="6259320"/>
            </a:xfrm>
          </p:grpSpPr>
          <p:grpSp>
            <p:nvGrpSpPr>
              <p:cNvPr id="101" name="Group 6"/>
              <p:cNvGrpSpPr/>
              <p:nvPr/>
            </p:nvGrpSpPr>
            <p:grpSpPr>
              <a:xfrm>
                <a:off x="8380080" y="46800"/>
                <a:ext cx="759960" cy="2221920"/>
                <a:chOff x="8380080" y="46800"/>
                <a:chExt cx="759960" cy="2221920"/>
              </a:xfrm>
            </p:grpSpPr>
            <p:grpSp>
              <p:nvGrpSpPr>
                <p:cNvPr id="102" name="Group 7"/>
                <p:cNvGrpSpPr/>
                <p:nvPr/>
              </p:nvGrpSpPr>
              <p:grpSpPr>
                <a:xfrm>
                  <a:off x="8631720" y="46800"/>
                  <a:ext cx="416520" cy="181800"/>
                  <a:chOff x="8631720" y="46800"/>
                  <a:chExt cx="416520" cy="181800"/>
                </a:xfrm>
              </p:grpSpPr>
              <p:grpSp>
                <p:nvGrpSpPr>
                  <p:cNvPr id="103" name="Group 8"/>
                  <p:cNvGrpSpPr/>
                  <p:nvPr/>
                </p:nvGrpSpPr>
                <p:grpSpPr>
                  <a:xfrm>
                    <a:off x="8631720" y="46800"/>
                    <a:ext cx="416520" cy="181800"/>
                    <a:chOff x="8631720" y="46800"/>
                    <a:chExt cx="416520" cy="181800"/>
                  </a:xfrm>
                </p:grpSpPr>
                <p:sp>
                  <p:nvSpPr>
                    <p:cNvPr id="104" name="Freeform 9"/>
                    <p:cNvSpPr/>
                    <p:nvPr/>
                  </p:nvSpPr>
                  <p:spPr>
                    <a:xfrm rot="16200000">
                      <a:off x="8773200" y="-94320"/>
                      <a:ext cx="13356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0"/>
                    <p:cNvSpPr/>
                    <p:nvPr/>
                  </p:nvSpPr>
                  <p:spPr>
                    <a:xfrm rot="16200000">
                      <a:off x="8763480" y="13680"/>
                      <a:ext cx="9252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1"/>
                  <p:cNvSpPr/>
                  <p:nvPr/>
                </p:nvSpPr>
                <p:spPr>
                  <a:xfrm rot="16200000">
                    <a:off x="8821800" y="122760"/>
                    <a:ext cx="16920" cy="392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2"/>
                  <p:cNvSpPr/>
                  <p:nvPr/>
                </p:nvSpPr>
                <p:spPr>
                  <a:xfrm rot="16200000">
                    <a:off x="8726760" y="72000"/>
                    <a:ext cx="284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3"/>
                  <p:cNvSpPr/>
                  <p:nvPr/>
                </p:nvSpPr>
                <p:spPr>
                  <a:xfrm rot="16200000">
                    <a:off x="8843760" y="72000"/>
                    <a:ext cx="4284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4"/>
                  <p:cNvSpPr/>
                  <p:nvPr/>
                </p:nvSpPr>
                <p:spPr>
                  <a:xfrm rot="16200000">
                    <a:off x="8924040" y="101160"/>
                    <a:ext cx="154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5"/>
                  <p:cNvSpPr/>
                  <p:nvPr/>
                </p:nvSpPr>
                <p:spPr>
                  <a:xfrm rot="16200000">
                    <a:off x="8841600" y="157320"/>
                    <a:ext cx="42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6"/>
                  <p:cNvSpPr/>
                  <p:nvPr/>
                </p:nvSpPr>
                <p:spPr>
                  <a:xfrm rot="16200000">
                    <a:off x="8748720" y="138960"/>
                    <a:ext cx="252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0080" y="22788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5560" y="2278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7960" y="53244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2000" y="912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5560" y="8366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4280" y="12175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5560" y="15980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5560" y="1978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5"/>
              <p:cNvGrpSpPr/>
              <p:nvPr/>
            </p:nvGrpSpPr>
            <p:grpSpPr>
              <a:xfrm>
                <a:off x="7847280" y="1599480"/>
                <a:ext cx="826200" cy="4706640"/>
                <a:chOff x="7847280" y="1599480"/>
                <a:chExt cx="826200" cy="4706640"/>
              </a:xfrm>
            </p:grpSpPr>
            <p:pic>
              <p:nvPicPr>
                <p:cNvPr id="121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0760" y="1599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7080" y="19040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0760" y="251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9000" y="27414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8840" y="28936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5160" y="319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9000" y="3274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3040" y="37314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2880" y="350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2880" y="388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0760" y="41122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3040" y="220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7280" y="43405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2880" y="487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3040" y="525456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2880" y="5406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5160" y="56350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2880" y="6015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7080" y="58633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5"/>
            <p:cNvSpPr/>
            <p:nvPr/>
          </p:nvSpPr>
          <p:spPr>
            <a:xfrm>
              <a:off x="7952040" y="4907520"/>
              <a:ext cx="1190160" cy="19393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6"/>
            <p:cNvSpPr/>
            <p:nvPr/>
          </p:nvSpPr>
          <p:spPr>
            <a:xfrm>
              <a:off x="7937640" y="4856760"/>
              <a:ext cx="1218960" cy="19994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7"/>
            <p:cNvSpPr/>
            <p:nvPr/>
          </p:nvSpPr>
          <p:spPr>
            <a:xfrm>
              <a:off x="7926480" y="2817000"/>
              <a:ext cx="1231560" cy="40359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8"/>
            <p:cNvSpPr/>
            <p:nvPr/>
          </p:nvSpPr>
          <p:spPr>
            <a:xfrm>
              <a:off x="8008920" y="3537360"/>
              <a:ext cx="979200" cy="21837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49"/>
            <p:cNvSpPr/>
            <p:nvPr/>
          </p:nvSpPr>
          <p:spPr>
            <a:xfrm>
              <a:off x="8242560" y="426600"/>
              <a:ext cx="914040" cy="50472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0"/>
            <p:cNvSpPr/>
            <p:nvPr/>
          </p:nvSpPr>
          <p:spPr>
            <a:xfrm>
              <a:off x="8248680" y="261720"/>
              <a:ext cx="909360" cy="30708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>
              <a:off x="7942320" y="0"/>
              <a:ext cx="576000" cy="33519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2"/>
            <p:cNvSpPr/>
            <p:nvPr/>
          </p:nvSpPr>
          <p:spPr>
            <a:xfrm>
              <a:off x="7942320" y="1080"/>
              <a:ext cx="299880" cy="33523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7864560" y="1080"/>
              <a:ext cx="8856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4"/>
            <p:cNvSpPr/>
            <p:nvPr/>
          </p:nvSpPr>
          <p:spPr>
            <a:xfrm>
              <a:off x="7956720" y="6228000"/>
              <a:ext cx="1164960" cy="61884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5"/>
            <p:cNvSpPr/>
            <p:nvPr/>
          </p:nvSpPr>
          <p:spPr>
            <a:xfrm rot="5400000">
              <a:off x="4324680" y="331560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370160"/>
            <a:ext cx="69642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D46DB1-C901-4866-9A8E-D05E8A7391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637236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ильные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ы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ини-музея «кукольный дом»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816360" cy="27176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7"/>
          <p:cNvSpPr/>
          <p:nvPr/>
        </p:nvSpPr>
        <p:spPr>
          <a:xfrm>
            <a:off x="1904400" y="5732640"/>
            <a:ext cx="50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воспитатель МАДОУ ЦРР № 8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акчеева В.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Рисунок 4" descr="1310774712_resize-of-5ff6358a410a.jpg"/>
          <p:cNvPicPr/>
          <p:nvPr/>
        </p:nvPicPr>
        <p:blipFill>
          <a:blip r:embed="rId2"/>
          <a:stretch/>
        </p:blipFill>
        <p:spPr>
          <a:xfrm>
            <a:off x="4284720" y="2565360"/>
            <a:ext cx="3282840" cy="271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533520" y="37908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закончить о Тильде я хочу словами ее создательницы Tonne Finang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0" y="1841040"/>
            <a:ext cx="7666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обожаю Тильду из-за ее невероят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нствен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рочитой безупреч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редставляю себе Тильду, выходящей из дома в бальн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тье и резиновых сапог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рустальной вазе у нее стоит букет из сорняк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розы – в старом кувшин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ее собственный взгляд на красоту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6297480" y="4508640"/>
            <a:ext cx="2522520" cy="2189160"/>
          </a:xfrm>
          <a:prstGeom prst="rect">
            <a:avLst/>
          </a:prstGeom>
          <a:ln w="9360">
            <a:solidFill>
              <a:srgbClr val="00cc99"/>
            </a:solidFill>
            <a:round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9880"/>
            <a:ext cx="6966000" cy="67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Тильд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эта кукла, которая может нести на себе образ человека (мужчина, женщина, ребенок), ангела, сказочного персонажа (фея, гном и др.), животного (овечка, кот, кролик и др.) или даже предмета (сердечко, звездочка, подушечка и др.), созданных по дизайну норвежской художницы Тони Финнангер чуть более 10 лет назад</a:t>
            </a: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76520" cy="4343400"/>
          </a:xfrm>
          <a:prstGeom prst="rect">
            <a:avLst/>
          </a:prstGeom>
          <a:ln w="28440">
            <a:solidFill>
              <a:srgbClr val="47ffd1"/>
            </a:solidFill>
            <a:round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4040"/>
            <a:ext cx="74772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рия создания.</a:t>
            </a:r>
            <a:br>
              <a:rPr sz="3600"/>
            </a:b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7386840" cy="75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8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ервая кукла была сшита норвежкой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оне Финангер (Tonne Finange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gi"/>
              </a:rPr>
              <a:t>А в 1999 году случилось 2 знаменательных события – выход книг «Тильда Рождество» и «Тильда Пасха», а также открытие магазина, в котором продавались мастер-классы по изготовлению этих необычных кукол и материалы для них. Начиная с этого момента, весь мир охватила «Тильдомания». Каждая рукодельница осваивала технику изготовления кукол, привнося что-то свое. Создавались сообщества любителей Тильд, открывались форумы и сайты, где можно было передать свой опыт и обсудить выкройки и процесс шитья. Сейчас всеобщая любовь к Тильдам все растет, и нас продолжают радовать задорная зубная фея, неуклюжие вислоухие зайцы и кролики, смешной лось, летящий кот, Мишка, Хозяюшка и трогательные ангелы, нашли свое место в интерьере дома домашние феи и загадочные челов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Содержимое 3" descr="4fei1aKZ-Qo.jpg"/>
          <p:cNvPicPr/>
          <p:nvPr/>
        </p:nvPicPr>
        <p:blipFill>
          <a:blip r:embed="rId1"/>
          <a:stretch/>
        </p:blipFill>
        <p:spPr>
          <a:xfrm>
            <a:off x="7308720" y="260280"/>
            <a:ext cx="168912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738648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ем бы ни была игрушка - тильда – купальщицей, ангелом, медвежонком, кошечкой, улиткой или зайчиком – она всегда обладает набором характерных черт, особеннос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609480" y="4419720"/>
            <a:ext cx="65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авайте подумаем какие это особенности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98360" y="330120"/>
            <a:ext cx="721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льд не перепутаеш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 с какой другой рукотворной кукл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6875640" y="3357720"/>
            <a:ext cx="2104920" cy="3276360"/>
          </a:xfrm>
          <a:prstGeom prst="rect">
            <a:avLst/>
          </a:prstGeom>
          <a:ln w="9360">
            <a:solidFill>
              <a:srgbClr val="47ffd1"/>
            </a:solidFill>
            <a:round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0" y="189000"/>
            <a:ext cx="4505400" cy="5756040"/>
          </a:xfrm>
          <a:prstGeom prst="rect">
            <a:avLst/>
          </a:prstGeom>
          <a:ln w="28440">
            <a:solidFill>
              <a:srgbClr val="47ffd1"/>
            </a:solidFill>
            <a:round/>
          </a:ln>
        </p:spPr>
      </p:pic>
      <p:pic>
        <p:nvPicPr>
          <p:cNvPr id="206" name="Содержимое 3" descr="Wb8jMDcsV2I.jpg"/>
          <p:cNvPicPr/>
          <p:nvPr/>
        </p:nvPicPr>
        <p:blipFill>
          <a:blip r:embed="rId2"/>
          <a:stretch/>
        </p:blipFill>
        <p:spPr>
          <a:xfrm>
            <a:off x="4859280" y="393840"/>
            <a:ext cx="3745080" cy="53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арактерные черты кукол-тильд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73864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Это текстильная (тряпичная), набивная кук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304920" y="2514600"/>
            <a:ext cx="73864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1628640"/>
            <a:ext cx="73864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425520" indent="-425520"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емного несуразная пухленькая игрушка, с плавными закругленными лини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425520"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9800" y="2421000"/>
            <a:ext cx="77198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грушка с непропорционально длинными рук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огами, а зверюшки-тильды имеют простой крой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лые мордаш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-360" y="3644640"/>
            <a:ext cx="86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У каждой куклы свой характер, определенная рол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дополнительные аксессуары и даже место 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ственное им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5040" y="479916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Маленькие глазки-пуговки или узел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880" y="5254560"/>
            <a:ext cx="834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Использование преимущественно натуральных тка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опок, бязь, шерсть, лён, фланель, войло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тр для тела и тканей в стиле «кантри» для одеж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ные пастельные цве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Рисунок 9" descr="438905de2b80789.jpg"/>
          <p:cNvPicPr/>
          <p:nvPr/>
        </p:nvPicPr>
        <p:blipFill>
          <a:blip r:embed="rId1"/>
          <a:stretch/>
        </p:blipFill>
        <p:spPr>
          <a:xfrm>
            <a:off x="7043760" y="858960"/>
            <a:ext cx="2100240" cy="16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-4320" y="225360"/>
            <a:ext cx="777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Особенность кукол Тильд – отсутствие губ и нос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никто не запрещает их нарисов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чки красят пастельными карандаша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чными румянами на немасляной основ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риловыми крас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-3240" y="2055600"/>
            <a:ext cx="77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Одна и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шить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ль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ши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кани те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кл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кани для ее одежды пере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краива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-720" y="3198600"/>
            <a:ext cx="672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Особенность всех тильд – загорелая кож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ирается ткань по цвет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колорируем ткань при помощи коф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-2880" y="4341960"/>
            <a:ext cx="512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Среди этих кукол не найти дву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аковых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чная работ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-720" y="5103720"/>
            <a:ext cx="814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Для изготовления куклы не нужна швейная маши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клу можно сшить и вручн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е в работе – это внимательность, аккурат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ворческое отнош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6713640" y="2787480"/>
            <a:ext cx="2381040" cy="2381400"/>
          </a:xfrm>
          <a:prstGeom prst="rect">
            <a:avLst/>
          </a:prstGeom>
          <a:ln w="12600">
            <a:solidFill>
              <a:srgbClr val="47ffd1"/>
            </a:solidFill>
            <a:round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1447920" y="0"/>
            <a:ext cx="5486400" cy="6858000"/>
          </a:xfrm>
          <a:prstGeom prst="rect">
            <a:avLst/>
          </a:prstGeom>
          <a:ln w="38160">
            <a:solidFill>
              <a:srgbClr val="47ffd1"/>
            </a:solidFill>
            <a:round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83880"/>
            <a:ext cx="73915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спросите для чего нужна такая кукла?</a:t>
            </a:r>
            <a:br>
              <a:rPr sz="3600"/>
            </a:b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229680" y="1325880"/>
            <a:ext cx="66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клы Тильды могу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ть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-разном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0" y="190188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игрушки (и для детей, и для взрослых),как предметы интерь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особенно для стилей «Кантри» и «Прованс»)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х можно поселить в кухне и прихожей, посадить на диваны и кроват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кресла и пуфики, найти для них уютный уголок в шкафах и на полочка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обереги семейного очага, как оригинальные подарки, как воплощ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тских мечтаний и творческих порыв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Рисунок 4" descr="1667818_libelula3.jpg"/>
          <p:cNvPicPr/>
          <p:nvPr/>
        </p:nvPicPr>
        <p:blipFill>
          <a:blip r:embed="rId1"/>
          <a:stretch/>
        </p:blipFill>
        <p:spPr>
          <a:xfrm>
            <a:off x="6340320" y="4911840"/>
            <a:ext cx="2559240" cy="19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ня Яценко</dc:creator>
  <dc:description/>
  <dc:language>en-US</dc:language>
  <cp:lastModifiedBy>Саня Яценко</cp:lastModifiedBy>
  <dcterms:modified xsi:type="dcterms:W3CDTF">2016-11-17T21:27:1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