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1.wmf" ContentType="image/x-wmf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10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3BAE-42B6-4FED-9967-1CEB2F29E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CDAE-B989-4C11-9671-000AA91C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2836-4AF0-4FAD-9810-B28D8A7F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48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780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48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780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114C-742E-495C-9CF6-BDC92D15E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DC16-7454-4AD1-98C9-3D6281E8F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717C-373B-4BD2-80E8-BCBD33DF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574C-675F-45D9-A233-53894A84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50DB-DB24-4E6E-8E88-32BEC554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7B19-036D-4CC1-B6EE-9111B5FF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142920"/>
            <a:ext cx="747540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620F-A875-420D-AADC-24EDB017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D645-03CE-4A14-ACCA-3217F250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7D3B-9435-4F40-8FFA-EB188DA1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C2CA-4AED-4B3E-A950-6925228D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3333-AD6A-4461-AFAE-3973CF7D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887D-B007-49E8-B9DB-7E2F4DD8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CCC8-CE4D-4103-804D-390571A96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48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80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48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780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3ECD-09F5-495E-9881-48A2C86B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8D63-610C-4F0B-B318-2089FE9C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ACDC-BD28-41E7-91B3-0AAE9E52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E0CD-3D91-4608-8200-623FFEBC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142920"/>
            <a:ext cx="747540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CCEA-F352-49C3-A5F1-CE9E4FD5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F349-00AC-4E5C-8188-5FEC8EFA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0E3B-19B4-4927-B47E-95BB0EDF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54F1-1C2F-45B6-968F-A4394F9B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.xml"/><Relationship Id="rId32" Type="http://schemas.openxmlformats.org/officeDocument/2006/relationships/slideLayout" Target="../slideLayouts/slideLayout2.xml"/><Relationship Id="rId33" Type="http://schemas.openxmlformats.org/officeDocument/2006/relationships/slideLayout" Target="../slideLayouts/slideLayout3.xml"/><Relationship Id="rId34" Type="http://schemas.openxmlformats.org/officeDocument/2006/relationships/slideLayout" Target="../slideLayouts/slideLayout4.xml"/><Relationship Id="rId35" Type="http://schemas.openxmlformats.org/officeDocument/2006/relationships/slideLayout" Target="../slideLayouts/slideLayout5.xml"/><Relationship Id="rId36" Type="http://schemas.openxmlformats.org/officeDocument/2006/relationships/slideLayout" Target="../slideLayouts/slideLayout6.xml"/><Relationship Id="rId37" Type="http://schemas.openxmlformats.org/officeDocument/2006/relationships/slideLayout" Target="../slideLayouts/slideLayout7.xml"/><Relationship Id="rId38" Type="http://schemas.openxmlformats.org/officeDocument/2006/relationships/slideLayout" Target="../slideLayouts/slideLayout8.xml"/><Relationship Id="rId39" Type="http://schemas.openxmlformats.org/officeDocument/2006/relationships/slideLayout" Target="../slideLayouts/slideLayout9.xml"/><Relationship Id="rId40" Type="http://schemas.openxmlformats.org/officeDocument/2006/relationships/slideLayout" Target="../slideLayouts/slideLayout10.xml"/><Relationship Id="rId41" Type="http://schemas.openxmlformats.org/officeDocument/2006/relationships/slideLayout" Target="../slideLayouts/slideLayout11.xml"/><Relationship Id="rId4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58040" cy="6868800"/>
            <a:chOff x="0" y="0"/>
            <a:chExt cx="9158040" cy="6868800"/>
          </a:xfrm>
        </p:grpSpPr>
        <p:sp>
          <p:nvSpPr>
            <p:cNvPr id="1" name="Rectangle 2"/>
            <p:cNvSpPr/>
            <p:nvPr/>
          </p:nvSpPr>
          <p:spPr>
            <a:xfrm>
              <a:off x="0" y="6643800"/>
              <a:ext cx="8077320" cy="22500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0"/>
              <a:ext cx="8077320" cy="19980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7952040" y="0"/>
              <a:ext cx="1202760" cy="685656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5"/>
            <p:cNvGrpSpPr/>
            <p:nvPr/>
          </p:nvGrpSpPr>
          <p:grpSpPr>
            <a:xfrm>
              <a:off x="7847280" y="46800"/>
              <a:ext cx="1292760" cy="6259320"/>
              <a:chOff x="7847280" y="46800"/>
              <a:chExt cx="1292760" cy="6259320"/>
            </a:xfrm>
          </p:grpSpPr>
          <p:grpSp>
            <p:nvGrpSpPr>
              <p:cNvPr id="5" name="Group 6"/>
              <p:cNvGrpSpPr/>
              <p:nvPr/>
            </p:nvGrpSpPr>
            <p:grpSpPr>
              <a:xfrm>
                <a:off x="8380080" y="46800"/>
                <a:ext cx="759960" cy="2221920"/>
                <a:chOff x="8380080" y="46800"/>
                <a:chExt cx="759960" cy="2221920"/>
              </a:xfrm>
            </p:grpSpPr>
            <p:grpSp>
              <p:nvGrpSpPr>
                <p:cNvPr id="6" name="Group 7"/>
                <p:cNvGrpSpPr/>
                <p:nvPr/>
              </p:nvGrpSpPr>
              <p:grpSpPr>
                <a:xfrm>
                  <a:off x="8631720" y="46800"/>
                  <a:ext cx="416520" cy="181800"/>
                  <a:chOff x="8631720" y="46800"/>
                  <a:chExt cx="416520" cy="181800"/>
                </a:xfrm>
              </p:grpSpPr>
              <p:grpSp>
                <p:nvGrpSpPr>
                  <p:cNvPr id="7" name="Group 8"/>
                  <p:cNvGrpSpPr/>
                  <p:nvPr/>
                </p:nvGrpSpPr>
                <p:grpSpPr>
                  <a:xfrm>
                    <a:off x="8631720" y="46800"/>
                    <a:ext cx="416520" cy="181800"/>
                    <a:chOff x="8631720" y="46800"/>
                    <a:chExt cx="416520" cy="181800"/>
                  </a:xfrm>
                </p:grpSpPr>
                <p:sp>
                  <p:nvSpPr>
                    <p:cNvPr id="8" name="Freeform 9"/>
                    <p:cNvSpPr/>
                    <p:nvPr/>
                  </p:nvSpPr>
                  <p:spPr>
                    <a:xfrm rot="16200000">
                      <a:off x="8773200" y="-94320"/>
                      <a:ext cx="13356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0"/>
                    <p:cNvSpPr/>
                    <p:nvPr/>
                  </p:nvSpPr>
                  <p:spPr>
                    <a:xfrm rot="16200000">
                      <a:off x="8763480" y="13680"/>
                      <a:ext cx="92520" cy="33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1"/>
                  <p:cNvSpPr/>
                  <p:nvPr/>
                </p:nvSpPr>
                <p:spPr>
                  <a:xfrm rot="16200000">
                    <a:off x="8821800" y="122760"/>
                    <a:ext cx="16920" cy="392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 rot="16200000">
                    <a:off x="8726760" y="72000"/>
                    <a:ext cx="2844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 rot="16200000">
                    <a:off x="8843760" y="72000"/>
                    <a:ext cx="4284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 rot="16200000">
                    <a:off x="8924040" y="101160"/>
                    <a:ext cx="1548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 rot="16200000">
                    <a:off x="8841600" y="157320"/>
                    <a:ext cx="424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 rot="16200000">
                    <a:off x="8748720" y="138960"/>
                    <a:ext cx="252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0080" y="227880"/>
                  <a:ext cx="2948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5560" y="2278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07960" y="532440"/>
                  <a:ext cx="2948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2000" y="9129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5560" y="83664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4280" y="121752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5560" y="159804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5560" y="19785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5"/>
              <p:cNvGrpSpPr/>
              <p:nvPr/>
            </p:nvGrpSpPr>
            <p:grpSpPr>
              <a:xfrm>
                <a:off x="7847280" y="1599480"/>
                <a:ext cx="826200" cy="4706640"/>
                <a:chOff x="7847280" y="1599480"/>
                <a:chExt cx="826200" cy="4706640"/>
              </a:xfrm>
            </p:grpSpPr>
            <p:pic>
              <p:nvPicPr>
                <p:cNvPr id="25" name="Picture 26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0760" y="15994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7080" y="19040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0760" y="25131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79000" y="274140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7998840" y="289368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5160" y="31982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79000" y="32745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3040" y="373140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2880" y="35031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2880" y="38836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0760" y="41122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3040" y="22082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7280" y="434052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2880" y="48736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3040" y="525456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2880" y="54064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5160" y="563508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2880" y="60159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7080" y="586332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5"/>
            <p:cNvSpPr/>
            <p:nvPr/>
          </p:nvSpPr>
          <p:spPr>
            <a:xfrm>
              <a:off x="7952040" y="4907520"/>
              <a:ext cx="1190160" cy="193932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46"/>
            <p:cNvSpPr/>
            <p:nvPr/>
          </p:nvSpPr>
          <p:spPr>
            <a:xfrm>
              <a:off x="7937640" y="4856760"/>
              <a:ext cx="1218960" cy="199944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7"/>
            <p:cNvSpPr/>
            <p:nvPr/>
          </p:nvSpPr>
          <p:spPr>
            <a:xfrm>
              <a:off x="7926480" y="2817000"/>
              <a:ext cx="1231560" cy="403596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48"/>
            <p:cNvSpPr/>
            <p:nvPr/>
          </p:nvSpPr>
          <p:spPr>
            <a:xfrm>
              <a:off x="8008920" y="3537360"/>
              <a:ext cx="979200" cy="218376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49"/>
            <p:cNvSpPr/>
            <p:nvPr/>
          </p:nvSpPr>
          <p:spPr>
            <a:xfrm>
              <a:off x="8242560" y="426600"/>
              <a:ext cx="914040" cy="504720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50"/>
            <p:cNvSpPr/>
            <p:nvPr/>
          </p:nvSpPr>
          <p:spPr>
            <a:xfrm>
              <a:off x="8248680" y="261720"/>
              <a:ext cx="909360" cy="307080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51"/>
            <p:cNvSpPr/>
            <p:nvPr/>
          </p:nvSpPr>
          <p:spPr>
            <a:xfrm>
              <a:off x="7942320" y="0"/>
              <a:ext cx="576000" cy="335196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52"/>
            <p:cNvSpPr/>
            <p:nvPr/>
          </p:nvSpPr>
          <p:spPr>
            <a:xfrm>
              <a:off x="7942320" y="1080"/>
              <a:ext cx="299880" cy="335232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53"/>
            <p:cNvSpPr/>
            <p:nvPr/>
          </p:nvSpPr>
          <p:spPr>
            <a:xfrm>
              <a:off x="7864560" y="1080"/>
              <a:ext cx="8856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4"/>
            <p:cNvSpPr/>
            <p:nvPr/>
          </p:nvSpPr>
          <p:spPr>
            <a:xfrm>
              <a:off x="7956720" y="6228000"/>
              <a:ext cx="1164960" cy="61884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AutoShape 55"/>
            <p:cNvSpPr/>
            <p:nvPr/>
          </p:nvSpPr>
          <p:spPr>
            <a:xfrm rot="5400000">
              <a:off x="4324680" y="3315600"/>
              <a:ext cx="6856560" cy="225360"/>
            </a:xfrm>
            <a:custGeom>
              <a:avLst/>
              <a:gdLst>
                <a:gd name="textAreaLeft" fmla="*/ 668160 w 6856560"/>
                <a:gd name="textAreaRight" fmla="*/ 6188400 w 68565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2040"/>
            <a:ext cx="1781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200" y="6248520"/>
            <a:ext cx="3454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4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906148E-66F8-466C-90F9-34722F65E44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1"/>
    <p:sldLayoutId id="2147483650" r:id="rId32"/>
    <p:sldLayoutId id="2147483651" r:id="rId33"/>
    <p:sldLayoutId id="2147483652" r:id="rId34"/>
    <p:sldLayoutId id="2147483653" r:id="rId35"/>
    <p:sldLayoutId id="2147483654" r:id="rId36"/>
    <p:sldLayoutId id="2147483655" r:id="rId37"/>
    <p:sldLayoutId id="2147483656" r:id="rId38"/>
    <p:sldLayoutId id="2147483657" r:id="rId39"/>
    <p:sldLayoutId id="2147483658" r:id="rId40"/>
    <p:sldLayoutId id="2147483659" r:id="rId41"/>
    <p:sldLayoutId id="2147483660" r:id="rId4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1"/>
          <p:cNvGrpSpPr/>
          <p:nvPr/>
        </p:nvGrpSpPr>
        <p:grpSpPr>
          <a:xfrm>
            <a:off x="0" y="0"/>
            <a:ext cx="9158040" cy="6868800"/>
            <a:chOff x="0" y="0"/>
            <a:chExt cx="9158040" cy="6868800"/>
          </a:xfrm>
        </p:grpSpPr>
        <p:sp>
          <p:nvSpPr>
            <p:cNvPr id="97" name="Rectangle 2"/>
            <p:cNvSpPr/>
            <p:nvPr/>
          </p:nvSpPr>
          <p:spPr>
            <a:xfrm>
              <a:off x="0" y="6643800"/>
              <a:ext cx="8077320" cy="22500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3"/>
            <p:cNvSpPr/>
            <p:nvPr/>
          </p:nvSpPr>
          <p:spPr>
            <a:xfrm>
              <a:off x="0" y="0"/>
              <a:ext cx="8077320" cy="19980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4"/>
            <p:cNvSpPr/>
            <p:nvPr/>
          </p:nvSpPr>
          <p:spPr>
            <a:xfrm>
              <a:off x="7952040" y="0"/>
              <a:ext cx="1202760" cy="685656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" name="Group 5"/>
            <p:cNvGrpSpPr/>
            <p:nvPr/>
          </p:nvGrpSpPr>
          <p:grpSpPr>
            <a:xfrm>
              <a:off x="7847280" y="46800"/>
              <a:ext cx="1292760" cy="6259320"/>
              <a:chOff x="7847280" y="46800"/>
              <a:chExt cx="1292760" cy="6259320"/>
            </a:xfrm>
          </p:grpSpPr>
          <p:grpSp>
            <p:nvGrpSpPr>
              <p:cNvPr id="101" name="Group 6"/>
              <p:cNvGrpSpPr/>
              <p:nvPr/>
            </p:nvGrpSpPr>
            <p:grpSpPr>
              <a:xfrm>
                <a:off x="8380080" y="46800"/>
                <a:ext cx="759960" cy="2221920"/>
                <a:chOff x="8380080" y="46800"/>
                <a:chExt cx="759960" cy="2221920"/>
              </a:xfrm>
            </p:grpSpPr>
            <p:grpSp>
              <p:nvGrpSpPr>
                <p:cNvPr id="102" name="Group 7"/>
                <p:cNvGrpSpPr/>
                <p:nvPr/>
              </p:nvGrpSpPr>
              <p:grpSpPr>
                <a:xfrm>
                  <a:off x="8631720" y="46800"/>
                  <a:ext cx="416520" cy="181800"/>
                  <a:chOff x="8631720" y="46800"/>
                  <a:chExt cx="416520" cy="181800"/>
                </a:xfrm>
              </p:grpSpPr>
              <p:grpSp>
                <p:nvGrpSpPr>
                  <p:cNvPr id="103" name="Group 8"/>
                  <p:cNvGrpSpPr/>
                  <p:nvPr/>
                </p:nvGrpSpPr>
                <p:grpSpPr>
                  <a:xfrm>
                    <a:off x="8631720" y="46800"/>
                    <a:ext cx="416520" cy="181800"/>
                    <a:chOff x="8631720" y="46800"/>
                    <a:chExt cx="416520" cy="181800"/>
                  </a:xfrm>
                </p:grpSpPr>
                <p:sp>
                  <p:nvSpPr>
                    <p:cNvPr id="104" name="Freeform 9"/>
                    <p:cNvSpPr/>
                    <p:nvPr/>
                  </p:nvSpPr>
                  <p:spPr>
                    <a:xfrm rot="16200000">
                      <a:off x="8773200" y="-94320"/>
                      <a:ext cx="13356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0"/>
                    <p:cNvSpPr/>
                    <p:nvPr/>
                  </p:nvSpPr>
                  <p:spPr>
                    <a:xfrm rot="16200000">
                      <a:off x="8763480" y="13680"/>
                      <a:ext cx="92520" cy="33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1"/>
                  <p:cNvSpPr/>
                  <p:nvPr/>
                </p:nvSpPr>
                <p:spPr>
                  <a:xfrm rot="16200000">
                    <a:off x="8821800" y="122760"/>
                    <a:ext cx="16920" cy="392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2"/>
                  <p:cNvSpPr/>
                  <p:nvPr/>
                </p:nvSpPr>
                <p:spPr>
                  <a:xfrm rot="16200000">
                    <a:off x="8726760" y="72000"/>
                    <a:ext cx="2844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3"/>
                  <p:cNvSpPr/>
                  <p:nvPr/>
                </p:nvSpPr>
                <p:spPr>
                  <a:xfrm rot="16200000">
                    <a:off x="8843760" y="72000"/>
                    <a:ext cx="4284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4"/>
                  <p:cNvSpPr/>
                  <p:nvPr/>
                </p:nvSpPr>
                <p:spPr>
                  <a:xfrm rot="16200000">
                    <a:off x="8924040" y="101160"/>
                    <a:ext cx="1548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5"/>
                  <p:cNvSpPr/>
                  <p:nvPr/>
                </p:nvSpPr>
                <p:spPr>
                  <a:xfrm rot="16200000">
                    <a:off x="8841600" y="157320"/>
                    <a:ext cx="424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6"/>
                  <p:cNvSpPr/>
                  <p:nvPr/>
                </p:nvSpPr>
                <p:spPr>
                  <a:xfrm rot="16200000">
                    <a:off x="8748720" y="138960"/>
                    <a:ext cx="252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0080" y="227880"/>
                  <a:ext cx="2948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5560" y="2278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07960" y="532440"/>
                  <a:ext cx="2948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2000" y="9129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5560" y="83664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4280" y="121752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5560" y="159804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5560" y="19785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5"/>
              <p:cNvGrpSpPr/>
              <p:nvPr/>
            </p:nvGrpSpPr>
            <p:grpSpPr>
              <a:xfrm>
                <a:off x="7847280" y="1599480"/>
                <a:ext cx="826200" cy="4706640"/>
                <a:chOff x="7847280" y="1599480"/>
                <a:chExt cx="826200" cy="4706640"/>
              </a:xfrm>
            </p:grpSpPr>
            <p:pic>
              <p:nvPicPr>
                <p:cNvPr id="121" name="Picture 26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0760" y="15994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7080" y="19040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0760" y="25131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79000" y="274140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7998840" y="289368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5160" y="31982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79000" y="32745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3040" y="373140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2880" y="35031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2880" y="38836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0760" y="41122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3040" y="22082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7280" y="434052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2880" y="48736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3040" y="525456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2880" y="54064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5160" y="563508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2880" y="60159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7080" y="586332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5"/>
            <p:cNvSpPr/>
            <p:nvPr/>
          </p:nvSpPr>
          <p:spPr>
            <a:xfrm>
              <a:off x="7952040" y="4907520"/>
              <a:ext cx="1190160" cy="193932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46"/>
            <p:cNvSpPr/>
            <p:nvPr/>
          </p:nvSpPr>
          <p:spPr>
            <a:xfrm>
              <a:off x="7937640" y="4856760"/>
              <a:ext cx="1218960" cy="199944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47"/>
            <p:cNvSpPr/>
            <p:nvPr/>
          </p:nvSpPr>
          <p:spPr>
            <a:xfrm>
              <a:off x="7926480" y="2817000"/>
              <a:ext cx="1231560" cy="403596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48"/>
            <p:cNvSpPr/>
            <p:nvPr/>
          </p:nvSpPr>
          <p:spPr>
            <a:xfrm>
              <a:off x="8008920" y="3537360"/>
              <a:ext cx="979200" cy="218376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49"/>
            <p:cNvSpPr/>
            <p:nvPr/>
          </p:nvSpPr>
          <p:spPr>
            <a:xfrm>
              <a:off x="8242560" y="426600"/>
              <a:ext cx="914040" cy="504720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50"/>
            <p:cNvSpPr/>
            <p:nvPr/>
          </p:nvSpPr>
          <p:spPr>
            <a:xfrm>
              <a:off x="8248680" y="261720"/>
              <a:ext cx="909360" cy="307080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51"/>
            <p:cNvSpPr/>
            <p:nvPr/>
          </p:nvSpPr>
          <p:spPr>
            <a:xfrm>
              <a:off x="7942320" y="0"/>
              <a:ext cx="576000" cy="335196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52"/>
            <p:cNvSpPr/>
            <p:nvPr/>
          </p:nvSpPr>
          <p:spPr>
            <a:xfrm>
              <a:off x="7942320" y="1080"/>
              <a:ext cx="299880" cy="335232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53"/>
            <p:cNvSpPr/>
            <p:nvPr/>
          </p:nvSpPr>
          <p:spPr>
            <a:xfrm>
              <a:off x="7864560" y="1080"/>
              <a:ext cx="8856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54"/>
            <p:cNvSpPr/>
            <p:nvPr/>
          </p:nvSpPr>
          <p:spPr>
            <a:xfrm>
              <a:off x="7956720" y="6228000"/>
              <a:ext cx="1164960" cy="61884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AutoShape 55"/>
            <p:cNvSpPr/>
            <p:nvPr/>
          </p:nvSpPr>
          <p:spPr>
            <a:xfrm rot="5400000">
              <a:off x="4324680" y="3315600"/>
              <a:ext cx="6856560" cy="225360"/>
            </a:xfrm>
            <a:custGeom>
              <a:avLst/>
              <a:gdLst>
                <a:gd name="textAreaLeft" fmla="*/ 668160 w 6856560"/>
                <a:gd name="textAreaRight" fmla="*/ 6188400 w 68565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370160"/>
            <a:ext cx="69642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2040"/>
            <a:ext cx="1781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200" y="6248520"/>
            <a:ext cx="3454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4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766FD71-43DD-4FA0-8FDD-549275736C2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637236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ильные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лы</a:t>
            </a: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мини-музея «кукольный дом»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3816360" cy="2717640"/>
          </a:xfrm>
          <a:prstGeom prst="rect">
            <a:avLst/>
          </a:prstGeom>
          <a:ln w="0">
            <a:noFill/>
          </a:ln>
        </p:spPr>
      </p:pic>
      <p:sp>
        <p:nvSpPr>
          <p:cNvPr id="194" name="TextBox 7"/>
          <p:cNvSpPr/>
          <p:nvPr/>
        </p:nvSpPr>
        <p:spPr>
          <a:xfrm>
            <a:off x="1904400" y="5732640"/>
            <a:ext cx="506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: воспитатель МАДОУ ЦРР № 8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акчеева В.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Рисунок 4" descr="1310774712_resize-of-5ff6358a410a.jpg"/>
          <p:cNvPicPr/>
          <p:nvPr/>
        </p:nvPicPr>
        <p:blipFill>
          <a:blip r:embed="rId2"/>
          <a:stretch/>
        </p:blipFill>
        <p:spPr>
          <a:xfrm>
            <a:off x="4284720" y="2565360"/>
            <a:ext cx="3282840" cy="271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533520" y="379080"/>
            <a:ext cx="693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закончить о Тильде я хочу словами ее создательницы Tonne Finang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0" y="1841040"/>
            <a:ext cx="7666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Я обожаю Тильду из-за ее невероятн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нственн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арочитой безупреч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представляю себе Тильду, выходящей из дома в бальн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тье и резиновых сапога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хрустальной вазе у нее стоит букет из сорняк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розы – в старом кувшин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нее собственный взгляд на красоту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АСИБО ЗА ВНИМАНИЕ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1" descr=""/>
          <p:cNvPicPr/>
          <p:nvPr/>
        </p:nvPicPr>
        <p:blipFill>
          <a:blip r:embed="rId1"/>
          <a:stretch/>
        </p:blipFill>
        <p:spPr>
          <a:xfrm>
            <a:off x="6297480" y="4508640"/>
            <a:ext cx="2522520" cy="2189160"/>
          </a:xfrm>
          <a:prstGeom prst="rect">
            <a:avLst/>
          </a:prstGeom>
          <a:ln w="9360">
            <a:solidFill>
              <a:srgbClr val="00cc99"/>
            </a:solidFill>
            <a:round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9880"/>
            <a:ext cx="6966000" cy="67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Mistral"/>
              </a:rPr>
              <a:t>Тильд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- эта кукла, которая может нести на себе образ человека (мужчина, женщина, ребенок), ангела, сказочного персонажа (фея, гном и др.), животного (овечка, кот, кролик и др.) или даже предмета (сердечко, звездочка, подушечка и др.), созданных по дизайну норвежской художницы Тони Финнангер чуть более 10 лет назад</a:t>
            </a: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76520" cy="4343400"/>
          </a:xfrm>
          <a:prstGeom prst="rect">
            <a:avLst/>
          </a:prstGeom>
          <a:ln w="28440">
            <a:solidFill>
              <a:srgbClr val="47ffd1"/>
            </a:solidFill>
            <a:round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14040"/>
            <a:ext cx="74772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тория создания.</a:t>
            </a:r>
            <a:br>
              <a:rPr sz="3600"/>
            </a:b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691920"/>
            <a:ext cx="7386840" cy="75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br>
              <a:rPr sz="8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ервая кукла была сшита норвежкой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Тоне Финангер (Tonne Finange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gi"/>
              </a:rPr>
              <a:t>А в 1999 году случилось 2 знаменательных события – выход книг «Тильда Рождество» и «Тильда Пасха», а также открытие магазина, в котором продавались мастер-классы по изготовлению этих необычных кукол и материалы для них. Начиная с этого момента, весь мир охватила «Тильдомания». Каждая рукодельница осваивала технику изготовления кукол, привнося что-то свое. Создавались сообщества любителей Тильд, открывались форумы и сайты, где можно было передать свой опыт и обсудить выкройки и процесс шитья. Сейчас всеобщая любовь к Тильдам все растет, и нас продолжают радовать задорная зубная фея, неуклюжие вислоухие зайцы и кролики, смешной лось, летящий кот, Мишка, Хозяюшка и трогательные ангелы, нашли свое место в интерьере дома домашние феи и загадочные челове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Содержимое 3" descr="4fei1aKZ-Qo.jpg"/>
          <p:cNvPicPr/>
          <p:nvPr/>
        </p:nvPicPr>
        <p:blipFill>
          <a:blip r:embed="rId1"/>
          <a:stretch/>
        </p:blipFill>
        <p:spPr>
          <a:xfrm>
            <a:off x="7308720" y="260280"/>
            <a:ext cx="1689120" cy="38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738648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ем бы ни была игрушка - тильда – купальщицей, ангелом, медвежонком, кошечкой, улиткой или зайчиком – она всегда обладает набором характерных черт, особенност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609480" y="4419720"/>
            <a:ext cx="655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авайте подумаем какие это особенности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198360" y="330120"/>
            <a:ext cx="721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ильд не перепутаеш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 с какой другой рукотворной кукл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6875640" y="3357720"/>
            <a:ext cx="2104920" cy="3276360"/>
          </a:xfrm>
          <a:prstGeom prst="rect">
            <a:avLst/>
          </a:prstGeom>
          <a:ln w="9360">
            <a:solidFill>
              <a:srgbClr val="47ffd1"/>
            </a:solidFill>
            <a:round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"/>
          <p:cNvPicPr/>
          <p:nvPr/>
        </p:nvPicPr>
        <p:blipFill>
          <a:blip r:embed="rId1"/>
          <a:stretch/>
        </p:blipFill>
        <p:spPr>
          <a:xfrm>
            <a:off x="0" y="189000"/>
            <a:ext cx="4505400" cy="5756040"/>
          </a:xfrm>
          <a:prstGeom prst="rect">
            <a:avLst/>
          </a:prstGeom>
          <a:ln w="28440">
            <a:solidFill>
              <a:srgbClr val="47ffd1"/>
            </a:solidFill>
            <a:round/>
          </a:ln>
        </p:spPr>
      </p:pic>
      <p:pic>
        <p:nvPicPr>
          <p:cNvPr id="206" name="Содержимое 3" descr="Wb8jMDcsV2I.jpg"/>
          <p:cNvPicPr/>
          <p:nvPr/>
        </p:nvPicPr>
        <p:blipFill>
          <a:blip r:embed="rId2"/>
          <a:stretch/>
        </p:blipFill>
        <p:spPr>
          <a:xfrm>
            <a:off x="4859280" y="393840"/>
            <a:ext cx="3745080" cy="534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3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арактерные черты кукол-тильд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73864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Это текстильная (тряпичная), набивная кук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304920" y="2514600"/>
            <a:ext cx="73864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0" y="1628640"/>
            <a:ext cx="73864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425520" indent="-425520">
              <a:spcBef>
                <a:spcPts val="601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емного несуразная пухленькая игрушка, с плавными закругленными линия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520" indent="-425520">
              <a:spcBef>
                <a:spcPts val="601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19800" y="2421000"/>
            <a:ext cx="77198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Игрушка с непропорционально длинными рук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огами, а зверюшки-тильды имеют простой крой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лые мордаш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-360" y="3644640"/>
            <a:ext cx="86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У каждой куклы свой характер, определенная рол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 дополнительные аксессуары и даже место действ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ственное им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5040" y="4799160"/>
            <a:ext cx="60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Маленькие глазки-пуговки или узелк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2880" y="5254560"/>
            <a:ext cx="8346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Использование преимущественно натуральных ткан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лопок, бязь, шерсть, лён, фланель, войлок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тр для тела и тканей в стиле «кантри» для одежк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жные пастельные цвет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Рисунок 9" descr="438905de2b80789.jpg"/>
          <p:cNvPicPr/>
          <p:nvPr/>
        </p:nvPicPr>
        <p:blipFill>
          <a:blip r:embed="rId1"/>
          <a:stretch/>
        </p:blipFill>
        <p:spPr>
          <a:xfrm>
            <a:off x="7043760" y="858960"/>
            <a:ext cx="2100240" cy="16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"/>
          <p:cNvSpPr/>
          <p:nvPr/>
        </p:nvSpPr>
        <p:spPr>
          <a:xfrm>
            <a:off x="-4320" y="225360"/>
            <a:ext cx="777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Особенность кукол Тильд – отсутствие губ и нос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никто не запрещает их нарисова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чки красят пастельными карандашам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ычными румянами на немасляной основ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риловыми краск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-3240" y="2055600"/>
            <a:ext cx="77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 Одна из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бенност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шить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иль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шива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кани тел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кл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кани для ее одежды пере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краивани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-720" y="3198600"/>
            <a:ext cx="672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 Особенность всех тильд – загорелая кож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бирается ткань по цвет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колорируем ткань при помощи коф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-2880" y="4341960"/>
            <a:ext cx="512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 Среди этих кукол не найти дву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аковых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чная работа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-720" y="5103720"/>
            <a:ext cx="814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.Для изготовления куклы не нужна швейная маши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клу можно сшить и вручн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ое в работе – это внимательность, аккурат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ворческое отноше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1"/>
          <a:stretch/>
        </p:blipFill>
        <p:spPr>
          <a:xfrm>
            <a:off x="6713640" y="2787480"/>
            <a:ext cx="2381040" cy="2381400"/>
          </a:xfrm>
          <a:prstGeom prst="rect">
            <a:avLst/>
          </a:prstGeom>
          <a:ln w="12600">
            <a:solidFill>
              <a:srgbClr val="47ffd1"/>
            </a:solidFill>
            <a:round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" descr=""/>
          <p:cNvPicPr/>
          <p:nvPr/>
        </p:nvPicPr>
        <p:blipFill>
          <a:blip r:embed="rId1"/>
          <a:stretch/>
        </p:blipFill>
        <p:spPr>
          <a:xfrm>
            <a:off x="1447920" y="0"/>
            <a:ext cx="5486400" cy="6858000"/>
          </a:xfrm>
          <a:prstGeom prst="rect">
            <a:avLst/>
          </a:prstGeom>
          <a:ln w="38160">
            <a:solidFill>
              <a:srgbClr val="47ffd1"/>
            </a:solidFill>
            <a:round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83880"/>
            <a:ext cx="73915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 спросите для чего нужна такая кукла?</a:t>
            </a:r>
            <a:br>
              <a:rPr sz="3600"/>
            </a:b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229680" y="1325880"/>
            <a:ext cx="66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клы Тильды могу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оватьс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-разному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0" y="190188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к игрушки (и для детей, и для взрослых),как предметы интерь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особенно для стилей «Кантри» и «Прованс»)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х можно поселить в кухне и прихожей, посадить на диваны и кроват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 кресла и пуфики, найти для них уютный уголок в шкафах и на полочках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к обереги семейного очага, как оригинальные подарки, как воплощ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тских мечтаний и творческих порыв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Рисунок 4" descr="1667818_libelula3.jpg"/>
          <p:cNvPicPr/>
          <p:nvPr/>
        </p:nvPicPr>
        <p:blipFill>
          <a:blip r:embed="rId1"/>
          <a:stretch/>
        </p:blipFill>
        <p:spPr>
          <a:xfrm>
            <a:off x="6340320" y="4911840"/>
            <a:ext cx="2559240" cy="191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2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77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770" fill="hold"/>
                                        <p:tgtEl>
                                          <p:spTgt spid="2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7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9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ня Яценко</dc:creator>
  <dc:description/>
  <dc:language>en-US</dc:language>
  <cp:lastModifiedBy>Саня Яценко</cp:lastModifiedBy>
  <dcterms:modified xsi:type="dcterms:W3CDTF">2016-11-17T21:27:16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