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691-9690-4E77-8122-6F69CE6E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F79-AD68-440D-B13C-74BA0C55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DC4-381F-4910-A18C-25E36574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5E7-EB60-483D-BD2C-D3CC1C69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813-2765-4F5A-B6AD-974168D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160-4587-4876-B3E0-AF3CA8BA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E0A-030D-414B-81FA-4B6F37E2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9DA-FD97-49B6-8110-7FFE6993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44A-30A7-4BB5-8248-4D7DD8F6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EE8-CCBA-4AEC-8AA3-27536451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F21-2ED5-4D97-9C92-4F45C702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BDD-93E8-46C8-80C7-555D0DCC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477-5C96-470C-87CD-06CA6B650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Courier New"/>
              </a:rPr>
              <a:t>ЧЕСТНОСТЬ</a:t>
            </a:r>
            <a:br>
              <a:rPr sz="5000"/>
            </a:br>
            <a:r>
              <a:rPr b="0" lang="en-US" sz="5000" spc="-1" strike="noStrike">
                <a:solidFill>
                  <a:srgbClr val="ff3300"/>
                </a:solidFill>
                <a:latin typeface="Courier New"/>
              </a:rPr>
              <a:t>И </a:t>
            </a:r>
            <a:br>
              <a:rPr sz="5000"/>
            </a:br>
            <a:r>
              <a:rPr b="0" lang="en-US" sz="5000" spc="-1" strike="noStrike">
                <a:solidFill>
                  <a:srgbClr val="ff3300"/>
                </a:solidFill>
                <a:latin typeface="Courier New"/>
              </a:rPr>
              <a:t>ИСКРЕННОСТ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4120" y="365724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у выполнила ученица 4д класса 533 лицея Гребенюк 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итель Молева И.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800600" cy="318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3280" y="60958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ЕСТНОСТЬ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стность- это очень важное, моральное качество человека, которое отражает его нравст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58676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стный человек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икогда не позволит себе обмануть другого ни из трус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для удобства, ни для вы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всегда держит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62520" y="1600200"/>
            <a:ext cx="50292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ТО ТАК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СКРЕННОСТЬ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кренность – составная часть ч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4419720" cy="3241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0" y="14479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ест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когда                                           говорят прав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когда говорят правду от чистого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4267080" cy="272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495680" y="3581280"/>
            <a:ext cx="4505400" cy="285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7120" y="228600"/>
            <a:ext cx="905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Честность и искренность - очень высоко ценимые качества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29528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стоящий человек всегда желал «жить по совести, честно и без обмана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3280" y="4724280"/>
            <a:ext cx="412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честно исполнять свой дол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3276720" cy="246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5880" y="1905120"/>
            <a:ext cx="27226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12560" y="304920"/>
            <a:ext cx="492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Поэтому появились выраж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066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Ю ЧЕСТНОЕ СЛО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388620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СТНАЯ СМЕР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1906560" cy="285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60958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КРЕННИЕ ЧУВ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343400" y="411480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ренность е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 правды и выве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стного челове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Дени Дид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ÐÐ°ÑÑÐ¸Ð½ÐºÐ¸: ÐÑÐ²ÐµÑÐ¶ÐµÐ½Ð½ÑÐµ Ð³ÑÐ³Ð¾ ÐºÑÐ°ÑÐºÐ¾Ðµ ÑÐ¾Ð´ÐµÑÐ¶Ð°Ð½Ð¸Ðµ."/>
          <p:cNvPicPr/>
          <p:nvPr/>
        </p:nvPicPr>
        <p:blipFill>
          <a:blip r:embed="rId2"/>
          <a:stretch/>
        </p:blipFill>
        <p:spPr>
          <a:xfrm>
            <a:off x="5943600" y="1522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280" y="609480"/>
            <a:ext cx="6096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иже всего к вели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ит честность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Виктор Мари Гю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ЕСТНО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19:48:27Z</dcterms:created>
  <dc:creator>Татьяна</dc:creator>
  <dc:description/>
  <dc:language>en-US</dc:language>
  <cp:lastModifiedBy>Татьяна</cp:lastModifiedBy>
  <dcterms:modified xsi:type="dcterms:W3CDTF">2018-12-03T08:14:25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