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E04-C9BA-41C3-BBE3-9DAF5D6C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0D5-F78A-4841-B042-AC7324C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6A5-99B7-49AA-8389-56E6A956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26D-132E-42E7-BF9A-A3B2687B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E02-6700-4FC0-821D-FEF15ED2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9FA-9BB5-48E4-9F45-31AD52E5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381-B42F-4717-B441-88465CB2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D17-8139-4A33-8C8A-FF80847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57A-5720-46DD-BD74-9516DD53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BC7-17E3-4832-8CE5-DD0387D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4DF-A20D-4765-8714-5A84189B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D1E-F2B1-4DE0-AE43-92FBF7E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E5EF-7AE9-4A21-AEAA-1D29C70D6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Courier New"/>
              </a:rPr>
              <a:t>ЧЕСТНОСТЬ</a:t>
            </a:r>
            <a:br>
              <a:rPr sz="5000"/>
            </a:br>
            <a:r>
              <a:rPr b="0" lang="en-US" sz="5000" spc="-1" strike="noStrike">
                <a:solidFill>
                  <a:srgbClr val="ff3300"/>
                </a:solidFill>
                <a:latin typeface="Courier New"/>
              </a:rPr>
              <a:t>И </a:t>
            </a:r>
            <a:br>
              <a:rPr sz="5000"/>
            </a:br>
            <a:r>
              <a:rPr b="0" lang="en-US" sz="5000" spc="-1" strike="noStrike">
                <a:solidFill>
                  <a:srgbClr val="ff3300"/>
                </a:solidFill>
                <a:latin typeface="Courier New"/>
              </a:rPr>
              <a:t>ИСКРЕННОСТ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4120" y="365724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у выполнила ученица 4д класса 533 лицея Гребенюк 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итель Молева И.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800600" cy="318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3280" y="60958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ЕСТНОСТЬ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стность- это очень важное, моральное качество человека, которое отражает его нрав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58676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стный человек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икогда не позволит себе обмануть другого ни из трус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для удобства, ни для вы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всегда держит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50292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СКРЕННОСТЬ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кренность – составная часть ч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4419720" cy="324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14479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ест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когда                                           говорят прав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когда говорят правду от чистого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267080" cy="272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95680" y="3581280"/>
            <a:ext cx="4505400" cy="285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7120" y="228600"/>
            <a:ext cx="905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Честность и искренность - очень высоко ценимые качества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стоящий человек всегда желал «жить по совести, честно и без обмана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3280" y="4724280"/>
            <a:ext cx="412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честно исполнять свой дол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5880" y="1905120"/>
            <a:ext cx="27226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12560" y="304920"/>
            <a:ext cx="492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Поэтому появились выраж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066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Ю ЧЕСТНОЕ СЛ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388620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НАЯ СМЕР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1906560" cy="285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60958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РЕННИЕ ЧУВ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43400" y="411480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ренность е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 правды и выве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стного челове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Дени Дид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ÐÐ°ÑÑÐ¸Ð½ÐºÐ¸: ÐÑÐ²ÐµÑÐ¶ÐµÐ½Ð½ÑÐµ Ð³ÑÐ³Ð¾ ÐºÑÐ°ÑÐºÐ¾Ðµ ÑÐ¾Ð´ÐµÑÐ¶Ð°Ð½Ð¸Ðµ."/>
          <p:cNvPicPr/>
          <p:nvPr/>
        </p:nvPicPr>
        <p:blipFill>
          <a:blip r:embed="rId2"/>
          <a:stretch/>
        </p:blipFill>
        <p:spPr>
          <a:xfrm>
            <a:off x="5943600" y="152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609480"/>
            <a:ext cx="6096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иже всего к вели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ит честность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Виктор Мари Гю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ЕСТНО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9:48:27Z</dcterms:created>
  <dc:creator>Татьяна</dc:creator>
  <dc:description/>
  <dc:language>en-US</dc:language>
  <cp:lastModifiedBy>Татьяна</cp:lastModifiedBy>
  <dcterms:modified xsi:type="dcterms:W3CDTF">2018-12-03T08:14:25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