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9075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C32-350F-432E-B442-756C2953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617544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1280" y="5726520"/>
            <a:ext cx="617544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0F0-9177-40E9-BADF-E896328A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1280" y="572652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040" y="572652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C4F-242A-4F84-BB0D-C4977C09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264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7280" y="231264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1280" y="572652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652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7280" y="5726520"/>
            <a:ext cx="198828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B90-CBF4-4D3F-BE75-D0BDFB69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1280" y="2312640"/>
            <a:ext cx="617544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A71-2D2A-4C29-88C5-BD42BD6B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617544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E01-D686-4243-941B-6D233C59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301356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040" y="2312640"/>
            <a:ext cx="301356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96A-DE5F-4893-824B-CD2D4CBC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8BE-2AE3-4E75-B4CD-51CDB802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1280" y="399960"/>
            <a:ext cx="6175440" cy="76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3F1-428D-40B3-9C22-CF666973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040" y="2312640"/>
            <a:ext cx="301356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1280" y="572652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D98-0F46-47F0-B442-534BA87C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301356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04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040" y="572652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468-BAA4-4110-9D29-95B85DBE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128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040" y="2312640"/>
            <a:ext cx="301356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1280" y="5726520"/>
            <a:ext cx="6175440" cy="311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7EE-B52A-4412-A0DF-88484AF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1280" y="399960"/>
            <a:ext cx="6175440" cy="164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1280" y="2312640"/>
            <a:ext cx="6175440" cy="653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3280" indent="-238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3652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3652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3652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9020160"/>
            <a:ext cx="1603440" cy="689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20160"/>
            <a:ext cx="2175120" cy="689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20160"/>
            <a:ext cx="1603440" cy="689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D597D16-5B12-40D6-AF1B-8437A7C0BFA9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9.png"/><Relationship Id="rId17" Type="http://schemas.openxmlformats.org/officeDocument/2006/relationships/image" Target="../media/image8.gif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7.gi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8.gif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7.gif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569489-2c2d75c9b2848408"/>
          <p:cNvPicPr/>
          <p:nvPr/>
        </p:nvPicPr>
        <p:blipFill>
          <a:blip r:embed="rId2"/>
          <a:stretch/>
        </p:blipFill>
        <p:spPr>
          <a:xfrm>
            <a:off x="728640" y="3192480"/>
            <a:ext cx="5533920" cy="3986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692280" y="272160"/>
            <a:ext cx="56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mbria"/>
              </a:rPr>
              <a:t>муниципальное казенное дошкольное образовательное учреждение детский сад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2"/>
          <p:cNvSpPr txBox="1"/>
          <p:nvPr/>
        </p:nvSpPr>
        <p:spPr>
          <a:xfrm>
            <a:off x="1077840" y="5637240"/>
            <a:ext cx="230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"К Снеговику </a:t>
            </a:r>
            <a:endParaRPr b="1" i="1" lang="en-US" sz="24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на новоселье"</a:t>
            </a:r>
            <a:endParaRPr b="1" i="1" lang="en-US" sz="24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1195560" y="4359240"/>
            <a:ext cx="208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ценарий новогоднего </a:t>
            </a:r>
            <a:endParaRPr b="1" i="1" lang="en-US" sz="16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утренника </a:t>
            </a:r>
            <a:endParaRPr b="1" i="1" lang="en-US" sz="16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 средней группе</a:t>
            </a:r>
            <a:endParaRPr b="1" i="1" lang="en-US" sz="16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"Лесовичок"</a:t>
            </a:r>
            <a:endParaRPr b="1" i="1" lang="en-US" sz="16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6" name="Picture 15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3141720" y="84924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4076640" y="704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093000" y="149688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4797360" y="120816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6021360" y="3224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692280" y="603252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549360" y="754524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3068640" y="401652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2060640" y="3657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1268280" y="39448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5950080" y="502452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3716280" y="3297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1484280" y="99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"/>
          <p:cNvPicPr/>
          <p:nvPr/>
        </p:nvPicPr>
        <p:blipFill>
          <a:blip r:embed="rId16"/>
          <a:srcRect l="0" t="0" r="0" b="6496"/>
          <a:stretch/>
        </p:blipFill>
        <p:spPr>
          <a:xfrm>
            <a:off x="3284640" y="178452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5589720" y="92088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3645000" y="524016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1844640" y="7832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"/>
          <p:cNvPicPr/>
          <p:nvPr/>
        </p:nvPicPr>
        <p:blipFill>
          <a:blip r:embed="rId21"/>
          <a:srcRect l="0" t="0" r="0" b="6496"/>
          <a:stretch/>
        </p:blipFill>
        <p:spPr>
          <a:xfrm>
            <a:off x="2276640" y="70488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6237360" y="754524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5445000" y="2360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1197000" y="279252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"/>
          <p:cNvPicPr/>
          <p:nvPr/>
        </p:nvPicPr>
        <p:blipFill>
          <a:blip r:embed="rId25"/>
          <a:srcRect l="0" t="0" r="0" b="6496"/>
          <a:stretch/>
        </p:blipFill>
        <p:spPr>
          <a:xfrm>
            <a:off x="4581360" y="207324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"/>
          <p:cNvPicPr/>
          <p:nvPr/>
        </p:nvPicPr>
        <p:blipFill>
          <a:blip r:embed="rId26"/>
          <a:srcRect l="0" t="0" r="0" b="6496"/>
          <a:stretch/>
        </p:blipFill>
        <p:spPr>
          <a:xfrm>
            <a:off x="1268280" y="2000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"/>
          <p:cNvPicPr/>
          <p:nvPr/>
        </p:nvPicPr>
        <p:blipFill>
          <a:blip r:embed="rId27"/>
          <a:srcRect l="0" t="0" r="0" b="6496"/>
          <a:stretch/>
        </p:blipFill>
        <p:spPr>
          <a:xfrm>
            <a:off x="4724280" y="2865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"/>
          <p:cNvPicPr/>
          <p:nvPr/>
        </p:nvPicPr>
        <p:blipFill>
          <a:blip r:embed="rId28"/>
          <a:srcRect l="0" t="0" r="0" b="6496"/>
          <a:stretch/>
        </p:blipFill>
        <p:spPr>
          <a:xfrm>
            <a:off x="2565360" y="2865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1" descr=""/>
          <p:cNvPicPr/>
          <p:nvPr/>
        </p:nvPicPr>
        <p:blipFill>
          <a:blip r:embed="rId29"/>
          <a:srcRect l="0" t="0" r="0" b="6496"/>
          <a:stretch/>
        </p:blipFill>
        <p:spPr>
          <a:xfrm>
            <a:off x="2565360" y="84819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2" descr=""/>
          <p:cNvPicPr/>
          <p:nvPr/>
        </p:nvPicPr>
        <p:blipFill>
          <a:blip r:embed="rId30"/>
          <a:srcRect l="0" t="0" r="0" b="6496"/>
          <a:stretch/>
        </p:blipFill>
        <p:spPr>
          <a:xfrm>
            <a:off x="3284640" y="783288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"/>
          <p:cNvPicPr/>
          <p:nvPr/>
        </p:nvPicPr>
        <p:blipFill>
          <a:blip r:embed="rId31"/>
          <a:srcRect l="0" t="0" r="0" b="6496"/>
          <a:stretch/>
        </p:blipFill>
        <p:spPr>
          <a:xfrm>
            <a:off x="6308640" y="934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4" descr=""/>
          <p:cNvPicPr/>
          <p:nvPr/>
        </p:nvPicPr>
        <p:blipFill>
          <a:blip r:embed="rId32"/>
          <a:srcRect l="0" t="0" r="0" b="6496"/>
          <a:stretch/>
        </p:blipFill>
        <p:spPr>
          <a:xfrm>
            <a:off x="1052640" y="862488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5" descr=""/>
          <p:cNvPicPr/>
          <p:nvPr/>
        </p:nvPicPr>
        <p:blipFill>
          <a:blip r:embed="rId33"/>
          <a:srcRect l="0" t="0" r="0" b="6496"/>
          <a:stretch/>
        </p:blipFill>
        <p:spPr>
          <a:xfrm>
            <a:off x="1773360" y="9056520"/>
            <a:ext cx="31248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6"/>
          <p:cNvSpPr/>
          <p:nvPr/>
        </p:nvSpPr>
        <p:spPr>
          <a:xfrm>
            <a:off x="981000" y="344160"/>
            <a:ext cx="4896000" cy="775980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счастлив, если детв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азднике резв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ня порадует иг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то хочет отличить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гра «Шалуниш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то же дедушку уважит, и стихи сейчас расскаж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гра «Шляп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жу, славные ребята, и стихи читаете, пойте, да и бега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надо. А играть вы любите? А сейчас для вас игра, будьте внимательны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гра с дедом Морозом и Снегурочкой  «Паровозик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-то я устал, немного отдохну, посиж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адится на стул и засыпа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ушка чуть –чуть задремал, устал, а ребята что-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ум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оводится инсценировка «Подарок деду Мороз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ходят дети, оглядываясь на деда Мороза, говорят вполгол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1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, ребята, так счита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 нам не чуж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него готовим втай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ы подарок небольш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2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годятся рукавиц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 ему не простуди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дь уж старенький Мороз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ет греть свой красный нос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сторожно кладет рукавицы на колени Деду Моро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3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у нужен новый поя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негурочка повязывает спящему Деду Морозу новый поя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рый сильно полиня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4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арф - беречь для песен голо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громче распевал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негурочка повязывает шарф Деду Моро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5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6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7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2840" y="7832880"/>
            <a:ext cx="1908000" cy="1699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0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7208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1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292640" y="156852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2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365720" y="3800520"/>
            <a:ext cx="312480" cy="3427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4"/>
          <p:cNvSpPr/>
          <p:nvPr/>
        </p:nvSpPr>
        <p:spPr>
          <a:xfrm>
            <a:off x="907920" y="336240"/>
            <a:ext cx="4896000" cy="629964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5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апка старая сгоди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украсим мишу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дедуля удивитс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ла шапка со звезд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негурочка накалывает звездочку на шапку Деду Мороз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6 ребё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за валенки у Де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носились, вот бе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ы купили у сосе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ынче вьюги, холода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негурочка ставит валенки ря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глядывает себя, удивлен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 ли сплю я, то ли чуд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 новом шарфике сто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ленки, обновки всю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й, сейчас для вас спою! (радост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то же чудо сотвор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, ребята, интерес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, волшебник приход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е никак не догадатьс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, видел кто из ва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, должны сознатьс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подарочки от нас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нец с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т спасибо так спасиб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обновки так любл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брым и красивым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подарки подар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овичку морко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15" descr="поздравление.png"/>
          <p:cNvPicPr/>
          <p:nvPr/>
        </p:nvPicPr>
        <p:blipFill>
          <a:blip r:embed="rId16"/>
          <a:stretch/>
        </p:blipFill>
        <p:spPr>
          <a:xfrm>
            <a:off x="620640" y="7257960"/>
            <a:ext cx="4176720" cy="142884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18" descr="снеговик.gif"/>
          <p:cNvPicPr/>
          <p:nvPr/>
        </p:nvPicPr>
        <p:blipFill>
          <a:blip r:embed="rId17"/>
          <a:stretch/>
        </p:blipFill>
        <p:spPr>
          <a:xfrm>
            <a:off x="4722840" y="7832880"/>
            <a:ext cx="1908000" cy="1699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941720" y="27208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92640" y="156852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365720" y="3800520"/>
            <a:ext cx="312480" cy="3427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2"/>
          <p:cNvSpPr/>
          <p:nvPr/>
        </p:nvSpPr>
        <p:spPr>
          <a:xfrm>
            <a:off x="907920" y="1280880"/>
            <a:ext cx="4896000" cy="392688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Дед Мороз и Снегурочка раздают подар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т и праздник новогодний нам заканчивать пора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 радости сегодня вам желаю, детвора!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асибо Вам за песни, танцы, весёлые иг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Новым годом всех я поздравляю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дости, и счастья вам желаю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здничных забав, поте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Новым годом всех, всех, всех!</a:t>
            </a:r>
            <a:br>
              <a:rPr sz="1200"/>
            </a:b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свиданья, ребятишк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свиданья, говорю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ерез год меня вы жди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язательно приду!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окном снежок метет, наступает Новый год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-всех-всех мы поздравляе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а, счастья вам желаем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 здоровья и добра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Новым годом вас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5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6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0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1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2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3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4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5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елка.gif"/>
          <p:cNvPicPr/>
          <p:nvPr/>
        </p:nvPicPr>
        <p:blipFill>
          <a:blip r:embed="rId16"/>
          <a:stretch/>
        </p:blipFill>
        <p:spPr>
          <a:xfrm>
            <a:off x="4941720" y="7761240"/>
            <a:ext cx="1619280" cy="1873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9"/>
          <p:cNvSpPr/>
          <p:nvPr/>
        </p:nvSpPr>
        <p:spPr>
          <a:xfrm>
            <a:off x="776160" y="853920"/>
            <a:ext cx="5545440" cy="757728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Новый год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– самый любимый праздник дошколят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ценарий для среднего </a:t>
            </a: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ошкольного возраста "К Снеговику на новоселье«, может быть полезен и использован в работе  </a:t>
            </a: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музыкальными руководителями и воспитателями ДО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Место проведения: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музыкальный з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Цель:</a:t>
            </a: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оздать у детей радостное праздничное настроение, </a:t>
            </a: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азвитие творческих способностей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репить полученные на музыкальных занятиях умения и нав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азвивать коммуника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пособствовать развитию творческой активности </a:t>
            </a: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етей в  доступных видах музыкальной исполнительской деятельности</a:t>
            </a: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(пение, танц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реплять сочетание речи и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Действующие л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Ведущий (взросл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негурочка (взросл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ед Мороз (взросл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неговик (взросл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Хлопушки (д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трушки (д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нежинки (д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 праздник приглашены родит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Реквизит и костю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рядная ёлка, празднично украшенный з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Костюм Деда Мороза и Снегур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осох Деда Моро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Костюм снегов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ь детей – хлопу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ь детей – петру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евочки – снежи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Репертуа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Хоровод « Новогодний хоровод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ценка варежкового театра  «Ёлочка стоял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нец Петр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нец Хлоп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сенка о ёлоч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нец «Снежи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Хоровод Новый год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260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8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2"/>
          <p:cNvSpPr/>
          <p:nvPr/>
        </p:nvSpPr>
        <p:spPr>
          <a:xfrm>
            <a:off x="1004760" y="1079640"/>
            <a:ext cx="4896000" cy="648216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Ход празд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 зал с коробкой игрушек входит Снегурочка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хо, в зале ник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 не пришли еще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раться надо т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убрать за 5 минут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украшает елку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есь повешу балеринк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сюда цветную льдинку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… Все иголки причеш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снежком припорошу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любуется)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Ну разве не красавица?..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к родителям) А вам елка нравится?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я блестит, горит огн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чень рада встрече с вами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дходит ближе к родителям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рогие гости наши, только где же дети ваши?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их в зале нет? Где загадка, в чем секрет?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песенка поможет? В зал позвать детей мы сможем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все родители споют, то и дети на песенку придут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прошу я всех гостей - мне подпойте веселей…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РАОКЕ «В ЛЕСУ РОДИЛАСЬ ЕЛОЧКА». 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          ф - ма песни переходит на танцевальную песню, под которую выходят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равствуй, снегурочка, как поживаешь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щешь кого-нибудь или встречаешь?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ле елочки нарядной собираю я гостей,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дь с друзьями, всем известно, праздник будет веселей!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7"/>
          <p:cNvSpPr/>
          <p:nvPr/>
        </p:nvSpPr>
        <p:spPr>
          <a:xfrm>
            <a:off x="1125360" y="1049400"/>
            <a:ext cx="4896000" cy="648216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ле елочки нарядной собираю я гостей,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дь с друзьями, всем известно, праздник будет веселей!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едущий: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естила елка всех гостей сего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роводит с нами праздник новогодний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ется ребятам рассмотреть игрушки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глядеть всю елку снизу до маку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ебе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 прислал нам елку, огоньки на ней зажег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блестят на ней иголки, а на веточках снежок.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ебе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лке нравится у нас, елка наряжается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пыхнут лампочки сейчас, праздник приближается.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сом частым, полем вьюжным зимний праздник к нам идет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 давайте скажем дружно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: Здравствуй, здравствуй Новый год!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ебе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олотым огнем сверкает наш уютный светлый зал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лка в круг нас приглашает, час для праздника настал!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 ребята наши, Со Снегурочкой попляшут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 скорей плясать зовёт Новогодний хоров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ХОРОВОД « НОВОГОДНИЙ ХОРОВОД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раз под Новый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зка в гости к нам ид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услышишь тихий зв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сказка входит в 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ше-тише, вот он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оявляется Снеговик с метёлкой, звуч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нограмма песни, Снеговик «метёт» двор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7"/>
          <p:cNvSpPr/>
          <p:nvPr/>
        </p:nvSpPr>
        <p:spPr>
          <a:xfrm>
            <a:off x="1125360" y="774720"/>
            <a:ext cx="4896000" cy="702972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дворе я всё подмёл? Подмёл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Уносит метлу в дом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доме чистоту навёл? Навёл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правляет занавески на окош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юрпризы приготовил? Приготов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Шапочки хлопушкам,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погремушечки - петруш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чего я не забыл? Ой,…нет, всё-таки забыл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берёт лежащий на лавочке листок бума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ъявление составил, да на лавочке остав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Читает вслух своё объ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риглашаю на новоселье тех, кто люб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ех да весель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, кто к скуке не привык, в г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дёт ваш Снеговик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здыхает, вешает на ёлку объ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ята, А может быть   нам с вами пойти к Снеговику в гост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т он обрадуется! Соглас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:    Согласн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 только в гости без подарков не ходя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же нам ему подар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тветы  дет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но, подарим ему наши новые песен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сёлые игры и тан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дходит к домику Снегов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есь живет Снегови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мал, не вел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есь новоселье справля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гостей поджид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ыбегает из дом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есь! Здесь! Я очень рад! Кто пришёл ко м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Детский са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6"/>
          <p:cNvSpPr/>
          <p:nvPr/>
        </p:nvSpPr>
        <p:spPr>
          <a:xfrm>
            <a:off x="1052640" y="272880"/>
            <a:ext cx="4895640" cy="848988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й, да здесь игруш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трушки да хлопушки       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новосельем поздравляем, поздравляем от душ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ою сценочку подарят тебе наши мал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ЦЕНКА ВАРЕЖКОГО ТЕАТРА  «ЁЛОЧКА СТОЯЛ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й, что это я? На новоселье пригласил, а ничем не удиви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вные Петрушки получите погремуш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НЕЦ  ПЕТРУШЕК  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радовали нас Пет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чем удивят Хлопуш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пушка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регите ваши уш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детский сад пришли хлопушки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им яркий громкий зву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хлопки веселых рук! 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п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чень просим - не пугайтес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омче хлопайте, старайтесь!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лечем мы вас хлопк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пайте сегодня с нами! 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п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- хлопушка! Я хлопушка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грушка! Я -игрушка!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ъявляем танец с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селый, озорной!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НЕЦ ХЛОП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ходит с вален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 глубокий я най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слеплю снеж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т сейчас я попа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регись дружо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ГРА СО СНЕГОВИКОМ «НАСОРИЛ - УБЕ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овик берёт  валенки со снеж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овик высыпает снежки из валенка в обру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ёнок - собирает обратно в вал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ова всех зову плясать, новоселье отмеч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 другу руку дайте и в круг скорей встав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ЕСЕНКА О ЁЛ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( Ёлочка нарядная в гости к нам приш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осле пляски Снеговик «оседает» на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6"/>
          <p:cNvSpPr/>
          <p:nvPr/>
        </p:nvSpPr>
        <p:spPr>
          <a:xfrm>
            <a:off x="1052640" y="415800"/>
            <a:ext cx="4895640" cy="794232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 ребятки мы пляса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овик совсем растаял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спуган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уйте, дуйте посильн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стало холодне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се ду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ю, таю, помогит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 ещё спляши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НЕЦ « СНЕЖИНОК»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дскакивает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здоров! Мне не надо доктор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нас очень напуга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зор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ас просто ра-зы-гра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улице идёт Дед Мороз. В зал входит Дед Мо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есело, как шумно меня давно здесь жду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грают и  танцуют и песенки поют  (осматрива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у ёлки - никого, и под ёлкой – никого,…что за странное явлень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идит объ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! Да это объявленье! (чита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, теперь мне всё понятно, новоселье, как прият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лый, добрый Снеговик, непоседа, озорник, где 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з-за ёлки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тут!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Дед Мороз идёт на голос, а Снеговик перебегает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перёд к ёл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де т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здес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пять меняются местами, Д.М. идёт вперёд, 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овик  за ёл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де зде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6"/>
          <p:cNvSpPr/>
          <p:nvPr/>
        </p:nvSpPr>
        <p:spPr>
          <a:xfrm>
            <a:off x="907920" y="469440"/>
            <a:ext cx="4896000" cy="611712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тут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пять меняются местами - эта игра станови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ё быстре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ёс я Снеговику подарок, да видно адресом ошибс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йду-ка его дальше иск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делает вид, что уходит, топает, Снеговик выбега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годи уходить, дедушка. Я тут! Э.…Здесь! Я - Снеговик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вай подар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арок? Э, нет, погоди,  а может  ты  не Снеговик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обирается уход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это не Снеговик? Я же вот… белый вес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, а  заяц зимой какого цве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:   Бел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ерное ты заяц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 я не заяц. У меня   метла ес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, а у кого еще метла ес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И: У Бабы Яг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зволнован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й, что же это? Ой, как же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ед Мороз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вот мы у ребят спросим кто ты? Дети к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жно скажем СНЕ-ГО-В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2"/>
          <p:cNvPicPr/>
          <p:nvPr/>
        </p:nvPicPr>
        <p:blipFill>
          <a:blip r:embed="rId1"/>
          <a:stretch/>
        </p:blipFill>
        <p:spPr>
          <a:xfrm>
            <a:off x="5132520" y="5478480"/>
            <a:ext cx="1347480" cy="1782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3"/>
          <a:srcRect l="0" t="0" r="0" b="6496"/>
          <a:stretch/>
        </p:blipFill>
        <p:spPr>
          <a:xfrm>
            <a:off x="692280" y="5097600"/>
            <a:ext cx="312480" cy="34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4"/>
          <a:srcRect l="0" t="0" r="0" b="6496"/>
          <a:stretch/>
        </p:blipFill>
        <p:spPr>
          <a:xfrm>
            <a:off x="5230800" y="7761240"/>
            <a:ext cx="309600" cy="343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5"/>
          <a:srcRect l="0" t="0" r="0" b="6496"/>
          <a:stretch/>
        </p:blipFill>
        <p:spPr>
          <a:xfrm>
            <a:off x="6165720" y="5097600"/>
            <a:ext cx="311400" cy="342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6"/>
          <a:srcRect l="0" t="0" r="0" b="6496"/>
          <a:stretch/>
        </p:blipFill>
        <p:spPr>
          <a:xfrm>
            <a:off x="5877000" y="6754680"/>
            <a:ext cx="311040" cy="34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7"/>
          <a:srcRect l="0" t="0" r="0" b="6496"/>
          <a:stretch/>
        </p:blipFill>
        <p:spPr>
          <a:xfrm>
            <a:off x="2421000" y="8193240"/>
            <a:ext cx="309600" cy="341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8"/>
          <a:srcRect l="0" t="0" r="0" b="6496"/>
          <a:stretch/>
        </p:blipFill>
        <p:spPr>
          <a:xfrm>
            <a:off x="4148280" y="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9"/>
          <a:srcRect l="0" t="0" r="0" b="6496"/>
          <a:stretch/>
        </p:blipFill>
        <p:spPr>
          <a:xfrm>
            <a:off x="836640" y="128520"/>
            <a:ext cx="311040" cy="343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10"/>
          <a:srcRect l="0" t="0" r="0" b="6496"/>
          <a:stretch/>
        </p:blipFill>
        <p:spPr>
          <a:xfrm>
            <a:off x="547560" y="106668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"/>
          <p:cNvPicPr/>
          <p:nvPr/>
        </p:nvPicPr>
        <p:blipFill>
          <a:blip r:embed="rId11"/>
          <a:srcRect l="0" t="0" r="0" b="6496"/>
          <a:stretch/>
        </p:blipFill>
        <p:spPr>
          <a:xfrm>
            <a:off x="602136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"/>
          <p:cNvPicPr/>
          <p:nvPr/>
        </p:nvPicPr>
        <p:blipFill>
          <a:blip r:embed="rId12"/>
          <a:srcRect l="0" t="0" r="0" b="6496"/>
          <a:stretch/>
        </p:blipFill>
        <p:spPr>
          <a:xfrm>
            <a:off x="622440" y="293688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"/>
          <p:cNvPicPr/>
          <p:nvPr/>
        </p:nvPicPr>
        <p:blipFill>
          <a:blip r:embed="rId13"/>
          <a:srcRect l="0" t="0" r="0" b="6496"/>
          <a:stretch/>
        </p:blipFill>
        <p:spPr>
          <a:xfrm>
            <a:off x="1989000" y="488880"/>
            <a:ext cx="311400" cy="341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"/>
          <p:cNvPicPr/>
          <p:nvPr/>
        </p:nvPicPr>
        <p:blipFill>
          <a:blip r:embed="rId14"/>
          <a:srcRect l="0" t="0" r="0" b="6496"/>
          <a:stretch/>
        </p:blipFill>
        <p:spPr>
          <a:xfrm>
            <a:off x="1484280" y="92088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"/>
          <p:cNvPicPr/>
          <p:nvPr/>
        </p:nvPicPr>
        <p:blipFill>
          <a:blip r:embed="rId15"/>
          <a:srcRect l="0" t="0" r="0" b="6496"/>
          <a:stretch/>
        </p:blipFill>
        <p:spPr>
          <a:xfrm>
            <a:off x="6165720" y="631800"/>
            <a:ext cx="311400" cy="3430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8" descr="снеговик.gif"/>
          <p:cNvPicPr/>
          <p:nvPr/>
        </p:nvPicPr>
        <p:blipFill>
          <a:blip r:embed="rId16"/>
          <a:stretch/>
        </p:blipFill>
        <p:spPr>
          <a:xfrm>
            <a:off x="4724280" y="797724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"/>
          <p:cNvPicPr/>
          <p:nvPr/>
        </p:nvPicPr>
        <p:blipFill>
          <a:blip r:embed="rId17"/>
          <a:srcRect l="0" t="0" r="0" b="6496"/>
          <a:stretch/>
        </p:blipFill>
        <p:spPr>
          <a:xfrm>
            <a:off x="4941720" y="228924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18"/>
          <a:srcRect l="0" t="0" r="0" b="6496"/>
          <a:stretch/>
        </p:blipFill>
        <p:spPr>
          <a:xfrm>
            <a:off x="4508640" y="3368520"/>
            <a:ext cx="312480" cy="34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0" descr=""/>
          <p:cNvPicPr/>
          <p:nvPr/>
        </p:nvPicPr>
        <p:blipFill>
          <a:blip r:embed="rId19"/>
          <a:srcRect l="0" t="0" r="0" b="6496"/>
          <a:stretch/>
        </p:blipFill>
        <p:spPr>
          <a:xfrm>
            <a:off x="4221000" y="2649600"/>
            <a:ext cx="312840" cy="342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"/>
          <p:cNvPicPr/>
          <p:nvPr/>
        </p:nvPicPr>
        <p:blipFill>
          <a:blip r:embed="rId20"/>
          <a:srcRect l="0" t="0" r="0" b="6496"/>
          <a:stretch/>
        </p:blipFill>
        <p:spPr>
          <a:xfrm>
            <a:off x="4941720" y="423216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елка.gif"/>
          <p:cNvPicPr/>
          <p:nvPr/>
        </p:nvPicPr>
        <p:blipFill>
          <a:blip r:embed="rId21"/>
          <a:stretch/>
        </p:blipFill>
        <p:spPr>
          <a:xfrm>
            <a:off x="2349360" y="7383600"/>
            <a:ext cx="1978200" cy="2522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"/>
          <p:cNvPicPr/>
          <p:nvPr/>
        </p:nvPicPr>
        <p:blipFill>
          <a:blip r:embed="rId22"/>
          <a:srcRect l="0" t="0" r="0" b="6496"/>
          <a:stretch/>
        </p:blipFill>
        <p:spPr>
          <a:xfrm>
            <a:off x="1268280" y="804852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"/>
          <p:cNvPicPr/>
          <p:nvPr/>
        </p:nvPicPr>
        <p:blipFill>
          <a:blip r:embed="rId23"/>
          <a:srcRect l="0" t="0" r="0" b="6496"/>
          <a:stretch/>
        </p:blipFill>
        <p:spPr>
          <a:xfrm>
            <a:off x="4076640" y="7905600"/>
            <a:ext cx="312840" cy="343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5" descr=""/>
          <p:cNvPicPr/>
          <p:nvPr/>
        </p:nvPicPr>
        <p:blipFill>
          <a:blip r:embed="rId24"/>
          <a:srcRect l="0" t="0" r="0" b="6496"/>
          <a:stretch/>
        </p:blipFill>
        <p:spPr>
          <a:xfrm>
            <a:off x="2781360" y="7329600"/>
            <a:ext cx="312840" cy="3427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6"/>
          <p:cNvSpPr/>
          <p:nvPr/>
        </p:nvSpPr>
        <p:spPr>
          <a:xfrm>
            <a:off x="1052640" y="272880"/>
            <a:ext cx="4895640" cy="8672400"/>
          </a:xfrm>
          <a:prstGeom prst="rect">
            <a:avLst/>
          </a:prstGeom>
          <a:solidFill>
            <a:srgbClr val="99c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, здравствуй, Снеговик! Здравствуй, дорогой! (обнимае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д тебя виде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годи, Дедушка, а то от твоих объятий растаять мож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оселье справляеш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 самый Новый го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гости твои г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ов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сти? Да давно уже сидят и на нас с тобой глядя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не видели ли Вы внучку мою Снегуроч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негуроч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есь я дедушка, давно тебя с ребятами  поджид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Дед Мор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х, ты! И, правда, гостей-то скольк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равствуйте дорогие папы и мам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льчики и дев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праздником вас, С Новым годом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Дети встают вокруг е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т и славно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бращается к мальчи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 вида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лько год прошёл со встре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за руки, что за плеч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 все богатыри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мужали, подрос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бращается к девочкам)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девчата! Глянешь – ве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кругом одни царе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одцы! Ай, ребятн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дуете вы мен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олько лет живу на свете и немало повид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такой чудесной ёлки никогда я не встреча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-ка, ёлка, встрепенись! Ну-ка, ёлка, оживис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-ка, ёлка, раз, два, три, светом сказочным, гор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огни загораю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хотите с ёлочкой поиграть? (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уют - гаснет, хлопают – загорается (2р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ХОРОВОД «НОВЫЙ ГОД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(В хоровод, в хоровод Дед Мороз нас зовё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18:52:41Z</dcterms:created>
  <dc:creator>lenovo</dc:creator>
  <dc:description/>
  <dc:language>en-US</dc:language>
  <cp:lastModifiedBy>Lenovo</cp:lastModifiedBy>
  <dcterms:modified xsi:type="dcterms:W3CDTF">2018-12-28T17:34:22Z</dcterms:modified>
  <cp:revision>7</cp:revision>
  <dc:subject/>
  <dc:title>Слайд 1</dc:title>
</cp:coreProperties>
</file>