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13.jpeg" ContentType="image/jpeg"/>
  <Override PartName="/ppt/media/image40.jpeg" ContentType="image/jpeg"/>
  <Override PartName="/ppt/media/image8.jpeg" ContentType="image/jpeg"/>
  <Override PartName="/ppt/media/image39.jpeg" ContentType="image/jpeg"/>
  <Override PartName="/ppt/media/image1.png" ContentType="image/png"/>
  <Override PartName="/ppt/media/image52.jpeg" ContentType="image/jpeg"/>
  <Override PartName="/ppt/media/image29.jpeg" ContentType="image/jpeg"/>
  <Override PartName="/ppt/media/image12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24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23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26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27.jpeg" ContentType="image/jpeg"/>
  <Override PartName="/ppt/media/image50.jpeg" ContentType="image/jpeg"/>
  <Override PartName="/ppt/media/image35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0.png" ContentType="image/png"/>
  <Override PartName="/ppt/media/image36.jpeg" ContentType="image/jpeg"/>
  <Override PartName="/ppt/media/image43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10288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dt" idx="4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Img"/>
          </p:nvPr>
        </p:nvSpPr>
        <p:spPr>
          <a:xfrm>
            <a:off x="622080" y="741240"/>
            <a:ext cx="55530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ftr" idx="4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 type="sldNum" idx="4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EFC2-3DD0-4FB1-AAF4-76CEC7DD01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622440" y="741240"/>
            <a:ext cx="5553000" cy="3702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A3D0-844C-4420-9302-C02CF0E7AB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622440" y="741240"/>
            <a:ext cx="5553000" cy="37022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53C2-6C78-4CDC-A186-D84A26B842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622440" y="741240"/>
            <a:ext cx="5553000" cy="3702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502C-800E-40F8-AFBD-E5E6560DBB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622440" y="741240"/>
            <a:ext cx="5553000" cy="3702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6A9A-4E02-46FD-8008-2932B95961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1E9-AEA4-4A6B-9D9C-4D994469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49F-D33A-454F-B3A5-8A009B71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CE951-90D0-45D3-A7CC-FE41C4C7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6A540-0E0E-4A6C-A1F7-12B354B9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A43B5-0425-4708-8BBA-8A05D04F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7B149-1FF8-46D9-B7DF-624F3847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F7209-CD16-44FA-91CF-F4D2444E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79F8A-F908-4886-B9C3-1C9E618D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471A4-63D1-4A73-9AE3-AEAE83EB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BDF37-824D-44F4-B09A-0B86F4CB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3340E-DEF8-445F-8120-DCEC8089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4E3BF-3CF0-4FBB-A1AC-784F6C6F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3D1-81B3-42E0-BFFC-41B17806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09BAB-BB4D-4F9A-9660-A526354E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C49A3-35FD-4DF8-B0E6-10038C3A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CBE4B-C016-44BE-AEA6-F838059D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79588-B222-4A48-A6E6-5D0A2096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61433-ECC7-4CD2-B7C7-986D5305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7A69D-5316-4EBE-B98C-96148A64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D65A3-42B3-4CEA-9D8B-058B4B4B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FC91D-36D2-42C7-86C4-BBD86E05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88382-1963-4808-8E00-EA93E704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01CCD-7C1E-43D8-ACE6-A2AF6331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FF33-BC83-4FE7-88AF-7990940E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1B4C5-F141-42C7-9AA3-78AE6DA8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2C6D2-4C26-4481-918A-A87E5EC4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3CAD0-698E-4822-B938-6950A133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A5301-7F2A-42F0-AE49-248EF3B0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6C468-43B9-46EF-856D-E48415F9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2369F-C0AE-4669-95B4-29D451C8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BE21B-C8AC-4086-9311-F8172D9C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DD911-0745-4009-BB02-0224F250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E946F-D7A1-4102-8535-1ECE75DE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CEC02-1E62-4318-A469-0FE18592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CD2B-CED6-4861-9BEA-A68A63EF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C9191-3441-4718-8498-1078A125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40CB0-A5E7-41AC-A800-9CE1771A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B979C-A481-4DDD-9922-62807541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94EA8-E59F-4F66-9E85-F0E01813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54EBC-7C6D-4B8A-A340-6B33E48A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992FE-F7E7-4E89-8110-20BB7C3D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6277B-2ADA-40CC-8E00-CDE8539B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BB300-CCB6-42FC-A8D1-5F2794DC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0D070-9074-4848-BE82-4BD9B583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3BA38-C01C-45D1-A063-764E982D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D108-812C-42D3-A283-BB303564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C7068-3073-4D95-869A-6F26EAEE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7F0EA-CE80-4E56-B8A9-E431F504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51613-02EF-411E-95D2-B3EF14C4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49BFA-E7CF-453C-A1C9-5280F27B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E3370-6B34-4CEE-92D0-15FD90A0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0C95E-F4B4-49A6-810C-85000781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80266-4FE2-408A-8146-82F3D589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9E20B-386A-4978-80DB-95262ED7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8F44F-D619-4069-AFCE-4409DDE0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07F3E0-5058-49EB-AC28-77D0DAA1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74EA-A8EF-4CF3-8D55-B50544CA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1C244-CC33-47EC-B4F3-1170DD7D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68A142-8524-45A2-BEFD-7E2EB530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78D3E-AE9B-45F9-A84F-73CE892F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3CC62-0342-4330-A731-E38F0929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3C6E5-8475-49B2-B225-42B5F4AD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2CE1B-26E4-4B30-83BF-7D4A3F50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E33D0-31D0-4517-9D35-27CB2E19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719DDE-EFC5-4B88-A59A-F3E444AD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A3B478-18F5-424A-93D6-F42F78F1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E203C8-CBC7-499A-BDDB-FDD2795C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E365-6F7E-4FD6-BDEC-94D392E4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BBB13-1FF0-456B-B5A4-2FB2B9AE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B770D-5D2E-40F7-8621-583D2737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746D73-2FEE-4311-A3CA-30414C30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C05882-05D6-4028-9CDB-D7812512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3F692-C087-49F7-B0F1-57D40EFB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F6CDA-217E-42C2-93CA-06E133CB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A66769-6CB6-45FC-8C22-E3E54D96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CDB32-C20F-47B4-B1E8-2A0C8C6F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6A1A79-B009-40D4-B00E-35E1418C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0EFE-6864-4B0B-81BA-5ACAC682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C1B2-2DCB-41D8-897E-D8758366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DB8E-4994-4D69-A35B-CD153264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4E5-474A-4567-A906-6511D9A7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E1EF-C03F-4B20-A846-F1C4E509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76DB-62D0-4328-9C5B-81639794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F2EC-0871-433F-A702-8D7A9ECF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72B9-A4DE-44CE-B657-BE1E02D5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2A48-1761-44E0-84B1-6B57FF32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D943C-4550-44DD-AAD5-BF0E2D8B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5E811-0A2B-4829-9D0C-7B5E6DD9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32318-D937-4D8E-B2C0-2A7C76CF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5010C-BE42-4A92-A0BE-F1F558BC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46555-2DC2-4F68-ACAD-A20BD9D6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FFF-F68F-4F7A-9887-DF9D6C5A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4FFF3-BC3F-45CD-91C0-E72C5420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E926C-30A8-4BD2-B689-36D4ECBF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EE87E-B5F1-4C87-A353-1F33D748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2E621-6A83-4668-B20B-AEC03824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92F1-1DF6-466C-9B0F-0DB054EC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43710-2097-4D68-AAA4-4591B305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83FCC-9803-4283-A4BF-24E3FB65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FAD6C-B700-4B92-BBD4-3A208E37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ED6BC-2E9D-4C6D-9BBD-6DA49D34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81157-C986-4D91-B4F8-15024C3B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AB99-36E1-463C-A8C0-A2FF77CC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85522-0A29-448D-8370-7663F800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09E68-0E1A-4F08-A551-2BCE5B4E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6BB21-6032-4D3D-A67D-FF0EFBFD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21DA8-1954-4473-8839-1E4D6147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E4440-60ED-428E-BD6F-3EEF44F7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55EC4-E174-4256-8BC0-39522184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D023C-8EE5-4509-94E2-B45FD3E7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A55FC-A8D2-401C-9781-A7FA3262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578CB-7189-4F4A-83FA-4408023C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FFD7D-E805-4477-869B-714D300B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21C6-07BE-4527-BEDD-8358C07F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5B7B9-05ED-47C1-A24D-7FA34ACC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FE352-F47A-44F0-A6C3-3DCD5A11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759B7-0F42-4DCE-AEE3-8F44AD9E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0DBD5-EC2C-4555-9AEE-E3BFB1AC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0348F-36A7-4FA9-A208-33071EEF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DEDCB-2F44-471D-9CC1-48F41A1F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B02CB-2851-484F-9641-27C7F506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BF734-AFD9-48A7-94D7-8362C1DF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7B053-02AD-45BF-8770-5D6106BB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CB9F0-4C7A-434D-86C0-9F530A20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8A5-19BE-4A1C-8ED3-CD0176A5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012B8-6458-45C7-AA26-00D72243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7F970-C311-4A06-9869-459BA30C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5E0B1-D026-4A38-8DF8-2CFDB356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37792-2599-4B9E-A681-E6F07B90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69734-53D3-490C-86D4-0BB2C418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2B867-4C3E-45D6-ADB9-5238F170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12E80-6E8F-4D34-824A-2822A158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2DC4B-0D7F-47FA-97A0-AC2601E7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B2FC3-DB89-45B7-BE77-8E92CD62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417D1-0370-4E23-A731-609D9D10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19F-8DBC-47D0-AA5D-EFDCF84A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A150B-56CE-4333-B5B6-9DA49A77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60EF7-2710-45E1-8A8D-A6516993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379F6-009B-4EB8-A31E-747AC157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13956-B1F0-406A-AFFA-B6F31790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BAA07-36E4-4F08-9467-848775C4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BC4F3-0064-4043-850A-614EC2E3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ECDE3-2821-4323-A274-DF3465F0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D6A25-9A3A-4898-ACC3-1AF641A3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67C1E-C67E-412A-930E-5E5935CE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D4234-6630-4B65-B63B-FF672B22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20C1-4012-4006-AAEB-99C66001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5E151-2E57-4118-AC3E-9C07DD98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74E45-5EDD-4C86-8AB2-39E1B5F4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6973F-43F9-4368-8BCF-E60E6286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A24FB-DD42-4D60-BD8C-6DD02789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A1E9C-3759-4EFF-B375-6EB85219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A63BC-6AE7-44D5-8563-BC0C4C93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11A63-065D-45F7-8803-F4FF2276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B23F4-0E09-4613-825F-D13F1320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1D336-A7FD-44D5-A202-26EE6D4A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EECFD-8182-449D-9530-9F50ED26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B2C-36BA-4821-9FC4-F49720DA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228DE-890B-44DF-AC0D-E2A80D8C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487AC-650A-407B-B950-4928AB7C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E6FA5-B953-46D2-A718-6D3CA460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FC487-E408-403E-8BCD-0D5F3BA0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612E8-FA80-49C5-AAB3-9E49A586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41D2B-ECB8-44CE-BBC5-265A2FAE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30EC0-BC3F-43C5-A79C-79AE19DB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BD1C5-B369-4D4A-8FE6-4AF5451F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A645F-D374-4130-8B3D-D1C34441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BA848-2863-49F6-9002-BB1C0658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4AA4-11FD-45B5-BEA4-5994D78EA7BD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F747-C289-49E1-85ED-FC069846F1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Juliana\Desktop\logo.png"/>
          <p:cNvPicPr/>
          <p:nvPr/>
        </p:nvPicPr>
        <p:blipFill>
          <a:blip r:embed="rId3"/>
          <a:stretch/>
        </p:blipFill>
        <p:spPr>
          <a:xfrm>
            <a:off x="231840" y="189000"/>
            <a:ext cx="550800" cy="7221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874A-0155-4E2C-A3B1-BF8E776A00E4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0EB1-3CDF-473D-BDC6-682DB3CEB35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C:\Users\Juliana\Desktop\logo.png"/>
          <p:cNvPicPr/>
          <p:nvPr/>
        </p:nvPicPr>
        <p:blipFill>
          <a:blip r:embed="rId3"/>
          <a:stretch/>
        </p:blipFill>
        <p:spPr>
          <a:xfrm>
            <a:off x="231840" y="189000"/>
            <a:ext cx="550800" cy="7221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9683-B9CD-42CD-BD3E-56E758834ABC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8855-F7D5-42C5-A90F-90A3900CCD0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C:\Users\Juliana\Desktop\logo.png"/>
          <p:cNvPicPr/>
          <p:nvPr/>
        </p:nvPicPr>
        <p:blipFill>
          <a:blip r:embed="rId3"/>
          <a:stretch/>
        </p:blipFill>
        <p:spPr>
          <a:xfrm>
            <a:off x="9034560" y="5013360"/>
            <a:ext cx="547560" cy="72216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DD99-41C3-4DF1-8CBE-0B4C8C01CD41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73A7-9363-488D-B003-4DF87AD1D7B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A81F-FA83-4D11-AA14-3442CB559240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0610-F7B1-45BC-8A8D-A191E9C8093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40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F517-984A-46B1-9F47-F58F4E4E42F1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41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42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FD6C-5A06-4BF4-91D8-74816333A07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0AD0-BD1D-4175-BCFF-41D1B6D80AE1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1516-D9F9-443D-A234-59A4C162774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14080" y="6356520"/>
            <a:ext cx="2400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8A80-7621-40D1-9A8D-F9700A0ADDA3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14320" y="6356520"/>
            <a:ext cx="32576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591320" y="6237360"/>
            <a:ext cx="240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C593-6683-48D5-B195-3FBCB31447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10126800" y="4846680"/>
            <a:ext cx="160200" cy="20113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10126800" y="0"/>
            <a:ext cx="160200" cy="484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125" name="Picture 2" descr="C:\Users\Juliana\Desktop\logo.png"/>
          <p:cNvPicPr/>
          <p:nvPr/>
        </p:nvPicPr>
        <p:blipFill>
          <a:blip r:embed="rId3"/>
          <a:stretch/>
        </p:blipFill>
        <p:spPr>
          <a:xfrm>
            <a:off x="7211880" y="1484280"/>
            <a:ext cx="2027520" cy="2665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A2BA-A01C-44F1-973B-467F8E1F380A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C318-BC7A-4E91-9ABF-DC1AD8E743F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Juliana\Desktop\logo.png"/>
          <p:cNvPicPr/>
          <p:nvPr/>
        </p:nvPicPr>
        <p:blipFill>
          <a:blip r:embed="rId3"/>
          <a:stretch/>
        </p:blipFill>
        <p:spPr>
          <a:xfrm>
            <a:off x="231840" y="189000"/>
            <a:ext cx="549360" cy="7221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C295-1983-428A-AC66-AE9D738A75E3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5638-ABD8-4E01-892C-01BB374161D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FA90-D6B4-4CF1-AD18-99246686DF9C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8B1C-D8AF-44B3-BBE2-1DCBEAF4ABA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Juliana\Desktop\logo.png"/>
          <p:cNvPicPr/>
          <p:nvPr/>
        </p:nvPicPr>
        <p:blipFill>
          <a:blip r:embed="rId3"/>
          <a:stretch/>
        </p:blipFill>
        <p:spPr>
          <a:xfrm>
            <a:off x="231840" y="189000"/>
            <a:ext cx="550800" cy="7221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7847-E48D-4973-9458-9837464EF7EF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6E6D-3B8A-444A-8B99-F738B259BCA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Users\Juliana\Desktop\logo.png"/>
          <p:cNvPicPr/>
          <p:nvPr/>
        </p:nvPicPr>
        <p:blipFill>
          <a:blip r:embed="rId3"/>
          <a:stretch/>
        </p:blipFill>
        <p:spPr>
          <a:xfrm>
            <a:off x="231840" y="189000"/>
            <a:ext cx="550800" cy="7221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C260-2A0D-40C8-B253-9CD5FD04E9D3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C9C9-C169-45DA-8D57-C2DAF7F6E13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C:\Users\Juliana\Desktop\logo.png"/>
          <p:cNvPicPr/>
          <p:nvPr/>
        </p:nvPicPr>
        <p:blipFill>
          <a:blip r:embed="rId3"/>
          <a:stretch/>
        </p:blipFill>
        <p:spPr>
          <a:xfrm>
            <a:off x="231840" y="189000"/>
            <a:ext cx="550800" cy="72216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D764-BA3D-4B48-9EBD-4D94F4EAE71E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1273-5F2C-4BBD-AB4F-A95C56E3716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12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3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image" Target="../media/image63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Прямоугольник 2"/>
          <p:cNvSpPr/>
          <p:nvPr/>
        </p:nvSpPr>
        <p:spPr>
          <a:xfrm>
            <a:off x="714240" y="857160"/>
            <a:ext cx="5202360" cy="30733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92" name="Прямоугольник 16"/>
          <p:cNvSpPr/>
          <p:nvPr/>
        </p:nvSpPr>
        <p:spPr>
          <a:xfrm>
            <a:off x="0" y="1557360"/>
            <a:ext cx="731880" cy="5300640"/>
          </a:xfrm>
          <a:prstGeom prst="rect">
            <a:avLst/>
          </a:pr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93" name="Номер слайда 9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370D-E77E-4518-8607-EFB3EB633D43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1071720" y="4572000"/>
            <a:ext cx="9001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Выполнил: студент группы МЖКХ-5 Рожков  Алексей Андреевич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Руководитель: Зеленская Татьяна Дмитриевна,  преподаватель,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куратор музея 4 отделения АТК;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                          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Чагаева Виктория Владимировна, социальный педагог;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Консультанты:  Рева Алла Михайловна, методист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                           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Окс Татьяна Михайловна, заведующая отделом музея «Истории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                           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БАМа»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95" name="Прямоугольник 11"/>
          <p:cNvSpPr/>
          <p:nvPr/>
        </p:nvSpPr>
        <p:spPr>
          <a:xfrm>
            <a:off x="0" y="0"/>
            <a:ext cx="46980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96" name="Прямоугольник 10"/>
          <p:cNvSpPr/>
          <p:nvPr/>
        </p:nvSpPr>
        <p:spPr>
          <a:xfrm>
            <a:off x="6095880" y="633420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Амурская область, Тында</a:t>
            </a:r>
            <a:endParaRPr b="1" lang="en-US" sz="1400" spc="-1" strike="noStrike">
              <a:solidFill>
                <a:srgbClr val="2e3192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29  марта 2018 г.</a:t>
            </a:r>
            <a:endParaRPr b="1" lang="en-US" sz="14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97" name="Подзаголовок 4"/>
          <p:cNvSpPr/>
          <p:nvPr/>
        </p:nvSpPr>
        <p:spPr>
          <a:xfrm>
            <a:off x="1238400" y="2060640"/>
            <a:ext cx="4190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стория одного письма</a:t>
            </a:r>
            <a:endParaRPr b="1" lang="en-US" sz="36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98" name="Нашивка 12"/>
          <p:cNvSpPr/>
          <p:nvPr/>
        </p:nvSpPr>
        <p:spPr>
          <a:xfrm>
            <a:off x="9158400" y="47520"/>
            <a:ext cx="896760" cy="568440"/>
          </a:xfrm>
          <a:custGeom>
            <a:avLst/>
            <a:gdLst>
              <a:gd name="textAreaLeft" fmla="*/ 0 w 896760"/>
              <a:gd name="textAreaRight" fmla="*/ 897120 w 896760"/>
              <a:gd name="textAreaTop" fmla="*/ 0 h 568440"/>
              <a:gd name="textAreaBottom" fmla="*/ 568440 h 56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757" y="0"/>
                </a:lnTo>
                <a:lnTo>
                  <a:pt x="21600" y="10800"/>
                </a:lnTo>
                <a:lnTo>
                  <a:pt x="14757" y="21600"/>
                </a:lnTo>
                <a:lnTo>
                  <a:pt x="0" y="21600"/>
                </a:lnTo>
                <a:lnTo>
                  <a:pt x="6843" y="108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599" name="Нашивка 15"/>
          <p:cNvSpPr/>
          <p:nvPr/>
        </p:nvSpPr>
        <p:spPr>
          <a:xfrm>
            <a:off x="8069400" y="74520"/>
            <a:ext cx="896760" cy="568440"/>
          </a:xfrm>
          <a:custGeom>
            <a:avLst/>
            <a:gdLst>
              <a:gd name="textAreaLeft" fmla="*/ 0 w 896760"/>
              <a:gd name="textAreaRight" fmla="*/ 897120 w 896760"/>
              <a:gd name="textAreaTop" fmla="*/ 0 h 568440"/>
              <a:gd name="textAreaBottom" fmla="*/ 568440 h 56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757" y="0"/>
                </a:lnTo>
                <a:lnTo>
                  <a:pt x="21600" y="10800"/>
                </a:lnTo>
                <a:lnTo>
                  <a:pt x="14757" y="21600"/>
                </a:lnTo>
                <a:lnTo>
                  <a:pt x="0" y="21600"/>
                </a:lnTo>
                <a:lnTo>
                  <a:pt x="6843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00" name="TextBox 1"/>
          <p:cNvSpPr/>
          <p:nvPr/>
        </p:nvSpPr>
        <p:spPr>
          <a:xfrm>
            <a:off x="977760" y="115920"/>
            <a:ext cx="737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Научно – практическая конференция 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Arial"/>
              </a:rPr>
              <a:t>Человек. Природа. Общество.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01" name="Рисунок 20" descr="F:\проект карацупа\карацупа музей\DSCN0407.JPG"/>
          <p:cNvPicPr/>
          <p:nvPr/>
        </p:nvPicPr>
        <p:blipFill>
          <a:blip r:embed="rId1"/>
          <a:stretch/>
        </p:blipFill>
        <p:spPr>
          <a:xfrm>
            <a:off x="5786280" y="214200"/>
            <a:ext cx="3500640" cy="3079800"/>
          </a:xfrm>
          <a:prstGeom prst="rect">
            <a:avLst/>
          </a:prstGeom>
          <a:ln w="0">
            <a:noFill/>
          </a:ln>
        </p:spPr>
      </p:pic>
      <p:pic>
        <p:nvPicPr>
          <p:cNvPr id="602" name="Рисунок 22" descr="F:\КАРАЦУПА фото\следопыт из легенды.jpg"/>
          <p:cNvPicPr/>
          <p:nvPr/>
        </p:nvPicPr>
        <p:blipFill>
          <a:blip r:embed="rId2"/>
          <a:stretch/>
        </p:blipFill>
        <p:spPr>
          <a:xfrm>
            <a:off x="5786280" y="2357280"/>
            <a:ext cx="3571920" cy="224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F:\карацупа весь мат 2\дальнев. чемпионат по рукопашному бою.jpg"/>
          <p:cNvPicPr/>
          <p:nvPr/>
        </p:nvPicPr>
        <p:blipFill>
          <a:blip r:embed="rId1"/>
          <a:stretch/>
        </p:blipFill>
        <p:spPr>
          <a:xfrm>
            <a:off x="318960" y="260280"/>
            <a:ext cx="4537080" cy="3097440"/>
          </a:xfrm>
          <a:prstGeom prst="rect">
            <a:avLst/>
          </a:prstGeom>
          <a:ln w="0">
            <a:noFill/>
          </a:ln>
        </p:spPr>
      </p:pic>
      <p:sp>
        <p:nvSpPr>
          <p:cNvPr id="660" name="Номер слайда 2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76C6-51E4-4ACF-BF3C-757CB011C9F4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61" name="Picture 3" descr="F:\карацупа весь мат 2\пам 2.jpg"/>
          <p:cNvPicPr/>
          <p:nvPr/>
        </p:nvPicPr>
        <p:blipFill>
          <a:blip r:embed="rId2"/>
          <a:stretch/>
        </p:blipFill>
        <p:spPr>
          <a:xfrm>
            <a:off x="5214960" y="333360"/>
            <a:ext cx="4392720" cy="3259080"/>
          </a:xfrm>
          <a:prstGeom prst="rect">
            <a:avLst/>
          </a:prstGeom>
          <a:ln w="0">
            <a:noFill/>
          </a:ln>
        </p:spPr>
      </p:pic>
      <p:pic>
        <p:nvPicPr>
          <p:cNvPr id="662" name="Рисунок 4" descr="F:\КАРАЦУПА фото\нф.jpg"/>
          <p:cNvPicPr/>
          <p:nvPr/>
        </p:nvPicPr>
        <p:blipFill>
          <a:blip r:embed="rId3"/>
          <a:stretch/>
        </p:blipFill>
        <p:spPr>
          <a:xfrm>
            <a:off x="357120" y="3546360"/>
            <a:ext cx="4392720" cy="3311640"/>
          </a:xfrm>
          <a:prstGeom prst="rect">
            <a:avLst/>
          </a:prstGeom>
          <a:ln w="0">
            <a:noFill/>
          </a:ln>
        </p:spPr>
      </p:pic>
      <p:pic>
        <p:nvPicPr>
          <p:cNvPr id="663" name="Рисунок 5" descr="F:\КАРАЦУПА фото\карацупа\кар5.jpg"/>
          <p:cNvPicPr/>
          <p:nvPr/>
        </p:nvPicPr>
        <p:blipFill>
          <a:blip r:embed="rId4"/>
          <a:stretch/>
        </p:blipFill>
        <p:spPr>
          <a:xfrm>
            <a:off x="4927680" y="3284640"/>
            <a:ext cx="5040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F:\карацупа весь мат 2\кар9.jpg"/>
          <p:cNvPicPr/>
          <p:nvPr/>
        </p:nvPicPr>
        <p:blipFill>
          <a:blip r:embed="rId1"/>
          <a:stretch/>
        </p:blipFill>
        <p:spPr>
          <a:xfrm>
            <a:off x="606600" y="260280"/>
            <a:ext cx="4321080" cy="3210120"/>
          </a:xfrm>
          <a:prstGeom prst="rect">
            <a:avLst/>
          </a:prstGeom>
          <a:ln w="0">
            <a:noFill/>
          </a:ln>
        </p:spPr>
      </p:pic>
      <p:sp>
        <p:nvSpPr>
          <p:cNvPr id="665" name="Номер слайда 4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F7BD-3A53-415E-8F3C-BEBED4261E09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66" name="Рисунок 6" descr="F:\КАРАЦУПА фото\нк.jpg"/>
          <p:cNvPicPr/>
          <p:nvPr/>
        </p:nvPicPr>
        <p:blipFill>
          <a:blip r:embed="rId2"/>
          <a:stretch/>
        </p:blipFill>
        <p:spPr>
          <a:xfrm>
            <a:off x="5072040" y="404640"/>
            <a:ext cx="4680000" cy="3600720"/>
          </a:xfrm>
          <a:prstGeom prst="rect">
            <a:avLst/>
          </a:prstGeom>
          <a:ln w="0">
            <a:noFill/>
          </a:ln>
        </p:spPr>
      </p:pic>
      <p:pic>
        <p:nvPicPr>
          <p:cNvPr id="667" name="Рисунок 7" descr="F:\КАРАЦУПА фото\пз.jpg"/>
          <p:cNvPicPr/>
          <p:nvPr/>
        </p:nvPicPr>
        <p:blipFill>
          <a:blip r:embed="rId3"/>
          <a:stretch/>
        </p:blipFill>
        <p:spPr>
          <a:xfrm>
            <a:off x="247680" y="3357720"/>
            <a:ext cx="4464000" cy="30240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" descr="F:\КАРАЦУПА фото\кнф.jpg"/>
          <p:cNvPicPr/>
          <p:nvPr/>
        </p:nvPicPr>
        <p:blipFill>
          <a:blip r:embed="rId4"/>
          <a:stretch/>
        </p:blipFill>
        <p:spPr>
          <a:xfrm>
            <a:off x="5430960" y="3789360"/>
            <a:ext cx="3816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Прямоугольник 8"/>
          <p:cNvSpPr/>
          <p:nvPr/>
        </p:nvSpPr>
        <p:spPr>
          <a:xfrm>
            <a:off x="2146320" y="3117960"/>
            <a:ext cx="1214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70" name="Прямоугольник 9"/>
          <p:cNvSpPr/>
          <p:nvPr/>
        </p:nvSpPr>
        <p:spPr>
          <a:xfrm>
            <a:off x="4197240" y="2373480"/>
            <a:ext cx="2476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71" name="Прямоугольник 10"/>
          <p:cNvSpPr/>
          <p:nvPr/>
        </p:nvSpPr>
        <p:spPr>
          <a:xfrm>
            <a:off x="4734000" y="2722680"/>
            <a:ext cx="7538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72" name="Прямоугольник 11"/>
          <p:cNvSpPr/>
          <p:nvPr/>
        </p:nvSpPr>
        <p:spPr>
          <a:xfrm>
            <a:off x="2065320" y="2516040"/>
            <a:ext cx="7682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18360" bIns="1836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73" name="Прямоугольник 12"/>
          <p:cNvSpPr/>
          <p:nvPr/>
        </p:nvSpPr>
        <p:spPr>
          <a:xfrm>
            <a:off x="1336680" y="2660760"/>
            <a:ext cx="324000" cy="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7200" bIns="720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74" name="Прямоугольник 13"/>
          <p:cNvSpPr/>
          <p:nvPr/>
        </p:nvSpPr>
        <p:spPr>
          <a:xfrm>
            <a:off x="2368440" y="2182680"/>
            <a:ext cx="3445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75" name="Схема 4" descr=""/>
          <p:cNvPicPr/>
          <p:nvPr/>
        </p:nvPicPr>
        <p:blipFill>
          <a:blip r:embed="rId1"/>
          <a:stretch/>
        </p:blipFill>
        <p:spPr>
          <a:xfrm>
            <a:off x="3449520" y="3475080"/>
            <a:ext cx="6535800" cy="2986200"/>
          </a:xfrm>
          <a:prstGeom prst="rect">
            <a:avLst/>
          </a:prstGeom>
          <a:ln w="0">
            <a:noFill/>
          </a:ln>
        </p:spPr>
      </p:pic>
      <p:sp>
        <p:nvSpPr>
          <p:cNvPr id="676" name="Скругленный прямоугольник 15"/>
          <p:cNvSpPr/>
          <p:nvPr/>
        </p:nvSpPr>
        <p:spPr>
          <a:xfrm>
            <a:off x="214200" y="857160"/>
            <a:ext cx="6948720" cy="1905120"/>
          </a:xfrm>
          <a:prstGeom prst="roundRect">
            <a:avLst>
              <a:gd name="adj" fmla="val 0"/>
            </a:avLst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ru-RU" sz="2200" spc="-1" strike="noStrike" u="sng">
                <a:solidFill>
                  <a:srgbClr val="2e3192"/>
                </a:solidFill>
                <a:uFillTx/>
                <a:latin typeface="Times New Roman"/>
                <a:ea typeface="Times New Roman"/>
              </a:rPr>
              <a:t>Экспозиция музейная</a:t>
            </a:r>
            <a:r>
              <a:rPr b="1" lang="ru-RU" sz="2200" spc="-1" strike="noStrike">
                <a:solidFill>
                  <a:srgbClr val="2e3192"/>
                </a:solidFill>
                <a:latin typeface="Times New Roman"/>
                <a:ea typeface="Times New Roman"/>
              </a:rPr>
              <a:t> (от лат. expositio - выставление на показ, изложение), основная форма презентации музеем историко-культурного наследия в виде искусственно созданной предметно-пространственной структуры. </a:t>
            </a:r>
            <a:endParaRPr b="1" lang="en-US" sz="2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77" name="Rectangle 2"/>
          <p:cNvSpPr/>
          <p:nvPr/>
        </p:nvSpPr>
        <p:spPr>
          <a:xfrm>
            <a:off x="1687680" y="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Глава 2. «Музейная экспозиция»</a:t>
            </a:r>
            <a:endParaRPr b="1" lang="en-US" sz="28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78" name="Прямоугольник 10"/>
          <p:cNvSpPr/>
          <p:nvPr/>
        </p:nvSpPr>
        <p:spPr>
          <a:xfrm>
            <a:off x="1285920" y="2928960"/>
            <a:ext cx="757224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Calibri"/>
                <a:ea typeface="Times New Roman"/>
              </a:rPr>
              <a:t>РАЗРАБОТКА ТЕМАТИКО-ЭКСПОЗИЦИОННОГО ПЛАНА </a:t>
            </a:r>
            <a:endParaRPr b="1" lang="en-US" sz="24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79" name="Номер слайда 11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62F1-B804-4E4D-A254-9665D771FA34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80" name="Рисунок 12" descr="C:\Users\ANONIMOUS\Desktop\111.jpeg"/>
          <p:cNvPicPr/>
          <p:nvPr/>
        </p:nvPicPr>
        <p:blipFill>
          <a:blip r:embed="rId2"/>
          <a:stretch/>
        </p:blipFill>
        <p:spPr>
          <a:xfrm>
            <a:off x="428760" y="3357720"/>
            <a:ext cx="2928960" cy="250020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3"/>
          <p:cNvSpPr/>
          <p:nvPr/>
        </p:nvSpPr>
        <p:spPr>
          <a:xfrm>
            <a:off x="500040" y="5857920"/>
            <a:ext cx="271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e3192"/>
                </a:solidFill>
                <a:latin typeface="Cambria"/>
              </a:rPr>
              <a:t>Окс Т.М., заведующая отделом музея истории БАМа</a:t>
            </a:r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  <p:transition spd="slow"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рямоугольник 5"/>
          <p:cNvSpPr/>
          <p:nvPr/>
        </p:nvSpPr>
        <p:spPr>
          <a:xfrm>
            <a:off x="285840" y="1500120"/>
            <a:ext cx="8343720" cy="18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ТЕКСТОВЫЕ ДОКУМЕНТЫ : ПИСЬМО КАРАЦУПА Н. Ф. УЧАЩИМСЯ СГПТУ, КНИГА С ДАРСТВЕННОЙ НАДПИСЬЮ, СТАТЬИ ПЕРИОДИЧЕСКИХ ИЗДАНИЙ РАЗНЫХ ЛЕТ О КАРАЦУПА Н. Ф., МАТЕРИАЛЫ ВИКИПЕДИИ</a:t>
            </a:r>
            <a:endParaRPr b="1" lang="en-US" sz="19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83" name="Прямоугольник 5"/>
          <p:cNvSpPr/>
          <p:nvPr/>
        </p:nvSpPr>
        <p:spPr>
          <a:xfrm>
            <a:off x="1643040" y="4000680"/>
            <a:ext cx="8344080" cy="1482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ФОТОГРАФИИ  ЧЕРНО – БЕЛЫЕ С НАДПИСЬЮ КАРАЦУПА Н. Ф., ФОТОГРАФИИ РАЗНЫХ ЛЕТ  КАРАЦУПА Н. Ф.</a:t>
            </a:r>
            <a:endParaRPr b="1" lang="en-US" sz="19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822240" y="0"/>
            <a:ext cx="94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Calibri"/>
                <a:ea typeface="Times New Roman"/>
              </a:rPr>
              <a:t>МАТЕРИАЛЫ, КОТОРЫЕ  ВКЛЮЧЕНЫ В ЭКСПОЗИЦИЮ</a:t>
            </a:r>
            <a:endParaRPr b="1" lang="en-US" sz="24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85" name="Номер слайда 6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134B-F123-416B-9280-E1501A0D490C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Прямоугольник 4"/>
          <p:cNvSpPr/>
          <p:nvPr/>
        </p:nvSpPr>
        <p:spPr>
          <a:xfrm>
            <a:off x="1143000" y="42876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3192"/>
                </a:solidFill>
                <a:latin typeface="Cambria"/>
              </a:rPr>
              <a:t>Вот что у нас получилось….</a:t>
            </a: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FA80-0EA4-4478-9C88-D34BD9594F69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88" name="Рисунок 4" descr="F:\проект карацупа\карацупа музей\DSCN0398.JPG"/>
          <p:cNvPicPr/>
          <p:nvPr/>
        </p:nvPicPr>
        <p:blipFill>
          <a:blip r:embed="rId1"/>
          <a:stretch/>
        </p:blipFill>
        <p:spPr>
          <a:xfrm>
            <a:off x="174600" y="1484280"/>
            <a:ext cx="6048360" cy="4681440"/>
          </a:xfrm>
          <a:prstGeom prst="rect">
            <a:avLst/>
          </a:prstGeom>
          <a:ln w="0">
            <a:noFill/>
          </a:ln>
        </p:spPr>
      </p:pic>
      <p:pic>
        <p:nvPicPr>
          <p:cNvPr id="689" name="Рисунок 5" descr="F:\КАРАЦУПА фото\МУЗЕЙ\DSCN0390.JPG"/>
          <p:cNvPicPr/>
          <p:nvPr/>
        </p:nvPicPr>
        <p:blipFill>
          <a:blip r:embed="rId2"/>
          <a:stretch/>
        </p:blipFill>
        <p:spPr>
          <a:xfrm>
            <a:off x="6438960" y="3878280"/>
            <a:ext cx="3600360" cy="2287440"/>
          </a:xfrm>
          <a:prstGeom prst="rect">
            <a:avLst/>
          </a:prstGeom>
          <a:ln w="0">
            <a:noFill/>
          </a:ln>
        </p:spPr>
      </p:pic>
      <p:pic>
        <p:nvPicPr>
          <p:cNvPr id="690" name="Рисунок 7" descr="F:\КАРАЦУПА фото\МУЗЕЙ\DSCN0392.JPG"/>
          <p:cNvPicPr/>
          <p:nvPr/>
        </p:nvPicPr>
        <p:blipFill>
          <a:blip r:embed="rId3"/>
          <a:stretch/>
        </p:blipFill>
        <p:spPr>
          <a:xfrm>
            <a:off x="6727680" y="1341360"/>
            <a:ext cx="3384720" cy="237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6"/>
          <p:cNvSpPr/>
          <p:nvPr/>
        </p:nvSpPr>
        <p:spPr>
          <a:xfrm>
            <a:off x="1614600" y="0"/>
            <a:ext cx="86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92" name="Rectangle 8"/>
          <p:cNvSpPr/>
          <p:nvPr/>
        </p:nvSpPr>
        <p:spPr>
          <a:xfrm>
            <a:off x="1974960" y="622440"/>
            <a:ext cx="6553080" cy="520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РЕЗУЛЬТАТЫ ПРОЕКТА</a:t>
            </a:r>
            <a:endParaRPr b="1" lang="en-US" sz="28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93" name="Rectangle 9"/>
          <p:cNvSpPr/>
          <p:nvPr/>
        </p:nvSpPr>
        <p:spPr>
          <a:xfrm>
            <a:off x="428760" y="2357280"/>
            <a:ext cx="3528720" cy="1313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БОТА, ПРОВЕДЕННАЯ В РАМКАХ ИССЛЕДОВАНИЯ, ПОДТВЕРДИЛА АКТУАЛЬНОСТЬ ЕГО ТЕМЫ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94" name="Picture 11" descr="i?id=c219845ada01ae08d47702bee4941e62&amp;n=33&amp;h=215&amp;w=195"/>
          <p:cNvPicPr/>
          <p:nvPr/>
        </p:nvPicPr>
        <p:blipFill>
          <a:blip r:embed="rId1"/>
          <a:stretch/>
        </p:blipFill>
        <p:spPr>
          <a:xfrm rot="8358600">
            <a:off x="1909440" y="1785600"/>
            <a:ext cx="576360" cy="3747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2" descr="i?id=c219845ada01ae08d47702bee4941e62&amp;n=33&amp;h=215&amp;w=195"/>
          <p:cNvPicPr/>
          <p:nvPr/>
        </p:nvPicPr>
        <p:blipFill>
          <a:blip r:embed="rId2"/>
          <a:stretch/>
        </p:blipFill>
        <p:spPr>
          <a:xfrm rot="2371800">
            <a:off x="7411680" y="1660680"/>
            <a:ext cx="647640" cy="3999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14" descr="i?id=c219845ada01ae08d47702bee4941e62&amp;n=33&amp;h=215&amp;w=195"/>
          <p:cNvPicPr/>
          <p:nvPr/>
        </p:nvPicPr>
        <p:blipFill>
          <a:blip r:embed="rId3"/>
          <a:stretch/>
        </p:blipFill>
        <p:spPr>
          <a:xfrm>
            <a:off x="4214880" y="3286080"/>
            <a:ext cx="374760" cy="5763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8" descr="29759_dokumenty"/>
          <p:cNvPicPr/>
          <p:nvPr/>
        </p:nvPicPr>
        <p:blipFill>
          <a:blip r:embed="rId4"/>
          <a:stretch/>
        </p:blipFill>
        <p:spPr>
          <a:xfrm>
            <a:off x="7500960" y="-1071720"/>
            <a:ext cx="1736640" cy="1071720"/>
          </a:xfrm>
          <a:prstGeom prst="rect">
            <a:avLst/>
          </a:prstGeom>
          <a:ln w="0">
            <a:noFill/>
          </a:ln>
        </p:spPr>
      </p:pic>
      <p:sp>
        <p:nvSpPr>
          <p:cNvPr id="698" name="Прямоугольник 1"/>
          <p:cNvSpPr/>
          <p:nvPr/>
        </p:nvSpPr>
        <p:spPr>
          <a:xfrm>
            <a:off x="6858000" y="2357280"/>
            <a:ext cx="3106800" cy="1618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ЗДАНА ТЕМАТИЧЕСКАЯ ЭКСПОЗИЦИЯ «ИСТОРИЯ ОДНОГО ПИСЬМА»  (О  Н.Ф. КАРАЦУПЕ)  В МУЗЕЕ КОЛЛЕДЖА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99" name="Номер слайда 11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7F2F-99E0-4831-A9AE-2BBFC269CA92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00" name="Rectangle 13"/>
          <p:cNvSpPr/>
          <p:nvPr/>
        </p:nvSpPr>
        <p:spPr>
          <a:xfrm>
            <a:off x="5286240" y="4286160"/>
            <a:ext cx="3456000" cy="161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ИЗУЧЕНО ПИСЬМО ГЕРОЯ СОВЕТСКОГО СОЮЗА Н.Ф. КАРАЦУПА,  ВОССОЗДАНА ЕДИНАЯ КАРТИНА ЕГО ГЕРОИЧЕСКОЙ СЛУЖБЫ 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01" name="Rectangle 13"/>
          <p:cNvSpPr/>
          <p:nvPr/>
        </p:nvSpPr>
        <p:spPr>
          <a:xfrm>
            <a:off x="1643040" y="4286160"/>
            <a:ext cx="3456000" cy="161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ПОДГОТОВЛЕНЫ МАТЕРИАЛЫ К ПЕРЕДАЧЕ В МУЗЕЙ  ИСТОРИИ БАМА ДЛЯ ЭКСПОНИРОВАНИЯ В ПРЕДВЕРИИ 9 МАЯ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702" name="Picture 14" descr="i?id=c219845ada01ae08d47702bee4941e62&amp;n=33&amp;h=215&amp;w=195"/>
          <p:cNvPicPr/>
          <p:nvPr/>
        </p:nvPicPr>
        <p:blipFill>
          <a:blip r:embed="rId5"/>
          <a:stretch/>
        </p:blipFill>
        <p:spPr>
          <a:xfrm>
            <a:off x="5929200" y="3286080"/>
            <a:ext cx="374760" cy="576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10"/>
          <p:cNvSpPr/>
          <p:nvPr/>
        </p:nvSpPr>
        <p:spPr>
          <a:xfrm>
            <a:off x="1687680" y="1268280"/>
            <a:ext cx="7850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lang="en-US" sz="28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04" name="Rectangle 11"/>
          <p:cNvSpPr/>
          <p:nvPr/>
        </p:nvSpPr>
        <p:spPr>
          <a:xfrm>
            <a:off x="0" y="398952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3192"/>
                </a:solidFill>
                <a:latin typeface="Calibri"/>
                <a:ea typeface="Times New Roman"/>
              </a:rPr>
              <a:t>письмо Героя Советского Союза </a:t>
            </a:r>
            <a:r>
              <a:rPr b="1" lang="ru-RU" sz="1800" spc="-1" strike="noStrike">
                <a:solidFill>
                  <a:srgbClr val="cb2a0f"/>
                </a:solidFill>
                <a:latin typeface="Calibri"/>
                <a:ea typeface="Times New Roman"/>
              </a:rPr>
              <a:t>АЛЕКСЕЯ МАРЕСЬЕВА</a:t>
            </a:r>
            <a:endParaRPr b="1" lang="en-US" sz="18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05" name="Rectangle 12"/>
          <p:cNvSpPr/>
          <p:nvPr/>
        </p:nvSpPr>
        <p:spPr>
          <a:xfrm>
            <a:off x="808200" y="7430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b2a0f"/>
                </a:solidFill>
                <a:latin typeface="Cambria"/>
              </a:rPr>
              <a:t>ПОТЕНЦИАЛ РАЗВИТИЯ ПРОЕКТА</a:t>
            </a:r>
            <a:endParaRPr b="1" lang="en-US" sz="28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7000920" y="3789360"/>
            <a:ext cx="267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3192"/>
                </a:solidFill>
                <a:latin typeface="Calibri"/>
                <a:ea typeface="Times New Roman"/>
              </a:rPr>
              <a:t>переписка с </a:t>
            </a:r>
            <a:r>
              <a:rPr b="1" lang="ru-RU" sz="1800" spc="-1" strike="noStrike">
                <a:solidFill>
                  <a:srgbClr val="cb2a0f"/>
                </a:solidFill>
                <a:latin typeface="Calibri"/>
                <a:ea typeface="Times New Roman"/>
              </a:rPr>
              <a:t>ДИРЕКТОРОМ МУЗЕЯ </a:t>
            </a:r>
            <a:r>
              <a:rPr b="1" lang="ru-RU" sz="1800" spc="-1" strike="noStrike">
                <a:solidFill>
                  <a:srgbClr val="2e3192"/>
                </a:solidFill>
                <a:latin typeface="Calibri"/>
                <a:ea typeface="Times New Roman"/>
              </a:rPr>
              <a:t>«Юные защитники Родины» г. Курск</a:t>
            </a:r>
            <a:endParaRPr b="1" lang="en-US" sz="18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707" name="Picture 18" descr="i?id=87f6b5b19acd15f2658252f36a1088df&amp;n=33&amp;h=215&amp;w=287"/>
          <p:cNvPicPr/>
          <p:nvPr/>
        </p:nvPicPr>
        <p:blipFill>
          <a:blip r:embed="rId1"/>
          <a:stretch/>
        </p:blipFill>
        <p:spPr>
          <a:xfrm>
            <a:off x="7765920" y="511200"/>
            <a:ext cx="2376720" cy="18003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21" descr="i?id=c219845ada01ae08d47702bee4941e62&amp;n=33&amp;h=215&amp;w=195"/>
          <p:cNvPicPr/>
          <p:nvPr/>
        </p:nvPicPr>
        <p:blipFill>
          <a:blip r:embed="rId2"/>
          <a:stretch/>
        </p:blipFill>
        <p:spPr>
          <a:xfrm>
            <a:off x="4854600" y="1411200"/>
            <a:ext cx="504720" cy="29376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23"/>
          <p:cNvSpPr/>
          <p:nvPr/>
        </p:nvSpPr>
        <p:spPr>
          <a:xfrm>
            <a:off x="808200" y="1935000"/>
            <a:ext cx="7864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Times New Roman"/>
                <a:ea typeface="Times New Roman"/>
              </a:rPr>
              <a:t>Данный проект – часть большой работы патриотической направленности, которая включает в себя краеведческую, практическую и просветительскую деятельности студентов. Следующими шагами по развитию проекта должны явиться:  исследовательская деятельность студентов с другими экспонатами музея 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710" name="Picture 24" descr="i?id=c219845ada01ae08d47702bee4941e62&amp;n=33&amp;h=215&amp;w=195"/>
          <p:cNvPicPr/>
          <p:nvPr/>
        </p:nvPicPr>
        <p:blipFill>
          <a:blip r:embed="rId3"/>
          <a:stretch/>
        </p:blipFill>
        <p:spPr>
          <a:xfrm rot="8358600">
            <a:off x="1434600" y="3688920"/>
            <a:ext cx="505080" cy="3747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5" descr="i?id=c219845ada01ae08d47702bee4941e62&amp;n=33&amp;h=215&amp;w=195"/>
          <p:cNvPicPr/>
          <p:nvPr/>
        </p:nvPicPr>
        <p:blipFill>
          <a:blip r:embed="rId4"/>
          <a:stretch/>
        </p:blipFill>
        <p:spPr>
          <a:xfrm rot="2578200">
            <a:off x="8123040" y="3431880"/>
            <a:ext cx="576000" cy="37476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27"/>
          <p:cNvSpPr/>
          <p:nvPr/>
        </p:nvSpPr>
        <p:spPr>
          <a:xfrm>
            <a:off x="3178080" y="466740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3192"/>
                </a:solidFill>
                <a:latin typeface="Calibri"/>
                <a:ea typeface="Times New Roman"/>
              </a:rPr>
              <a:t>письмо матери Героя </a:t>
            </a:r>
            <a:endParaRPr b="1" lang="en-US" sz="1800" spc="-1" strike="noStrike">
              <a:solidFill>
                <a:srgbClr val="2e3192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3192"/>
                </a:solidFill>
                <a:latin typeface="Calibri"/>
                <a:ea typeface="Times New Roman"/>
              </a:rPr>
              <a:t>Советского Союза </a:t>
            </a:r>
            <a:endParaRPr b="1" lang="en-US" sz="1800" spc="-1" strike="noStrike">
              <a:solidFill>
                <a:srgbClr val="2e3192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b2a0f"/>
                </a:solidFill>
                <a:latin typeface="Calibri"/>
                <a:ea typeface="Times New Roman"/>
              </a:rPr>
              <a:t>САШИ ЧЕКАЛИНА</a:t>
            </a:r>
            <a:endParaRPr b="1" lang="en-US" sz="18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713" name="Picture 28" descr="i?id=c219845ada01ae08d47702bee4941e62&amp;n=33&amp;h=215&amp;w=195"/>
          <p:cNvPicPr/>
          <p:nvPr/>
        </p:nvPicPr>
        <p:blipFill>
          <a:blip r:embed="rId5"/>
          <a:stretch/>
        </p:blipFill>
        <p:spPr>
          <a:xfrm>
            <a:off x="4797360" y="400068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714" name="Номер слайда 12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310B-8B27-4331-A419-E1B90E91F01B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4"/>
          <p:cNvSpPr/>
          <p:nvPr/>
        </p:nvSpPr>
        <p:spPr>
          <a:xfrm>
            <a:off x="606600" y="260280"/>
            <a:ext cx="98247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3192"/>
                </a:solidFill>
                <a:latin typeface="Calibri"/>
                <a:ea typeface="Times New Roman"/>
              </a:rPr>
              <a:t>ЧТО УЧАСТИЕ В ПРОЕКТЕ ДАЛО ЕГО УЧАСТНИКАМ:</a:t>
            </a: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1687680" y="1268280"/>
            <a:ext cx="7850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Line 41"/>
          <p:cNvSpPr/>
          <p:nvPr/>
        </p:nvSpPr>
        <p:spPr>
          <a:xfrm>
            <a:off x="3848040" y="4869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718" name="Picture 43" descr="i?id=c219845ada01ae08d47702bee4941e62&amp;n=33&amp;h=215&amp;w=195"/>
          <p:cNvPicPr/>
          <p:nvPr/>
        </p:nvPicPr>
        <p:blipFill>
          <a:blip r:embed="rId1"/>
          <a:stretch/>
        </p:blipFill>
        <p:spPr>
          <a:xfrm rot="8574000">
            <a:off x="1936440" y="2122560"/>
            <a:ext cx="950760" cy="7063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52" descr="i?id=c219845ada01ae08d47702bee4941e62&amp;n=33&amp;h=215&amp;w=195"/>
          <p:cNvPicPr/>
          <p:nvPr/>
        </p:nvPicPr>
        <p:blipFill>
          <a:blip r:embed="rId2"/>
          <a:stretch/>
        </p:blipFill>
        <p:spPr>
          <a:xfrm rot="2561400">
            <a:off x="7353360" y="1984320"/>
            <a:ext cx="739800" cy="7207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2" descr="i?id=c219845ada01ae08d47702bee4941e62&amp;n=33&amp;h=215&amp;w=195"/>
          <p:cNvPicPr/>
          <p:nvPr/>
        </p:nvPicPr>
        <p:blipFill>
          <a:blip r:embed="rId3"/>
          <a:stretch/>
        </p:blipFill>
        <p:spPr>
          <a:xfrm>
            <a:off x="4711680" y="2060640"/>
            <a:ext cx="720720" cy="93672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65"/>
          <p:cNvSpPr/>
          <p:nvPr/>
        </p:nvSpPr>
        <p:spPr>
          <a:xfrm>
            <a:off x="3703680" y="5661000"/>
            <a:ext cx="252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66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22" name="Rectangle 69"/>
          <p:cNvSpPr/>
          <p:nvPr/>
        </p:nvSpPr>
        <p:spPr>
          <a:xfrm>
            <a:off x="247680" y="2852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3192"/>
                </a:solidFill>
                <a:latin typeface="Times New Roman"/>
                <a:ea typeface="Times New Roman"/>
              </a:rPr>
              <a:t>студенты </a:t>
            </a:r>
            <a:endParaRPr b="1" lang="en-US" sz="28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23" name="Rectangle 70"/>
          <p:cNvSpPr/>
          <p:nvPr/>
        </p:nvSpPr>
        <p:spPr>
          <a:xfrm>
            <a:off x="3394080" y="292428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Times New Roman"/>
                <a:ea typeface="Times New Roman"/>
              </a:rPr>
              <a:t>куратор музея </a:t>
            </a:r>
            <a:endParaRPr b="1" lang="en-US" sz="24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24" name="Rectangle 71"/>
          <p:cNvSpPr/>
          <p:nvPr/>
        </p:nvSpPr>
        <p:spPr>
          <a:xfrm>
            <a:off x="6745320" y="27288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Times New Roman"/>
                <a:ea typeface="Times New Roman"/>
              </a:rPr>
              <a:t>преподаватели, работники городского музея</a:t>
            </a:r>
            <a:endParaRPr b="1" lang="en-US" sz="24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25" name="Text Box 72"/>
          <p:cNvSpPr/>
          <p:nvPr/>
        </p:nvSpPr>
        <p:spPr>
          <a:xfrm>
            <a:off x="174600" y="5516640"/>
            <a:ext cx="25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66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26" name="Rectangle 76"/>
          <p:cNvSpPr/>
          <p:nvPr/>
        </p:nvSpPr>
        <p:spPr>
          <a:xfrm>
            <a:off x="1758960" y="14842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2a0f"/>
                </a:solidFill>
                <a:latin typeface="Cambria"/>
              </a:rPr>
              <a:t>УЧАСТНИКИ ПРОЕКТА</a:t>
            </a: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27" name="Прямоугольник 4"/>
          <p:cNvSpPr/>
          <p:nvPr/>
        </p:nvSpPr>
        <p:spPr>
          <a:xfrm rot="20774400">
            <a:off x="3408840" y="3598920"/>
            <a:ext cx="3362400" cy="1191240"/>
          </a:xfrm>
          <a:prstGeom prst="rect">
            <a:avLst/>
          </a:prstGeom>
          <a:solidFill>
            <a:srgbClr val="f2dcdb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Times New Roman"/>
                <a:ea typeface="Times New Roman"/>
              </a:rPr>
              <a:t>получил возможность обновить каталог экспозиций</a:t>
            </a:r>
            <a:endParaRPr b="1" lang="en-US" sz="24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28" name="Скругленный прямоугольник 7"/>
          <p:cNvSpPr/>
          <p:nvPr/>
        </p:nvSpPr>
        <p:spPr>
          <a:xfrm>
            <a:off x="142920" y="3786120"/>
            <a:ext cx="3144960" cy="206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Times New Roman"/>
                <a:ea typeface="Times New Roman"/>
              </a:rPr>
              <a:t>получили новые знания из страниц истории, смогли организовать поиск материалов для музея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29" name="Скругленный прямоугольник 8"/>
          <p:cNvSpPr/>
          <p:nvPr/>
        </p:nvSpPr>
        <p:spPr>
          <a:xfrm>
            <a:off x="5935680" y="4199040"/>
            <a:ext cx="4068720" cy="246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Times New Roman"/>
                <a:ea typeface="Times New Roman"/>
              </a:rPr>
              <a:t>смогли/смогут использовать экспозицию на классных часах, родительских собраниях, возможно, тоже захотят попробовать свои силы в создании нового проекта экспозиции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30" name="Номер слайда 16"/>
          <p:cNvSpPr/>
          <p:nvPr/>
        </p:nvSpPr>
        <p:spPr>
          <a:xfrm>
            <a:off x="7591320" y="6237360"/>
            <a:ext cx="240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038A-12A3-4AE7-B68C-6244B50DC622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1500120" y="1214280"/>
            <a:ext cx="7850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Line 41"/>
          <p:cNvSpPr/>
          <p:nvPr/>
        </p:nvSpPr>
        <p:spPr>
          <a:xfrm>
            <a:off x="3848040" y="4869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33" name="Text Box 65"/>
          <p:cNvSpPr/>
          <p:nvPr/>
        </p:nvSpPr>
        <p:spPr>
          <a:xfrm>
            <a:off x="3703680" y="5661000"/>
            <a:ext cx="252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66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34" name="Text Box 72"/>
          <p:cNvSpPr/>
          <p:nvPr/>
        </p:nvSpPr>
        <p:spPr>
          <a:xfrm>
            <a:off x="174600" y="5516640"/>
            <a:ext cx="25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66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35" name="Rectangle 76"/>
          <p:cNvSpPr/>
          <p:nvPr/>
        </p:nvSpPr>
        <p:spPr>
          <a:xfrm>
            <a:off x="1785960" y="64296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2a0f"/>
                </a:solidFill>
                <a:latin typeface="Cambria"/>
              </a:rPr>
              <a:t>Цитата  из письма</a:t>
            </a: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36" name="Номер слайда 16"/>
          <p:cNvSpPr/>
          <p:nvPr/>
        </p:nvSpPr>
        <p:spPr>
          <a:xfrm>
            <a:off x="7591320" y="6237360"/>
            <a:ext cx="240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41AB-6A46-4FE7-A573-EA34BC5CA243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737" name="Рисунок 17" descr="C:\Users\ANONIMOUS\Desktop\1.jpe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928880" y="1285920"/>
            <a:ext cx="7286400" cy="1143000"/>
          </a:xfrm>
          <a:prstGeom prst="rect">
            <a:avLst/>
          </a:prstGeom>
          <a:ln w="0">
            <a:noFill/>
          </a:ln>
        </p:spPr>
      </p:pic>
      <p:pic>
        <p:nvPicPr>
          <p:cNvPr id="738" name="Рисунок 18" descr="C:\Users\ANONIMOUS\Desktop\12.jpeg"/>
          <p:cNvPicPr/>
          <p:nvPr/>
        </p:nvPicPr>
        <p:blipFill>
          <a:blip r:embed="rId2"/>
          <a:stretch/>
        </p:blipFill>
        <p:spPr>
          <a:xfrm>
            <a:off x="1500120" y="2357280"/>
            <a:ext cx="771516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Прямоугольник 2"/>
          <p:cNvSpPr/>
          <p:nvPr/>
        </p:nvSpPr>
        <p:spPr>
          <a:xfrm>
            <a:off x="-5548320" y="4357800"/>
            <a:ext cx="5375160" cy="28000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40" name="Прямоугольник 16"/>
          <p:cNvSpPr/>
          <p:nvPr/>
        </p:nvSpPr>
        <p:spPr>
          <a:xfrm>
            <a:off x="0" y="1557360"/>
            <a:ext cx="731880" cy="5300640"/>
          </a:xfrm>
          <a:prstGeom prst="rect">
            <a:avLst/>
          </a:pr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41" name="Номер слайда 9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415B-2B21-4237-9A40-D988992837B7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42" name="TextBox 6"/>
          <p:cNvSpPr/>
          <p:nvPr/>
        </p:nvSpPr>
        <p:spPr>
          <a:xfrm>
            <a:off x="2932200" y="4780080"/>
            <a:ext cx="71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43" name="Прямоугольник 11"/>
          <p:cNvSpPr/>
          <p:nvPr/>
        </p:nvSpPr>
        <p:spPr>
          <a:xfrm>
            <a:off x="0" y="0"/>
            <a:ext cx="46980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44" name="Прямоугольник 10"/>
          <p:cNvSpPr/>
          <p:nvPr/>
        </p:nvSpPr>
        <p:spPr>
          <a:xfrm>
            <a:off x="4500720" y="785880"/>
            <a:ext cx="185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ambria"/>
              </a:rPr>
              <a:t>г. Свободный</a:t>
            </a:r>
            <a:endParaRPr b="1" lang="en-US" sz="1400" spc="-1" strike="noStrike">
              <a:solidFill>
                <a:srgbClr val="2e3192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ambria"/>
              </a:rPr>
              <a:t>29 марта  2018 г.</a:t>
            </a:r>
            <a:endParaRPr b="1" lang="en-US" sz="14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45" name="Подзаголовок 4"/>
          <p:cNvSpPr/>
          <p:nvPr/>
        </p:nvSpPr>
        <p:spPr>
          <a:xfrm>
            <a:off x="2523960" y="1773360"/>
            <a:ext cx="5702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mbria"/>
              </a:rPr>
              <a:t>Спасибо за внимание!</a:t>
            </a: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46" name="Нашивка 12"/>
          <p:cNvSpPr/>
          <p:nvPr/>
        </p:nvSpPr>
        <p:spPr>
          <a:xfrm>
            <a:off x="9331200" y="0"/>
            <a:ext cx="723960" cy="785880"/>
          </a:xfrm>
          <a:custGeom>
            <a:avLst/>
            <a:gdLst>
              <a:gd name="textAreaLeft" fmla="*/ 0 w 723960"/>
              <a:gd name="textAreaRight" fmla="*/ 724320 w 7239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47" name="Нашивка 15"/>
          <p:cNvSpPr/>
          <p:nvPr/>
        </p:nvSpPr>
        <p:spPr>
          <a:xfrm>
            <a:off x="8643960" y="0"/>
            <a:ext cx="649440" cy="785880"/>
          </a:xfrm>
          <a:custGeom>
            <a:avLst/>
            <a:gdLst>
              <a:gd name="textAreaLeft" fmla="*/ 0 w 649440"/>
              <a:gd name="textAreaRight" fmla="*/ 649800 w 64944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48" name="TextBox 1"/>
          <p:cNvSpPr/>
          <p:nvPr/>
        </p:nvSpPr>
        <p:spPr>
          <a:xfrm>
            <a:off x="2176560" y="114480"/>
            <a:ext cx="593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Cambria"/>
              </a:rPr>
              <a:t>Научно- практическая конференция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Cambria"/>
              </a:rPr>
              <a:t>Человек. Природа. Общество.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749" name="Picture 15" descr="C:\Users\Sokolova\Desktop\Pochtimillionrabochikhmestvmashinostroeniisokratilsyana60tysyach.jpg"/>
          <p:cNvPicPr/>
          <p:nvPr/>
        </p:nvPicPr>
        <p:blipFill>
          <a:blip r:embed="rId1"/>
          <a:stretch/>
        </p:blipFill>
        <p:spPr>
          <a:xfrm>
            <a:off x="10323360" y="5178600"/>
            <a:ext cx="4178520" cy="27860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750" name="Рисунок 13" descr="Курение и алкоголь"/>
          <p:cNvPicPr/>
          <p:nvPr/>
        </p:nvPicPr>
        <p:blipFill>
          <a:blip r:embed="rId2"/>
          <a:stretch/>
        </p:blipFill>
        <p:spPr>
          <a:xfrm>
            <a:off x="10782360" y="428760"/>
            <a:ext cx="4475160" cy="3143160"/>
          </a:xfrm>
          <a:prstGeom prst="rect">
            <a:avLst/>
          </a:prstGeom>
          <a:ln w="0">
            <a:noFill/>
          </a:ln>
        </p:spPr>
      </p:pic>
      <p:pic>
        <p:nvPicPr>
          <p:cNvPr id="751" name="Рисунок 14" descr="Признаки и симптомы алкоголизма"/>
          <p:cNvPicPr/>
          <p:nvPr/>
        </p:nvPicPr>
        <p:blipFill>
          <a:blip r:embed="rId3"/>
          <a:stretch/>
        </p:blipFill>
        <p:spPr>
          <a:xfrm>
            <a:off x="13527000" y="3643200"/>
            <a:ext cx="2843280" cy="200052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4" descr="7"/>
          <p:cNvPicPr/>
          <p:nvPr/>
        </p:nvPicPr>
        <p:blipFill>
          <a:blip r:embed="rId4"/>
          <a:stretch/>
        </p:blipFill>
        <p:spPr>
          <a:xfrm>
            <a:off x="11152080" y="-2143080"/>
            <a:ext cx="3660840" cy="2395440"/>
          </a:xfrm>
          <a:prstGeom prst="rect">
            <a:avLst/>
          </a:prstGeom>
          <a:ln w="0">
            <a:noFill/>
          </a:ln>
        </p:spPr>
      </p:pic>
      <p:pic>
        <p:nvPicPr>
          <p:cNvPr id="753" name="Рисунок 17" descr="Формула алкоголя"/>
          <p:cNvPicPr/>
          <p:nvPr/>
        </p:nvPicPr>
        <p:blipFill>
          <a:blip r:embed="rId5"/>
          <a:stretch/>
        </p:blipFill>
        <p:spPr>
          <a:xfrm>
            <a:off x="-4005360" y="-3000240"/>
            <a:ext cx="4005360" cy="3000240"/>
          </a:xfrm>
          <a:prstGeom prst="rect">
            <a:avLst/>
          </a:prstGeom>
          <a:ln w="0">
            <a:noFill/>
          </a:ln>
        </p:spPr>
      </p:pic>
      <p:pic>
        <p:nvPicPr>
          <p:cNvPr id="754" name="Рисунок 13" descr="5"/>
          <p:cNvPicPr/>
          <p:nvPr/>
        </p:nvPicPr>
        <p:blipFill>
          <a:blip r:embed="rId6"/>
          <a:stretch/>
        </p:blipFill>
        <p:spPr>
          <a:xfrm>
            <a:off x="1063800" y="-2571840"/>
            <a:ext cx="1334880" cy="1285920"/>
          </a:xfrm>
          <a:prstGeom prst="rect">
            <a:avLst/>
          </a:prstGeom>
          <a:ln w="0">
            <a:noFill/>
          </a:ln>
        </p:spPr>
      </p:pic>
      <p:pic>
        <p:nvPicPr>
          <p:cNvPr id="755" name="Объект 4" descr="http://www.garant.ru/files/3/9/591393/obuchenie_300.jpg"/>
          <p:cNvPicPr/>
          <p:nvPr/>
        </p:nvPicPr>
        <p:blipFill>
          <a:blip r:embed="rId7"/>
          <a:stretch/>
        </p:blipFill>
        <p:spPr>
          <a:xfrm>
            <a:off x="501480" y="-3240"/>
            <a:ext cx="1229040" cy="1143000"/>
          </a:xfrm>
          <a:prstGeom prst="rect">
            <a:avLst/>
          </a:prstGeom>
          <a:ln w="0">
            <a:noFill/>
          </a:ln>
        </p:spPr>
      </p:pic>
      <p:pic>
        <p:nvPicPr>
          <p:cNvPr id="756" name="Рисунок 19" descr="Формула алкоголя"/>
          <p:cNvPicPr/>
          <p:nvPr/>
        </p:nvPicPr>
        <p:blipFill>
          <a:blip r:embed="rId8"/>
          <a:stretch/>
        </p:blipFill>
        <p:spPr>
          <a:xfrm>
            <a:off x="-4278240" y="1989000"/>
            <a:ext cx="1631880" cy="1285920"/>
          </a:xfrm>
          <a:prstGeom prst="rect">
            <a:avLst/>
          </a:prstGeom>
          <a:ln w="0">
            <a:noFill/>
          </a:ln>
        </p:spPr>
      </p:pic>
      <p:sp>
        <p:nvSpPr>
          <p:cNvPr id="757" name="Скругленный прямоугольник 20"/>
          <p:cNvSpPr/>
          <p:nvPr/>
        </p:nvSpPr>
        <p:spPr>
          <a:xfrm>
            <a:off x="2251080" y="3322800"/>
            <a:ext cx="7491240" cy="2639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758" name="Прямоугольник 1"/>
          <p:cNvSpPr/>
          <p:nvPr/>
        </p:nvSpPr>
        <p:spPr>
          <a:xfrm>
            <a:off x="5068800" y="3867120"/>
            <a:ext cx="45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Мы открыты к сотрудничеству!!</a:t>
            </a:r>
            <a:endParaRPr b="1" lang="en-US" sz="24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759" name="Picture 23" descr="C:\Users\ANONIMOUS\Desktop\DSCN0420.JPG"/>
          <p:cNvPicPr/>
          <p:nvPr/>
        </p:nvPicPr>
        <p:blipFill>
          <a:blip r:embed="rId9"/>
          <a:stretch/>
        </p:blipFill>
        <p:spPr>
          <a:xfrm>
            <a:off x="1428840" y="3143160"/>
            <a:ext cx="400032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Прямоугольник 12"/>
          <p:cNvSpPr/>
          <p:nvPr/>
        </p:nvSpPr>
        <p:spPr>
          <a:xfrm>
            <a:off x="2287440" y="2664000"/>
            <a:ext cx="244800" cy="6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04" name="Объект 2"/>
          <p:cNvSpPr/>
          <p:nvPr/>
        </p:nvSpPr>
        <p:spPr>
          <a:xfrm>
            <a:off x="247680" y="2133720"/>
            <a:ext cx="5111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5643720" y="3857760"/>
            <a:ext cx="464328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   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06" name="Rectangle 14"/>
          <p:cNvSpPr/>
          <p:nvPr/>
        </p:nvSpPr>
        <p:spPr>
          <a:xfrm>
            <a:off x="2048040" y="5950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07" name="Oval 15"/>
          <p:cNvSpPr/>
          <p:nvPr/>
        </p:nvSpPr>
        <p:spPr>
          <a:xfrm>
            <a:off x="1398600" y="566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08" name="Oval 16"/>
          <p:cNvSpPr/>
          <p:nvPr/>
        </p:nvSpPr>
        <p:spPr>
          <a:xfrm>
            <a:off x="2336760" y="3789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09" name="Прямоугольник 10"/>
          <p:cNvSpPr/>
          <p:nvPr/>
        </p:nvSpPr>
        <p:spPr>
          <a:xfrm>
            <a:off x="2571840" y="920880"/>
            <a:ext cx="51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01"/>
                </a:solidFill>
                <a:latin typeface="Times New Roman"/>
                <a:ea typeface="Times New Roman"/>
              </a:rPr>
              <a:t>.</a:t>
            </a: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10" name="Номер слайда 11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E49D-58EF-4418-B752-03B2B7EED795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11" name="Рисунок 14" descr="C:\Users\ANONIMOUS\Desktop\122.jpe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85880" y="285840"/>
            <a:ext cx="8358120" cy="6215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4"/>
          <p:cNvSpPr/>
          <p:nvPr/>
        </p:nvSpPr>
        <p:spPr>
          <a:xfrm>
            <a:off x="428760" y="0"/>
            <a:ext cx="9320040" cy="1857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часто музеи образовательных учреждений сталкиваются с проблемой поиска материалов для новых экспозиций. Каждому музею необходимо регулярно пополнять свои фонды с целью привлечения посетителей и повышения собственного статуса.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13" name="Прямоугольник 12"/>
          <p:cNvSpPr/>
          <p:nvPr/>
        </p:nvSpPr>
        <p:spPr>
          <a:xfrm>
            <a:off x="2287440" y="2664000"/>
            <a:ext cx="244800" cy="6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14" name="Объект 2"/>
          <p:cNvSpPr/>
          <p:nvPr/>
        </p:nvSpPr>
        <p:spPr>
          <a:xfrm>
            <a:off x="247680" y="2133720"/>
            <a:ext cx="5111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5643720" y="3857760"/>
            <a:ext cx="464328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   </a:t>
            </a:r>
            <a:endParaRPr b="1" lang="en-US" sz="16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16" name="Rectangle 14"/>
          <p:cNvSpPr/>
          <p:nvPr/>
        </p:nvSpPr>
        <p:spPr>
          <a:xfrm>
            <a:off x="2048040" y="5950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17" name="Oval 15"/>
          <p:cNvSpPr/>
          <p:nvPr/>
        </p:nvSpPr>
        <p:spPr>
          <a:xfrm>
            <a:off x="1398600" y="566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18" name="Oval 16"/>
          <p:cNvSpPr/>
          <p:nvPr/>
        </p:nvSpPr>
        <p:spPr>
          <a:xfrm>
            <a:off x="2336760" y="3789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19" name="Picture 22" descr="10peopleattarget3124649"/>
          <p:cNvPicPr/>
          <p:nvPr/>
        </p:nvPicPr>
        <p:blipFill>
          <a:blip r:embed="rId1"/>
          <a:stretch/>
        </p:blipFill>
        <p:spPr>
          <a:xfrm>
            <a:off x="1571760" y="5214960"/>
            <a:ext cx="2071440" cy="1643040"/>
          </a:xfrm>
          <a:prstGeom prst="rect">
            <a:avLst/>
          </a:prstGeom>
          <a:ln w="0">
            <a:noFill/>
          </a:ln>
        </p:spPr>
      </p:pic>
      <p:sp>
        <p:nvSpPr>
          <p:cNvPr id="620" name="Скругленный прямоугольник 1"/>
          <p:cNvSpPr/>
          <p:nvPr/>
        </p:nvSpPr>
        <p:spPr>
          <a:xfrm>
            <a:off x="857160" y="2571840"/>
            <a:ext cx="3929040" cy="22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Эту проблему  мы постараемся решить с помощью нашего проекта, который покажет, как можно создать интересную экспозицию в  музее.</a:t>
            </a:r>
            <a:endParaRPr b="1" lang="en-US" sz="2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21" name="Прямоугольник 10"/>
          <p:cNvSpPr/>
          <p:nvPr/>
        </p:nvSpPr>
        <p:spPr>
          <a:xfrm>
            <a:off x="2571840" y="920880"/>
            <a:ext cx="51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01"/>
                </a:solidFill>
                <a:latin typeface="Times New Roman"/>
                <a:ea typeface="Times New Roman"/>
              </a:rPr>
              <a:t>.</a:t>
            </a: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22" name="Номер слайда 11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F127-1476-4D32-9798-4A8187748167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5429160" y="2071800"/>
            <a:ext cx="4071960" cy="785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 ПРОЕКТА</a:t>
            </a:r>
            <a:endParaRPr b="1" lang="en-US" sz="24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24" name="Скругленный прямоугольник 13"/>
          <p:cNvSpPr/>
          <p:nvPr/>
        </p:nvSpPr>
        <p:spPr>
          <a:xfrm>
            <a:off x="5143680" y="3500280"/>
            <a:ext cx="5143320" cy="2714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Цель проекта: изучение письма Героя Советского Союза Н.Ф. Карацупа,  воссоздание единой картины его героической службы на пограничных рубежах нашей Родины посредством создания тематической экспозиции в музее отделения.</a:t>
            </a:r>
            <a:endParaRPr b="1" lang="en-US" sz="2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569440" cy="857160"/>
          </a:xfrm>
          <a:prstGeom prst="rect">
            <a:avLst/>
          </a:prstGeom>
          <a:solidFill>
            <a:srgbClr val="ebf1de"/>
          </a:solidFill>
          <a:ln w="9360">
            <a:solidFill>
              <a:srgbClr val="10253f"/>
            </a:solidFill>
            <a:miter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3192"/>
                </a:solidFill>
                <a:latin typeface="Calibri"/>
                <a:ea typeface="Times New Roman"/>
              </a:rPr>
              <a:t>ЗАДАЧ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Схема 2" descr=""/>
          <p:cNvPicPr/>
          <p:nvPr/>
        </p:nvPicPr>
        <p:blipFill>
          <a:blip r:embed="rId1"/>
          <a:stretch/>
        </p:blipFill>
        <p:spPr>
          <a:xfrm>
            <a:off x="-79200" y="1805040"/>
            <a:ext cx="10345680" cy="5040360"/>
          </a:xfrm>
          <a:prstGeom prst="rect">
            <a:avLst/>
          </a:prstGeom>
          <a:ln w="0">
            <a:noFill/>
          </a:ln>
        </p:spPr>
      </p:pic>
      <p:sp>
        <p:nvSpPr>
          <p:cNvPr id="627" name="Номер слайда 3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3B54-0408-497D-8FCE-DE6E8866A163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28760" y="476280"/>
            <a:ext cx="9215280" cy="1023840"/>
          </a:xfrm>
          <a:prstGeom prst="rect">
            <a:avLst/>
          </a:prstGeom>
          <a:solidFill>
            <a:srgbClr val="ebf1de"/>
          </a:solidFill>
          <a:ln w="9360">
            <a:solidFill>
              <a:srgbClr val="1f497d"/>
            </a:solidFill>
            <a:miter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3192"/>
                </a:solidFill>
                <a:latin typeface="Calibri"/>
                <a:ea typeface="Times New Roman"/>
              </a:rPr>
              <a:t>ИСТОРИЯ ОДНОГО ПИСЬМА  </a:t>
            </a:r>
            <a:r>
              <a:rPr b="1" lang="ru-RU" sz="2800" spc="-1" strike="noStrike">
                <a:solidFill>
                  <a:srgbClr val="2e3192"/>
                </a:solidFill>
                <a:latin typeface="Times New Roman"/>
                <a:ea typeface="Times New Roman"/>
              </a:rPr>
              <a:t>(о  Н.Ф. Карацуп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Схема 2" descr=""/>
          <p:cNvPicPr/>
          <p:nvPr/>
        </p:nvPicPr>
        <p:blipFill>
          <a:blip r:embed="rId1"/>
          <a:stretch/>
        </p:blipFill>
        <p:spPr>
          <a:xfrm>
            <a:off x="-60480" y="1805040"/>
            <a:ext cx="10350720" cy="5040360"/>
          </a:xfrm>
          <a:prstGeom prst="rect">
            <a:avLst/>
          </a:prstGeom>
          <a:ln w="0">
            <a:noFill/>
          </a:ln>
        </p:spPr>
      </p:pic>
      <p:sp>
        <p:nvSpPr>
          <p:cNvPr id="630" name="Номер слайда 3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65C4-8AAD-4095-B22C-BAC76054D303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  <p:transition spd="slow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6"/>
          <p:cNvSpPr/>
          <p:nvPr/>
        </p:nvSpPr>
        <p:spPr>
          <a:xfrm>
            <a:off x="1614600" y="0"/>
            <a:ext cx="86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1214280" y="714240"/>
            <a:ext cx="8528040" cy="947160"/>
          </a:xfrm>
          <a:prstGeom prst="rect">
            <a:avLst/>
          </a:prstGeom>
          <a:solidFill>
            <a:srgbClr val="ebf1de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b2a0f"/>
                </a:solidFill>
                <a:latin typeface="Cambria"/>
              </a:rPr>
              <a:t>ГЛАВА 1 «ЖИЗНЕННЫЙ ПУТЬ ПОГРАНИЧНИКА»</a:t>
            </a:r>
            <a:endParaRPr b="1" lang="en-US" sz="2800" spc="-1" strike="noStrike">
              <a:solidFill>
                <a:srgbClr val="2e3192"/>
              </a:solidFill>
              <a:latin typeface="Cambria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500040" y="2571840"/>
            <a:ext cx="307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В 1932 году призвали в армию, службу начал на заставе «Полтавка» Гродековского погранотряда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34" name="Picture 11" descr="i?id=c219845ada01ae08d47702bee4941e62&amp;n=33&amp;h=215&amp;w=195"/>
          <p:cNvPicPr/>
          <p:nvPr/>
        </p:nvPicPr>
        <p:blipFill>
          <a:blip r:embed="rId1"/>
          <a:stretch/>
        </p:blipFill>
        <p:spPr>
          <a:xfrm rot="8358600">
            <a:off x="2266560" y="1642680"/>
            <a:ext cx="576360" cy="3747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2" descr="i?id=c219845ada01ae08d47702bee4941e62&amp;n=33&amp;h=215&amp;w=195"/>
          <p:cNvPicPr/>
          <p:nvPr/>
        </p:nvPicPr>
        <p:blipFill>
          <a:blip r:embed="rId2"/>
          <a:stretch/>
        </p:blipFill>
        <p:spPr>
          <a:xfrm rot="2371800">
            <a:off x="7411680" y="1589040"/>
            <a:ext cx="647640" cy="39996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13"/>
          <p:cNvSpPr/>
          <p:nvPr/>
        </p:nvSpPr>
        <p:spPr>
          <a:xfrm>
            <a:off x="3571920" y="3643200"/>
            <a:ext cx="345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1933 года проводник, инструктор служебных собак на пограничных заставах, с 1944 года в пограничных войсках, с 1952 года в штабе пограничного округа 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37" name="Picture 14" descr="i?id=c219845ada01ae08d47702bee4941e62&amp;n=33&amp;h=215&amp;w=195"/>
          <p:cNvPicPr/>
          <p:nvPr/>
        </p:nvPicPr>
        <p:blipFill>
          <a:blip r:embed="rId3"/>
          <a:stretch/>
        </p:blipFill>
        <p:spPr>
          <a:xfrm>
            <a:off x="5072040" y="1928880"/>
            <a:ext cx="374760" cy="5763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5" descr="i?id=c219845ada01ae08d47702bee4941e62&amp;n=33&amp;h=215&amp;w=195"/>
          <p:cNvPicPr/>
          <p:nvPr/>
        </p:nvPicPr>
        <p:blipFill>
          <a:blip r:embed="rId4"/>
          <a:stretch/>
        </p:blipFill>
        <p:spPr>
          <a:xfrm>
            <a:off x="-262080" y="9144000"/>
            <a:ext cx="262080" cy="4176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8" descr="29759_dokumenty"/>
          <p:cNvPicPr/>
          <p:nvPr/>
        </p:nvPicPr>
        <p:blipFill>
          <a:blip r:embed="rId5"/>
          <a:stretch/>
        </p:blipFill>
        <p:spPr>
          <a:xfrm>
            <a:off x="-3357720" y="8858160"/>
            <a:ext cx="2094120" cy="1357560"/>
          </a:xfrm>
          <a:prstGeom prst="rect">
            <a:avLst/>
          </a:prstGeom>
          <a:ln w="0">
            <a:noFill/>
          </a:ln>
        </p:spPr>
      </p:pic>
      <p:sp>
        <p:nvSpPr>
          <p:cNvPr id="640" name="Прямоугольник 1"/>
          <p:cNvSpPr/>
          <p:nvPr/>
        </p:nvSpPr>
        <p:spPr>
          <a:xfrm>
            <a:off x="7072200" y="2357280"/>
            <a:ext cx="2679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Times New Roman"/>
                <a:ea typeface="Times New Roman"/>
              </a:rPr>
              <a:t>В 1957 – 1961 годах работал в Главном управлении пограничных войск. В эти годы оказался в Северном  Вьетнаме где помогал создавать пограничные войска</a:t>
            </a:r>
            <a:endParaRPr b="1" lang="en-US" sz="20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41" name="Рисунок 3" descr="http://telegrafua.com/photos/bank_22405_img_200x230.jpg"/>
          <p:cNvPicPr/>
          <p:nvPr/>
        </p:nvPicPr>
        <p:blipFill>
          <a:blip r:embed="rId6"/>
          <a:stretch/>
        </p:blipFill>
        <p:spPr>
          <a:xfrm>
            <a:off x="357120" y="4572000"/>
            <a:ext cx="1612800" cy="1744560"/>
          </a:xfrm>
          <a:prstGeom prst="rect">
            <a:avLst/>
          </a:prstGeom>
          <a:ln w="0">
            <a:noFill/>
          </a:ln>
        </p:spPr>
      </p:pic>
      <p:sp>
        <p:nvSpPr>
          <p:cNvPr id="642" name="Номер слайда 12"/>
          <p:cNvSpPr/>
          <p:nvPr/>
        </p:nvSpPr>
        <p:spPr>
          <a:xfrm>
            <a:off x="7429680" y="649296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05D3-A0E2-4749-A15F-7A094698A94D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Рисунок 1" descr="http://telegrafua.com/photos/bank_22406_60879.jpg"/>
          <p:cNvPicPr/>
          <p:nvPr/>
        </p:nvPicPr>
        <p:blipFill>
          <a:blip r:embed="rId1"/>
          <a:stretch/>
        </p:blipFill>
        <p:spPr>
          <a:xfrm>
            <a:off x="750960" y="189000"/>
            <a:ext cx="4000320" cy="2681280"/>
          </a:xfrm>
          <a:prstGeom prst="rect">
            <a:avLst/>
          </a:prstGeom>
          <a:ln w="0">
            <a:noFill/>
          </a:ln>
        </p:spPr>
      </p:pic>
      <p:pic>
        <p:nvPicPr>
          <p:cNvPr id="644" name="Рисунок 2" descr="http://telegrafua.com/photos/bank_22407_46627.jpg"/>
          <p:cNvPicPr/>
          <p:nvPr/>
        </p:nvPicPr>
        <p:blipFill>
          <a:blip r:embed="rId2"/>
          <a:stretch/>
        </p:blipFill>
        <p:spPr>
          <a:xfrm>
            <a:off x="3630600" y="1590840"/>
            <a:ext cx="4000680" cy="2560320"/>
          </a:xfrm>
          <a:prstGeom prst="rect">
            <a:avLst/>
          </a:prstGeom>
          <a:ln w="0">
            <a:noFill/>
          </a:ln>
        </p:spPr>
      </p:pic>
      <p:pic>
        <p:nvPicPr>
          <p:cNvPr id="645" name="Рисунок 3" descr="http://telegrafua.com/photos/bank_22408_83789.jpg"/>
          <p:cNvPicPr/>
          <p:nvPr/>
        </p:nvPicPr>
        <p:blipFill>
          <a:blip r:embed="rId3"/>
          <a:stretch/>
        </p:blipFill>
        <p:spPr>
          <a:xfrm>
            <a:off x="750960" y="3532320"/>
            <a:ext cx="4000320" cy="2636640"/>
          </a:xfrm>
          <a:prstGeom prst="rect">
            <a:avLst/>
          </a:prstGeom>
          <a:ln w="0">
            <a:noFill/>
          </a:ln>
        </p:spPr>
      </p:pic>
      <p:pic>
        <p:nvPicPr>
          <p:cNvPr id="646" name="Рисунок 4" descr="http://telegrafua.com/photos/bank_22409_10083.jpg"/>
          <p:cNvPicPr/>
          <p:nvPr/>
        </p:nvPicPr>
        <p:blipFill>
          <a:blip r:embed="rId4"/>
          <a:stretch/>
        </p:blipFill>
        <p:spPr>
          <a:xfrm>
            <a:off x="6572160" y="3500280"/>
            <a:ext cx="2448000" cy="3138480"/>
          </a:xfrm>
          <a:prstGeom prst="rect">
            <a:avLst/>
          </a:prstGeom>
          <a:ln w="0">
            <a:noFill/>
          </a:ln>
        </p:spPr>
      </p:pic>
      <p:pic>
        <p:nvPicPr>
          <p:cNvPr id="647" name="Рисунок 5" descr="http://telegrafua.com/photos/bank_22410_75694.jpg"/>
          <p:cNvPicPr/>
          <p:nvPr/>
        </p:nvPicPr>
        <p:blipFill>
          <a:blip r:embed="rId5"/>
          <a:stretch/>
        </p:blipFill>
        <p:spPr>
          <a:xfrm>
            <a:off x="6006960" y="23760"/>
            <a:ext cx="4000680" cy="2825640"/>
          </a:xfrm>
          <a:prstGeom prst="rect">
            <a:avLst/>
          </a:prstGeom>
          <a:ln w="0">
            <a:noFill/>
          </a:ln>
        </p:spPr>
      </p:pic>
      <p:sp>
        <p:nvSpPr>
          <p:cNvPr id="648" name="Номер слайда 6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1333-6017-44F8-B841-6D5ABE3458C6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Рисунок 1" descr="http://telegrafua.com/photos/bank_22411_32324.jpg"/>
          <p:cNvPicPr/>
          <p:nvPr/>
        </p:nvPicPr>
        <p:blipFill>
          <a:blip r:embed="rId1"/>
          <a:stretch/>
        </p:blipFill>
        <p:spPr>
          <a:xfrm>
            <a:off x="463680" y="189000"/>
            <a:ext cx="3311280" cy="2592360"/>
          </a:xfrm>
          <a:prstGeom prst="rect">
            <a:avLst/>
          </a:prstGeom>
          <a:ln w="0">
            <a:noFill/>
          </a:ln>
        </p:spPr>
      </p:pic>
      <p:pic>
        <p:nvPicPr>
          <p:cNvPr id="650" name="Рисунок 1" descr="C:\Users\Татьяна\Desktop\карацупа весь материал\КАРАЦУПА 2\кар.jpg"/>
          <p:cNvPicPr/>
          <p:nvPr/>
        </p:nvPicPr>
        <p:blipFill>
          <a:blip r:embed="rId2"/>
          <a:stretch/>
        </p:blipFill>
        <p:spPr>
          <a:xfrm>
            <a:off x="6943680" y="189000"/>
            <a:ext cx="2909880" cy="3960720"/>
          </a:xfrm>
          <a:prstGeom prst="rect">
            <a:avLst/>
          </a:prstGeom>
          <a:ln w="0">
            <a:noFill/>
          </a:ln>
        </p:spPr>
      </p:pic>
      <p:sp>
        <p:nvSpPr>
          <p:cNvPr id="651" name="Номер слайда 4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4E02-92E5-478F-9FD1-EADD60034337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  <p:pic>
        <p:nvPicPr>
          <p:cNvPr id="652" name="Рисунок 5" descr="F:\КАРАЦУПА фото\дрессировка собак.jpg"/>
          <p:cNvPicPr/>
          <p:nvPr/>
        </p:nvPicPr>
        <p:blipFill>
          <a:blip r:embed="rId3"/>
          <a:stretch/>
        </p:blipFill>
        <p:spPr>
          <a:xfrm>
            <a:off x="247680" y="2997360"/>
            <a:ext cx="4896000" cy="3384360"/>
          </a:xfrm>
          <a:prstGeom prst="rect">
            <a:avLst/>
          </a:prstGeom>
          <a:ln w="0">
            <a:noFill/>
          </a:ln>
        </p:spPr>
      </p:pic>
      <p:pic>
        <p:nvPicPr>
          <p:cNvPr id="653" name="Рисунок 6" descr="F:\КАРАЦУПА фото\медаль.jpg"/>
          <p:cNvPicPr/>
          <p:nvPr/>
        </p:nvPicPr>
        <p:blipFill>
          <a:blip r:embed="rId4"/>
          <a:stretch/>
        </p:blipFill>
        <p:spPr>
          <a:xfrm>
            <a:off x="4206960" y="333360"/>
            <a:ext cx="2449440" cy="3527280"/>
          </a:xfrm>
          <a:prstGeom prst="rect">
            <a:avLst/>
          </a:prstGeom>
          <a:ln w="0">
            <a:noFill/>
          </a:ln>
        </p:spPr>
      </p:pic>
      <p:pic>
        <p:nvPicPr>
          <p:cNvPr id="654" name="Рисунок 7" descr="F:\КАРАЦУПА фото\медаль2.jpg"/>
          <p:cNvPicPr/>
          <p:nvPr/>
        </p:nvPicPr>
        <p:blipFill>
          <a:blip r:embed="rId5"/>
          <a:stretch/>
        </p:blipFill>
        <p:spPr>
          <a:xfrm>
            <a:off x="5791320" y="3933720"/>
            <a:ext cx="34988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F:\карацупа весь мат 2\зап.jpg"/>
          <p:cNvPicPr/>
          <p:nvPr/>
        </p:nvPicPr>
        <p:blipFill>
          <a:blip r:embed="rId1"/>
          <a:stretch/>
        </p:blipFill>
        <p:spPr>
          <a:xfrm>
            <a:off x="357120" y="285840"/>
            <a:ext cx="2676600" cy="38275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" descr="F:\карацупа весь мат 2\к5.jpg"/>
          <p:cNvPicPr/>
          <p:nvPr/>
        </p:nvPicPr>
        <p:blipFill>
          <a:blip r:embed="rId2"/>
          <a:stretch/>
        </p:blipFill>
        <p:spPr>
          <a:xfrm>
            <a:off x="3087720" y="476280"/>
            <a:ext cx="5000760" cy="66675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4" descr="F:\карацупа весь мат 2\кар..jpg"/>
          <p:cNvPicPr/>
          <p:nvPr/>
        </p:nvPicPr>
        <p:blipFill>
          <a:blip r:embed="rId3"/>
          <a:stretch/>
        </p:blipFill>
        <p:spPr>
          <a:xfrm>
            <a:off x="6502320" y="0"/>
            <a:ext cx="3784680" cy="5033880"/>
          </a:xfrm>
          <a:prstGeom prst="rect">
            <a:avLst/>
          </a:prstGeom>
          <a:ln w="0">
            <a:noFill/>
          </a:ln>
        </p:spPr>
      </p:pic>
      <p:sp>
        <p:nvSpPr>
          <p:cNvPr id="658" name="Номер слайда 4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F51D-3AD9-4AEF-8229-9A198DE424C1}" type="slidenum">
              <a:rPr b="1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1" lang="en-US" sz="1200" spc="-1" strike="noStrike">
              <a:solidFill>
                <a:srgbClr val="2e31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15:07:29Z</dcterms:created>
  <dc:creator>Асланова Улькяр Теймуровна</dc:creator>
  <dc:description/>
  <dc:language>en-US</dc:language>
  <cp:lastModifiedBy>Виктория</cp:lastModifiedBy>
  <cp:lastPrinted>2015-02-09T11:42:54Z</cp:lastPrinted>
  <dcterms:modified xsi:type="dcterms:W3CDTF">2018-12-28T05:51:31Z</dcterms:modified>
  <cp:revision>161</cp:revision>
  <dc:subject/>
  <dc:title>Презентация PowerPoint</dc:title>
</cp:coreProperties>
</file>