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13.jpeg" ContentType="image/jpeg"/>
  <Override PartName="/ppt/media/image40.jpeg" ContentType="image/jpeg"/>
  <Override PartName="/ppt/media/image8.jpeg" ContentType="image/jpeg"/>
  <Override PartName="/ppt/media/image39.jpeg" ContentType="image/jpeg"/>
  <Override PartName="/ppt/media/image1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3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26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27.jpeg" ContentType="image/jpeg"/>
  <Override PartName="/ppt/media/image50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10288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4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Img"/>
          </p:nvPr>
        </p:nvSpPr>
        <p:spPr>
          <a:xfrm>
            <a:off x="622080" y="741240"/>
            <a:ext cx="55530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ftr" idx="4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 type="sldNum" idx="4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0138-C0EC-466F-8B44-5FA3A67083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622440" y="741240"/>
            <a:ext cx="5553000" cy="3702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0EF1-C16C-40B1-A100-C0DD35FA9D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622440" y="741240"/>
            <a:ext cx="5553000" cy="3702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7101-39DD-4A0B-821F-FF5783B7D1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622440" y="741240"/>
            <a:ext cx="5553000" cy="3702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5E7E-08B7-4FF4-9F46-FA8C58F476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622440" y="741240"/>
            <a:ext cx="5553000" cy="3702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6479-0825-470A-A68B-C4AA7418E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4CA-A456-4238-A89A-CC149250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48B-A085-40A8-B809-8943D23F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B9044-B042-4584-AD5F-F43E0F00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F95F9-4784-484B-A4AF-2D61363D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5CAC0-478B-4ECA-8F78-0635C1D2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59898-91A4-4FCD-BC05-843AB854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662DE-F0DB-41CD-9A80-C10F88AB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C4D03-2D36-4859-8B8B-C87B3419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DB1FA-A2CE-456D-9098-F7633446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F7203-ACE1-4835-8771-F5E23DC2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01775-DAA2-4AE0-88DE-31D7503C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5805B-1CFE-4792-BB70-C3919504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498-6C4B-4A48-BA05-85F41C9E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BEF4C-953D-4B1B-8068-5FD05B54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FAD40-46D6-473C-943C-BE6D1B13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F99CF-9208-4494-A9DA-2A74B122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3B43E-AED7-454A-89D3-2EC235EE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67906-6403-4187-8445-A44AE0F4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42E62-631E-426B-86EC-D850C713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461F1-136E-4924-BCB4-53F31F6F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E6328-666F-44C4-BD07-0F1CEBD8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2B3ED-4439-4A35-AEE4-9F188C10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68EFC-E759-4573-99BE-B62F830E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586-4244-4CF1-A9F7-42D05BCF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9669B-7E85-4B25-A94C-81476F16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A8980-5CB1-48B5-B0DD-E2F763CC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8B9E0-0B35-4A22-B472-45B0894A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05684-937C-4578-8E4A-3CD826FD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6315D-100E-40BA-AA67-6C410B86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B99EE-4E88-48EC-8C94-C74FD6E4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EA9AD-5780-4A46-AD42-4B148326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A0EE5-EF2F-4A0A-BB6C-C29EF99E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95489-2BD7-41BA-A4F1-FD2C44CF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E39A2-DC1A-4DDE-899D-80A163FB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A7CC-4BAF-45BE-AF38-A2EFDC43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4CCA6-22D1-4829-A4B0-325C9881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43045-D4C9-45D6-B2C4-F8444749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86FFA-92E8-4F31-905A-B7CAB357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A1D41-A1D4-4D3D-B318-285570C5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C8BE8-C7FF-47D7-8590-97BFD43D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2A012-0A45-43D9-A5EA-BF7B2C9F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95B28-A196-4734-805C-715D009E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FB1FC-6B2C-4D59-B4EF-9110382F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A6F92-1CB6-4AF9-89E5-E95A4C4E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2DB9A-D55B-4081-A053-5D36CFA5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8C96-7433-4BDC-8A40-D1EAC318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EA29C-4972-4A35-83A3-76E00AA8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D5031-698E-409E-8CB2-81CA5024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52793-123F-4DFC-97EA-63981FCD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410CE-D000-40A4-BF34-633E60C5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FA199-7681-4D41-A4F2-D71F1B7A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28274-E302-4729-B1AA-CBD5881A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B58D8-8227-4B4D-98AE-FB7C972C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776F7-CAFC-4C69-8134-4949A876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121EF-1E32-48F3-B60D-4DC994E2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D796A-D976-43DB-B860-DCC7FFB0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D977-45A0-47EE-935C-25F08B0F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623F3-FFB7-4C95-9A4D-F38662AB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BC4FF-5D80-40FB-ADD6-0BE445F1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9E514-16F3-478A-A8B0-AFDA83B9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54905-7FBA-4526-BFC6-AABF2545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7F690-D5B4-4D0F-A802-B8025BAF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803FE-85F6-490D-B812-FB3E5049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02E9B-10F5-442F-BDF6-FC4C9E9C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6FC60-33A3-4DDA-897C-A4B105E8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77182-2F22-42BF-9FFE-9C4AA816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0DCF2-F30C-4F3E-9A26-527EE930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24F4-E1DA-44D0-A199-81DF602E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B520F-50B6-4B37-B8ED-683F5EA7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0F657-A5EA-4916-B4D0-C2D29F6E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7B884-013D-4672-AD37-09B7DB23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50B01-CB13-482D-8525-875D2BE3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7C83A-024B-4B1B-B568-572BA8F3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50401A-D718-439B-9A30-00727D1D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077BD-03AB-410C-AF84-9E47EFE3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14CE5-F0B9-4EFF-8194-85C0AB7C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CF0DC-FF87-4DB3-A64A-FC97721D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821A-D7FF-4C6E-8AC9-7D9B254E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8F17-9C24-44C9-BA86-2423A2A6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B5D7-6E5E-43AD-B995-80E9F98D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1A1-F3C9-4CBE-98F7-6E20781B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DBA2-6E28-4629-A4C6-94509BB0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5074-ABC3-4CE1-B180-823DA8CA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5220-6F54-4F6C-AFA4-BFE121CE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2D10-E0D3-442A-B57F-6BBAF4D9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DE79-6F86-4FDB-A87C-416BF674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E479-6FDB-4259-A6ED-2658C09D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9C6C-3988-40A5-89E9-9E7DAD08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7B1B-C2C9-4EE9-AB2A-D78BFE89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27FAF-6F8C-466C-9227-04935E1F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50EE-D8EF-4D14-A068-4EDDCB47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BFB-E48B-415D-819E-B3490866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EBE0-993F-439C-AA62-5E32CD73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7749-04B4-43F2-9526-4C4FC05D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76AB-9149-4C70-B95E-F93D125C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F23B-E05D-4A9D-B69C-CAA73BC7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136B-342F-48F3-BD13-DF57B014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7068-1437-4459-8B0A-CFD21803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27853-9027-4403-8E29-6F951C1F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A943-416C-4CFE-87C3-67D8D0B4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81146-58F6-47FC-9374-0670004D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1209B-CCA1-46D3-BB6A-AC817A2D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47B-1975-4BD5-A02C-70F5772B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F2ECE-2459-4A85-B0AB-E8DEDE93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BE4F3-9EED-434C-924D-2CE22004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50E69-92D5-4DEA-830A-7A0691E7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ED32-6353-4353-BA77-72FCA6DD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524D-0621-4ED1-9A64-FA8A77CC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E41E-F879-42AD-A272-B076889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3AA40-D157-4886-9A1F-79502A96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B9CD3-22E2-4BAA-80DA-6F42BD54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A704D-A774-44D5-A352-7BFF8F66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D5C96-2C7A-4330-9A57-3CEA8B52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BEC-6B29-495A-96A6-D58AA594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5A97D-44EC-40A5-B06C-B3210A7D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D3123-24C1-40B6-8580-2C61468A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35B4C-FBA0-4A02-8F9F-197C2B73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6FFA4-DF09-462C-AD62-400BB636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BEB15-BD72-4B44-91F8-833E111E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D3476-8B73-4154-9E2B-BCA43FAA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2584A-D3A2-4298-9546-78572796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66E36-A5C2-4327-B3C8-84F5126F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D73A1-EC3A-4AEC-9634-27BA607E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2DAD7-DFFB-484E-BC70-7F52700A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90C-BD68-4E66-9064-0CAE8D21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BEF1D-1EB6-447A-9D5A-7488B44E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61672-2139-4DCB-A605-5797C8CB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93DB7-3326-44F0-B5CB-5D1762C1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94BAE-CD59-4611-9D37-0588FAC1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228BF-5004-4FDF-9D32-1D620392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2FC9E-1F11-43C1-B107-574F9B0C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6F104-8DEE-4510-AD4D-C42A39C7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A4E4C-532A-485F-B0BC-46BB6776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EB5DD-FB9B-48F7-B708-3A27D27D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4F595-DE98-432C-AB07-F2D03B41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BA2-A98F-4238-9D8B-5E42DB64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90905-6D48-4B22-8AF2-887F4A84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BC6F4-62E1-46CD-B117-37F62F36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6258E-EB1E-437E-B2A5-5BC4A3DC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D0881-42D3-4E41-88CF-B451D17A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AF9C-2D4B-4B92-A037-3701B010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7423A-9218-42C2-9B49-D6B38545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D143-EB94-4889-A9E5-5D2410D5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4FA63-2548-4C4A-83F7-6888ECB2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B738F-BB2F-401B-AA1D-50369642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1F939-FC70-4135-A715-FA396D18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F58-7AD9-470E-A18D-CEA5ECFF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18A75-4B20-4CFE-B667-2370FC2B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E66A0-3FF8-4B10-BF7E-11DB82E0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3F08B-F1D0-464B-AD42-FF241016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D9FAA-FCEC-400A-BA66-EE0AA3F4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7BC1-BC28-4649-B9F3-81A9DAAF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6712E-4643-4D84-B307-05F07352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86A17-3EB9-4918-A89F-64308F43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B58C8-E53A-4A9D-AC83-64F1D68E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42215-0C90-4096-9420-6B6532D4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A5170-E528-4AF0-9B0B-5153F7CF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F2B-0B1C-46B0-B9B5-CD7620A8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D149B-4745-44B9-AF87-AF72ED8F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A5851-7DEF-445A-AF7C-75690B89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D7D48-7240-4A11-9FD9-94006665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AA976-4E3A-49EA-AED2-53E5674D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806A0-B5C7-4C22-A691-077CE141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9FEB8-E644-4327-8621-DC5B234C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D32A0-D2FF-44F3-B5A7-ABFEDE81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4E8EB-CF5F-44B4-BACC-C2F6BED8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07B89-EA78-4927-8537-60B1C172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C398F-8B6C-45C4-9612-E9E55832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2153-CE62-4D6E-A7CC-9F3AAF1F6FA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8112-E8E1-48B9-88E2-3F836B07DB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231840" y="189000"/>
            <a:ext cx="550800" cy="7221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39C6-B49A-4C62-BC2D-F1B7A5F90E9A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CED2-2F47-41FD-9983-0F42FE7950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231840" y="189000"/>
            <a:ext cx="550800" cy="7221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4C26-1268-4F1C-88A2-F470EA7D849F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D656-9137-4BDE-8DD5-01820380E4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9034560" y="5013360"/>
            <a:ext cx="547560" cy="72216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EAA8-DCAA-45FD-B487-E891E4076842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04AC-54A2-49B4-97E7-F7899A6EBC7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595C-2835-44AF-9BB7-5C04C1D8FB0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FE34-2E27-4B28-BC25-955A9FC7684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CEF1-7D11-49FB-AE5E-95F76660368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C21A-826A-4FC7-9B1C-20E72AD913B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3177-241C-4565-A49B-DA6EF1C4BD38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2337-B72A-40A7-A52B-81369780C63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14080" y="6356520"/>
            <a:ext cx="2400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3A2A-1873-45C3-A3B9-0D78BD5B99D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14320" y="6356520"/>
            <a:ext cx="3257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591320" y="6237360"/>
            <a:ext cx="240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DDFE-F474-4A46-9381-4058E72F22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10126800" y="4846680"/>
            <a:ext cx="160200" cy="20113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0126800" y="0"/>
            <a:ext cx="160200" cy="484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125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7211880" y="1484280"/>
            <a:ext cx="2027520" cy="2665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747B-02F5-49A1-B255-3FEAD165BB68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B75E-72EE-4991-B767-79D962C86F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231840" y="189000"/>
            <a:ext cx="549360" cy="7221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9D7B-5600-4B89-9301-E3293365BFB1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988C-89C5-463A-AD6D-8360138889A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7D1F-3384-4095-8A01-9C6615F71603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157B-BCBE-4331-A02E-D6DEAF843A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231840" y="189000"/>
            <a:ext cx="550800" cy="7221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28A5-425F-4971-B06F-AAAA00D7433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D793-4CA0-4B28-BB1E-4CBDE02F49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231840" y="189000"/>
            <a:ext cx="550800" cy="7221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CE47-9558-4FF1-A910-ABF73AD8C11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2E07-5AA9-4C05-9876-56BAEB6305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231840" y="189000"/>
            <a:ext cx="550800" cy="7221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3C8D-EB08-474A-817F-91989F04A08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93A3-4445-4F67-AE75-185B286AD4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2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3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2"/>
          <p:cNvSpPr/>
          <p:nvPr/>
        </p:nvSpPr>
        <p:spPr>
          <a:xfrm>
            <a:off x="714240" y="857160"/>
            <a:ext cx="5202360" cy="3073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2" name="Прямоугольник 16"/>
          <p:cNvSpPr/>
          <p:nvPr/>
        </p:nvSpPr>
        <p:spPr>
          <a:xfrm>
            <a:off x="0" y="1557360"/>
            <a:ext cx="731880" cy="5300640"/>
          </a:xfrm>
          <a:prstGeom prst="rect">
            <a:avLst/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3" name="Номер слайда 9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36EB-8604-4113-9E4E-25BE546E3B8C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1071720" y="4572000"/>
            <a:ext cx="9001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Выполнил: студент группы МЖКХ-5 Рожков  Алексей Андреевич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Руководитель: Зеленская Татьяна Дмитриевна,  преподаватель,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куратор музея 4 отделения АТК;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                          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Чагаева Виктория Владимировна, социальный педагог;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Консультанты:  Рева Алла Михайловна, методист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                           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Окс Татьяна Михайловна, заведующая отделом музея «Истории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                           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АМа»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5" name="Прямоугольник 11"/>
          <p:cNvSpPr/>
          <p:nvPr/>
        </p:nvSpPr>
        <p:spPr>
          <a:xfrm>
            <a:off x="0" y="0"/>
            <a:ext cx="46980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6" name="Прямоугольник 10"/>
          <p:cNvSpPr/>
          <p:nvPr/>
        </p:nvSpPr>
        <p:spPr>
          <a:xfrm>
            <a:off x="6095880" y="63342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Амурская область, Тында</a:t>
            </a:r>
            <a:endParaRPr b="1" lang="en-US" sz="14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29  марта 2018 г.</a:t>
            </a:r>
            <a:endParaRPr b="1" lang="en-US" sz="1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7" name="Подзаголовок 4"/>
          <p:cNvSpPr/>
          <p:nvPr/>
        </p:nvSpPr>
        <p:spPr>
          <a:xfrm>
            <a:off x="1238400" y="2060640"/>
            <a:ext cx="4190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стория одного письма</a:t>
            </a:r>
            <a:endParaRPr b="1" lang="en-US" sz="3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8" name="Нашивка 12"/>
          <p:cNvSpPr/>
          <p:nvPr/>
        </p:nvSpPr>
        <p:spPr>
          <a:xfrm>
            <a:off x="9158400" y="47520"/>
            <a:ext cx="896760" cy="568440"/>
          </a:xfrm>
          <a:custGeom>
            <a:avLst/>
            <a:gdLst>
              <a:gd name="textAreaLeft" fmla="*/ 0 w 896760"/>
              <a:gd name="textAreaRight" fmla="*/ 897120 w 896760"/>
              <a:gd name="textAreaTop" fmla="*/ 0 h 568440"/>
              <a:gd name="textAreaBottom" fmla="*/ 568440 h 5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57" y="0"/>
                </a:lnTo>
                <a:lnTo>
                  <a:pt x="21600" y="10800"/>
                </a:lnTo>
                <a:lnTo>
                  <a:pt x="14757" y="21600"/>
                </a:lnTo>
                <a:lnTo>
                  <a:pt x="0" y="21600"/>
                </a:lnTo>
                <a:lnTo>
                  <a:pt x="6843" y="108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9" name="Нашивка 15"/>
          <p:cNvSpPr/>
          <p:nvPr/>
        </p:nvSpPr>
        <p:spPr>
          <a:xfrm>
            <a:off x="8069400" y="74520"/>
            <a:ext cx="896760" cy="568440"/>
          </a:xfrm>
          <a:custGeom>
            <a:avLst/>
            <a:gdLst>
              <a:gd name="textAreaLeft" fmla="*/ 0 w 896760"/>
              <a:gd name="textAreaRight" fmla="*/ 897120 w 896760"/>
              <a:gd name="textAreaTop" fmla="*/ 0 h 568440"/>
              <a:gd name="textAreaBottom" fmla="*/ 568440 h 5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57" y="0"/>
                </a:lnTo>
                <a:lnTo>
                  <a:pt x="21600" y="10800"/>
                </a:lnTo>
                <a:lnTo>
                  <a:pt x="14757" y="21600"/>
                </a:lnTo>
                <a:lnTo>
                  <a:pt x="0" y="21600"/>
                </a:lnTo>
                <a:lnTo>
                  <a:pt x="68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0" name="TextBox 1"/>
          <p:cNvSpPr/>
          <p:nvPr/>
        </p:nvSpPr>
        <p:spPr>
          <a:xfrm>
            <a:off x="977760" y="115920"/>
            <a:ext cx="737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Научно – практическая конференция 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Человек. Природа. Общество.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01" name="Рисунок 20" descr="F:\проект карацупа\карацупа музей\DSCN0407.JPG"/>
          <p:cNvPicPr/>
          <p:nvPr/>
        </p:nvPicPr>
        <p:blipFill>
          <a:blip r:embed="rId1"/>
          <a:stretch/>
        </p:blipFill>
        <p:spPr>
          <a:xfrm>
            <a:off x="5786280" y="214200"/>
            <a:ext cx="3500640" cy="3079800"/>
          </a:xfrm>
          <a:prstGeom prst="rect">
            <a:avLst/>
          </a:prstGeom>
          <a:ln w="0">
            <a:noFill/>
          </a:ln>
        </p:spPr>
      </p:pic>
      <p:pic>
        <p:nvPicPr>
          <p:cNvPr id="602" name="Рисунок 22" descr="F:\КАРАЦУПА фото\следопыт из легенды.jpg"/>
          <p:cNvPicPr/>
          <p:nvPr/>
        </p:nvPicPr>
        <p:blipFill>
          <a:blip r:embed="rId2"/>
          <a:stretch/>
        </p:blipFill>
        <p:spPr>
          <a:xfrm>
            <a:off x="5786280" y="2357280"/>
            <a:ext cx="3571920" cy="224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F:\карацупа весь мат 2\дальнев. чемпионат по рукопашному бою.jpg"/>
          <p:cNvPicPr/>
          <p:nvPr/>
        </p:nvPicPr>
        <p:blipFill>
          <a:blip r:embed="rId1"/>
          <a:stretch/>
        </p:blipFill>
        <p:spPr>
          <a:xfrm>
            <a:off x="318960" y="260280"/>
            <a:ext cx="4537080" cy="3097440"/>
          </a:xfrm>
          <a:prstGeom prst="rect">
            <a:avLst/>
          </a:prstGeom>
          <a:ln w="0">
            <a:noFill/>
          </a:ln>
        </p:spPr>
      </p:pic>
      <p:sp>
        <p:nvSpPr>
          <p:cNvPr id="660" name="Номер слайда 2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ECDA-844B-465C-ABF4-BBD7018D1543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61" name="Picture 3" descr="F:\карацупа весь мат 2\пам 2.jpg"/>
          <p:cNvPicPr/>
          <p:nvPr/>
        </p:nvPicPr>
        <p:blipFill>
          <a:blip r:embed="rId2"/>
          <a:stretch/>
        </p:blipFill>
        <p:spPr>
          <a:xfrm>
            <a:off x="5214960" y="333360"/>
            <a:ext cx="4392720" cy="3259080"/>
          </a:xfrm>
          <a:prstGeom prst="rect">
            <a:avLst/>
          </a:prstGeom>
          <a:ln w="0">
            <a:noFill/>
          </a:ln>
        </p:spPr>
      </p:pic>
      <p:pic>
        <p:nvPicPr>
          <p:cNvPr id="662" name="Рисунок 4" descr="F:\КАРАЦУПА фото\нф.jpg"/>
          <p:cNvPicPr/>
          <p:nvPr/>
        </p:nvPicPr>
        <p:blipFill>
          <a:blip r:embed="rId3"/>
          <a:stretch/>
        </p:blipFill>
        <p:spPr>
          <a:xfrm>
            <a:off x="357120" y="3546360"/>
            <a:ext cx="4392720" cy="3311640"/>
          </a:xfrm>
          <a:prstGeom prst="rect">
            <a:avLst/>
          </a:prstGeom>
          <a:ln w="0">
            <a:noFill/>
          </a:ln>
        </p:spPr>
      </p:pic>
      <p:pic>
        <p:nvPicPr>
          <p:cNvPr id="663" name="Рисунок 5" descr="F:\КАРАЦУПА фото\карацупа\кар5.jpg"/>
          <p:cNvPicPr/>
          <p:nvPr/>
        </p:nvPicPr>
        <p:blipFill>
          <a:blip r:embed="rId4"/>
          <a:stretch/>
        </p:blipFill>
        <p:spPr>
          <a:xfrm>
            <a:off x="4927680" y="3284640"/>
            <a:ext cx="504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F:\карацупа весь мат 2\кар9.jpg"/>
          <p:cNvPicPr/>
          <p:nvPr/>
        </p:nvPicPr>
        <p:blipFill>
          <a:blip r:embed="rId1"/>
          <a:stretch/>
        </p:blipFill>
        <p:spPr>
          <a:xfrm>
            <a:off x="606600" y="260280"/>
            <a:ext cx="4321080" cy="3210120"/>
          </a:xfrm>
          <a:prstGeom prst="rect">
            <a:avLst/>
          </a:prstGeom>
          <a:ln w="0">
            <a:noFill/>
          </a:ln>
        </p:spPr>
      </p:pic>
      <p:sp>
        <p:nvSpPr>
          <p:cNvPr id="665" name="Номер слайда 4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490F-6040-4FD5-9F67-35390E9A3C36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66" name="Рисунок 6" descr="F:\КАРАЦУПА фото\нк.jpg"/>
          <p:cNvPicPr/>
          <p:nvPr/>
        </p:nvPicPr>
        <p:blipFill>
          <a:blip r:embed="rId2"/>
          <a:stretch/>
        </p:blipFill>
        <p:spPr>
          <a:xfrm>
            <a:off x="5072040" y="404640"/>
            <a:ext cx="4680000" cy="3600720"/>
          </a:xfrm>
          <a:prstGeom prst="rect">
            <a:avLst/>
          </a:prstGeom>
          <a:ln w="0">
            <a:noFill/>
          </a:ln>
        </p:spPr>
      </p:pic>
      <p:pic>
        <p:nvPicPr>
          <p:cNvPr id="667" name="Рисунок 7" descr="F:\КАРАЦУПА фото\пз.jpg"/>
          <p:cNvPicPr/>
          <p:nvPr/>
        </p:nvPicPr>
        <p:blipFill>
          <a:blip r:embed="rId3"/>
          <a:stretch/>
        </p:blipFill>
        <p:spPr>
          <a:xfrm>
            <a:off x="247680" y="3357720"/>
            <a:ext cx="4464000" cy="302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" descr="F:\КАРАЦУПА фото\кнф.jpg"/>
          <p:cNvPicPr/>
          <p:nvPr/>
        </p:nvPicPr>
        <p:blipFill>
          <a:blip r:embed="rId4"/>
          <a:stretch/>
        </p:blipFill>
        <p:spPr>
          <a:xfrm>
            <a:off x="5430960" y="3789360"/>
            <a:ext cx="381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Прямоугольник 8"/>
          <p:cNvSpPr/>
          <p:nvPr/>
        </p:nvSpPr>
        <p:spPr>
          <a:xfrm>
            <a:off x="2146320" y="3117960"/>
            <a:ext cx="1214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0" name="Прямоугольник 9"/>
          <p:cNvSpPr/>
          <p:nvPr/>
        </p:nvSpPr>
        <p:spPr>
          <a:xfrm>
            <a:off x="4197240" y="2373480"/>
            <a:ext cx="2476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1" name="Прямоугольник 10"/>
          <p:cNvSpPr/>
          <p:nvPr/>
        </p:nvSpPr>
        <p:spPr>
          <a:xfrm>
            <a:off x="4734000" y="2722680"/>
            <a:ext cx="7538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2" name="Прямоугольник 11"/>
          <p:cNvSpPr/>
          <p:nvPr/>
        </p:nvSpPr>
        <p:spPr>
          <a:xfrm>
            <a:off x="2065320" y="2516040"/>
            <a:ext cx="7682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18360" bIns="1836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3" name="Прямоугольник 12"/>
          <p:cNvSpPr/>
          <p:nvPr/>
        </p:nvSpPr>
        <p:spPr>
          <a:xfrm>
            <a:off x="1336680" y="2660760"/>
            <a:ext cx="32400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7200" bIns="720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4" name="Прямоугольник 13"/>
          <p:cNvSpPr/>
          <p:nvPr/>
        </p:nvSpPr>
        <p:spPr>
          <a:xfrm>
            <a:off x="2368440" y="2182680"/>
            <a:ext cx="3445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75" name="Схема 4" descr=""/>
          <p:cNvPicPr/>
          <p:nvPr/>
        </p:nvPicPr>
        <p:blipFill>
          <a:blip r:embed="rId1"/>
          <a:stretch/>
        </p:blipFill>
        <p:spPr>
          <a:xfrm>
            <a:off x="3449520" y="3475080"/>
            <a:ext cx="6535800" cy="2986200"/>
          </a:xfrm>
          <a:prstGeom prst="rect">
            <a:avLst/>
          </a:prstGeom>
          <a:ln w="0">
            <a:noFill/>
          </a:ln>
        </p:spPr>
      </p:pic>
      <p:sp>
        <p:nvSpPr>
          <p:cNvPr id="676" name="Скругленный прямоугольник 15"/>
          <p:cNvSpPr/>
          <p:nvPr/>
        </p:nvSpPr>
        <p:spPr>
          <a:xfrm>
            <a:off x="214200" y="857160"/>
            <a:ext cx="6948720" cy="1905120"/>
          </a:xfrm>
          <a:prstGeom prst="roundRect">
            <a:avLst>
              <a:gd name="adj" fmla="val 0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ru-RU" sz="2200" spc="-1" strike="noStrike" u="sng">
                <a:solidFill>
                  <a:srgbClr val="2e3192"/>
                </a:solidFill>
                <a:uFillTx/>
                <a:latin typeface="Times New Roman"/>
                <a:ea typeface="Times New Roman"/>
              </a:rPr>
              <a:t>Экспозиция музейная</a:t>
            </a:r>
            <a:r>
              <a:rPr b="1" lang="ru-RU" sz="22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 (от лат. expositio - выставление на показ, изложение), основная форма презентации музеем историко-культурного наследия в виде искусственно созданной предметно-пространственной структуры. </a:t>
            </a:r>
            <a:endParaRPr b="1" lang="en-US" sz="2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7" name="Rectangle 2"/>
          <p:cNvSpPr/>
          <p:nvPr/>
        </p:nvSpPr>
        <p:spPr>
          <a:xfrm>
            <a:off x="1687680" y="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Глава 2. «Музейная экспозиция»</a:t>
            </a:r>
            <a:endParaRPr b="1" lang="en-US" sz="2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8" name="Прямоугольник 10"/>
          <p:cNvSpPr/>
          <p:nvPr/>
        </p:nvSpPr>
        <p:spPr>
          <a:xfrm>
            <a:off x="1285920" y="2928960"/>
            <a:ext cx="75722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libri"/>
                <a:ea typeface="Times New Roman"/>
              </a:rPr>
              <a:t>РАЗРАБОТКА ТЕМАТИКО-ЭКСПОЗИЦИОННОГО ПЛАНА 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9" name="Номер слайда 11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B534-3D13-4ADF-B306-9F1FD1D6C287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80" name="Рисунок 12" descr="C:\Users\ANONIMOUS\Desktop\111.jpeg"/>
          <p:cNvPicPr/>
          <p:nvPr/>
        </p:nvPicPr>
        <p:blipFill>
          <a:blip r:embed="rId2"/>
          <a:stretch/>
        </p:blipFill>
        <p:spPr>
          <a:xfrm>
            <a:off x="428760" y="3357720"/>
            <a:ext cx="2928960" cy="250020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3"/>
          <p:cNvSpPr/>
          <p:nvPr/>
        </p:nvSpPr>
        <p:spPr>
          <a:xfrm>
            <a:off x="500040" y="5857920"/>
            <a:ext cx="271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3192"/>
                </a:solidFill>
                <a:latin typeface="Cambria"/>
              </a:rPr>
              <a:t>Окс Т.М., заведующая отделом музея истории БАМа</a:t>
            </a:r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slow"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5"/>
          <p:cNvSpPr/>
          <p:nvPr/>
        </p:nvSpPr>
        <p:spPr>
          <a:xfrm>
            <a:off x="285840" y="1500120"/>
            <a:ext cx="8343720" cy="18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ТЕКСТОВЫЕ ДОКУМЕНТЫ : ПИСЬМО КАРАЦУПА Н. Ф. УЧАЩИМСЯ СГПТУ, КНИГА С ДАРСТВЕННОЙ НАДПИСЬЮ, СТАТЬИ ПЕРИОДИЧЕСКИХ ИЗДАНИЙ РАЗНЫХ ЛЕТ О КАРАЦУПА Н. Ф., МАТЕРИАЛЫ ВИКИПЕДИИ</a:t>
            </a:r>
            <a:endParaRPr b="1" lang="en-US" sz="19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83" name="Прямоугольник 5"/>
          <p:cNvSpPr/>
          <p:nvPr/>
        </p:nvSpPr>
        <p:spPr>
          <a:xfrm>
            <a:off x="1643040" y="4000680"/>
            <a:ext cx="8344080" cy="1482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ФОТОГРАФИИ  ЧЕРНО – БЕЛЫЕ С НАДПИСЬЮ КАРАЦУПА Н. Ф., ФОТОГРАФИИ РАЗНЫХ ЛЕТ  КАРАЦУПА Н. Ф.</a:t>
            </a:r>
            <a:endParaRPr b="1" lang="en-US" sz="19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822240" y="0"/>
            <a:ext cx="94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libri"/>
                <a:ea typeface="Times New Roman"/>
              </a:rPr>
              <a:t>МАТЕРИАЛЫ, КОТОРЫЕ  ВКЛЮЧЕНЫ В ЭКСПОЗИЦИЮ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85" name="Номер слайда 6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CA09-568D-4011-9ECC-FA8913780CE8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Прямоугольник 4"/>
          <p:cNvSpPr/>
          <p:nvPr/>
        </p:nvSpPr>
        <p:spPr>
          <a:xfrm>
            <a:off x="1143000" y="42876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192"/>
                </a:solidFill>
                <a:latin typeface="Cambria"/>
              </a:rPr>
              <a:t>Вот что у нас получилось….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C11E-EAB2-478F-9C42-300E9F0A9544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88" name="Рисунок 4" descr="F:\проект карацупа\карацупа музей\DSCN0398.JPG"/>
          <p:cNvPicPr/>
          <p:nvPr/>
        </p:nvPicPr>
        <p:blipFill>
          <a:blip r:embed="rId1"/>
          <a:stretch/>
        </p:blipFill>
        <p:spPr>
          <a:xfrm>
            <a:off x="174600" y="1484280"/>
            <a:ext cx="6048360" cy="4681440"/>
          </a:xfrm>
          <a:prstGeom prst="rect">
            <a:avLst/>
          </a:prstGeom>
          <a:ln w="0">
            <a:noFill/>
          </a:ln>
        </p:spPr>
      </p:pic>
      <p:pic>
        <p:nvPicPr>
          <p:cNvPr id="689" name="Рисунок 5" descr="F:\КАРАЦУПА фото\МУЗЕЙ\DSCN0390.JPG"/>
          <p:cNvPicPr/>
          <p:nvPr/>
        </p:nvPicPr>
        <p:blipFill>
          <a:blip r:embed="rId2"/>
          <a:stretch/>
        </p:blipFill>
        <p:spPr>
          <a:xfrm>
            <a:off x="6438960" y="3878280"/>
            <a:ext cx="3600360" cy="2287440"/>
          </a:xfrm>
          <a:prstGeom prst="rect">
            <a:avLst/>
          </a:prstGeom>
          <a:ln w="0">
            <a:noFill/>
          </a:ln>
        </p:spPr>
      </p:pic>
      <p:pic>
        <p:nvPicPr>
          <p:cNvPr id="690" name="Рисунок 7" descr="F:\КАРАЦУПА фото\МУЗЕЙ\DSCN0392.JPG"/>
          <p:cNvPicPr/>
          <p:nvPr/>
        </p:nvPicPr>
        <p:blipFill>
          <a:blip r:embed="rId3"/>
          <a:stretch/>
        </p:blipFill>
        <p:spPr>
          <a:xfrm>
            <a:off x="6727680" y="1341360"/>
            <a:ext cx="338472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6"/>
          <p:cNvSpPr/>
          <p:nvPr/>
        </p:nvSpPr>
        <p:spPr>
          <a:xfrm>
            <a:off x="1614600" y="0"/>
            <a:ext cx="86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1974960" y="622440"/>
            <a:ext cx="6553080" cy="520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РЕЗУЛЬТАТЫ ПРОЕКТА</a:t>
            </a:r>
            <a:endParaRPr b="1" lang="en-US" sz="2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93" name="Rectangle 9"/>
          <p:cNvSpPr/>
          <p:nvPr/>
        </p:nvSpPr>
        <p:spPr>
          <a:xfrm>
            <a:off x="428760" y="2357280"/>
            <a:ext cx="3528720" cy="131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БОТА, ПРОВЕДЕННАЯ В РАМКАХ ИССЛЕДОВАНИЯ, ПОДТВЕРДИЛА АКТУАЛЬНОСТЬ ЕГО ТЕМЫ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94" name="Picture 11" descr="i?id=c219845ada01ae08d47702bee4941e62&amp;n=33&amp;h=215&amp;w=195"/>
          <p:cNvPicPr/>
          <p:nvPr/>
        </p:nvPicPr>
        <p:blipFill>
          <a:blip r:embed="rId1"/>
          <a:stretch/>
        </p:blipFill>
        <p:spPr>
          <a:xfrm rot="8358600">
            <a:off x="1909440" y="1785600"/>
            <a:ext cx="576360" cy="3747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2" descr="i?id=c219845ada01ae08d47702bee4941e62&amp;n=33&amp;h=215&amp;w=195"/>
          <p:cNvPicPr/>
          <p:nvPr/>
        </p:nvPicPr>
        <p:blipFill>
          <a:blip r:embed="rId2"/>
          <a:stretch/>
        </p:blipFill>
        <p:spPr>
          <a:xfrm rot="2371800">
            <a:off x="7411680" y="1660680"/>
            <a:ext cx="647640" cy="3999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4" descr="i?id=c219845ada01ae08d47702bee4941e62&amp;n=33&amp;h=215&amp;w=195"/>
          <p:cNvPicPr/>
          <p:nvPr/>
        </p:nvPicPr>
        <p:blipFill>
          <a:blip r:embed="rId3"/>
          <a:stretch/>
        </p:blipFill>
        <p:spPr>
          <a:xfrm>
            <a:off x="4214880" y="3286080"/>
            <a:ext cx="374760" cy="5763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8" descr="29759_dokumenty"/>
          <p:cNvPicPr/>
          <p:nvPr/>
        </p:nvPicPr>
        <p:blipFill>
          <a:blip r:embed="rId4"/>
          <a:stretch/>
        </p:blipFill>
        <p:spPr>
          <a:xfrm>
            <a:off x="7500960" y="-1071720"/>
            <a:ext cx="1736640" cy="1071720"/>
          </a:xfrm>
          <a:prstGeom prst="rect">
            <a:avLst/>
          </a:prstGeom>
          <a:ln w="0">
            <a:noFill/>
          </a:ln>
        </p:spPr>
      </p:pic>
      <p:sp>
        <p:nvSpPr>
          <p:cNvPr id="698" name="Прямоугольник 1"/>
          <p:cNvSpPr/>
          <p:nvPr/>
        </p:nvSpPr>
        <p:spPr>
          <a:xfrm>
            <a:off x="6858000" y="2357280"/>
            <a:ext cx="310680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НА ТЕМАТИЧЕСКАЯ ЭКСПОЗИЦИЯ «ИСТОРИЯ ОДНОГО ПИСЬМА»  (О  Н.Ф. КАРАЦУПЕ)  В МУЗЕЕ КОЛЛЕДЖА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99" name="Номер слайда 11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06AF-EF55-4518-AF32-63EA0A73E769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00" name="Rectangle 13"/>
          <p:cNvSpPr/>
          <p:nvPr/>
        </p:nvSpPr>
        <p:spPr>
          <a:xfrm>
            <a:off x="5286240" y="4286160"/>
            <a:ext cx="345600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ИЗУЧЕНО ПИСЬМО ГЕРОЯ СОВЕТСКОГО СОЮЗА Н.Ф. КАРАЦУПА,  ВОССОЗДАНА ЕДИНАЯ КАРТИНА ЕГО ГЕРОИЧЕСКОЙ СЛУЖБЫ 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01" name="Rectangle 13"/>
          <p:cNvSpPr/>
          <p:nvPr/>
        </p:nvSpPr>
        <p:spPr>
          <a:xfrm>
            <a:off x="1643040" y="4286160"/>
            <a:ext cx="345600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ПОДГОТОВЛЕНЫ МАТЕРИАЛЫ К ПЕРЕДАЧЕ В МУЗЕЙ  ИСТОРИИ БАМА ДЛЯ ЭКСПОНИРОВАНИЯ В ПРЕДВЕРИИ 9 МАЯ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02" name="Picture 14" descr="i?id=c219845ada01ae08d47702bee4941e62&amp;n=33&amp;h=215&amp;w=195"/>
          <p:cNvPicPr/>
          <p:nvPr/>
        </p:nvPicPr>
        <p:blipFill>
          <a:blip r:embed="rId5"/>
          <a:stretch/>
        </p:blipFill>
        <p:spPr>
          <a:xfrm>
            <a:off x="5929200" y="3286080"/>
            <a:ext cx="37476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10"/>
          <p:cNvSpPr/>
          <p:nvPr/>
        </p:nvSpPr>
        <p:spPr>
          <a:xfrm>
            <a:off x="1687680" y="1268280"/>
            <a:ext cx="7850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lang="en-US" sz="2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04" name="Rectangle 11"/>
          <p:cNvSpPr/>
          <p:nvPr/>
        </p:nvSpPr>
        <p:spPr>
          <a:xfrm>
            <a:off x="0" y="398952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libri"/>
                <a:ea typeface="Times New Roman"/>
              </a:rPr>
              <a:t>письмо Героя Советского Союза </a:t>
            </a:r>
            <a:r>
              <a:rPr b="1" lang="ru-RU" sz="1800" spc="-1" strike="noStrike">
                <a:solidFill>
                  <a:srgbClr val="cb2a0f"/>
                </a:solidFill>
                <a:latin typeface="Calibri"/>
                <a:ea typeface="Times New Roman"/>
              </a:rPr>
              <a:t>АЛЕКСЕЯ МАРЕСЬЕВА</a:t>
            </a:r>
            <a:endParaRPr b="1" lang="en-US" sz="1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05" name="Rectangle 12"/>
          <p:cNvSpPr/>
          <p:nvPr/>
        </p:nvSpPr>
        <p:spPr>
          <a:xfrm>
            <a:off x="808200" y="7430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2a0f"/>
                </a:solidFill>
                <a:latin typeface="Cambria"/>
              </a:rPr>
              <a:t>ПОТЕНЦИАЛ РАЗВИТИЯ ПРОЕКТА</a:t>
            </a:r>
            <a:endParaRPr b="1" lang="en-US" sz="2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7000920" y="3789360"/>
            <a:ext cx="26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libri"/>
                <a:ea typeface="Times New Roman"/>
              </a:rPr>
              <a:t>переписка с </a:t>
            </a:r>
            <a:r>
              <a:rPr b="1" lang="ru-RU" sz="1800" spc="-1" strike="noStrike">
                <a:solidFill>
                  <a:srgbClr val="cb2a0f"/>
                </a:solidFill>
                <a:latin typeface="Calibri"/>
                <a:ea typeface="Times New Roman"/>
              </a:rPr>
              <a:t>ДИРЕКТОРОМ МУЗЕЯ </a:t>
            </a:r>
            <a:r>
              <a:rPr b="1" lang="ru-RU" sz="1800" spc="-1" strike="noStrike">
                <a:solidFill>
                  <a:srgbClr val="2e3192"/>
                </a:solidFill>
                <a:latin typeface="Calibri"/>
                <a:ea typeface="Times New Roman"/>
              </a:rPr>
              <a:t>«Юные защитники Родины» г. Курск</a:t>
            </a:r>
            <a:endParaRPr b="1" lang="en-US" sz="18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07" name="Picture 18" descr="i?id=87f6b5b19acd15f2658252f36a1088df&amp;n=33&amp;h=215&amp;w=287"/>
          <p:cNvPicPr/>
          <p:nvPr/>
        </p:nvPicPr>
        <p:blipFill>
          <a:blip r:embed="rId1"/>
          <a:stretch/>
        </p:blipFill>
        <p:spPr>
          <a:xfrm>
            <a:off x="7765920" y="511200"/>
            <a:ext cx="2376720" cy="18003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1" descr="i?id=c219845ada01ae08d47702bee4941e62&amp;n=33&amp;h=215&amp;w=195"/>
          <p:cNvPicPr/>
          <p:nvPr/>
        </p:nvPicPr>
        <p:blipFill>
          <a:blip r:embed="rId2"/>
          <a:stretch/>
        </p:blipFill>
        <p:spPr>
          <a:xfrm>
            <a:off x="4854600" y="1411200"/>
            <a:ext cx="504720" cy="29376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3"/>
          <p:cNvSpPr/>
          <p:nvPr/>
        </p:nvSpPr>
        <p:spPr>
          <a:xfrm>
            <a:off x="808200" y="1935000"/>
            <a:ext cx="786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Данный проект – часть большой работы патриотической направленности, которая включает в себя краеведческую, практическую и просветительскую деятельности студентов. Следующими шагами по развитию проекта должны явиться:  исследовательская деятельность студентов с другими экспонатами музея 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10" name="Picture 24" descr="i?id=c219845ada01ae08d47702bee4941e62&amp;n=33&amp;h=215&amp;w=195"/>
          <p:cNvPicPr/>
          <p:nvPr/>
        </p:nvPicPr>
        <p:blipFill>
          <a:blip r:embed="rId3"/>
          <a:stretch/>
        </p:blipFill>
        <p:spPr>
          <a:xfrm rot="8358600">
            <a:off x="1434600" y="3688920"/>
            <a:ext cx="505080" cy="3747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5" descr="i?id=c219845ada01ae08d47702bee4941e62&amp;n=33&amp;h=215&amp;w=195"/>
          <p:cNvPicPr/>
          <p:nvPr/>
        </p:nvPicPr>
        <p:blipFill>
          <a:blip r:embed="rId4"/>
          <a:stretch/>
        </p:blipFill>
        <p:spPr>
          <a:xfrm rot="2578200">
            <a:off x="8123040" y="3431880"/>
            <a:ext cx="576000" cy="374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27"/>
          <p:cNvSpPr/>
          <p:nvPr/>
        </p:nvSpPr>
        <p:spPr>
          <a:xfrm>
            <a:off x="3178080" y="466740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libri"/>
                <a:ea typeface="Times New Roman"/>
              </a:rPr>
              <a:t>письмо матери Героя </a:t>
            </a:r>
            <a:endParaRPr b="1" lang="en-US" sz="1800" spc="-1" strike="noStrike">
              <a:solidFill>
                <a:srgbClr val="2e3192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libri"/>
                <a:ea typeface="Times New Roman"/>
              </a:rPr>
              <a:t>Советского Союза </a:t>
            </a:r>
            <a:endParaRPr b="1" lang="en-US" sz="1800" spc="-1" strike="noStrike">
              <a:solidFill>
                <a:srgbClr val="2e3192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b2a0f"/>
                </a:solidFill>
                <a:latin typeface="Calibri"/>
                <a:ea typeface="Times New Roman"/>
              </a:rPr>
              <a:t>САШИ ЧЕКАЛИНА</a:t>
            </a:r>
            <a:endParaRPr b="1" lang="en-US" sz="18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13" name="Picture 28" descr="i?id=c219845ada01ae08d47702bee4941e62&amp;n=33&amp;h=215&amp;w=195"/>
          <p:cNvPicPr/>
          <p:nvPr/>
        </p:nvPicPr>
        <p:blipFill>
          <a:blip r:embed="rId5"/>
          <a:stretch/>
        </p:blipFill>
        <p:spPr>
          <a:xfrm>
            <a:off x="4797360" y="400068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714" name="Номер слайда 12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E057-D663-4F81-8DC5-78F04FE962A1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4"/>
          <p:cNvSpPr/>
          <p:nvPr/>
        </p:nvSpPr>
        <p:spPr>
          <a:xfrm>
            <a:off x="606600" y="260280"/>
            <a:ext cx="9824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192"/>
                </a:solidFill>
                <a:latin typeface="Calibri"/>
                <a:ea typeface="Times New Roman"/>
              </a:rPr>
              <a:t>ЧТО УЧАСТИЕ В ПРОЕКТЕ ДАЛО ЕГО УЧАСТНИКАМ: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1687680" y="1268280"/>
            <a:ext cx="7850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Line 41"/>
          <p:cNvSpPr/>
          <p:nvPr/>
        </p:nvSpPr>
        <p:spPr>
          <a:xfrm>
            <a:off x="3848040" y="4869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18" name="Picture 43" descr="i?id=c219845ada01ae08d47702bee4941e62&amp;n=33&amp;h=215&amp;w=195"/>
          <p:cNvPicPr/>
          <p:nvPr/>
        </p:nvPicPr>
        <p:blipFill>
          <a:blip r:embed="rId1"/>
          <a:stretch/>
        </p:blipFill>
        <p:spPr>
          <a:xfrm rot="8574000">
            <a:off x="1936440" y="2122560"/>
            <a:ext cx="950760" cy="7063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2" descr="i?id=c219845ada01ae08d47702bee4941e62&amp;n=33&amp;h=215&amp;w=195"/>
          <p:cNvPicPr/>
          <p:nvPr/>
        </p:nvPicPr>
        <p:blipFill>
          <a:blip r:embed="rId2"/>
          <a:stretch/>
        </p:blipFill>
        <p:spPr>
          <a:xfrm rot="2561400">
            <a:off x="7353360" y="1984320"/>
            <a:ext cx="739800" cy="7207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2" descr="i?id=c219845ada01ae08d47702bee4941e62&amp;n=33&amp;h=215&amp;w=195"/>
          <p:cNvPicPr/>
          <p:nvPr/>
        </p:nvPicPr>
        <p:blipFill>
          <a:blip r:embed="rId3"/>
          <a:stretch/>
        </p:blipFill>
        <p:spPr>
          <a:xfrm>
            <a:off x="4711680" y="2060640"/>
            <a:ext cx="720720" cy="93672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65"/>
          <p:cNvSpPr/>
          <p:nvPr/>
        </p:nvSpPr>
        <p:spPr>
          <a:xfrm>
            <a:off x="3703680" y="5661000"/>
            <a:ext cx="25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6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2" name="Rectangle 69"/>
          <p:cNvSpPr/>
          <p:nvPr/>
        </p:nvSpPr>
        <p:spPr>
          <a:xfrm>
            <a:off x="247680" y="2852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студенты </a:t>
            </a:r>
            <a:endParaRPr b="1" lang="en-US" sz="2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3" name="Rectangle 70"/>
          <p:cNvSpPr/>
          <p:nvPr/>
        </p:nvSpPr>
        <p:spPr>
          <a:xfrm>
            <a:off x="3394080" y="29242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куратор музея 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4" name="Rectangle 71"/>
          <p:cNvSpPr/>
          <p:nvPr/>
        </p:nvSpPr>
        <p:spPr>
          <a:xfrm>
            <a:off x="6745320" y="27288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преподаватели, работники городского музея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5" name="Text Box 72"/>
          <p:cNvSpPr/>
          <p:nvPr/>
        </p:nvSpPr>
        <p:spPr>
          <a:xfrm>
            <a:off x="174600" y="551664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6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6" name="Rectangle 76"/>
          <p:cNvSpPr/>
          <p:nvPr/>
        </p:nvSpPr>
        <p:spPr>
          <a:xfrm>
            <a:off x="1758960" y="1484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2a0f"/>
                </a:solidFill>
                <a:latin typeface="Cambria"/>
              </a:rPr>
              <a:t>УЧАСТНИКИ ПРОЕКТА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7" name="Прямоугольник 4"/>
          <p:cNvSpPr/>
          <p:nvPr/>
        </p:nvSpPr>
        <p:spPr>
          <a:xfrm rot="20774400">
            <a:off x="3408840" y="3598920"/>
            <a:ext cx="3362400" cy="1191240"/>
          </a:xfrm>
          <a:prstGeom prst="rect">
            <a:avLst/>
          </a:prstGeom>
          <a:solidFill>
            <a:srgbClr val="f2dcdb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получил возможность обновить каталог экспозиций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8" name="Скругленный прямоугольник 7"/>
          <p:cNvSpPr/>
          <p:nvPr/>
        </p:nvSpPr>
        <p:spPr>
          <a:xfrm>
            <a:off x="142920" y="3786120"/>
            <a:ext cx="3144960" cy="206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получили новые знания из страниц истории, смогли организовать поиск материалов для музея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9" name="Скругленный прямоугольник 8"/>
          <p:cNvSpPr/>
          <p:nvPr/>
        </p:nvSpPr>
        <p:spPr>
          <a:xfrm>
            <a:off x="5935680" y="4199040"/>
            <a:ext cx="4068720" cy="24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смогли/смогут использовать экспозицию на классных часах, родительских собраниях, возможно, тоже захотят попробовать свои силы в создании нового проекта экспозиции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30" name="Номер слайда 16"/>
          <p:cNvSpPr/>
          <p:nvPr/>
        </p:nvSpPr>
        <p:spPr>
          <a:xfrm>
            <a:off x="7591320" y="6237360"/>
            <a:ext cx="240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2189-D029-4188-9032-14C4FB3C6663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1500120" y="1214280"/>
            <a:ext cx="7850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Line 41"/>
          <p:cNvSpPr/>
          <p:nvPr/>
        </p:nvSpPr>
        <p:spPr>
          <a:xfrm>
            <a:off x="3848040" y="4869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33" name="Text Box 65"/>
          <p:cNvSpPr/>
          <p:nvPr/>
        </p:nvSpPr>
        <p:spPr>
          <a:xfrm>
            <a:off x="3703680" y="5661000"/>
            <a:ext cx="25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6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34" name="Text Box 72"/>
          <p:cNvSpPr/>
          <p:nvPr/>
        </p:nvSpPr>
        <p:spPr>
          <a:xfrm>
            <a:off x="174600" y="551664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6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35" name="Rectangle 76"/>
          <p:cNvSpPr/>
          <p:nvPr/>
        </p:nvSpPr>
        <p:spPr>
          <a:xfrm>
            <a:off x="1785960" y="6429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2a0f"/>
                </a:solidFill>
                <a:latin typeface="Cambria"/>
              </a:rPr>
              <a:t>Цитата  из письма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36" name="Номер слайда 16"/>
          <p:cNvSpPr/>
          <p:nvPr/>
        </p:nvSpPr>
        <p:spPr>
          <a:xfrm>
            <a:off x="7591320" y="6237360"/>
            <a:ext cx="240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901F-B33B-48A7-A42C-A0CD036CADF0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37" name="Рисунок 17" descr="C:\Users\ANONIMOUS\Desktop\1.jpe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928880" y="1285920"/>
            <a:ext cx="7286400" cy="1143000"/>
          </a:xfrm>
          <a:prstGeom prst="rect">
            <a:avLst/>
          </a:prstGeom>
          <a:ln w="0">
            <a:noFill/>
          </a:ln>
        </p:spPr>
      </p:pic>
      <p:pic>
        <p:nvPicPr>
          <p:cNvPr id="738" name="Рисунок 18" descr="C:\Users\ANONIMOUS\Desktop\12.jpeg"/>
          <p:cNvPicPr/>
          <p:nvPr/>
        </p:nvPicPr>
        <p:blipFill>
          <a:blip r:embed="rId2"/>
          <a:stretch/>
        </p:blipFill>
        <p:spPr>
          <a:xfrm>
            <a:off x="1500120" y="2357280"/>
            <a:ext cx="771516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рямоугольник 2"/>
          <p:cNvSpPr/>
          <p:nvPr/>
        </p:nvSpPr>
        <p:spPr>
          <a:xfrm>
            <a:off x="-5548320" y="4357800"/>
            <a:ext cx="5375160" cy="28000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0" name="Прямоугольник 16"/>
          <p:cNvSpPr/>
          <p:nvPr/>
        </p:nvSpPr>
        <p:spPr>
          <a:xfrm>
            <a:off x="0" y="1557360"/>
            <a:ext cx="731880" cy="5300640"/>
          </a:xfrm>
          <a:prstGeom prst="rect">
            <a:avLst/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1" name="Номер слайда 9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EAFA-A271-4F99-B2F0-260C6318B7E6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2" name="TextBox 6"/>
          <p:cNvSpPr/>
          <p:nvPr/>
        </p:nvSpPr>
        <p:spPr>
          <a:xfrm>
            <a:off x="2932200" y="4780080"/>
            <a:ext cx="71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3" name="Прямоугольник 11"/>
          <p:cNvSpPr/>
          <p:nvPr/>
        </p:nvSpPr>
        <p:spPr>
          <a:xfrm>
            <a:off x="0" y="0"/>
            <a:ext cx="46980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4" name="Прямоугольник 10"/>
          <p:cNvSpPr/>
          <p:nvPr/>
        </p:nvSpPr>
        <p:spPr>
          <a:xfrm>
            <a:off x="4500720" y="785880"/>
            <a:ext cx="185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mbria"/>
              </a:rPr>
              <a:t>г. Свободный</a:t>
            </a:r>
            <a:endParaRPr b="1" lang="en-US" sz="1400" spc="-1" strike="noStrike">
              <a:solidFill>
                <a:srgbClr val="2e3192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mbria"/>
              </a:rPr>
              <a:t>29 марта  2018 г.</a:t>
            </a:r>
            <a:endParaRPr b="1" lang="en-US" sz="1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5" name="Подзаголовок 4"/>
          <p:cNvSpPr/>
          <p:nvPr/>
        </p:nvSpPr>
        <p:spPr>
          <a:xfrm>
            <a:off x="2523960" y="1773360"/>
            <a:ext cx="5702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mbria"/>
              </a:rPr>
              <a:t>Спасибо за внимание!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6" name="Нашивка 12"/>
          <p:cNvSpPr/>
          <p:nvPr/>
        </p:nvSpPr>
        <p:spPr>
          <a:xfrm>
            <a:off x="9331200" y="0"/>
            <a:ext cx="723960" cy="785880"/>
          </a:xfrm>
          <a:custGeom>
            <a:avLst/>
            <a:gdLst>
              <a:gd name="textAreaLeft" fmla="*/ 0 w 723960"/>
              <a:gd name="textAreaRight" fmla="*/ 724320 w 7239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7" name="Нашивка 15"/>
          <p:cNvSpPr/>
          <p:nvPr/>
        </p:nvSpPr>
        <p:spPr>
          <a:xfrm>
            <a:off x="8643960" y="0"/>
            <a:ext cx="649440" cy="785880"/>
          </a:xfrm>
          <a:custGeom>
            <a:avLst/>
            <a:gdLst>
              <a:gd name="textAreaLeft" fmla="*/ 0 w 649440"/>
              <a:gd name="textAreaRight" fmla="*/ 649800 w 64944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8" name="TextBox 1"/>
          <p:cNvSpPr/>
          <p:nvPr/>
        </p:nvSpPr>
        <p:spPr>
          <a:xfrm>
            <a:off x="2176560" y="114480"/>
            <a:ext cx="593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Cambria"/>
              </a:rPr>
              <a:t>Научно- практическая конференция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Cambria"/>
              </a:rPr>
              <a:t>Человек. Природа. Общество.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49" name="Picture 15" descr="C:\Users\Sokolova\Desktop\Pochtimillionrabochikhmestvmashinostroeniisokratilsyana60tysyach.jpg"/>
          <p:cNvPicPr/>
          <p:nvPr/>
        </p:nvPicPr>
        <p:blipFill>
          <a:blip r:embed="rId1"/>
          <a:stretch/>
        </p:blipFill>
        <p:spPr>
          <a:xfrm>
            <a:off x="10323360" y="5178600"/>
            <a:ext cx="4178520" cy="27860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750" name="Рисунок 13" descr="Курение и алкоголь"/>
          <p:cNvPicPr/>
          <p:nvPr/>
        </p:nvPicPr>
        <p:blipFill>
          <a:blip r:embed="rId2"/>
          <a:stretch/>
        </p:blipFill>
        <p:spPr>
          <a:xfrm>
            <a:off x="10782360" y="428760"/>
            <a:ext cx="4475160" cy="3143160"/>
          </a:xfrm>
          <a:prstGeom prst="rect">
            <a:avLst/>
          </a:prstGeom>
          <a:ln w="0">
            <a:noFill/>
          </a:ln>
        </p:spPr>
      </p:pic>
      <p:pic>
        <p:nvPicPr>
          <p:cNvPr id="751" name="Рисунок 14" descr="Признаки и симптомы алкоголизма"/>
          <p:cNvPicPr/>
          <p:nvPr/>
        </p:nvPicPr>
        <p:blipFill>
          <a:blip r:embed="rId3"/>
          <a:stretch/>
        </p:blipFill>
        <p:spPr>
          <a:xfrm>
            <a:off x="13527000" y="3643200"/>
            <a:ext cx="2843280" cy="20005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4" descr="7"/>
          <p:cNvPicPr/>
          <p:nvPr/>
        </p:nvPicPr>
        <p:blipFill>
          <a:blip r:embed="rId4"/>
          <a:stretch/>
        </p:blipFill>
        <p:spPr>
          <a:xfrm>
            <a:off x="11152080" y="-2143080"/>
            <a:ext cx="3660840" cy="2395440"/>
          </a:xfrm>
          <a:prstGeom prst="rect">
            <a:avLst/>
          </a:prstGeom>
          <a:ln w="0">
            <a:noFill/>
          </a:ln>
        </p:spPr>
      </p:pic>
      <p:pic>
        <p:nvPicPr>
          <p:cNvPr id="753" name="Рисунок 17" descr="Формула алкоголя"/>
          <p:cNvPicPr/>
          <p:nvPr/>
        </p:nvPicPr>
        <p:blipFill>
          <a:blip r:embed="rId5"/>
          <a:stretch/>
        </p:blipFill>
        <p:spPr>
          <a:xfrm>
            <a:off x="-4005360" y="-3000240"/>
            <a:ext cx="4005360" cy="3000240"/>
          </a:xfrm>
          <a:prstGeom prst="rect">
            <a:avLst/>
          </a:prstGeom>
          <a:ln w="0">
            <a:noFill/>
          </a:ln>
        </p:spPr>
      </p:pic>
      <p:pic>
        <p:nvPicPr>
          <p:cNvPr id="754" name="Рисунок 13" descr="5"/>
          <p:cNvPicPr/>
          <p:nvPr/>
        </p:nvPicPr>
        <p:blipFill>
          <a:blip r:embed="rId6"/>
          <a:stretch/>
        </p:blipFill>
        <p:spPr>
          <a:xfrm>
            <a:off x="1063800" y="-2571840"/>
            <a:ext cx="1334880" cy="1285920"/>
          </a:xfrm>
          <a:prstGeom prst="rect">
            <a:avLst/>
          </a:prstGeom>
          <a:ln w="0">
            <a:noFill/>
          </a:ln>
        </p:spPr>
      </p:pic>
      <p:pic>
        <p:nvPicPr>
          <p:cNvPr id="755" name="Объект 4" descr="http://www.garant.ru/files/3/9/591393/obuchenie_300.jpg"/>
          <p:cNvPicPr/>
          <p:nvPr/>
        </p:nvPicPr>
        <p:blipFill>
          <a:blip r:embed="rId7"/>
          <a:stretch/>
        </p:blipFill>
        <p:spPr>
          <a:xfrm>
            <a:off x="501480" y="-3240"/>
            <a:ext cx="1229040" cy="1143000"/>
          </a:xfrm>
          <a:prstGeom prst="rect">
            <a:avLst/>
          </a:prstGeom>
          <a:ln w="0">
            <a:noFill/>
          </a:ln>
        </p:spPr>
      </p:pic>
      <p:pic>
        <p:nvPicPr>
          <p:cNvPr id="756" name="Рисунок 19" descr="Формула алкоголя"/>
          <p:cNvPicPr/>
          <p:nvPr/>
        </p:nvPicPr>
        <p:blipFill>
          <a:blip r:embed="rId8"/>
          <a:stretch/>
        </p:blipFill>
        <p:spPr>
          <a:xfrm>
            <a:off x="-4278240" y="1989000"/>
            <a:ext cx="1631880" cy="1285920"/>
          </a:xfrm>
          <a:prstGeom prst="rect">
            <a:avLst/>
          </a:prstGeom>
          <a:ln w="0">
            <a:noFill/>
          </a:ln>
        </p:spPr>
      </p:pic>
      <p:sp>
        <p:nvSpPr>
          <p:cNvPr id="757" name="Скругленный прямоугольник 20"/>
          <p:cNvSpPr/>
          <p:nvPr/>
        </p:nvSpPr>
        <p:spPr>
          <a:xfrm>
            <a:off x="2251080" y="3322800"/>
            <a:ext cx="7491240" cy="2639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58" name="Прямоугольник 1"/>
          <p:cNvSpPr/>
          <p:nvPr/>
        </p:nvSpPr>
        <p:spPr>
          <a:xfrm>
            <a:off x="5068800" y="3867120"/>
            <a:ext cx="45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Мы открыты к сотрудничеству!!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59" name="Picture 23" descr="C:\Users\ANONIMOUS\Desktop\DSCN0420.JPG"/>
          <p:cNvPicPr/>
          <p:nvPr/>
        </p:nvPicPr>
        <p:blipFill>
          <a:blip r:embed="rId9"/>
          <a:stretch/>
        </p:blipFill>
        <p:spPr>
          <a:xfrm>
            <a:off x="1428840" y="314316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Прямоугольник 12"/>
          <p:cNvSpPr/>
          <p:nvPr/>
        </p:nvSpPr>
        <p:spPr>
          <a:xfrm>
            <a:off x="2287440" y="2664000"/>
            <a:ext cx="244800" cy="6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4" name="Объект 2"/>
          <p:cNvSpPr/>
          <p:nvPr/>
        </p:nvSpPr>
        <p:spPr>
          <a:xfrm>
            <a:off x="247680" y="2133720"/>
            <a:ext cx="5111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5643720" y="3857760"/>
            <a:ext cx="464328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   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2048040" y="595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7" name="Oval 15"/>
          <p:cNvSpPr/>
          <p:nvPr/>
        </p:nvSpPr>
        <p:spPr>
          <a:xfrm>
            <a:off x="1398600" y="566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8" name="Oval 16"/>
          <p:cNvSpPr/>
          <p:nvPr/>
        </p:nvSpPr>
        <p:spPr>
          <a:xfrm>
            <a:off x="2336760" y="3789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9" name="Прямоугольник 10"/>
          <p:cNvSpPr/>
          <p:nvPr/>
        </p:nvSpPr>
        <p:spPr>
          <a:xfrm>
            <a:off x="2571840" y="920880"/>
            <a:ext cx="51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01"/>
                </a:solidFill>
                <a:latin typeface="Times New Roman"/>
                <a:ea typeface="Times New Roman"/>
              </a:rPr>
              <a:t>.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0" name="Номер слайда 11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1F68-0B57-4C35-955B-FC478D99B1F3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11" name="Рисунок 14" descr="C:\Users\ANONIMOUS\Desktop\122.jpe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85880" y="28584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4"/>
          <p:cNvSpPr/>
          <p:nvPr/>
        </p:nvSpPr>
        <p:spPr>
          <a:xfrm>
            <a:off x="428760" y="0"/>
            <a:ext cx="9320040" cy="1857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часто музеи образовательных учреждений сталкиваются с проблемой поиска материалов для новых экспозиций. Каждому музею необходимо регулярно пополнять свои фонды с целью привлечения посетителей и повышения собственного статуса.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3" name="Прямоугольник 12"/>
          <p:cNvSpPr/>
          <p:nvPr/>
        </p:nvSpPr>
        <p:spPr>
          <a:xfrm>
            <a:off x="2287440" y="2664000"/>
            <a:ext cx="244800" cy="6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4" name="Объект 2"/>
          <p:cNvSpPr/>
          <p:nvPr/>
        </p:nvSpPr>
        <p:spPr>
          <a:xfrm>
            <a:off x="247680" y="2133720"/>
            <a:ext cx="5111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5643720" y="3857760"/>
            <a:ext cx="464328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   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6" name="Rectangle 14"/>
          <p:cNvSpPr/>
          <p:nvPr/>
        </p:nvSpPr>
        <p:spPr>
          <a:xfrm>
            <a:off x="2048040" y="595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7" name="Oval 15"/>
          <p:cNvSpPr/>
          <p:nvPr/>
        </p:nvSpPr>
        <p:spPr>
          <a:xfrm>
            <a:off x="1398600" y="566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8" name="Oval 16"/>
          <p:cNvSpPr/>
          <p:nvPr/>
        </p:nvSpPr>
        <p:spPr>
          <a:xfrm>
            <a:off x="2336760" y="3789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19" name="Picture 22" descr="10peopleattarget3124649"/>
          <p:cNvPicPr/>
          <p:nvPr/>
        </p:nvPicPr>
        <p:blipFill>
          <a:blip r:embed="rId1"/>
          <a:stretch/>
        </p:blipFill>
        <p:spPr>
          <a:xfrm>
            <a:off x="1571760" y="5214960"/>
            <a:ext cx="2071440" cy="1643040"/>
          </a:xfrm>
          <a:prstGeom prst="rect">
            <a:avLst/>
          </a:prstGeom>
          <a:ln w="0">
            <a:noFill/>
          </a:ln>
        </p:spPr>
      </p:pic>
      <p:sp>
        <p:nvSpPr>
          <p:cNvPr id="620" name="Скругленный прямоугольник 1"/>
          <p:cNvSpPr/>
          <p:nvPr/>
        </p:nvSpPr>
        <p:spPr>
          <a:xfrm>
            <a:off x="857160" y="2571840"/>
            <a:ext cx="392904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Эту проблему  мы постараемся решить с помощью нашего проекта, который покажет, как можно создать интересную экспозицию в  музее.</a:t>
            </a:r>
            <a:endParaRPr b="1" lang="en-US" sz="2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21" name="Прямоугольник 10"/>
          <p:cNvSpPr/>
          <p:nvPr/>
        </p:nvSpPr>
        <p:spPr>
          <a:xfrm>
            <a:off x="2571840" y="920880"/>
            <a:ext cx="51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01"/>
                </a:solidFill>
                <a:latin typeface="Times New Roman"/>
                <a:ea typeface="Times New Roman"/>
              </a:rPr>
              <a:t>.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22" name="Номер слайда 11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FFA7-B4FD-4389-B80A-323A3444D630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5429160" y="2071800"/>
            <a:ext cx="4071960" cy="785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 ПРОЕКТА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24" name="Скругленный прямоугольник 13"/>
          <p:cNvSpPr/>
          <p:nvPr/>
        </p:nvSpPr>
        <p:spPr>
          <a:xfrm>
            <a:off x="5143680" y="3500280"/>
            <a:ext cx="5143320" cy="271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Цель проекта: изучение письма Героя Советского Союза Н.Ф. Карацупа,  воссоздание единой картины его героической службы на пограничных рубежах нашей Родины посредством создания тематической экспозиции в музее отделения.</a:t>
            </a:r>
            <a:endParaRPr b="1" lang="en-US" sz="2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569440" cy="857160"/>
          </a:xfrm>
          <a:prstGeom prst="rect">
            <a:avLst/>
          </a:prstGeom>
          <a:solidFill>
            <a:srgbClr val="ebf1de"/>
          </a:solidFill>
          <a:ln w="9360">
            <a:solidFill>
              <a:srgbClr val="10253f"/>
            </a:solidFill>
            <a:miter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192"/>
                </a:solidFill>
                <a:latin typeface="Calibri"/>
                <a:ea typeface="Times New Roman"/>
              </a:rPr>
              <a:t>ЗАДАЧ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Схема 2" descr=""/>
          <p:cNvPicPr/>
          <p:nvPr/>
        </p:nvPicPr>
        <p:blipFill>
          <a:blip r:embed="rId1"/>
          <a:stretch/>
        </p:blipFill>
        <p:spPr>
          <a:xfrm>
            <a:off x="-79200" y="1805040"/>
            <a:ext cx="10345680" cy="5040360"/>
          </a:xfrm>
          <a:prstGeom prst="rect">
            <a:avLst/>
          </a:prstGeom>
          <a:ln w="0">
            <a:noFill/>
          </a:ln>
        </p:spPr>
      </p:pic>
      <p:sp>
        <p:nvSpPr>
          <p:cNvPr id="627" name="Номер слайда 3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A94E-95DE-419D-AA7A-FBBCAB2A65A5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28760" y="476280"/>
            <a:ext cx="9215280" cy="1023840"/>
          </a:xfrm>
          <a:prstGeom prst="rect">
            <a:avLst/>
          </a:prstGeom>
          <a:solidFill>
            <a:srgbClr val="ebf1de"/>
          </a:solidFill>
          <a:ln w="9360">
            <a:solidFill>
              <a:srgbClr val="1f497d"/>
            </a:solidFill>
            <a:miter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192"/>
                </a:solidFill>
                <a:latin typeface="Calibri"/>
                <a:ea typeface="Times New Roman"/>
              </a:rPr>
              <a:t>ИСТОРИЯ ОДНОГО ПИСЬМА  </a:t>
            </a:r>
            <a:r>
              <a:rPr b="1" lang="ru-RU" sz="28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(о  Н.Ф. Карацуп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Схема 2" descr=""/>
          <p:cNvPicPr/>
          <p:nvPr/>
        </p:nvPicPr>
        <p:blipFill>
          <a:blip r:embed="rId1"/>
          <a:stretch/>
        </p:blipFill>
        <p:spPr>
          <a:xfrm>
            <a:off x="-60480" y="1805040"/>
            <a:ext cx="10350720" cy="5040360"/>
          </a:xfrm>
          <a:prstGeom prst="rect">
            <a:avLst/>
          </a:prstGeom>
          <a:ln w="0">
            <a:noFill/>
          </a:ln>
        </p:spPr>
      </p:pic>
      <p:sp>
        <p:nvSpPr>
          <p:cNvPr id="630" name="Номер слайда 3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7A1B-654B-41FF-8097-92B4A1B88DE8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1614600" y="0"/>
            <a:ext cx="86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1214280" y="714240"/>
            <a:ext cx="8528040" cy="947160"/>
          </a:xfrm>
          <a:prstGeom prst="rect">
            <a:avLst/>
          </a:prstGeom>
          <a:solidFill>
            <a:srgbClr val="ebf1de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2a0f"/>
                </a:solidFill>
                <a:latin typeface="Cambria"/>
              </a:rPr>
              <a:t>ГЛАВА 1 «ЖИЗНЕННЫЙ ПУТЬ ПОГРАНИЧНИКА»</a:t>
            </a:r>
            <a:endParaRPr b="1" lang="en-US" sz="2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00040" y="2571840"/>
            <a:ext cx="307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В 1932 году призвали в армию, службу начал на заставе «Полтавка» Гродековского погранотряда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34" name="Picture 11" descr="i?id=c219845ada01ae08d47702bee4941e62&amp;n=33&amp;h=215&amp;w=195"/>
          <p:cNvPicPr/>
          <p:nvPr/>
        </p:nvPicPr>
        <p:blipFill>
          <a:blip r:embed="rId1"/>
          <a:stretch/>
        </p:blipFill>
        <p:spPr>
          <a:xfrm rot="8358600">
            <a:off x="2266560" y="1642680"/>
            <a:ext cx="576360" cy="3747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2" descr="i?id=c219845ada01ae08d47702bee4941e62&amp;n=33&amp;h=215&amp;w=195"/>
          <p:cNvPicPr/>
          <p:nvPr/>
        </p:nvPicPr>
        <p:blipFill>
          <a:blip r:embed="rId2"/>
          <a:stretch/>
        </p:blipFill>
        <p:spPr>
          <a:xfrm rot="2371800">
            <a:off x="7411680" y="1589040"/>
            <a:ext cx="647640" cy="39996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13"/>
          <p:cNvSpPr/>
          <p:nvPr/>
        </p:nvSpPr>
        <p:spPr>
          <a:xfrm>
            <a:off x="3571920" y="3643200"/>
            <a:ext cx="34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1933 года проводник, инструктор служебных собак на пограничных заставах, с 1944 года в пограничных войсках, с 1952 года в штабе пограничного округа 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37" name="Picture 14" descr="i?id=c219845ada01ae08d47702bee4941e62&amp;n=33&amp;h=215&amp;w=195"/>
          <p:cNvPicPr/>
          <p:nvPr/>
        </p:nvPicPr>
        <p:blipFill>
          <a:blip r:embed="rId3"/>
          <a:stretch/>
        </p:blipFill>
        <p:spPr>
          <a:xfrm>
            <a:off x="5072040" y="1928880"/>
            <a:ext cx="374760" cy="5763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5" descr="i?id=c219845ada01ae08d47702bee4941e62&amp;n=33&amp;h=215&amp;w=195"/>
          <p:cNvPicPr/>
          <p:nvPr/>
        </p:nvPicPr>
        <p:blipFill>
          <a:blip r:embed="rId4"/>
          <a:stretch/>
        </p:blipFill>
        <p:spPr>
          <a:xfrm>
            <a:off x="-262080" y="9144000"/>
            <a:ext cx="262080" cy="417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8" descr="29759_dokumenty"/>
          <p:cNvPicPr/>
          <p:nvPr/>
        </p:nvPicPr>
        <p:blipFill>
          <a:blip r:embed="rId5"/>
          <a:stretch/>
        </p:blipFill>
        <p:spPr>
          <a:xfrm>
            <a:off x="-3357720" y="8858160"/>
            <a:ext cx="2094120" cy="135756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1"/>
          <p:cNvSpPr/>
          <p:nvPr/>
        </p:nvSpPr>
        <p:spPr>
          <a:xfrm>
            <a:off x="7072200" y="2357280"/>
            <a:ext cx="2679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В 1957 – 1961 годах работал в Главном управлении пограничных войск. В эти годы оказался в Северном  Вьетнаме где помогал создавать пограничные войска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41" name="Рисунок 3" descr="http://telegrafua.com/photos/bank_22405_img_200x230.jpg"/>
          <p:cNvPicPr/>
          <p:nvPr/>
        </p:nvPicPr>
        <p:blipFill>
          <a:blip r:embed="rId6"/>
          <a:stretch/>
        </p:blipFill>
        <p:spPr>
          <a:xfrm>
            <a:off x="357120" y="4572000"/>
            <a:ext cx="1612800" cy="1744560"/>
          </a:xfrm>
          <a:prstGeom prst="rect">
            <a:avLst/>
          </a:prstGeom>
          <a:ln w="0">
            <a:noFill/>
          </a:ln>
        </p:spPr>
      </p:pic>
      <p:sp>
        <p:nvSpPr>
          <p:cNvPr id="642" name="Номер слайда 12"/>
          <p:cNvSpPr/>
          <p:nvPr/>
        </p:nvSpPr>
        <p:spPr>
          <a:xfrm>
            <a:off x="7429680" y="649296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C7A0-57EB-4B53-ACFF-1C5C0039E784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Рисунок 1" descr="http://telegrafua.com/photos/bank_22406_60879.jpg"/>
          <p:cNvPicPr/>
          <p:nvPr/>
        </p:nvPicPr>
        <p:blipFill>
          <a:blip r:embed="rId1"/>
          <a:stretch/>
        </p:blipFill>
        <p:spPr>
          <a:xfrm>
            <a:off x="750960" y="189000"/>
            <a:ext cx="4000320" cy="2681280"/>
          </a:xfrm>
          <a:prstGeom prst="rect">
            <a:avLst/>
          </a:prstGeom>
          <a:ln w="0">
            <a:noFill/>
          </a:ln>
        </p:spPr>
      </p:pic>
      <p:pic>
        <p:nvPicPr>
          <p:cNvPr id="644" name="Рисунок 2" descr="http://telegrafua.com/photos/bank_22407_46627.jpg"/>
          <p:cNvPicPr/>
          <p:nvPr/>
        </p:nvPicPr>
        <p:blipFill>
          <a:blip r:embed="rId2"/>
          <a:stretch/>
        </p:blipFill>
        <p:spPr>
          <a:xfrm>
            <a:off x="3630600" y="1590840"/>
            <a:ext cx="4000680" cy="2560320"/>
          </a:xfrm>
          <a:prstGeom prst="rect">
            <a:avLst/>
          </a:prstGeom>
          <a:ln w="0">
            <a:noFill/>
          </a:ln>
        </p:spPr>
      </p:pic>
      <p:pic>
        <p:nvPicPr>
          <p:cNvPr id="645" name="Рисунок 3" descr="http://telegrafua.com/photos/bank_22408_83789.jpg"/>
          <p:cNvPicPr/>
          <p:nvPr/>
        </p:nvPicPr>
        <p:blipFill>
          <a:blip r:embed="rId3"/>
          <a:stretch/>
        </p:blipFill>
        <p:spPr>
          <a:xfrm>
            <a:off x="750960" y="3532320"/>
            <a:ext cx="4000320" cy="263664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4" descr="http://telegrafua.com/photos/bank_22409_10083.jpg"/>
          <p:cNvPicPr/>
          <p:nvPr/>
        </p:nvPicPr>
        <p:blipFill>
          <a:blip r:embed="rId4"/>
          <a:stretch/>
        </p:blipFill>
        <p:spPr>
          <a:xfrm>
            <a:off x="6572160" y="3500280"/>
            <a:ext cx="2448000" cy="313848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5" descr="http://telegrafua.com/photos/bank_22410_75694.jpg"/>
          <p:cNvPicPr/>
          <p:nvPr/>
        </p:nvPicPr>
        <p:blipFill>
          <a:blip r:embed="rId5"/>
          <a:stretch/>
        </p:blipFill>
        <p:spPr>
          <a:xfrm>
            <a:off x="6006960" y="23760"/>
            <a:ext cx="4000680" cy="2825640"/>
          </a:xfrm>
          <a:prstGeom prst="rect">
            <a:avLst/>
          </a:prstGeom>
          <a:ln w="0">
            <a:noFill/>
          </a:ln>
        </p:spPr>
      </p:pic>
      <p:sp>
        <p:nvSpPr>
          <p:cNvPr id="648" name="Номер слайда 6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F17B-2A97-4D47-A2E3-9430C166C48F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Рисунок 1" descr="http://telegrafua.com/photos/bank_22411_32324.jpg"/>
          <p:cNvPicPr/>
          <p:nvPr/>
        </p:nvPicPr>
        <p:blipFill>
          <a:blip r:embed="rId1"/>
          <a:stretch/>
        </p:blipFill>
        <p:spPr>
          <a:xfrm>
            <a:off x="463680" y="189000"/>
            <a:ext cx="3311280" cy="2592360"/>
          </a:xfrm>
          <a:prstGeom prst="rect">
            <a:avLst/>
          </a:prstGeom>
          <a:ln w="0">
            <a:noFill/>
          </a:ln>
        </p:spPr>
      </p:pic>
      <p:pic>
        <p:nvPicPr>
          <p:cNvPr id="650" name="Рисунок 1" descr="C:\Users\Татьяна\Desktop\карацупа весь материал\КАРАЦУПА 2\кар.jpg"/>
          <p:cNvPicPr/>
          <p:nvPr/>
        </p:nvPicPr>
        <p:blipFill>
          <a:blip r:embed="rId2"/>
          <a:stretch/>
        </p:blipFill>
        <p:spPr>
          <a:xfrm>
            <a:off x="6943680" y="189000"/>
            <a:ext cx="2909880" cy="3960720"/>
          </a:xfrm>
          <a:prstGeom prst="rect">
            <a:avLst/>
          </a:prstGeom>
          <a:ln w="0">
            <a:noFill/>
          </a:ln>
        </p:spPr>
      </p:pic>
      <p:sp>
        <p:nvSpPr>
          <p:cNvPr id="651" name="Номер слайда 4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5CD4-FA26-4E20-BA87-404A90782D8E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52" name="Рисунок 5" descr="F:\КАРАЦУПА фото\дрессировка собак.jpg"/>
          <p:cNvPicPr/>
          <p:nvPr/>
        </p:nvPicPr>
        <p:blipFill>
          <a:blip r:embed="rId3"/>
          <a:stretch/>
        </p:blipFill>
        <p:spPr>
          <a:xfrm>
            <a:off x="247680" y="2997360"/>
            <a:ext cx="4896000" cy="3384360"/>
          </a:xfrm>
          <a:prstGeom prst="rect">
            <a:avLst/>
          </a:prstGeom>
          <a:ln w="0">
            <a:noFill/>
          </a:ln>
        </p:spPr>
      </p:pic>
      <p:pic>
        <p:nvPicPr>
          <p:cNvPr id="653" name="Рисунок 6" descr="F:\КАРАЦУПА фото\медаль.jpg"/>
          <p:cNvPicPr/>
          <p:nvPr/>
        </p:nvPicPr>
        <p:blipFill>
          <a:blip r:embed="rId4"/>
          <a:stretch/>
        </p:blipFill>
        <p:spPr>
          <a:xfrm>
            <a:off x="4206960" y="333360"/>
            <a:ext cx="2449440" cy="3527280"/>
          </a:xfrm>
          <a:prstGeom prst="rect">
            <a:avLst/>
          </a:prstGeom>
          <a:ln w="0">
            <a:noFill/>
          </a:ln>
        </p:spPr>
      </p:pic>
      <p:pic>
        <p:nvPicPr>
          <p:cNvPr id="654" name="Рисунок 7" descr="F:\КАРАЦУПА фото\медаль2.jpg"/>
          <p:cNvPicPr/>
          <p:nvPr/>
        </p:nvPicPr>
        <p:blipFill>
          <a:blip r:embed="rId5"/>
          <a:stretch/>
        </p:blipFill>
        <p:spPr>
          <a:xfrm>
            <a:off x="5791320" y="3933720"/>
            <a:ext cx="34988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F:\карацупа весь мат 2\зап.jpg"/>
          <p:cNvPicPr/>
          <p:nvPr/>
        </p:nvPicPr>
        <p:blipFill>
          <a:blip r:embed="rId1"/>
          <a:stretch/>
        </p:blipFill>
        <p:spPr>
          <a:xfrm>
            <a:off x="357120" y="285840"/>
            <a:ext cx="2676600" cy="38275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F:\карацупа весь мат 2\к5.jpg"/>
          <p:cNvPicPr/>
          <p:nvPr/>
        </p:nvPicPr>
        <p:blipFill>
          <a:blip r:embed="rId2"/>
          <a:stretch/>
        </p:blipFill>
        <p:spPr>
          <a:xfrm>
            <a:off x="3087720" y="476280"/>
            <a:ext cx="5000760" cy="66675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4" descr="F:\карацупа весь мат 2\кар..jpg"/>
          <p:cNvPicPr/>
          <p:nvPr/>
        </p:nvPicPr>
        <p:blipFill>
          <a:blip r:embed="rId3"/>
          <a:stretch/>
        </p:blipFill>
        <p:spPr>
          <a:xfrm>
            <a:off x="6502320" y="0"/>
            <a:ext cx="3784680" cy="5033880"/>
          </a:xfrm>
          <a:prstGeom prst="rect">
            <a:avLst/>
          </a:prstGeom>
          <a:ln w="0">
            <a:noFill/>
          </a:ln>
        </p:spPr>
      </p:pic>
      <p:sp>
        <p:nvSpPr>
          <p:cNvPr id="658" name="Номер слайда 4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8A01-75AD-4E9D-AEA0-C16BDEF7A61C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5:07:29Z</dcterms:created>
  <dc:creator>Асланова Улькяр Теймуровна</dc:creator>
  <dc:description/>
  <dc:language>en-US</dc:language>
  <cp:lastModifiedBy>Виктория</cp:lastModifiedBy>
  <cp:lastPrinted>2015-02-09T11:42:54Z</cp:lastPrinted>
  <dcterms:modified xsi:type="dcterms:W3CDTF">2018-12-28T05:51:31Z</dcterms:modified>
  <cp:revision>161</cp:revision>
  <dc:subject/>
  <dc:title>Презентация PowerPoint</dc:title>
</cp:coreProperties>
</file>