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327-841D-4B8E-BF80-D85DC054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D6F-C43A-422F-BD05-00021C36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D7D-F3E0-4812-9F7A-2037E3BF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78F-ACB1-4ACA-8EA5-93F8444C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C5A-E81E-4F0A-BA03-D1BF3548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794-3573-4D3D-8766-00F0C5C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51B-D037-498E-BC08-4A094D80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40D-1419-4252-A4B8-120253FA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F74-87B2-4524-A2D4-6A40772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5AD-B847-483A-B761-AAC25F9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508-4F71-4A64-8E57-FDAF80E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B45-A13A-4421-939D-6BA1954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C803-5843-4231-AB56-33FEB3CBB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вые  вопро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4357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нимается под  термином сила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Сила-это способность длительное время поддерживать оптимальные силовые характеристики движен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Сила –это способность человека посредством мышечной деятельности противодействовать внешним силам или преодолевать их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85880" y="428760"/>
            <a:ext cx="6929280" cy="2472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а и примен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, отжимания отвечают за развитие всевозможных групп мышц рук и груди. Но при правильном выполнении значительно укрепляются мышцы живота, спины и ног. Конечно, как и все физические упражнения, отжимания стимулируют организм человека к усиленной работе и необходимо рассчитывать его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714240" y="3071880"/>
            <a:ext cx="4429440" cy="3202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дышать при выполнении отжимани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делать вдох во время опускания и выдох во время подъема. Выполняя упражнение, следите за тем, чтобы не задерживать дыхание. Старайтесь дышать ритм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10" descr="8lohh6nct4jf.jpg"/>
          <p:cNvPicPr/>
          <p:nvPr/>
        </p:nvPicPr>
        <p:blipFill>
          <a:blip r:embed="rId1"/>
          <a:stretch/>
        </p:blipFill>
        <p:spPr>
          <a:xfrm>
            <a:off x="5715000" y="2786040"/>
            <a:ext cx="25830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380880" y="380880"/>
            <a:ext cx="8458200" cy="6019920"/>
            <a:chOff x="380880" y="380880"/>
            <a:chExt cx="8458200" cy="601992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tretch/>
          </p:blipFill>
          <p:spPr>
            <a:xfrm>
              <a:off x="546120" y="380880"/>
              <a:ext cx="228600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2"/>
            <a:stretch/>
          </p:blipFill>
          <p:spPr>
            <a:xfrm>
              <a:off x="3732120" y="542880"/>
              <a:ext cx="154332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"/>
            <p:cNvPicPr/>
            <p:nvPr/>
          </p:nvPicPr>
          <p:blipFill>
            <a:blip r:embed="rId3"/>
            <a:stretch/>
          </p:blipFill>
          <p:spPr>
            <a:xfrm>
              <a:off x="3573360" y="3890880"/>
              <a:ext cx="2552760" cy="25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722760"/>
              <a:ext cx="230040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"/>
            <p:cNvPicPr/>
            <p:nvPr/>
          </p:nvPicPr>
          <p:blipFill>
            <a:blip r:embed="rId5"/>
            <a:stretch/>
          </p:blipFill>
          <p:spPr>
            <a:xfrm>
              <a:off x="6126120" y="709560"/>
              <a:ext cx="2552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"/>
            <p:cNvPicPr/>
            <p:nvPr/>
          </p:nvPicPr>
          <p:blipFill>
            <a:blip r:embed="rId6"/>
            <a:stretch/>
          </p:blipFill>
          <p:spPr>
            <a:xfrm>
              <a:off x="6286680" y="4057560"/>
              <a:ext cx="2552400" cy="169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457200" y="1511280"/>
            <a:ext cx="399600" cy="4202280"/>
            <a:chOff x="457200" y="1511280"/>
            <a:chExt cx="399600" cy="4202280"/>
          </a:xfrm>
        </p:grpSpPr>
        <p:sp>
          <p:nvSpPr>
            <p:cNvPr id="104" name="Oval 12"/>
            <p:cNvSpPr/>
            <p:nvPr/>
          </p:nvSpPr>
          <p:spPr>
            <a:xfrm>
              <a:off x="457200" y="1511280"/>
              <a:ext cx="399600" cy="2889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457200" y="4925880"/>
              <a:ext cx="399600" cy="787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15"/>
          <p:cNvSpPr/>
          <p:nvPr/>
        </p:nvSpPr>
        <p:spPr>
          <a:xfrm>
            <a:off x="1000080" y="285840"/>
            <a:ext cx="77151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факты об отжима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 Пруден (Канада) — за 30 минут отжался 1382 раза. Самое главное — он отжимался на одной руке! Кстати, он же до этого за 18 минут и 13 секунд выполнил 1000 отжиманий на кулака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жендер  Сингх (Индия) — за один час отжался 387 720 раз. Уже 23 года никто не может побить этот рекор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ру Йошида (Япония) — 10 507 отжиманий без остановки! Не каждый способен повторить такой рекор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ди Дойл (Америка) — за год сделал 1 500 230 отжиманий! Это в среднем по 4 110 в день, 171 отжимание в час, 3 отжимания в минуту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обще, максимальное количество отжиманий в одну минуту равно 199 повторам. Это в среднем 3,31 отжимание в секунду. Такой рекорд установить очень непрос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ганн Шнайдер (Австралия) — 112 отжиманий! Мало? Герой выполнил все  отжимания на куриных яйцах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314640"/>
            <a:ext cx="9001080" cy="6036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й тренировочный пуль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занятий физической культу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нятия фк приносили пользу, ученики должны знать как правильно выбирать нагрузку и контролировать ее. В этом им может помочь умение определить свой индивидуальный тренировочный пульс (ИТП). Формула Кервон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 цифры 220 надо отнять свой возраст в годах. 220-27 = 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 полученной цифры отнять число ударов своего пульса за минуту в покое. 193-75=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ножить полученную цифру на 0,6 и прибавить к ней величину пульса в покое. 118*0,6+75=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ий предел 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ий предел 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: мой оптимальный пульс для занятий фк - от 134 до 158 уд/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овите основные мышцы, участвующие в отжимани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20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цепс и широчайшая мышца сп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Трицепс  и большая грудная мыш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м тестовым испытанием определяется физическое качество-с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2643120"/>
            <a:ext cx="6400800" cy="257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Отжиман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одтягиван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азовите вид спорта в котором  эти спортсмены стали олимпийскими призёрами?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Царукаева до 63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 Заболотная до 75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и Аухадов до 85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Иванов до 94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Каширина свыше 75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лан Албегов свыше 105 кг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57200" y="4286160"/>
            <a:ext cx="640080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ьная бор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Тяжёлая  атле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80722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каком возрасте наступает сенситивный период развития мышечной сил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3143160"/>
            <a:ext cx="6400800" cy="221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-514440" algn="ctr">
              <a:spcBef>
                <a:spcPts val="11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-12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. 14-17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380880" y="380880"/>
            <a:ext cx="8458200" cy="6019920"/>
            <a:chOff x="380880" y="380880"/>
            <a:chExt cx="8458200" cy="6019920"/>
          </a:xfrm>
        </p:grpSpPr>
        <p:pic>
          <p:nvPicPr>
            <p:cNvPr id="52" name="Picture 3" descr=""/>
            <p:cNvPicPr/>
            <p:nvPr/>
          </p:nvPicPr>
          <p:blipFill>
            <a:blip r:embed="rId1"/>
            <a:stretch/>
          </p:blipFill>
          <p:spPr>
            <a:xfrm>
              <a:off x="546120" y="380880"/>
              <a:ext cx="228600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732120" y="542880"/>
              <a:ext cx="154332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"/>
            <p:cNvPicPr/>
            <p:nvPr/>
          </p:nvPicPr>
          <p:blipFill>
            <a:blip r:embed="rId3"/>
            <a:stretch/>
          </p:blipFill>
          <p:spPr>
            <a:xfrm>
              <a:off x="3573360" y="3890880"/>
              <a:ext cx="2552760" cy="25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722760"/>
              <a:ext cx="230040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"/>
            <p:cNvPicPr/>
            <p:nvPr/>
          </p:nvPicPr>
          <p:blipFill>
            <a:blip r:embed="rId5"/>
            <a:stretch/>
          </p:blipFill>
          <p:spPr>
            <a:xfrm>
              <a:off x="6126120" y="709560"/>
              <a:ext cx="2552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"/>
            <p:cNvPicPr/>
            <p:nvPr/>
          </p:nvPicPr>
          <p:blipFill>
            <a:blip r:embed="rId6"/>
            <a:stretch/>
          </p:blipFill>
          <p:spPr>
            <a:xfrm>
              <a:off x="6286680" y="4057560"/>
              <a:ext cx="2552400" cy="16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AutoShape 9"/>
          <p:cNvSpPr/>
          <p:nvPr/>
        </p:nvSpPr>
        <p:spPr>
          <a:xfrm>
            <a:off x="233280" y="152280"/>
            <a:ext cx="86774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  <a:effectLst>
            <a:outerShdw dist="99192" dir="3018055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1. ФИЗИЧЕСКИЕ КА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457200" y="990720"/>
            <a:ext cx="228600" cy="1218600"/>
            <a:chOff x="457200" y="990720"/>
            <a:chExt cx="228600" cy="1218600"/>
          </a:xfrm>
        </p:grpSpPr>
        <p:sp>
          <p:nvSpPr>
            <p:cNvPr id="60" name="Oval 11"/>
            <p:cNvSpPr/>
            <p:nvPr/>
          </p:nvSpPr>
          <p:spPr>
            <a:xfrm>
              <a:off x="457200" y="990720"/>
              <a:ext cx="228600" cy="838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457200" y="1981080"/>
              <a:ext cx="228600" cy="228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3"/>
          <p:cNvSpPr/>
          <p:nvPr/>
        </p:nvSpPr>
        <p:spPr>
          <a:xfrm>
            <a:off x="1050840" y="885960"/>
            <a:ext cx="77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Физические каче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alibri"/>
              </a:rPr>
              <a:t>– социально обусловленные совокупности биологических и психических свойств человека, выражающие его физическую готовность осуществлять активную двига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1523880" y="2743200"/>
            <a:ext cx="6172200" cy="609480"/>
          </a:xfrm>
          <a:prstGeom prst="rect">
            <a:avLst/>
          </a:prstGeom>
          <a:gradFill rotWithShape="0">
            <a:gsLst>
              <a:gs pos="0">
                <a:srgbClr val="d2d2dc"/>
              </a:gs>
              <a:gs pos="50000">
                <a:srgbClr val="f3f3ff"/>
              </a:gs>
              <a:gs pos="100000">
                <a:srgbClr val="d2d2dc"/>
              </a:gs>
            </a:gsLst>
            <a:lin ang="5400000"/>
          </a:gradFill>
          <a:ln w="9360">
            <a:solidFill>
              <a:srgbClr val="cc33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Основные физические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09480" y="3962520"/>
            <a:ext cx="18288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  <a:effectLst>
            <a:outerShdw dist="71785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371600" y="5029200"/>
            <a:ext cx="2819520" cy="609480"/>
          </a:xfrm>
          <a:prstGeom prst="rect">
            <a:avLst/>
          </a:prstGeom>
          <a:solidFill>
            <a:srgbClr val="e5e5ff"/>
          </a:solidFill>
          <a:ln w="9360">
            <a:solidFill>
              <a:srgbClr val="cc66ff"/>
            </a:solidFill>
            <a:miter/>
          </a:ln>
          <a:effectLst>
            <a:outerShdw dist="71785" dir="2700000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вынос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352680" y="3962520"/>
            <a:ext cx="2133720" cy="609480"/>
          </a:xfrm>
          <a:prstGeom prst="rect">
            <a:avLst/>
          </a:prstGeom>
          <a:solidFill>
            <a:srgbClr val="9af5fa"/>
          </a:solidFill>
          <a:ln w="9360">
            <a:solidFill>
              <a:srgbClr val="c0504d"/>
            </a:solidFill>
            <a:miter/>
          </a:ln>
          <a:effectLst>
            <a:outerShdw dist="71785" dir="2700000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лов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5410080" y="5029200"/>
            <a:ext cx="2133720" cy="609480"/>
          </a:xfrm>
          <a:prstGeom prst="rect">
            <a:avLst/>
          </a:prstGeom>
          <a:solidFill>
            <a:srgbClr val="fbbfc8"/>
          </a:solidFill>
          <a:ln w="9360">
            <a:solidFill>
              <a:srgbClr val="cc33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477120" y="3962520"/>
            <a:ext cx="2133360" cy="609480"/>
          </a:xfrm>
          <a:prstGeom prst="rect">
            <a:avLst/>
          </a:prstGeom>
          <a:solidFill>
            <a:srgbClr val="fcec9c"/>
          </a:solidFill>
          <a:ln w="9360">
            <a:solidFill>
              <a:srgbClr val="ff9900"/>
            </a:solidFill>
            <a:miter/>
          </a:ln>
          <a:effectLst>
            <a:outerShdw dist="71785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быст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0"/>
          <p:cNvSpPr/>
          <p:nvPr/>
        </p:nvSpPr>
        <p:spPr>
          <a:xfrm flipH="1">
            <a:off x="1523520" y="3352680"/>
            <a:ext cx="838440" cy="609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 flipH="1">
            <a:off x="2742840" y="3352680"/>
            <a:ext cx="2286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4419720" y="3352680"/>
            <a:ext cx="0" cy="609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5867280" y="3352680"/>
            <a:ext cx="457200" cy="1676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6781680" y="3352680"/>
            <a:ext cx="685800" cy="609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57200" y="58388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других качеств личности физические качества отличаются тем, что могут проявляться только при решении двигательных задач через двигательные действия, выполняемые каждым индивидуумом разли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380880" y="380880"/>
            <a:ext cx="8458200" cy="6019920"/>
            <a:chOff x="380880" y="380880"/>
            <a:chExt cx="8458200" cy="6019920"/>
          </a:xfrm>
        </p:grpSpPr>
        <p:pic>
          <p:nvPicPr>
            <p:cNvPr id="76" name="Picture 3" descr=""/>
            <p:cNvPicPr/>
            <p:nvPr/>
          </p:nvPicPr>
          <p:blipFill>
            <a:blip r:embed="rId1"/>
            <a:stretch/>
          </p:blipFill>
          <p:spPr>
            <a:xfrm>
              <a:off x="546120" y="380880"/>
              <a:ext cx="228600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732120" y="542880"/>
              <a:ext cx="154332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"/>
            <p:cNvPicPr/>
            <p:nvPr/>
          </p:nvPicPr>
          <p:blipFill>
            <a:blip r:embed="rId3"/>
            <a:stretch/>
          </p:blipFill>
          <p:spPr>
            <a:xfrm>
              <a:off x="3573360" y="3890880"/>
              <a:ext cx="2552760" cy="25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722760"/>
              <a:ext cx="230040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6126120" y="709560"/>
              <a:ext cx="2552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"/>
            <p:cNvPicPr/>
            <p:nvPr/>
          </p:nvPicPr>
          <p:blipFill>
            <a:blip r:embed="rId6"/>
            <a:stretch/>
          </p:blipFill>
          <p:spPr>
            <a:xfrm>
              <a:off x="6286680" y="4057560"/>
              <a:ext cx="2552400" cy="16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AutoShape 9"/>
          <p:cNvSpPr/>
          <p:nvPr/>
        </p:nvSpPr>
        <p:spPr>
          <a:xfrm>
            <a:off x="233280" y="152280"/>
            <a:ext cx="86774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  <a:effectLst>
            <a:outerShdw dist="99192" dir="3018055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1. ФИЗИЧЕСКИЕ КАЧЕСТВА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895480" y="77616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Calibri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457200" y="1511280"/>
            <a:ext cx="399600" cy="4202280"/>
            <a:chOff x="457200" y="1511280"/>
            <a:chExt cx="399600" cy="4202280"/>
          </a:xfrm>
        </p:grpSpPr>
        <p:sp>
          <p:nvSpPr>
            <p:cNvPr id="85" name="Oval 12"/>
            <p:cNvSpPr/>
            <p:nvPr/>
          </p:nvSpPr>
          <p:spPr>
            <a:xfrm>
              <a:off x="457200" y="1511280"/>
              <a:ext cx="399600" cy="2889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57200" y="4925880"/>
              <a:ext cx="399600" cy="787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4"/>
          <p:cNvSpPr/>
          <p:nvPr/>
        </p:nvSpPr>
        <p:spPr>
          <a:xfrm>
            <a:off x="1143000" y="1714680"/>
            <a:ext cx="421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ышечная сила человека - это способность преодолевать внешнее сопротивление или противодействовать ему посредством мышечных уси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боди2"/>
          <p:cNvPicPr/>
          <p:nvPr/>
        </p:nvPicPr>
        <p:blipFill>
          <a:blip r:embed="rId7"/>
          <a:stretch/>
        </p:blipFill>
        <p:spPr>
          <a:xfrm>
            <a:off x="5857920" y="1500120"/>
            <a:ext cx="2868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400560" cy="5643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има́ния от пола — базовое физическое упражнение, развивающее большую грудную мышцу, и трицепс. Также при выполнении упражнения задействованы передние дельтовидные мышцы, локтевая мышца и плечевой пояс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1240522257_otjimaniya_finish.jpg"/>
          <p:cNvPicPr/>
          <p:nvPr/>
        </p:nvPicPr>
        <p:blipFill>
          <a:blip r:embed="rId1"/>
          <a:stretch/>
        </p:blipFill>
        <p:spPr>
          <a:xfrm>
            <a:off x="3929040" y="500040"/>
            <a:ext cx="48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20" descr="otzhimaniya-na-triceps.jpg"/>
          <p:cNvPicPr/>
          <p:nvPr/>
        </p:nvPicPr>
        <p:blipFill>
          <a:blip r:embed="rId1"/>
          <a:stretch/>
        </p:blipFill>
        <p:spPr>
          <a:xfrm>
            <a:off x="2357280" y="1785960"/>
            <a:ext cx="4429440" cy="4057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1"/>
          <p:cNvSpPr/>
          <p:nvPr/>
        </p:nvSpPr>
        <p:spPr>
          <a:xfrm>
            <a:off x="642960" y="642960"/>
            <a:ext cx="792972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самых сложных способов отж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2-28T03:47:29Z</dcterms:modified>
  <cp:revision>24</cp:revision>
  <dc:subject/>
  <dc:title>Слайд 1</dc:title>
</cp:coreProperties>
</file>