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FA1D-7248-4DA0-9018-AEF4C2CE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CF50-A57C-451D-A2C2-F535E0DD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C26-DB84-4C7C-A2A7-6F6C2C65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EBDD-77DF-4924-9F05-5DE5E045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DEDC-B197-4C0A-9417-02E477F7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B1AD-FD42-4991-BBE4-5563F86D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9EBA-E180-4A6C-8DD2-3A3380FB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9B4-A99A-451B-9EF6-2D53ABEE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D469-8839-490C-8886-0E4E854E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3D1-7F41-4FA0-A73E-1BD7C757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E2D6-6706-4577-AC44-BF28CAAF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7C5E-FD64-4DD5-9B2D-7C938996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C0C9-62E5-4DB2-BE93-8C219F5D8A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стовые  вопрос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215560" cy="4357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понимается под  термином сила?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Сила-это способность длительное время поддерживать оптимальные силовые характеристики движений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Сила –это способность человека посредством мышечной деятельности противодействовать внешним силам или преодолевать их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785880" y="428760"/>
            <a:ext cx="6929280" cy="24721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а и примен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ую очередь, отжимания отвечают за развитие всевозможных групп мышц рук и груди. Но при правильном выполнении значительно укрепляются мышцы живота, спины и ног. Конечно, как и все физические упражнения, отжимания стимулируют организм человека к усиленной работе и необходимо рассчитывать его возмо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714240" y="3071880"/>
            <a:ext cx="4429440" cy="32022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авильно дышать при выполнении отжимани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делать вдох во время опускания и выдох во время подъема. Выполняя упражнение, следите за тем, чтобы не задерживать дыхание. Старайтесь дышать ритми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10" descr="8lohh6nct4jf.jpg"/>
          <p:cNvPicPr/>
          <p:nvPr/>
        </p:nvPicPr>
        <p:blipFill>
          <a:blip r:embed="rId1"/>
          <a:stretch/>
        </p:blipFill>
        <p:spPr>
          <a:xfrm>
            <a:off x="5715000" y="2786040"/>
            <a:ext cx="258300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380880" y="380880"/>
            <a:ext cx="8458200" cy="6019920"/>
            <a:chOff x="380880" y="380880"/>
            <a:chExt cx="8458200" cy="6019920"/>
          </a:xfrm>
        </p:grpSpPr>
        <p:pic>
          <p:nvPicPr>
            <p:cNvPr id="97" name="Picture 3" descr=""/>
            <p:cNvPicPr/>
            <p:nvPr/>
          </p:nvPicPr>
          <p:blipFill>
            <a:blip r:embed="rId1"/>
            <a:stretch/>
          </p:blipFill>
          <p:spPr>
            <a:xfrm>
              <a:off x="546120" y="380880"/>
              <a:ext cx="2286000" cy="26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" descr=""/>
            <p:cNvPicPr/>
            <p:nvPr/>
          </p:nvPicPr>
          <p:blipFill>
            <a:blip r:embed="rId2"/>
            <a:stretch/>
          </p:blipFill>
          <p:spPr>
            <a:xfrm>
              <a:off x="3732120" y="542880"/>
              <a:ext cx="1543320" cy="26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5" descr=""/>
            <p:cNvPicPr/>
            <p:nvPr/>
          </p:nvPicPr>
          <p:blipFill>
            <a:blip r:embed="rId3"/>
            <a:stretch/>
          </p:blipFill>
          <p:spPr>
            <a:xfrm>
              <a:off x="3573360" y="3890880"/>
              <a:ext cx="2552760" cy="250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6" descr=""/>
            <p:cNvPicPr/>
            <p:nvPr/>
          </p:nvPicPr>
          <p:blipFill>
            <a:blip r:embed="rId4"/>
            <a:stretch/>
          </p:blipFill>
          <p:spPr>
            <a:xfrm>
              <a:off x="380880" y="3722760"/>
              <a:ext cx="2300400" cy="26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7" descr=""/>
            <p:cNvPicPr/>
            <p:nvPr/>
          </p:nvPicPr>
          <p:blipFill>
            <a:blip r:embed="rId5"/>
            <a:stretch/>
          </p:blipFill>
          <p:spPr>
            <a:xfrm>
              <a:off x="6126120" y="709560"/>
              <a:ext cx="2552760" cy="24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8" descr=""/>
            <p:cNvPicPr/>
            <p:nvPr/>
          </p:nvPicPr>
          <p:blipFill>
            <a:blip r:embed="rId6"/>
            <a:stretch/>
          </p:blipFill>
          <p:spPr>
            <a:xfrm>
              <a:off x="6286680" y="4057560"/>
              <a:ext cx="2552400" cy="169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Group 11"/>
          <p:cNvGrpSpPr/>
          <p:nvPr/>
        </p:nvGrpSpPr>
        <p:grpSpPr>
          <a:xfrm>
            <a:off x="457200" y="1511280"/>
            <a:ext cx="399600" cy="4202280"/>
            <a:chOff x="457200" y="1511280"/>
            <a:chExt cx="399600" cy="4202280"/>
          </a:xfrm>
        </p:grpSpPr>
        <p:sp>
          <p:nvSpPr>
            <p:cNvPr id="104" name="Oval 12"/>
            <p:cNvSpPr/>
            <p:nvPr/>
          </p:nvSpPr>
          <p:spPr>
            <a:xfrm>
              <a:off x="457200" y="1511280"/>
              <a:ext cx="399600" cy="2889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3"/>
            <p:cNvSpPr/>
            <p:nvPr/>
          </p:nvSpPr>
          <p:spPr>
            <a:xfrm>
              <a:off x="457200" y="4925880"/>
              <a:ext cx="399600" cy="787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Прямоугольник 15"/>
          <p:cNvSpPr/>
          <p:nvPr/>
        </p:nvSpPr>
        <p:spPr>
          <a:xfrm>
            <a:off x="1000080" y="285840"/>
            <a:ext cx="771516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ые факты об отжимания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 Пруден (Канада) — за 30 минут отжался 1382 раза. Самое главное — он отжимался на одной руке! Кстати, он же до этого за 18 минут и 13 секунд выполнил 1000 отжиманий на кулака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джендер  Сингх (Индия) — за один час отжался 387 720 раз. Уже 23 года никто не может побить этот рекор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ору Йошида (Япония) — 10 507 отжиманий без остановки! Не каждый способен повторить такой рекор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ди Дойл (Америка) — за год сделал 1 500 230 отжиманий! Это в среднем по 4 110 в день, 171 отжимание в час, 3 отжимания в минуту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обще, максимальное количество отжиманий в одну минуту равно 199 повторам. Это в среднем 3,31 отжимание в секунду. Такой рекорд установить очень непрост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ганн Шнайдер (Австралия) — 112 отжиманий! Мало? Герой выполнил все  отжимания на куриных яйцах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0" y="314640"/>
            <a:ext cx="9001080" cy="6036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уальный тренировочный пуль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занятий физической культу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занятия фк приносили пользу, ученики должны знать как правильно выбирать нагрузку и контролировать ее. В этом им может помочь умение определить свой индивидуальный тренировочный пульс (ИТП). Формула Кервоне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т цифры 220 надо отнять свой возраст в годах. 220-27 = 1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т полученной цифры отнять число ударов своего пульса за минуту в покое. 193-75=1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множить полученную цифру на 0,6 и прибавить к ней величину пульса в покое. 118*0,6+75=1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ний предел +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ний предел 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о: мой оптимальный пульс для занятий фк - от 134 до 158 уд/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азовите основные мышцы, участвующие в отжимания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428920"/>
            <a:ext cx="6400800" cy="3209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цепс и широчайшая мышца сп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Трицепс  и большая грудная мыш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аким тестовым испытанием определяется физическое качество-сил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00120" y="2643120"/>
            <a:ext cx="6400800" cy="2571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Отжимание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Подтягивание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38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Назовите вид спорта в котором  эти спортсмены стали олимпийскими призёрами?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лана Царукаева до 63 кг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алья Заболотная до 75 кг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ти Аухадов до 85 кг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Иванов до 94 кг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ьяна Каширина свыше 75 кг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лан Албегов свыше 105 кг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57200" y="4286160"/>
            <a:ext cx="6400800" cy="1643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льная борь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Тяжёлая  атле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5520" y="642960"/>
            <a:ext cx="807228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 каком возрасте наступает сенситивный период развития мышечной сил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28840" y="3143160"/>
            <a:ext cx="6400800" cy="2214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514440" indent="-514440" algn="ctr">
              <a:spcBef>
                <a:spcPts val="1100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10-12 л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2. 14-17 л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380880" y="380880"/>
            <a:ext cx="8458200" cy="6019920"/>
            <a:chOff x="380880" y="380880"/>
            <a:chExt cx="8458200" cy="6019920"/>
          </a:xfrm>
        </p:grpSpPr>
        <p:pic>
          <p:nvPicPr>
            <p:cNvPr id="52" name="Picture 3" descr=""/>
            <p:cNvPicPr/>
            <p:nvPr/>
          </p:nvPicPr>
          <p:blipFill>
            <a:blip r:embed="rId1"/>
            <a:stretch/>
          </p:blipFill>
          <p:spPr>
            <a:xfrm>
              <a:off x="546120" y="380880"/>
              <a:ext cx="2286000" cy="26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4" descr=""/>
            <p:cNvPicPr/>
            <p:nvPr/>
          </p:nvPicPr>
          <p:blipFill>
            <a:blip r:embed="rId2"/>
            <a:stretch/>
          </p:blipFill>
          <p:spPr>
            <a:xfrm>
              <a:off x="3732120" y="542880"/>
              <a:ext cx="1543320" cy="26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5" descr=""/>
            <p:cNvPicPr/>
            <p:nvPr/>
          </p:nvPicPr>
          <p:blipFill>
            <a:blip r:embed="rId3"/>
            <a:stretch/>
          </p:blipFill>
          <p:spPr>
            <a:xfrm>
              <a:off x="3573360" y="3890880"/>
              <a:ext cx="2552760" cy="250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6" descr=""/>
            <p:cNvPicPr/>
            <p:nvPr/>
          </p:nvPicPr>
          <p:blipFill>
            <a:blip r:embed="rId4"/>
            <a:stretch/>
          </p:blipFill>
          <p:spPr>
            <a:xfrm>
              <a:off x="380880" y="3722760"/>
              <a:ext cx="2300400" cy="26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7" descr=""/>
            <p:cNvPicPr/>
            <p:nvPr/>
          </p:nvPicPr>
          <p:blipFill>
            <a:blip r:embed="rId5"/>
            <a:stretch/>
          </p:blipFill>
          <p:spPr>
            <a:xfrm>
              <a:off x="6126120" y="709560"/>
              <a:ext cx="2552760" cy="24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8" descr=""/>
            <p:cNvPicPr/>
            <p:nvPr/>
          </p:nvPicPr>
          <p:blipFill>
            <a:blip r:embed="rId6"/>
            <a:stretch/>
          </p:blipFill>
          <p:spPr>
            <a:xfrm>
              <a:off x="6286680" y="4057560"/>
              <a:ext cx="2552400" cy="16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AutoShape 9"/>
          <p:cNvSpPr/>
          <p:nvPr/>
        </p:nvSpPr>
        <p:spPr>
          <a:xfrm>
            <a:off x="233280" y="152280"/>
            <a:ext cx="867744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  <a:effectLst>
            <a:outerShdw dist="99192" dir="3018055" blurRad="0" rotWithShape="0">
              <a:srgbClr val="c05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1. ФИЗИЧЕСКИЕ КА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457200" y="990720"/>
            <a:ext cx="228600" cy="1218600"/>
            <a:chOff x="457200" y="990720"/>
            <a:chExt cx="228600" cy="1218600"/>
          </a:xfrm>
        </p:grpSpPr>
        <p:sp>
          <p:nvSpPr>
            <p:cNvPr id="60" name="Oval 11"/>
            <p:cNvSpPr/>
            <p:nvPr/>
          </p:nvSpPr>
          <p:spPr>
            <a:xfrm>
              <a:off x="457200" y="990720"/>
              <a:ext cx="228600" cy="838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2"/>
            <p:cNvSpPr/>
            <p:nvPr/>
          </p:nvSpPr>
          <p:spPr>
            <a:xfrm>
              <a:off x="457200" y="1981080"/>
              <a:ext cx="228600" cy="228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13"/>
          <p:cNvSpPr/>
          <p:nvPr/>
        </p:nvSpPr>
        <p:spPr>
          <a:xfrm>
            <a:off x="1050840" y="885960"/>
            <a:ext cx="778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Физические качест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Calibri"/>
              </a:rPr>
              <a:t>– социально обусловленные совокупности биологических и психических свойств человека, выражающие его физическую готовность осуществлять активную двигательн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1523880" y="2743200"/>
            <a:ext cx="6172200" cy="609480"/>
          </a:xfrm>
          <a:prstGeom prst="rect">
            <a:avLst/>
          </a:prstGeom>
          <a:gradFill rotWithShape="0">
            <a:gsLst>
              <a:gs pos="0">
                <a:srgbClr val="d2d2dc"/>
              </a:gs>
              <a:gs pos="50000">
                <a:srgbClr val="f3f3ff"/>
              </a:gs>
              <a:gs pos="100000">
                <a:srgbClr val="d2d2dc"/>
              </a:gs>
            </a:gsLst>
            <a:lin ang="5400000"/>
          </a:gradFill>
          <a:ln w="9360">
            <a:solidFill>
              <a:srgbClr val="cc3300"/>
            </a:solidFill>
            <a:miter/>
          </a:ln>
          <a:effectLst>
            <a:outerShdw dist="71785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Calibri"/>
              </a:rPr>
              <a:t>Основные физические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609480" y="3962520"/>
            <a:ext cx="182880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6600"/>
            </a:solidFill>
            <a:miter/>
          </a:ln>
          <a:effectLst>
            <a:outerShdw dist="71785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с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1371600" y="5029200"/>
            <a:ext cx="2819520" cy="609480"/>
          </a:xfrm>
          <a:prstGeom prst="rect">
            <a:avLst/>
          </a:prstGeom>
          <a:solidFill>
            <a:srgbClr val="e5e5ff"/>
          </a:solidFill>
          <a:ln w="9360">
            <a:solidFill>
              <a:srgbClr val="cc66ff"/>
            </a:solidFill>
            <a:miter/>
          </a:ln>
          <a:effectLst>
            <a:outerShdw dist="71785" dir="2700000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alibri"/>
              </a:rPr>
              <a:t>вынос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352680" y="3962520"/>
            <a:ext cx="2133720" cy="609480"/>
          </a:xfrm>
          <a:prstGeom prst="rect">
            <a:avLst/>
          </a:prstGeom>
          <a:solidFill>
            <a:srgbClr val="9af5fa"/>
          </a:solidFill>
          <a:ln w="9360">
            <a:solidFill>
              <a:srgbClr val="c0504d"/>
            </a:solidFill>
            <a:miter/>
          </a:ln>
          <a:effectLst>
            <a:outerShdw dist="71785" dir="2700000" blurRad="0" rotWithShape="0">
              <a:srgbClr val="c05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лов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5410080" y="5029200"/>
            <a:ext cx="2133720" cy="609480"/>
          </a:xfrm>
          <a:prstGeom prst="rect">
            <a:avLst/>
          </a:prstGeom>
          <a:solidFill>
            <a:srgbClr val="fbbfc8"/>
          </a:solidFill>
          <a:ln w="9360">
            <a:solidFill>
              <a:srgbClr val="cc3300"/>
            </a:solidFill>
            <a:miter/>
          </a:ln>
          <a:effectLst>
            <a:outerShdw dist="71785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Calibri"/>
              </a:rPr>
              <a:t>гиб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6477120" y="3962520"/>
            <a:ext cx="2133360" cy="609480"/>
          </a:xfrm>
          <a:prstGeom prst="rect">
            <a:avLst/>
          </a:prstGeom>
          <a:solidFill>
            <a:srgbClr val="fcec9c"/>
          </a:solidFill>
          <a:ln w="9360">
            <a:solidFill>
              <a:srgbClr val="ff9900"/>
            </a:solidFill>
            <a:miter/>
          </a:ln>
          <a:effectLst>
            <a:outerShdw dist="71785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alibri"/>
              </a:rPr>
              <a:t>быстр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0"/>
          <p:cNvSpPr/>
          <p:nvPr/>
        </p:nvSpPr>
        <p:spPr>
          <a:xfrm flipH="1">
            <a:off x="1523520" y="3352680"/>
            <a:ext cx="838440" cy="609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1"/>
          <p:cNvSpPr/>
          <p:nvPr/>
        </p:nvSpPr>
        <p:spPr>
          <a:xfrm flipH="1">
            <a:off x="2742840" y="3352680"/>
            <a:ext cx="2286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2"/>
          <p:cNvSpPr/>
          <p:nvPr/>
        </p:nvSpPr>
        <p:spPr>
          <a:xfrm>
            <a:off x="4419720" y="3352680"/>
            <a:ext cx="0" cy="609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3"/>
          <p:cNvSpPr/>
          <p:nvPr/>
        </p:nvSpPr>
        <p:spPr>
          <a:xfrm>
            <a:off x="5867280" y="3352680"/>
            <a:ext cx="457200" cy="16765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4"/>
          <p:cNvSpPr/>
          <p:nvPr/>
        </p:nvSpPr>
        <p:spPr>
          <a:xfrm>
            <a:off x="6781680" y="3352680"/>
            <a:ext cx="685800" cy="609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457200" y="583884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 других качеств личности физические качества отличаются тем, что могут проявляться только при решении двигательных задач через двигательные действия, выполняемые каждым индивидуумом различ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2"/>
          <p:cNvGrpSpPr/>
          <p:nvPr/>
        </p:nvGrpSpPr>
        <p:grpSpPr>
          <a:xfrm>
            <a:off x="380880" y="380880"/>
            <a:ext cx="8458200" cy="6019920"/>
            <a:chOff x="380880" y="380880"/>
            <a:chExt cx="8458200" cy="6019920"/>
          </a:xfrm>
        </p:grpSpPr>
        <p:pic>
          <p:nvPicPr>
            <p:cNvPr id="76" name="Picture 3" descr=""/>
            <p:cNvPicPr/>
            <p:nvPr/>
          </p:nvPicPr>
          <p:blipFill>
            <a:blip r:embed="rId1"/>
            <a:stretch/>
          </p:blipFill>
          <p:spPr>
            <a:xfrm>
              <a:off x="546120" y="380880"/>
              <a:ext cx="2286000" cy="26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4" descr=""/>
            <p:cNvPicPr/>
            <p:nvPr/>
          </p:nvPicPr>
          <p:blipFill>
            <a:blip r:embed="rId2"/>
            <a:stretch/>
          </p:blipFill>
          <p:spPr>
            <a:xfrm>
              <a:off x="3732120" y="542880"/>
              <a:ext cx="1543320" cy="26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5" descr=""/>
            <p:cNvPicPr/>
            <p:nvPr/>
          </p:nvPicPr>
          <p:blipFill>
            <a:blip r:embed="rId3"/>
            <a:stretch/>
          </p:blipFill>
          <p:spPr>
            <a:xfrm>
              <a:off x="3573360" y="3890880"/>
              <a:ext cx="2552760" cy="250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6" descr=""/>
            <p:cNvPicPr/>
            <p:nvPr/>
          </p:nvPicPr>
          <p:blipFill>
            <a:blip r:embed="rId4"/>
            <a:stretch/>
          </p:blipFill>
          <p:spPr>
            <a:xfrm>
              <a:off x="380880" y="3722760"/>
              <a:ext cx="2300400" cy="26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7" descr=""/>
            <p:cNvPicPr/>
            <p:nvPr/>
          </p:nvPicPr>
          <p:blipFill>
            <a:blip r:embed="rId5"/>
            <a:stretch/>
          </p:blipFill>
          <p:spPr>
            <a:xfrm>
              <a:off x="6126120" y="709560"/>
              <a:ext cx="2552760" cy="24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8" descr=""/>
            <p:cNvPicPr/>
            <p:nvPr/>
          </p:nvPicPr>
          <p:blipFill>
            <a:blip r:embed="rId6"/>
            <a:stretch/>
          </p:blipFill>
          <p:spPr>
            <a:xfrm>
              <a:off x="6286680" y="4057560"/>
              <a:ext cx="2552400" cy="16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AutoShape 9"/>
          <p:cNvSpPr/>
          <p:nvPr/>
        </p:nvSpPr>
        <p:spPr>
          <a:xfrm>
            <a:off x="233280" y="152280"/>
            <a:ext cx="867744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  <a:effectLst>
            <a:outerShdw dist="99192" dir="3018055" blurRad="0" rotWithShape="0">
              <a:srgbClr val="c05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1. ФИЗИЧЕСКИЕ КАЧЕСТВА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2895480" y="77616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Calibri"/>
              </a:rPr>
              <a:t>С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1"/>
          <p:cNvGrpSpPr/>
          <p:nvPr/>
        </p:nvGrpSpPr>
        <p:grpSpPr>
          <a:xfrm>
            <a:off x="457200" y="1511280"/>
            <a:ext cx="399600" cy="4202280"/>
            <a:chOff x="457200" y="1511280"/>
            <a:chExt cx="399600" cy="4202280"/>
          </a:xfrm>
        </p:grpSpPr>
        <p:sp>
          <p:nvSpPr>
            <p:cNvPr id="85" name="Oval 12"/>
            <p:cNvSpPr/>
            <p:nvPr/>
          </p:nvSpPr>
          <p:spPr>
            <a:xfrm>
              <a:off x="457200" y="1511280"/>
              <a:ext cx="399600" cy="2889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3"/>
            <p:cNvSpPr/>
            <p:nvPr/>
          </p:nvSpPr>
          <p:spPr>
            <a:xfrm>
              <a:off x="457200" y="4925880"/>
              <a:ext cx="399600" cy="787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14"/>
          <p:cNvSpPr/>
          <p:nvPr/>
        </p:nvSpPr>
        <p:spPr>
          <a:xfrm>
            <a:off x="1143000" y="1714680"/>
            <a:ext cx="4214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Мышечная сила человека - это способность преодолевать внешнее сопротивление или противодействовать ему посредством мышечных усил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боди2"/>
          <p:cNvPicPr/>
          <p:nvPr/>
        </p:nvPicPr>
        <p:blipFill>
          <a:blip r:embed="rId7"/>
          <a:stretch/>
        </p:blipFill>
        <p:spPr>
          <a:xfrm>
            <a:off x="5857920" y="1500120"/>
            <a:ext cx="2868480" cy="407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3400560" cy="5643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има́ния от пола — базовое физическое упражнение, развивающее большую грудную мышцу, и трицепс. Также при выполнении упражнения задействованы передние дельтовидные мышцы, локтевая мышца и плечевой пояс в це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1240522257_otjimaniya_finish.jpg"/>
          <p:cNvPicPr/>
          <p:nvPr/>
        </p:nvPicPr>
        <p:blipFill>
          <a:blip r:embed="rId1"/>
          <a:stretch/>
        </p:blipFill>
        <p:spPr>
          <a:xfrm>
            <a:off x="3929040" y="500040"/>
            <a:ext cx="48578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Содержимое 20" descr="otzhimaniya-na-triceps.jpg"/>
          <p:cNvPicPr/>
          <p:nvPr/>
        </p:nvPicPr>
        <p:blipFill>
          <a:blip r:embed="rId1"/>
          <a:stretch/>
        </p:blipFill>
        <p:spPr>
          <a:xfrm>
            <a:off x="2357280" y="1785960"/>
            <a:ext cx="4429440" cy="40575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21"/>
          <p:cNvSpPr/>
          <p:nvPr/>
        </p:nvSpPr>
        <p:spPr>
          <a:xfrm>
            <a:off x="642960" y="642960"/>
            <a:ext cx="7929720" cy="119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самых сложных способов отжим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8-12-28T03:47:29Z</dcterms:modified>
  <cp:revision>24</cp:revision>
  <dc:subject/>
  <dc:title>Слайд 1</dc:title>
</cp:coreProperties>
</file>