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E3-8047-411C-9CC6-972257D8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13E-D1E0-4B67-A580-9ACF4BAF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B24-4689-4CC4-99EC-7C2069E7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646-E9B3-42B8-A86C-08F2F99D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6B4-6FAD-4C48-A7AE-5258CA0D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81D-5945-4827-B30C-FA88FC9E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6A8-93FC-49E2-B0B4-B32D6B8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311-0B20-4B80-9D14-418FA385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83C-47A3-4733-9688-FE4E006D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33C-FA63-49E6-9422-EDDD1D1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2E7-A337-4341-8022-50863E9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DE2-BB0D-4D55-A7A1-54A6D33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EEA6-8A0F-4AE2-8062-AE5CEA3C8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-214200" y="-3816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71640" y="5300640"/>
          <a:ext cx="7034040" cy="96516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1200"/>
                <a:gridCol w="782280"/>
                <a:gridCol w="781200"/>
                <a:gridCol w="781200"/>
                <a:gridCol w="782640"/>
                <a:gridCol w="780840"/>
                <a:gridCol w="782640"/>
              </a:tblGrid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6"/>
          <p:cNvSpPr/>
          <p:nvPr/>
        </p:nvSpPr>
        <p:spPr>
          <a:xfrm>
            <a:off x="-203040" y="1046160"/>
            <a:ext cx="0" cy="421956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3240"/>
            <a:ext cx="982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числите отношения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шифруйте тему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00360" y="1484280"/>
          <a:ext cx="3216240" cy="3656160"/>
        </p:xfrm>
        <a:graphic>
          <a:graphicData uri="http://schemas.openxmlformats.org/drawingml/2006/table">
            <a:tbl>
              <a:tblPr/>
              <a:tblGrid>
                <a:gridCol w="1778040"/>
                <a:gridCol w="14382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: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14"/>
          <p:cNvSpPr/>
          <p:nvPr/>
        </p:nvSpPr>
        <p:spPr>
          <a:xfrm>
            <a:off x="6590880" y="5157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2643120" y="5143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7308720" y="51577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1928880" y="5143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4211640" y="5157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148360" y="5157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5867280" y="5157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1187280" y="51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3492360" y="5157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Содержимое 5"/>
              <p:cNvSpPr txBox="1"/>
              <p:nvPr/>
            </p:nvSpPr>
            <p:spPr>
              <a:xfrm>
                <a:off x="3780000" y="1844640"/>
                <a:ext cx="353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3708360" y="3357720"/>
                <a:ext cx="363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708360" y="4149720"/>
                <a:ext cx="434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539640" y="-516960"/>
            <a:ext cx="80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математические объекты перед в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уравнения или пропорция с неизвестными член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уравнения, используя основное свойство пропо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1403280" y="328464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6•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403280" y="3353760"/>
            <a:ext cx="100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946320" y="75204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403280" y="389088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-1234440" y="90756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1547640" y="457020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4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2"/>
          <a:stretch/>
        </p:blipFill>
        <p:spPr>
          <a:xfrm>
            <a:off x="2195640" y="5084640"/>
            <a:ext cx="504720" cy="72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1008000" cy="695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1547640" y="2924280"/>
            <a:ext cx="1173240" cy="717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8"/>
          <p:cNvSpPr/>
          <p:nvPr/>
        </p:nvSpPr>
        <p:spPr>
          <a:xfrm>
            <a:off x="4067280" y="279396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a = 0,3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a = 5•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4643280" y="38617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-136836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"/>
          <p:cNvPicPr/>
          <p:nvPr/>
        </p:nvPicPr>
        <p:blipFill>
          <a:blip r:embed="rId5"/>
          <a:stretch/>
        </p:blipFill>
        <p:spPr>
          <a:xfrm>
            <a:off x="5724360" y="3716280"/>
            <a:ext cx="648000" cy="6764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4" descr=""/>
          <p:cNvPicPr/>
          <p:nvPr/>
        </p:nvPicPr>
        <p:blipFill>
          <a:blip r:embed="rId6"/>
          <a:stretch/>
        </p:blipFill>
        <p:spPr>
          <a:xfrm>
            <a:off x="5724360" y="4508640"/>
            <a:ext cx="576360" cy="8776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1"/>
          <p:cNvSpPr/>
          <p:nvPr/>
        </p:nvSpPr>
        <p:spPr>
          <a:xfrm>
            <a:off x="5007600" y="47242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4643280" y="56620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34"/>
          <p:cNvCxnSpPr/>
          <p:nvPr/>
        </p:nvCxnSpPr>
        <p:spPr>
          <a:xfrm>
            <a:off x="2050560" y="3141720"/>
            <a:ext cx="505800" cy="358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9" name="Прямая со стрелкой 36"/>
          <p:cNvCxnSpPr/>
          <p:nvPr/>
        </p:nvCxnSpPr>
        <p:spPr>
          <a:xfrm flipH="1">
            <a:off x="2050200" y="3212640"/>
            <a:ext cx="505800" cy="36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Арка 37"/>
          <p:cNvSpPr/>
          <p:nvPr/>
        </p:nvSpPr>
        <p:spPr>
          <a:xfrm>
            <a:off x="5219640" y="2708280"/>
            <a:ext cx="936720" cy="289080"/>
          </a:xfrm>
          <a:custGeom>
            <a:avLst/>
            <a:gdLst/>
            <a:ahLst/>
            <a:rect l="l" t="t" r="r" b="b"/>
            <a:pathLst>
              <a:path w="936625" h="288925">
                <a:moveTo>
                  <a:pt x="0" y="144463"/>
                </a:moveTo>
                <a:cubicBezTo>
                  <a:pt x="0" y="64678"/>
                  <a:pt x="209671" y="0"/>
                  <a:pt x="468313" y="0"/>
                </a:cubicBezTo>
                <a:cubicBezTo>
                  <a:pt x="726955" y="0"/>
                  <a:pt x="936626" y="64678"/>
                  <a:pt x="936626" y="144463"/>
                </a:cubicBezTo>
                <a:lnTo>
                  <a:pt x="864394" y="144463"/>
                </a:lnTo>
                <a:cubicBezTo>
                  <a:pt x="864394" y="104571"/>
                  <a:pt x="687062" y="72232"/>
                  <a:pt x="468313" y="72232"/>
                </a:cubicBezTo>
                <a:cubicBezTo>
                  <a:pt x="249564" y="72232"/>
                  <a:pt x="72232" y="104571"/>
                  <a:pt x="72232" y="144463"/>
                </a:cubicBezTo>
                <a:lnTo>
                  <a:pt x="0" y="14446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Арка 38"/>
          <p:cNvSpPr/>
          <p:nvPr/>
        </p:nvSpPr>
        <p:spPr>
          <a:xfrm>
            <a:off x="5508720" y="2924280"/>
            <a:ext cx="431640" cy="73080"/>
          </a:xfrm>
          <a:custGeom>
            <a:avLst/>
            <a:gdLst/>
            <a:ahLst/>
            <a:rect l="l" t="t" r="r" b="b"/>
            <a:pathLst>
              <a:path w="431800" h="73025">
                <a:moveTo>
                  <a:pt x="0" y="36513"/>
                </a:moveTo>
                <a:cubicBezTo>
                  <a:pt x="0" y="16347"/>
                  <a:pt x="96662" y="0"/>
                  <a:pt x="215900" y="0"/>
                </a:cubicBezTo>
                <a:cubicBezTo>
                  <a:pt x="335138" y="0"/>
                  <a:pt x="431800" y="16347"/>
                  <a:pt x="431800" y="36513"/>
                </a:cubicBezTo>
                <a:lnTo>
                  <a:pt x="413544" y="36513"/>
                </a:lnTo>
                <a:cubicBezTo>
                  <a:pt x="413544" y="26430"/>
                  <a:pt x="325056" y="18257"/>
                  <a:pt x="215900" y="18257"/>
                </a:cubicBezTo>
                <a:cubicBezTo>
                  <a:pt x="106744" y="18257"/>
                  <a:pt x="18256" y="26430"/>
                  <a:pt x="18256" y="36513"/>
                </a:cubicBezTo>
                <a:lnTo>
                  <a:pt x="0" y="365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835280" y="4292640"/>
          <a:ext cx="4965480" cy="568440"/>
        </p:xfrm>
        <a:graphic>
          <a:graphicData uri="http://schemas.openxmlformats.org/drawingml/2006/table">
            <a:tbl>
              <a:tblPr/>
              <a:tblGrid>
                <a:gridCol w="1011240"/>
                <a:gridCol w="790560"/>
                <a:gridCol w="790560"/>
                <a:gridCol w="790560"/>
                <a:gridCol w="792000"/>
                <a:gridCol w="790560"/>
              </a:tblGrid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96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28116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ите уравнения, используя основно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йство пропорции, и расшифруйте имя великого уче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449600" y="291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376280" y="23673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736640" y="29437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04720" cy="690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2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1763640" y="210276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68360" y="2627280"/>
            <a:ext cx="295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:2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4716360" y="2460240"/>
            <a:ext cx="26272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8 = 2:0,8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:у = 1:2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117000" y="291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553720" y="227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-1035000" y="1924560"/>
            <a:ext cx="56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6948360" y="2334600"/>
            <a:ext cx="679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0"/>
          <p:cNvSpPr/>
          <p:nvPr/>
        </p:nvSpPr>
        <p:spPr>
          <a:xfrm>
            <a:off x="3423240" y="2133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3351240" y="2997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3"/>
          <p:cNvSpPr/>
          <p:nvPr/>
        </p:nvSpPr>
        <p:spPr>
          <a:xfrm>
            <a:off x="3351960" y="3573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6951960" y="36450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5"/>
          <p:cNvSpPr/>
          <p:nvPr/>
        </p:nvSpPr>
        <p:spPr>
          <a:xfrm>
            <a:off x="7022880" y="2133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979640" y="4653000"/>
          <a:ext cx="5184720" cy="1643040"/>
        </p:xfrm>
        <a:graphic>
          <a:graphicData uri="http://schemas.openxmlformats.org/drawingml/2006/table">
            <a:tbl>
              <a:tblPr/>
              <a:tblGrid>
                <a:gridCol w="1009800"/>
                <a:gridCol w="790560"/>
                <a:gridCol w="790560"/>
                <a:gridCol w="938160"/>
                <a:gridCol w="644400"/>
                <a:gridCol w="101124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2"/>
          <p:cNvSpPr/>
          <p:nvPr/>
        </p:nvSpPr>
        <p:spPr>
          <a:xfrm>
            <a:off x="2268360" y="472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7"/>
          <p:cNvSpPr/>
          <p:nvPr/>
        </p:nvSpPr>
        <p:spPr>
          <a:xfrm>
            <a:off x="3203640" y="4724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9"/>
          <p:cNvSpPr/>
          <p:nvPr/>
        </p:nvSpPr>
        <p:spPr>
          <a:xfrm>
            <a:off x="3995640" y="4724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0"/>
          <p:cNvSpPr/>
          <p:nvPr/>
        </p:nvSpPr>
        <p:spPr>
          <a:xfrm>
            <a:off x="4859280" y="4724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1"/>
          <p:cNvSpPr/>
          <p:nvPr/>
        </p:nvSpPr>
        <p:spPr>
          <a:xfrm>
            <a:off x="5651640" y="4724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6300720" y="47242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340000" y="198900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843280" y="1989000"/>
                <a:ext cx="285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TextBox 49"/>
          <p:cNvSpPr/>
          <p:nvPr/>
        </p:nvSpPr>
        <p:spPr>
          <a:xfrm>
            <a:off x="262728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1547640" y="3357720"/>
                <a:ext cx="236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TextBox 55"/>
          <p:cNvSpPr/>
          <p:nvPr/>
        </p:nvSpPr>
        <p:spPr>
          <a:xfrm>
            <a:off x="1908000" y="3500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7"/>
              <p:cNvSpPr txBox="1"/>
              <p:nvPr/>
            </p:nvSpPr>
            <p:spPr>
              <a:xfrm>
                <a:off x="2411280" y="3357720"/>
                <a:ext cx="49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3276720" y="537372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0"/>
              <p:cNvSpPr txBox="1"/>
              <p:nvPr/>
            </p:nvSpPr>
            <p:spPr>
              <a:xfrm>
                <a:off x="5181480" y="2060640"/>
                <a:ext cx="4622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4464000" y="3067200"/>
                <a:ext cx="21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2"/>
              <p:cNvSpPr txBox="1"/>
              <p:nvPr/>
            </p:nvSpPr>
            <p:spPr>
              <a:xfrm>
                <a:off x="6197760" y="2060640"/>
                <a:ext cx="2365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330" name="TextBox 7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7559640" cy="706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3286080" y="1404720"/>
            <a:ext cx="5214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кли́д или Эвкли́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.-греч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ὐκλείδη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. 300 г. до н. э.) — древнегреческий математик. Мировую известность приобрёл благодаря сочинению по основам математик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чала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ιχεῖ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кв.элементы). Счит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отцом геометрии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книге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чала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о изложена теория отношений и пропорций. Там же доказано основное свойство пропорци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Heavy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9"/>
          <p:cNvSpPr/>
          <p:nvPr/>
        </p:nvSpPr>
        <p:spPr>
          <a:xfrm>
            <a:off x="-157320" y="296712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9616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2968560"/>
            <a:ext cx="7594560" cy="920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E:\ПРЕЗЕНТАЦИЯ\цветы.gif"/>
          <p:cNvPicPr/>
          <p:nvPr/>
        </p:nvPicPr>
        <p:blipFill>
          <a:blip r:embed="rId3"/>
          <a:stretch/>
        </p:blipFill>
        <p:spPr>
          <a:xfrm>
            <a:off x="2286000" y="1428840"/>
            <a:ext cx="4762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113436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владеет не только истиной,                но и высшей красотой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19640" y="4042440"/>
            <a:ext cx="35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ертран Рас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6" descr=""/>
          <p:cNvPicPr/>
          <p:nvPr/>
        </p:nvPicPr>
        <p:blipFill>
          <a:blip r:embed="rId2"/>
          <a:stretch/>
        </p:blipFill>
        <p:spPr>
          <a:xfrm>
            <a:off x="2432160" y="981000"/>
            <a:ext cx="40179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95760" y="2614680"/>
          <a:ext cx="1752480" cy="2495520"/>
        </p:xfrm>
        <a:graphic>
          <a:graphicData uri="http://schemas.openxmlformats.org/drawingml/2006/table">
            <a:tbl>
              <a:tblPr/>
              <a:tblGrid>
                <a:gridCol w="1123920"/>
                <a:gridCol w="62856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: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: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: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826920" y="144720"/>
            <a:ext cx="2428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числите отнош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642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1500120"/>
          <a:ext cx="2357640" cy="4786560"/>
        </p:xfrm>
        <a:graphic>
          <a:graphicData uri="http://schemas.openxmlformats.org/drawingml/2006/table">
            <a:tbl>
              <a:tblPr/>
              <a:tblGrid>
                <a:gridCol w="1500120"/>
                <a:gridCol w="857520"/>
              </a:tblGrid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: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: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: 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: 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3" descr=""/>
          <p:cNvPicPr/>
          <p:nvPr/>
        </p:nvPicPr>
        <p:blipFill>
          <a:blip r:embed="rId3"/>
          <a:stretch/>
        </p:blipFill>
        <p:spPr>
          <a:xfrm>
            <a:off x="7643880" y="0"/>
            <a:ext cx="85680" cy="352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8" descr=""/>
          <p:cNvPicPr/>
          <p:nvPr/>
        </p:nvPicPr>
        <p:blipFill>
          <a:blip r:embed="rId4"/>
          <a:stretch/>
        </p:blipFill>
        <p:spPr>
          <a:xfrm>
            <a:off x="0" y="457200"/>
            <a:ext cx="171360" cy="35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5"/>
          <a:stretch/>
        </p:blipFill>
        <p:spPr>
          <a:xfrm>
            <a:off x="0" y="1266840"/>
            <a:ext cx="200160" cy="371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9"/>
          <p:cNvSpPr/>
          <p:nvPr/>
        </p:nvSpPr>
        <p:spPr>
          <a:xfrm>
            <a:off x="4067280" y="13230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:2  =   24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3708360" y="256752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:4 = 5,6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: 100 = 5,5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3" descr=""/>
          <p:cNvPicPr/>
          <p:nvPr/>
        </p:nvPicPr>
        <p:blipFill>
          <a:blip r:embed="rId6"/>
          <a:stretch/>
        </p:blipFill>
        <p:spPr>
          <a:xfrm>
            <a:off x="0" y="457200"/>
            <a:ext cx="171360" cy="3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"/>
          <p:cNvPicPr/>
          <p:nvPr/>
        </p:nvPicPr>
        <p:blipFill>
          <a:blip r:embed="rId7"/>
          <a:stretch/>
        </p:blipFill>
        <p:spPr>
          <a:xfrm>
            <a:off x="0" y="1266840"/>
            <a:ext cx="200160" cy="371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9"/>
          <p:cNvSpPr/>
          <p:nvPr/>
        </p:nvSpPr>
        <p:spPr>
          <a:xfrm>
            <a:off x="5219640" y="1916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3203640" y="5526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пиши равные отно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3276720" y="3584520"/>
            <a:ext cx="55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енство двух отношений называют пропорцией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я (от латинского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ortio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) – определенное соотношение частей между собой, соразме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2484360" y="1484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2500200" y="23572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2411280" y="299736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9"/>
          <p:cNvSpPr/>
          <p:nvPr/>
        </p:nvSpPr>
        <p:spPr>
          <a:xfrm>
            <a:off x="2500200" y="35719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2484360" y="393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2484360" y="46530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2"/>
          <p:cNvSpPr/>
          <p:nvPr/>
        </p:nvSpPr>
        <p:spPr>
          <a:xfrm>
            <a:off x="2484360" y="530064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3"/>
          <p:cNvSpPr/>
          <p:nvPr/>
        </p:nvSpPr>
        <p:spPr>
          <a:xfrm>
            <a:off x="2484360" y="58053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1476360" y="2205000"/>
                <a:ext cx="44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5"/>
              <p:cNvSpPr txBox="1"/>
              <p:nvPr/>
            </p:nvSpPr>
            <p:spPr>
              <a:xfrm>
                <a:off x="1469880" y="4581360"/>
                <a:ext cx="343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Содержимое 31"/>
              <p:cNvSpPr txBox="1"/>
              <p:nvPr/>
            </p:nvSpPr>
            <p:spPr>
              <a:xfrm>
                <a:off x="3978360" y="263376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4572000" y="1700280"/>
                <a:ext cx="44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1"/>
              <p:cNvSpPr txBox="1"/>
              <p:nvPr/>
            </p:nvSpPr>
            <p:spPr>
              <a:xfrm>
                <a:off x="5508720" y="1700280"/>
                <a:ext cx="342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611280" y="486000"/>
            <a:ext cx="80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пропорциями связаны представления о красоте, порядке и гармонии в природе, искусстве, архитектуре, скульптуре и музыке. Соблюдение определенных соотношений между размерами отдельных частей тела, предмета непременное условие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3143160" cy="2071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4788000" y="2997360"/>
            <a:ext cx="2428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32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428840" y="55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пись пропор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3" descr=""/>
          <p:cNvPicPr/>
          <p:nvPr/>
        </p:nvPicPr>
        <p:blipFill>
          <a:blip r:embed="rId2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4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3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3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2903760" y="357300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-1785960" y="22147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9" descr=""/>
          <p:cNvPicPr/>
          <p:nvPr/>
        </p:nvPicPr>
        <p:blipFill>
          <a:blip r:embed="rId4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0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1474920" y="164412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-200016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11736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142920" y="1114920"/>
            <a:ext cx="469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4214880" y="271476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8" descr=""/>
          <p:cNvPicPr/>
          <p:nvPr/>
        </p:nvPicPr>
        <p:blipFill>
          <a:blip r:embed="rId5"/>
          <a:stretch/>
        </p:blipFill>
        <p:spPr>
          <a:xfrm>
            <a:off x="0" y="914400"/>
            <a:ext cx="21924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7" descr=""/>
          <p:cNvPicPr/>
          <p:nvPr/>
        </p:nvPicPr>
        <p:blipFill>
          <a:blip r:embed="rId6"/>
          <a:stretch/>
        </p:blipFill>
        <p:spPr>
          <a:xfrm>
            <a:off x="0" y="1895400"/>
            <a:ext cx="142920" cy="523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2"/>
          <p:cNvSpPr/>
          <p:nvPr/>
        </p:nvSpPr>
        <p:spPr>
          <a:xfrm>
            <a:off x="1857240" y="2021040"/>
            <a:ext cx="2000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-2147760" y="429480"/>
            <a:ext cx="93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9" descr=""/>
          <p:cNvPicPr/>
          <p:nvPr/>
        </p:nvPicPr>
        <p:blipFill>
          <a:blip r:embed="rId7"/>
          <a:stretch/>
        </p:blipFill>
        <p:spPr>
          <a:xfrm>
            <a:off x="6500880" y="2786040"/>
            <a:ext cx="21888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8" descr=""/>
          <p:cNvPicPr/>
          <p:nvPr/>
        </p:nvPicPr>
        <p:blipFill>
          <a:blip r:embed="rId8"/>
          <a:stretch/>
        </p:blipFill>
        <p:spPr>
          <a:xfrm>
            <a:off x="0" y="1438200"/>
            <a:ext cx="14292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2"/>
          <p:cNvSpPr/>
          <p:nvPr/>
        </p:nvSpPr>
        <p:spPr>
          <a:xfrm>
            <a:off x="-541440" y="18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2" descr=""/>
          <p:cNvPicPr/>
          <p:nvPr/>
        </p:nvPicPr>
        <p:blipFill>
          <a:blip r:embed="rId9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10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"/>
          <p:cNvPicPr/>
          <p:nvPr/>
        </p:nvPicPr>
        <p:blipFill>
          <a:blip r:embed="rId11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6" descr=""/>
          <p:cNvPicPr/>
          <p:nvPr/>
        </p:nvPicPr>
        <p:blipFill>
          <a:blip r:embed="rId12"/>
          <a:stretch/>
        </p:blipFill>
        <p:spPr>
          <a:xfrm>
            <a:off x="5651640" y="549360"/>
            <a:ext cx="876240" cy="52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"/>
          <p:cNvPicPr/>
          <p:nvPr/>
        </p:nvPicPr>
        <p:blipFill>
          <a:blip r:embed="rId13"/>
          <a:stretch/>
        </p:blipFill>
        <p:spPr>
          <a:xfrm>
            <a:off x="3214800" y="14288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2" descr=""/>
          <p:cNvPicPr/>
          <p:nvPr/>
        </p:nvPicPr>
        <p:blipFill>
          <a:blip r:embed="rId14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1" descr=""/>
          <p:cNvPicPr/>
          <p:nvPr/>
        </p:nvPicPr>
        <p:blipFill>
          <a:blip r:embed="rId15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"/>
          <p:cNvPicPr/>
          <p:nvPr/>
        </p:nvPicPr>
        <p:blipFill>
          <a:blip r:embed="rId16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6" descr=""/>
          <p:cNvPicPr/>
          <p:nvPr/>
        </p:nvPicPr>
        <p:blipFill>
          <a:blip r:embed="rId17"/>
          <a:stretch/>
        </p:blipFill>
        <p:spPr>
          <a:xfrm>
            <a:off x="1928880" y="714240"/>
            <a:ext cx="547560" cy="52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"/>
          <p:cNvPicPr/>
          <p:nvPr/>
        </p:nvPicPr>
        <p:blipFill>
          <a:blip r:embed="rId18"/>
          <a:stretch/>
        </p:blipFill>
        <p:spPr>
          <a:xfrm>
            <a:off x="3214800" y="14288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"/>
          <p:cNvPicPr/>
          <p:nvPr/>
        </p:nvPicPr>
        <p:blipFill>
          <a:blip r:embed="rId19"/>
          <a:stretch/>
        </p:blipFill>
        <p:spPr>
          <a:xfrm>
            <a:off x="3367080" y="11239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1" descr=""/>
          <p:cNvPicPr/>
          <p:nvPr/>
        </p:nvPicPr>
        <p:blipFill>
          <a:blip r:embed="rId20"/>
          <a:stretch/>
        </p:blipFill>
        <p:spPr>
          <a:xfrm>
            <a:off x="3367080" y="11239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"/>
          <p:cNvPicPr/>
          <p:nvPr/>
        </p:nvPicPr>
        <p:blipFill>
          <a:blip r:embed="rId21"/>
          <a:stretch/>
        </p:blipFill>
        <p:spPr>
          <a:xfrm>
            <a:off x="3367080" y="15811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5" descr=""/>
          <p:cNvPicPr/>
          <p:nvPr/>
        </p:nvPicPr>
        <p:blipFill>
          <a:blip r:embed="rId22"/>
          <a:stretch/>
        </p:blipFill>
        <p:spPr>
          <a:xfrm>
            <a:off x="0" y="45720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4" descr=""/>
          <p:cNvPicPr/>
          <p:nvPr/>
        </p:nvPicPr>
        <p:blipFill>
          <a:blip r:embed="rId23"/>
          <a:stretch/>
        </p:blipFill>
        <p:spPr>
          <a:xfrm>
            <a:off x="0" y="14382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7"/>
          <p:cNvSpPr/>
          <p:nvPr/>
        </p:nvSpPr>
        <p:spPr>
          <a:xfrm>
            <a:off x="785880" y="2144160"/>
            <a:ext cx="8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500040" y="264312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8"/>
          <p:cNvSpPr/>
          <p:nvPr/>
        </p:nvSpPr>
        <p:spPr>
          <a:xfrm>
            <a:off x="1692360" y="27147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2" descr=""/>
          <p:cNvPicPr/>
          <p:nvPr/>
        </p:nvPicPr>
        <p:blipFill>
          <a:blip r:embed="rId24"/>
          <a:stretch/>
        </p:blipFill>
        <p:spPr>
          <a:xfrm>
            <a:off x="142920" y="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1" descr=""/>
          <p:cNvPicPr/>
          <p:nvPr/>
        </p:nvPicPr>
        <p:blipFill>
          <a:blip r:embed="rId25"/>
          <a:stretch/>
        </p:blipFill>
        <p:spPr>
          <a:xfrm>
            <a:off x="0" y="9810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6" descr=""/>
          <p:cNvPicPr/>
          <p:nvPr/>
        </p:nvPicPr>
        <p:blipFill>
          <a:blip r:embed="rId26"/>
          <a:stretch/>
        </p:blipFill>
        <p:spPr>
          <a:xfrm>
            <a:off x="1428840" y="78588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5" descr=""/>
          <p:cNvPicPr/>
          <p:nvPr/>
        </p:nvPicPr>
        <p:blipFill>
          <a:blip r:embed="rId27"/>
          <a:stretch/>
        </p:blipFill>
        <p:spPr>
          <a:xfrm>
            <a:off x="0" y="9810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2880" y="52488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6"/>
          <p:cNvSpPr/>
          <p:nvPr/>
        </p:nvSpPr>
        <p:spPr>
          <a:xfrm>
            <a:off x="439776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3" descr=""/>
          <p:cNvPicPr/>
          <p:nvPr/>
        </p:nvPicPr>
        <p:blipFill>
          <a:blip r:embed="rId28"/>
          <a:stretch/>
        </p:blipFill>
        <p:spPr>
          <a:xfrm>
            <a:off x="0" y="45720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2" descr=""/>
          <p:cNvPicPr/>
          <p:nvPr/>
        </p:nvPicPr>
        <p:blipFill>
          <a:blip r:embed="rId29"/>
          <a:stretch/>
        </p:blipFill>
        <p:spPr>
          <a:xfrm>
            <a:off x="0" y="14382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903240" y="100116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-197964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2"/>
          <p:cNvSpPr/>
          <p:nvPr/>
        </p:nvSpPr>
        <p:spPr>
          <a:xfrm>
            <a:off x="-21956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5"/>
          <p:cNvSpPr/>
          <p:nvPr/>
        </p:nvSpPr>
        <p:spPr>
          <a:xfrm>
            <a:off x="4714920" y="28576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0"/>
          <p:cNvSpPr/>
          <p:nvPr/>
        </p:nvSpPr>
        <p:spPr>
          <a:xfrm>
            <a:off x="5074920" y="25718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11"/>
          <p:cNvSpPr/>
          <p:nvPr/>
        </p:nvSpPr>
        <p:spPr>
          <a:xfrm>
            <a:off x="3863880" y="2714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11736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6"/>
          <p:cNvSpPr/>
          <p:nvPr/>
        </p:nvSpPr>
        <p:spPr>
          <a:xfrm>
            <a:off x="-1260360" y="1559520"/>
            <a:ext cx="69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и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8"/>
          <p:cNvSpPr/>
          <p:nvPr/>
        </p:nvSpPr>
        <p:spPr>
          <a:xfrm>
            <a:off x="1116000" y="326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йни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117"/>
          <p:cNvCxnSpPr/>
          <p:nvPr/>
        </p:nvCxnSpPr>
        <p:spPr>
          <a:xfrm>
            <a:off x="1979640" y="314172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119"/>
          <p:cNvCxnSpPr/>
          <p:nvPr/>
        </p:nvCxnSpPr>
        <p:spPr>
          <a:xfrm flipH="1">
            <a:off x="3142800" y="314316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126"/>
          <p:cNvCxnSpPr/>
          <p:nvPr/>
        </p:nvCxnSpPr>
        <p:spPr>
          <a:xfrm flipV="1">
            <a:off x="2338920" y="2491920"/>
            <a:ext cx="2149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137"/>
          <p:cNvCxnSpPr/>
          <p:nvPr/>
        </p:nvCxnSpPr>
        <p:spPr>
          <a:xfrm flipH="1" flipV="1">
            <a:off x="2770920" y="2491920"/>
            <a:ext cx="1436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Rectangle 119"/>
          <p:cNvSpPr/>
          <p:nvPr/>
        </p:nvSpPr>
        <p:spPr>
          <a:xfrm>
            <a:off x="611280" y="4328640"/>
            <a:ext cx="8820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ение пропорци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ся к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 отношению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30"/>
          <a:stretch/>
        </p:blipFill>
        <p:spPr>
          <a:xfrm>
            <a:off x="4716360" y="2637000"/>
            <a:ext cx="9716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1071720" y="-180000"/>
            <a:ext cx="574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читай пропорции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971640" y="105876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5 = 12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 = 1,5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 = 15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3074400"/>
            <a:ext cx="7786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опорции верные? Какие невер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ных пропорциях найди произведение крайних и средних чл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571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042920" y="765000"/>
            <a:ext cx="6951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2764080" y="6804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2835720" y="6804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428920" y="2247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•0,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30•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•5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0•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0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1398600" cy="719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2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1439640" cy="823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2"/>
          <p:cNvSpPr/>
          <p:nvPr/>
        </p:nvSpPr>
        <p:spPr>
          <a:xfrm>
            <a:off x="3203640" y="12859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∙4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5∙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∙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4∙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4067280" y="134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4140360" y="1700280"/>
            <a:ext cx="1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6"/>
          <p:cNvSpPr/>
          <p:nvPr/>
        </p:nvSpPr>
        <p:spPr>
          <a:xfrm>
            <a:off x="4140360" y="2276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4140360" y="2708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4114800" y="3244680"/>
                <a:ext cx="914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Содержимое 31"/>
              <p:cNvSpPr txBox="1"/>
              <p:nvPr/>
            </p:nvSpPr>
            <p:spPr>
              <a:xfrm>
                <a:off x="3978360" y="263376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4194000" y="2849400"/>
                <a:ext cx="118620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4410000" y="306540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4626000" y="328140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4842000" y="2421000"/>
                <a:ext cx="1185840" cy="35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1000080" y="500040"/>
            <a:ext cx="7215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новное свойство  пропор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верной пропорции произведение крайних членов равно произведению средних чл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оборот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оизведение крайних членов пропорции равно              произведению средних членов, то пропорция вер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986200" y="-61560"/>
            <a:ext cx="31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1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1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116000" y="3929400"/>
            <a:ext cx="2168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898560" cy="666720"/>
          </a:xfrm>
          <a:prstGeom prst="rect">
            <a:avLst/>
          </a:prstGeom>
          <a:ln w="0">
            <a:noFill/>
          </a:ln>
        </p:spPr>
      </p:pic>
      <p:cxnSp>
        <p:nvCxnSpPr>
          <p:cNvPr id="226" name="Прямая со стрелкой 14"/>
          <p:cNvCxnSpPr/>
          <p:nvPr/>
        </p:nvCxnSpPr>
        <p:spPr>
          <a:xfrm>
            <a:off x="5076720" y="4508640"/>
            <a:ext cx="286560" cy="3578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7" name="Прямая со стрелкой 18"/>
          <p:cNvCxnSpPr/>
          <p:nvPr/>
        </p:nvCxnSpPr>
        <p:spPr>
          <a:xfrm flipH="1">
            <a:off x="5076360" y="4508640"/>
            <a:ext cx="357840" cy="3578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headEnd len="med" type="stealth" w="med"/>
            <a:tailEnd len="med" type="stealth" w="med"/>
          </a:ln>
        </p:spPr>
      </p:cxnSp>
      <p:sp>
        <p:nvSpPr>
          <p:cNvPr id="228" name="TextBox 19"/>
          <p:cNvSpPr/>
          <p:nvPr/>
        </p:nvSpPr>
        <p:spPr>
          <a:xfrm>
            <a:off x="4071960" y="350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425400" y="450864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039840" y="5516640"/>
            <a:ext cx="15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•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•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гнутая вверх стрелка 22"/>
          <p:cNvSpPr/>
          <p:nvPr/>
        </p:nvSpPr>
        <p:spPr>
          <a:xfrm>
            <a:off x="1476360" y="4292640"/>
            <a:ext cx="1366920" cy="288720"/>
          </a:xfrm>
          <a:custGeom>
            <a:avLst/>
            <a:gdLst>
              <a:gd name="textAreaLeft" fmla="*/ 314640 w 1366920"/>
              <a:gd name="textAreaRight" fmla="*/ 1016280 w 13669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4" hR="21600" stAng="10800000" swAng="5400000"/>
                <a:lnTo>
                  <a:pt x="11085" y="0"/>
                </a:lnTo>
                <a:arcTo wR="9944" hR="21600" stAng="-5400000" swAng="3642846"/>
                <a:lnTo>
                  <a:pt x="21284" y="16200"/>
                </a:lnTo>
                <a:lnTo>
                  <a:pt x="20459" y="21600"/>
                </a:lnTo>
                <a:lnTo>
                  <a:pt x="19001" y="16200"/>
                </a:lnTo>
                <a:lnTo>
                  <a:pt x="19572" y="16200"/>
                </a:lnTo>
                <a:arcTo wR="9944" hR="21600" stAng="-1757154" swAng="-3551919"/>
                <a:lnTo>
                  <a:pt x="10515" y="36"/>
                </a:lnTo>
                <a:arcTo wR="9944" hR="21600" stAng="-5490926" swAng="-5309074"/>
                <a:close/>
              </a:path>
              <a:path fill="darkenLess" w="21600" h="21600">
                <a:moveTo>
                  <a:pt x="0" y="21600"/>
                </a:moveTo>
                <a:arcTo wR="9944" hR="21600" stAng="10800000" swAng="5400000"/>
                <a:lnTo>
                  <a:pt x="9944" y="0"/>
                </a:lnTo>
                <a:arcTo wR="9944" hR="21600" stAng="-5400000" swAng="90926"/>
                <a:lnTo>
                  <a:pt x="10515" y="36"/>
                </a:lnTo>
                <a:arcTo wR="9944" hR="21600" stAng="-5490926" swAng="-530907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Выгнутая вниз стрелка 23"/>
          <p:cNvSpPr/>
          <p:nvPr/>
        </p:nvSpPr>
        <p:spPr>
          <a:xfrm>
            <a:off x="1908000" y="4941720"/>
            <a:ext cx="648000" cy="142920"/>
          </a:xfrm>
          <a:custGeom>
            <a:avLst/>
            <a:gdLst>
              <a:gd name="textAreaLeft" fmla="*/ 148680 w 648000"/>
              <a:gd name="textAreaRight" fmla="*/ 481680 w 648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7" hR="21600" stAng="10800000" swAng="-5400000"/>
                <a:lnTo>
                  <a:pt x="11099" y="21600"/>
                </a:lnTo>
                <a:arcTo wR="9907" hR="21600" stAng="5400000" swAng="-3637299"/>
                <a:lnTo>
                  <a:pt x="21285" y="5400"/>
                </a:lnTo>
                <a:lnTo>
                  <a:pt x="20409" y="0"/>
                </a:lnTo>
                <a:lnTo>
                  <a:pt x="18903" y="5400"/>
                </a:lnTo>
                <a:lnTo>
                  <a:pt x="19498" y="5400"/>
                </a:lnTo>
                <a:arcTo wR="9907" hR="21600" stAng="1762701" swAng="3542294"/>
                <a:lnTo>
                  <a:pt x="10503" y="21561"/>
                </a:lnTo>
                <a:arcTo wR="9907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7" hR="21600" stAng="10800000" swAng="-5400000"/>
                <a:lnTo>
                  <a:pt x="11099" y="21600"/>
                </a:lnTo>
                <a:arcTo wR="9907" hR="21600" stAng="5400000" swAng="95004"/>
                <a:lnTo>
                  <a:pt x="10503" y="21561"/>
                </a:lnTo>
                <a:arcTo wR="9907" hR="21600" stAng="5495004" swAng="530499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324000" y="33336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ерной пропорции поменять местами крайние или средние члены, то получившиеся новые пропорции тоже ве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39640" y="221472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:15 = 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Арка 7"/>
          <p:cNvSpPr/>
          <p:nvPr/>
        </p:nvSpPr>
        <p:spPr>
          <a:xfrm>
            <a:off x="1692360" y="2997360"/>
            <a:ext cx="928440" cy="357120"/>
          </a:xfrm>
          <a:custGeom>
            <a:avLst/>
            <a:gdLst/>
            <a:ahLst/>
            <a:rect l="l" t="t" r="r" b="b"/>
            <a:pathLst>
              <a:path w="928688" h="357188">
                <a:moveTo>
                  <a:pt x="0" y="178594"/>
                </a:moveTo>
                <a:cubicBezTo>
                  <a:pt x="0" y="79959"/>
                  <a:pt x="207894" y="0"/>
                  <a:pt x="464344" y="0"/>
                </a:cubicBezTo>
                <a:cubicBezTo>
                  <a:pt x="720794" y="0"/>
                  <a:pt x="928688" y="79959"/>
                  <a:pt x="928688" y="178594"/>
                </a:cubicBezTo>
                <a:lnTo>
                  <a:pt x="839391" y="178594"/>
                </a:lnTo>
                <a:cubicBezTo>
                  <a:pt x="839391" y="129277"/>
                  <a:pt x="671477" y="89297"/>
                  <a:pt x="464344" y="89297"/>
                </a:cubicBezTo>
                <a:cubicBezTo>
                  <a:pt x="257211" y="89297"/>
                  <a:pt x="89297" y="129277"/>
                  <a:pt x="89297" y="178594"/>
                </a:cubicBezTo>
                <a:lnTo>
                  <a:pt x="0" y="1785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258920" y="386064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:15 = 4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Арка 10"/>
          <p:cNvSpPr/>
          <p:nvPr/>
        </p:nvSpPr>
        <p:spPr>
          <a:xfrm rot="10800000">
            <a:off x="1979640" y="3428640"/>
            <a:ext cx="357120" cy="431640"/>
          </a:xfrm>
          <a:custGeom>
            <a:avLst/>
            <a:gdLst/>
            <a:ahLst/>
            <a:rect l="l" t="t" r="r" b="b"/>
            <a:pathLst>
              <a:path w="357187" h="431800">
                <a:moveTo>
                  <a:pt x="0" y="215900"/>
                </a:moveTo>
                <a:cubicBezTo>
                  <a:pt x="0" y="96662"/>
                  <a:pt x="79959" y="0"/>
                  <a:pt x="178594" y="0"/>
                </a:cubicBezTo>
                <a:cubicBezTo>
                  <a:pt x="277229" y="0"/>
                  <a:pt x="357188" y="96662"/>
                  <a:pt x="357188" y="215900"/>
                </a:cubicBezTo>
                <a:lnTo>
                  <a:pt x="267890" y="215900"/>
                </a:lnTo>
                <a:cubicBezTo>
                  <a:pt x="267890" y="145979"/>
                  <a:pt x="227910" y="89297"/>
                  <a:pt x="178593" y="89297"/>
                </a:cubicBezTo>
                <a:cubicBezTo>
                  <a:pt x="129276" y="89297"/>
                  <a:pt x="89296" y="145979"/>
                  <a:pt x="89296" y="215900"/>
                </a:cubicBezTo>
                <a:lnTo>
                  <a:pt x="0" y="2159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1258920" y="45086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:4 = 15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258920" y="52293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:4 = 15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3780000" y="23493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Задание: составьте три новые пропорции из исх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4211640" y="34290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:4 = 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4140360" y="3933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:4 = 5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4140360" y="450864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:5 = 4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143240" y="5000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:5 = 4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1" descr=""/>
          <p:cNvPicPr/>
          <p:nvPr/>
        </p:nvPicPr>
        <p:blipFill>
          <a:blip r:embed="rId2"/>
          <a:stretch/>
        </p:blipFill>
        <p:spPr>
          <a:xfrm>
            <a:off x="573120" y="-30240"/>
            <a:ext cx="7931160" cy="1614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357120" y="1617480"/>
            <a:ext cx="47865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жно встал наш дружный класс-просто клас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все вместе повторяем за м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Приподняться, подтяну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Согнуться, разогну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В ладоши три хлоп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овою три кив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четыр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Руки шире-е-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ь, шест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тихо с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, восем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лень отброс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:\ПРЕЗЕНТАЦИЯ\физультминутка.gif"/>
          <p:cNvPicPr/>
          <p:nvPr/>
        </p:nvPicPr>
        <p:blipFill>
          <a:blip r:embed="rId3"/>
          <a:stretch/>
        </p:blipFill>
        <p:spPr>
          <a:xfrm>
            <a:off x="5072040" y="1643040"/>
            <a:ext cx="3429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6:47:05Z</dcterms:created>
  <dc:creator>Admin</dc:creator>
  <dc:description/>
  <dc:language>en-US</dc:language>
  <cp:lastModifiedBy>Пользователь Windows</cp:lastModifiedBy>
  <dcterms:modified xsi:type="dcterms:W3CDTF">2018-12-28T08:06:52Z</dcterms:modified>
  <cp:revision>111</cp:revision>
  <dc:subject/>
  <dc:title>Слайд 1</dc:title>
</cp:coreProperties>
</file>