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E46-13C4-4B60-B11E-B42B99DC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C4D-8418-4D9F-AF02-FD9ECA6D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CC2-4D21-4FA7-A2A5-962DFF29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DBF-A40D-41A9-A53A-93EEC8B6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6D48-DB87-4C46-A874-C66B0CD8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B297-EBBD-4CC7-B20F-EA5B05AE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5586-A307-495B-BE17-BB8478FA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6652-9ABC-42E5-83AA-143380C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491-9480-42DB-AFD9-6D409475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41FE-7B34-4813-85C4-4D8B04C8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465F-B2B6-435F-A522-47C48123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241-110B-4449-8650-C2AB147D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D86C-ECDD-447C-A03D-9E74B23F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B6CF-78EA-4BCD-8EFF-64903BA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1126-481F-4933-9A1F-E2708D28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41CB-C015-43E3-BC96-44EF048A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80A3-7B2F-4EDF-BC6F-3E03FF78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AD9A-DE46-4B33-98DC-D844E391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5C65-609B-4B80-9F4A-101E7E05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088A-C8DB-4FBD-9B7E-DE01A4EA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7CA1-F479-4F27-AEF9-BD5A1D79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65E0B-54CD-4005-879C-CDB9FA01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679-62A8-4EA2-B452-E397E94D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9674B-9700-497D-9EC3-53D792EC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3A31-D4FB-481C-9A05-03DCF498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7F59-CB8A-4FB7-8265-7D2040C3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8E52-9E35-44FC-9429-F77CF9AE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1ACC-532F-4F0E-A253-2F7F6FED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5030-D2C7-448E-8361-B07E4CB4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B77B-A171-4711-93B5-9FE82B07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22EA-4ADA-493D-B9F8-104C9B90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522C-2137-427E-8BF5-A65FF80D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661EA-7477-420A-BAAE-CD2D2D18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6D4-F476-4A62-85C0-6AF3FF44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AF070-47FE-4B39-AE21-0D14A076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FD48-0574-472D-BAAA-1E17E094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854CF-F873-4DE1-9147-09BAE60A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00A2E-2FB7-4724-B794-361E22D1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BD59-56C5-4B7D-820F-1C624A14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F0572-9DC4-4B23-ABB1-BCB75CA6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4829D-B4BB-4651-A3A3-56F6EB3A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4A22F-3F53-4880-B133-E83E5EB5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42FD-B5F8-4055-A65C-9461E084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BED-D65D-441E-8528-ED90F5A8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633-C6BA-428D-BA83-8E01B3B6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CF4-2E7F-46F2-949B-D4DBF3F6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E73-A8A1-4841-BAC4-32A6A3E1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254-4263-4352-A2BA-C972E1DE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4A4-0160-4210-A9D0-19B13575C0C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83E9-3C06-4B42-9AFA-DB1EF08A4AA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52D4-A3B2-4A0D-AEAC-3CBC711406C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22D8-DAD9-417A-BC0D-81E46E7CDCF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pearls.ru/author/2419" TargetMode="External"/><Relationship Id="rId2" Type="http://schemas.openxmlformats.org/officeDocument/2006/relationships/hyperlink" Target="http://www.inpearls.ru/author/2419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абота с семьей по теме: «Нравственно-патриотическое воспитание дошкольников»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одготовила: Короткова Е.М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бенок учится тому,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Что видит у себя в дому: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одители пример ему.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Кто при жене и детях груб,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Кому язык распутства люб,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усть помнит, что с лихвой получит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т них все то, чему их учит.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еперь вести себя прилично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Не в моде стало, и обычно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И женский пол, себя позоря,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л срамословить в разговоре.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ужья — пример для жен своих, 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 дети учатся у них…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втор: </a:t>
            </a:r>
            <a:r>
              <a:rPr b="0" lang="ru-RU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 </a:t>
            </a:r>
            <a:r>
              <a:rPr b="0" lang="ru-RU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Себастьян Брант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Актуальност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Нравственно-патриотическое воспитание детей –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одна из основных задач дошкольного образовательного учреждения, важным условием которой является тесная взаимосвязь с родителями, семьей, как ячейкой общества и хранительницей национальных традиций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ажной частью нравственного воспитания является приобщение ребенка к культуре своего народа, поскольку раскрытие личности в ребенке полностью возможно только через включение его в культуру собственного народа.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блемы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Утеря нравственности и патриотичности современных родителей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тсутствие или недосформированность ценностей, которые можно передать детям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ассивное воздействием западной культуры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тог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драстающее поколение растет и формируется на чуждых нашей самобытности ценностях.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Утеря нравственности и патриотичности современных родителей. Причины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овременные родители дошкольников – 80-90х годов рожде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 события последнего десятилетия XX века оказали негативное влияние на сознание населения страны. На протяжении этих лет снижался уровень российской культуры, искусства и образования, как одних из самых важных инструментов нравственно-патриотического воспит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Массивное воздействием западной культуры. Последств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настоящее время в нашу жизнь стремительно «ворвалась» западная культура – музыка, фильмы, книги, мультипликация, игрушки, - все это оказывает большое влияние на восприимчивую детскую психику. Культура же  русского народа, которая складывалась тысячелетиями и просто изобилует своими обычаями, традициями и обрядами, уникальным фольклором, стала забываться, отходить на второй план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овременный космополитизм постепенно деформирует чувства патриотизма, любви к Родине в российском обществе. В связи с этим именно сейчас остро назрела необходимость воспитания у детей нравственно-патриотических чувств, нравственных устоев и культуры поведения уже в младенческом возрасте.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опрос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Как этого добиться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ебенок  дошкольного возраста воспринимает информацию внутренне её не фильтруя на «нравится- не нравится», «плохо – хорошо», а принимает её целиком от взрослого и принимает от него же оценочные критери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связи с этим, я считаю, что и работу по нравственно – патриотическому воспитанию стоит строить, прежде всего, с информирования родителей, с объяснения им всех «опасностей» и последствий предоставляемой ими информации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Формы работы с родителями по данной проблеме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есед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нкетирование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онсультации (в том числе буклетированного вида в информационных уголках ДОУ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одительские встречи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нформация на сайте образовательного учрежден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убликации в СМИ и на различных интернет ресурсах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астер- класс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0" y="1551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Основные проблемы выявленные по результатам анкетирования родителей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одители не передают детям информацию о традициях и культуре своей семьи, своего род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одители не читают детям сказки, былины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е покупают книги с русскими-народными сказкам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одители не «фильтруют» информацию, поступающую к их детям через СМ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о это не все родител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0:41:15Z</dcterms:created>
  <dc:creator>USER</dc:creator>
  <dc:description/>
  <dc:language>en-US</dc:language>
  <cp:lastModifiedBy>Анна</cp:lastModifiedBy>
  <dcterms:modified xsi:type="dcterms:W3CDTF">2018-12-28T18:17:19Z</dcterms:modified>
  <cp:revision>4</cp:revision>
  <dc:subject/>
  <dc:title>«Работа с семьей по теме: «Нравственно-патриотическое воспитание дошкольников»  подготовила: педагог-психолог Шатунова Яна Николаевна</dc:title>
</cp:coreProperties>
</file>