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8017-A17B-4913-863A-6F3ADAC8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B381-3917-4191-8C8F-7E795F7C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AD28-52F7-44FF-8FD5-A829BDD3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4A43-27D5-498E-87CF-CA82480D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E03F-39B5-4CFC-A24B-0460AF84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D56E-0B02-454C-B9E5-62AD9EFD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792D-EA39-48C9-8657-22FE1953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2F39-BC59-4022-AFB7-5D0681A0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7004-CC44-4A80-AD1C-26A992EA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E137-2A07-4889-B7DE-93A43A17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0DF6-B7D1-499A-8A93-598D53F0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490-B498-46CE-982E-4508EB17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397D-2904-4369-A9B0-271E89B9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955C-2B7F-4EDB-B2D7-C0FA8E94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71B8-E9CB-4696-A09A-2C88257F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1D3F-4715-48D4-ACE6-DB3653ED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F7B5-8C48-4D92-9EC2-B09E0B62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6B811-67A7-4BAE-B08D-1D570C8B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3830E-8992-4FE5-86F3-7346459C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94B58-4C69-4382-9C8B-88A18AC3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D447A-551E-4E3F-BDF3-82FAEA5E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9982D-394A-4B6E-80F9-A3AB49BE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9CA-2AE0-4702-A907-10A61286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884EA-8AA3-412D-9662-1C03044F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1A128-E43E-48BE-8B9F-CD333F01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71228-387A-4DED-A2D0-1FA749A4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FAACB-76D3-40C5-9EFF-32EE853F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AE099-EDD5-43AD-A4A1-DEFCA6BC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989D5-5BFA-4DC8-B2F9-72BC72A2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75F75-AD88-40B5-B0C0-F02B86E1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17B9F-E595-4191-BC03-1FA5853A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C49F7-49EC-4ACB-AD0F-4771FB47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98D23-2781-4AE8-A44D-DD65E24C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0DA-4646-4D70-8E9A-131715FE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B6602-27DD-4978-8E05-E74813EB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D7B05-72B7-40FC-9DCF-3B8281BB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DE339-7AE2-456C-B85C-88665D16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FF1AE-220D-4125-8A30-361EB934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6A9AC-36E3-4E92-96B7-33D9743F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4D1BB-D538-4FA2-9CF6-0AC4850C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0A171-F571-4FC2-BAFE-2696EA0F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5C1E5-F768-4A79-8EAA-BC620C92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69D0D-1118-424A-B8E9-83D9DFA2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38CB-C367-46BA-A3C8-D4312335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6EBB-0963-4FCA-9021-CCCBD558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1DC-E68E-4336-BB02-D780EE74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565-433E-4FA2-B2F6-5FA4CFA7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8275-4443-4018-A7C5-10ACEC6F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2E88-4702-4DAC-A086-EF81AF816C9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A98F-65F7-4BE4-9360-2E8693DBF34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9210-100C-4AD0-A312-6DEC73C5F3D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726D-1A8F-4ADF-A837-49D319D37B7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npearls.ru/author/2419" TargetMode="External"/><Relationship Id="rId2" Type="http://schemas.openxmlformats.org/officeDocument/2006/relationships/hyperlink" Target="http://www.inpearls.ru/author/2419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Работа с семьей по теме: «Нравственно-патриотическое воспитание дошкольников»</a:t>
            </a: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одготовила: Короткова Е.М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ебенок учится тому, 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Что видит у себя в дому: 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одители пример ему. 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Кто при жене и детях груб, 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Кому язык распутства люб, 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усть помнит, что с лихвой получит 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От них все то, чему их учит. 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Теперь вести себя прилично 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Не в моде стало, и обычно 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И женский пол, себя позоря, 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л срамословить в разговоре. 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Мужья — пример для жен своих, 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А дети учатся у них….</a:t>
            </a: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Автор: </a:t>
            </a:r>
            <a:r>
              <a:rPr b="0" lang="ru-RU" sz="18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 </a:t>
            </a:r>
            <a:r>
              <a:rPr b="0" lang="ru-RU" sz="18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Себастьян Брант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rebuchet MS"/>
              </a:rPr>
              <a:t>Спасибо за внимание!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7928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Актуальность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Нравственно-патриотическое воспитание детей –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одна из основных задач дошкольного образовательного учреждения, важным условием которой является тесная взаимосвязь с родителями, семьей, как ячейкой общества и хранительницей национальных традиций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ажной частью нравственного воспитания является приобщение ребенка к культуре своего народа, поскольку раскрытие личности в ребенке полностью возможно только через включение его в культуру собственного народа.</a:t>
            </a: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облемы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Утеря нравственности и патриотичности современных родителей;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тсутствие или недосформированность ценностей, которые можно передать детям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Массивное воздействием западной культуры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Итог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одрастающее поколение растет и формируется на чуждых нашей самобытности ценностях.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Утеря нравственности и патриотичности современных родителей. Причины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овременные родители дошкольников – 80-90х годов рождени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А события последнего десятилетия XX века оказали негативное влияние на сознание населения страны. На протяжении этих лет снижался уровень российской культуры, искусства и образования, как одних из самых важных инструментов нравственно-патриотического воспитани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Массивное воздействием западной культуры. Последстви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 настоящее время в нашу жизнь стремительно «ворвалась» западная культура – музыка, фильмы, книги, мультипликация, игрушки, - все это оказывает большое влияние на восприимчивую детскую психику. Культура же  русского народа, которая складывалась тысячелетиями и просто изобилует своими обычаями, традициями и обрядами, уникальным фольклором, стала забываться, отходить на второй план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овременный космополитизм постепенно деформирует чувства патриотизма, любви к Родине в российском обществе. В связи с этим именно сейчас остро назрела необходимость воспитания у детей нравственно-патриотических чувств, нравственных устоев и культуры поведения уже в младенческом возрасте. 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опрос: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Как этого добиться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ебенок  дошкольного возраста воспринимает информацию внутренне её не фильтруя на «нравится- не нравится», «плохо – хорошо», а принимает её целиком от взрослого и принимает от него же оценочные критери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 связи с этим, я считаю, что и работу по нравственно – патриотическому воспитанию стоит строить, прежде всего, с информирования родителей, с объяснения им всех «опасностей» и последствий предоставляемой ими информации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Формы работы с родителями по данной проблеме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Беседы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Анкетирование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Консультации (в том числе буклетированного вида в информационных уголках ДОУ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одительские встречи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Информация на сайте образовательного учреждения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убликации в СМИ и на различных интернет ресурсах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Мастер- классы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0" y="15516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Основные проблемы выявленные по результатам анкетирования родителей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одители не передают детям информацию о традициях и культуре своей семьи, своего рода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одители не читают детям сказки, былины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Не покупают книги с русскими-народными сказками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одители не «фильтруют» информацию, поступающую к их детям через СМИ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Но это не все родител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7T10:41:15Z</dcterms:created>
  <dc:creator>USER</dc:creator>
  <dc:description/>
  <dc:language>en-US</dc:language>
  <cp:lastModifiedBy>Анна</cp:lastModifiedBy>
  <dcterms:modified xsi:type="dcterms:W3CDTF">2018-12-28T18:17:19Z</dcterms:modified>
  <cp:revision>4</cp:revision>
  <dc:subject/>
  <dc:title>«Работа с семьей по теме: «Нравственно-патриотическое воспитание дошкольников»  подготовила: педагог-психолог Шатунова Яна Николаевна</dc:title>
</cp:coreProperties>
</file>